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12.jpeg" ContentType="image/jpeg"/>
  <Override PartName="/ppt/media/image1.jpeg" ContentType="image/jpeg"/>
  <Override PartName="/ppt/media/image7.png" ContentType="image/png"/>
  <Override PartName="/ppt/media/WHOOSH.WAV" ContentType="audio/x-wav"/>
  <Override PartName="/ppt/media/image8.png" ContentType="image/png"/>
  <Override PartName="/ppt/media/image14.jpeg" ContentType="image/jpeg"/>
  <Override PartName="/ppt/media/image9.png" ContentType="image/png"/>
  <Override PartName="/ppt/media/image13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5066-B4B9-4F83-9B59-860F4CEF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91A-543B-4451-B836-F53052D5B8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1FF-A9A8-4BB7-8DEA-BDE1CFBD3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vice to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. Winslow's Soothing Syrup should always be used for children's teething. It soothes the child, softens the gums, allays all pain, cures wind colic, and is the best cure for diarrh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. Winslow's Soothing Syrup for Children Teething" Twenty five cents a bo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D0A-F1D2-4091-8793-297A43636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ADE-F3FD-4293-B3B6-DD09F53CE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71DD-5430-48F5-A6EB-4FD6DC2DA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932F-CD6A-4E0B-90D1-3DA72541F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now going to show some specific data on Rx and OTC misuse among y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954-AC74-4404-83A9-5BBA59CB9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D63-D7AC-413B-88B3-A9D6D4191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227-3E4E-4219-B9CF-6EB75A6D1A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B90-F835-44A7-8E21-A085A4B28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10B-2C7E-4DD5-BAF8-F3354F64C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ccording to recent data from the California Student Survey (taken from a representative sample of high school students in 7th, 9th &amp; 11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-a significant proportion of high school students in CA are taking opiate painkillers, such as Vicodin and OxyContin) to get high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Specifically, 15% of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, 9% of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 and 4% of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534-6C60-4689-831E-32965EA17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’m now going to highlight trends were seeing with respect to Rx &amp; OTC Misuse among older adult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65DD-2333-4533-9D08-3DACC84EF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8CE-5EF3-4012-B4D8-C94853E34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95F-5856-4581-923A-D4BC0B26B0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6C23-E368-475C-B864-C8EE3B4AA3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AE7A-8622-41F0-A9D7-B374849DE0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CAEA-5480-4B70-AF6B-8F5DF19F1B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64C2-E132-4D7E-B42F-CE6ACF8F8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4C7-2363-4D21-B65D-3D2132ECB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9908-8349-4EFF-9048-7C02E7CC1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9B6-542B-4DFE-A31E-7E77BB6DC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ata collected from NIDA’s Community Epidemiological Workgroup (CEWG). Findings highlight two trends happening in LA with respect to Rx dru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285C-8E9B-4545-B457-9AD026589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4B7-26CF-4BD2-B9D5-15885BDD7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E857-9EAD-4F48-BA48-F60EC75CC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5AE3-157A-4867-AC34-AF7DA2E85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B26-57C5-4108-BF1C-26F9F9C33B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now going to show some specific data on Rx and OTC misuse among y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EB5-B975-4929-91B7-04F8F6E98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D445-BE39-4334-8D86-9617F26B7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7C22-C170-4E8E-915F-11DE8D3710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875F-30D3-4833-9243-BB6634765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AA7-6C00-476D-AD6C-D19FFB72FD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ata collected from NIDA’s Community Epidemiological Workgroup (CEWG). Findings highlight two trends happening in LA with respect to Rx dru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7254-BBC1-4E01-A3C9-6AD87B1F0A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33D-5C25-4294-8612-B90563D385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n – The Sedative for Coug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n Hydrochloride – Its water soluble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have call for them.  Order a supply from your jo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3F8E-F813-4411-B3F0-5D9BFC44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77DE-5766-4DEE-B677-EDCCF7EF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6B57-7AA8-433D-BF83-48E7E996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8D2A-06C4-45CE-BB80-82C8F7BA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2301-2D09-440E-88D1-B41BC6F6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3B1-23E4-418C-9A12-8B5625D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BE9-F968-492F-9C88-BF26797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D09E-BE64-46D0-8E57-887CAC0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EE0-6A5E-46C8-8C9D-6D4F58BD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0D10-CDFC-4B95-BF54-A27B855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6843-3960-455D-9648-57F7783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007B-6C1D-45A8-9212-3ECC4C46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38AD-CEFA-412A-8C09-7A0D2BD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BA3-47D5-4FA7-9977-81DBD2F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9D0B-B277-4BAF-80ED-2990C22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9C4E-1A53-4FE1-BBA8-7836E94B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FBD7-5746-44F8-86D7-62F97AD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A021-01D2-4552-93E2-10C27F5F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AB7D-E7A8-45ED-8283-2A690C9E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35B3-AF46-4F30-83DA-8306807A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E033-1DB2-48F8-BD10-69C1A13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701F-8F26-408A-B9CA-30E1C62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AD68-60F7-4770-B87C-4ED3064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8758-B0C0-4154-9517-E0E70BD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A6BC-D3FE-4A1F-B5B7-12D2309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21F6-FE85-42B6-BB8D-72F25B7D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2664-47E6-46CF-8B2E-A11D1C9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3FE9-ED01-4018-BDCF-2EA13AD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E8DF-6C3F-423A-B5AB-65C4355F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850C-0297-4EFB-923A-0E0520B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CC00-50CC-4151-83CC-9A3FD90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1B41-7265-4083-AEFE-FEC2B94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4B83-0D6F-4A3F-A04F-64BBABFA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6900-BD3C-4173-85E3-6F6349E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048E-5291-4A7C-ADE3-D1C45B2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3DB5-0B1F-4E45-B464-570ECFD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631-CCA0-4F97-93F6-BB76D0127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2DC8-9F00-4ABF-916D-1CB5B6CCF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8224-4DC0-4766-A0C8-F53E1FF75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9/All-trans-Retinol.svg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upload.wikimedia.org/wikipedia/commons/f/fe/All-trans-Retinal.svg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roduction of Vitami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752480"/>
            <a:ext cx="2362320" cy="156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tent hypovitamin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 case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recognizabl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symptoms 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ly appeared under sudde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 or exposure to different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33520" y="2860560"/>
            <a:ext cx="815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4).  </a:t>
            </a:r>
            <a:r>
              <a:rPr b="1" lang="it-IT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ovitaminosis due to Anti- vitamins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aw fish destro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B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d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aw egg forming complex with biotin (vitamin) (biotin – avidin)  prevents absorption of biot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at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linseed oil is antagonist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nino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se which develops only upon prolong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excessive amount of vitam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33520" y="2819520"/>
            <a:ext cx="464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inosis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occurs after lar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dosage of the vitam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dominal p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usea or vom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tha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ual chan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onscious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94440" y="2209680"/>
            <a:ext cx="218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19720" y="2766960"/>
            <a:ext cx="4647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inosis 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this is caused by excessive ingestion or over prescription of prescribed medications such as calcium with vit. 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izures - can be f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5"/>
          <p:cNvSpPr/>
          <p:nvPr/>
        </p:nvSpPr>
        <p:spPr>
          <a:xfrm>
            <a:off x="1537560" y="129528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dicinal applications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121120" y="1981080"/>
            <a:ext cx="650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hypovitamino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som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ylaxis against som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7"/>
          <p:cNvSpPr/>
          <p:nvPr/>
        </p:nvSpPr>
        <p:spPr>
          <a:xfrm>
            <a:off x="8380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- Fat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066680"/>
          <a:ext cx="8382240" cy="5543640"/>
        </p:xfrm>
        <a:graphic>
          <a:graphicData uri="http://schemas.openxmlformats.org/drawingml/2006/table">
            <a:tbl>
              <a:tblPr/>
              <a:tblGrid>
                <a:gridCol w="2244960"/>
                <a:gridCol w="613728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Lowered resistance to infections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ark-adaptation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Prophylaxis and therapy of rickets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ases of bone atrophy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mproves tooth consistency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6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diac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scular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uscular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isorde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Fat with high levels of unsaturated fatty acids absorption disorde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isorders of blood coagulation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1066680" y="76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 Water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914400"/>
          <a:ext cx="8001000" cy="5661000"/>
        </p:xfrm>
        <a:graphic>
          <a:graphicData uri="http://schemas.openxmlformats.org/drawingml/2006/table">
            <a:tbl>
              <a:tblPr/>
              <a:tblGrid>
                <a:gridCol w="1878120"/>
                <a:gridCol w="6122880"/>
              </a:tblGrid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 Beri beri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Nervous inflammations, neuralgia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Cardiac dysfunction caused by alcoholis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Ariboflavinosi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hotophobia and blurred visio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Corneal vascularization and eye itch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Pellag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Multiple B-complex deficiency syndrom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ermatitis and seborrhe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7"/>
          <p:cNvSpPr/>
          <p:nvPr/>
        </p:nvSpPr>
        <p:spPr>
          <a:xfrm>
            <a:off x="1295280" y="76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 Water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838080"/>
          <a:ext cx="8001000" cy="5716800"/>
        </p:xfrm>
        <a:graphic>
          <a:graphicData uri="http://schemas.openxmlformats.org/drawingml/2006/table">
            <a:tbl>
              <a:tblPr/>
              <a:tblGrid>
                <a:gridCol w="1878120"/>
                <a:gridCol w="6122880"/>
              </a:tblGrid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Irritability and convulsio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Hypochromic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Peripheral neuritis.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Megaloblastic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 Juvenile pernicious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Gastrecotomy and celiac disea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Long term drug therapy as neomyc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Inflammatory lesion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Scurvy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Poor wound heal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ses of addition of Vitamins to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66680" y="903240"/>
            <a:ext cx="8839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is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ition of vitamins to foods whic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necessarily contain them naturall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ddition of vitamins A and D to margarin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vitaminis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toration of the original vitam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food that is lost during processing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Flour loss about 70% of its vitamin B content;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mmed milk must be revitaminized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s A and D as they removed on skimm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fa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ndardization: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nsation of seasonal variatio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s in foo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.g. Milk must standardiz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seasonal variation of vitamin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04920" y="100080"/>
            <a:ext cx="853416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nrichment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 of vitamins over the initia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level e.g.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and flou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bilization of food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ood products show chang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lor and taste due to oxidation by light and air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s C and 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ter and fat solubl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used to protect food from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idation and thus saving its nutritional valu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uring agent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ascorbat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used to reduce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ount of nitrite and nitrate ( food stabilizer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loring of food products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atural fa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pigments and pro-vitamin A) and synthetic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oids as: </a:t>
            </a:r>
            <a:r>
              <a:rPr b="1" lang="el-G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e, </a:t>
            </a:r>
            <a:r>
              <a:rPr b="1" lang="el-G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-</a:t>
            </a: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-8‘-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al, 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haxanthin are suitable for the coloring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rgarin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hee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064240" y="22860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rmulation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8088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ulation of vitamins must solve the following probl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oleptic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viding accurate known quant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a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by addition of stabilizer (as antioxid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synthesis of stable deriv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formation of water-soluble vitamins in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derivatives o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 ver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rou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ly sensitive to oxidation by oxygen or light in presence of metal, heat or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bilization for oily form of vit. A was achieved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r formation as acetate or palmitat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solving in vegetable o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 of antioxida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complexing ag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Stabilization for water soluble derivatives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dry powd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osit in gelatin as a carrier subst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emulsion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342960" y="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-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97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ing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52280" y="99072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ick leave certificates or other excuses will be entertained for attenda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 aware of your attendance from the beginning of the ses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es of mid exam once announced will not be changed in any ca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is no provision for make up exam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mid exam will be in the first class () of Sixth week ()of the ses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 (Thiamine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activated at neutral or alkaline p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light and mois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idiz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80880" y="2666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if protected from light and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um stability at pH 3 - 4.5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resence of vitamin B2 it is easily oxidized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queous solution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ochr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e.HNO3 is more stable than thiamin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 dry preparation from humid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(Riboflavin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28600" y="990720"/>
            <a:ext cx="86104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light, alkaline medium, and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ing agents – sparingly soluble in water –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pleasant tas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olubilizers e.g. nicotinamide or salicylic acid 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odium salt of riboflavin-5'-phosph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water solu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ral use, formulate it in coated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In aqueous solution it acts as oxidizing agent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B1, C and fol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5 (Pantothenic aci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ensi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 and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s are more stable in absence of 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lcohol form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tothe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panthenol; Dpantothenyl alcohol) is used in aqueous prepa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072160" y="43434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(Cyanocobol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5800" y="525780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in acidic mediu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 unstable at high temperature and in presence of vitamin B1, B3, vitamin C, and some heavy met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Vitami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400800" y="4648320"/>
            <a:ext cx="2247840" cy="1650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705720" y="1905120"/>
            <a:ext cx="2286000" cy="156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457200" y="1981080"/>
            <a:ext cx="243828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http://images-en.busytrade.com/12754610020000200/--carotene.jpg"/>
          <p:cNvPicPr/>
          <p:nvPr/>
        </p:nvPicPr>
        <p:blipFill>
          <a:blip r:embed="rId4"/>
          <a:stretch/>
        </p:blipFill>
        <p:spPr>
          <a:xfrm>
            <a:off x="609480" y="4495680"/>
            <a:ext cx="236232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1356840" y="3630600"/>
            <a:ext cx="6209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Vitamin A and Carotenoids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exists in animal foo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form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erified with fatty acids (usually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yl palmit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d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be oxidized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have 2 specific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905120" y="380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A and Carote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981080" y="41911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ys a central role in the function of retin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regulate gene expression and cell develop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533520" y="457200"/>
            <a:ext cx="815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compound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 and retin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llectively referred a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 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 is carried in the blood through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ol-binding protein (RBP)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BP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ze in the li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rovitamin A) exist in plant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 is β-carotene which can be absorbed as such or after splitt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al cel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itamin A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lar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rot conta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mg of β-caroten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which can supply enough vitamin A for daily requir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nversion of Carotenoids to Retinoid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8128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atic conversion of carotenoids occurs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or intestinal cell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forming two molecules of retinal and finally  retinol and retinoic ac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tamin A carotenoi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-carote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pha carote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-cryptoxanth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3"/>
          <p:cNvSpPr/>
          <p:nvPr/>
        </p:nvSpPr>
        <p:spPr>
          <a:xfrm>
            <a:off x="5334120" y="3733920"/>
            <a:ext cx="3429000" cy="1468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657600" y="5791320"/>
            <a:ext cx="21337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6" descr="File:All-trans-Retino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378080"/>
            <a:ext cx="3286080" cy="907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1762560" y="22971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334560" y="22971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10" descr="File:All-trans-Retinal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48440" y="1450800"/>
            <a:ext cx="3139920" cy="90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http://t3.gstatic.com/images?q=tbn:ANd9GcS3zBFvYAbOf4hb2_sFIGP6w0gpPMQe1d1WtU6NB8B7_a9owYcgOA"/>
          <p:cNvPicPr/>
          <p:nvPr/>
        </p:nvPicPr>
        <p:blipFill>
          <a:blip r:embed="rId5"/>
          <a:stretch/>
        </p:blipFill>
        <p:spPr>
          <a:xfrm>
            <a:off x="914400" y="3821040"/>
            <a:ext cx="3809880" cy="13716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1916640" y="51926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o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971640" y="1449360"/>
            <a:ext cx="2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685800" y="168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683640" y="19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912240" y="222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1216800" y="2068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255680" y="174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146376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1692360" y="176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2421720" y="1468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2154240" y="177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195084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2632680" y="177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888280" y="1647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3116880" y="176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3382200" y="1650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6850800" y="1535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32" descr="https://upload.wikimedia.org/wikipedia/commons/thumb/1/1b/11-cis-Retinal.svg/354px-11-cis-Retinal.svg.png"/>
          <p:cNvPicPr/>
          <p:nvPr/>
        </p:nvPicPr>
        <p:blipFill>
          <a:blip r:embed="rId6"/>
          <a:stretch/>
        </p:blipFill>
        <p:spPr>
          <a:xfrm>
            <a:off x="5334120" y="3886200"/>
            <a:ext cx="337176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4"/>
          <p:cNvSpPr/>
          <p:nvPr/>
        </p:nvSpPr>
        <p:spPr>
          <a:xfrm>
            <a:off x="6631200" y="52689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-Reti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Box 30"/>
          <p:cNvSpPr/>
          <p:nvPr/>
        </p:nvSpPr>
        <p:spPr>
          <a:xfrm>
            <a:off x="1800360" y="528480"/>
            <a:ext cx="55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of different forms of Vitamin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 of Vitamin 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yl esters broken down to free retinol in small intestine with the help of bile and digestive enzy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absorbed, retinyl esters reformed in intestinal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of retinoids can be absorbed by this mode of absorp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bed intact but the absorption rate is much low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cells can convert carotenoids in to retinoid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 and Concentration of Vit. A and β-Caroten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28600" y="762120"/>
            <a:ext cx="876312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s rich in vitamin A (retinol )                   Serving size                    μ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 liver                                                                              100g                                       9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 liver oil (very rich source)                                           10g                                        25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                                                                                     1 whole                                   1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Others: kidney, dairy products, butter, fortified margarin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s rich in β- and other carotenoids        Serving size            μg Vit. A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rot                                                                                 1, large                               8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et potato                                                                       1, large                               9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 and broccoli                                                         100mg                                46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Others: red palm oil apricots, peaches, melon, pumpki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42" descr="http://img.search.com/thumb/5/5b/Henneguya_salminicola_in_flesh_of_coho_salmon,_BC,_Canada.JPG/200px-Henneguya_salminicola_in_flesh_of_coho_salmon,_BC,_Canada.JPG"/>
          <p:cNvPicPr/>
          <p:nvPr/>
        </p:nvPicPr>
        <p:blipFill>
          <a:blip r:embed="rId1"/>
          <a:stretch/>
        </p:blipFill>
        <p:spPr>
          <a:xfrm>
            <a:off x="2133720" y="259092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8" descr="http://images-en.busytrade.com/12754610020000200/--carotene.jpg"/>
          <p:cNvPicPr/>
          <p:nvPr/>
        </p:nvPicPr>
        <p:blipFill>
          <a:blip r:embed="rId2"/>
          <a:stretch/>
        </p:blipFill>
        <p:spPr>
          <a:xfrm>
            <a:off x="380880" y="56386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http://t3.gstatic.com/images?q=tbn:ANd9GcQ3G0dt80H4UxrcMVlmQ-so11AY3-LWEptCHs6zTpGUjJI4ZIDv"/>
          <p:cNvPicPr/>
          <p:nvPr/>
        </p:nvPicPr>
        <p:blipFill>
          <a:blip r:embed="rId3"/>
          <a:stretch/>
        </p:blipFill>
        <p:spPr>
          <a:xfrm>
            <a:off x="4114800" y="56386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http://t3.gstatic.com/images?q=tbn:ANd9GcRcfwBdpjqOTRabsWfhz3rjhkRgS-6GLFOW1sq6QSA9OZIaiypkUw"/>
          <p:cNvPicPr/>
          <p:nvPr/>
        </p:nvPicPr>
        <p:blipFill>
          <a:blip r:embed="rId4"/>
          <a:stretch/>
        </p:blipFill>
        <p:spPr>
          <a:xfrm>
            <a:off x="5867280" y="5638680"/>
            <a:ext cx="1447920" cy="1067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http://foodsafety.suencs.com/wp-content/uploads/2009/09/egg-carton.jpg"/>
          <p:cNvPicPr/>
          <p:nvPr/>
        </p:nvPicPr>
        <p:blipFill>
          <a:blip r:embed="rId5"/>
          <a:stretch/>
        </p:blipFill>
        <p:spPr>
          <a:xfrm>
            <a:off x="3809880" y="25909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http://t0.gstatic.com/images?q=tbn:ANd9GcTNzylurw8P6uha7LLjQZUKE2mxUOW4b0TJYOSKBFcO7Qv7HLVHVb6-FzLG"/>
          <p:cNvPicPr/>
          <p:nvPr/>
        </p:nvPicPr>
        <p:blipFill>
          <a:blip r:embed="rId6"/>
          <a:stretch/>
        </p:blipFill>
        <p:spPr>
          <a:xfrm>
            <a:off x="457200" y="259092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http://taikajuoma.ath.cx/bat/milk.jpg"/>
          <p:cNvPicPr/>
          <p:nvPr/>
        </p:nvPicPr>
        <p:blipFill>
          <a:blip r:embed="rId7"/>
          <a:stretch/>
        </p:blipFill>
        <p:spPr>
          <a:xfrm>
            <a:off x="5715000" y="2590920"/>
            <a:ext cx="1447920" cy="111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http://betterbeemktg.com/wp-content/uploads/2012/07/Bavarian-Honey-Butter.jpg"/>
          <p:cNvPicPr/>
          <p:nvPr/>
        </p:nvPicPr>
        <p:blipFill>
          <a:blip r:embed="rId8"/>
          <a:stretch/>
        </p:blipFill>
        <p:spPr>
          <a:xfrm>
            <a:off x="7467480" y="25909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http://3.bp.blogspot.com/_f28OjJg-3D0/TN6rpBNue9I/AAAAAAAAADc/MLqCUcUipN0/s1600/sweet%2Bpotatoes.jpg"/>
          <p:cNvPicPr/>
          <p:nvPr/>
        </p:nvPicPr>
        <p:blipFill>
          <a:blip r:embed="rId9"/>
          <a:stretch/>
        </p:blipFill>
        <p:spPr>
          <a:xfrm>
            <a:off x="2133720" y="5638680"/>
            <a:ext cx="144756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http://i-cdn.apartmenttherapy.com/uimages/kitchen/2008_09_23Melons.jpg"/>
          <p:cNvPicPr/>
          <p:nvPr/>
        </p:nvPicPr>
        <p:blipFill>
          <a:blip r:embed="rId10"/>
          <a:stretch/>
        </p:blipFill>
        <p:spPr>
          <a:xfrm>
            <a:off x="7543800" y="5638680"/>
            <a:ext cx="1441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981080" y="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n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33520" y="152280"/>
            <a:ext cx="80769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micronutrient  organic substa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ing specific biochemical functions in the human body (essential for health maintenan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ed from animals, plants, and micro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in very tiny (mcgs) and balanced amou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ade in the body (or not in sufficient quant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o you know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76320" y="1001880"/>
            <a:ext cx="6629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carotenoid supplements are preferable micronutrients (Why?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swe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They contain, along with β-carotene (the precursor of Vit.A), a mixture of other important carotenoids, including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tei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copen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has additional  health benefits e.g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copen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red pigment of tomato) is a potent antioxidant and decrease the risk of prostate cancer and cataract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tein/zeaxanthin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yellow stereoisomeric pigments in leafy vegetables) which give the yellow colour to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ula lute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tin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Less toxic than Vit. 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Picture 5" descr="http://faculty.weber.edu/nokazaki/Human_Physiology/Class%20notes/Sensory-system-word_files/image044.jpg"/>
          <p:cNvPicPr/>
          <p:nvPr/>
        </p:nvPicPr>
        <p:blipFill>
          <a:blip r:embed="rId1"/>
          <a:stretch/>
        </p:blipFill>
        <p:spPr>
          <a:xfrm>
            <a:off x="6781680" y="4952880"/>
            <a:ext cx="2212920" cy="160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www.worldofmolecules.com/antioxidants/lutein_zeaxanthin.gif"/>
          <p:cNvPicPr/>
          <p:nvPr/>
        </p:nvPicPr>
        <p:blipFill>
          <a:blip r:embed="rId2"/>
          <a:stretch/>
        </p:blipFill>
        <p:spPr>
          <a:xfrm>
            <a:off x="6781680" y="1981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7472160" y="3059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ute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9" descr="http://www.leffingwell.com/lycopene.gif"/>
          <p:cNvPicPr/>
          <p:nvPr/>
        </p:nvPicPr>
        <p:blipFill>
          <a:blip r:embed="rId3"/>
          <a:stretch/>
        </p:blipFill>
        <p:spPr>
          <a:xfrm>
            <a:off x="6705720" y="3657600"/>
            <a:ext cx="2438280" cy="102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8023320" y="41911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ycope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1600200"/>
            <a:ext cx="8382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s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lays a central role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formation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ght energy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 impuls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perceived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as vi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: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 blind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le of Vitamin A in Vision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al turn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ual light into nerve signa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etina of ey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for structural components (Cones and Rods) of ey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es in the re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vision under bright 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 objects to color 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ds in the re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vision in dim 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 objects to black and white 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09_04"/>
          <p:cNvPicPr/>
          <p:nvPr/>
        </p:nvPicPr>
        <p:blipFill>
          <a:blip r:embed="rId1"/>
          <a:srcRect l="0" t="2142" r="0" b="0"/>
          <a:stretch/>
        </p:blipFill>
        <p:spPr>
          <a:xfrm>
            <a:off x="609480" y="7621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1417680" y="152280"/>
            <a:ext cx="68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chanism of Action of Retinal in Night Vi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80880" y="457200"/>
            <a:ext cx="84582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hodops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 biological pigment in photoreceptor cells 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retina that is responsible for the first events in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ption of light. It is extremely sensitive to light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ing vision in low-light condi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odopsin consists of the protein moiety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and 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sibly covalently bound cofactor,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1-cis retin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 of night vision occurs via G-protein coup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ptors called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nta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chromophore (A chromophore absorbs and transmi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energ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 reti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truck by photon,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 undergoes photoisomerization to all-tran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which changes the conformation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 GPC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leading to formation of signal casca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ages and sent to br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4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ssation of dark current takes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609480" y="2232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chanism of Action of Retinal in Night Visi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762120" y="114300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kin and mucus membrane health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romotes proper growth of sk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and mucous membranes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piratory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intestinal,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ourinary tr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Xero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ucus-secreting cel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d by keratin producing cells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y sk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y eye (xerophthalmia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7595640" y="61722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EWG, 200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8600" y="4191120"/>
            <a:ext cx="8686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ges of xerophthalmi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signs of xerophthalmia include dry conjunctiva and night blindness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occurrence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nctival xerosi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istening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plaques formed of thickened epithelium, usually triangular)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neal xerosi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aziness or a granular pebbly dryness of the cornea)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neal ulceration (keratomalacia)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ness of conjunctiva and later of corne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6" descr="http://t0.gstatic.com/images?q=tbn:ANd9GcTK-h21INf0PlB-TQtRh6n9szHhnaqNRN_eIvjwU_aQMwY9AmmwxQ"/>
          <p:cNvPicPr/>
          <p:nvPr/>
        </p:nvPicPr>
        <p:blipFill>
          <a:blip r:embed="rId1"/>
          <a:stretch/>
        </p:blipFill>
        <p:spPr>
          <a:xfrm>
            <a:off x="304920" y="51264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http://t2.gstatic.com/images?q=tbn:ANd9GcQETaQz__hY5YvZVOoba9hc9dGTwevaeKucSWlydvfLnB0qImJ1"/>
          <p:cNvPicPr/>
          <p:nvPr/>
        </p:nvPicPr>
        <p:blipFill>
          <a:blip r:embed="rId2"/>
          <a:stretch/>
        </p:blipFill>
        <p:spPr>
          <a:xfrm>
            <a:off x="6019920" y="512640"/>
            <a:ext cx="2590560" cy="1773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3124080" y="135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Xerophthalm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10" descr="http://t3.gstatic.com/images?q=tbn:ANd9GcSQvR7rUCXPVIUH6o8EuszzbT9BINFZO0F15MHX5OpcWNdBsd3f9w"/>
          <p:cNvPicPr/>
          <p:nvPr/>
        </p:nvPicPr>
        <p:blipFill>
          <a:blip r:embed="rId3"/>
          <a:stretch/>
        </p:blipFill>
        <p:spPr>
          <a:xfrm>
            <a:off x="304920" y="2362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2"/>
          <p:cNvSpPr/>
          <p:nvPr/>
        </p:nvSpPr>
        <p:spPr>
          <a:xfrm>
            <a:off x="71280" y="-83808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14" descr="http://t1.gstatic.com/images?q=tbn:ANd9GcTJGq8_RztP-H-O1vFkMHGXcn2z3hCvna8BahvwSJDGs18-17fG"/>
          <p:cNvPicPr/>
          <p:nvPr/>
        </p:nvPicPr>
        <p:blipFill>
          <a:blip r:embed="rId4"/>
          <a:stretch/>
        </p:blipFill>
        <p:spPr>
          <a:xfrm>
            <a:off x="6095880" y="23623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1"/>
          <p:cNvSpPr/>
          <p:nvPr/>
        </p:nvSpPr>
        <p:spPr>
          <a:xfrm>
            <a:off x="3666240" y="2895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y Sk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Right Arrow 11"/>
          <p:cNvSpPr/>
          <p:nvPr/>
        </p:nvSpPr>
        <p:spPr>
          <a:xfrm>
            <a:off x="5410080" y="1579680"/>
            <a:ext cx="60984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eft Arrow 12"/>
          <p:cNvSpPr/>
          <p:nvPr/>
        </p:nvSpPr>
        <p:spPr>
          <a:xfrm>
            <a:off x="2743200" y="1579680"/>
            <a:ext cx="533520" cy="152280"/>
          </a:xfrm>
          <a:prstGeom prst="leftArrow">
            <a:avLst>
              <a:gd name="adj1" fmla="val 50000"/>
              <a:gd name="adj2" fmla="val 50055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ight Arrow 13"/>
          <p:cNvSpPr/>
          <p:nvPr/>
        </p:nvSpPr>
        <p:spPr>
          <a:xfrm>
            <a:off x="4952880" y="3124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Left Arrow 14"/>
          <p:cNvSpPr/>
          <p:nvPr/>
        </p:nvSpPr>
        <p:spPr>
          <a:xfrm>
            <a:off x="3048120" y="3124080"/>
            <a:ext cx="609480" cy="152640"/>
          </a:xfrm>
          <a:prstGeom prst="leftArrow">
            <a:avLst>
              <a:gd name="adj1" fmla="val 50000"/>
              <a:gd name="adj2" fmla="val 49912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ight Arrow 17"/>
          <p:cNvSpPr/>
          <p:nvPr/>
        </p:nvSpPr>
        <p:spPr>
          <a:xfrm>
            <a:off x="6095880" y="5486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ight Arrow 18"/>
          <p:cNvSpPr/>
          <p:nvPr/>
        </p:nvSpPr>
        <p:spPr>
          <a:xfrm>
            <a:off x="3581280" y="6095880"/>
            <a:ext cx="609840" cy="2286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Right Arrow 19"/>
          <p:cNvSpPr/>
          <p:nvPr/>
        </p:nvSpPr>
        <p:spPr>
          <a:xfrm>
            <a:off x="6324480" y="57913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304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. Immune 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A increases resistance to infection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52280" y="30481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33520" y="1143000"/>
            <a:ext cx="822960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ing the integrity of the skin epithelial cell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us membrane barriers</a:t>
            </a:r>
            <a:r>
              <a:rPr b="1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,  viruses, and parasi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ing antibody produc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number and activity of macrophages, 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natural killer (NK) cells and enhan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umor necrosis factor-alpha (TNF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mpaired Immunit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requent infections,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ly in respiratory system)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countrie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re children are not immunized,  infectiou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ease  like measles have relatively higher fatalit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2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3"/>
          <p:cNvSpPr/>
          <p:nvPr/>
        </p:nvSpPr>
        <p:spPr>
          <a:xfrm>
            <a:off x="457200" y="152280"/>
            <a:ext cx="82296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4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rmone synthes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is required for synthesis of steroi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mones (corticosteroids, androgens 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s) and production of human growth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mone (GH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Reproduc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maintains sperm count and sperm motilit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ales. In females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is associated  with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ertility  and spontaneous abor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Cell growth and developm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Formation of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lays an important role in mobilizing ir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to build new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1295280" y="29988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s of Vitamin A in Prevention &amp;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609480" y="1371600"/>
            <a:ext cx="8001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Night blindne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Skin /scalp Disorders: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 Psoriasis, Acne vulgaris,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druff, Eczema, Premature aging of sk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in treatment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r infections, conjunctivitis, bronchitis, pneumonia, and infectious diarrheal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cer treatmen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arge doses of retinoic acid may reduce growth and recurrence of certain forms of skin cancer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990720" y="762120"/>
            <a:ext cx="746748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are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tam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β-carotenoid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Vit. A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 containing 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iaci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osure to sunligh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in the human colon synthesiz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K2 menaquin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can be absorb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ir deficiency resulted in a specific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236160" y="152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s  def. co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685800" y="9907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metic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amin A derivatives are used as anti-aging, being absorbed through the skin and increases the rate of skin turnover, and a temporary increase 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gen giving a more youthful appearance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Gastric ulcer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. A maintain gastric mucus production and reduce stress ulceration in traumatized 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ned pati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 Combination of iron + Vit. 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y be effective than iron alone in treating iron-deficienc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7"/>
          <p:cNvSpPr/>
          <p:nvPr/>
        </p:nvSpPr>
        <p:spPr>
          <a:xfrm>
            <a:off x="304920" y="3049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me Products of Synthetic Retenoids (orally or topicall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71280" y="-731880"/>
            <a:ext cx="1524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4" name="Picture 26" descr="http://www.lookchem.com/300w%5C2010-5%5Cf74636b3-79e9-4571-8ba8-f8e50a413f5f.gif"/>
          <p:cNvPicPr/>
          <p:nvPr/>
        </p:nvPicPr>
        <p:blipFill>
          <a:blip r:embed="rId1"/>
          <a:stretch/>
        </p:blipFill>
        <p:spPr>
          <a:xfrm>
            <a:off x="2209680" y="990720"/>
            <a:ext cx="4191120" cy="1371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2134440" y="23623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-cis-Retinoic acid (Tretinoin or Accutan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375640" y="2666880"/>
            <a:ext cx="379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d in treatment of ac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28" descr="http://t1.gstatic.com/images?q=tbn:ANd9GcSbaTghGREdYv2S7df6nWylhIN2R_XN9HT2v_uGq4GhygIAYG9-"/>
          <p:cNvPicPr/>
          <p:nvPr/>
        </p:nvPicPr>
        <p:blipFill>
          <a:blip r:embed="rId2"/>
          <a:stretch/>
        </p:blipFill>
        <p:spPr>
          <a:xfrm>
            <a:off x="609480" y="3581280"/>
            <a:ext cx="3429000" cy="1600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1602720" y="52578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retin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9" name="Picture 30" descr="http://t2.gstatic.com/images?q=tbn:ANd9GcS4A4j2UbQvnh1oH6tyDTO1dlShkTf44DPgn7bjfAayslvLHDAFBQ"/>
          <p:cNvPicPr/>
          <p:nvPr/>
        </p:nvPicPr>
        <p:blipFill>
          <a:blip r:embed="rId3"/>
          <a:stretch/>
        </p:blipFill>
        <p:spPr>
          <a:xfrm>
            <a:off x="4572000" y="3581280"/>
            <a:ext cx="4057560" cy="160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0"/>
          <p:cNvSpPr/>
          <p:nvPr/>
        </p:nvSpPr>
        <p:spPr>
          <a:xfrm>
            <a:off x="5945760" y="5181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tret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133720" y="5791320"/>
            <a:ext cx="48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d in treatment of psoria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3"/>
          <p:cNvSpPr/>
          <p:nvPr/>
        </p:nvSpPr>
        <p:spPr>
          <a:xfrm>
            <a:off x="609480" y="1295280"/>
            <a:ext cx="792504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s of alcoholic beverage are liable to vitamin A deficiency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taking some medications (birth control pills, methotrexate, drugs sequestering bile acids e.g.   cholestyramine or chitosa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ally ill people or recovering from surge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under cancer treatment (radiation and chemotherapy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s that may impair Vit. A balance (chronic diarrhea, cystic fibrosis, and kidney or liver diseas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 DEVELOP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A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457200" y="685800"/>
            <a:ext cx="830592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a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re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more susceptible than adult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vitamin A toxic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 is a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atoge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high doses (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tha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000 μg retinol) may produce birth defec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ve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exposure for 1week in early pregna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t women should avoid excess intake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supplements and from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foods,  such as liver (100 g contain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rly 10000 μg retinol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ily dose should not exceed 2500 μg during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c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better replaced by cartenoids (thei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to Vit. A in the body is tightl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ed, thus carotene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produce vitam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oxicity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17280" y="304920"/>
            <a:ext cx="717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igns and Symptoms of Vitamin A toxicity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838080" y="1295280"/>
            <a:ext cx="746784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ne pain and joint swell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sea , vomitting and diarrhoe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 skin and lip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lo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 and blurred vi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argement of the liver and splee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thyroid activ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blood calciu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interactions with Vitamin 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retinoid medications has higher risk of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ulative toxicity with Vit. A supplem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eral oil impairs 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ll fat solubl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, including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erol-lowering drugs (e.g. cholestyramine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uminium-containing antacid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hibit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.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lcohol, barbiturates, caffeine, cortisone, tobacco,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very high levels of vitamin 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let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 use of alcohol and Vit. A together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amag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2"/>
          <p:cNvSpPr/>
          <p:nvPr/>
        </p:nvSpPr>
        <p:spPr>
          <a:xfrm>
            <a:off x="2514600" y="1981080"/>
            <a:ext cx="3886200" cy="22100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3288600" y="266688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ips to Remember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914400" y="160020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necessary dietary factors, 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 by the body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ep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function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-fac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egulator) of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reactions in the bo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requirement of most vitamin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u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m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088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are classified by the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logi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ill now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amins are  universally recognized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- Fat soluble vitami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tinol, Retinal, Retino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t. D3: Cholecalciferol, Vit. D2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ocalciferol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cophero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K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t. K1: Phylloquinones,Vit. K2: Menaquino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Water soluble vitami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B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(Thiam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(Riboflav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3 (Niac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5 (Pantothen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6 (Pyridoxi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9 (Fol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2 (Cyanocobalam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-228600" y="5168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C 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-Ascorb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H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676520" y="46080"/>
            <a:ext cx="6248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le of Vitamins in Metabo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33520" y="96984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have catalytic functions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-facto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etabolic reactions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 not act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ing substanc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at is why the dail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 is very smal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each vitamin h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pecific fun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abolis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erefore, its deficiency wil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rsely affect one or more biochemic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 in certain organs and ver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deficiency symptoms wil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027800" y="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ses of Vitamin Deficiency and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52280" y="533520"/>
            <a:ext cx="876312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vitamin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y disease caused by chronic 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 vitamin deficiency or caused by a defect 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conversion, such as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leads to well defined symptoms e.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phthalmia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A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ket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ue to Vitamin D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lagra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B3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iberi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B1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urv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C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)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ovitaminos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Resulted from inadequate supply of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r more vitamins. It appears in the form of wel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d symptoms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chang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lit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w resistance to infection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1-09T04:49:3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