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12.jpeg" ContentType="image/jpeg"/>
  <Override PartName="/ppt/media/image1.jpeg" ContentType="image/jpeg"/>
  <Override PartName="/ppt/media/image7.png" ContentType="image/png"/>
  <Override PartName="/ppt/media/WHOOSH.WAV" ContentType="audio/x-wav"/>
  <Override PartName="/ppt/media/image8.png" ContentType="image/png"/>
  <Override PartName="/ppt/media/image14.jpeg" ContentType="image/jpeg"/>
  <Override PartName="/ppt/media/image9.png" ContentType="image/png"/>
  <Override PartName="/ppt/media/image13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103E-C30F-4DA7-B7DE-6639C5EA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114-488B-4BD2-B11F-552E8D477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FC3B-1CF7-4380-B16A-39206BDAF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vice to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. Winslow's Soothing Syrup should always be used for children's teething. It soothes the child, softens the gums, allays all pain, cures wind colic, and is the best cure for diarrh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. Winslow's Soothing Syrup for Children Teething" Twenty five cents a bo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F4AA-80ED-491C-8D40-ED57EE8014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1889-16B7-4536-9C08-6C23ED475E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D04-E51B-456A-820A-53E952359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D65-E3A1-487E-AC0E-566628488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now going to show some specific data on Rx and OTC misuse among y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89BA-1A55-40B9-9E0E-0175B0595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54BD-A5D9-4E1B-9333-6C2A27C6C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2F16-78EB-49AF-9F4D-9BC5FF8A1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97D-0090-4279-A930-B1AB04DC9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E8F-9097-4E15-906D-687C51260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ccording to recent data from the California Student Survey (taken from a representative sample of high school students in 7th, 9th &amp; 11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-a significant proportion of high school students in CA are taking opiate painkillers, such as Vicodin and OxyContin) to get high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Specifically, 15% of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, 9% of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 and 4% of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D099-94B7-4E60-BB10-51D68CE5C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’m now going to highlight trends were seeing with respect to Rx &amp; OTC Misuse among older adult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B46-FF2C-414B-BAF1-D4240D3B1A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D521-D2BA-46E5-B510-CF3428081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698-67BF-49B6-81EA-7D0899F140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CE6-3166-4AF1-B517-32BC1782E3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nt to first start off by defining what is considered or meant by “misus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rtually any Rx and OTC drug can be mis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Misuse is considered to be using Rx and OTC drugs for non-medical purposes – in other words - any use that is outside of a medically prescribed regi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685-CCF8-4116-B4AA-87C3B0932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FDE-B258-4DD3-871F-01C15CA63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9A8-700D-42D9-9AB2-AD040B8B7C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0DD-84F6-47BE-B5BB-F6C56DD94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FC8-49AC-4D5B-B521-F390B56B9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E82-6BB6-4CCF-A858-1FB888065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ata collected from NIDA’s Community Epidemiological Workgroup (CEWG). Findings highlight two trends happening in LA with respect to Rx dru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3F6-5DCE-4F91-ABAA-4F3022F17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6E25-1371-497D-A07F-4995A48A7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2712-0CC6-410E-BB58-31663FC28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341-A048-4421-9EF2-9E5A57CC4D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1088-5D7A-4D5C-BF0B-BA1CB93EF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now going to show some specific data on Rx and OTC misuse among y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4D4E-0153-40B3-AE5D-8CE7E80D6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AF6-4CD1-45CD-A50A-1C8A26A76C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F51-46EF-4A1B-BD19-A5435F2D73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0BDF-B8E6-4001-A576-15583BE07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AE0A-4A06-4268-9170-2A24B4E09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data collected from NIDA’s Community Epidemiological Workgroup (CEWG). Findings highlight two trends happening in LA with respect to Rx dru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5CCA-9A2C-4E7F-A8AB-5F3B26AD0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5E37-20B2-4C87-8E74-A1E2221FD5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n – The Sedative for Coug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n Hydrochloride – Its water soluble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have call for them.  Order a supply from your jo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4943-3371-4B6F-ADF9-32602878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8FB6-A9B8-4803-8A46-B495479D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0548-7F45-4C6A-9DDC-B535AAC0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1AB2-86D0-4B83-91F9-FDBC4C8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1FC-B433-4361-812B-446BA0CC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952-3891-4643-9AD8-315B5ED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7F9-18EC-449A-B4DF-CCE9026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837E-F5DA-4C49-9C55-A68C4BF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9FE-A782-4EF4-A721-59B2DBE1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7413-B483-4931-BFA8-A24645A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59CD-6C4D-4807-B6BB-1D22650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85AF-2339-4271-BC10-51CC282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335-80F7-4A55-9968-971AC97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F82E-97B9-4AB7-834D-6110DA8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FCA4-9F6A-4F82-975D-9E43F98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31C6-8569-466F-81EA-47E96912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5F59-8E6E-4253-90D4-F530DF1C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8882-2179-4AF6-A6E0-0258686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3564-6860-4BE3-96CF-F2CA6B37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CF8B-CB54-432D-A399-2F3BEFD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1878-6A89-4925-922B-715FC147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D795-1637-4083-9B7D-4E1A75D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9D7A-1C4F-46BC-9A08-4604F418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1544-D6D6-4065-AC6E-CFDA83F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9519-A510-4B93-9DFC-A684F4F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4047-A842-4F3E-AAC0-F7B4587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EEA2-570F-461B-BD42-97DA7D3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AAA1-BC9F-4388-9324-3A1B035B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7EA8-1FA1-4CBF-AAAE-E03F5A86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2980-720B-46A7-BD59-1515F497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1F70-6070-4EC7-B825-6C7F232C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0D46-5F4B-49E7-814A-05BDF8F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3E7-3BD8-4AD0-B469-57537C6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0FFF-BFC7-49C9-AA4F-BD133CE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85C5-9053-4B93-A9C3-9A56D03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35FB-04DC-4CCE-B6E6-8A8EF8E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7461-B49C-4E11-8AF3-426FDB81A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EE0-1AA0-455F-A2A2-9BF9F50271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68E-71EE-45C6-B439-71A61EE4D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9/All-trans-Retinol.svg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upload.wikimedia.org/wikipedia/commons/f/fe/All-trans-Retinal.svg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roduction of Vitami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752480"/>
            <a:ext cx="2362320" cy="156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tent hypovitamin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 case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recognizabl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symptoms 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ly appeared under sudde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 or exposure to different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33520" y="2860560"/>
            <a:ext cx="815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4).  </a:t>
            </a:r>
            <a:r>
              <a:rPr b="1" lang="it-IT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ovitaminosis due to Anti- vitamins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aw fish destro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B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d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aw egg forming complex with biotin (vitamin) (biotin – avidin)  prevents absorption of biot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at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linseed oil is antagonist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38088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nino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se which develops only upon prolong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excessive amount of vitam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33520" y="2819520"/>
            <a:ext cx="464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inosis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occurs after lar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dosage of the vitam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dominal p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usea or vom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tharg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ual chan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onscious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94440" y="2209680"/>
            <a:ext cx="218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19720" y="2766960"/>
            <a:ext cx="4647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ervitaminosis 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this is caused by excessive ingestion or over prescription of prescribed medications such as calcium with vit. 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includ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izures - can be f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5"/>
          <p:cNvSpPr/>
          <p:nvPr/>
        </p:nvSpPr>
        <p:spPr>
          <a:xfrm>
            <a:off x="1537560" y="129528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dicinal applications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121120" y="1981080"/>
            <a:ext cx="650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hypovitamino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som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ylaxis against som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7"/>
          <p:cNvSpPr/>
          <p:nvPr/>
        </p:nvSpPr>
        <p:spPr>
          <a:xfrm>
            <a:off x="8380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- Fat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066680"/>
          <a:ext cx="8382240" cy="5543640"/>
        </p:xfrm>
        <a:graphic>
          <a:graphicData uri="http://schemas.openxmlformats.org/drawingml/2006/table">
            <a:tbl>
              <a:tblPr/>
              <a:tblGrid>
                <a:gridCol w="2244960"/>
                <a:gridCol w="613728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Lowered resistance to infections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ark-adaptation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Prophylaxis and therapy of rickets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ases of bone atrophy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mproves tooth consistency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6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diac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scular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uscular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isorde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Fat with high levels of unsaturated fatty acids absorption disorde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isorders of blood coagulation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1066680" y="76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 Water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914400"/>
          <a:ext cx="8001000" cy="5661000"/>
        </p:xfrm>
        <a:graphic>
          <a:graphicData uri="http://schemas.openxmlformats.org/drawingml/2006/table">
            <a:tbl>
              <a:tblPr/>
              <a:tblGrid>
                <a:gridCol w="1878120"/>
                <a:gridCol w="6122880"/>
              </a:tblGrid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 Beri beri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Nervous inflammations, neuralgia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Cardiac dysfunction caused by alcoholis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Ariboflavinosi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hotophobia and blurred visio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Corneal vascularization and eye itch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Pellag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Multiple B-complex deficiency syndrom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Dermatitis and seborrhe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7"/>
          <p:cNvSpPr/>
          <p:nvPr/>
        </p:nvSpPr>
        <p:spPr>
          <a:xfrm>
            <a:off x="1295280" y="76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 Water soluble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838080"/>
          <a:ext cx="8001000" cy="5716800"/>
        </p:xfrm>
        <a:graphic>
          <a:graphicData uri="http://schemas.openxmlformats.org/drawingml/2006/table">
            <a:tbl>
              <a:tblPr/>
              <a:tblGrid>
                <a:gridCol w="1878120"/>
                <a:gridCol w="6122880"/>
              </a:tblGrid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cinal applic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Irritability and convulsio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Hypochromic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Peripheral neuritis.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Megaloblastic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 Juvenile pernicious anemi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Gastrecotomy and celiac disea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Long term drug therapy as neomyc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Inflammatory lesion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Scurvy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Poor wound heal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ses of addition of Vitamins to f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66680" y="903240"/>
            <a:ext cx="8839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is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ition of vitamins to foods which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necessarily contain them naturall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ddition of vitamins A and D to margarin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vitaminis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toration of the original vitam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food that is lost during processing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Flour loss about 70% of its vitamin B content;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mmed milk must be revitaminized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s A and D as they removed on skimm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fa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ndardization: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nsation of seasonal variatio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s in foo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.g. Milk must standardiz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seasonal variation of vitamin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04920" y="100080"/>
            <a:ext cx="853416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nrichment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 of vitamins over the initia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level e.g.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and flour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bilization of food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ood products show chang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lor and taste due to oxidation by light and air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s C and 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ter and fat solubl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used to protect food from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idation and thus saving its nutritional valu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uring agent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ascorbat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used to reduce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ount of nitrite and nitrate ( food stabilizer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loring of food products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atural fa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pigments and pro-vitamin A) and synthetic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oids as: </a:t>
            </a:r>
            <a:r>
              <a:rPr b="1" lang="el-G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e, </a:t>
            </a:r>
            <a:r>
              <a:rPr b="1" lang="el-G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-</a:t>
            </a: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-8‘-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otenal, 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haxanthin are suitable for the coloring of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rgarin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hee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064240" y="22860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ormulation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8088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ulation of vitamins must solve the following problem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oleptic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viding accurate known quant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a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by addition of stabilizer (as antioxida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synthesis of stable deriv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formation of water-soluble vitamins in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derivatives o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 ver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rou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ly sensitive to oxidation by oxygen or light in presence of metal, heat or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bilization for oily form of vit. A was achieved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r formation as acetate or palmitat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solving in vegetable o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 of antioxida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complexing ag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Stabilization for water soluble derivatives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dry powd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osit in gelatin as a carrier subst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emulsion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342960" y="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-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97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ing Polic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52280" y="99072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ick leave certificates or other excuses will be entertained for attenda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 aware of your attendance from the beginning of the ses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es of mid exam once announced will not be changed in any ca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is no provision for make up exam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mid exam will be in the first class () of Sixth week ()of the ses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 (Thiamine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activated at neutral or alkaline p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light and mois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idiz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80880" y="2666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if protected from light and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um stability at pH 3 - 4.5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resence of vitamin B2 it is easily oxidized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queous solution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ochr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e.HNO3 is more stable than thiamin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 dry preparation from humid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(Riboflavin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28600" y="990720"/>
            <a:ext cx="86104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light, alkaline medium, and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ing agents – sparingly soluble in water –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pleasant tas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olubilizers e.g. nicotinamide or salicylic acid 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odium salt of riboflavin-5'-phosph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water solu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ral use, formulate it in coated for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In aqueous solution it acts as oxidizing agent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B1, C and fol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5 (Pantothenic acid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ensi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 and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s are more stable in absence of  mois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lcohol form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tothe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panthenol; Dpantothenyl alcohol) is used in aqueous prepa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072160" y="43434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2 (Cyanocobol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5800" y="5257800"/>
            <a:ext cx="784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in acidic medium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 unstable at high temperature and in presence of vitamin B1, B3, vitamin C, and some heavy met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 Soluble Vitami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400800" y="4648320"/>
            <a:ext cx="2247840" cy="1650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705720" y="1905120"/>
            <a:ext cx="2286000" cy="156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457200" y="1981080"/>
            <a:ext cx="243828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8" descr="http://images-en.busytrade.com/12754610020000200/--carotene.jpg"/>
          <p:cNvPicPr/>
          <p:nvPr/>
        </p:nvPicPr>
        <p:blipFill>
          <a:blip r:embed="rId4"/>
          <a:stretch/>
        </p:blipFill>
        <p:spPr>
          <a:xfrm>
            <a:off x="609480" y="4495680"/>
            <a:ext cx="236232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1356840" y="3630600"/>
            <a:ext cx="6209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Vitamin A and Carotenoids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exists in animal foo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form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erified with fatty acids (usually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yl palmit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d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be oxidized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have 2 specific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905120" y="380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A and Carote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981080" y="41911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ys a central role in the function of retin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regulate gene expression and cell developm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533520" y="457200"/>
            <a:ext cx="815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compound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l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 and retin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llectively referred a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 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 is carried in the blood through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ol-binding protein (RBP)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BP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ze in the li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rovitamin A) exist in plant fo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 is β-carotene which can be absorbed as such or after splitt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al cel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vitamin A 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lar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rot conta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mg of β-caroten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which can supply enough vitamin A for daily requir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nversion of Carotenoids to Retinoid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8128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atic conversion of carotenoids occurs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or intestinal cell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forming two molecules of retinal and finally  retinol and retinoic ac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tamin A carotenoid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-carote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pha carote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-cryptoxanth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3"/>
          <p:cNvSpPr/>
          <p:nvPr/>
        </p:nvSpPr>
        <p:spPr>
          <a:xfrm>
            <a:off x="5334120" y="3733920"/>
            <a:ext cx="3429000" cy="1468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657600" y="5791320"/>
            <a:ext cx="21337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6" descr="File:All-trans-Retino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378080"/>
            <a:ext cx="3286080" cy="907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1762560" y="22971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334560" y="22971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10" descr="File:All-trans-Retinal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48440" y="1450800"/>
            <a:ext cx="3139920" cy="90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http://t3.gstatic.com/images?q=tbn:ANd9GcS3zBFvYAbOf4hb2_sFIGP6w0gpPMQe1d1WtU6NB8B7_a9owYcgOA"/>
          <p:cNvPicPr/>
          <p:nvPr/>
        </p:nvPicPr>
        <p:blipFill>
          <a:blip r:embed="rId5"/>
          <a:stretch/>
        </p:blipFill>
        <p:spPr>
          <a:xfrm>
            <a:off x="914400" y="3821040"/>
            <a:ext cx="3809880" cy="13716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1916640" y="519264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-trans-Retinoic aci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971640" y="1449360"/>
            <a:ext cx="22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685800" y="168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683640" y="19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912240" y="2220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1216800" y="2068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255680" y="1744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146376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1692360" y="1763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2421720" y="1468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2154240" y="177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1950840" y="1650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2632680" y="177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888280" y="1647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3116880" y="1763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3382200" y="1650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6850800" y="15350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32" descr="https://upload.wikimedia.org/wikipedia/commons/thumb/1/1b/11-cis-Retinal.svg/354px-11-cis-Retinal.svg.png"/>
          <p:cNvPicPr/>
          <p:nvPr/>
        </p:nvPicPr>
        <p:blipFill>
          <a:blip r:embed="rId6"/>
          <a:stretch/>
        </p:blipFill>
        <p:spPr>
          <a:xfrm>
            <a:off x="5334120" y="3886200"/>
            <a:ext cx="337176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4"/>
          <p:cNvSpPr/>
          <p:nvPr/>
        </p:nvSpPr>
        <p:spPr>
          <a:xfrm>
            <a:off x="6631200" y="52689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-Reti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Box 30"/>
          <p:cNvSpPr/>
          <p:nvPr/>
        </p:nvSpPr>
        <p:spPr>
          <a:xfrm>
            <a:off x="1800360" y="528480"/>
            <a:ext cx="55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of different forms of Vitamin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 of Vitamin 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yl esters broken down to free retinol in small intestine with the help of bile and digestive enzy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absorbed, retinyl esters reformed in intestinal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of retinoids can be absorbed by this mode of absorp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otenoi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bed intact but the absorption rate is much low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cells can convert carotenoids in to retinoid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 and Concentration of Vit. A and β-Caroten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28600" y="762120"/>
            <a:ext cx="876312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s rich in vitamin A (retinol )                   Serving size                    μ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f liver                                                                              100g                                       9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 liver oil (very rich source)                                           10g                                        25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                                                                                       1 whole                                   1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Others: kidney, dairy products, butter, fortified margarin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s rich in β- and other carotenoids        Serving size            μg Vit. A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rot                                                                                 1, large                               8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et potato                                                                       1, large                               9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ch and broccoli                                                         100mg                                46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Others: red palm oil apricots, peaches, melon, pumpki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42" descr="http://img.search.com/thumb/5/5b/Henneguya_salminicola_in_flesh_of_coho_salmon,_BC,_Canada.JPG/200px-Henneguya_salminicola_in_flesh_of_coho_salmon,_BC,_Canada.JPG"/>
          <p:cNvPicPr/>
          <p:nvPr/>
        </p:nvPicPr>
        <p:blipFill>
          <a:blip r:embed="rId1"/>
          <a:stretch/>
        </p:blipFill>
        <p:spPr>
          <a:xfrm>
            <a:off x="2133720" y="259092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8" descr="http://images-en.busytrade.com/12754610020000200/--carotene.jpg"/>
          <p:cNvPicPr/>
          <p:nvPr/>
        </p:nvPicPr>
        <p:blipFill>
          <a:blip r:embed="rId2"/>
          <a:stretch/>
        </p:blipFill>
        <p:spPr>
          <a:xfrm>
            <a:off x="380880" y="56386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http://t3.gstatic.com/images?q=tbn:ANd9GcQ3G0dt80H4UxrcMVlmQ-so11AY3-LWEptCHs6zTpGUjJI4ZIDv"/>
          <p:cNvPicPr/>
          <p:nvPr/>
        </p:nvPicPr>
        <p:blipFill>
          <a:blip r:embed="rId3"/>
          <a:stretch/>
        </p:blipFill>
        <p:spPr>
          <a:xfrm>
            <a:off x="4114800" y="56386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http://t3.gstatic.com/images?q=tbn:ANd9GcRcfwBdpjqOTRabsWfhz3rjhkRgS-6GLFOW1sq6QSA9OZIaiypkUw"/>
          <p:cNvPicPr/>
          <p:nvPr/>
        </p:nvPicPr>
        <p:blipFill>
          <a:blip r:embed="rId4"/>
          <a:stretch/>
        </p:blipFill>
        <p:spPr>
          <a:xfrm>
            <a:off x="5867280" y="5638680"/>
            <a:ext cx="1447920" cy="1067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http://foodsafety.suencs.com/wp-content/uploads/2009/09/egg-carton.jpg"/>
          <p:cNvPicPr/>
          <p:nvPr/>
        </p:nvPicPr>
        <p:blipFill>
          <a:blip r:embed="rId5"/>
          <a:stretch/>
        </p:blipFill>
        <p:spPr>
          <a:xfrm>
            <a:off x="3809880" y="25909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http://t0.gstatic.com/images?q=tbn:ANd9GcTNzylurw8P6uha7LLjQZUKE2mxUOW4b0TJYOSKBFcO7Qv7HLVHVb6-FzLG"/>
          <p:cNvPicPr/>
          <p:nvPr/>
        </p:nvPicPr>
        <p:blipFill>
          <a:blip r:embed="rId6"/>
          <a:stretch/>
        </p:blipFill>
        <p:spPr>
          <a:xfrm>
            <a:off x="457200" y="259092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http://taikajuoma.ath.cx/bat/milk.jpg"/>
          <p:cNvPicPr/>
          <p:nvPr/>
        </p:nvPicPr>
        <p:blipFill>
          <a:blip r:embed="rId7"/>
          <a:stretch/>
        </p:blipFill>
        <p:spPr>
          <a:xfrm>
            <a:off x="5715000" y="2590920"/>
            <a:ext cx="1447920" cy="111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http://betterbeemktg.com/wp-content/uploads/2012/07/Bavarian-Honey-Butter.jpg"/>
          <p:cNvPicPr/>
          <p:nvPr/>
        </p:nvPicPr>
        <p:blipFill>
          <a:blip r:embed="rId8"/>
          <a:stretch/>
        </p:blipFill>
        <p:spPr>
          <a:xfrm>
            <a:off x="7467480" y="25909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http://3.bp.blogspot.com/_f28OjJg-3D0/TN6rpBNue9I/AAAAAAAAADc/MLqCUcUipN0/s1600/sweet%2Bpotatoes.jpg"/>
          <p:cNvPicPr/>
          <p:nvPr/>
        </p:nvPicPr>
        <p:blipFill>
          <a:blip r:embed="rId9"/>
          <a:stretch/>
        </p:blipFill>
        <p:spPr>
          <a:xfrm>
            <a:off x="2133720" y="5638680"/>
            <a:ext cx="144756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http://i-cdn.apartmenttherapy.com/uimages/kitchen/2008_09_23Melons.jpg"/>
          <p:cNvPicPr/>
          <p:nvPr/>
        </p:nvPicPr>
        <p:blipFill>
          <a:blip r:embed="rId10"/>
          <a:stretch/>
        </p:blipFill>
        <p:spPr>
          <a:xfrm>
            <a:off x="7543800" y="5638680"/>
            <a:ext cx="1441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981080" y="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n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33520" y="152280"/>
            <a:ext cx="807696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micronutrient  organic substa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ing specific biochemical functions in the human body (essential for health maintenan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ed from animals, plants, and micro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in very tiny (mcgs) and balanced amou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ade in the body (or not in sufficient quant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o you know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76320" y="1001880"/>
            <a:ext cx="6629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carotenoid supplements are preferable micronutrients (Why?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swe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They contain, along with β-carotene (the precursor of Vit.A), a mixture of other important carotenoids, including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tei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copen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has additional  health benefits e.g: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copen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red pigment of tomato) is a potent antioxidant and decrease the risk of prostate cancer and cataract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tein/zeaxanthin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yellow stereoisomeric pigments in leafy vegetables) which give the yellow colour to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ula lute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tin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Less toxic than Vit. 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Picture 5" descr="http://faculty.weber.edu/nokazaki/Human_Physiology/Class%20notes/Sensory-system-word_files/image044.jpg"/>
          <p:cNvPicPr/>
          <p:nvPr/>
        </p:nvPicPr>
        <p:blipFill>
          <a:blip r:embed="rId1"/>
          <a:stretch/>
        </p:blipFill>
        <p:spPr>
          <a:xfrm>
            <a:off x="6781680" y="4952880"/>
            <a:ext cx="2212920" cy="160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www.worldofmolecules.com/antioxidants/lutein_zeaxanthin.gif"/>
          <p:cNvPicPr/>
          <p:nvPr/>
        </p:nvPicPr>
        <p:blipFill>
          <a:blip r:embed="rId2"/>
          <a:stretch/>
        </p:blipFill>
        <p:spPr>
          <a:xfrm>
            <a:off x="6781680" y="1981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7472160" y="3059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ute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9" descr="http://www.leffingwell.com/lycopene.gif"/>
          <p:cNvPicPr/>
          <p:nvPr/>
        </p:nvPicPr>
        <p:blipFill>
          <a:blip r:embed="rId3"/>
          <a:stretch/>
        </p:blipFill>
        <p:spPr>
          <a:xfrm>
            <a:off x="6705720" y="3657600"/>
            <a:ext cx="2438280" cy="102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8023320" y="41911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ycope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1600200"/>
            <a:ext cx="8382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s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lays a central role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formation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ght energy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 impuls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perceived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as vi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: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 blind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le of Vitamin A in Vision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al turn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ual light into nerve signa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etina of ey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oic aci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for structural components (Cones and Rods) of ey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es in the re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vision under bright 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 objects to color 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ds in the ret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vision in dim 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 objects to black and white 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09_04"/>
          <p:cNvPicPr/>
          <p:nvPr/>
        </p:nvPicPr>
        <p:blipFill>
          <a:blip r:embed="rId1"/>
          <a:srcRect l="0" t="2142" r="0" b="0"/>
          <a:stretch/>
        </p:blipFill>
        <p:spPr>
          <a:xfrm>
            <a:off x="609480" y="7621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1417680" y="152280"/>
            <a:ext cx="68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chanism of Action of Retinal in Night Vis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80880" y="457200"/>
            <a:ext cx="84582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hodops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 biological pigment in photoreceptor cells 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retina that is responsible for the first events in 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ption of light. It is extremely sensitive to light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ing vision in low-light condi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odopsin consists of the protein moiety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and 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sibly covalently bound cofactor,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1-cis retin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 of night vision occurs via G-protein coup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ptors called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nta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chromophore (A chromophore absorbs and transmi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energ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 reti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truck by photon,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-c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 undergoes photoisomerization to all-tran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i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which changes the conformation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sin GPC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leading to formation of signal casca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ages and sent to bra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4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ssation of dark current takes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609480" y="2232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chanism of Action of Retinal in Night Visi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762120" y="114300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kin and mucus membrane health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romotes proper growth of sk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and mucous membranes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piratory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intestinal,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ourinary tr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Xero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ucus-secreting cel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d by keratin producing cells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y sk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y eye (xerophthalmia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7595640" y="61722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CEWG, 200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8600" y="4191120"/>
            <a:ext cx="8686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ges of xerophthalmi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signs of xerophthalmia include dry conjunctiva and night blindness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occurrence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nctival xerosi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istening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plaques formed of thickened epithelium, usually triangular)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neal xerosi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aziness or a granular pebbly dryness of the cornea)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neal ulceration (keratomalacia)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ness of conjunctiva and later of corne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6" descr="http://t0.gstatic.com/images?q=tbn:ANd9GcTK-h21INf0PlB-TQtRh6n9szHhnaqNRN_eIvjwU_aQMwY9AmmwxQ"/>
          <p:cNvPicPr/>
          <p:nvPr/>
        </p:nvPicPr>
        <p:blipFill>
          <a:blip r:embed="rId1"/>
          <a:stretch/>
        </p:blipFill>
        <p:spPr>
          <a:xfrm>
            <a:off x="304920" y="512640"/>
            <a:ext cx="2438280" cy="1752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http://t2.gstatic.com/images?q=tbn:ANd9GcQETaQz__hY5YvZVOoba9hc9dGTwevaeKucSWlydvfLnB0qImJ1"/>
          <p:cNvPicPr/>
          <p:nvPr/>
        </p:nvPicPr>
        <p:blipFill>
          <a:blip r:embed="rId2"/>
          <a:stretch/>
        </p:blipFill>
        <p:spPr>
          <a:xfrm>
            <a:off x="6019920" y="512640"/>
            <a:ext cx="2590560" cy="1773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3124080" y="135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Xerophthalm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10" descr="http://t3.gstatic.com/images?q=tbn:ANd9GcSQvR7rUCXPVIUH6o8EuszzbT9BINFZO0F15MHX5OpcWNdBsd3f9w"/>
          <p:cNvPicPr/>
          <p:nvPr/>
        </p:nvPicPr>
        <p:blipFill>
          <a:blip r:embed="rId3"/>
          <a:stretch/>
        </p:blipFill>
        <p:spPr>
          <a:xfrm>
            <a:off x="304920" y="2362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2"/>
          <p:cNvSpPr/>
          <p:nvPr/>
        </p:nvSpPr>
        <p:spPr>
          <a:xfrm>
            <a:off x="71280" y="-83808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14" descr="http://t1.gstatic.com/images?q=tbn:ANd9GcTJGq8_RztP-H-O1vFkMHGXcn2z3hCvna8BahvwSJDGs18-17fG"/>
          <p:cNvPicPr/>
          <p:nvPr/>
        </p:nvPicPr>
        <p:blipFill>
          <a:blip r:embed="rId4"/>
          <a:stretch/>
        </p:blipFill>
        <p:spPr>
          <a:xfrm>
            <a:off x="6095880" y="23623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1"/>
          <p:cNvSpPr/>
          <p:nvPr/>
        </p:nvSpPr>
        <p:spPr>
          <a:xfrm>
            <a:off x="3666240" y="2895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y Sk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Right Arrow 11"/>
          <p:cNvSpPr/>
          <p:nvPr/>
        </p:nvSpPr>
        <p:spPr>
          <a:xfrm>
            <a:off x="5410080" y="1579680"/>
            <a:ext cx="60984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eft Arrow 12"/>
          <p:cNvSpPr/>
          <p:nvPr/>
        </p:nvSpPr>
        <p:spPr>
          <a:xfrm>
            <a:off x="2743200" y="1579680"/>
            <a:ext cx="533520" cy="152280"/>
          </a:xfrm>
          <a:prstGeom prst="leftArrow">
            <a:avLst>
              <a:gd name="adj1" fmla="val 50000"/>
              <a:gd name="adj2" fmla="val 50055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ight Arrow 13"/>
          <p:cNvSpPr/>
          <p:nvPr/>
        </p:nvSpPr>
        <p:spPr>
          <a:xfrm>
            <a:off x="4952880" y="3124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Left Arrow 14"/>
          <p:cNvSpPr/>
          <p:nvPr/>
        </p:nvSpPr>
        <p:spPr>
          <a:xfrm>
            <a:off x="3048120" y="3124080"/>
            <a:ext cx="609480" cy="152640"/>
          </a:xfrm>
          <a:prstGeom prst="leftArrow">
            <a:avLst>
              <a:gd name="adj1" fmla="val 50000"/>
              <a:gd name="adj2" fmla="val 49912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ight Arrow 17"/>
          <p:cNvSpPr/>
          <p:nvPr/>
        </p:nvSpPr>
        <p:spPr>
          <a:xfrm>
            <a:off x="6095880" y="54864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Right Arrow 18"/>
          <p:cNvSpPr/>
          <p:nvPr/>
        </p:nvSpPr>
        <p:spPr>
          <a:xfrm>
            <a:off x="3581280" y="6095880"/>
            <a:ext cx="609840" cy="2286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Right Arrow 19"/>
          <p:cNvSpPr/>
          <p:nvPr/>
        </p:nvSpPr>
        <p:spPr>
          <a:xfrm>
            <a:off x="6324480" y="57913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304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. Immune sys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A increases resistance to infection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52280" y="30481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33520" y="1143000"/>
            <a:ext cx="822960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ing the integrity of the skin epithelial cell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us membrane barriers</a:t>
            </a:r>
            <a:r>
              <a:rPr b="1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,  viruses, and parasi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ing antibody produc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number and activity of macrophages, 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natural killer (NK) cells and enhan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umor necrosis factor-alpha (TNF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mpaired Immunit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requent infections,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ly in respiratory system)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countrie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re children are not immunized,  infectiou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ease  like measles have relatively higher fatalit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2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3"/>
          <p:cNvSpPr/>
          <p:nvPr/>
        </p:nvSpPr>
        <p:spPr>
          <a:xfrm>
            <a:off x="457200" y="152280"/>
            <a:ext cx="82296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4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rmone synthes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is required for synthesis of steroi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mones (corticosteroids, androgens 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s) and production of human growth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mone (GH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Reproduc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maintains sperm count and sperm motilit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ales. In females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is associated  with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ertility  and spontaneous abor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Cell growth and developm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Formation of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 plays an important role in mobilizing ir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to build new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1295280" y="299880"/>
            <a:ext cx="678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s of Vitamin A in Prevention &amp; Therap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609480" y="1371600"/>
            <a:ext cx="8001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Night blindne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Skin /scalp Disorders: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 Psoriasis, Acne vulgaris,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druff, Eczema, Premature aging of ski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in treatment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r infections, conjunctivitis, bronchitis, pneumonia, and infectious diarrheal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cer treatmen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arge doses of retinoic acid may reduce growth and recurrence of certain forms of skin cancer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990720" y="762120"/>
            <a:ext cx="746748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are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tam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β-carotenoid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Vit. A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 containing 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niaci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osure to sunligh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place Vitamin 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in the human colon synthesiz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K2 menaquin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can be absorb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ir deficiency resulted in a specific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236160" y="152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s  def. co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685800" y="9907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metic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amin A derivatives are used as anti-aging, being absorbed through the skin and increases the rate of skin turnover, and a temporary increase 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gen giving a more youthful appearance.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Gastric ulcer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. A maintain gastric mucus production and reduce stress ulceration in traumatized 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ned pati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 Combination of iron + Vit. 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y be effective than iron alone in treating iron-deficienc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7"/>
          <p:cNvSpPr/>
          <p:nvPr/>
        </p:nvSpPr>
        <p:spPr>
          <a:xfrm>
            <a:off x="304920" y="3049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me Products of Synthetic Retenoids (orally or topicall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71280" y="-731880"/>
            <a:ext cx="1524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4" name="Picture 26" descr="http://www.lookchem.com/300w%5C2010-5%5Cf74636b3-79e9-4571-8ba8-f8e50a413f5f.gif"/>
          <p:cNvPicPr/>
          <p:nvPr/>
        </p:nvPicPr>
        <p:blipFill>
          <a:blip r:embed="rId1"/>
          <a:stretch/>
        </p:blipFill>
        <p:spPr>
          <a:xfrm>
            <a:off x="2209680" y="990720"/>
            <a:ext cx="4191120" cy="1371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2134440" y="23623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-cis-Retinoic acid (Tretinoin or Accutan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2375640" y="2666880"/>
            <a:ext cx="379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d in treatment of ac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28" descr="http://t1.gstatic.com/images?q=tbn:ANd9GcSbaTghGREdYv2S7df6nWylhIN2R_XN9HT2v_uGq4GhygIAYG9-"/>
          <p:cNvPicPr/>
          <p:nvPr/>
        </p:nvPicPr>
        <p:blipFill>
          <a:blip r:embed="rId2"/>
          <a:stretch/>
        </p:blipFill>
        <p:spPr>
          <a:xfrm>
            <a:off x="609480" y="3581280"/>
            <a:ext cx="3429000" cy="1600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1602720" y="525780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retin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9" name="Picture 30" descr="http://t2.gstatic.com/images?q=tbn:ANd9GcS4A4j2UbQvnh1oH6tyDTO1dlShkTf44DPgn7bjfAayslvLHDAFBQ"/>
          <p:cNvPicPr/>
          <p:nvPr/>
        </p:nvPicPr>
        <p:blipFill>
          <a:blip r:embed="rId3"/>
          <a:stretch/>
        </p:blipFill>
        <p:spPr>
          <a:xfrm>
            <a:off x="4572000" y="3581280"/>
            <a:ext cx="4057560" cy="16002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0"/>
          <p:cNvSpPr/>
          <p:nvPr/>
        </p:nvSpPr>
        <p:spPr>
          <a:xfrm>
            <a:off x="5945760" y="5181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itret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133720" y="5791320"/>
            <a:ext cx="48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d in treatment of psoriasi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3"/>
          <p:cNvSpPr/>
          <p:nvPr/>
        </p:nvSpPr>
        <p:spPr>
          <a:xfrm>
            <a:off x="609480" y="1295280"/>
            <a:ext cx="792504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s of alcoholic beverage are liable to vitamin A deficiency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taking some medications (birth control pills, methotrexate, drugs sequestering bile acids e.g.   cholestyramine or chitosa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ally ill people or recovering from surge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under cancer treatment (radiation and chemotherapy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s that may impair Vit. A balance (chronic diarrhea, cystic fibrosis, and kidney or liver diseas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GREATER RISK OF  DEVELOP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A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457200" y="685800"/>
            <a:ext cx="830592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a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re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more susceptible than adult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vitamin A toxic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 is a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atoge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high doses (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tha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000 μg retinol) may produce birth defec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ve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exposure for 1week in early pregna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t women should avoid excess intake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supplements and from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A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foods,  such as liver (100 g contain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rly 10000 μg retinol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ily dose should not exceed 2500 μg during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gnanc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better replaced by cartenoids (thei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to Vit. A in the body is tightl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ed, thus carotenes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produce vitam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oxicity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17280" y="304920"/>
            <a:ext cx="717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igns and Symptoms of Vitamin A toxicity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838080" y="1295280"/>
            <a:ext cx="746784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ne pain and joint swellin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sea , vomitting and diarrhoe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y skin and lip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los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 and blurred vi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argement of the liver and splee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thyroid activ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blood calciu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ug interactions with Vitamin 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retinoid medications has higher risk of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ulative toxicity with Vit. A supplem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neral oil impairs 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ll fat solubl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, including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erol-lowering drugs (e.g. cholestyramine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uminium-containing antacid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hibit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.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lcohol, barbiturates, caffeine, cortisone, tobacco,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very high levels of vitamin 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plet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. 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09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 use of alcohol and Vit. A together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th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ility of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amage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2"/>
          <p:cNvSpPr/>
          <p:nvPr/>
        </p:nvSpPr>
        <p:spPr>
          <a:xfrm>
            <a:off x="2514600" y="1981080"/>
            <a:ext cx="3886200" cy="22100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3288600" y="266688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X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ips to Remember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914400" y="160020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necessary dietary factors, 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d  by the body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ep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D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function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-fac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egulator) of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reactions in the bo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requirement of most vitamin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u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m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Vitam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088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are classified by the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logi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ill now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tamins are  universally recognized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- Fat soluble vitami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tinol, Retinal, Retino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t. D3: Cholecalciferol, Vit. D2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ocalciferol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cophero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. K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t. K1: Phylloquinones,Vit. K2: Menaquino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-Water soluble vitamins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B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(Thiam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(Riboflav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3 (Niac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5 (Pantothen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6 (Pyridoxi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9 (Fol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2 (Cyanocobalam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-228600" y="5168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C 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-Ascorbic ac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. H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t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676520" y="46080"/>
            <a:ext cx="6248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ole of Vitamins in Metabo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33520" y="96984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s have catalytic functions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-facto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etabolic reactions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 not act 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ing substanc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at is why the dail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 is very smal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each vitamin h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ry specific fun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abolis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erefore, its deficiency wil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rsely affect one or more biochemic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 in certain organs and ver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deficiency symptoms wil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027800" y="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ses of Vitamin Deficiency and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52280" y="533520"/>
            <a:ext cx="876312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vitamin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ny disease caused by chronic or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 vitamin deficiency or caused by a defect in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c conversion, such as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leads to well defined symptoms e.g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phthalmia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A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ket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ue to Vitamin D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lagra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B3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iberi </a:t>
            </a:r>
            <a:r>
              <a:rPr b="1" lang="it-IT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B1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urv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e to Vitamin C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)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ypovitaminos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Resulted from inadequate supply of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r more vitamins. It appears in the form of well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d symptoms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in chang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uce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lity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w resistance to infection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Uhu</dc:creator>
  <dc:description/>
  <dc:language>en-US</dc:language>
  <cp:lastModifiedBy>Mashal Almutairi</cp:lastModifiedBy>
  <dcterms:modified xsi:type="dcterms:W3CDTF">2015-11-09T04:49:33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