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17.jpeg" ContentType="image/jpeg"/>
  <Override PartName="/ppt/media/image12.gif" ContentType="image/gif"/>
  <Override PartName="/ppt/media/image22.jpeg" ContentType="image/jpeg"/>
  <Override PartName="/ppt/media/image21.jpeg" ContentType="image/jpeg"/>
  <Override PartName="/ppt/media/image54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9905-0454-4EFC-B5FC-DB24B76A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6DED-D8F3-46FE-AE1C-CB657E29E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D5D9-68DA-48A5-89EC-5BB9063147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700-57A0-4D4D-A869-BA65994D9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C772-2398-40E9-8402-6C06BEA7D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F04-11F8-46CA-90B3-26131FF1D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C630-BDBE-40E1-8D45-AC4A9C9B4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124-251C-4BA3-AB3F-3D12E1451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AFC-AE41-4153-9ECF-26D6D520D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7D25-19AF-465A-81CB-DB7EA5273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FA5F-0A08-4CED-9C59-434BD2839D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688-BA02-40DE-A60B-EF14A8A86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6B1-1523-40A3-8D7C-9C114ED60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F1F-8C9A-4BDF-92D9-EC0F26574C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393-394A-4A9D-8AAA-CE9BE6A3F1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F222-A79F-4F7A-86F5-0200768E48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7CF3-CB85-4E66-95D3-CFD8C3CD8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32C-5B8C-4C38-8BAA-B6C652D42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6FDC-00BE-49DF-9560-1C35C13F6F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BA7-5686-4D99-81BB-E8A0ABD9C2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080D-D7AA-4A28-AFA1-DCE12ECE1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B58F-B340-4AD3-A6C0-BFA3120F0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500-11DB-4427-8F11-AD0ABC111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ECF-D754-41B7-B71F-3C769EEBA6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F1B3-C25B-443C-9D4B-4A5CE22C27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7571-8539-4D56-BE47-D3A815DDD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698-0F13-4746-8151-F20999190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C4A-A68C-4C93-B5CA-E14A283D0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E59B-87F6-4819-907C-69BAD8FE0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EC7-9A47-484C-9811-C69E2BCA4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B84F-34C7-479F-AAA5-63B5833117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47B9-FE4F-4DFA-8EEE-535DEC293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34E-291B-417C-A4F7-DE1D3E84CD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331-878C-407D-B207-2973164AFD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A25-8318-4938-ABD5-614452366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0621-4284-4ACA-94EC-ECDD53667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62C-7012-4561-A424-DD3137877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51C2-42DC-4954-A528-82537D874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D45C-81A8-4084-A925-F18F78CA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78DB-83BD-4B08-AD1A-838E62F6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5793-6FE6-4425-9F9C-D626D20A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4882-410D-417B-818D-67BDB704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13D1-EF9C-4B90-B48F-717FB007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0A0E-2DC6-43E6-B622-642D179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415-2645-43AD-96C5-0E65647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D9A-262E-4316-980A-F097D14B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0B5-4AAF-42AF-8B91-5E1DB4B3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2A5-AE96-4543-A9BA-3EBF92DB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5E92-249C-4DCB-AB3A-C70D253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77A6-3867-4C62-97E6-287E9BB2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EC4-4C5B-425E-BCEC-7E0AE27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533-7FA0-48B4-959B-7D23807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9FE-9C98-406C-958C-AA54A08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14AA-D326-426B-A5DF-E6315BFD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22D8-C10B-454F-8842-453F01C0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9427-9B64-466F-A2D0-4E3B742E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F995-7B12-4771-AE44-B558905B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2FE6-EABA-48EA-A15C-AD12D577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E80F-99EE-4F14-8627-4E28648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0085-DB68-42DD-B5F1-5494AF4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69A5-4017-4CC4-BBA4-1F52896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2D6D-F2A1-4F84-AA99-D9DEAC7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B24-4BF9-418B-98B9-9C894B982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32EE-3B31-477D-BE90-68B308E66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21932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0666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Vitamin D, E &amp; 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386440" y="0"/>
            <a:ext cx="53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vitamins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762120" y="99072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Essential for normal bone growth during childhoo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or maintaining bone density and streng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dulthood (as it  increases Ca++ absorp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foods + increases Ca++ deposition into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leto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Integrated function with parathyroid hormone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ization of Ca++ level in bloo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Regulation of cell growth and development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ularly WBCs and epithelial cel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1066680"/>
            <a:ext cx="73915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. Older people (&gt; 50 years) due to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decrease of ability of sk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onvert 7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hydrocholesterol to pre-vitamin D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Newborn inf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absolutely breastfed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supplements be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the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does not contain significant level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vitami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. Women after labor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rum concen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D and Ca++ falls rapidl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304920" y="152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 AT GREATER RISK OF  DEVELOP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http://www.gateshead.gov.uk/images/Care/op.jpg"/>
          <p:cNvPicPr/>
          <p:nvPr/>
        </p:nvPicPr>
        <p:blipFill>
          <a:blip r:embed="rId1"/>
          <a:stretch/>
        </p:blipFill>
        <p:spPr>
          <a:xfrm>
            <a:off x="7772400" y="1676520"/>
            <a:ext cx="121932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www.ucl.ac.uk/news/news-articles/1009/newborn.jpeg"/>
          <p:cNvPicPr/>
          <p:nvPr/>
        </p:nvPicPr>
        <p:blipFill>
          <a:blip r:embed="rId2"/>
          <a:stretch/>
        </p:blipFill>
        <p:spPr>
          <a:xfrm>
            <a:off x="7780320" y="3657600"/>
            <a:ext cx="12873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www.freewebs.com/childbirthcompanion/DSC05931.JPG"/>
          <p:cNvPicPr/>
          <p:nvPr/>
        </p:nvPicPr>
        <p:blipFill>
          <a:blip r:embed="rId3"/>
          <a:stretch/>
        </p:blipFill>
        <p:spPr>
          <a:xfrm>
            <a:off x="7696080" y="5715000"/>
            <a:ext cx="1320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52280" y="380880"/>
            <a:ext cx="7162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Dark-skinned individua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be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lanin act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ke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-blo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rolonging the t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to generate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Obese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lower levels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ting form of vitamin D, probab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it is deposited in body f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es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s bioavailable vitam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Patients with chronic liver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bsorption or parathyroidectom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is found only in ani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ict vegetarian peop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the risk of deficiency if sun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ure is inadequa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209320" y="3657600"/>
            <a:ext cx="686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54" name="Picture 2" descr="pictures of very obese people 1"/>
          <p:cNvPicPr/>
          <p:nvPr/>
        </p:nvPicPr>
        <p:blipFill>
          <a:blip r:embed="rId1"/>
          <a:stretch/>
        </p:blipFill>
        <p:spPr>
          <a:xfrm>
            <a:off x="7543800" y="2438280"/>
            <a:ext cx="1143000" cy="110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3.gstatic.com/images?q=tbn:ANd9GcT6_9ALo-BGSnGqOlVYZ1U_By2rlXp8uyRmQmRsLyL8G0W6DU2FuQ&amp;t=1"/>
          <p:cNvPicPr/>
          <p:nvPr/>
        </p:nvPicPr>
        <p:blipFill>
          <a:blip r:embed="rId2"/>
          <a:stretch/>
        </p:blipFill>
        <p:spPr>
          <a:xfrm>
            <a:off x="7442280" y="762120"/>
            <a:ext cx="1323720" cy="99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t2.gstatic.com/images?q=tbn:ANd9GcRk2w6wtkc73SHg_Skn__HSSbsR5WpsLijgn_aS1XksuCYt4kec&amp;t=1"/>
          <p:cNvPicPr/>
          <p:nvPr/>
        </p:nvPicPr>
        <p:blipFill>
          <a:blip r:embed="rId3"/>
          <a:stretch/>
        </p:blipFill>
        <p:spPr>
          <a:xfrm>
            <a:off x="7620120" y="4191120"/>
            <a:ext cx="1143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diva.com/media/content/2011/Dec/imorove_eq_with_vegetarian_diet.jpg"/>
          <p:cNvPicPr/>
          <p:nvPr/>
        </p:nvPicPr>
        <p:blipFill>
          <a:blip r:embed="rId4"/>
          <a:stretch/>
        </p:blipFill>
        <p:spPr>
          <a:xfrm>
            <a:off x="7467480" y="541008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66680" y="1066680"/>
            <a:ext cx="73915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intake or malabsorpti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sun exposu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hepatic catabolism (e.g. due to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zing induction drug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endogenous synthesis (via 25-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ation in the liver and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1-hydroxylation in the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542240" y="304920"/>
            <a:ext cx="65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VITAMIN D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09480" y="9144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 deficiency causes several bone diseases, includ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icke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hildhood disease characteriz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ure of growth and deformity of long b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steoporosi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dition characteriz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ile bones due to decreased bone density.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agile bone       easily fractu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steomalacia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dult version of Rickets) 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of softening of bones due to defective bo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alization and characterised by proxim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ness and bone frag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487440" y="22860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CAUSED BY VITAMIN D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2" name="Straight Arrow Connector 7"/>
          <p:cNvCxnSpPr/>
          <p:nvPr/>
        </p:nvCxnSpPr>
        <p:spPr>
          <a:xfrm>
            <a:off x="3429000" y="4343400"/>
            <a:ext cx="5342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t2.gstatic.com/images?q=tbn:ANd9GcSS4kA5YASz9c5Evz9dPxzfFW-OZNansdAS03JUqgS_yzP6atZd&amp;t=1"/>
          <p:cNvPicPr/>
          <p:nvPr/>
        </p:nvPicPr>
        <p:blipFill>
          <a:blip r:embed="rId1"/>
          <a:stretch/>
        </p:blipFill>
        <p:spPr>
          <a:xfrm>
            <a:off x="304920" y="228600"/>
            <a:ext cx="5333760" cy="27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1.bp.blogspot.com/_uiyskjNZYt8/TNVhXJG_m0I/AAAAAAAACSQ/FzyBgbyDjB0/s1600/METABOLIC+BONE+DISEASE.jpg"/>
          <p:cNvPicPr/>
          <p:nvPr/>
        </p:nvPicPr>
        <p:blipFill>
          <a:blip r:embed="rId2"/>
          <a:stretch/>
        </p:blipFill>
        <p:spPr>
          <a:xfrm>
            <a:off x="5181480" y="3352680"/>
            <a:ext cx="3622680" cy="2801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572004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6" name="Straight Arrow Connector 7"/>
          <p:cNvCxnSpPr/>
          <p:nvPr/>
        </p:nvCxnSpPr>
        <p:spPr>
          <a:xfrm flipH="1" flipV="1">
            <a:off x="5790600" y="1980360"/>
            <a:ext cx="5338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7" name="Straight Arrow Connector 8"/>
          <p:cNvCxnSpPr/>
          <p:nvPr/>
        </p:nvCxnSpPr>
        <p:spPr>
          <a:xfrm flipV="1">
            <a:off x="6400800" y="1980360"/>
            <a:ext cx="381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8" name="TextBox 10"/>
          <p:cNvSpPr/>
          <p:nvPr/>
        </p:nvSpPr>
        <p:spPr>
          <a:xfrm>
            <a:off x="1692000" y="62485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6487920" y="62485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teomala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2" descr="http://www.howtogetridofstuff.com/wp-content/uploads/how-to-get-rid-of-rickets.jpg"/>
          <p:cNvPicPr/>
          <p:nvPr/>
        </p:nvPicPr>
        <p:blipFill>
          <a:blip r:embed="rId3"/>
          <a:stretch/>
        </p:blipFill>
        <p:spPr>
          <a:xfrm>
            <a:off x="6843600" y="533520"/>
            <a:ext cx="2148120" cy="245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http://www.seifmedgraphics.com/seifstore/images/M11.jpg"/>
          <p:cNvPicPr/>
          <p:nvPr/>
        </p:nvPicPr>
        <p:blipFill>
          <a:blip r:embed="rId4"/>
          <a:stretch/>
        </p:blipFill>
        <p:spPr>
          <a:xfrm>
            <a:off x="304920" y="3322800"/>
            <a:ext cx="46479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2212200" y="15228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ENERAL USES OF VITAMIN 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33520" y="730080"/>
            <a:ext cx="815328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rophylaxis and treatment of osteoporos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 of calcium depletion. Treatment requi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ing both calcium and vitamin 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Trteatment of Osteomalacia and ri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Vitamin D also has a role in cancer preven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lon cancer, breast and prostate cancer).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of Tamoxifen (Chemotherapeutic agent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s to be improved with small added do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eatment of hearing lo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ed from vitamin 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that affect the function of small bon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ear responsible sound transm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3"/>
          <p:cNvSpPr/>
          <p:nvPr/>
        </p:nvSpPr>
        <p:spPr>
          <a:xfrm>
            <a:off x="3505320" y="3962520"/>
            <a:ext cx="2666880" cy="25905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0" y="152280"/>
            <a:ext cx="754380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bination with phosphate to treat som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diseases a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nconi syndrom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ial hypophosphatemia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anconi syndrome: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disorder in which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ximal tubular  function of the kidney i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resulting in decreased re-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 and nutrients back into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stream (compounds involved includ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cose, amino acids, uric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osphate and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carbonate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http://www.pathguy.com/lectures/fanconi1.gif"/>
          <p:cNvPicPr/>
          <p:nvPr/>
        </p:nvPicPr>
        <p:blipFill>
          <a:blip r:embed="rId1"/>
          <a:stretch/>
        </p:blipFill>
        <p:spPr>
          <a:xfrm>
            <a:off x="3886200" y="3962520"/>
            <a:ext cx="2125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540800" y="15228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ERACTIONS WITH VITAMIN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28600" y="838080"/>
            <a:ext cx="86868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absorption of vitamin D is impro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alcium, choline, fats, phosphorus, vitamins A and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fampin, H2 blockers, barbiturates, heparin, cholestyramine, carbamazepine, phenytoin, fosphenytoin, and phenobarbit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 serum levels of vitamin D and increase its metabolis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use of mineral oi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timulant laxatives ma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lete vitamin 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eoporosis and hypocalcaemia can result fro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longed use of corticostero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is necessary to take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ium and vitamin D together with corticosteroid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2726280" y="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DOSAGE FO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2" descr="http://1.bp.blogspot.com/_9mNHNOMqaqM/SgMs1leJ3AI/AAAAAAAACTg/ZCwf4vYonhY/s400/VitaminD1.jpg"/>
          <p:cNvPicPr/>
          <p:nvPr/>
        </p:nvPicPr>
        <p:blipFill>
          <a:blip r:embed="rId1"/>
          <a:stretch/>
        </p:blipFill>
        <p:spPr>
          <a:xfrm>
            <a:off x="152280" y="4114800"/>
            <a:ext cx="3200400" cy="2495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ANd9GcSYO1600Tw4sMy092YfTrk_CGrZMXxqtZu3nIwNsnlmhI_wnNpUUw&amp;t=1"/>
          <p:cNvPicPr/>
          <p:nvPr/>
        </p:nvPicPr>
        <p:blipFill>
          <a:blip r:embed="rId2"/>
          <a:stretch/>
        </p:blipFill>
        <p:spPr>
          <a:xfrm>
            <a:off x="380880" y="838080"/>
            <a:ext cx="1648080" cy="27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kenoath.files.wordpress.com/2008/06/pd_cough_syrup_070816_ms.jpg"/>
          <p:cNvPicPr/>
          <p:nvPr/>
        </p:nvPicPr>
        <p:blipFill>
          <a:blip r:embed="rId3"/>
          <a:stretch/>
        </p:blipFill>
        <p:spPr>
          <a:xfrm>
            <a:off x="2590920" y="838080"/>
            <a:ext cx="334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http://i.ehow.com/images/GlobalPhoto/Articles/4947989/avoidtheswineflucitrus_Full.jpg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http://t1.gstatic.com/images?q=tbn:ANd9GcS2CQcdC7AgVSZzUAyp8EXKnIWZx1Jl-_hdygMvEp_9o5MMg8E7eQ&amp;t=1"/>
          <p:cNvPicPr/>
          <p:nvPr/>
        </p:nvPicPr>
        <p:blipFill>
          <a:blip r:embed="rId5"/>
          <a:stretch/>
        </p:blipFill>
        <p:spPr>
          <a:xfrm>
            <a:off x="6095880" y="849240"/>
            <a:ext cx="2824200" cy="2427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http://t3.gstatic.com/images?q=tbn:ANd9GcR23yUICoKxCf9b1xuOVYYi5jX1pYzRaR5Z9N9qBSrELc3v1B0m&amp;t=1"/>
          <p:cNvPicPr/>
          <p:nvPr/>
        </p:nvPicPr>
        <p:blipFill>
          <a:blip r:embed="rId6"/>
          <a:stretch/>
        </p:blipFill>
        <p:spPr>
          <a:xfrm>
            <a:off x="3581280" y="4114800"/>
            <a:ext cx="201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304920" y="4952880"/>
            <a:ext cx="2286000" cy="1703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3431880" y="4208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39" descr="Vitamin D is a necessity for increasing children Vitamin D is a necessity for increasing children"/>
          <p:cNvPicPr/>
          <p:nvPr/>
        </p:nvPicPr>
        <p:blipFill>
          <a:blip r:embed="rId2"/>
          <a:stretch/>
        </p:blipFill>
        <p:spPr>
          <a:xfrm>
            <a:off x="2895480" y="1523880"/>
            <a:ext cx="3419640" cy="472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ttp://medicalimages.allrefer.com/large/vitamin-d-source.jpg"/>
          <p:cNvPicPr/>
          <p:nvPr/>
        </p:nvPicPr>
        <p:blipFill>
          <a:blip r:embed="rId3"/>
          <a:stretch/>
        </p:blipFill>
        <p:spPr>
          <a:xfrm>
            <a:off x="304920" y="1143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t3.gstatic.com/images?q=tbn:ANd9GcSS1KQ00hFdjT-WYVb4ytUG1NSMwMFStuzRFY0jcdaFwK1DL9Yuzg&amp;t=1"/>
          <p:cNvPicPr/>
          <p:nvPr/>
        </p:nvPicPr>
        <p:blipFill>
          <a:blip r:embed="rId4"/>
          <a:stretch/>
        </p:blipFill>
        <p:spPr>
          <a:xfrm>
            <a:off x="6629400" y="46483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t1.gstatic.com/images?q=tbn:ANd9GcSniErFI8b4-7iDR8JkO8Zg5dWiEvThbCJ6d_TKJDAlr1NIQIiG&amp;t=1"/>
          <p:cNvPicPr/>
          <p:nvPr/>
        </p:nvPicPr>
        <p:blipFill>
          <a:blip r:embed="rId5"/>
          <a:stretch/>
        </p:blipFill>
        <p:spPr>
          <a:xfrm>
            <a:off x="6629400" y="1219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149400" y="-1805040"/>
            <a:ext cx="571500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6" descr="http://topnews.in/files/Liver.jpg"/>
          <p:cNvPicPr/>
          <p:nvPr/>
        </p:nvPicPr>
        <p:blipFill>
          <a:blip r:embed="rId6"/>
          <a:stretch/>
        </p:blipFill>
        <p:spPr>
          <a:xfrm>
            <a:off x="228600" y="3124080"/>
            <a:ext cx="23623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Fat Soluble Vitami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858000" y="10666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http://0.tqn.com/d/chemistry/1/0/Y/R/1/alpha-tocopherol.jpg"/>
          <p:cNvPicPr/>
          <p:nvPr/>
        </p:nvPicPr>
        <p:blipFill>
          <a:blip r:embed="rId2"/>
          <a:stretch/>
        </p:blipFill>
        <p:spPr>
          <a:xfrm>
            <a:off x="2362320" y="4648320"/>
            <a:ext cx="4267080" cy="1218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http://t2.gstatic.com/images?q=tbn:ANd9GcS-SF7A4_CjOkgyaUKEUKB8rC6io05lAijyufoPIE_2ODA-jpgW"/>
          <p:cNvPicPr/>
          <p:nvPr/>
        </p:nvPicPr>
        <p:blipFill>
          <a:blip r:embed="rId4"/>
          <a:stretch/>
        </p:blipFill>
        <p:spPr>
          <a:xfrm>
            <a:off x="228600" y="3809880"/>
            <a:ext cx="2057400" cy="208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http://t3.gstatic.com/images?q=tbn:ANd9GcTe8NZp-2yO2ZFc2cCalIElS3vI7riWXa8TT-lnMoAyeTg7v2hZ"/>
          <p:cNvPicPr/>
          <p:nvPr/>
        </p:nvPicPr>
        <p:blipFill>
          <a:blip r:embed="rId5"/>
          <a:stretch/>
        </p:blipFill>
        <p:spPr>
          <a:xfrm>
            <a:off x="6781680" y="3886200"/>
            <a:ext cx="221004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http://i.telegraph.co.uk/multimedia/archive/01237/vegetable_basket_1237717c.jpg"/>
          <p:cNvPicPr/>
          <p:nvPr/>
        </p:nvPicPr>
        <p:blipFill>
          <a:blip r:embed="rId6"/>
          <a:stretch/>
        </p:blipFill>
        <p:spPr>
          <a:xfrm>
            <a:off x="152280" y="10666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3426120" y="1066680"/>
            <a:ext cx="24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4520" y="609120"/>
            <a:ext cx="876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general term used for a group of compounds (α, β, γ, and δ-tocopherols) having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man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ng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yl side ch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5" descr="http://0.tqn.com/d/chemistry/1/0/Y/R/1/alpha-tocopherol.jpg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2076480"/>
          </a:xfrm>
          <a:prstGeom prst="rect">
            <a:avLst/>
          </a:prstGeom>
          <a:ln w="0">
            <a:noFill/>
          </a:ln>
        </p:spPr>
      </p:pic>
      <p:sp>
        <p:nvSpPr>
          <p:cNvPr id="196" name="Right Brace 4"/>
          <p:cNvSpPr/>
          <p:nvPr/>
        </p:nvSpPr>
        <p:spPr>
          <a:xfrm rot="5400000">
            <a:off x="1676160" y="2971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209680"/>
              <a:gd name="textAreaBottom" fmla="*/ 22039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ight Brace 5"/>
          <p:cNvSpPr/>
          <p:nvPr/>
        </p:nvSpPr>
        <p:spPr>
          <a:xfrm rot="5400000">
            <a:off x="5486040" y="1447560"/>
            <a:ext cx="228600" cy="52578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257800"/>
              <a:gd name="textAreaBottom" fmla="*/ 525204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16200" y="10800"/>
                  <a:pt x="21600" y="10800"/>
                </a:cubicBezTo>
                <a:cubicBezTo>
                  <a:pt x="162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844560" y="4191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manol Gro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729680" y="41911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yl side cha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4602240"/>
          <a:ext cx="5333760" cy="210348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on of Methyl groups on aromatic 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copherol 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,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l-GR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ocophe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201" name="TextBox 10"/>
          <p:cNvSpPr/>
          <p:nvPr/>
        </p:nvSpPr>
        <p:spPr>
          <a:xfrm>
            <a:off x="228600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666880" y="2286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823120" y="2971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278440" y="3276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1438560" y="3227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98316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1440360" y="21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2590200" y="2514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5827680" y="2313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4266360" y="2313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5943600" y="457200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-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ocopherol Equival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E) = 1 mg = 1.5 I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ed daily amou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30 IU = 20 m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doses are allowed (saf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2971800" y="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E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57200" y="76320"/>
            <a:ext cx="815328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abundant and active form of vitamin E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-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copherol (</a:t>
            </a:r>
            <a:r>
              <a:rPr b="0" lang="el-GR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-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R-tocopherol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ve activities of the tocopherols var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ably and thus vitamin E activity shou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ed to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α-tocophero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ybean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a higher total tocopherol content th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flower oil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the vitamin E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ya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-tocoph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ile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nflower oi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the vitamin E i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α-tocopherol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the sunflower oil a greater level of vitamin E activ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362320"/>
          <a:ext cx="7239240" cy="2315880"/>
        </p:xfrm>
        <a:graphic>
          <a:graphicData uri="http://schemas.openxmlformats.org/drawingml/2006/table">
            <a:tbl>
              <a:tblPr/>
              <a:tblGrid>
                <a:gridCol w="3178440"/>
                <a:gridCol w="4060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itamin E fo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lative Biological A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α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β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γ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δ</a:t>
                      </a:r>
                      <a:r>
                        <a:rPr b="1" lang="el-GR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ocoph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3128760" y="0"/>
            <a:ext cx="364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609480"/>
            <a:ext cx="815328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sources of vitamin E (d-RRR-α-tocopherol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getable oils from see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unflower, Cottonseed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ttu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processed grai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tic sources </a:t>
            </a:r>
            <a:r>
              <a:rPr b="0" lang="ar-SA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cemic-tocophero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rmacokinetics of Vitamin 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intestinal absorption of all forms of vitamin E 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sequent biological steps are sharply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our of the RRR form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ular liver transfer protein that mainta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lasma level is specific for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RR for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α-tocophero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7" name="Straight Arrow Connector 5"/>
          <p:cNvCxnSpPr/>
          <p:nvPr/>
        </p:nvCxnSpPr>
        <p:spPr>
          <a:xfrm>
            <a:off x="3276720" y="3276720"/>
            <a:ext cx="8388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218" name="Picture 4" descr="http://t2.gstatic.com/images?q=tbn:ANd9GcRhzfPIwqtUhqMkjdPCPg-MMC4ecMxoLgR5bslacIHD67o4_8RMLg&amp;t=1"/>
          <p:cNvPicPr/>
          <p:nvPr/>
        </p:nvPicPr>
        <p:blipFill>
          <a:blip r:embed="rId1"/>
          <a:stretch/>
        </p:blipFill>
        <p:spPr>
          <a:xfrm>
            <a:off x="7696080" y="11430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http://t2.gstatic.com/images?q=tbn:ANd9GcTa_jCUX2lrtQbwEfOEAHw6LGAXCAb3hKJm-8CnaFYmAJtXmDsRLA&amp;t=1"/>
          <p:cNvPicPr/>
          <p:nvPr/>
        </p:nvPicPr>
        <p:blipFill>
          <a:blip r:embed="rId2"/>
          <a:stretch/>
        </p:blipFill>
        <p:spPr>
          <a:xfrm>
            <a:off x="6400800" y="2133720"/>
            <a:ext cx="1143000" cy="97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static.howstuffworks.com/gif/vitamin-e-benefit-skin-1.jpg"/>
          <p:cNvPicPr/>
          <p:nvPr/>
        </p:nvPicPr>
        <p:blipFill>
          <a:blip r:embed="rId3"/>
          <a:stretch/>
        </p:blipFill>
        <p:spPr>
          <a:xfrm>
            <a:off x="6400800" y="11430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http://static.howstuffworks.com/gif/adam/images/en/vitamin-e-source-picture.jpg"/>
          <p:cNvPicPr/>
          <p:nvPr/>
        </p:nvPicPr>
        <p:blipFill>
          <a:blip r:embed="rId4"/>
          <a:stretch/>
        </p:blipFill>
        <p:spPr>
          <a:xfrm>
            <a:off x="7696080" y="2133720"/>
            <a:ext cx="123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4300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52280" y="609480"/>
            <a:ext cx="8686800" cy="60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tioxidant ac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copherols (Vitamin E) interrupt free radical chain reactions by capturing the free radical (free radical scavanger); this imparts to them their antioxidant properti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vitamin E protects the cells, with other nutrient (e.g. Vitamin C and Selenium) against the harmful free radicals formed during metabolism of fatty ac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ree hydroxyl group on the aromatic ring is responsible for the antioxidant properties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hydrogen from this group is easily donated to the free radical, resulting in a relatively stable free radical form of the vit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www.intechopen.com/source/html/39566/media/image7.jpeg"/>
          <p:cNvPicPr/>
          <p:nvPr/>
        </p:nvPicPr>
        <p:blipFill>
          <a:blip r:embed="rId1"/>
          <a:stretch/>
        </p:blipFill>
        <p:spPr>
          <a:xfrm>
            <a:off x="533520" y="28195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life-enhancement.com/images/LEM1007Redox500.gif"/>
          <p:cNvPicPr/>
          <p:nvPr/>
        </p:nvPicPr>
        <p:blipFill>
          <a:blip r:embed="rId2"/>
          <a:stretch/>
        </p:blipFill>
        <p:spPr>
          <a:xfrm>
            <a:off x="5029200" y="28195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churchandstate.org.uk/wordpressRM/wp-content/uploads/2013/02/radicals.jpg"/>
          <p:cNvPicPr/>
          <p:nvPr/>
        </p:nvPicPr>
        <p:blipFill>
          <a:blip r:embed="rId3"/>
          <a:stretch/>
        </p:blipFill>
        <p:spPr>
          <a:xfrm>
            <a:off x="533520" y="152280"/>
            <a:ext cx="4343400" cy="2616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www.arkworld.net/images/free_radicals.gif"/>
          <p:cNvPicPr/>
          <p:nvPr/>
        </p:nvPicPr>
        <p:blipFill>
          <a:blip r:embed="rId4"/>
          <a:stretch/>
        </p:blipFill>
        <p:spPr>
          <a:xfrm>
            <a:off x="5029200" y="22860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3505320" y="6553080"/>
            <a:ext cx="2133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Box 37"/>
          <p:cNvSpPr/>
          <p:nvPr/>
        </p:nvSpPr>
        <p:spPr>
          <a:xfrm>
            <a:off x="307440" y="7621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Antithrombotic ac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066680" y="156528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slows down the ac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 blood clotting protein) and reduces platelet aggregation by inhibit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oxa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lthough vitamin E is 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ur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thinn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it does not increase risk of bleeding in healthy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533520" y="990720"/>
            <a:ext cx="8076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rdiovascular disease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angina pectoris and venous thrombosis): It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idation of cholesterol in LDL and VLDL particles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coronary heart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34" name="Straight Arrow Connector 2"/>
          <p:cNvCxnSpPr/>
          <p:nvPr/>
        </p:nvCxnSpPr>
        <p:spPr>
          <a:xfrm>
            <a:off x="1447560" y="182880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Straight Arrow Connector 4"/>
          <p:cNvCxnSpPr/>
          <p:nvPr/>
        </p:nvCxnSpPr>
        <p:spPr>
          <a:xfrm flipH="1">
            <a:off x="2285640" y="22860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Straight Arrow Connector 7"/>
          <p:cNvCxnSpPr/>
          <p:nvPr/>
        </p:nvCxnSpPr>
        <p:spPr>
          <a:xfrm>
            <a:off x="1523520" y="2437920"/>
            <a:ext cx="6087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Rectangle 8"/>
          <p:cNvSpPr/>
          <p:nvPr/>
        </p:nvSpPr>
        <p:spPr>
          <a:xfrm>
            <a:off x="533520" y="2803680"/>
            <a:ext cx="8229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emia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unctions as an antioxidant, enhancing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and durability of RBCs and stabilizes their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ranes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s of hemolytic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kle-cell 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38" name="Straight Arrow Connector 7"/>
          <p:cNvCxnSpPr/>
          <p:nvPr/>
        </p:nvCxnSpPr>
        <p:spPr>
          <a:xfrm>
            <a:off x="3124080" y="4266720"/>
            <a:ext cx="9151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9" name="Straight Arrow Connector 11"/>
          <p:cNvCxnSpPr/>
          <p:nvPr/>
        </p:nvCxnSpPr>
        <p:spPr>
          <a:xfrm flipH="1">
            <a:off x="4190760" y="41148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Rectangle 12"/>
          <p:cNvSpPr/>
          <p:nvPr/>
        </p:nvSpPr>
        <p:spPr>
          <a:xfrm>
            <a:off x="533520" y="4952880"/>
            <a:ext cx="8229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mmunity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  resistance to viral and bacterial infections and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tibody production by WBCs and  phagocytosis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1" name="Straight Arrow Connector 13"/>
          <p:cNvCxnSpPr/>
          <p:nvPr/>
        </p:nvCxnSpPr>
        <p:spPr>
          <a:xfrm flipV="1">
            <a:off x="2055960" y="54860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2" name="Straight Arrow Connector 14"/>
          <p:cNvCxnSpPr/>
          <p:nvPr/>
        </p:nvCxnSpPr>
        <p:spPr>
          <a:xfrm flipV="1">
            <a:off x="1447920" y="59432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3" name="Straight Arrow Connector 15"/>
          <p:cNvCxnSpPr/>
          <p:nvPr/>
        </p:nvCxnSpPr>
        <p:spPr>
          <a:xfrm flipV="1">
            <a:off x="6780240" y="59432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4" name="Rectangle 1"/>
          <p:cNvSpPr/>
          <p:nvPr/>
        </p:nvSpPr>
        <p:spPr>
          <a:xfrm>
            <a:off x="780480" y="168840"/>
            <a:ext cx="77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E as prophylaxis and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33520" y="457200"/>
            <a:ext cx="80010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lzheimer’s disease (AD) and memory los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an   progression of AD and  help main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function through decreasing oxidativ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age to neur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6" name="Straight Arrow Connector 2"/>
          <p:cNvCxnSpPr/>
          <p:nvPr/>
        </p:nvCxnSpPr>
        <p:spPr>
          <a:xfrm>
            <a:off x="2666520" y="106668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7" name="Rectangle 4"/>
          <p:cNvSpPr/>
          <p:nvPr/>
        </p:nvSpPr>
        <p:spPr>
          <a:xfrm>
            <a:off x="533520" y="2365200"/>
            <a:ext cx="655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ye Disease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oxidative damage to the lens,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of cataract. It also  incidenc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macular degener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48" name="Straight Arrow Connector 5"/>
          <p:cNvCxnSpPr/>
          <p:nvPr/>
        </p:nvCxnSpPr>
        <p:spPr>
          <a:xfrm>
            <a:off x="1980720" y="28195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9" name="Straight Arrow Connector 6"/>
          <p:cNvCxnSpPr/>
          <p:nvPr/>
        </p:nvCxnSpPr>
        <p:spPr>
          <a:xfrm>
            <a:off x="1447560" y="3276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0" name="Straight Arrow Connector 7"/>
          <p:cNvCxnSpPr/>
          <p:nvPr/>
        </p:nvCxnSpPr>
        <p:spPr>
          <a:xfrm>
            <a:off x="5638320" y="3276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51" name="Picture 13" descr="http://t1.gstatic.com/images?q=tbn:ANd9GcQ2fOOcMujzy2w2NJoOOS8w-tkkJsfKpx6g_3qVBm0V5yiCuNDoqw&amp;t=1"/>
          <p:cNvPicPr/>
          <p:nvPr/>
        </p:nvPicPr>
        <p:blipFill>
          <a:blip r:embed="rId1"/>
          <a:stretch/>
        </p:blipFill>
        <p:spPr>
          <a:xfrm>
            <a:off x="7238880" y="28195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609480" y="419112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. Rheumatic disorders and pains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cts as free radical scavenger and so as anti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ory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gesic. It can joi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mation and stiffness in osteoarthriti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eumatoid arthriti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3" name="Straight Arrow Connector 10"/>
          <p:cNvCxnSpPr/>
          <p:nvPr/>
        </p:nvCxnSpPr>
        <p:spPr>
          <a:xfrm>
            <a:off x="7848360" y="502920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533520" y="380880"/>
            <a:ext cx="8001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tection and treatment of canc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intakes of vitamin E helps  risk of cancer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, breast, lung, esophagus, and stoma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t ca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acy of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ation treatment and protec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cells against damage dur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therap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5" name="Straight Arrow Connector 2"/>
          <p:cNvCxnSpPr/>
          <p:nvPr/>
        </p:nvCxnSpPr>
        <p:spPr>
          <a:xfrm>
            <a:off x="5714640" y="990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Straight Arrow Connector 3"/>
          <p:cNvCxnSpPr/>
          <p:nvPr/>
        </p:nvCxnSpPr>
        <p:spPr>
          <a:xfrm flipV="1">
            <a:off x="1447920" y="167616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7" name="Rectangle 4"/>
          <p:cNvSpPr/>
          <p:nvPr/>
        </p:nvSpPr>
        <p:spPr>
          <a:xfrm>
            <a:off x="533520" y="2514600"/>
            <a:ext cx="8076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kin Car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pplied topically to abrasions, wounds, or bur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car formation and contraction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healing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8" name="Straight Arrow Connector 18"/>
          <p:cNvCxnSpPr/>
          <p:nvPr/>
        </p:nvCxnSpPr>
        <p:spPr>
          <a:xfrm>
            <a:off x="1599840" y="3579840"/>
            <a:ext cx="686520" cy="2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9" name="Rectangle 6"/>
          <p:cNvSpPr/>
          <p:nvPr/>
        </p:nvSpPr>
        <p:spPr>
          <a:xfrm>
            <a:off x="618840" y="415620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patoprotectiv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09480" y="4919760"/>
            <a:ext cx="800100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orders of premature infant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isk of hemolytic anemia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pulmonary dysplasia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 inflammation and scarring in the lu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61" name="Straight Arrow Connector 8"/>
          <p:cNvCxnSpPr/>
          <p:nvPr/>
        </p:nvCxnSpPr>
        <p:spPr>
          <a:xfrm>
            <a:off x="2285640" y="5562720"/>
            <a:ext cx="10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“Vitamin D” refers to a family of related compounds biosynthesized fro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ero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gosterol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(cholecalciferol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ynthesized fro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dehydrocholesterol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sun-exposed skin and found  naturally in animal products such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ggs, fish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iv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2 (ergocalciferol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other form of vitamin D  synthesized by certa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gi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s used in many supple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2288880" y="152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62120" y="914400"/>
            <a:ext cx="7848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 is well-tolerate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side effects are rar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at doses of (up to 2000 mg/day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ever, in some individuals who are vitamin K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t, vitamin E may increase the risk fo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rrhage or bleed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taking anticoagulant drugs should also b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tious with high do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with diabetes should be cautious when start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oses of vitamin E because it may enhanc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tion of insulin but, rare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85800" y="34596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developing vitamin E deficien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57200" y="1047600"/>
            <a:ext cx="815328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peopl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 not obtain adequate dietary vitamin 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 depends more on processed f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refined flour and white rice lose nearly all of original vitamin present in whole grai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ho consume much of polyunsaturated fatty aci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FAs) as in USA and Europe need more vitamin E to protect PUFAs in their tissues from oxidation particularly if dietary intake of vitamin E is margina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born and premature infa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t high risk for deficiency due to their poor ability to absorb vitamin E and very limited tissue reserves of vitamin 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3"/>
          <p:cNvSpPr/>
          <p:nvPr/>
        </p:nvSpPr>
        <p:spPr>
          <a:xfrm>
            <a:off x="1149840" y="7632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and Herbal Interactions with Vitamin 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3520" y="750960"/>
            <a:ext cx="81532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can alter the efficacy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agula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increas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eeding tim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tient taking herb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ations a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verfew or 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ngko biloba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rgan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on supplem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vitamin E, s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s taking iron supplements should space ou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ir doses (e.g., iron in the morning and vitamin 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evening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dose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can decreas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cohol and mineral oi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reduce vitamin 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, and these substances should be avoide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tamin E deficient individu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8120" y="274320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K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Picture 2" descr="http://t1.gstatic.com/images?q=tbn:ANd9GcRwg-Fyg68GWiQUNvevhU-BSobldYEvfr4tq4EYfmglSnu3uQMSVw"/>
          <p:cNvPicPr/>
          <p:nvPr/>
        </p:nvPicPr>
        <p:blipFill>
          <a:blip r:embed="rId1"/>
          <a:stretch/>
        </p:blipFill>
        <p:spPr>
          <a:xfrm>
            <a:off x="6248520" y="990720"/>
            <a:ext cx="2590560" cy="160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Foods Containing Vitamin K"/>
          <p:cNvPicPr/>
          <p:nvPr/>
        </p:nvPicPr>
        <p:blipFill>
          <a:blip r:embed="rId2"/>
          <a:stretch/>
        </p:blipFill>
        <p:spPr>
          <a:xfrm>
            <a:off x="6172200" y="4724280"/>
            <a:ext cx="271476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http://t3.gstatic.com/images?q=tbn:ANd9GcTVeSFySuSBLz7sh9yHPW3bY18yv-EP-CuzBovf0GFcyaU3aBFT&amp;t=1"/>
          <p:cNvPicPr/>
          <p:nvPr/>
        </p:nvPicPr>
        <p:blipFill>
          <a:blip r:embed="rId3"/>
          <a:stretch/>
        </p:blipFill>
        <p:spPr>
          <a:xfrm>
            <a:off x="304920" y="1143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photos.demandstudios.com/41/185/fotolia_7437336_XS.jpg"/>
          <p:cNvPicPr/>
          <p:nvPr/>
        </p:nvPicPr>
        <p:blipFill>
          <a:blip r:embed="rId4"/>
          <a:stretch/>
        </p:blipFill>
        <p:spPr>
          <a:xfrm>
            <a:off x="6248520" y="2819520"/>
            <a:ext cx="2590560" cy="158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http://t0.gstatic.com/images?q=tbn:ANd9GcRNa9xnGh0v-fF4GbZCCOT4iESd5ih6WtlPJlLvOZ9IVzbA6OI52g"/>
          <p:cNvPicPr/>
          <p:nvPr/>
        </p:nvPicPr>
        <p:blipFill>
          <a:blip r:embed="rId5"/>
          <a:stretch/>
        </p:blipFill>
        <p:spPr>
          <a:xfrm>
            <a:off x="380880" y="4191120"/>
            <a:ext cx="26672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ounded Rectangle 19"/>
          <p:cNvSpPr/>
          <p:nvPr/>
        </p:nvSpPr>
        <p:spPr>
          <a:xfrm>
            <a:off x="3124080" y="5584680"/>
            <a:ext cx="57150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609480"/>
            <a:ext cx="8076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oup of compounds derived from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methyl-1,4-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phthoquinone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act as antihemorrhagic factor in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rds and mammals. There are three forms of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K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1 (Phylloquinone) fou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nt food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K2 (Menaquinone)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animal and bacterial sourc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tic Vitamin </a:t>
            </a:r>
            <a:r>
              <a:rPr b="0" lang="fi-FI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3 (Menadione</a:t>
            </a:r>
            <a:r>
              <a:rPr b="0" lang="fi-FI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3349440" y="0"/>
            <a:ext cx="24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394200" y="5072040"/>
            <a:ext cx="218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6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hylloquinon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3731400" y="5029200"/>
            <a:ext cx="23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enaquinone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152280" y="5791320"/>
            <a:ext cx="2743200" cy="5806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ercial infant formula contain 50- 125 </a:t>
            </a:r>
            <a:r>
              <a:rPr b="1" lang="el-GR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μ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6719040" y="5029200"/>
            <a:ext cx="1879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it. K</a:t>
            </a:r>
            <a:r>
              <a:rPr b="0" lang="en-US" sz="16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enadion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132000" y="5562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Recommend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Daily amount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5410080" y="55627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New born: 500- 1000 μg on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1- 6 Months: 5 m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6- 12 Months: 15 mg/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Adult: 80 mg/Kg (body weight) / da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Right Arrow 20"/>
          <p:cNvSpPr/>
          <p:nvPr/>
        </p:nvSpPr>
        <p:spPr>
          <a:xfrm>
            <a:off x="4876920" y="5813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17" descr="http://content.answcdn.com/main/content/img/oxford/oxfordBiochemistry/0198529171.menadione.1.jpg"/>
          <p:cNvPicPr/>
          <p:nvPr/>
        </p:nvPicPr>
        <p:blipFill>
          <a:blip r:embed="rId1"/>
          <a:stretch/>
        </p:blipFill>
        <p:spPr>
          <a:xfrm>
            <a:off x="152280" y="1905120"/>
            <a:ext cx="1295640" cy="1133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2"/>
          <p:cNvSpPr/>
          <p:nvPr/>
        </p:nvSpPr>
        <p:spPr>
          <a:xfrm>
            <a:off x="7560" y="29718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methyl-1,4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phthoquin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19" descr="http://0.tqn.com/d/chemistry/1/0/h/R/1/Phylloquinone.jpg"/>
          <p:cNvPicPr/>
          <p:nvPr/>
        </p:nvPicPr>
        <p:blipFill>
          <a:blip r:embed="rId2"/>
          <a:stretch/>
        </p:blipFill>
        <p:spPr>
          <a:xfrm>
            <a:off x="152280" y="4191120"/>
            <a:ext cx="2743200" cy="90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This is the chemical structure of menaquinone-4."/>
          <p:cNvPicPr/>
          <p:nvPr/>
        </p:nvPicPr>
        <p:blipFill>
          <a:blip r:embed="rId3"/>
          <a:stretch/>
        </p:blipFill>
        <p:spPr>
          <a:xfrm>
            <a:off x="3352680" y="4191120"/>
            <a:ext cx="3048120" cy="904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3" descr="http://themedicalbiochemistrypage.org/images/vitamink3.jpg"/>
          <p:cNvPicPr/>
          <p:nvPr/>
        </p:nvPicPr>
        <p:blipFill>
          <a:blip r:embed="rId4"/>
          <a:stretch/>
        </p:blipFill>
        <p:spPr>
          <a:xfrm>
            <a:off x="6934320" y="419112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2286360" y="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57200" y="63828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ods rich in Vitamin K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, Green cabbage, Turnip, Parsley, lettuce, beef liver, green tea (in decreasing order) etc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1" name="Picture 4" descr="Foods Containing Vitamin K"/>
          <p:cNvPicPr/>
          <p:nvPr/>
        </p:nvPicPr>
        <p:blipFill>
          <a:blip r:embed="rId1"/>
          <a:stretch/>
        </p:blipFill>
        <p:spPr>
          <a:xfrm>
            <a:off x="533520" y="2133720"/>
            <a:ext cx="1904760" cy="1496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http://photos.demandstudios.com/41/185/fotolia_7437336_XS.jpg"/>
          <p:cNvPicPr/>
          <p:nvPr/>
        </p:nvPicPr>
        <p:blipFill>
          <a:blip r:embed="rId2"/>
          <a:stretch/>
        </p:blipFill>
        <p:spPr>
          <a:xfrm>
            <a:off x="3276720" y="43434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>
            <a:off x="919440" y="3581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13" descr="http://www.asia.ru/images/target/photo/51017994/Cabbage__green_.jpg"/>
          <p:cNvPicPr/>
          <p:nvPr/>
        </p:nvPicPr>
        <p:blipFill>
          <a:blip r:embed="rId3"/>
          <a:stretch/>
        </p:blipFill>
        <p:spPr>
          <a:xfrm>
            <a:off x="3276720" y="2133720"/>
            <a:ext cx="1904760" cy="1447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1"/>
          <p:cNvSpPr/>
          <p:nvPr/>
        </p:nvSpPr>
        <p:spPr>
          <a:xfrm>
            <a:off x="3588480" y="35053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cabba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5" descr="http://suttons.s3.amazonaws.com/p/VETUR21137_3.jpg"/>
          <p:cNvPicPr/>
          <p:nvPr/>
        </p:nvPicPr>
        <p:blipFill>
          <a:blip r:embed="rId4"/>
          <a:stretch/>
        </p:blipFill>
        <p:spPr>
          <a:xfrm>
            <a:off x="6324480" y="213372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3"/>
          <p:cNvSpPr/>
          <p:nvPr/>
        </p:nvSpPr>
        <p:spPr>
          <a:xfrm>
            <a:off x="6706080" y="3505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i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17" descr="http://img.xcitefun.net/users/2010/03/153670,xcitefun-parsley-3.jpg"/>
          <p:cNvPicPr/>
          <p:nvPr/>
        </p:nvPicPr>
        <p:blipFill>
          <a:blip r:embed="rId5"/>
          <a:stretch/>
        </p:blipFill>
        <p:spPr>
          <a:xfrm>
            <a:off x="457200" y="4343400"/>
            <a:ext cx="1981080" cy="1657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5"/>
          <p:cNvSpPr/>
          <p:nvPr/>
        </p:nvSpPr>
        <p:spPr>
          <a:xfrm>
            <a:off x="842760" y="6019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sle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90880" y="6019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 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19" descr="http://www.hangthebankers.com/wp-content/uploads/2012/06/healthy-green-tea-stops-cancer.jpg"/>
          <p:cNvPicPr/>
          <p:nvPr/>
        </p:nvPicPr>
        <p:blipFill>
          <a:blip r:embed="rId6"/>
          <a:stretch/>
        </p:blipFill>
        <p:spPr>
          <a:xfrm>
            <a:off x="6400800" y="434340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7091280" y="60199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te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ile:Menadione.png"/>
          <p:cNvPicPr/>
          <p:nvPr/>
        </p:nvPicPr>
        <p:blipFill>
          <a:blip r:embed="rId1"/>
          <a:stretch/>
        </p:blipFill>
        <p:spPr>
          <a:xfrm>
            <a:off x="6188040" y="907920"/>
            <a:ext cx="2595600" cy="52182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2140920" y="0"/>
            <a:ext cx="56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Activity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380880" y="685800"/>
            <a:ext cx="862488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is maximum wh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A and Ring B are aromat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A is not substitu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 group at C-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aturation of phytyl side cha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is decreased wh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kyl group larger than Methyl at C-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 group 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lation or saturation or cis-configu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phytyl side chain at C-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tivity not affecte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positions 1 and 4 are substituted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H, O-Ac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=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6592680" y="198108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581960" y="1981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7728480" y="1371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8185680" y="2286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81856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70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7728480" y="26668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2376720" y="76320"/>
            <a:ext cx="43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tabolism of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533520" y="762120"/>
            <a:ext cx="800100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 of Vit. K3 ( menadione) excreted in urine in 24 hr in the form of sulphate, phosphate and glucuronic acid conjug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 % excreted in faces as glucuronic acid conjug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 K2 and K3 undergo slower metabolism to shorten the side chain to 5- 7 carbons carboxyla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1824480" y="3851280"/>
            <a:ext cx="585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K deficienc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533520" y="4537080"/>
            <a:ext cx="8076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ontrolled internal bleed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tilage calcification and malformation of developing bo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osition of insoluble calcium salts in the arterial vessel wa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57200" y="762120"/>
            <a:ext cx="80773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basic factors needed to prevent vitamin K deficiency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diet containing the vit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sence of bile in the intest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intestinal uptake or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rmal liver i.e. no interference with vitamin K metabolism or use of vitamin K antagonists therapeutically or accident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airs the liver’s ability to produce vitamin K-dependent coagulation factors and impair recycling of vitamin K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609480" y="990720"/>
            <a:ext cx="815364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born infants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exclusively breastfed are susceptible to abnormal bleeding due to vitamin K deficiency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 milk contains very little vitamin K and the immature liver of the newborn 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synthesize the vitamin K-dependent clotting factors efficiently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because the newborn’s colon is sterile for the first few days after birth, 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bacterial synthesis of vitamin K occurs in the colon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duce the risk of vitamin K deficiency, most babies receive intramuscular vitamin K at birt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57200" y="1522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developing  Vitamin K deficienc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457200"/>
          <a:ext cx="8153280" cy="585324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5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Cholecalciferol)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    D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rgocalciferol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    D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ynthesized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ound in plant li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Naturally derived supp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ynthetically derived supp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ignificantly increases  vitamin D levels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Moderately increases vitamin D levels in the bod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Recommended by experts for optimal bone and immune sup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Alternative form appropriate for vegetari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1523880" y="1015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K 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457200" y="609480"/>
            <a:ext cx="8153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K1 and K2 are non-toxic in large do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K3 (the synthetic one) is toxic in doses thre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more than the usual do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manifestation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bilirubi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e Jaundic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m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999080" y="3809880"/>
            <a:ext cx="55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Interaction with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57200" y="4267080"/>
            <a:ext cx="8381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Some interactions may increase the need for vitam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iotic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vent absorption and kill normal bacterial folr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onvulsant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Phenytoin : Affect Vit K metabolism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2678040" y="76320"/>
            <a:ext cx="402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K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457200" y="609480"/>
            <a:ext cx="830592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ved a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arboxylation of certa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tamate residues in protei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for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γ- carboxyglutamate residues (Gla-residues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a-residues are usually involved in binding calc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are essential for the following biological activiti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coagu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of proteins that are part of the coagulation cascade in the blood. Several proteins promote coagulation  (prothrombin, VII, IX, X) while others slow it down (proteins C and S). Thus, activity of vitamin K balances the two opposing sides of coagulation system in bloo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one metabol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e Gla-protein (Osteocalcin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ulate incorporation of  calcium Phosphate into bo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rix GLA protein (MGP)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earance of extracellular Calcium to protect against soft tissue calcific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838080" y="1027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le acid sequestra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yramine)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pir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absorp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685800" y="22096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ght Loss Produc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itosan, Orlistat, and olestra): Affect absorption as they prevent absorption of fa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eral oil laxati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absorp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rays and Radi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plete vitamin 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s and raise vitamin K require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057400" y="1219320"/>
            <a:ext cx="5105520" cy="4343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2990520" y="2743200"/>
            <a:ext cx="351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7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838080" y="838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preferred form f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s as its bioavailability i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ic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2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absorption from foods or production in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, vitamin D is stored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-hydroxy-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 in the live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en needed by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, it is then activated by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dney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 - di hydroxy vitamin D3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B: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 healthy liver and kidneys are essential f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ptimum vitamin D stat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7"/>
          <p:cNvSpPr/>
          <p:nvPr/>
        </p:nvSpPr>
        <p:spPr>
          <a:xfrm>
            <a:off x="937440" y="0"/>
            <a:ext cx="703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synthesis and Activation of Vitam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1" lang="en-US" sz="3200" spc="-1" strike="noStrike" u="sng" baseline="-25000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8" descr="http://www.dentistry.leeds.ac.uk/biochem/lecture/nutritio/vitd.gif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602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914400" y="6324480"/>
            <a:ext cx="220032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095880" y="6324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</a:rPr>
              <a:t>Stored in Li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228600"/>
            <a:ext cx="830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aily Requirment = 10μg vitamin D = 400 IU vitamin D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Vitamin D metabolism"/>
          <p:cNvPicPr/>
          <p:nvPr/>
        </p:nvPicPr>
        <p:blipFill>
          <a:blip r:embed="rId1"/>
          <a:stretch/>
        </p:blipFill>
        <p:spPr>
          <a:xfrm>
            <a:off x="4419720" y="990720"/>
            <a:ext cx="4471920" cy="541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9" descr="Vitamin D is a necessity for increasing children Vitamin D is a necessity for increasing children"/>
          <p:cNvPicPr/>
          <p:nvPr/>
        </p:nvPicPr>
        <p:blipFill>
          <a:blip r:embed="rId2"/>
          <a:stretch/>
        </p:blipFill>
        <p:spPr>
          <a:xfrm>
            <a:off x="304920" y="990720"/>
            <a:ext cx="38098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7" descr="http://www.cyberlipid.org/images/pict44.gif"/>
          <p:cNvPicPr/>
          <p:nvPr/>
        </p:nvPicPr>
        <p:blipFill>
          <a:blip r:embed="rId1"/>
          <a:stretch/>
        </p:blipFill>
        <p:spPr>
          <a:xfrm>
            <a:off x="228600" y="762120"/>
            <a:ext cx="3581280" cy="5410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13" descr="http://www.nature.com/nrc/journal/v7/n9/images/nrc2196-f1.jpg"/>
          <p:cNvPicPr/>
          <p:nvPr/>
        </p:nvPicPr>
        <p:blipFill>
          <a:blip r:embed="rId2"/>
          <a:stretch/>
        </p:blipFill>
        <p:spPr>
          <a:xfrm>
            <a:off x="4038480" y="685800"/>
            <a:ext cx="4876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1" descr="http://1.bp.blogspot.com/-V4x8n9nMx0g/TnrIjWD11JI/AAAAAAAAAsc/pwnbJmUtm-0/s1600/calc-reg.jpg"/>
          <p:cNvPicPr/>
          <p:nvPr/>
        </p:nvPicPr>
        <p:blipFill>
          <a:blip r:embed="rId1"/>
          <a:stretch/>
        </p:blipFill>
        <p:spPr>
          <a:xfrm>
            <a:off x="2362320" y="3048120"/>
            <a:ext cx="579096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600120"/>
            <a:ext cx="80010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lcium metabolism (main func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regulates Ca++ levels in the blood and tissues. A fall in blood Ca++    stimulate active 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D production    stimulates Ca++ 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food +     release of Ca++ from bones +    renal excretion of Ca++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285280" y="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42" name="Straight Arrow Connector 5"/>
          <p:cNvCxnSpPr/>
          <p:nvPr/>
        </p:nvCxnSpPr>
        <p:spPr>
          <a:xfrm>
            <a:off x="4572000" y="1905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3" name="Straight Arrow Connector 9"/>
          <p:cNvCxnSpPr/>
          <p:nvPr/>
        </p:nvCxnSpPr>
        <p:spPr>
          <a:xfrm>
            <a:off x="2514240" y="2286000"/>
            <a:ext cx="305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4" name="Straight Arrow Connector 10"/>
          <p:cNvCxnSpPr/>
          <p:nvPr/>
        </p:nvCxnSpPr>
        <p:spPr>
          <a:xfrm flipV="1">
            <a:off x="990720" y="2514600"/>
            <a:ext cx="2160" cy="29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5" name="Straight Arrow Connector 13"/>
          <p:cNvCxnSpPr/>
          <p:nvPr/>
        </p:nvCxnSpPr>
        <p:spPr>
          <a:xfrm>
            <a:off x="5637600" y="2437920"/>
            <a:ext cx="1080" cy="3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1-09T05:23:41Z</dcterms:modified>
  <cp:revision>4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