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17.jpeg" ContentType="image/jpeg"/>
  <Override PartName="/ppt/media/image12.gif" ContentType="image/gif"/>
  <Override PartName="/ppt/media/image22.jpeg" ContentType="image/jpeg"/>
  <Override PartName="/ppt/media/image21.jpeg" ContentType="image/jpeg"/>
  <Override PartName="/ppt/media/image54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6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8.jpeg" ContentType="image/jpeg"/>
  <Override PartName="/ppt/media/image39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3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F6D1-8D04-485D-A76E-15AEEBD24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FCCC-F29C-49E0-8110-28BC7CA57C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00E0-1BA5-4C3E-817E-981BD900DE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1A46-EDC4-44FE-8110-F60066BF47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1B5D-9036-4E31-BDF6-82984F77A9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9D38-B7F1-4E6B-BB62-6CEDC80998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AEFA-3F05-42EC-B806-CA4BCC2EF7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FD91-2336-455C-BB50-13FAB9BF5C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B70E-0438-422F-A203-DF7A440B1D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D8DF-8E4D-4793-A392-96C30348EF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BD71-64D5-4576-B7F4-B82286D8CA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9684-5CC1-4FFE-B06B-A70BEC5ACF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BDBF-1292-42C4-8D71-9187FBB54B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11DE-8143-4190-97E6-1F291AF2B1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8C38-7015-4383-A9E2-B6FEE51350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ant to first start off by defining what is considered or meant by “misuse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Virtually any Rx and OTC drug can be mis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isuse is considered to be using Rx and OTC drugs for non-medical purposes – in other words - any use that is outside of a medically prescribed regi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9B15-E484-4F5C-A986-7FD6685DCD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00B0-8DC8-4F96-89D2-D47024884C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9199-1F4E-4DEC-83A4-C21FDE5E73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0509-368E-47FC-A562-ED566F4943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egories of prescription drugs most widely used as illicit intoxicants and broadly recorded in many of the pertinent databases are: opiates, sedatives/ tranquilizers, and stimu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ly misused prescription drugs can be classified into the following 3 clas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oids used to treat pain – some examples include Vicodin, Tylenol with Codeine, OxyContin, and Percoc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S Depressants used to treat sleep disorders and anxiety disorders – some examples include: barbiturates, benzodiazepines, and brands such as Klonopin, Nembutal, Soma, Valium, and Xan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timulants: mainly prescribed to treat ADHD, including amphetamines, methylphenidate, and brands such as Adderall, Concerta, Dexedrine, and Ritalin. weight loss also abuse prescription stimulants such as Dexedrine and fas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FF4E-621B-434A-A767-63C16D1B84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188A-3EBA-4FA9-A466-24FAFC0B06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04F7-3381-4CEE-A677-4D17E333B5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ant to first start off by defining what is considered or meant by “misuse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Virtually any Rx and OTC drug can be mis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isuse is considered to be using Rx and OTC drugs for non-medical purposes – in other words - any use that is outside of a medically prescribed regi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7C0E-456E-4B01-883E-928A87D0AE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57A9-8E35-4D7F-BB2B-CAE50B81C2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EA20-DAC4-412A-A352-13A82FC338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B25B-6738-4D6C-8C4C-7547023ABF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CD1A-6962-4226-8908-8FBA2FA8EA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ECF5-2AC1-4DB6-8F33-A3A7CD5A4B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D97D-AFED-436C-96D6-B10053119A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7BCE-B8BD-492A-8891-1BC3707223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2DBB-B1E0-4B70-BCCF-08D8B072D0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8F6B-9572-40E2-B894-1E457081B3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6D5B-E383-4391-91F9-CD718B3238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70BA-DC08-4F04-BFF0-B58A47F457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2123-2C8C-428D-B1C2-82650D3035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egories of prescription drugs most widely used as illicit intoxicants and broadly recorded in many of the pertinent databases are: opiates, sedatives/ tranquilizers, and stimu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ly misused prescription drugs can be classified into the following 3 clas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oids used to treat pain – some examples include Vicodin, Tylenol with Codeine, OxyContin, and Percoc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S Depressants used to treat sleep disorders and anxiety disorders – some examples include: barbiturates, benzodiazepines, and brands such as Klonopin, Nembutal, Soma, Valium, and Xan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timulants: mainly prescribed to treat ADHD, including amphetamines, methylphenidate, and brands such as Adderall, Concerta, Dexedrine, and Ritalin. weight loss also abuse prescription stimulants such as Dexedrine and fas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A963-9110-462E-87BC-2987BA8893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510A-3FCB-4B96-9A53-3099BCB6B5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3EFF-0C2C-43CC-8E7B-359CB6D7BB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16D4-013F-4FC2-A0A2-93B07269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2209-294A-4630-A20E-38ADCBE2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7FF0-AD13-4E83-BE24-DACEC08E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0268-02D3-4FE2-83B1-E9426F40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CA50-17AD-4590-9F69-12AC35E1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4277-8347-442D-8640-CD6C1384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DB01-3CE1-49C6-A847-9D310C04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AA47-FE91-4473-B329-F48ED4E6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95D1-FB2A-4A61-A10E-E7C5A2A8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3E2D-6064-489F-9B2B-16AEFDDE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311F-9CDD-417D-8F6B-9D856C4B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F3A8-9377-4F42-9111-62CAD1F2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CA9D-D4B8-4EC8-A9A1-D2C29DBE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B0A9-CE80-4F18-9817-0C449FEF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D723-7387-452C-93C1-1776CDE0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EB7A-6961-4863-A98D-1858375F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F4DD-C842-475A-A680-89EBEE3F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75C1-AAF4-4547-B59B-711304B7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4B5C-7095-4B71-944D-297E247C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83477-FC0F-4F60-93FE-1D2704CE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8C1C-070E-45A5-B23A-7E159898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A602-9C3C-4DD6-A61E-198F007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3A16-ABFB-48A1-A75A-02C970FF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2413-6EEC-4383-92B6-7F587828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0938-C348-4873-AACF-301CBDCD47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2061-8875-455E-984B-CFB94127EF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1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6095880" y="4648320"/>
            <a:ext cx="2552760" cy="1650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http://t2.gstatic.com/images?q=tbn:ANd9GcRuBTQrMX4h6yObFroUhzMzvJfomYg8D2XsHXjZUW4t7Mhkge-5"/>
          <p:cNvPicPr/>
          <p:nvPr/>
        </p:nvPicPr>
        <p:blipFill>
          <a:blip r:embed="rId2"/>
          <a:stretch/>
        </p:blipFill>
        <p:spPr>
          <a:xfrm>
            <a:off x="6324480" y="1219320"/>
            <a:ext cx="2362320" cy="156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http://t3.gstatic.com/images?q=tbn:ANd9GcRcfwBdpjqOTRabsWfhz3rjhkRgS-6GLFOW1sq6QSA9OZIaiypkUw"/>
          <p:cNvPicPr/>
          <p:nvPr/>
        </p:nvPicPr>
        <p:blipFill>
          <a:blip r:embed="rId3"/>
          <a:stretch/>
        </p:blipFill>
        <p:spPr>
          <a:xfrm>
            <a:off x="533520" y="10666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http://www.breadoflifevitamins.com/images/vitamins_orange.jpg"/>
          <p:cNvPicPr/>
          <p:nvPr/>
        </p:nvPicPr>
        <p:blipFill>
          <a:blip r:embed="rId4"/>
          <a:stretch/>
        </p:blipFill>
        <p:spPr>
          <a:xfrm>
            <a:off x="609480" y="4419720"/>
            <a:ext cx="2590920" cy="1806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Vitamin D, E &amp; 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386440" y="0"/>
            <a:ext cx="53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t soluble vitamins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762120" y="990720"/>
            <a:ext cx="7772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Essential for normal bone growth during childhood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or maintaining bone density and streng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adulthood (as it  increases Ca++ absorp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foods + increases Ca++ deposition into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eleton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Integrated function with parathyroid hormone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ization of Ca++ level in bloo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Regulation of cell growth and development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rticularly WBCs and epithelial cell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80880" y="1066680"/>
            <a:ext cx="739152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. Older people (&gt; 50 years) due to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decrease of ability of sk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onvert 7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hydrocholesterol to pre-vitamin D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. Newborn infan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are absolutely breastfed requi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D supplements becaus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the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k does not contain significant level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the vitami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. Women after labor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rum concentr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amin D and Ca++ falls rapidl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304920" y="1522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 AT GREATER RISK OF  DEVELOPING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ITAMIN 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5" descr="http://www.gateshead.gov.uk/images/Care/op.jpg"/>
          <p:cNvPicPr/>
          <p:nvPr/>
        </p:nvPicPr>
        <p:blipFill>
          <a:blip r:embed="rId1"/>
          <a:stretch/>
        </p:blipFill>
        <p:spPr>
          <a:xfrm>
            <a:off x="7772400" y="1676520"/>
            <a:ext cx="121932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http://www.ucl.ac.uk/news/news-articles/1009/newborn.jpeg"/>
          <p:cNvPicPr/>
          <p:nvPr/>
        </p:nvPicPr>
        <p:blipFill>
          <a:blip r:embed="rId2"/>
          <a:stretch/>
        </p:blipFill>
        <p:spPr>
          <a:xfrm>
            <a:off x="7780320" y="3657600"/>
            <a:ext cx="128736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http://www.freewebs.com/childbirthcompanion/DSC05931.JPG"/>
          <p:cNvPicPr/>
          <p:nvPr/>
        </p:nvPicPr>
        <p:blipFill>
          <a:blip r:embed="rId3"/>
          <a:stretch/>
        </p:blipFill>
        <p:spPr>
          <a:xfrm>
            <a:off x="7696080" y="5715000"/>
            <a:ext cx="1320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152280" y="380880"/>
            <a:ext cx="7162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Dark-skinned individua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qui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D becaus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lanin act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ke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n-bloc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rolonging the tim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to generate vitamin 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Obese peop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lower levels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ting form of vitamin D, probab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it is deposited in body f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es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s bioavailable vitam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Patients with chronic liver dise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bsorption or parathyroidectom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D is found only in anim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ds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ict vegetarian peop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the risk of deficiency if sunligh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ure is inadequa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209320" y="3657600"/>
            <a:ext cx="686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54" name="Picture 2" descr="pictures of very obese people 1"/>
          <p:cNvPicPr/>
          <p:nvPr/>
        </p:nvPicPr>
        <p:blipFill>
          <a:blip r:embed="rId1"/>
          <a:stretch/>
        </p:blipFill>
        <p:spPr>
          <a:xfrm>
            <a:off x="7543800" y="2438280"/>
            <a:ext cx="1143000" cy="110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t3.gstatic.com/images?q=tbn:ANd9GcT6_9ALo-BGSnGqOlVYZ1U_By2rlXp8uyRmQmRsLyL8G0W6DU2FuQ&amp;t=1"/>
          <p:cNvPicPr/>
          <p:nvPr/>
        </p:nvPicPr>
        <p:blipFill>
          <a:blip r:embed="rId2"/>
          <a:stretch/>
        </p:blipFill>
        <p:spPr>
          <a:xfrm>
            <a:off x="7442280" y="762120"/>
            <a:ext cx="1323720" cy="99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://t2.gstatic.com/images?q=tbn:ANd9GcRk2w6wtkc73SHg_Skn__HSSbsR5WpsLijgn_aS1XksuCYt4kec&amp;t=1"/>
          <p:cNvPicPr/>
          <p:nvPr/>
        </p:nvPicPr>
        <p:blipFill>
          <a:blip r:embed="rId3"/>
          <a:stretch/>
        </p:blipFill>
        <p:spPr>
          <a:xfrm>
            <a:off x="7620120" y="4191120"/>
            <a:ext cx="1143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http://idiva.com/media/content/2011/Dec/imorove_eq_with_vegetarian_diet.jpg"/>
          <p:cNvPicPr/>
          <p:nvPr/>
        </p:nvPicPr>
        <p:blipFill>
          <a:blip r:embed="rId4"/>
          <a:stretch/>
        </p:blipFill>
        <p:spPr>
          <a:xfrm>
            <a:off x="7467480" y="5410080"/>
            <a:ext cx="1447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66680" y="1066680"/>
            <a:ext cx="73915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d intake or malabsorptio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sun exposur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hepatic catabolism (e.g. due to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zing induction drug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d endogenous synthesis (via 25-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ylation in the liver and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quent 1-hydroxylation in the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dney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1542240" y="304920"/>
            <a:ext cx="65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USES OF VITAMIN D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09480" y="914400"/>
            <a:ext cx="8001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 deficiency causes several bone diseases, includ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icket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childhood disease characteriz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lure of growth and deformity of long b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steoporosis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ndition characteriz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gile bones due to decreased bone density.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agile bone       easily fractur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steomalacia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dult version of Rickets) i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of softening of bones due to defective bo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eralization and characterised by proxim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ness and bone fragi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487440" y="228600"/>
            <a:ext cx="84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SEASES CAUSED BY VITAMIN D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62" name="Straight Arrow Connector 7"/>
          <p:cNvCxnSpPr/>
          <p:nvPr/>
        </p:nvCxnSpPr>
        <p:spPr>
          <a:xfrm>
            <a:off x="3429000" y="4343400"/>
            <a:ext cx="5342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t2.gstatic.com/images?q=tbn:ANd9GcSS4kA5YASz9c5Evz9dPxzfFW-OZNansdAS03JUqgS_yzP6atZd&amp;t=1"/>
          <p:cNvPicPr/>
          <p:nvPr/>
        </p:nvPicPr>
        <p:blipFill>
          <a:blip r:embed="rId1"/>
          <a:stretch/>
        </p:blipFill>
        <p:spPr>
          <a:xfrm>
            <a:off x="304920" y="228600"/>
            <a:ext cx="5333760" cy="2760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1.bp.blogspot.com/_uiyskjNZYt8/TNVhXJG_m0I/AAAAAAAACSQ/FzyBgbyDjB0/s1600/METABOLIC+BONE+DISEASE.jpg"/>
          <p:cNvPicPr/>
          <p:nvPr/>
        </p:nvPicPr>
        <p:blipFill>
          <a:blip r:embed="rId2"/>
          <a:stretch/>
        </p:blipFill>
        <p:spPr>
          <a:xfrm>
            <a:off x="5181480" y="3352680"/>
            <a:ext cx="3622680" cy="28018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5720040" y="160020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cke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66" name="Straight Arrow Connector 7"/>
          <p:cNvCxnSpPr/>
          <p:nvPr/>
        </p:nvCxnSpPr>
        <p:spPr>
          <a:xfrm flipH="1" flipV="1">
            <a:off x="5790600" y="1980360"/>
            <a:ext cx="5338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7" name="Straight Arrow Connector 8"/>
          <p:cNvCxnSpPr/>
          <p:nvPr/>
        </p:nvCxnSpPr>
        <p:spPr>
          <a:xfrm flipV="1">
            <a:off x="6400800" y="1980360"/>
            <a:ext cx="3816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68" name="TextBox 10"/>
          <p:cNvSpPr/>
          <p:nvPr/>
        </p:nvSpPr>
        <p:spPr>
          <a:xfrm>
            <a:off x="1692000" y="624852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6487920" y="62485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steomalac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12" descr="http://www.howtogetridofstuff.com/wp-content/uploads/how-to-get-rid-of-rickets.jpg"/>
          <p:cNvPicPr/>
          <p:nvPr/>
        </p:nvPicPr>
        <p:blipFill>
          <a:blip r:embed="rId3"/>
          <a:stretch/>
        </p:blipFill>
        <p:spPr>
          <a:xfrm>
            <a:off x="6843600" y="533520"/>
            <a:ext cx="2148120" cy="2457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http://www.seifmedgraphics.com/seifstore/images/M11.jpg"/>
          <p:cNvPicPr/>
          <p:nvPr/>
        </p:nvPicPr>
        <p:blipFill>
          <a:blip r:embed="rId4"/>
          <a:stretch/>
        </p:blipFill>
        <p:spPr>
          <a:xfrm>
            <a:off x="304920" y="3322800"/>
            <a:ext cx="46479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2212200" y="15228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GENERAL USES OF VITAMIN 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33520" y="730080"/>
            <a:ext cx="815328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Prophylaxis and treatment of osteoporosi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 of calcium depletion. Treatment requi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ing both calcium and vitamin 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Trteatment of Osteomalacia and rick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Vitamin D also has a role in cancer preven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lon cancer, breast and prostate cancer).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of Tamoxifen (Chemotherapeutic agent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s to be improved with small added dos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amin 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Treatment of hearing lo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ed from vitamin 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ency that affect the function of small bon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ear responsible sound transmi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ounded Rectangle 3"/>
          <p:cNvSpPr/>
          <p:nvPr/>
        </p:nvSpPr>
        <p:spPr>
          <a:xfrm>
            <a:off x="3505320" y="3962520"/>
            <a:ext cx="2666880" cy="25905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0" y="152280"/>
            <a:ext cx="754380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bination with phosphate to treat som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c diseases as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nconi syndrom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milial hypophosphatemia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anconi syndrome: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disorder in which th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ximal tubular  function of the kidney is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resulting in decreased re-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 of 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lytes and nutrients back into th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stream (compounds involved includ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ucose, amino acids, uric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id,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osphate and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carbonate)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4" descr="http://www.pathguy.com/lectures/fanconi1.gif"/>
          <p:cNvPicPr/>
          <p:nvPr/>
        </p:nvPicPr>
        <p:blipFill>
          <a:blip r:embed="rId1"/>
          <a:stretch/>
        </p:blipFill>
        <p:spPr>
          <a:xfrm>
            <a:off x="3886200" y="3962520"/>
            <a:ext cx="2125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1540800" y="15228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NTERACTIONS WITH VITAMIN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228600" y="838080"/>
            <a:ext cx="868680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absorption of vitamin D is impro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calcium, choline, fats, phosphorus, vitamins A and 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 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fampin, H2 blockers, barbiturates, heparin, cholestyramine, carbamazepine, phenytoin, fosphenytoin, and phenobarbital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 serum levels of vitamin D and increase its metabolis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use of mineral oi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timulant laxatives ma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plete vitamin 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eoporosis and hypocalcaemia can result fro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longed use of corticosteroi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t is necessary to take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ium and vitamin D together with corticosteroid drug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2726280" y="0"/>
            <a:ext cx="37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DOSAGE FOR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2" descr="http://1.bp.blogspot.com/_9mNHNOMqaqM/SgMs1leJ3AI/AAAAAAAACTg/ZCwf4vYonhY/s400/VitaminD1.jpg"/>
          <p:cNvPicPr/>
          <p:nvPr/>
        </p:nvPicPr>
        <p:blipFill>
          <a:blip r:embed="rId1"/>
          <a:stretch/>
        </p:blipFill>
        <p:spPr>
          <a:xfrm>
            <a:off x="152280" y="4114800"/>
            <a:ext cx="3200400" cy="2495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t2.gstatic.com/images?q=tbn:ANd9GcSYO1600Tw4sMy092YfTrk_CGrZMXxqtZu3nIwNsnlmhI_wnNpUUw&amp;t=1"/>
          <p:cNvPicPr/>
          <p:nvPr/>
        </p:nvPicPr>
        <p:blipFill>
          <a:blip r:embed="rId2"/>
          <a:stretch/>
        </p:blipFill>
        <p:spPr>
          <a:xfrm>
            <a:off x="380880" y="838080"/>
            <a:ext cx="1648080" cy="278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ttp://kenoath.files.wordpress.com/2008/06/pd_cough_syrup_070816_ms.jpg"/>
          <p:cNvPicPr/>
          <p:nvPr/>
        </p:nvPicPr>
        <p:blipFill>
          <a:blip r:embed="rId3"/>
          <a:stretch/>
        </p:blipFill>
        <p:spPr>
          <a:xfrm>
            <a:off x="2590920" y="838080"/>
            <a:ext cx="334944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http://i.ehow.com/images/GlobalPhoto/Articles/4947989/avoidtheswineflucitrus_Full.jpg"/>
          <p:cNvPicPr/>
          <p:nvPr/>
        </p:nvPicPr>
        <p:blipFill>
          <a:blip r:embed="rId4"/>
          <a:stretch/>
        </p:blipFill>
        <p:spPr>
          <a:xfrm>
            <a:off x="571500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http://t1.gstatic.com/images?q=tbn:ANd9GcS2CQcdC7AgVSZzUAyp8EXKnIWZx1Jl-_hdygMvEp_9o5MMg8E7eQ&amp;t=1"/>
          <p:cNvPicPr/>
          <p:nvPr/>
        </p:nvPicPr>
        <p:blipFill>
          <a:blip r:embed="rId5"/>
          <a:stretch/>
        </p:blipFill>
        <p:spPr>
          <a:xfrm>
            <a:off x="6095880" y="849240"/>
            <a:ext cx="2824200" cy="2427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http://t3.gstatic.com/images?q=tbn:ANd9GcR23yUICoKxCf9b1xuOVYYi5jX1pYzRaR5Z9N9qBSrELc3v1B0m&amp;t=1"/>
          <p:cNvPicPr/>
          <p:nvPr/>
        </p:nvPicPr>
        <p:blipFill>
          <a:blip r:embed="rId6"/>
          <a:stretch/>
        </p:blipFill>
        <p:spPr>
          <a:xfrm>
            <a:off x="3581280" y="4114800"/>
            <a:ext cx="2017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304920" y="4952880"/>
            <a:ext cx="2286000" cy="1703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3431880" y="42084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39" descr="Vitamin D is a necessity for increasing children Vitamin D is a necessity for increasing children"/>
          <p:cNvPicPr/>
          <p:nvPr/>
        </p:nvPicPr>
        <p:blipFill>
          <a:blip r:embed="rId2"/>
          <a:stretch/>
        </p:blipFill>
        <p:spPr>
          <a:xfrm>
            <a:off x="2895480" y="1523880"/>
            <a:ext cx="3419640" cy="472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http://medicalimages.allrefer.com/large/vitamin-d-source.jpg"/>
          <p:cNvPicPr/>
          <p:nvPr/>
        </p:nvPicPr>
        <p:blipFill>
          <a:blip r:embed="rId3"/>
          <a:stretch/>
        </p:blipFill>
        <p:spPr>
          <a:xfrm>
            <a:off x="304920" y="11430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ttp://t3.gstatic.com/images?q=tbn:ANd9GcSS1KQ00hFdjT-WYVb4ytUG1NSMwMFStuzRFY0jcdaFwK1DL9Yuzg&amp;t=1"/>
          <p:cNvPicPr/>
          <p:nvPr/>
        </p:nvPicPr>
        <p:blipFill>
          <a:blip r:embed="rId4"/>
          <a:stretch/>
        </p:blipFill>
        <p:spPr>
          <a:xfrm>
            <a:off x="6629400" y="46483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http://t1.gstatic.com/images?q=tbn:ANd9GcSniErFI8b4-7iDR8JkO8Zg5dWiEvThbCJ6d_TKJDAlr1NIQIiG&amp;t=1"/>
          <p:cNvPicPr/>
          <p:nvPr/>
        </p:nvPicPr>
        <p:blipFill>
          <a:blip r:embed="rId5"/>
          <a:stretch/>
        </p:blipFill>
        <p:spPr>
          <a:xfrm>
            <a:off x="6629400" y="12193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149400" y="-1805040"/>
            <a:ext cx="571500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16" descr="http://topnews.in/files/Liver.jpg"/>
          <p:cNvPicPr/>
          <p:nvPr/>
        </p:nvPicPr>
        <p:blipFill>
          <a:blip r:embed="rId6"/>
          <a:stretch/>
        </p:blipFill>
        <p:spPr>
          <a:xfrm>
            <a:off x="228600" y="3124080"/>
            <a:ext cx="23623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Fat Soluble Vitami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7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6858000" y="1066680"/>
            <a:ext cx="1943280" cy="1551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http://0.tqn.com/d/chemistry/1/0/Y/R/1/alpha-tocopherol.jpg"/>
          <p:cNvPicPr/>
          <p:nvPr/>
        </p:nvPicPr>
        <p:blipFill>
          <a:blip r:embed="rId2"/>
          <a:stretch/>
        </p:blipFill>
        <p:spPr>
          <a:xfrm>
            <a:off x="2362320" y="4648320"/>
            <a:ext cx="4267080" cy="1218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"/>
          <p:cNvPicPr/>
          <p:nvPr/>
        </p:nvPicPr>
        <p:blipFill>
          <a:blip r:embed="rId3"/>
          <a:stretch/>
        </p:blipFill>
        <p:spPr>
          <a:xfrm>
            <a:off x="2819520" y="2209680"/>
            <a:ext cx="3352680" cy="2210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http://t2.gstatic.com/images?q=tbn:ANd9GcS-SF7A4_CjOkgyaUKEUKB8rC6io05lAijyufoPIE_2ODA-jpgW"/>
          <p:cNvPicPr/>
          <p:nvPr/>
        </p:nvPicPr>
        <p:blipFill>
          <a:blip r:embed="rId4"/>
          <a:stretch/>
        </p:blipFill>
        <p:spPr>
          <a:xfrm>
            <a:off x="228600" y="3809880"/>
            <a:ext cx="2057400" cy="2086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http://t3.gstatic.com/images?q=tbn:ANd9GcTe8NZp-2yO2ZFc2cCalIElS3vI7riWXa8TT-lnMoAyeTg7v2hZ"/>
          <p:cNvPicPr/>
          <p:nvPr/>
        </p:nvPicPr>
        <p:blipFill>
          <a:blip r:embed="rId5"/>
          <a:stretch/>
        </p:blipFill>
        <p:spPr>
          <a:xfrm>
            <a:off x="6781680" y="3886200"/>
            <a:ext cx="2210040" cy="2009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http://i.telegraph.co.uk/multimedia/archive/01237/vegetable_basket_1237717c.jpg"/>
          <p:cNvPicPr/>
          <p:nvPr/>
        </p:nvPicPr>
        <p:blipFill>
          <a:blip r:embed="rId6"/>
          <a:stretch/>
        </p:blipFill>
        <p:spPr>
          <a:xfrm>
            <a:off x="152280" y="106668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3426120" y="1066680"/>
            <a:ext cx="24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4520" y="609120"/>
            <a:ext cx="8764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general term used for a group of compounds (α, β, γ, and δ-tocopherols) having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romano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ng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tyl side ch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Picture 5" descr="http://0.tqn.com/d/chemistry/1/0/Y/R/1/alpha-tocopherol.jpg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2076480"/>
          </a:xfrm>
          <a:prstGeom prst="rect">
            <a:avLst/>
          </a:prstGeom>
          <a:ln w="0">
            <a:noFill/>
          </a:ln>
        </p:spPr>
      </p:pic>
      <p:sp>
        <p:nvSpPr>
          <p:cNvPr id="196" name="Right Brace 4"/>
          <p:cNvSpPr/>
          <p:nvPr/>
        </p:nvSpPr>
        <p:spPr>
          <a:xfrm rot="5400000">
            <a:off x="1676160" y="297180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209680"/>
              <a:gd name="textAreaBottom" fmla="*/ 220392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3"/>
                  <a:pt x="10800" y="186"/>
                </a:cubicBezTo>
                <a:lnTo>
                  <a:pt x="10800" y="10614"/>
                </a:lnTo>
                <a:cubicBezTo>
                  <a:pt x="10800" y="10707"/>
                  <a:pt x="16200" y="10800"/>
                  <a:pt x="21600" y="10800"/>
                </a:cubicBezTo>
                <a:cubicBezTo>
                  <a:pt x="16200" y="10800"/>
                  <a:pt x="10800" y="10893"/>
                  <a:pt x="10800" y="10986"/>
                </a:cubicBezTo>
                <a:lnTo>
                  <a:pt x="10800" y="21414"/>
                </a:lnTo>
                <a:cubicBezTo>
                  <a:pt x="10800" y="215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ight Brace 5"/>
          <p:cNvSpPr/>
          <p:nvPr/>
        </p:nvSpPr>
        <p:spPr>
          <a:xfrm rot="5400000">
            <a:off x="5486040" y="1447560"/>
            <a:ext cx="228600" cy="52578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5257800"/>
              <a:gd name="textAreaBottom" fmla="*/ 5252040 h 52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"/>
                  <a:pt x="10800" y="78"/>
                </a:cubicBezTo>
                <a:lnTo>
                  <a:pt x="10800" y="10722"/>
                </a:lnTo>
                <a:cubicBezTo>
                  <a:pt x="10800" y="10761"/>
                  <a:pt x="16200" y="10800"/>
                  <a:pt x="21600" y="10800"/>
                </a:cubicBezTo>
                <a:cubicBezTo>
                  <a:pt x="16200" y="10800"/>
                  <a:pt x="10800" y="10839"/>
                  <a:pt x="10800" y="10878"/>
                </a:cubicBezTo>
                <a:lnTo>
                  <a:pt x="10800" y="21522"/>
                </a:lnTo>
                <a:cubicBezTo>
                  <a:pt x="10800" y="2156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844560" y="419112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romanol Grou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729680" y="41911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tyl side cha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3520" y="4602240"/>
          <a:ext cx="5333760" cy="210348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sition of Methyl groups on aromatic 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copherol 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5,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1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ocopher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ocopher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1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ocopher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ocopher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201" name="TextBox 10"/>
          <p:cNvSpPr/>
          <p:nvPr/>
        </p:nvSpPr>
        <p:spPr>
          <a:xfrm>
            <a:off x="2286000" y="1981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666880" y="2286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2823120" y="2971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2278440" y="3276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1438560" y="3227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983160" y="2514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1440360" y="2133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2590200" y="2514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Box 18"/>
          <p:cNvSpPr/>
          <p:nvPr/>
        </p:nvSpPr>
        <p:spPr>
          <a:xfrm>
            <a:off x="5827680" y="2313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Box 19"/>
          <p:cNvSpPr/>
          <p:nvPr/>
        </p:nvSpPr>
        <p:spPr>
          <a:xfrm>
            <a:off x="4266360" y="2313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TextBox 20"/>
          <p:cNvSpPr/>
          <p:nvPr/>
        </p:nvSpPr>
        <p:spPr>
          <a:xfrm>
            <a:off x="5943600" y="4572000"/>
            <a:ext cx="304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ocopherol Equival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TE) = 1 mg = 1.5 I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mended daily amou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 30 IU = 20 m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r doses are allowed (saf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2971800" y="0"/>
            <a:ext cx="2057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E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57200" y="76320"/>
            <a:ext cx="815328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abundant and active form of vitamin E i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-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copherol (</a:t>
            </a:r>
            <a:r>
              <a:rPr b="0" lang="el-GR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-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RR-tocopherol)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lative activities of the tocopherols var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ably and thus vitamin E activity shoul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red to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α-tocophero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ybean oi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a higher total tocopherol content tha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nflower oil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f the vitamin E 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ya oi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-tocophe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ile 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nflower oi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f the vitamin E i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α-tocopherol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the sunflower oil a greater level of vitamin E activit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95280" y="2362320"/>
          <a:ext cx="7239240" cy="2315880"/>
        </p:xfrm>
        <a:graphic>
          <a:graphicData uri="http://schemas.openxmlformats.org/drawingml/2006/table">
            <a:tbl>
              <a:tblPr/>
              <a:tblGrid>
                <a:gridCol w="3178440"/>
                <a:gridCol w="4060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itamin E for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lative Biological Activ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α</a:t>
                      </a:r>
                      <a:r>
                        <a:rPr b="1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cophe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β</a:t>
                      </a:r>
                      <a:r>
                        <a:rPr b="1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cophe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γ</a:t>
                      </a:r>
                      <a:r>
                        <a:rPr b="1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cophe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-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δ</a:t>
                      </a:r>
                      <a:r>
                        <a:rPr b="1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cophe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2"/>
          <p:cNvSpPr/>
          <p:nvPr/>
        </p:nvSpPr>
        <p:spPr>
          <a:xfrm>
            <a:off x="3128760" y="0"/>
            <a:ext cx="364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urces of Vitamin 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33520" y="609480"/>
            <a:ext cx="815328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sources of vitamin E (d-RRR-α-tocopherol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getable oils from seed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unflower, Cottonseed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ttuc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processed grain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thetic sources </a:t>
            </a:r>
            <a:r>
              <a:rPr b="0" lang="ar-SA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acemic-tocophero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harmacokinetics of Vitamin 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ointestinal absorption of all forms of vitamin E i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valent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bsequent biological steps are sharply 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vour of the RRR form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llular liver transfer protein that maintain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lasma level is specific for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RR form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α-tocophero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17" name="Straight Arrow Connector 5"/>
          <p:cNvCxnSpPr/>
          <p:nvPr/>
        </p:nvCxnSpPr>
        <p:spPr>
          <a:xfrm>
            <a:off x="3276720" y="3276720"/>
            <a:ext cx="83880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218" name="Picture 4" descr="http://t2.gstatic.com/images?q=tbn:ANd9GcRhzfPIwqtUhqMkjdPCPg-MMC4ecMxoLgR5bslacIHD67o4_8RMLg&amp;t=1"/>
          <p:cNvPicPr/>
          <p:nvPr/>
        </p:nvPicPr>
        <p:blipFill>
          <a:blip r:embed="rId1"/>
          <a:stretch/>
        </p:blipFill>
        <p:spPr>
          <a:xfrm>
            <a:off x="7696080" y="11430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http://t2.gstatic.com/images?q=tbn:ANd9GcTa_jCUX2lrtQbwEfOEAHw6LGAXCAb3hKJm-8CnaFYmAJtXmDsRLA&amp;t=1"/>
          <p:cNvPicPr/>
          <p:nvPr/>
        </p:nvPicPr>
        <p:blipFill>
          <a:blip r:embed="rId2"/>
          <a:stretch/>
        </p:blipFill>
        <p:spPr>
          <a:xfrm>
            <a:off x="6400800" y="2133720"/>
            <a:ext cx="1143000" cy="971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http://static.howstuffworks.com/gif/vitamin-e-benefit-skin-1.jpg"/>
          <p:cNvPicPr/>
          <p:nvPr/>
        </p:nvPicPr>
        <p:blipFill>
          <a:blip r:embed="rId3"/>
          <a:stretch/>
        </p:blipFill>
        <p:spPr>
          <a:xfrm>
            <a:off x="6400800" y="11430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http://static.howstuffworks.com/gif/adam/images/en/vitamin-e-source-picture.jpg"/>
          <p:cNvPicPr/>
          <p:nvPr/>
        </p:nvPicPr>
        <p:blipFill>
          <a:blip r:embed="rId4"/>
          <a:stretch/>
        </p:blipFill>
        <p:spPr>
          <a:xfrm>
            <a:off x="7696080" y="2133720"/>
            <a:ext cx="1238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143000" y="533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52280" y="609480"/>
            <a:ext cx="8686800" cy="60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ntioxidant ac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copherols (Vitamin E) interrupt free radical chain reactions by capturing the free radical (free radical scavanger); this imparts to them their antioxidant properti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, vitamin E protects the cells, with other nutrient (e.g. Vitamin C and Selenium) against the harmful free radicals formed during metabolism of fatty acid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free hydroxyl group on the aromatic ring is responsible for the antioxidant properties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hydrogen from this group is easily donated to the free radical, resulting in a relatively stable free radical form of the vitam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://www.intechopen.com/source/html/39566/media/image7.jpeg"/>
          <p:cNvPicPr/>
          <p:nvPr/>
        </p:nvPicPr>
        <p:blipFill>
          <a:blip r:embed="rId1"/>
          <a:stretch/>
        </p:blipFill>
        <p:spPr>
          <a:xfrm>
            <a:off x="533520" y="281952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www.life-enhancement.com/images/LEM1007Redox500.gif"/>
          <p:cNvPicPr/>
          <p:nvPr/>
        </p:nvPicPr>
        <p:blipFill>
          <a:blip r:embed="rId2"/>
          <a:stretch/>
        </p:blipFill>
        <p:spPr>
          <a:xfrm>
            <a:off x="5029200" y="2819520"/>
            <a:ext cx="3962520" cy="3581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churchandstate.org.uk/wordpressRM/wp-content/uploads/2013/02/radicals.jpg"/>
          <p:cNvPicPr/>
          <p:nvPr/>
        </p:nvPicPr>
        <p:blipFill>
          <a:blip r:embed="rId3"/>
          <a:stretch/>
        </p:blipFill>
        <p:spPr>
          <a:xfrm>
            <a:off x="533520" y="152280"/>
            <a:ext cx="4343400" cy="2616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http://www.arkworld.net/images/free_radicals.gif"/>
          <p:cNvPicPr/>
          <p:nvPr/>
        </p:nvPicPr>
        <p:blipFill>
          <a:blip r:embed="rId4"/>
          <a:stretch/>
        </p:blipFill>
        <p:spPr>
          <a:xfrm>
            <a:off x="5029200" y="22860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3505320" y="6553080"/>
            <a:ext cx="2133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Box 37"/>
          <p:cNvSpPr/>
          <p:nvPr/>
        </p:nvSpPr>
        <p:spPr>
          <a:xfrm>
            <a:off x="307440" y="7621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. Antithrombotic a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AutoShape 51"/>
          <p:cNvSpPr/>
          <p:nvPr/>
        </p:nvSpPr>
        <p:spPr>
          <a:xfrm>
            <a:off x="149400" y="-1608120"/>
            <a:ext cx="57337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066680" y="1565280"/>
            <a:ext cx="685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E slows down the action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omb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 blood clotting protein) and reduces platelet aggregation by inhibit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omboxa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Although vitamin E is 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tur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od thinn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it does not increase risk of bleeding in healthy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533520" y="990720"/>
            <a:ext cx="8076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rdiovascular disease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.g. angina pectoris and venous thrombosis): It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xidation of cholesterol in LDL and VLDL particles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 of coronary heart diseas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34" name="Straight Arrow Connector 2"/>
          <p:cNvCxnSpPr/>
          <p:nvPr/>
        </p:nvCxnSpPr>
        <p:spPr>
          <a:xfrm>
            <a:off x="1447560" y="182880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5" name="Straight Arrow Connector 4"/>
          <p:cNvCxnSpPr/>
          <p:nvPr/>
        </p:nvCxnSpPr>
        <p:spPr>
          <a:xfrm flipH="1">
            <a:off x="2285640" y="228600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6" name="Straight Arrow Connector 7"/>
          <p:cNvCxnSpPr/>
          <p:nvPr/>
        </p:nvCxnSpPr>
        <p:spPr>
          <a:xfrm>
            <a:off x="1523520" y="2437920"/>
            <a:ext cx="6087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Rectangle 8"/>
          <p:cNvSpPr/>
          <p:nvPr/>
        </p:nvSpPr>
        <p:spPr>
          <a:xfrm>
            <a:off x="533520" y="2803680"/>
            <a:ext cx="8229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nemia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functions as an antioxidant, enhancing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and durability of RBCs and stabilizes their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ranes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dromes of hemolytic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ckle-cell anemi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38" name="Straight Arrow Connector 7"/>
          <p:cNvCxnSpPr/>
          <p:nvPr/>
        </p:nvCxnSpPr>
        <p:spPr>
          <a:xfrm>
            <a:off x="3124080" y="4266720"/>
            <a:ext cx="9151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Straight Arrow Connector 11"/>
          <p:cNvCxnSpPr/>
          <p:nvPr/>
        </p:nvCxnSpPr>
        <p:spPr>
          <a:xfrm flipH="1">
            <a:off x="4190760" y="411480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0" name="Rectangle 12"/>
          <p:cNvSpPr/>
          <p:nvPr/>
        </p:nvSpPr>
        <p:spPr>
          <a:xfrm>
            <a:off x="533520" y="4952880"/>
            <a:ext cx="8229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mmunity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  resistance to viral and bacterial infections and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tibody production by WBCs and  phagocytosis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41" name="Straight Arrow Connector 13"/>
          <p:cNvCxnSpPr/>
          <p:nvPr/>
        </p:nvCxnSpPr>
        <p:spPr>
          <a:xfrm flipV="1">
            <a:off x="2055960" y="5486040"/>
            <a:ext cx="21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2" name="Straight Arrow Connector 14"/>
          <p:cNvCxnSpPr/>
          <p:nvPr/>
        </p:nvCxnSpPr>
        <p:spPr>
          <a:xfrm flipV="1">
            <a:off x="1447920" y="5943240"/>
            <a:ext cx="21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3" name="Straight Arrow Connector 15"/>
          <p:cNvCxnSpPr/>
          <p:nvPr/>
        </p:nvCxnSpPr>
        <p:spPr>
          <a:xfrm flipV="1">
            <a:off x="6780240" y="5943240"/>
            <a:ext cx="21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Rectangle 1"/>
          <p:cNvSpPr/>
          <p:nvPr/>
        </p:nvSpPr>
        <p:spPr>
          <a:xfrm>
            <a:off x="780480" y="168840"/>
            <a:ext cx="777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Vitamin E as prophylaxis and Therap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533520" y="457200"/>
            <a:ext cx="80010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lzheimer’s disease (AD) and memory loss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can   progression of AD and  help mainta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function through decreasing oxidativ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age to neuron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46" name="Straight Arrow Connector 2"/>
          <p:cNvCxnSpPr/>
          <p:nvPr/>
        </p:nvCxnSpPr>
        <p:spPr>
          <a:xfrm>
            <a:off x="2666520" y="106668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7" name="Rectangle 4"/>
          <p:cNvSpPr/>
          <p:nvPr/>
        </p:nvSpPr>
        <p:spPr>
          <a:xfrm>
            <a:off x="533520" y="2365200"/>
            <a:ext cx="6553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Eye Diseases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oxidative damage to the lens,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of cataract. It also  incidenc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macular degenera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48" name="Straight Arrow Connector 5"/>
          <p:cNvCxnSpPr/>
          <p:nvPr/>
        </p:nvCxnSpPr>
        <p:spPr>
          <a:xfrm>
            <a:off x="1980720" y="281952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9" name="Straight Arrow Connector 6"/>
          <p:cNvCxnSpPr/>
          <p:nvPr/>
        </p:nvCxnSpPr>
        <p:spPr>
          <a:xfrm>
            <a:off x="1447560" y="327672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0" name="Straight Arrow Connector 7"/>
          <p:cNvCxnSpPr/>
          <p:nvPr/>
        </p:nvCxnSpPr>
        <p:spPr>
          <a:xfrm>
            <a:off x="5638320" y="327672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51" name="Picture 13" descr="http://t1.gstatic.com/images?q=tbn:ANd9GcQ2fOOcMujzy2w2NJoOOS8w-tkkJsfKpx6g_3qVBm0V5yiCuNDoqw&amp;t=1"/>
          <p:cNvPicPr/>
          <p:nvPr/>
        </p:nvPicPr>
        <p:blipFill>
          <a:blip r:embed="rId1"/>
          <a:stretch/>
        </p:blipFill>
        <p:spPr>
          <a:xfrm>
            <a:off x="7238880" y="2819520"/>
            <a:ext cx="1600200" cy="1295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9"/>
          <p:cNvSpPr/>
          <p:nvPr/>
        </p:nvSpPr>
        <p:spPr>
          <a:xfrm>
            <a:off x="609480" y="4191120"/>
            <a:ext cx="8153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6. Rheumatic disorders and pains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acts as free radical scavenger and so as anti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ammatory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gesic. It can join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ammation and stiffness in osteoarthritis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eumatoid arthritis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53" name="Straight Arrow Connector 10"/>
          <p:cNvCxnSpPr/>
          <p:nvPr/>
        </p:nvCxnSpPr>
        <p:spPr>
          <a:xfrm>
            <a:off x="7848360" y="502920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533520" y="380880"/>
            <a:ext cx="8001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tection and treatment of cancer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intakes of vitamin E helps  risk of cancer o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in, breast, lung, esophagus, and stoma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t ca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acy of 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ation treatment and protec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y cells against damage dur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otherap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55" name="Straight Arrow Connector 2"/>
          <p:cNvCxnSpPr/>
          <p:nvPr/>
        </p:nvCxnSpPr>
        <p:spPr>
          <a:xfrm>
            <a:off x="5714640" y="99072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6" name="Straight Arrow Connector 3"/>
          <p:cNvCxnSpPr/>
          <p:nvPr/>
        </p:nvCxnSpPr>
        <p:spPr>
          <a:xfrm flipV="1">
            <a:off x="1447920" y="1676160"/>
            <a:ext cx="21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7" name="Rectangle 4"/>
          <p:cNvSpPr/>
          <p:nvPr/>
        </p:nvSpPr>
        <p:spPr>
          <a:xfrm>
            <a:off x="533520" y="2514600"/>
            <a:ext cx="8076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kin Car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pplied topically to abrasions, wounds, or burn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scar formation and contraction,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 healing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58" name="Straight Arrow Connector 18"/>
          <p:cNvCxnSpPr/>
          <p:nvPr/>
        </p:nvCxnSpPr>
        <p:spPr>
          <a:xfrm>
            <a:off x="1599840" y="3579840"/>
            <a:ext cx="686520" cy="2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59" name="Rectangle 6"/>
          <p:cNvSpPr/>
          <p:nvPr/>
        </p:nvSpPr>
        <p:spPr>
          <a:xfrm>
            <a:off x="618840" y="4156200"/>
            <a:ext cx="295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epatoprotectiv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09480" y="4919760"/>
            <a:ext cx="800100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sorders of premature infants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isk of hemolytic anemia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opulmonary dysplasia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z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 inflammation and scarring in the lung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61" name="Straight Arrow Connector 8"/>
          <p:cNvCxnSpPr/>
          <p:nvPr/>
        </p:nvCxnSpPr>
        <p:spPr>
          <a:xfrm>
            <a:off x="2285640" y="556272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D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rm “Vitamin D” refers to a family of related compounds biosynthesized from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olesterol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rgosterol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3 (cholecalciferol)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ynthesized from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dehydrocholesterol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sun-exposed skin and found  naturally in animal products such a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ggs, fish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iver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2 (ergocalciferol)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nother form of vitamin D  synthesized by certa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gi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s used in many supplemen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6"/>
          <p:cNvSpPr/>
          <p:nvPr/>
        </p:nvSpPr>
        <p:spPr>
          <a:xfrm>
            <a:off x="2288880" y="152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xicity and side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62120" y="914400"/>
            <a:ext cx="78483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E is well-tolerated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side effects are rar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at doses of (up to 2000 mg/day)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ever, in some individuals who are vitamin K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t, vitamin E may increase the risk for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morrhage or bleedin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taking anticoagulant drugs should also b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utious with high dos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with diabetes should be cautious when start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doses of vitamin E because it may enhanc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ction of insulin but, rarel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685800" y="345960"/>
            <a:ext cx="815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greater risk of developing vitamin E deficienc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57200" y="1047600"/>
            <a:ext cx="815328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y peopl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 not obtain adequate dietary vitamin 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 depends more on processed foo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.g. refined flour and white rice lose nearly all of original vitamin present in whole grain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who consume much of polyunsaturated fatty acid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UFAs) as in USA and Europe need more vitamin E to protect PUFAs in their tissues from oxidation particularly if dietary intake of vitamin E is marginal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born and premature infan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at high risk for deficiency due to their poor ability to absorb vitamin E and very limited tissue reserves of vitamin 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3"/>
          <p:cNvSpPr/>
          <p:nvPr/>
        </p:nvSpPr>
        <p:spPr>
          <a:xfrm>
            <a:off x="1149840" y="7632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rug and Herbal Interactions with Vitamin 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33520" y="750960"/>
            <a:ext cx="815328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E can alter the efficacy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oagulan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E increas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eeding tim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tient taking herb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ations a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verfew or 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ingko biloba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rganic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ron supplemen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vitamin E, so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s taking iron supplements should space ou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ir doses (e.g., iron in the morning and vitamin 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evening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doses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A can decreas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cohol and mineral oi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reduce vitamin 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, and these substances should be avoide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itamin E deficient individua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8120" y="274320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ITAMIN K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Picture 2" descr="http://t1.gstatic.com/images?q=tbn:ANd9GcRwg-Fyg68GWiQUNvevhU-BSobldYEvfr4tq4EYfmglSnu3uQMSVw"/>
          <p:cNvPicPr/>
          <p:nvPr/>
        </p:nvPicPr>
        <p:blipFill>
          <a:blip r:embed="rId1"/>
          <a:stretch/>
        </p:blipFill>
        <p:spPr>
          <a:xfrm>
            <a:off x="6248520" y="990720"/>
            <a:ext cx="2590560" cy="160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Foods Containing Vitamin K"/>
          <p:cNvPicPr/>
          <p:nvPr/>
        </p:nvPicPr>
        <p:blipFill>
          <a:blip r:embed="rId2"/>
          <a:stretch/>
        </p:blipFill>
        <p:spPr>
          <a:xfrm>
            <a:off x="6172200" y="4724280"/>
            <a:ext cx="271476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http://t3.gstatic.com/images?q=tbn:ANd9GcTVeSFySuSBLz7sh9yHPW3bY18yv-EP-CuzBovf0GFcyaU3aBFT&amp;t=1"/>
          <p:cNvPicPr/>
          <p:nvPr/>
        </p:nvPicPr>
        <p:blipFill>
          <a:blip r:embed="rId3"/>
          <a:stretch/>
        </p:blipFill>
        <p:spPr>
          <a:xfrm>
            <a:off x="304920" y="1143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http://photos.demandstudios.com/41/185/fotolia_7437336_XS.jpg"/>
          <p:cNvPicPr/>
          <p:nvPr/>
        </p:nvPicPr>
        <p:blipFill>
          <a:blip r:embed="rId4"/>
          <a:stretch/>
        </p:blipFill>
        <p:spPr>
          <a:xfrm>
            <a:off x="6248520" y="2819520"/>
            <a:ext cx="2590560" cy="1585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http://t0.gstatic.com/images?q=tbn:ANd9GcRNa9xnGh0v-fF4GbZCCOT4iESd5ih6WtlPJlLvOZ9IVzbA6OI52g"/>
          <p:cNvPicPr/>
          <p:nvPr/>
        </p:nvPicPr>
        <p:blipFill>
          <a:blip r:embed="rId5"/>
          <a:stretch/>
        </p:blipFill>
        <p:spPr>
          <a:xfrm>
            <a:off x="380880" y="4191120"/>
            <a:ext cx="26672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ounded Rectangle 19"/>
          <p:cNvSpPr/>
          <p:nvPr/>
        </p:nvSpPr>
        <p:spPr>
          <a:xfrm>
            <a:off x="3124080" y="5584680"/>
            <a:ext cx="57150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533520" y="609480"/>
            <a:ext cx="8076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roup of compounds derived from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methyl-1,4-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phthoquinone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act as antihemorrhagic factor in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rds and mammals. There are three forms of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K: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3" marL="18860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1 (Phylloquinone) found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nt food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3" marL="18860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K2 (Menaquinone)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om animal and bacterial source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3" marL="18860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etic Vitamin </a:t>
            </a:r>
            <a:r>
              <a:rPr b="0" lang="fi-FI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3 (Menadione</a:t>
            </a:r>
            <a:r>
              <a:rPr b="0" lang="fi-FI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3349440" y="0"/>
            <a:ext cx="24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394200" y="5072040"/>
            <a:ext cx="218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it. K</a:t>
            </a:r>
            <a:r>
              <a:rPr b="0" lang="en-US" sz="16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hylloquinone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3731400" y="5029200"/>
            <a:ext cx="23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it. K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enaquinone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152280" y="5791320"/>
            <a:ext cx="2743200" cy="58068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ercial infant formula contain 50- 125 </a:t>
            </a:r>
            <a:r>
              <a:rPr b="1" lang="el-GR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μ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/da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6719040" y="5029200"/>
            <a:ext cx="1879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it. K</a:t>
            </a:r>
            <a:r>
              <a:rPr b="0" lang="en-US" sz="16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3 </a:t>
            </a: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1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enadione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3132000" y="556272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Recommended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Daily amount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5410080" y="556272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New born: 500- 1000 μg onc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1- 6 Months: 5 mg/da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6- 12 Months: 15 mg/da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Adult: 80 mg/Kg (body weight) / da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Right Arrow 20"/>
          <p:cNvSpPr/>
          <p:nvPr/>
        </p:nvSpPr>
        <p:spPr>
          <a:xfrm>
            <a:off x="4876920" y="5813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4" name="Picture 17" descr="http://content.answcdn.com/main/content/img/oxford/oxfordBiochemistry/0198529171.menadione.1.jpg"/>
          <p:cNvPicPr/>
          <p:nvPr/>
        </p:nvPicPr>
        <p:blipFill>
          <a:blip r:embed="rId1"/>
          <a:stretch/>
        </p:blipFill>
        <p:spPr>
          <a:xfrm>
            <a:off x="152280" y="1905120"/>
            <a:ext cx="1295640" cy="11332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22"/>
          <p:cNvSpPr/>
          <p:nvPr/>
        </p:nvSpPr>
        <p:spPr>
          <a:xfrm>
            <a:off x="7560" y="29718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methyl-1,4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phthoquino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6" name="Picture 19" descr="http://0.tqn.com/d/chemistry/1/0/h/R/1/Phylloquinone.jpg"/>
          <p:cNvPicPr/>
          <p:nvPr/>
        </p:nvPicPr>
        <p:blipFill>
          <a:blip r:embed="rId2"/>
          <a:stretch/>
        </p:blipFill>
        <p:spPr>
          <a:xfrm>
            <a:off x="152280" y="4191120"/>
            <a:ext cx="2743200" cy="900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1" descr="This is the chemical structure of menaquinone-4."/>
          <p:cNvPicPr/>
          <p:nvPr/>
        </p:nvPicPr>
        <p:blipFill>
          <a:blip r:embed="rId3"/>
          <a:stretch/>
        </p:blipFill>
        <p:spPr>
          <a:xfrm>
            <a:off x="3352680" y="4191120"/>
            <a:ext cx="3048120" cy="9046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3" descr="http://themedicalbiochemistrypage.org/images/vitamink3.jpg"/>
          <p:cNvPicPr/>
          <p:nvPr/>
        </p:nvPicPr>
        <p:blipFill>
          <a:blip r:embed="rId4"/>
          <a:stretch/>
        </p:blipFill>
        <p:spPr>
          <a:xfrm>
            <a:off x="6934320" y="419112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2286360" y="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urces of Vitamin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457200" y="638280"/>
            <a:ext cx="81532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oods rich in Vitamin K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ach, Green cabbage, Turnip, Parsley, lettuce, beef liver, green tea (in decreasing order) etc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1" name="Picture 4" descr="Foods Containing Vitamin K"/>
          <p:cNvPicPr/>
          <p:nvPr/>
        </p:nvPicPr>
        <p:blipFill>
          <a:blip r:embed="rId1"/>
          <a:stretch/>
        </p:blipFill>
        <p:spPr>
          <a:xfrm>
            <a:off x="533520" y="2133720"/>
            <a:ext cx="1904760" cy="1496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http://photos.demandstudios.com/41/185/fotolia_7437336_XS.jpg"/>
          <p:cNvPicPr/>
          <p:nvPr/>
        </p:nvPicPr>
        <p:blipFill>
          <a:blip r:embed="rId2"/>
          <a:stretch/>
        </p:blipFill>
        <p:spPr>
          <a:xfrm>
            <a:off x="3276720" y="434340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>
            <a:off x="919440" y="35812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ac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6" name="Picture 13" descr="http://www.asia.ru/images/target/photo/51017994/Cabbage__green_.jpg"/>
          <p:cNvPicPr/>
          <p:nvPr/>
        </p:nvPicPr>
        <p:blipFill>
          <a:blip r:embed="rId3"/>
          <a:stretch/>
        </p:blipFill>
        <p:spPr>
          <a:xfrm>
            <a:off x="3276720" y="2133720"/>
            <a:ext cx="1904760" cy="14475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1"/>
          <p:cNvSpPr/>
          <p:nvPr/>
        </p:nvSpPr>
        <p:spPr>
          <a:xfrm>
            <a:off x="3588480" y="35053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n cabbag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Picture 15" descr="http://suttons.s3.amazonaws.com/p/VETUR21137_3.jpg"/>
          <p:cNvPicPr/>
          <p:nvPr/>
        </p:nvPicPr>
        <p:blipFill>
          <a:blip r:embed="rId4"/>
          <a:stretch/>
        </p:blipFill>
        <p:spPr>
          <a:xfrm>
            <a:off x="6324480" y="2133720"/>
            <a:ext cx="1905120" cy="13716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3"/>
          <p:cNvSpPr/>
          <p:nvPr/>
        </p:nvSpPr>
        <p:spPr>
          <a:xfrm>
            <a:off x="6706080" y="35053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ni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0" name="Picture 17" descr="http://img.xcitefun.net/users/2010/03/153670,xcitefun-parsley-3.jpg"/>
          <p:cNvPicPr/>
          <p:nvPr/>
        </p:nvPicPr>
        <p:blipFill>
          <a:blip r:embed="rId5"/>
          <a:stretch/>
        </p:blipFill>
        <p:spPr>
          <a:xfrm>
            <a:off x="457200" y="4343400"/>
            <a:ext cx="1981080" cy="16574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5"/>
          <p:cNvSpPr/>
          <p:nvPr/>
        </p:nvSpPr>
        <p:spPr>
          <a:xfrm>
            <a:off x="842760" y="60199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sle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90880" y="60199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f liv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3" name="Picture 19" descr="http://www.hangthebankers.com/wp-content/uploads/2012/06/healthy-green-tea-stops-cancer.jpg"/>
          <p:cNvPicPr/>
          <p:nvPr/>
        </p:nvPicPr>
        <p:blipFill>
          <a:blip r:embed="rId6"/>
          <a:stretch/>
        </p:blipFill>
        <p:spPr>
          <a:xfrm>
            <a:off x="6400800" y="434340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7091280" y="60199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n te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File:Menadione.png"/>
          <p:cNvPicPr/>
          <p:nvPr/>
        </p:nvPicPr>
        <p:blipFill>
          <a:blip r:embed="rId1"/>
          <a:stretch/>
        </p:blipFill>
        <p:spPr>
          <a:xfrm>
            <a:off x="6188040" y="907920"/>
            <a:ext cx="2595600" cy="52182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"/>
          <p:cNvSpPr/>
          <p:nvPr/>
        </p:nvSpPr>
        <p:spPr>
          <a:xfrm>
            <a:off x="2140920" y="0"/>
            <a:ext cx="56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ructure Activity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Box 2"/>
          <p:cNvSpPr/>
          <p:nvPr/>
        </p:nvSpPr>
        <p:spPr>
          <a:xfrm>
            <a:off x="380880" y="685800"/>
            <a:ext cx="8624880" cy="60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ctivity is maximum whe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A and Ring B are aromat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A is not substitut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yl group at C-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saturation of phytyl side chai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C-3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ctivity is decreased whe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kyl group larger than Methyl at C-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yl group at C-3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ylation or saturation or cis-configur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hytyl side chain at C-3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ctivity not affected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positions 1 and 4 are substituted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OH, O-Ac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=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6592680" y="198108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7581960" y="19810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7728480" y="1371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TextBox 7"/>
          <p:cNvSpPr/>
          <p:nvPr/>
        </p:nvSpPr>
        <p:spPr>
          <a:xfrm>
            <a:off x="8185680" y="2286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8185680" y="1828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70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7728480" y="26668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1"/>
          <p:cNvSpPr/>
          <p:nvPr/>
        </p:nvSpPr>
        <p:spPr>
          <a:xfrm>
            <a:off x="2376720" y="76320"/>
            <a:ext cx="43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etabolism of Vitamin K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TextBox 2"/>
          <p:cNvSpPr/>
          <p:nvPr/>
        </p:nvSpPr>
        <p:spPr>
          <a:xfrm>
            <a:off x="533520" y="762120"/>
            <a:ext cx="800100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% of Vit. K3 ( menadione) excreted in urine in 24 hr in the form of sulphate, phosphate and glucuronic acid conjuga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 % excreted in faces as glucuronic acid conjuga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 K2 and K3 undergo slower metabolism to shorten the side chain to 5- 7 carbons carboxyla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1824480" y="3851280"/>
            <a:ext cx="585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toms of Vitamin K deficienc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533520" y="4537080"/>
            <a:ext cx="8076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ontrolled internal bleedin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tilage calcification and malformation of developing bon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osition of insoluble calcium salts in the arterial vessel wal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457200" y="762120"/>
            <a:ext cx="807732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basic factors needed to prevent vitamin K deficiency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ormal diet containing the vitam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esence of bile in the intestin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ormal intestinal uptake or absorp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ormal liver i.e. no interference with vitamin K metabolism or use of vitamin K antagonists therapeutically or accidentl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vy alcohol consumptio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airs the liver’s ability to produce vitamin K-dependent coagulation factors and impair recycling of vitamin K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609480" y="990720"/>
            <a:ext cx="815364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born infants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are exclusively breastfed are susceptible to abnormal bleeding due to vitamin K deficiency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st milk contains very little vitamin K and the immature liver of the newborn </a:t>
            </a:r>
            <a:r>
              <a:rPr b="0" lang="en-US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es not synthesize the vitamin K-dependent clotting factors efficiently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because the newborn’s colon is sterile for the first few days after birth, </a:t>
            </a:r>
            <a:r>
              <a:rPr b="0" lang="en-US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bacterial synthesis of vitamin K occurs in the colon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reduce the risk of vitamin K deficiency, most babies receive intramuscular vitamin K at birth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457200" y="15228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greater risk of developing  Vitamin K deficienc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457200"/>
          <a:ext cx="8153280" cy="5853240"/>
        </p:xfrm>
        <a:graphic>
          <a:graphicData uri="http://schemas.openxmlformats.org/drawingml/2006/table">
            <a:tbl>
              <a:tblPr/>
              <a:tblGrid>
                <a:gridCol w="4038480"/>
                <a:gridCol w="4114800"/>
              </a:tblGrid>
              <a:tr h="15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Cholecalciferol)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TAMIN    D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rgocalciferol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TAMIN    D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Synthesized in the bo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Found in plant li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Naturally derived suppl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Synthetically derived suppl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Significantly increases  vitamin D levels in the bo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Moderately increases vitamin D levels in the bo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24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Recommended by experts for optimal bone and immune suppo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Alternative form appropriate for vegetari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1523880" y="101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toms of Vitamin K  Tox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457200" y="609480"/>
            <a:ext cx="815328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s K1 and K2 are non-toxic in large dos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K3 (the synthetic one) is toxic in doses thre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more than the usual dos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xicity manifestation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bilirubinemi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e Jaundic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emi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999080" y="3809880"/>
            <a:ext cx="55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rug Interaction with Vitamin K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457200" y="4267080"/>
            <a:ext cx="83818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. Some interactions may increase the need for vitami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biotic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event absorption and kill normal bacterial folr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onvulsant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.g. Phenytoin : Affect Vit K metabolism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2678040" y="76320"/>
            <a:ext cx="402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K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457200" y="609480"/>
            <a:ext cx="830592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K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nvolved a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fact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arboxylation of certa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utamate residues in protei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form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γ- carboxyglutamate residues (Gla-residues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a-residues are usually involved in binding calc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are essential for the following biological activiti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lood coagula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 of proteins that are part of the coagulation cascade in the blood. Several proteins promote coagulation  (prothrombin, VII, IX, X) while others slow it down (proteins C and S). Thus, activity of vitamin K balances the two opposing sides of coagulation system in bloo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one metabol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e Gla-protein (Osteocalcin)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ulate incorporation of  calcium Phosphate into bo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trix GLA protein (MGP)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learance of extracellular Calcium to protect against soft tissue calcific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838080" y="1027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le acid sequestra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olestyramine)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pir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ffect absorp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685800" y="22096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ight Loss Produc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itosan, Orlistat, and olestra): Affect absorption as they prevent absorption of fa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neral oil laxativ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ffect absorp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-rays and Radi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eplete vitamin 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s and raise vitamin K requirem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057400" y="1219320"/>
            <a:ext cx="5105520" cy="4343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TextBox 1"/>
          <p:cNvSpPr/>
          <p:nvPr/>
        </p:nvSpPr>
        <p:spPr>
          <a:xfrm>
            <a:off x="2990520" y="2743200"/>
            <a:ext cx="35121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X</a:t>
            </a:r>
            <a:endParaRPr b="0" lang="en-US" sz="7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838080" y="838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3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preferred form for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s as its bioavailability i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wice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of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2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absorption from foods or production in th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, vitamin D is stored a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5-hydroxy-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3 in the liver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hen needed by th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y, it is then activated by 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dney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,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5 - di hydroxy vitamin D3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B: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 healthy liver and kidneys are essential for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ptimum vitamin D statu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7"/>
          <p:cNvSpPr/>
          <p:nvPr/>
        </p:nvSpPr>
        <p:spPr>
          <a:xfrm>
            <a:off x="937440" y="0"/>
            <a:ext cx="703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iosynthesis and Activation of Vitami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1" lang="en-US" sz="3200" spc="-1" strike="noStrike" u="sng" baseline="-25000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51"/>
          <p:cNvSpPr/>
          <p:nvPr/>
        </p:nvSpPr>
        <p:spPr>
          <a:xfrm>
            <a:off x="149400" y="-1608120"/>
            <a:ext cx="57337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8" descr="http://www.dentistry.leeds.ac.uk/biochem/lecture/nutritio/vitd.gif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6027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914400" y="6324480"/>
            <a:ext cx="220032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6095880" y="6324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</a:rPr>
              <a:t>Stored in Liv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57200" y="228600"/>
            <a:ext cx="8305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aily Requirment = 10μg vitamin D = 400 IU vitamin D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Vitamin D metabolism"/>
          <p:cNvPicPr/>
          <p:nvPr/>
        </p:nvPicPr>
        <p:blipFill>
          <a:blip r:embed="rId1"/>
          <a:stretch/>
        </p:blipFill>
        <p:spPr>
          <a:xfrm>
            <a:off x="4419720" y="990720"/>
            <a:ext cx="4471920" cy="5410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9" descr="Vitamin D is a necessity for increasing children Vitamin D is a necessity for increasing children"/>
          <p:cNvPicPr/>
          <p:nvPr/>
        </p:nvPicPr>
        <p:blipFill>
          <a:blip r:embed="rId2"/>
          <a:stretch/>
        </p:blipFill>
        <p:spPr>
          <a:xfrm>
            <a:off x="304920" y="990720"/>
            <a:ext cx="38098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57" descr="http://www.cyberlipid.org/images/pict44.gif"/>
          <p:cNvPicPr/>
          <p:nvPr/>
        </p:nvPicPr>
        <p:blipFill>
          <a:blip r:embed="rId1"/>
          <a:stretch/>
        </p:blipFill>
        <p:spPr>
          <a:xfrm>
            <a:off x="228600" y="762120"/>
            <a:ext cx="3581280" cy="54100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13" descr="http://www.nature.com/nrc/journal/v7/n9/images/nrc2196-f1.jpg"/>
          <p:cNvPicPr/>
          <p:nvPr/>
        </p:nvPicPr>
        <p:blipFill>
          <a:blip r:embed="rId2"/>
          <a:stretch/>
        </p:blipFill>
        <p:spPr>
          <a:xfrm>
            <a:off x="4038480" y="685800"/>
            <a:ext cx="4876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1" descr="http://1.bp.blogspot.com/-V4x8n9nMx0g/TnrIjWD11JI/AAAAAAAAAsc/pwnbJmUtm-0/s1600/calc-reg.jpg"/>
          <p:cNvPicPr/>
          <p:nvPr/>
        </p:nvPicPr>
        <p:blipFill>
          <a:blip r:embed="rId1"/>
          <a:stretch/>
        </p:blipFill>
        <p:spPr>
          <a:xfrm>
            <a:off x="2362320" y="3048120"/>
            <a:ext cx="579096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457200" y="600120"/>
            <a:ext cx="800100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lcium metabolism (main function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D regulates Ca++ levels in the blood and tissues. A fall in blood Ca++    stimulate active 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D production    stimulates Ca++ absorptio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food +     release of Ca++ from bones +    renal excretion of Ca++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285280" y="0"/>
            <a:ext cx="49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42" name="Straight Arrow Connector 5"/>
          <p:cNvCxnSpPr/>
          <p:nvPr/>
        </p:nvCxnSpPr>
        <p:spPr>
          <a:xfrm>
            <a:off x="4572000" y="1905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3" name="Straight Arrow Connector 9"/>
          <p:cNvCxnSpPr/>
          <p:nvPr/>
        </p:nvCxnSpPr>
        <p:spPr>
          <a:xfrm>
            <a:off x="2514240" y="2286000"/>
            <a:ext cx="3056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4" name="Straight Arrow Connector 10"/>
          <p:cNvCxnSpPr/>
          <p:nvPr/>
        </p:nvCxnSpPr>
        <p:spPr>
          <a:xfrm flipV="1">
            <a:off x="990720" y="2514600"/>
            <a:ext cx="2160" cy="295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5" name="Straight Arrow Connector 13"/>
          <p:cNvCxnSpPr/>
          <p:nvPr/>
        </p:nvCxnSpPr>
        <p:spPr>
          <a:xfrm>
            <a:off x="5637600" y="2437920"/>
            <a:ext cx="1080" cy="3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Uhu</dc:creator>
  <dc:description/>
  <dc:language>en-US</dc:language>
  <cp:lastModifiedBy>Mashal Almutairi</cp:lastModifiedBy>
  <dcterms:modified xsi:type="dcterms:W3CDTF">2015-11-09T05:23:41Z</dcterms:modified>
  <cp:revision>4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