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10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11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12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377B-F034-48E5-8485-C3786BDDA5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0CDD-90DA-42BC-858D-9CEAC1CBE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4167-A043-4160-851F-FC0F74B71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59B5-848F-49FE-8A1D-362D77F8A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B09A-CF64-4968-B04F-82FB0BA10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8741-D1C7-4AAD-B997-025A6784EF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ABBC-09F5-4C72-8327-4255B4BBF6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CD05-0E7B-476D-8702-31B4908BE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54AC-27CA-499D-BD93-882CDEDFA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BF21-2DF4-4C9A-9E2E-542E01DE2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18EC-F566-43E4-B72B-069792761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37DD-9050-4D0A-9FF7-23A1C38BA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8810-67AD-4D3A-8CFB-CAFC778E3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47FC-1D4B-4911-9B8D-0AE82BABE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78E1-26EC-49B8-B9FC-91E83FD14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61FA-5B5E-4B13-B4AE-0377853641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50A1-B19B-412A-96F9-7FC397EF46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49F8-D0BF-40E0-B940-6A82C1172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B181-55B4-4112-BA1D-A1C2487F38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6EFC-B09F-4E28-BC91-AD694E26E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370F-5CBE-4509-B001-E134BCCBE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ar-SA" sz="1200" spc="-1" strike="noStrike">
                <a:solidFill>
                  <a:srgbClr val="000000"/>
                </a:solidFill>
                <a:latin typeface="Arial"/>
              </a:rPr>
              <a:t>porphyrias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 are a group of rare inherited or acquired disorders of certain enzymes that normally participate in the production of porphyrins and h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AF79-8CED-4B30-BE58-C7D653696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712D-FB05-4D38-806B-9CE7F3BCE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3889-EBD5-4EEC-B8AE-BB2DB49FF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E8C2-01E3-434C-B520-1C97BF6B6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1512-04EF-4E7C-9229-E42ADB294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B13CE-4BDB-4F67-8363-6262438D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AD845-7944-46C1-9FDA-96CDFE92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EFC19-2CE6-44DA-9844-11E2D040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F2B40-0155-41BE-9603-1F8B5284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91B4-20F3-4340-BA2F-88CE0499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503D-8C19-4509-A0D4-1F95C794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CCAE-3217-48EF-A7C9-1EF2B0C2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D6F8-D1EB-4A75-8823-31E94C0E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B1E4-DBA7-4D9C-B1B8-BEED5905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B13B-33B4-4294-8C54-91475512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5A26-32EC-4669-927C-A76A5B17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69840-1D93-4B2C-BE01-2CC809F0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8827-C976-4E4A-A7C8-575A9446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9CC2-4E7C-467D-A58E-2D18D045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5982-5C3C-404F-916D-41756C73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6119-3660-4821-815B-07FC6913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4594-9864-4F6D-950E-E54105FC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C1184-970F-4F68-A0C5-C59FE6C8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6629F-90B9-4A85-A412-8F0346DE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72E34-E0D6-4FD7-9866-9A320926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B7CD0-21A0-4F03-9C25-FF823F36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8AADD-5920-474A-B16B-A864AEB6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BE2C5-2522-4CC7-AB1F-EAB7549C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755E7-82CD-4BB9-B987-7E6F993A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163B6-9297-49D4-B4F6-61874DC2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82194-3B40-471B-A1A0-92885A19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9FC77-1772-47E0-9D05-5282BC0B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92C05-5233-409F-8AF7-29711610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5DB07-A6E5-4874-8F47-DAA4542D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5C7BF-E17E-439D-AA78-AF828EED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DF199-3CB6-415C-827F-D973F18D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5BD1D-93C6-434E-A3B4-AF133561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824AA-DB6E-47A2-8328-CC67AB7F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3B8F8-2A1F-4E19-9E79-90572CD1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3AF98-9B22-49AC-BCAD-0AD0D651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60C02-45FF-401C-86FF-CBD3A1BA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2F73-28DC-4D26-9B93-170B54CCAC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1E8C-C36E-4A16-B463-554F8305274B}" type="slidenum">
              <a:rPr b="0" lang="ar-A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F554-086D-4EAB-8500-B27791738C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3680" y="0"/>
            <a:ext cx="8229600" cy="798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rIns="132120" anchor="ctr">
            <a:noAutofit/>
          </a:bodyPr>
          <a:p>
            <a:pPr marL="571680" indent="-571680" algn="ctr">
              <a:buClr>
                <a:srgbClr val="ff0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nhancement of GABA Inhib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-76320" y="785880"/>
            <a:ext cx="4632480" cy="6072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2174760" cy="2236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0" y="785880"/>
            <a:ext cx="5592600" cy="60897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58" name="Text Box 3"/>
          <p:cNvSpPr/>
          <p:nvPr/>
        </p:nvSpPr>
        <p:spPr>
          <a:xfrm>
            <a:off x="5884200" y="1928880"/>
            <a:ext cx="3003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 Narrow"/>
              </a:rPr>
              <a:t>Antiseizur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 Narrow"/>
              </a:rPr>
              <a:t>enhanc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 Narrow"/>
              </a:rPr>
              <a:t>GA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 Narrow"/>
              </a:rPr>
              <a:t>synap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 Narrow"/>
              </a:rPr>
              <a:t>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926680" y="5865840"/>
            <a:ext cx="2879640" cy="9169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Goodman &amp; Gilman'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The Pharmacologic Basi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Therapeutics - 11th Ed. (200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Benzodiazepine drug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74320">
              <a:spcBef>
                <a:spcPts val="700"/>
              </a:spcBef>
              <a:buClr>
                <a:srgbClr val="d600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Contraind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50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zepam in children under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50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 angle glauc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7432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verse Eff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508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onia, Dysarthr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ifficulty in articulating words, caused by impairment of the muscles used in spee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50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le in-coordination (clonazep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50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al disturbances (especially in child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73920" indent="-219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ssion, Hyperactivity, Irritability and Difficulty concent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hancement of GABA 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94000"/>
          </a:bodyPr>
          <a:p>
            <a:pPr marL="483480" indent="-483480">
              <a:spcBef>
                <a:spcPts val="499"/>
              </a:spcBef>
              <a:buClr>
                <a:srgbClr val="00206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2060"/>
                </a:solidFill>
                <a:uFillTx/>
                <a:latin typeface="Arial"/>
              </a:rPr>
              <a:t>Tiagabine 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(Gabitri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 of Ac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132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ibition of GABA transporter (GAT-1) – reduces reuptake of GABA by neurons and glial cel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6856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dica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132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in 1998 as an adjunct therapy for partial seizures in patients at least 12 years 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ind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132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ence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hancement of GABA 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514440" indent="-514440">
              <a:spcBef>
                <a:spcPts val="499"/>
              </a:spcBef>
              <a:buClr>
                <a:srgbClr val="00206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2060"/>
                </a:solidFill>
                <a:uFillTx/>
                <a:latin typeface="Arial"/>
              </a:rPr>
              <a:t>Tiagabine 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(Gabitri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levels decreased by CBZ, phenytoin, phenobarbital, &amp; primi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verse Eff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heni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eakn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ominal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hancement of GABA 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gabatr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ibits the GABA transamin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ally (by forming an irreversible covalent bo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the content of GABA in the cerebrospinal fl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a half-life is s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produces a long-lasting effect (irreversible blocked of the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given orally once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vigabatrin_b"/>
          <p:cNvPicPr/>
          <p:nvPr/>
        </p:nvPicPr>
        <p:blipFill>
          <a:blip r:embed="rId1"/>
          <a:srcRect l="12000" t="15218" r="32004" b="14830"/>
          <a:stretch/>
        </p:blipFill>
        <p:spPr>
          <a:xfrm>
            <a:off x="6858000" y="152280"/>
            <a:ext cx="2133720" cy="17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gabatr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ly free from side-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in drawback of vigabatrin is the occurrence of 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in patients resistant to the established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7765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rIns="132120" anchor="ctr">
            <a:noAutofit/>
          </a:bodyPr>
          <a:p>
            <a:pPr marL="571680" indent="-571680" algn="ctr">
              <a:buClr>
                <a:srgbClr val="ff0000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"/>
              </a:rPr>
              <a:t>Calcium Channel Bloc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مستطيل 6"/>
          <p:cNvSpPr/>
          <p:nvPr/>
        </p:nvSpPr>
        <p:spPr>
          <a:xfrm>
            <a:off x="228600" y="167652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hibit low-threshold (T-type) Ca 2+ currents, especially in thalamic neurons that act as pacemakers to generate rhythmic cortical dischar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371600" y="2460600"/>
            <a:ext cx="6324480" cy="3787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90" name="Text Box 5"/>
          <p:cNvSpPr/>
          <p:nvPr/>
        </p:nvSpPr>
        <p:spPr>
          <a:xfrm>
            <a:off x="1830240" y="977760"/>
            <a:ext cx="533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Antiseizure drugs, induced reduc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current through T-type Ca</a:t>
            </a:r>
            <a:r>
              <a:rPr b="0" lang="en-US" sz="2000" spc="-1" strike="noStrike" baseline="30000">
                <a:solidFill>
                  <a:srgbClr val="0033cc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channels.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57200" y="6458040"/>
            <a:ext cx="74674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Goodman &amp; Gilman's The Pharmacologic Basis of Therapeutics - 11th Ed. (200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oltage-Gated Ca2+ Channel T Cur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4600" y="1599840"/>
            <a:ext cx="7594560" cy="42670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90000"/>
          </a:bodyPr>
          <a:p>
            <a:pPr marL="462960" indent="-462960">
              <a:spcBef>
                <a:spcPts val="4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Ethosuximide 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(Zaronti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 of Actio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416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low -threshold Ca2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s (T currents) in the thalamic neur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416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-life is ~60 hr in adults; ~30hr in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2570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d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416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line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bs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ind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416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exacerbate partial &amp; tonic-clonic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84000"/>
          </a:bodyPr>
          <a:p>
            <a:pPr marL="432000" indent="-432000">
              <a:spcBef>
                <a:spcPts val="4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Ethosuximide 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(Zaronti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397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verse Eff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3240" indent="-19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ychotic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3240" indent="-19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dyscras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3240" indent="-19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istent head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3240" indent="-19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rex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3240" indent="-19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3240" indent="-19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pus-like syndr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32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xi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3240" indent="-19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kinson-like symp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3240" indent="-19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pho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oltage-Gated Ca2+ Channel T Cur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lockade of Calcium Channels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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82760" y="1434960"/>
            <a:ext cx="8229600" cy="42926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86000"/>
          </a:bodyPr>
          <a:p>
            <a:pPr marL="442080" indent="-442080">
              <a:spcBef>
                <a:spcPts val="4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2060"/>
                </a:solidFill>
                <a:uFillTx/>
                <a:latin typeface="Arial"/>
              </a:rPr>
              <a:t>Gabapentin 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(Neuronti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84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 of A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196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ly designed to be a centrally acting GABA agonist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s anticonvulsant effects not by acting on GABA recep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196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inhibition of v-g Ca2+ channels containing the α2δ1 subun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196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no effect on sodium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84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196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nct therapy in adults and children with partial &amp; secondarily generalized seiz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196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effective as monothera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09480" y="1892160"/>
            <a:ext cx="8229600" cy="3949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2060"/>
                </a:solidFill>
                <a:uFillTx/>
                <a:latin typeface="Arial"/>
              </a:rPr>
              <a:t>Gabapentin 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(Neuronti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62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ind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2280" indent="-203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exacerbate myoclonic &amp; absence seizu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6240" indent="-25416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verse Eff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2280" indent="-203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 Gain (5%) with ankle ed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280" indent="-203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it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280" indent="-203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al problems in children (6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280" indent="-203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been associated with movement disor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lockade of Calcium Channels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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hancement of GABA 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726920"/>
            <a:ext cx="8229600" cy="37083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92000"/>
          </a:bodyPr>
          <a:p>
            <a:pPr marL="473040" indent="-473040">
              <a:spcBef>
                <a:spcPts val="70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2060"/>
                </a:solidFill>
                <a:uFillTx/>
                <a:latin typeface="Arial"/>
              </a:rPr>
              <a:t>Barbiturate drugs: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enobarbital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(Lu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idone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(Mysol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 of Ac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7920" indent="-210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the duration of GAB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ctivated Cl- channel op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92000"/>
          </a:bodyPr>
          <a:p>
            <a:pPr marL="473040" indent="-473040">
              <a:spcBef>
                <a:spcPts val="499"/>
              </a:spcBef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2060"/>
                </a:solidFill>
                <a:uFillTx/>
                <a:latin typeface="Arial"/>
              </a:rPr>
              <a:t>Pregabalin 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(Lyr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-drug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gabalin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is more potent than gabapentin, is in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 of 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792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 gabapen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26280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Ind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792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i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792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nct therapy for partial &amp; secondarily generalized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7920" indent="-210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cribed for neuropathic pain, fibromyalg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 syndrome characterized by chronic pain in the muscles of soft tissues surrounding joints, fatigue, and tenderness at specific sites in the bod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lockade of Calcium Channels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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9240"/>
            <a:ext cx="8229600" cy="1017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00000"/>
                </a:solidFill>
                <a:latin typeface="Arial"/>
              </a:rPr>
              <a:t>Other/Unknown MO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8728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2060"/>
                </a:solidFill>
                <a:uFillTx/>
                <a:latin typeface="Arial"/>
              </a:rPr>
              <a:t>Levetiracetam </a:t>
            </a:r>
            <a:r>
              <a:rPr b="0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(Keppr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ion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in 1999 as an adjunct therapy for adults with partial seizu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atients have success with mon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152280" y="3124080"/>
            <a:ext cx="8229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3212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ind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al dys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verse Eff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h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al problems in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lock the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N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thyl-D-aspartate (NMDA)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lutamate recep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2060"/>
                </a:solidFill>
                <a:uFillTx/>
                <a:latin typeface="Arial"/>
              </a:rPr>
              <a:t>Felbamate</a:t>
            </a:r>
            <a:r>
              <a:rPr b="0" lang="en-US" sz="28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elba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has a broad spectrum of anticonvulsant a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rug has multiple proposed mechanisms inclu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voltage-dependent sodium channels (wea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ng with the glycine-coagonist binding site on the N-methyl-D-aspartate (NMDA) glutamate recep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alcium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tion of GABA ac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reserved for use in refractory epilepsies (particularly Lennox-Gastaut syndrome) because of the risk of aplastic anemia (about 1:4000) and hepatic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Graphic"/>
          <p:cNvPicPr/>
          <p:nvPr/>
        </p:nvPicPr>
        <p:blipFill>
          <a:blip r:embed="rId1"/>
          <a:stretch/>
        </p:blipFill>
        <p:spPr>
          <a:xfrm>
            <a:off x="1752480" y="685800"/>
            <a:ext cx="5715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380880" y="1841400"/>
            <a:ext cx="83059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st classical antiepileptic drugs exhibit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imilar pharmacokinetic prope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absor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lasma protein binding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except for phenytoin, BDZs, valproate, and tiagabin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to active metabolit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carbamazepine, primidone, fosphenyto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ed by the li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 clearance is s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concentrations phenytoin exhibits zero order kine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مربع نص 2"/>
          <p:cNvSpPr/>
          <p:nvPr/>
        </p:nvSpPr>
        <p:spPr>
          <a:xfrm>
            <a:off x="1515960" y="55404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Pharmacokinetics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de effec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dation - especially with barbitu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metic - phenyt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 gain – valproic acid, gabapen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 loss - topira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tive function – valpro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nitive - topira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al – felbamate, leviterace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rgic - 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http://thepointeedition.lww.com/FullTextService/CT%7b06b9ee1beed59419c4d56899cee0fdc8d4bcfc5a9496de4b313c87d9cf5dbbe2f6bf48e24e3f2fbcfa1d23da77a9f953%7d/DA3C15FF6.jpg"/>
          <p:cNvPicPr/>
          <p:nvPr/>
        </p:nvPicPr>
        <p:blipFill>
          <a:blip r:embed="rId1"/>
          <a:srcRect l="0" t="0" r="0" b="50149"/>
          <a:stretch/>
        </p:blipFill>
        <p:spPr>
          <a:xfrm>
            <a:off x="380880" y="0"/>
            <a:ext cx="2286000" cy="5851440"/>
          </a:xfrm>
          <a:prstGeom prst="rect">
            <a:avLst/>
          </a:prstGeom>
          <a:ln w="0">
            <a:noFill/>
          </a:ln>
        </p:spPr>
      </p:pic>
      <p:sp>
        <p:nvSpPr>
          <p:cNvPr id="213" name="مستطيل 4"/>
          <p:cNvSpPr/>
          <p:nvPr/>
        </p:nvSpPr>
        <p:spPr>
          <a:xfrm>
            <a:off x="228600" y="6031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table adverse effects of antiseizure med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http://thepointeedition.lww.com/FullTextService/CT%7b06b9ee1beed59419c4d56899cee0fdc8d4bcfc5a9496de4b313c87d9cf5dbbe2f6bf48e24e3f2fbcfa1d23da77a9f953%7d/DA3C15FF6.jpg"/>
          <p:cNvPicPr/>
          <p:nvPr/>
        </p:nvPicPr>
        <p:blipFill>
          <a:blip r:embed="rId2"/>
          <a:srcRect l="0" t="50149" r="0" b="0"/>
          <a:stretch/>
        </p:blipFill>
        <p:spPr>
          <a:xfrm>
            <a:off x="6324480" y="0"/>
            <a:ext cx="259092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rug treatment of seiz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-long treatment may b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take weeks to establish adequate drug plasma levels and to determine the adequacy of therapeutic improv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ck of compli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sponsible for many treatment fail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hancement of GABA 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432640" cy="5257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514440" indent="-514440">
              <a:spcBef>
                <a:spcPts val="499"/>
              </a:spcBef>
              <a:buClr>
                <a:srgbClr val="00206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2060"/>
                </a:solidFill>
                <a:uFillTx/>
                <a:latin typeface="Arial"/>
              </a:rPr>
              <a:t>Phenobarbital 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(Lumina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choice for partial and generalized tonic-clonic seiz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absorption has made i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 common choice for seizures in inf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ut adverse cognitive effects cause it to be used less in older children and ad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s epilepti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barbital is a powerful inducer of liver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ind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ence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hancement of GABA 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1960" y="182880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93000"/>
          </a:bodyPr>
          <a:p>
            <a:pPr marL="478080" indent="-478080">
              <a:spcBef>
                <a:spcPts val="499"/>
              </a:spcBef>
              <a:buClr>
                <a:srgbClr val="00206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2060"/>
                </a:solidFill>
                <a:uFillTx/>
                <a:latin typeface="Arial"/>
              </a:rPr>
              <a:t>Primidone 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(Mysolin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56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980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vant or monotherapy for partial and generalized tonic-clonic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980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control refractory generalized tonic-clonic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56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ind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980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porphy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Phenobarbital </a:t>
            </a:r>
            <a:r>
              <a:rPr b="0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(Luminal)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&amp; Primidone </a:t>
            </a:r>
            <a:r>
              <a:rPr b="0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(Mysolin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Intera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NS depress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metabolism of vitamin D and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ytoin increases the conversion of primidone to phenoba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hancement of GABA 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Phenobarbital </a:t>
            </a:r>
            <a:r>
              <a:rPr b="0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(Luminal)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 &amp; Primidone </a:t>
            </a:r>
            <a:r>
              <a:rPr b="0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(Mysolin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verse Eff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tation and confusion in the elde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ening of pre-existing hyperactivity and aggressiveness in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xual sid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hancement of GABA 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41200" y="1752480"/>
            <a:ext cx="8229600" cy="34927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79000"/>
          </a:bodyPr>
          <a:p>
            <a:pPr marL="406080" indent="-406080">
              <a:spcBef>
                <a:spcPts val="799"/>
              </a:spcBef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Benzodiazepine drug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225720"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zepam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(Valiu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225720"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azepam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(Ativa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225720"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nazepam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(Klonopi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225720"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razepate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(Transxene-S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22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 of Actio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4200" indent="-180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the frequency of GAB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ctivated Cl- channel ope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hancement of GABA 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94000"/>
          </a:bodyPr>
          <a:p>
            <a:pPr marL="483480" indent="-483480">
              <a:spcBef>
                <a:spcPts val="799"/>
              </a:spcBef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Benzodiazepine drug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6856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dication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132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lonazepam &amp; clorazepate approved for long-term treat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1320" indent="-21456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Clorazep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1160" indent="-214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mbination for partial seiz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1320" indent="-21456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Clonazep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1160" indent="-214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nox-Gastaut Syndrome, myoclonic, atonic, and absence seiz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1160" indent="-214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e develops after about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hancement of GABA 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hancement of GABA 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Benzodiazepine drug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dication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Diazepam and lorazepa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used in treatment of status epiletic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azepam is painful to inject;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orazepam is more commonly used in acute treat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zep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ittent use for control of seizure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zepam frequently combined with phenyto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21:51:50Z</dcterms:created>
  <dc:creator>A M Aleisa</dc:creator>
  <dc:description/>
  <dc:language>en-US</dc:language>
  <cp:lastModifiedBy>User</cp:lastModifiedBy>
  <cp:lastPrinted>2013-10-22T06:35:52Z</cp:lastPrinted>
  <dcterms:modified xsi:type="dcterms:W3CDTF">2015-05-06T10:21:35Z</dcterms:modified>
  <cp:revision>223</cp:revision>
  <dc:subject/>
  <dc:title>Antiepileptic drugs</dc:title>
</cp:coreProperties>
</file>