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1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12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EC69-B84B-48BB-BC86-B50D46BA76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39A2-1517-4169-9A43-695ED29A3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2D34-0380-4FC3-BBAC-434945FD2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715C-B6E3-4C9D-A243-D1731577C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333C-F8EF-4510-B560-D3B4ACA5D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60CF-F821-49D1-A0FD-D0E9890D9F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66E7-42F4-41C1-89CA-D8EFA78B97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DE05-4075-46B1-A5F4-818238719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5544-3E5A-433B-A545-B6FB90945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E9EB-3910-4921-BEEB-C11BB5A6F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BEC1-6B5E-4B5D-8FCE-46EE8E718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7254-92C0-48B9-8DBE-D687037A4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0FA0-654D-43A5-B48B-F5A8D0EAF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29CC-5189-44B2-AE21-04C977A99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BE7F-CB00-4AD8-911D-3DBFDC7AE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7A4F-85CF-416E-B21E-31088B3CE2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A97E-1B2F-4017-B26C-EF0D5F41BA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EC06-8326-4C64-B13F-C32A0E6C7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EB74-D832-4B6D-8721-605ADACEE6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B198-1F16-4696-B55E-32CF82C75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EC9A-2CE3-490D-9BA6-ABDB23BA7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ar-SA" sz="1200" spc="-1" strike="noStrike">
                <a:solidFill>
                  <a:srgbClr val="000000"/>
                </a:solidFill>
                <a:latin typeface="Arial"/>
              </a:rPr>
              <a:t>porphyrias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 are a group of rare inherited or acquired disorders of certain enzymes that normally participate in the production of porphyrins and h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4CC3-0666-443B-8049-328DC23CC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0384-E138-44F3-A26C-B204EB905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796F-29A0-42BA-822E-0B6111E3C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1294-B0F4-4265-A0CA-9AA7F0322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4D91-19A0-4876-9589-E1DE41D0C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65A74-3C83-4CCA-8CCD-B9BE81E3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BA46D-FD85-440F-A745-9D8BD157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3404A-65EB-47B5-BDA0-5095E531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A4064-B532-41F6-A065-892EE3AC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F110-A685-4268-9043-61B95256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9DAA-150D-4190-A0E5-50991F3B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F04C-BC72-44C7-8942-1C5C8FAE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626B-3475-44B3-B690-C5DD8039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E0CF-4FF9-422B-8D7B-CBB07655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C482-0134-478D-B19D-F3A299C5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D113-25B2-44FE-81D0-DADB4866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6F075-783F-4AAF-95BC-DF01E4AF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2581-2DAB-412A-AC82-7D27334E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FA62-FAA3-4418-B096-C821C0D6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F08C-E766-48E0-B575-DE9F7013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BC71-FAED-4EEB-92CA-7A25EF7D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AEA1-4DEA-45D1-98CD-F0639E69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28A06-5B32-44A2-8D8F-72F3280D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AAC8A-A9BB-4C2E-A6CC-A049EFD3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DFD48-6FC2-4904-A766-922EAA3E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2C59C-3141-40AD-9FDD-CD61138D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346FC-8582-4B55-B0AC-8C6A00AC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94CC0-AE53-4C6B-8C6D-1CC4C675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6A7A5-0257-4687-A8AA-4C1CEE60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BB061-3039-463B-9A4E-2BB0E3BC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0D8CD-89A3-4A36-A5A7-1A361F3D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67C22-17E7-4835-B46B-D546BD01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AEE7B-E347-44F7-9879-26C22DA4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55345-C631-4A1F-BAAE-D38AC91E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41AFC-6988-4807-9FD8-D33B9182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4D1EF-06F9-40C5-BC25-AC70C25B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D8390-F40F-4034-BC6F-D4454845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38762-BF90-4B8C-8758-E88FA84F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307B4-424A-4E00-88AA-4F8C4E1F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CADB0-DF64-448A-92C7-ACE43D52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1F13F-9889-4D41-BDC6-353A6A78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C698-2E9B-4097-B0D6-449221053E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F1C7-6170-420C-942E-99533295C9CE}" type="slidenum">
              <a:rPr b="0" lang="ar-A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D512-BB4D-43A4-8765-4745EA089C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3680" y="0"/>
            <a:ext cx="8229600" cy="798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rIns="132120" anchor="ctr">
            <a:noAutofit/>
          </a:bodyPr>
          <a:p>
            <a:pPr marL="571680" indent="-571680" algn="ctr">
              <a:buClr>
                <a:srgbClr val="ff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nhancement of GABA Inhib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-76320" y="785880"/>
            <a:ext cx="4632480" cy="6072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2174760" cy="2236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0" y="785880"/>
            <a:ext cx="5592600" cy="6089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58" name="Text Box 3"/>
          <p:cNvSpPr/>
          <p:nvPr/>
        </p:nvSpPr>
        <p:spPr>
          <a:xfrm>
            <a:off x="5884200" y="1928880"/>
            <a:ext cx="3003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 Narrow"/>
              </a:rPr>
              <a:t>Antiseizur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 Narrow"/>
              </a:rPr>
              <a:t>enhan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 Narrow"/>
              </a:rPr>
              <a:t>GA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 Narrow"/>
              </a:rPr>
              <a:t>synap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 Narrow"/>
              </a:rPr>
              <a:t>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926680" y="5865840"/>
            <a:ext cx="2879640" cy="9169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Goodman &amp; Gilman'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The Pharmacologic Basi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Therapeutics - 11th Ed. (200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Benzodiazepine drug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74320">
              <a:spcBef>
                <a:spcPts val="700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Contraind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50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zepam in children under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50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 angle glauc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7432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verse Eff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508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onia, Dysarthr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ifficulty in articulating words, caused by impairment of the muscles used in spee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50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le in-coordination (clonazep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50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al disturbances (especially in child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7392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ssion, Hyperactivity, Irritability and Difficulty concent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hancement of GABA 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94000"/>
          </a:bodyPr>
          <a:p>
            <a:pPr marL="483480" indent="-483480">
              <a:spcBef>
                <a:spcPts val="499"/>
              </a:spcBef>
              <a:buClr>
                <a:srgbClr val="00206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2060"/>
                </a:solidFill>
                <a:uFillTx/>
                <a:latin typeface="Arial"/>
              </a:rPr>
              <a:t>Tiagabine 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(Gabitri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 of Ac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132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ibition of GABA transporter (GAT-1) – reduces reuptake of GABA by neurons and glial cel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6856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dica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132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8 as an adjunct therapy for partial seizures in patients at least 12 years 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ind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132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ence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hancement of GABA 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514440" indent="-514440">
              <a:spcBef>
                <a:spcPts val="499"/>
              </a:spcBef>
              <a:buClr>
                <a:srgbClr val="00206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2060"/>
                </a:solidFill>
                <a:uFillTx/>
                <a:latin typeface="Arial"/>
              </a:rPr>
              <a:t>Tiagabine 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(Gabitri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levels decreased by CBZ, phenytoin, phenobarbital, &amp; primi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verse Eff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heni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akn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ominal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hancement of GABA 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gabatr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ibits the GABA transamin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ally (by forming an irreversible covalent bo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the content of GABA in the cerebrospinal fl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a half-life is 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produces a long-lasting effect (irreversible blocked of the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given orally once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vigabatrin_b"/>
          <p:cNvPicPr/>
          <p:nvPr/>
        </p:nvPicPr>
        <p:blipFill>
          <a:blip r:embed="rId1"/>
          <a:srcRect l="12000" t="15218" r="32004" b="14830"/>
          <a:stretch/>
        </p:blipFill>
        <p:spPr>
          <a:xfrm>
            <a:off x="6858000" y="152280"/>
            <a:ext cx="213372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gabatr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ly free from side-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in drawback of vigabatrin is the occurrence of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in patients resistant to the established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776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rIns="132120" anchor="ctr">
            <a:noAutofit/>
          </a:bodyPr>
          <a:p>
            <a:pPr marL="571680" indent="-571680" algn="ctr">
              <a:buClr>
                <a:srgbClr val="ff000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"/>
              </a:rPr>
              <a:t>Calcium Channel Bloc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مستطيل 6"/>
          <p:cNvSpPr/>
          <p:nvPr/>
        </p:nvSpPr>
        <p:spPr>
          <a:xfrm>
            <a:off x="228600" y="167652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hibit low-threshold (T-type) Ca 2+ currents, especially in thalamic neurons that act as pacemakers to generate rhythmic cortical dischar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371600" y="2460600"/>
            <a:ext cx="6324480" cy="3787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90" name="Text Box 5"/>
          <p:cNvSpPr/>
          <p:nvPr/>
        </p:nvSpPr>
        <p:spPr>
          <a:xfrm>
            <a:off x="1830240" y="977760"/>
            <a:ext cx="533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Antiseizure drugs, induced reduc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current through T-type Ca</a:t>
            </a:r>
            <a:r>
              <a:rPr b="0" lang="en-US" sz="2000" spc="-1" strike="noStrike" baseline="30000">
                <a:solidFill>
                  <a:srgbClr val="0033cc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channels.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57200" y="6458040"/>
            <a:ext cx="7467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Goodman &amp; Gilman's The Pharmacologic Basis of Therapeutics - 11th Ed. (200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oltage-Gated Ca2+ Channel T Cur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4600" y="1599840"/>
            <a:ext cx="7594560" cy="42670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90000"/>
          </a:bodyPr>
          <a:p>
            <a:pPr marL="462960" indent="-462960">
              <a:spcBef>
                <a:spcPts val="4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Ethosuximide 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(Zaronti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 of Actio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416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low -threshold Ca2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s (T currents) in the thalamic neur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416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-life is ~60 hr in adults; ~30hr in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2570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d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416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line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bs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ind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416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exacerbate partial &amp; tonic-clonic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84000"/>
          </a:bodyPr>
          <a:p>
            <a:pPr marL="432000" indent="-432000">
              <a:spcBef>
                <a:spcPts val="4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Ethosuximide 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(Zaronti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397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verse Eff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3240" indent="-19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ychotic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3240" indent="-19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dyscras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3240" indent="-19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istent head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3240" indent="-19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rex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3240" indent="-19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3240" indent="-19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pus-like syndr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32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i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3240" indent="-19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kinson-like symp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3240" indent="-19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pho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oltage-Gated Ca2+ Channel T Cur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lockade of Calcium Channels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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82760" y="1434960"/>
            <a:ext cx="8229600" cy="42926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86000"/>
          </a:bodyPr>
          <a:p>
            <a:pPr marL="442080" indent="-442080">
              <a:spcBef>
                <a:spcPts val="4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2060"/>
                </a:solidFill>
                <a:uFillTx/>
                <a:latin typeface="Arial"/>
              </a:rPr>
              <a:t>Gabapentin 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(Neuronti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84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 of A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ly designed to be a centrally acting GABA agonist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s anticonvulsant effects not by acting on GABA recep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inhibition of v-g Ca2+ channels containing the α2δ1 subun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no effect on sodium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84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nct therapy in adults and children with partial &amp; secondarily generalized seiz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effective as monothera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09480" y="1892160"/>
            <a:ext cx="8229600" cy="3949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2060"/>
                </a:solidFill>
                <a:uFillTx/>
                <a:latin typeface="Arial"/>
              </a:rPr>
              <a:t>Gabapentin 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(Neuronti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ind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2280" indent="-203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exacerbate myoclonic &amp; absence seizu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-25416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verse Eff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2280" indent="-203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 Gain (5%) with ankle ed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280" indent="-203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it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280" indent="-203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al problems in children (6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280" indent="-203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been associated with movement disor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lockade of Calcium Channels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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hancement of GABA 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726920"/>
            <a:ext cx="8229600" cy="37083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92000"/>
          </a:bodyPr>
          <a:p>
            <a:pPr marL="473040" indent="-473040">
              <a:spcBef>
                <a:spcPts val="70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060"/>
                </a:solidFill>
                <a:uFillTx/>
                <a:latin typeface="Arial"/>
              </a:rPr>
              <a:t>Barbiturate drugs: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enobarbital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(Lu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idone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(Mysol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 of Ac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7920" indent="-210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the duration of GAB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ctivated Cl- channel op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92000"/>
          </a:bodyPr>
          <a:p>
            <a:pPr marL="473040" indent="-473040">
              <a:spcBef>
                <a:spcPts val="499"/>
              </a:spcBef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2060"/>
                </a:solidFill>
                <a:uFillTx/>
                <a:latin typeface="Arial"/>
              </a:rPr>
              <a:t>Pregabalin 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(Lyr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-drug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gabalin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is more potent than gabapentin, is in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 of 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792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 gabapen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26280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Ind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792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792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nct therapy for partial &amp; secondarily generalized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7920" indent="-210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cribed for neuropathic pain, fibromyalg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 syndrome characterized by chronic pain in the muscles of soft tissues surrounding joints, fatigue, and tenderness at specific sites in the bod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lockade of Calcium Channels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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9240"/>
            <a:ext cx="8229600" cy="1017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00000"/>
                </a:solidFill>
                <a:latin typeface="Arial"/>
              </a:rPr>
              <a:t>Other/Unknown MO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8728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2060"/>
                </a:solidFill>
                <a:uFillTx/>
                <a:latin typeface="Arial"/>
              </a:rPr>
              <a:t>Levetiracetam </a:t>
            </a:r>
            <a:r>
              <a:rPr b="0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(Keppr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ion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9 as an adjunct therapy for adults with partial seizu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atients have success with mon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152280" y="3124080"/>
            <a:ext cx="8229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3212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ind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al dys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verse Eff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h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al problems in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lock the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N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thyl-D-aspartate (NMDA)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lutamate recep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060"/>
                </a:solidFill>
                <a:uFillTx/>
                <a:latin typeface="Arial"/>
              </a:rPr>
              <a:t>Felbamate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elba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has a broad spectrum of anticonvulsant a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rug has multiple proposed mechanisms inclu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voltage-dependent sodium channels (wea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ng with the glycine-coagonist binding site on the N-methyl-D-aspartate (NMDA) glutamate recep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alcium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tion of GABA a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reserved for use in refractory epilepsies (particularly Lennox-Gastaut syndrome) because of the risk of aplastic anemia (about 1:4000) and hepatic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Graphic"/>
          <p:cNvPicPr/>
          <p:nvPr/>
        </p:nvPicPr>
        <p:blipFill>
          <a:blip r:embed="rId1"/>
          <a:stretch/>
        </p:blipFill>
        <p:spPr>
          <a:xfrm>
            <a:off x="1752480" y="685800"/>
            <a:ext cx="5715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380880" y="1841400"/>
            <a:ext cx="83059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st classical antiepileptic drugs exhibit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imilar pharmacokinetic prope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absor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lasma protein binding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except for phenytoin, BDZs, valproate, and tiagabin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to active metabolit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carbamazepine, primidone, fosphenyto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ed by the li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 clearance is s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concentrations phenytoin exhibits zero order kine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مربع نص 2"/>
          <p:cNvSpPr/>
          <p:nvPr/>
        </p:nvSpPr>
        <p:spPr>
          <a:xfrm>
            <a:off x="1515960" y="55404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Pharmacokinetics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 effec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ation - especially with barbitu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metic - phenyt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 gain – valproic acid, gabapen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 loss - topira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tive function – valpro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ve - topira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al – felbamate, leviterace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rgic -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http://thepointeedition.lww.com/FullTextService/CT%7b06b9ee1beed59419c4d56899cee0fdc8d4bcfc5a9496de4b313c87d9cf5dbbe2f6bf48e24e3f2fbcfa1d23da77a9f953%7d/DA3C15FF6.jpg"/>
          <p:cNvPicPr/>
          <p:nvPr/>
        </p:nvPicPr>
        <p:blipFill>
          <a:blip r:embed="rId1"/>
          <a:srcRect l="0" t="0" r="0" b="50149"/>
          <a:stretch/>
        </p:blipFill>
        <p:spPr>
          <a:xfrm>
            <a:off x="380880" y="0"/>
            <a:ext cx="2286000" cy="5851440"/>
          </a:xfrm>
          <a:prstGeom prst="rect">
            <a:avLst/>
          </a:prstGeom>
          <a:ln w="0">
            <a:noFill/>
          </a:ln>
        </p:spPr>
      </p:pic>
      <p:sp>
        <p:nvSpPr>
          <p:cNvPr id="213" name="مستطيل 4"/>
          <p:cNvSpPr/>
          <p:nvPr/>
        </p:nvSpPr>
        <p:spPr>
          <a:xfrm>
            <a:off x="228600" y="6031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table adverse effects of antiseizure med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http://thepointeedition.lww.com/FullTextService/CT%7b06b9ee1beed59419c4d56899cee0fdc8d4bcfc5a9496de4b313c87d9cf5dbbe2f6bf48e24e3f2fbcfa1d23da77a9f953%7d/DA3C15FF6.jpg"/>
          <p:cNvPicPr/>
          <p:nvPr/>
        </p:nvPicPr>
        <p:blipFill>
          <a:blip r:embed="rId2"/>
          <a:srcRect l="0" t="50149" r="0" b="0"/>
          <a:stretch/>
        </p:blipFill>
        <p:spPr>
          <a:xfrm>
            <a:off x="6324480" y="0"/>
            <a:ext cx="259092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rug treatment of seiz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-long treatment may b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take weeks to establish adequate drug plasma levels and to determine the adequacy of therapeutic improv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ck of compli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sponsible for many treatment fail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hancement of GABA 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432640" cy="5257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514440" indent="-514440">
              <a:spcBef>
                <a:spcPts val="499"/>
              </a:spcBef>
              <a:buClr>
                <a:srgbClr val="00206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2060"/>
                </a:solidFill>
                <a:uFillTx/>
                <a:latin typeface="Arial"/>
              </a:rPr>
              <a:t>Phenobarbital 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(Lumina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choice for partial and generalized tonic-clonic seiz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absorption has made i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 common choice for seizures in inf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t adverse cognitive effects cause it to be used less in older children and ad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 epilepti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barbital is a powerful inducer of liver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ind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ence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hancement of GABA 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1960" y="182880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93000"/>
          </a:bodyPr>
          <a:p>
            <a:pPr marL="478080" indent="-478080">
              <a:spcBef>
                <a:spcPts val="499"/>
              </a:spcBef>
              <a:buClr>
                <a:srgbClr val="00206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2060"/>
                </a:solidFill>
                <a:uFillTx/>
                <a:latin typeface="Arial"/>
              </a:rPr>
              <a:t>Primidone 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(Mysolin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56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980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vant or monotherapy for partial and generalized tonic-clonic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980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control refractory generalized tonic-clonic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56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ind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980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porphy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Phenobarbital </a:t>
            </a:r>
            <a:r>
              <a:rPr b="0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(Luminal)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&amp; Primidone </a:t>
            </a:r>
            <a:r>
              <a:rPr b="0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(Mysolin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Intera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NS depress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metabolism of vitamin D and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ytoin increases the conversion of primidone to phenoba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hancement of GABA 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Phenobarbital </a:t>
            </a:r>
            <a:r>
              <a:rPr b="0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(Luminal)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 &amp; Primidone </a:t>
            </a:r>
            <a:r>
              <a:rPr b="0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(Mysolin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verse Eff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tation and confusion in the eld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ening of pre-existing hyperactivity and aggressiveness in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ual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hancement of GABA 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41200" y="1752480"/>
            <a:ext cx="8229600" cy="34927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79000"/>
          </a:bodyPr>
          <a:p>
            <a:pPr marL="406080" indent="-406080">
              <a:spcBef>
                <a:spcPts val="799"/>
              </a:spcBef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Benzodiazepine drug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225720"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zepam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(Valiu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225720"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azepam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(Ativa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225720"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nazepam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(Klonopi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225720"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razepate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(Transxene-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 of Actio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4200" indent="-180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the frequency of GAB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ctivated Cl- channel op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hancement of GABA 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Benzodiazepine drug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6856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dication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132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lonazepam &amp; clorazepate approved for long-term trea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1320" indent="-21456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Clorazep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1160" indent="-214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mbination for partial seiz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1320" indent="-21456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Clonaze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1160" indent="-214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nox-Gastaut Syndrome, myoclonic, atonic, and absence seiz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1160" indent="-214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e develops after about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hancement of GABA 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hancement of GABA 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Benzodiazepine drug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dication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Diazepam and lorazep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used in treatment of status epiletic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azepam is painful to inject;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orazepam is more commonly used in acute trea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ze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ittent use for control of seizure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zepam frequently combined with phenyto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21:51:50Z</dcterms:created>
  <dc:creator>A M Aleisa</dc:creator>
  <dc:description/>
  <dc:language>en-US</dc:language>
  <cp:lastModifiedBy>User</cp:lastModifiedBy>
  <cp:lastPrinted>2013-10-22T06:35:52Z</cp:lastPrinted>
  <dcterms:modified xsi:type="dcterms:W3CDTF">2015-05-06T10:21:35Z</dcterms:modified>
  <cp:revision>223</cp:revision>
  <dc:subject/>
  <dc:title>Antiepileptic drugs</dc:title>
</cp:coreProperties>
</file>