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5.jpeg" ContentType="image/jpeg"/>
  <Override PartName="/ppt/media/image18.wmf" ContentType="image/x-wmf"/>
  <Override PartName="/ppt/media/image32.jpeg" ContentType="image/jpeg"/>
  <Override PartName="/ppt/media/image20.wmf" ContentType="image/x-wmf"/>
  <Override PartName="/ppt/media/image26.jpeg" ContentType="image/jpeg"/>
  <Override PartName="/ppt/media/image1.jpeg" ContentType="image/jpeg"/>
  <Override PartName="/ppt/media/image7.png" ContentType="image/png"/>
  <Override PartName="/ppt/media/image15.wmf" ContentType="image/x-wmf"/>
  <Override PartName="/ppt/media/image11.jpeg" ContentType="image/jpeg"/>
  <Override PartName="/ppt/media/image29.jpeg" ContentType="image/jpeg"/>
  <Override PartName="/ppt/media/image28.png" ContentType="image/png"/>
  <Override PartName="/ppt/media/image8.jpeg" ContentType="image/jpeg"/>
  <Override PartName="/ppt/media/image13.wmf" ContentType="image/x-wmf"/>
  <Override PartName="/ppt/media/image9.png" ContentType="image/png"/>
  <Override PartName="/ppt/media/image17.wmf" ContentType="image/x-wmf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4.png" ContentType="image/png"/>
  <Override PartName="/ppt/media/image27.png" ContentType="image/png"/>
  <Override PartName="/ppt/media/image10.jpeg" ContentType="image/jpeg"/>
  <Override PartName="/ppt/media/image14.png" ContentType="image/png"/>
  <Override PartName="/ppt/media/image16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media/image1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195B-568D-46FF-9011-662CCC6CF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4AF9-1BDD-4265-815D-2ADCC92F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D4E5-EAA6-4098-93A7-C3909BB94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F976-9CB5-4589-8E80-08EA7434A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49A0-B3C4-4536-BB2B-41000A00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F9AB-FD6E-4C7B-8C7C-CDD8D1F7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B37D-9764-4447-9306-3289ECD3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5614-1DAD-4F0F-B108-8425CA1A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4390-D40B-4C8D-862B-846DABD3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67AE-6151-41FB-825D-109419BB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ED82-CEDC-4A95-8963-C111F60B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E8A2-4CE9-4DC2-BF8D-0FFBB9B1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7880-7DEB-42FD-8C5E-F97CF735AA3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Brain_Diagram"/>
          <p:cNvPicPr/>
          <p:nvPr/>
        </p:nvPicPr>
        <p:blipFill>
          <a:blip r:embed="rId1"/>
          <a:stretch/>
        </p:blipFill>
        <p:spPr>
          <a:xfrm>
            <a:off x="2124000" y="1052640"/>
            <a:ext cx="4969080" cy="44337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971640" y="2205000"/>
            <a:ext cx="727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200"/>
                </a:solidFill>
                <a:latin typeface="Verdana"/>
              </a:rPr>
              <a:t>Introduction to the Pharmacology of CNS acting drugs</a:t>
            </a:r>
            <a:endParaRPr b="0" lang="en-US" sz="4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9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8400"/>
                            </p:stCondLst>
                            <p:childTnLst>
                              <p:par>
                                <p:cTn id="22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971640" y="907920"/>
            <a:ext cx="756108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680" indent="-58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mid-brain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serves as a “bridge” area which connects the cerebrum to the cerebellum and pons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is concerned with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motor coordination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”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70" name="Picture 3" descr="talk005__s029_f"/>
          <p:cNvPicPr/>
          <p:nvPr/>
        </p:nvPicPr>
        <p:blipFill>
          <a:blip r:embed="rId1"/>
          <a:stretch/>
        </p:blipFill>
        <p:spPr>
          <a:xfrm>
            <a:off x="2987640" y="3500280"/>
            <a:ext cx="3809880" cy="27147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2700360" y="3429000"/>
            <a:ext cx="4896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6659640" y="3500280"/>
            <a:ext cx="504720" cy="27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2771640" y="5805360"/>
            <a:ext cx="41054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611280" y="907920"/>
            <a:ext cx="518472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680" indent="-58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cerebellum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plays an important role in maintaining the appropriat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body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postur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&amp;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equilibrium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75" name="Picture 3" descr="stem"/>
          <p:cNvPicPr/>
          <p:nvPr/>
        </p:nvPicPr>
        <p:blipFill>
          <a:blip r:embed="rId1"/>
          <a:stretch/>
        </p:blipFill>
        <p:spPr>
          <a:xfrm>
            <a:off x="6300720" y="1341360"/>
            <a:ext cx="2400480" cy="19814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"/>
          <p:cNvSpPr/>
          <p:nvPr/>
        </p:nvSpPr>
        <p:spPr>
          <a:xfrm>
            <a:off x="468360" y="3357720"/>
            <a:ext cx="8064360" cy="23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680" indent="-58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pons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bridges the cerebellum to the medulla oblongata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locus ceruleu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is one of the important areas of the pons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539640" y="1341360"/>
            <a:ext cx="828036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medulla oblongata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serves as an organ of conduction for the passage of impulses between the brain and spinal cord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contains important 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center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cardioinhibitory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vasomotor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respiratory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vomiting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(chemoreceptor trigger zone, CTZ)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78" name="Picture 3" descr="stem"/>
          <p:cNvPicPr/>
          <p:nvPr/>
        </p:nvPicPr>
        <p:blipFill>
          <a:blip r:embed="rId1"/>
          <a:stretch/>
        </p:blipFill>
        <p:spPr>
          <a:xfrm>
            <a:off x="6372360" y="2781360"/>
            <a:ext cx="18968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539640" y="1484280"/>
            <a:ext cx="633744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spinal cord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is a cylindrical mass of nerve cells that extends from the end of the medulla oblongata to the lower lumbar vertebrae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mpulses flow from and to the brain through descending and ascending tracts of the spinal cord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80" name="Picture 4" descr="061801-3"/>
          <p:cNvPicPr/>
          <p:nvPr/>
        </p:nvPicPr>
        <p:blipFill>
          <a:blip r:embed="rId1"/>
          <a:stretch/>
        </p:blipFill>
        <p:spPr>
          <a:xfrm>
            <a:off x="7020000" y="1268280"/>
            <a:ext cx="1755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755640" y="549360"/>
            <a:ext cx="7559640" cy="128052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fferent Systems of the </a:t>
            </a:r>
            <a:endParaRPr b="0" lang="en-US" sz="36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NS &amp; their functions</a:t>
            </a:r>
            <a:endParaRPr b="0" lang="en-US" sz="36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826920" y="2133720"/>
            <a:ext cx="763272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se systems are pathways formed of specific parts of the brain and the neurons connecting them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They includ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1.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Th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pyramidal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system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2.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Th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extrapyramidal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system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3.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Th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limbic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system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4.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Th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reticular formation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5.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Th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tuberohypophyseal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system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395280" y="836640"/>
            <a:ext cx="8280360" cy="32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pyramidal system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originates from the motor area of the cerebral cortex and passes through the spinal cord, therefore it is also known as the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corticospinal tract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is responsible for the regulation of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fine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voluntary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movement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84" name="Picture 3" descr="needle"/>
          <p:cNvPicPr/>
          <p:nvPr/>
        </p:nvPicPr>
        <p:blipFill>
          <a:blip r:embed="rId1"/>
          <a:stretch/>
        </p:blipFill>
        <p:spPr>
          <a:xfrm>
            <a:off x="5508720" y="3933720"/>
            <a:ext cx="3085920" cy="24829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5364000" y="6021360"/>
            <a:ext cx="331164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3000"/>
                            </p:stCondLst>
                            <p:childTnLst>
                              <p:par>
                                <p:cTn id="5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539640" y="260280"/>
            <a:ext cx="8136000" cy="56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extrapyramidal system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also controls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motor function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but involves areas other than the corticospinal tract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is involved in the regulation of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gross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voluntary movement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thus it complements the function of the pyramidal system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basal gangli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constitute an essential part of this system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egenerative changes in the pathway running from the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substantia nigr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to the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corpus striatum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(or nigrostriatal pathway) may cause tremors and muscle rigidity characteristic of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Parkinson’s diseas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87" name="Picture 4" descr="delahoya_sturm_CarloAllegri"/>
          <p:cNvPicPr/>
          <p:nvPr/>
        </p:nvPicPr>
        <p:blipFill>
          <a:blip r:embed="rId1"/>
          <a:stretch/>
        </p:blipFill>
        <p:spPr>
          <a:xfrm>
            <a:off x="3059280" y="3500280"/>
            <a:ext cx="2808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500"/>
                            </p:stCondLst>
                            <p:childTnLst>
                              <p:par>
                                <p:cTn id="542" nodeType="afterEffect" fill="hold" presetClass="exit" presetID="31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43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539640" y="836640"/>
            <a:ext cx="777744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limbic system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major parts of this system are: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hypothalamu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basal gangli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hippocampu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(responsible for short term memory), and som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cortical area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89" name="Picture 3" descr="lsd2_s04"/>
          <p:cNvPicPr/>
          <p:nvPr/>
        </p:nvPicPr>
        <p:blipFill>
          <a:blip r:embed="rId1"/>
          <a:stretch/>
        </p:blipFill>
        <p:spPr>
          <a:xfrm>
            <a:off x="5364000" y="3357720"/>
            <a:ext cx="2978280" cy="26827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468360" y="371628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limbic system is involved in the control of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behavior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&amp;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emotion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95280" y="549360"/>
            <a:ext cx="561672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reticular formation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is composed of interlacing fibers and nerve cells that run in all directions beginning from the upper part of the spinal cord and extending upwards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395280" y="321300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is important in the control of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consciousnes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and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wakefulnes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93" name="Picture 4" descr="reticularformation"/>
          <p:cNvPicPr/>
          <p:nvPr/>
        </p:nvPicPr>
        <p:blipFill>
          <a:blip r:embed="rId1"/>
          <a:stretch/>
        </p:blipFill>
        <p:spPr>
          <a:xfrm>
            <a:off x="6084720" y="404640"/>
            <a:ext cx="2700360" cy="27259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395280" y="4365720"/>
            <a:ext cx="828036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tuberohypophyseal system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is a group of short neurons running from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hypothalamu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to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hypophysi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(pituitary gland) regulating its secretions.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4436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Cells of the Nervous Syste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3628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1- Neurons (Nerve Cells):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nction units of the nervous system by conducting nerve impulses, highly specialized and amitotic. Each has a cell body (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som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, one or more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dendrit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nd a single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x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c"/>
                </a:solidFill>
                <a:latin typeface="Verdana"/>
              </a:rPr>
              <a:t>Cell Body: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has a nucleus with at least one nucleolus and many of the typical cytoplasmic organelles, </a:t>
            </a:r>
            <a:r>
              <a:rPr b="0" lang="en-US" sz="2400" spc="-1" strike="noStrike">
                <a:solidFill>
                  <a:srgbClr val="008200"/>
                </a:solidFill>
                <a:latin typeface="Verdana"/>
              </a:rPr>
              <a:t>but lacks centrioles for cell divis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c"/>
                </a:solidFill>
                <a:latin typeface="Verdana"/>
              </a:rPr>
              <a:t>Dendrites: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ndrites and axons are cytoplasmic extensions (or processes), that project from the cell body. They are sometimes referred to as fibers.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ndrites (afferent processes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 their surface area to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 signals from other neur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nd transmit impulses to the neuron cell bod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c"/>
                </a:solidFill>
                <a:latin typeface="Verdana"/>
              </a:rPr>
              <a:t>Axon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is only on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xon (efferent process)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projects from each cell body.        It carries impulses away from the cell bod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6"/>
          <p:cNvSpPr/>
          <p:nvPr/>
        </p:nvSpPr>
        <p:spPr>
          <a:xfrm>
            <a:off x="611280" y="404640"/>
            <a:ext cx="8137440" cy="57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CNS acting drugs are of major therapeutic and clinical importance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y can produce diverse 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physiological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nd 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psychological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effects such as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Induction of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Anesthesia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4572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Relief of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Pain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4572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Prevention of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Epileptic seizures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4572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 </a:t>
            </a:r>
            <a:r>
              <a:rPr b="0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Reduction of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Anxiety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4572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reatment of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Parkinsonism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4572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reatment of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Alzheimer's disease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4572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reatment of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Depression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4572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Centrally acting drugs also include drugs that are administered without medical intervention like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te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,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coffe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,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nicot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, and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  <a:ea typeface="Arial"/>
              </a:rPr>
              <a:t>opiate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 rot="5400000">
            <a:off x="2087280" y="7560"/>
            <a:ext cx="5256360" cy="705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Cells of the Nervous Syst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2- Glial cells: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do not conduct nerve impulses, but support, nourish, and protect the neurons. They are mitotic, and far more numerous than neuron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strocyte: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glial cell that prov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ort for neuron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N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s nutri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gulates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emical composi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he extracellular flu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4932360" y="2708280"/>
            <a:ext cx="403236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Cells of the Nervou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Oligodendrocyte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type of glial cell in the CNS that forms myelin sheath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 rot="5400000">
            <a:off x="2520000" y="1303920"/>
            <a:ext cx="3816360" cy="69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Cells of the Nervou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Microglia: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mallest glial cells; act as phagocytes (cleaning up debris) and protect the brain from invading micro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 rot="5400000">
            <a:off x="2880360" y="2095920"/>
            <a:ext cx="3456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0000"/>
                </a:solidFill>
                <a:latin typeface="Verdana"/>
              </a:rPr>
              <a:t>Cells of the Nervous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Schwann cell: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ell in the PNS that is wrapped around a myelinated axon, providing one segment of its myelin shea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 rot="5400000">
            <a:off x="2987280" y="1773000"/>
            <a:ext cx="30240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Types of Neurons (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re are 3 general types of neurons (nerve cell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1- Sensory (Afferent ) neuron: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neuron that detects changes in the external or internal environment and sends information about these changes to the CNS. (e.g: rods and cones, touch receptors). They usually have long dendrites and relatively short ax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2- Motor (Efferent) neuron: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neuron located within the CNS that controls the contraction of    a muscle or the secretion of a gland. They usually have short dendrites and long ax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2- Interneuron or association neurons: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neuron located entirely within the CNS in which they form the connecting link between the afferent and efferent neurons. They have short dendrites and may have either a short or long ax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Types of Neurons (Morphology)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200"/>
                </a:solidFill>
                <a:latin typeface="Verdana"/>
              </a:rPr>
              <a:t>1- Unipolar neur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neuron with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xon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attached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ts so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axon divid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ith one bran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ing sens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formation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nding th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o the C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 rot="5400000">
            <a:off x="4427640" y="2132640"/>
            <a:ext cx="51120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200"/>
                </a:solidFill>
                <a:latin typeface="Verdana"/>
              </a:rPr>
              <a:t>2- Bipolar neur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neuron with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one ax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nd one dendrit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ttached to its so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5003640" y="1268280"/>
            <a:ext cx="3672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200"/>
                </a:solidFill>
                <a:latin typeface="Verdana"/>
              </a:rPr>
              <a:t>3- Multipolar neur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neuron with one ax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many dendr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 rot="5400000">
            <a:off x="4391640" y="1808640"/>
            <a:ext cx="46083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Neuron Basic Structure </a:t>
            </a:r>
            <a:br>
              <a:rPr sz="2800"/>
            </a:b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(How brain cells communicate)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2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Synaps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junction between the terminal button of an axon and the membrane of another neu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2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Terminal button(or bouton):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The bud at the end of a branch of an axon; forms synapses with another neuron; sends information to that neur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2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Neurotransmitter: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A chemical that is released by a terminal button; has an excitatory or inhibitory effect on another neur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539640" y="2060640"/>
            <a:ext cx="8064720" cy="29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CNS is a highly complex tissue that controls all of the body activities and serves as a processing center that links the body to the outside world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is an assembly of interrelated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“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part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and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“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systems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”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that regulate their own and each other’s activity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755640" y="907920"/>
            <a:ext cx="7559640" cy="731880"/>
          </a:xfrm>
          <a:prstGeom prst="rect">
            <a:avLst/>
          </a:prstGeom>
          <a:solidFill>
            <a:srgbClr val="008200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Structure of the CNS</a:t>
            </a:r>
            <a:endParaRPr b="0" lang="en-US" sz="36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0000"/>
                </a:solidFill>
                <a:latin typeface="Verdana"/>
              </a:rPr>
              <a:t>Different types of Synapses</a:t>
            </a:r>
            <a:br>
              <a:rPr sz="2400"/>
            </a:b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     </a:t>
            </a:r>
            <a:r>
              <a:rPr b="1" lang="en-US" sz="2400" spc="-1" strike="noStrike">
                <a:solidFill>
                  <a:srgbClr val="00008c"/>
                </a:solidFill>
                <a:latin typeface="Verdana"/>
              </a:rPr>
              <a:t>1- Axo-denrdritic</a:t>
            </a:r>
            <a:br>
              <a:rPr sz="2400"/>
            </a:br>
            <a:r>
              <a:rPr b="1" lang="en-US" sz="2400" spc="-1" strike="noStrike">
                <a:solidFill>
                  <a:srgbClr val="00008c"/>
                </a:solidFill>
                <a:latin typeface="Verdana"/>
              </a:rPr>
              <a:t>     2- Axo-axonal</a:t>
            </a:r>
            <a:br>
              <a:rPr sz="2400"/>
            </a:br>
            <a:r>
              <a:rPr b="1" lang="en-US" sz="2400" spc="-1" strike="noStrike">
                <a:solidFill>
                  <a:srgbClr val="00008c"/>
                </a:solidFill>
                <a:latin typeface="Verdana"/>
              </a:rPr>
              <a:t>     3- Axo-so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 rot="5400000">
            <a:off x="2448000" y="296640"/>
            <a:ext cx="4248000" cy="82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0000"/>
                </a:solidFill>
                <a:latin typeface="Arial"/>
              </a:rPr>
              <a:t>What happens at a synaps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8200"/>
                </a:solidFill>
                <a:latin typeface="Arial"/>
              </a:rPr>
              <a:t>How Neurotransmitters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 rot="5400000">
            <a:off x="2374200" y="512640"/>
            <a:ext cx="489744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539640" y="260280"/>
            <a:ext cx="8137800" cy="853560"/>
          </a:xfrm>
          <a:prstGeom prst="rect">
            <a:avLst/>
          </a:prstGeom>
          <a:solidFill>
            <a:srgbClr val="fa0000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hemical transmission in the CNS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95280" y="1413000"/>
            <a:ext cx="8352000" cy="48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CNS controls the main functions of the body through the action endogenous chemical substances known as “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neurotransmitter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se neurotransmitters are stored in and secreted by neurons to “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transmit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information to the postsynaptic sites producing either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excitator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or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inhibitor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responses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Most centrally acting drugs exert their actions at the synaptic junctions by either affecting neurotransmitter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synthesi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releas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uptak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or by exerting direct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agonist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or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antagonist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ction on postsynaptic sites.</a:t>
            </a:r>
            <a:r>
              <a:rPr b="0" lang="en-US" sz="1800" spc="-1" strike="noStrike" u="sng">
                <a:solidFill>
                  <a:srgbClr val="000032"/>
                </a:solidFill>
                <a:uFillTx/>
                <a:latin typeface="Verdana"/>
              </a:rPr>
              <a:t> </a:t>
            </a: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127" name="Picture 5" descr="f_d02nrtrnsmtr"/>
          <p:cNvPicPr/>
          <p:nvPr/>
        </p:nvPicPr>
        <p:blipFill>
          <a:blip r:embed="rId1"/>
          <a:stretch/>
        </p:blipFill>
        <p:spPr>
          <a:xfrm>
            <a:off x="2771640" y="260280"/>
            <a:ext cx="3799080" cy="60753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2700360" y="189000"/>
            <a:ext cx="4032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1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56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611280" y="1125360"/>
            <a:ext cx="7848360" cy="47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Neurotransmitters can be classified into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1. 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Biogenic amines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Ch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N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D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5-HT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Histamine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457200" indent="-457200"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2. 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Amino acids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Excitatory (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glutamat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&amp;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sparat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nhibitory (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GAB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&amp;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glyc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457200" indent="-457200"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3. 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Others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denos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melatonin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2771640" y="115920"/>
            <a:ext cx="3600720" cy="853560"/>
          </a:xfrm>
          <a:prstGeom prst="rect">
            <a:avLst/>
          </a:prstGeom>
          <a:solidFill>
            <a:srgbClr val="008200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etylcholine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39640" y="1052640"/>
            <a:ext cx="7991640" cy="55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- Acetylcholine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is widely distributed in major parts of the CNS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Cholinergic neurons occur particularly in the 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motor areas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of the cerebral cortex, the 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corpus striatum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, the 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hippocampus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, and the 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spinal cord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- Both types of Cholinergic receptors (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nicotinic &amp; muscarinic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) occur in the CNS. 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375"/>
              </a:spcBef>
              <a:buClr>
                <a:srgbClr val="fa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Muscarinic receptors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(predominantly M</a:t>
            </a:r>
            <a:r>
              <a:rPr b="1" lang="en-US" sz="2200" spc="-1" strike="noStrike" baseline="-25000">
                <a:solidFill>
                  <a:srgbClr val="000032"/>
                </a:solidFill>
                <a:latin typeface="Verdana"/>
              </a:rPr>
              <a:t>1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) are much more abundant than nicotinic receptors and mediate many of the behavioral effects of acetylcholine in cholinergic pathways. 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375"/>
              </a:spcBef>
              <a:buClr>
                <a:srgbClr val="fa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Muscarinic receptors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are located presynaptically and upon stimulation by agonist inhibits Ach release, while muscarinic antagonists increase Ach release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250920" y="1125360"/>
            <a:ext cx="87138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1- Arousal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2-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Learning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3-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Motor control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4- Short term memor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-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Loss of cholinergic neurons in th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hippocampu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(memory site)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s associated with “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Alzheimer’s diseas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most common neurodegenerative disease causing progressive irreversible dementia associated with old age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84360" y="115920"/>
            <a:ext cx="828036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Acetylcholine in the brain plays a role in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1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6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500"/>
                            </p:stCondLst>
                            <p:childTnLst>
                              <p:par>
                                <p:cTn id="80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0000"/>
                </a:solidFill>
                <a:latin typeface="Verdana"/>
              </a:rPr>
              <a:t>Cholinergic drugs and</a:t>
            </a:r>
            <a:br>
              <a:rPr sz="3200"/>
            </a:br>
            <a:r>
              <a:rPr b="1" lang="en-US" sz="3200" spc="-1" strike="noStrike">
                <a:solidFill>
                  <a:srgbClr val="fa0000"/>
                </a:solidFill>
                <a:latin typeface="Verdana"/>
              </a:rPr>
              <a:t>Alzheimer's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2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200"/>
                </a:solidFill>
                <a:latin typeface="Verdana"/>
              </a:rPr>
              <a:t>Reversible cholinesterase inhibito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acrine, Donepezil and Galantamine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2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200"/>
                </a:solidFill>
                <a:latin typeface="Verdana"/>
              </a:rPr>
              <a:t>Pseudo-reversible cholinesterase inhibito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ysostigmine, Eptastigmine and Rivastigm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2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200"/>
                </a:solidFill>
                <a:latin typeface="Verdana"/>
              </a:rPr>
              <a:t>Irreversible cholinesterase inhibi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trifo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6840" y="333000"/>
            <a:ext cx="8218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2"/>
                </a:solidFill>
                <a:latin typeface="Arial"/>
              </a:rPr>
              <a:t>- Hyperactivity of cholinergic neurons in the </a:t>
            </a:r>
            <a:r>
              <a:rPr b="1" lang="en-US" sz="2800" spc="-1" strike="noStrike">
                <a:solidFill>
                  <a:srgbClr val="008200"/>
                </a:solidFill>
                <a:latin typeface="Arial"/>
              </a:rPr>
              <a:t>corpus striatum</a:t>
            </a:r>
            <a:r>
              <a:rPr b="1" lang="en-US" sz="2800" spc="-1" strike="noStrike">
                <a:solidFill>
                  <a:srgbClr val="000032"/>
                </a:solidFill>
                <a:latin typeface="Arial"/>
              </a:rPr>
              <a:t> leads to “</a:t>
            </a:r>
            <a:r>
              <a:rPr b="1" lang="en-US" sz="2800" spc="-1" strike="noStrike" u="sng">
                <a:solidFill>
                  <a:srgbClr val="fa0000"/>
                </a:solidFill>
                <a:uFillTx/>
                <a:latin typeface="Arial"/>
              </a:rPr>
              <a:t>Parkinson’s disease</a:t>
            </a:r>
            <a:r>
              <a:rPr b="1" lang="en-US" sz="2800" spc="-1" strike="noStrike">
                <a:solidFill>
                  <a:srgbClr val="000032"/>
                </a:solidFill>
                <a:latin typeface="Arial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0000"/>
                </a:solidFill>
                <a:latin typeface="Arial"/>
              </a:rPr>
              <a:t>- Parkinsonism,</a:t>
            </a:r>
            <a:r>
              <a:rPr b="1" lang="en-US" sz="2800" spc="-1" strike="noStrike">
                <a:solidFill>
                  <a:srgbClr val="000032"/>
                </a:solidFill>
                <a:latin typeface="Arial"/>
              </a:rPr>
              <a:t> is a progressive neurodegenerative brain disorder that was first described by Dr. </a:t>
            </a:r>
            <a:r>
              <a:rPr b="1" lang="en-US" sz="2800" spc="-1" strike="noStrike">
                <a:solidFill>
                  <a:srgbClr val="008200"/>
                </a:solidFill>
                <a:latin typeface="Arial"/>
              </a:rPr>
              <a:t>James Parkinson</a:t>
            </a:r>
            <a:r>
              <a:rPr b="1" lang="en-US" sz="2800" spc="-1" strike="noStrike">
                <a:solidFill>
                  <a:srgbClr val="000032"/>
                </a:solidFill>
                <a:latin typeface="Arial"/>
              </a:rPr>
              <a:t> in 181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2"/>
                </a:solidFill>
                <a:latin typeface="Arial"/>
              </a:rPr>
              <a:t>- The disease occurs above the age of 65 and affects the "</a:t>
            </a:r>
            <a:r>
              <a:rPr b="1" lang="en-US" sz="2800" spc="-1" strike="noStrike">
                <a:solidFill>
                  <a:srgbClr val="008200"/>
                </a:solidFill>
                <a:latin typeface="Arial"/>
              </a:rPr>
              <a:t>extrapyramidal system</a:t>
            </a:r>
            <a:r>
              <a:rPr b="1" lang="en-US" sz="2800" spc="-1" strike="noStrike">
                <a:solidFill>
                  <a:srgbClr val="000032"/>
                </a:solidFill>
                <a:latin typeface="Arial"/>
              </a:rPr>
              <a:t>" at the level of the "</a:t>
            </a:r>
            <a:r>
              <a:rPr b="1" lang="en-US" sz="2800" spc="-1" strike="noStrike" u="sng">
                <a:solidFill>
                  <a:srgbClr val="fa0000"/>
                </a:solidFill>
                <a:uFillTx/>
                <a:latin typeface="Arial"/>
              </a:rPr>
              <a:t>corpus striatum</a:t>
            </a:r>
            <a:r>
              <a:rPr b="1" lang="en-US" sz="2800" spc="-1" strike="noStrike">
                <a:solidFill>
                  <a:srgbClr val="000032"/>
                </a:solidFill>
                <a:latin typeface="Arial"/>
              </a:rPr>
              <a:t>" &amp; "</a:t>
            </a:r>
            <a:r>
              <a:rPr b="1" lang="en-US" sz="2800" spc="-1" strike="noStrike" u="sng">
                <a:solidFill>
                  <a:srgbClr val="fa0000"/>
                </a:solidFill>
                <a:uFillTx/>
                <a:latin typeface="Arial"/>
              </a:rPr>
              <a:t>substantia</a:t>
            </a:r>
            <a:r>
              <a:rPr b="1" lang="en-US" sz="2800" spc="-1" strike="noStrike" u="sng">
                <a:solidFill>
                  <a:srgbClr val="000032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a0000"/>
                </a:solidFill>
                <a:uFillTx/>
                <a:latin typeface="Arial"/>
              </a:rPr>
              <a:t>nigra</a:t>
            </a:r>
            <a:r>
              <a:rPr b="1" lang="en-US" sz="2800" spc="-1" strike="noStrike">
                <a:solidFill>
                  <a:srgbClr val="000032"/>
                </a:solidFill>
                <a:latin typeface="Arial"/>
              </a:rPr>
              <a:t>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539640" y="969840"/>
            <a:ext cx="81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n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the basal gangli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the 2 neurotransmitters "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dopam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" &amp; "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acetylchol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" co-exist in a normal balance, where dopaminergic neurons exert an 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inhibitor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effect on excitatory cholinergic neurons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684360" y="357336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n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Parkinson’s diseas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the "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nigrostriatal dopaminergic neuron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" are degenerated (damaged) while cholinergic neurons are intact, resulting in a marked decrease in dopamine content (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dopamine deficiency syndrom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) and a relative predominance of cholinergic activity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139" name="Picture 4" descr="balance"/>
          <p:cNvPicPr/>
          <p:nvPr/>
        </p:nvPicPr>
        <p:blipFill>
          <a:blip r:embed="rId1"/>
          <a:stretch/>
        </p:blipFill>
        <p:spPr>
          <a:xfrm>
            <a:off x="2916360" y="476280"/>
            <a:ext cx="3600360" cy="30574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3203640" y="1628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A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4788000" y="1844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ACh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611280" y="3789360"/>
            <a:ext cx="79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refore, the strategy for treatment of Parkinsonism is to restore the normal balance between 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dopaminergic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&amp; 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cholinergic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tones in the basal ganglia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2700360" y="141300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3132000" y="1413000"/>
            <a:ext cx="0" cy="1008000"/>
          </a:xfrm>
          <a:prstGeom prst="line">
            <a:avLst/>
          </a:prstGeom>
          <a:ln w="76320">
            <a:solidFill>
              <a:srgbClr val="f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6156360" y="1413000"/>
            <a:ext cx="8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46" name="Line 11"/>
          <p:cNvSpPr/>
          <p:nvPr/>
        </p:nvSpPr>
        <p:spPr>
          <a:xfrm flipV="1">
            <a:off x="6300720" y="1341360"/>
            <a:ext cx="0" cy="1008000"/>
          </a:xfrm>
          <a:prstGeom prst="line">
            <a:avLst/>
          </a:prstGeom>
          <a:ln w="76320">
            <a:solidFill>
              <a:srgbClr val="f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0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5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3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3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3500"/>
                            </p:stCondLst>
                            <p:childTnLst>
                              <p:par>
                                <p:cTn id="8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826920" y="404640"/>
            <a:ext cx="7488360" cy="731880"/>
          </a:xfrm>
          <a:prstGeom prst="rect">
            <a:avLst/>
          </a:prstGeom>
          <a:solidFill>
            <a:srgbClr val="f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Treatment of Parkinsonism </a:t>
            </a:r>
            <a:endParaRPr b="0" lang="en-US" sz="36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48" name="Freeform 3"/>
          <p:cNvSpPr/>
          <p:nvPr/>
        </p:nvSpPr>
        <p:spPr>
          <a:xfrm>
            <a:off x="324000" y="2349360"/>
            <a:ext cx="6086160" cy="2870280"/>
          </a:xfrm>
          <a:custGeom>
            <a:avLst/>
            <a:gdLst>
              <a:gd name="textAreaLeft" fmla="*/ 0 w 6086160"/>
              <a:gd name="textAreaRight" fmla="*/ 6086520 w 6086160"/>
              <a:gd name="textAreaTop" fmla="*/ 0 h 2870280"/>
              <a:gd name="textAreaBottom" fmla="*/ 2870640 h 2870280"/>
            </a:gdLst>
            <a:ahLst/>
            <a:rect l="textAreaLeft" t="textAreaTop" r="textAreaRight" b="textAreaBottom"/>
            <a:pathLst>
              <a:path w="3834" h="1808">
                <a:moveTo>
                  <a:pt x="0" y="511"/>
                </a:moveTo>
                <a:cubicBezTo>
                  <a:pt x="190" y="512"/>
                  <a:pt x="864" y="514"/>
                  <a:pt x="1143" y="511"/>
                </a:cubicBezTo>
                <a:cubicBezTo>
                  <a:pt x="1422" y="508"/>
                  <a:pt x="1501" y="505"/>
                  <a:pt x="1673" y="493"/>
                </a:cubicBezTo>
                <a:cubicBezTo>
                  <a:pt x="1845" y="481"/>
                  <a:pt x="2027" y="464"/>
                  <a:pt x="2176" y="438"/>
                </a:cubicBezTo>
                <a:cubicBezTo>
                  <a:pt x="2325" y="412"/>
                  <a:pt x="2412" y="396"/>
                  <a:pt x="2569" y="337"/>
                </a:cubicBezTo>
                <a:cubicBezTo>
                  <a:pt x="2726" y="278"/>
                  <a:pt x="2926" y="127"/>
                  <a:pt x="3118" y="81"/>
                </a:cubicBezTo>
                <a:cubicBezTo>
                  <a:pt x="3310" y="35"/>
                  <a:pt x="3606" y="0"/>
                  <a:pt x="3720" y="61"/>
                </a:cubicBezTo>
                <a:cubicBezTo>
                  <a:pt x="3834" y="122"/>
                  <a:pt x="3804" y="326"/>
                  <a:pt x="3804" y="447"/>
                </a:cubicBezTo>
                <a:cubicBezTo>
                  <a:pt x="3804" y="568"/>
                  <a:pt x="3742" y="655"/>
                  <a:pt x="3720" y="787"/>
                </a:cubicBezTo>
                <a:cubicBezTo>
                  <a:pt x="3698" y="919"/>
                  <a:pt x="3665" y="1122"/>
                  <a:pt x="3674" y="1240"/>
                </a:cubicBezTo>
                <a:cubicBezTo>
                  <a:pt x="3683" y="1358"/>
                  <a:pt x="3776" y="1422"/>
                  <a:pt x="3776" y="1498"/>
                </a:cubicBezTo>
                <a:cubicBezTo>
                  <a:pt x="3776" y="1574"/>
                  <a:pt x="3736" y="1646"/>
                  <a:pt x="3674" y="1694"/>
                </a:cubicBezTo>
                <a:cubicBezTo>
                  <a:pt x="3612" y="1742"/>
                  <a:pt x="3523" y="1808"/>
                  <a:pt x="3402" y="1785"/>
                </a:cubicBezTo>
                <a:cubicBezTo>
                  <a:pt x="3281" y="1762"/>
                  <a:pt x="3121" y="1620"/>
                  <a:pt x="2949" y="1558"/>
                </a:cubicBezTo>
                <a:cubicBezTo>
                  <a:pt x="2777" y="1496"/>
                  <a:pt x="2582" y="1455"/>
                  <a:pt x="2368" y="1416"/>
                </a:cubicBezTo>
                <a:cubicBezTo>
                  <a:pt x="2154" y="1377"/>
                  <a:pt x="1930" y="1347"/>
                  <a:pt x="1664" y="1325"/>
                </a:cubicBezTo>
                <a:cubicBezTo>
                  <a:pt x="1398" y="1303"/>
                  <a:pt x="1018" y="1292"/>
                  <a:pt x="771" y="1286"/>
                </a:cubicBezTo>
                <a:cubicBezTo>
                  <a:pt x="524" y="1280"/>
                  <a:pt x="310" y="1286"/>
                  <a:pt x="182" y="1286"/>
                </a:cubicBezTo>
                <a:cubicBezTo>
                  <a:pt x="54" y="1286"/>
                  <a:pt x="30" y="1286"/>
                  <a:pt x="0" y="1286"/>
                </a:cubicBezTo>
              </a:path>
            </a:pathLst>
          </a:custGeom>
          <a:solidFill>
            <a:srgbClr val="ffcc99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49" name="Freeform 4"/>
          <p:cNvSpPr/>
          <p:nvPr/>
        </p:nvSpPr>
        <p:spPr>
          <a:xfrm>
            <a:off x="7424640" y="2349360"/>
            <a:ext cx="1073160" cy="2845080"/>
          </a:xfrm>
          <a:custGeom>
            <a:avLst/>
            <a:gdLst>
              <a:gd name="textAreaLeft" fmla="*/ 0 w 1073160"/>
              <a:gd name="textAreaRight" fmla="*/ 1073520 w 1073160"/>
              <a:gd name="textAreaTop" fmla="*/ 0 h 2845080"/>
              <a:gd name="textAreaBottom" fmla="*/ 2845440 h 2845080"/>
            </a:gdLst>
            <a:ahLst/>
            <a:rect l="textAreaLeft" t="textAreaTop" r="textAreaRight" b="textAreaBottom"/>
            <a:pathLst>
              <a:path w="676" h="1792">
                <a:moveTo>
                  <a:pt x="596" y="69"/>
                </a:moveTo>
                <a:cubicBezTo>
                  <a:pt x="566" y="61"/>
                  <a:pt x="461" y="32"/>
                  <a:pt x="415" y="24"/>
                </a:cubicBezTo>
                <a:cubicBezTo>
                  <a:pt x="368" y="15"/>
                  <a:pt x="363" y="0"/>
                  <a:pt x="314" y="15"/>
                </a:cubicBezTo>
                <a:cubicBezTo>
                  <a:pt x="266" y="29"/>
                  <a:pt x="169" y="69"/>
                  <a:pt x="122" y="112"/>
                </a:cubicBezTo>
                <a:cubicBezTo>
                  <a:pt x="75" y="155"/>
                  <a:pt x="48" y="222"/>
                  <a:pt x="30" y="275"/>
                </a:cubicBezTo>
                <a:cubicBezTo>
                  <a:pt x="12" y="328"/>
                  <a:pt x="14" y="393"/>
                  <a:pt x="13" y="431"/>
                </a:cubicBezTo>
                <a:cubicBezTo>
                  <a:pt x="12" y="469"/>
                  <a:pt x="21" y="467"/>
                  <a:pt x="22" y="504"/>
                </a:cubicBezTo>
                <a:cubicBezTo>
                  <a:pt x="23" y="541"/>
                  <a:pt x="19" y="594"/>
                  <a:pt x="19" y="655"/>
                </a:cubicBezTo>
                <a:cubicBezTo>
                  <a:pt x="19" y="716"/>
                  <a:pt x="21" y="774"/>
                  <a:pt x="22" y="869"/>
                </a:cubicBezTo>
                <a:cubicBezTo>
                  <a:pt x="23" y="964"/>
                  <a:pt x="22" y="1114"/>
                  <a:pt x="22" y="1225"/>
                </a:cubicBezTo>
                <a:cubicBezTo>
                  <a:pt x="22" y="1336"/>
                  <a:pt x="0" y="1447"/>
                  <a:pt x="22" y="1537"/>
                </a:cubicBezTo>
                <a:cubicBezTo>
                  <a:pt x="45" y="1626"/>
                  <a:pt x="88" y="1727"/>
                  <a:pt x="156" y="1760"/>
                </a:cubicBezTo>
                <a:cubicBezTo>
                  <a:pt x="223" y="1792"/>
                  <a:pt x="353" y="1735"/>
                  <a:pt x="429" y="1730"/>
                </a:cubicBezTo>
                <a:cubicBezTo>
                  <a:pt x="504" y="1725"/>
                  <a:pt x="569" y="1727"/>
                  <a:pt x="609" y="1730"/>
                </a:cubicBezTo>
                <a:cubicBezTo>
                  <a:pt x="650" y="1733"/>
                  <a:pt x="662" y="1744"/>
                  <a:pt x="676" y="1748"/>
                </a:cubicBezTo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250920" y="357336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yrosine</a:t>
            </a:r>
            <a:endParaRPr b="0" lang="en-US" sz="16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51" name="Line 6"/>
          <p:cNvSpPr/>
          <p:nvPr/>
        </p:nvSpPr>
        <p:spPr>
          <a:xfrm>
            <a:off x="1692360" y="3746520"/>
            <a:ext cx="5032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2843280" y="357336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2050920" y="357336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OPA</a:t>
            </a:r>
            <a:endParaRPr b="0" lang="en-US" sz="16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54" name="Line 9"/>
          <p:cNvSpPr/>
          <p:nvPr/>
        </p:nvSpPr>
        <p:spPr>
          <a:xfrm>
            <a:off x="3059280" y="3716280"/>
            <a:ext cx="502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3564000" y="357336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A</a:t>
            </a:r>
            <a:endParaRPr b="0" lang="en-US" sz="16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3780000" y="3429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3995640" y="3645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3419640" y="3716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59" name="Text Box 14"/>
          <p:cNvSpPr/>
          <p:nvPr/>
        </p:nvSpPr>
        <p:spPr>
          <a:xfrm>
            <a:off x="3564000" y="3933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0" name="Text Box 15"/>
          <p:cNvSpPr/>
          <p:nvPr/>
        </p:nvSpPr>
        <p:spPr>
          <a:xfrm>
            <a:off x="3492360" y="3284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1" name="Oval 16"/>
          <p:cNvSpPr/>
          <p:nvPr/>
        </p:nvSpPr>
        <p:spPr>
          <a:xfrm>
            <a:off x="4500720" y="3716280"/>
            <a:ext cx="574560" cy="576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2" name="Text Box 17"/>
          <p:cNvSpPr/>
          <p:nvPr/>
        </p:nvSpPr>
        <p:spPr>
          <a:xfrm>
            <a:off x="4572000" y="3933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3" name="Text Box 18"/>
          <p:cNvSpPr/>
          <p:nvPr/>
        </p:nvSpPr>
        <p:spPr>
          <a:xfrm>
            <a:off x="4356000" y="3645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4427640" y="3860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4572000" y="3716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3708360" y="321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7" name="Oval 22"/>
          <p:cNvSpPr/>
          <p:nvPr/>
        </p:nvSpPr>
        <p:spPr>
          <a:xfrm>
            <a:off x="4788000" y="2852640"/>
            <a:ext cx="576000" cy="576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8" name="Text Box 23"/>
          <p:cNvSpPr/>
          <p:nvPr/>
        </p:nvSpPr>
        <p:spPr>
          <a:xfrm>
            <a:off x="4788000" y="2708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69" name="Text Box 24"/>
          <p:cNvSpPr/>
          <p:nvPr/>
        </p:nvSpPr>
        <p:spPr>
          <a:xfrm>
            <a:off x="4859280" y="292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0" name="Text Box 25"/>
          <p:cNvSpPr/>
          <p:nvPr/>
        </p:nvSpPr>
        <p:spPr>
          <a:xfrm>
            <a:off x="4643280" y="292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1" name="Rectangle 26"/>
          <p:cNvSpPr/>
          <p:nvPr/>
        </p:nvSpPr>
        <p:spPr>
          <a:xfrm>
            <a:off x="7164360" y="2852640"/>
            <a:ext cx="28728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2" name="Rectangle 27"/>
          <p:cNvSpPr/>
          <p:nvPr/>
        </p:nvSpPr>
        <p:spPr>
          <a:xfrm>
            <a:off x="7164360" y="3357720"/>
            <a:ext cx="28728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3" name="Rectangle 28"/>
          <p:cNvSpPr/>
          <p:nvPr/>
        </p:nvSpPr>
        <p:spPr>
          <a:xfrm>
            <a:off x="7164360" y="4365720"/>
            <a:ext cx="28728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4" name="Rectangle 29"/>
          <p:cNvSpPr/>
          <p:nvPr/>
        </p:nvSpPr>
        <p:spPr>
          <a:xfrm>
            <a:off x="7164360" y="3860640"/>
            <a:ext cx="28728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5" name="Oval 30"/>
          <p:cNvSpPr/>
          <p:nvPr/>
        </p:nvSpPr>
        <p:spPr>
          <a:xfrm>
            <a:off x="5867280" y="3357720"/>
            <a:ext cx="649440" cy="57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6" name="Text Box 31"/>
          <p:cNvSpPr/>
          <p:nvPr/>
        </p:nvSpPr>
        <p:spPr>
          <a:xfrm>
            <a:off x="4859280" y="393372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AO-B</a:t>
            </a:r>
            <a:endParaRPr b="0" lang="en-US" sz="16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7" name="Text Box 32"/>
          <p:cNvSpPr/>
          <p:nvPr/>
        </p:nvSpPr>
        <p:spPr>
          <a:xfrm>
            <a:off x="3708360" y="3716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8" name="Text Box 33"/>
          <p:cNvSpPr/>
          <p:nvPr/>
        </p:nvSpPr>
        <p:spPr>
          <a:xfrm>
            <a:off x="6227640" y="4508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79" name="Text Box 34"/>
          <p:cNvSpPr/>
          <p:nvPr/>
        </p:nvSpPr>
        <p:spPr>
          <a:xfrm>
            <a:off x="6877080" y="422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80" name="Text Box 35"/>
          <p:cNvSpPr/>
          <p:nvPr/>
        </p:nvSpPr>
        <p:spPr>
          <a:xfrm>
            <a:off x="6877080" y="2708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81" name="Text Box 36"/>
          <p:cNvSpPr/>
          <p:nvPr/>
        </p:nvSpPr>
        <p:spPr>
          <a:xfrm>
            <a:off x="6877080" y="3213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82" name="Text Box 37"/>
          <p:cNvSpPr/>
          <p:nvPr/>
        </p:nvSpPr>
        <p:spPr>
          <a:xfrm>
            <a:off x="6877080" y="3716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83" name="Text Box 38"/>
          <p:cNvSpPr/>
          <p:nvPr/>
        </p:nvSpPr>
        <p:spPr>
          <a:xfrm>
            <a:off x="6227640" y="4149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84" name="Text Box 39"/>
          <p:cNvSpPr/>
          <p:nvPr/>
        </p:nvSpPr>
        <p:spPr>
          <a:xfrm>
            <a:off x="6012000" y="3500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85" name="Text Box 40"/>
          <p:cNvSpPr/>
          <p:nvPr/>
        </p:nvSpPr>
        <p:spPr>
          <a:xfrm>
            <a:off x="5867280" y="3357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86" name="Text Box 41"/>
          <p:cNvSpPr/>
          <p:nvPr/>
        </p:nvSpPr>
        <p:spPr>
          <a:xfrm>
            <a:off x="6156360" y="36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0000"/>
                </a:solidFill>
                <a:latin typeface="Verdana"/>
              </a:rPr>
              <a:t>•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87" name="Text Box 42"/>
          <p:cNvSpPr/>
          <p:nvPr/>
        </p:nvSpPr>
        <p:spPr>
          <a:xfrm>
            <a:off x="324000" y="4581360"/>
            <a:ext cx="251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opaminergic 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erve terminal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88" name="Text Box 43"/>
          <p:cNvSpPr/>
          <p:nvPr/>
        </p:nvSpPr>
        <p:spPr>
          <a:xfrm>
            <a:off x="7380360" y="278136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89" name="Text Box 44"/>
          <p:cNvSpPr/>
          <p:nvPr/>
        </p:nvSpPr>
        <p:spPr>
          <a:xfrm>
            <a:off x="7380360" y="378936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90" name="Text Box 45"/>
          <p:cNvSpPr/>
          <p:nvPr/>
        </p:nvSpPr>
        <p:spPr>
          <a:xfrm>
            <a:off x="7380360" y="328464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91" name="Text Box 46"/>
          <p:cNvSpPr/>
          <p:nvPr/>
        </p:nvSpPr>
        <p:spPr>
          <a:xfrm>
            <a:off x="7380360" y="429264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92" name="Line 47"/>
          <p:cNvSpPr/>
          <p:nvPr/>
        </p:nvSpPr>
        <p:spPr>
          <a:xfrm>
            <a:off x="3276720" y="2565360"/>
            <a:ext cx="0" cy="1008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93" name="Line 48"/>
          <p:cNvSpPr/>
          <p:nvPr/>
        </p:nvSpPr>
        <p:spPr>
          <a:xfrm flipH="1">
            <a:off x="6372360" y="2781360"/>
            <a:ext cx="576000" cy="71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94" name="Line 49"/>
          <p:cNvSpPr/>
          <p:nvPr/>
        </p:nvSpPr>
        <p:spPr>
          <a:xfrm flipV="1">
            <a:off x="5292720" y="4292280"/>
            <a:ext cx="144360" cy="863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95" name="Line 50"/>
          <p:cNvSpPr/>
          <p:nvPr/>
        </p:nvSpPr>
        <p:spPr>
          <a:xfrm flipV="1">
            <a:off x="6588000" y="4581360"/>
            <a:ext cx="505080" cy="50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96" name="Text Box 51"/>
          <p:cNvSpPr/>
          <p:nvPr/>
        </p:nvSpPr>
        <p:spPr>
          <a:xfrm>
            <a:off x="6877080" y="5373720"/>
            <a:ext cx="201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ostsynaptic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ceptors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0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500"/>
                            </p:stCondLst>
                            <p:childTnLst>
                              <p:par>
                                <p:cTn id="9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1000"/>
                            </p:stCondLst>
                            <p:childTnLst>
                              <p:par>
                                <p:cTn id="9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500"/>
                            </p:stCondLst>
                            <p:childTnLst>
                              <p:par>
                                <p:cTn id="9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4705 -0.04005 0.09427 -0.07986 0.11302 -0.09583 E">
                                      <p:cBhvr>
                                        <p:cTn id="1020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 C 0.03889 -0.01875 0.07847 -0.03681 0.09461 -0.04375 E">
                                      <p:cBhvr>
                                        <p:cTn id="1022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472 0.03495 0.06944 0.07014 0.08333 0.08403 E">
                                      <p:cBhvr>
                                        <p:cTn id="1024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559 -0.0044 -0.07118 -0.00856 -0.08541 -0.01042 E">
                                      <p:cBhvr>
                                        <p:cTn id="1028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958 -0.01227 -0.07916 -0.02431 -0.09479 -0.02917 E">
                                      <p:cBhvr>
                                        <p:cTn id="1032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611280" y="1065240"/>
            <a:ext cx="8064360" cy="31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58680"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1- Brain                                  2- Spinal cord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347760" indent="58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       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brain is formed of 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3 main part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: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347760" indent="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c"/>
                </a:solidFill>
                <a:latin typeface="Verdana"/>
              </a:rPr>
              <a:t>I. </a:t>
            </a:r>
            <a:r>
              <a:rPr b="1" lang="en-US" sz="2400" spc="-1" strike="noStrike" u="sng">
                <a:solidFill>
                  <a:srgbClr val="00008c"/>
                </a:solidFill>
                <a:uFillTx/>
                <a:latin typeface="Verdana"/>
              </a:rPr>
              <a:t>The forebrain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971640" indent="-4050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the cerebrum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971640" indent="-4050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the thalamus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971640" indent="-4050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the hypothalamus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347760" indent="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c"/>
                </a:solidFill>
                <a:latin typeface="Verdana"/>
              </a:rPr>
              <a:t>II. </a:t>
            </a:r>
            <a:r>
              <a:rPr b="1" lang="en-US" sz="2400" spc="-1" strike="noStrike" u="sng">
                <a:solidFill>
                  <a:srgbClr val="00008c"/>
                </a:solidFill>
                <a:uFillTx/>
                <a:latin typeface="Verdana"/>
              </a:rPr>
              <a:t>The midbrain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611280" y="4653000"/>
            <a:ext cx="8064360" cy="16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58680"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c"/>
                </a:solidFill>
                <a:latin typeface="Verdana"/>
              </a:rPr>
              <a:t>III. </a:t>
            </a:r>
            <a:r>
              <a:rPr b="1" lang="en-US" sz="2400" spc="-1" strike="noStrike" u="sng">
                <a:solidFill>
                  <a:srgbClr val="00008c"/>
                </a:solidFill>
                <a:uFillTx/>
                <a:latin typeface="Verdana"/>
              </a:rPr>
              <a:t>The hindbrain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971640" indent="-4050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the cerebellum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971640" indent="-4050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the pons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lvl="1" marL="971640" indent="-405000" algn="just">
              <a:lnSpc>
                <a:spcPct val="100000"/>
              </a:lnSpc>
              <a:buClr>
                <a:srgbClr val="fa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  <a:ea typeface="Arial"/>
              </a:rPr>
              <a:t>the medulla oblongata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48" name="Picture 6" descr="talk005__s029_f"/>
          <p:cNvPicPr/>
          <p:nvPr/>
        </p:nvPicPr>
        <p:blipFill>
          <a:blip r:embed="rId1"/>
          <a:stretch/>
        </p:blipFill>
        <p:spPr>
          <a:xfrm>
            <a:off x="4716360" y="2492280"/>
            <a:ext cx="4284720" cy="3313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7"/>
          <p:cNvSpPr/>
          <p:nvPr/>
        </p:nvSpPr>
        <p:spPr>
          <a:xfrm>
            <a:off x="4427640" y="2421000"/>
            <a:ext cx="4716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4643280" y="5373720"/>
            <a:ext cx="45007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8964720" y="2924280"/>
            <a:ext cx="287280" cy="28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4788000" y="2924280"/>
            <a:ext cx="360360" cy="27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755640" y="165240"/>
            <a:ext cx="7559640" cy="731880"/>
          </a:xfrm>
          <a:prstGeom prst="rect">
            <a:avLst/>
          </a:prstGeom>
          <a:solidFill>
            <a:srgbClr val="008200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Structure of the CNS</a:t>
            </a:r>
            <a:endParaRPr b="0" lang="en-US" sz="36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611280" y="765000"/>
            <a:ext cx="8136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rugs used to treat Parkinsonism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do not stop the progression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of the disease but they can only ameliorate the symptoms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Parkinsonism could be 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managed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by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611280" y="256536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.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Enhancing dopaminergic activity using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684360" y="3213000"/>
            <a:ext cx="79912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3280" indent="-503280" algn="just">
              <a:spcBef>
                <a:spcPts val="1500"/>
              </a:spcBef>
              <a:buClr>
                <a:srgbClr val="0082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rugs that replace dopamine (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levodop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03280" indent="-503280" algn="just">
              <a:spcBef>
                <a:spcPts val="1500"/>
              </a:spcBef>
              <a:buClr>
                <a:srgbClr val="0082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rugs that release dopamine from its stores (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mantad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03280" indent="-503280" algn="just">
              <a:spcBef>
                <a:spcPts val="1500"/>
              </a:spcBef>
              <a:buClr>
                <a:srgbClr val="0082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rugs that prolong the action of dopamine by preventing its metabolism (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seligil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03280" indent="-503280" algn="just">
              <a:spcBef>
                <a:spcPts val="1500"/>
              </a:spcBef>
              <a:buClr>
                <a:srgbClr val="0082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rugs that mimic the action of dopamine (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dopaminergic agonist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539640" y="2637000"/>
            <a:ext cx="7704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3280" indent="-503280" algn="just">
              <a:spcBef>
                <a:spcPts val="1500"/>
              </a:spcBef>
              <a:buClr>
                <a:srgbClr val="ff0000"/>
              </a:buClr>
              <a:buFont typeface="Verdan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Reducing cholinergic activity 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by the use of anticholinergic drugs (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benzatrop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03280" indent="-503280" algn="just">
              <a:spcBef>
                <a:spcPts val="1500"/>
              </a:spcBef>
              <a:buClr>
                <a:srgbClr val="ff0000"/>
              </a:buClr>
              <a:buFont typeface="Verdan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eurotransplantation 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(which is still in experimental phase)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03280" indent="-503280" algn="just">
              <a:spcBef>
                <a:spcPts val="1500"/>
              </a:spcBef>
              <a:buClr>
                <a:srgbClr val="000032"/>
              </a:buClr>
              <a:buFont typeface="Verdan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Physical therapy &amp; regular exercise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0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2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7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29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2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4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7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9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2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4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3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2916360" y="476280"/>
            <a:ext cx="360036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0000"/>
                </a:solidFill>
                <a:latin typeface="Verdana"/>
              </a:rPr>
              <a:t>Noradrenaline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684360" y="1628640"/>
            <a:ext cx="7920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Noradrenergic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neurons arise mainly from the “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locus ceruleu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(in the pons) and th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reticular formation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nd project diffusely to many areas of the brain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As in the periphery, the same types of adrenergic receptors are described in the CNS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Noradrenaline plays an important role in the regulation of both “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arousal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and “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mood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17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8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3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8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684360" y="1557360"/>
            <a:ext cx="7559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1- Mood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eficiency of noradrenaline in certain parts of the brain is thought to be the underlying cause of “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depression</a:t>
            </a:r>
            <a:r>
              <a:rPr b="1" i="1" lang="en-US" sz="2400" spc="-1" strike="noStrike">
                <a:solidFill>
                  <a:srgbClr val="fa0000"/>
                </a:solidFill>
                <a:latin typeface="Verdana"/>
              </a:rPr>
              <a:t>”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2- Arousal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ncreased release of noradrenaline in the brain is responsible for 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wakefulnes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nd 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alertnes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3- Blood pressure regulation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n addition, noradrenergic synapses form a part of the 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baroreceptor reflex pathwa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that regulates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blood pressur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684360" y="115920"/>
            <a:ext cx="828036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Noradrenaline plays a role in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5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0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5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0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5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0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500"/>
                            </p:stCondLst>
                            <p:childTnLst>
                              <p:par>
                                <p:cTn id="123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3130560" y="260280"/>
            <a:ext cx="309708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0000"/>
                </a:solidFill>
                <a:latin typeface="Verdana"/>
              </a:rPr>
              <a:t>Dopamine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826920" y="1268280"/>
            <a:ext cx="756144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Dopamine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acts as both a “</a:t>
            </a:r>
            <a:r>
              <a:rPr b="1" lang="en-US" sz="2200" spc="-1" strike="noStrike" u="sng">
                <a:solidFill>
                  <a:srgbClr val="008200"/>
                </a:solidFill>
                <a:uFillTx/>
                <a:latin typeface="Verdana"/>
              </a:rPr>
              <a:t>precursor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” for noradrenaline by the action of the enzyme “dopamine β-hydroxylase” in noradrenergic neurons, as well as a “</a:t>
            </a:r>
            <a:r>
              <a:rPr b="1" lang="en-US" sz="2200" spc="-1" strike="noStrike" u="sng">
                <a:solidFill>
                  <a:srgbClr val="008200"/>
                </a:solidFill>
                <a:uFillTx/>
                <a:latin typeface="Verdana"/>
              </a:rPr>
              <a:t>neurotransmitter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” in dopaminergic neurons which lack this enzyme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Dopamine receptors are of </a:t>
            </a:r>
            <a:r>
              <a:rPr b="1" lang="en-US" sz="2200" spc="-1" strike="noStrike" u="sng">
                <a:solidFill>
                  <a:srgbClr val="000032"/>
                </a:solidFill>
                <a:uFillTx/>
                <a:latin typeface="Verdana"/>
              </a:rPr>
              <a:t>2 types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: 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• </a:t>
            </a: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D</a:t>
            </a:r>
            <a:r>
              <a:rPr b="1" lang="en-US" sz="2200" spc="-1" strike="noStrike" baseline="-25000">
                <a:solidFill>
                  <a:srgbClr val="fa0000"/>
                </a:solidFill>
                <a:latin typeface="Verdana"/>
              </a:rPr>
              <a:t>1</a:t>
            </a: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-type 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(including D</a:t>
            </a:r>
            <a:r>
              <a:rPr b="1" lang="en-US" sz="2200" spc="-1" strike="noStrike" baseline="-25000">
                <a:solidFill>
                  <a:srgbClr val="000032"/>
                </a:solidFill>
                <a:latin typeface="Verdana"/>
              </a:rPr>
              <a:t>1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&amp; D</a:t>
            </a:r>
            <a:r>
              <a:rPr b="1" lang="en-US" sz="2200" spc="-1" strike="noStrike" baseline="-25000">
                <a:solidFill>
                  <a:srgbClr val="000032"/>
                </a:solidFill>
                <a:latin typeface="Verdana"/>
              </a:rPr>
              <a:t>5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subtypes) 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• </a:t>
            </a: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D</a:t>
            </a:r>
            <a:r>
              <a:rPr b="1" lang="en-US" sz="2200" spc="-1" strike="noStrike" baseline="-25000">
                <a:solidFill>
                  <a:srgbClr val="fa0000"/>
                </a:solidFill>
                <a:latin typeface="Verdana"/>
              </a:rPr>
              <a:t>2</a:t>
            </a: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-type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(including D</a:t>
            </a:r>
            <a:r>
              <a:rPr b="1" lang="en-US" sz="2200" spc="-1" strike="noStrike" baseline="-25000">
                <a:solidFill>
                  <a:srgbClr val="000032"/>
                </a:solidFill>
                <a:latin typeface="Verdana"/>
              </a:rPr>
              <a:t>2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, D</a:t>
            </a:r>
            <a:r>
              <a:rPr b="1" lang="en-US" sz="2200" spc="-1" strike="noStrike" baseline="-25000">
                <a:solidFill>
                  <a:srgbClr val="000032"/>
                </a:solidFill>
                <a:latin typeface="Verdana"/>
              </a:rPr>
              <a:t>3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, &amp; D</a:t>
            </a:r>
            <a:r>
              <a:rPr b="1" lang="en-US" sz="2200" spc="-1" strike="noStrike" baseline="-25000">
                <a:solidFill>
                  <a:srgbClr val="000032"/>
                </a:solidFill>
                <a:latin typeface="Verdana"/>
              </a:rPr>
              <a:t>4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subtypes) 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Both types are 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G-protein-coupled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receptors that involve “</a:t>
            </a: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adenylate cyclase/cAMP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” as a signal transduction mechanism (D</a:t>
            </a:r>
            <a:r>
              <a:rPr b="1" lang="en-US" sz="2200" spc="-1" strike="noStrike" baseline="-25000">
                <a:solidFill>
                  <a:srgbClr val="000032"/>
                </a:solidFill>
                <a:latin typeface="Verdana"/>
              </a:rPr>
              <a:t>1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-receptors activate, while D</a:t>
            </a:r>
            <a:r>
              <a:rPr b="1" lang="en-US" sz="2200" spc="-1" strike="noStrike" baseline="-25000">
                <a:solidFill>
                  <a:srgbClr val="000032"/>
                </a:solidFill>
                <a:latin typeface="Verdana"/>
              </a:rPr>
              <a:t>2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-receptors inhibit adenylate cyclase)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207" name="Picture 4" descr="pdfig2"/>
          <p:cNvPicPr/>
          <p:nvPr/>
        </p:nvPicPr>
        <p:blipFill>
          <a:blip r:embed="rId1"/>
          <a:stretch/>
        </p:blipFill>
        <p:spPr>
          <a:xfrm>
            <a:off x="2843280" y="3284640"/>
            <a:ext cx="32004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4" dur="indefinite" restart="never" nodeType="tmRoot">
          <p:childTnLst>
            <p:seq>
              <p:cTn id="1235" dur="indefinite" nodeType="mainSeq">
                <p:childTnLst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500"/>
                            </p:stCondLst>
                            <p:childTnLst>
                              <p:par>
                                <p:cTn id="124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3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4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2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3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468360" y="155736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Dopam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s the major neurotransmitter of the 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3 following system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209" name="Picture 3" descr="dopamine"/>
          <p:cNvPicPr/>
          <p:nvPr/>
        </p:nvPicPr>
        <p:blipFill>
          <a:blip r:embed="rId1"/>
          <a:stretch/>
        </p:blipFill>
        <p:spPr>
          <a:xfrm>
            <a:off x="5364000" y="2276640"/>
            <a:ext cx="3132360" cy="192852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539640" y="3213000"/>
            <a:ext cx="6120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500"/>
              </a:spcBef>
              <a:buClr>
                <a:srgbClr val="00003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nigrostriatal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system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343080" indent="-343080" algn="just">
              <a:spcBef>
                <a:spcPts val="1500"/>
              </a:spcBef>
              <a:buClr>
                <a:srgbClr val="00003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mesolimbic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system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343080" indent="-343080" algn="just">
              <a:spcBef>
                <a:spcPts val="1500"/>
              </a:spcBef>
              <a:buClr>
                <a:srgbClr val="000032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tuberohypophyseal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system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0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500"/>
                            </p:stCondLst>
                            <p:childTnLst>
                              <p:par>
                                <p:cTn id="13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5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3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5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2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5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1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755640" y="1104840"/>
            <a:ext cx="7921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1- Motor activity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n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nigrostriatal system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dopamine is involved in the control of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motor function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Verdana"/>
              </a:rPr>
              <a:t>Deficienc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of dopamine in this system causes “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Parkinson’s diseas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2- Behavioural effects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n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mesolimbic system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dopamine is involved in the control of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behavior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nd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emotion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Verdana"/>
              </a:rPr>
              <a:t>Increased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dopaminergic activity in this system is believed to cause “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schizophreni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684360" y="115920"/>
            <a:ext cx="828036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0000"/>
                </a:solidFill>
                <a:latin typeface="Verdana"/>
              </a:rPr>
              <a:t>Dopamine plays a role in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2" dur="indefinite" restart="never" nodeType="tmRoot">
          <p:childTnLst>
            <p:seq>
              <p:cTn id="1333" dur="indefinite" nodeType="mainSeq">
                <p:childTnLst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8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8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3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8" dur="5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3" dur="50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fill="hold">
                            <p:stCondLst>
                              <p:cond delay="500"/>
                            </p:stCondLst>
                            <p:childTnLst>
                              <p:par>
                                <p:cTn id="137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755640" y="333360"/>
            <a:ext cx="8064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3- Anterior pituitary function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n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tuberohypophyseal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system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dopamine inhibits the secretion of prolactin. Bromocriptine (dopaminergic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gonist)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s used clinically for this purpose. 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opamine stimulates the secretion of growth hormone from the pituitary gland in normal subjects, but inhibits its release in acromegaly, a condition in which bromocriptine is useful therapeutically if given before excessive growth has taken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7" dur="indefinite" restart="never" nodeType="tmRoot">
          <p:childTnLst>
            <p:seq>
              <p:cTn id="1378" dur="indefinite" nodeType="mainSeq">
                <p:childTnLst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3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8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3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4- Vomi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3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opamine has a role in the production of “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nause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&amp;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vomiting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by stimulating dopamine receptors in the chemoreceptor trigger zone (CTZ) in the medulla oblong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3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refore, dopaminergic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ntagonist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s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Metoclopramide and phenothiazine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have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ntiemetic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propert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3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opaminergic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gonist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s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Bromocriptine and levodopa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cause nausea and vomiting as side-effects.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3"/>
          <p:cNvSpPr/>
          <p:nvPr/>
        </p:nvSpPr>
        <p:spPr>
          <a:xfrm>
            <a:off x="755640" y="333360"/>
            <a:ext cx="705636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0000"/>
                </a:solidFill>
                <a:latin typeface="Verdana"/>
              </a:rPr>
              <a:t>5-Hydroxytryptamine (5-HT) 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755640" y="1484280"/>
            <a:ext cx="7704000" cy="34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5-HT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is an important CNS transmitter although the </a:t>
            </a:r>
            <a:r>
              <a:rPr b="1" lang="en-US" sz="2200" spc="-1" strike="noStrike">
                <a:solidFill>
                  <a:srgbClr val="0000ff"/>
                </a:solidFill>
                <a:latin typeface="Verdana"/>
              </a:rPr>
              <a:t>brain accounts for only 1% 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of its total body content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5-HT-containing neurons arise from nuclei in the pons and medulla known as the “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raphe</a:t>
            </a: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nuclei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” and project diffusely to many areas of the brain similar to noradrenergic neurons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64d08"/>
                </a:solidFill>
                <a:latin typeface="Verdana"/>
              </a:rPr>
              <a:t>Formation and release of 5-HT is very similar to NA. Many drugs as TCA that inhibit NA uptake, also inhibit 5-HT uptake. 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4" dur="indefinite" restart="never" nodeType="tmRoot">
          <p:childTnLst>
            <p:seq>
              <p:cTn id="1395" dur="indefinite" nodeType="mainSeq">
                <p:childTnLst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500"/>
                            </p:stCondLst>
                            <p:childTnLst>
                              <p:par>
                                <p:cTn id="14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3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8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3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32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32"/>
                </a:solidFill>
                <a:latin typeface="Arial"/>
              </a:rPr>
              <a:t>-</a:t>
            </a:r>
            <a:r>
              <a:rPr b="1" lang="en-US" sz="4400" spc="-1" strike="noStrike">
                <a:solidFill>
                  <a:srgbClr val="000032"/>
                </a:solidFill>
                <a:latin typeface="Arial"/>
              </a:rPr>
              <a:t>HT recep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5-HT receptors in the CNS inclu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Arial"/>
              </a:rPr>
              <a:t>1- 5-HT1 receptors:</a:t>
            </a: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 located presynaptically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d act to inhibit transmitter release.</a:t>
            </a: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 They includes 5 subtypes(5-HT1A,5-HT1B, 5-HT1C,5-HT1D, 5-HT1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Arial"/>
              </a:rPr>
              <a:t>2- 5-HT2 receptors</a:t>
            </a: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: located post-synaptically and may exhibit excitatory or inhibitory functions. They includes 3 subtypes (5-HT2A, 5-HT2B, 5-HT2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Arial"/>
              </a:rPr>
              <a:t>3- 5-HT3 recep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5-HT pathways in the CNS are involved in </a:t>
            </a:r>
            <a:r>
              <a:rPr b="1" lang="en-US" sz="2400" spc="-1" strike="noStrike">
                <a:solidFill>
                  <a:srgbClr val="fa0000"/>
                </a:solidFill>
                <a:latin typeface="Arial"/>
              </a:rPr>
              <a:t>behavioral</a:t>
            </a: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 changes, </a:t>
            </a:r>
            <a:r>
              <a:rPr b="1" lang="en-US" sz="2400" spc="-1" strike="noStrike">
                <a:solidFill>
                  <a:srgbClr val="fa0000"/>
                </a:solidFill>
                <a:latin typeface="Arial"/>
              </a:rPr>
              <a:t>mood</a:t>
            </a: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a0000"/>
                </a:solidFill>
                <a:latin typeface="Arial"/>
              </a:rPr>
              <a:t>hallucinations</a:t>
            </a: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a0000"/>
                </a:solidFill>
                <a:latin typeface="Arial"/>
              </a:rPr>
              <a:t>sleep</a:t>
            </a: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a0000"/>
                </a:solidFill>
                <a:latin typeface="Arial"/>
              </a:rPr>
              <a:t>wakefulness</a:t>
            </a: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, and control of </a:t>
            </a:r>
            <a:r>
              <a:rPr b="1" lang="en-US" sz="2400" spc="-1" strike="noStrike">
                <a:solidFill>
                  <a:srgbClr val="fa0000"/>
                </a:solidFill>
                <a:latin typeface="Arial"/>
              </a:rPr>
              <a:t>sensory</a:t>
            </a:r>
            <a:r>
              <a:rPr b="1" lang="en-US" sz="2400" spc="-1" strike="noStrike">
                <a:solidFill>
                  <a:srgbClr val="000032"/>
                </a:solidFill>
                <a:latin typeface="Arial"/>
              </a:rPr>
              <a:t> trans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755640" y="333360"/>
            <a:ext cx="7559640" cy="128052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fferent Parts of the </a:t>
            </a:r>
            <a:endParaRPr b="0" lang="en-US" sz="36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NS &amp; their functions</a:t>
            </a:r>
            <a:endParaRPr b="0" lang="en-US" sz="36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755640" y="2205000"/>
            <a:ext cx="748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900000" y="1916280"/>
            <a:ext cx="770436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680" indent="-58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cerebrum</a:t>
            </a:r>
            <a:r>
              <a:rPr b="1" lang="en-US" sz="2600" spc="-1" strike="noStrike">
                <a:solidFill>
                  <a:srgbClr val="000032"/>
                </a:solidFill>
                <a:latin typeface="Verdana"/>
              </a:rPr>
              <a:t> (cerebral hemispheres):</a:t>
            </a:r>
            <a:endParaRPr b="0" lang="en-US" sz="26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constitutes the largest division of the brain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outer layer of the cerebrum is known as the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cerebral cortex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57" name="Picture 7" descr="ns9"/>
          <p:cNvPicPr/>
          <p:nvPr/>
        </p:nvPicPr>
        <p:blipFill>
          <a:blip r:embed="rId1"/>
          <a:stretch/>
        </p:blipFill>
        <p:spPr>
          <a:xfrm>
            <a:off x="1979640" y="1773360"/>
            <a:ext cx="5545080" cy="4645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Brain_Diagram"/>
          <p:cNvPicPr/>
          <p:nvPr/>
        </p:nvPicPr>
        <p:blipFill>
          <a:blip r:embed="rId2"/>
          <a:stretch/>
        </p:blipFill>
        <p:spPr>
          <a:xfrm>
            <a:off x="2987640" y="3284640"/>
            <a:ext cx="331308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fa0000"/>
                </a:solidFill>
                <a:latin typeface="Arial"/>
              </a:rPr>
              <a:t>-</a:t>
            </a:r>
            <a:r>
              <a:rPr b="1" lang="en-US" sz="4400" spc="-1" strike="noStrike">
                <a:solidFill>
                  <a:srgbClr val="fa0000"/>
                </a:solidFill>
                <a:latin typeface="Arial"/>
              </a:rPr>
              <a:t>HT plays a role 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200"/>
                </a:solidFill>
                <a:latin typeface="Arial"/>
              </a:rPr>
              <a:t>1- Moo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reasing 5-HT levels by giving tryptophan is useful in depressive st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200"/>
                </a:solidFill>
                <a:latin typeface="Arial"/>
              </a:rPr>
              <a:t>2- Sensory transmiss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5-HT inhibits transmission of pain impulses in the spinal cord and brain and enhances morphine analges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200"/>
                </a:solidFill>
                <a:latin typeface="Arial"/>
              </a:rPr>
              <a:t>3- Temperature control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hypothalamus is rich in 5-HT containing neurons. Experimentally, injection of 5-HT in that region causes a rise in body temperature, while exposure to cold climates increases 5HT rele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200"/>
                </a:solidFill>
                <a:latin typeface="Arial"/>
              </a:rPr>
              <a:t>4- Anterior pituitary func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secretion of the hypothalamic releasing factors for certain anterior pituitary hormones as gonadotrophins is influenced by 5-HT containing neurons in the hypothalam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200"/>
                </a:solidFill>
                <a:latin typeface="Arial"/>
              </a:rPr>
              <a:t>5- Vomiting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5-HT3 blocker (ondansetrone) is used as anti-emeti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611280" y="1844640"/>
            <a:ext cx="81360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Histam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s present in the brain in much smaller amounts than in other tissues (skin &amp; lung)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Histaminergic neurons arise from a small region in th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hypothalamu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nd extend to the forebrain and midbrain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Histamine receptor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n the brain include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, 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, and 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-receptor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which are all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G-protein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coupled receptors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684360" y="620640"/>
            <a:ext cx="287964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istamine 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4" dur="indefinite" restart="never" nodeType="tmRoot">
          <p:childTnLst>
            <p:seq>
              <p:cTn id="1425" dur="indefinite" nodeType="mainSeq">
                <p:childTnLst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fill="hold">
                            <p:stCondLst>
                              <p:cond delay="500"/>
                            </p:stCondLst>
                            <p:childTnLst>
                              <p:par>
                                <p:cTn id="143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3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8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3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684360" y="1773360"/>
            <a:ext cx="7920000" cy="27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role of histamine in the CNS is minor and poorly understood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is thought to function in the regulation of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rousal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body temperatur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nd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vascular dynamic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Blocking central 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- receptors 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s associated with both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sedativ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nd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ntiemetic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effects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4" dur="indefinite" restart="never" nodeType="tmRoot">
          <p:childTnLst>
            <p:seq>
              <p:cTn id="1455" dur="indefinite" nodeType="mainSeq">
                <p:childTnLst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0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5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0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684360" y="1989000"/>
            <a:ext cx="79912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Excitatory amino acid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(EAAs) are widely distributed in the CNS and have important metabolic and neurotransmitter roles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y include the dicarboxylic amino acids “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glutamat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&amp; “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spartat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EAAs receptors (also known as glutamate receptors) are 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classified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nto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I.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Ionotropic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glutamate receptors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II.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Metabotropic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glutamate receptors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684360" y="620640"/>
            <a:ext cx="741672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xcitatory amino acids (EAAs) 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1" dur="indefinite" restart="never" nodeType="tmRoot">
          <p:childTnLst>
            <p:seq>
              <p:cTn id="1472" dur="indefinite" nodeType="mainSeq">
                <p:childTnLst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fill="hold">
                            <p:stCondLst>
                              <p:cond delay="500"/>
                            </p:stCondLst>
                            <p:childTnLst>
                              <p:par>
                                <p:cTn id="148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0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5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0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5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0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468360" y="3357720"/>
            <a:ext cx="8424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I. </a:t>
            </a:r>
            <a:r>
              <a:rPr b="1" lang="en-US" sz="2200" spc="-1" strike="noStrike" u="sng">
                <a:solidFill>
                  <a:srgbClr val="fa0000"/>
                </a:solidFill>
                <a:uFillTx/>
                <a:latin typeface="Verdana"/>
              </a:rPr>
              <a:t>Ionotropic glutamate receptors</a:t>
            </a: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: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They are 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channel-linked receptors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which include: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NMDA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(N-methyl D-aspartate) receptors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AMPA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(amino methyl propionic acid) receptors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Kainate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receptors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II. </a:t>
            </a:r>
            <a:r>
              <a:rPr b="1" lang="en-US" sz="2200" spc="-1" strike="noStrike" u="sng">
                <a:solidFill>
                  <a:srgbClr val="fa0000"/>
                </a:solidFill>
                <a:uFillTx/>
                <a:latin typeface="Verdana"/>
              </a:rPr>
              <a:t>Metabotropic glutamate receptors</a:t>
            </a: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: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They are 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G-protein coupled receptors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which are linked to second messenger systems. 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227" name="Picture 3" descr="soup2a"/>
          <p:cNvPicPr/>
          <p:nvPr/>
        </p:nvPicPr>
        <p:blipFill>
          <a:blip r:embed="rId1"/>
          <a:stretch/>
        </p:blipFill>
        <p:spPr>
          <a:xfrm>
            <a:off x="2340000" y="-1755720"/>
            <a:ext cx="4627440" cy="489744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4"/>
          <p:cNvSpPr/>
          <p:nvPr/>
        </p:nvSpPr>
        <p:spPr>
          <a:xfrm>
            <a:off x="1763640" y="-1971720"/>
            <a:ext cx="5834160" cy="218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1692360" y="0"/>
            <a:ext cx="718920" cy="321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2124000" y="2997360"/>
            <a:ext cx="532764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6804000" y="0"/>
            <a:ext cx="360360" cy="328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1" dur="indefinite" restart="never" nodeType="tmRoot">
          <p:childTnLst>
            <p:seq>
              <p:cTn id="1512" dur="indefinite" nodeType="mainSeq">
                <p:childTnLst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2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7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6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1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755640" y="1773360"/>
            <a:ext cx="79200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Glutamat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&amp;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spartat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exert an extremely powerful excitatory effect on neurons in every region of the CNS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refore,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glutamate antagonist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could have a potential therapeutic role in the treatment of “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epileps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&amp; “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schizophreni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as well as reduction of “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brain cell death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caused by excessive NMDA receptor activation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2" dur="indefinite" restart="never" nodeType="tmRoot">
          <p:childTnLst>
            <p:seq>
              <p:cTn id="1563" dur="indefinite" nodeType="mainSeq">
                <p:childTnLst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8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3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324000" y="620640"/>
            <a:ext cx="849600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amma amino butyric acid (GABA) 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395280" y="1989000"/>
            <a:ext cx="8280360" cy="38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GAB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s an inhibitory neurotransmitter amino acid that is synthesized by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decarboxylation of the excitatory amino acid, glutamat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occurs only in brain tissues, and is abundant in the nigrostriatal system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GABA acts on 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2 type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of receptors: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•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GABA</a:t>
            </a:r>
            <a:r>
              <a:rPr b="1" lang="en-US" sz="2400" spc="-1" strike="noStrike" baseline="-25000">
                <a:solidFill>
                  <a:srgbClr val="008200"/>
                </a:solidFill>
                <a:latin typeface="Verdana"/>
              </a:rPr>
              <a:t>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-receptors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•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GABA</a:t>
            </a:r>
            <a:r>
              <a:rPr b="1" lang="en-US" sz="2400" spc="-1" strike="noStrike" baseline="-25000">
                <a:solidFill>
                  <a:srgbClr val="008200"/>
                </a:solidFill>
                <a:latin typeface="Verdana"/>
              </a:rPr>
              <a:t>B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-receptors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4" dur="indefinite" restart="never" nodeType="tmRoot">
          <p:childTnLst>
            <p:seq>
              <p:cTn id="1575" dur="indefinite" nodeType="mainSeq">
                <p:childTnLst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500"/>
                            </p:stCondLst>
                            <p:childTnLst>
                              <p:par>
                                <p:cTn id="158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3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8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3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468360" y="836640"/>
            <a:ext cx="8280360" cy="55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GABA</a:t>
            </a:r>
            <a:r>
              <a:rPr b="1" lang="en-US" sz="2400" spc="-1" strike="noStrike" u="sng" baseline="-25000">
                <a:solidFill>
                  <a:srgbClr val="fa0000"/>
                </a:solidFill>
                <a:uFillTx/>
                <a:latin typeface="Verdana"/>
              </a:rPr>
              <a:t>A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-receptors: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y ar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channel-linked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receptors, which are stimulated by GABA leading to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increased chloride permeability, hyperpolarization, and reduction of excitability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GABA</a:t>
            </a:r>
            <a:r>
              <a:rPr b="1" lang="en-US" sz="2400" spc="-1" strike="noStrike" u="sng" baseline="-25000">
                <a:solidFill>
                  <a:srgbClr val="fa0000"/>
                </a:solidFill>
                <a:uFillTx/>
                <a:latin typeface="Verdana"/>
              </a:rPr>
              <a:t>B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-receptors: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y ar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G-protein-coupled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receptors,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which inhibit calcium channel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nd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open potassium channel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reducing excitabilit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GABA</a:t>
            </a:r>
            <a:r>
              <a:rPr b="1" lang="en-US" sz="2400" spc="-1" strike="noStrike" baseline="-25000">
                <a:solidFill>
                  <a:srgbClr val="000032"/>
                </a:solidFill>
                <a:latin typeface="Verdana"/>
              </a:rPr>
              <a:t>B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receptors are stimulated by the GABA</a:t>
            </a:r>
            <a:r>
              <a:rPr b="1" lang="en-US" sz="2400" spc="-1" strike="noStrike" baseline="-25000">
                <a:solidFill>
                  <a:srgbClr val="000032"/>
                </a:solidFill>
                <a:latin typeface="Verdana"/>
              </a:rPr>
              <a:t>B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selective agonist “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baclofen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(used to treat spasticity and related motor disorders)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6" dur="indefinite" restart="never" nodeType="tmRoot">
          <p:childTnLst>
            <p:seq>
              <p:cTn id="1617" dur="indefinite" nodeType="mainSeq">
                <p:childTnLst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2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7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2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7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2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755640" y="765000"/>
            <a:ext cx="77756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GABA</a:t>
            </a:r>
            <a:r>
              <a:rPr b="1" lang="en-US" sz="2400" spc="-1" strike="noStrike" baseline="-25000">
                <a:solidFill>
                  <a:srgbClr val="000032"/>
                </a:solidFill>
                <a:latin typeface="Verdana"/>
              </a:rPr>
              <a:t>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receptor has 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3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 different site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that can be considered as the 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target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of action of several important CNS drugs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237" name="Picture 3" descr="hrl_rcpt_sys_gab"/>
          <p:cNvPicPr/>
          <p:nvPr/>
        </p:nvPicPr>
        <p:blipFill>
          <a:blip r:embed="rId1"/>
          <a:stretch/>
        </p:blipFill>
        <p:spPr>
          <a:xfrm>
            <a:off x="1619280" y="2421000"/>
            <a:ext cx="5734080" cy="35240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539640" y="4365720"/>
            <a:ext cx="80647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0000"/>
                </a:solidFill>
                <a:latin typeface="Verdana"/>
              </a:rPr>
              <a:t>1. </a:t>
            </a:r>
            <a:r>
              <a:rPr b="1" lang="en-US" sz="2000" spc="-1" strike="noStrike" u="sng">
                <a:solidFill>
                  <a:srgbClr val="fa0000"/>
                </a:solidFill>
                <a:uFillTx/>
                <a:latin typeface="Verdana"/>
              </a:rPr>
              <a:t>GABA-binding site (receptor site):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2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32"/>
                </a:solidFill>
                <a:latin typeface="Verdana"/>
              </a:rPr>
              <a:t>It is stimulated by endogenous GABA or GABA agonists (e.g. </a:t>
            </a:r>
            <a:r>
              <a:rPr b="1" lang="en-US" sz="2000" spc="-1" strike="noStrike">
                <a:solidFill>
                  <a:srgbClr val="008200"/>
                </a:solidFill>
                <a:latin typeface="Verdana"/>
              </a:rPr>
              <a:t>muscimol</a:t>
            </a:r>
            <a:r>
              <a:rPr b="1" lang="en-US" sz="2000" spc="-1" strike="noStrike">
                <a:solidFill>
                  <a:srgbClr val="000032"/>
                </a:solidFill>
                <a:latin typeface="Verdana"/>
              </a:rPr>
              <a:t>) producing hyperpolarization, and blocked by GABA antagonists (e.g. </a:t>
            </a:r>
            <a:r>
              <a:rPr b="1" lang="en-US" sz="2000" spc="-1" strike="noStrike">
                <a:solidFill>
                  <a:srgbClr val="008200"/>
                </a:solidFill>
                <a:latin typeface="Verdana"/>
              </a:rPr>
              <a:t>bicuculline</a:t>
            </a:r>
            <a:r>
              <a:rPr b="1" lang="en-US" sz="2000" spc="-1" strike="noStrike">
                <a:solidFill>
                  <a:srgbClr val="000032"/>
                </a:solidFill>
                <a:latin typeface="Verdana"/>
              </a:rPr>
              <a:t>) producing convulsions. 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755640" y="356220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611280" y="4292640"/>
            <a:ext cx="7848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0000"/>
                </a:solidFill>
                <a:latin typeface="Verdana"/>
              </a:rPr>
              <a:t>2. </a:t>
            </a:r>
            <a:r>
              <a:rPr b="1" lang="en-US" sz="2000" spc="-1" strike="noStrike" u="sng">
                <a:solidFill>
                  <a:srgbClr val="fa0000"/>
                </a:solidFill>
                <a:uFillTx/>
                <a:latin typeface="Verdana"/>
              </a:rPr>
              <a:t>Modulatory site (accessory site):</a:t>
            </a:r>
            <a:r>
              <a:rPr b="1" lang="en-US" sz="2000" spc="-1" strike="noStrike">
                <a:solidFill>
                  <a:srgbClr val="000032"/>
                </a:solidFill>
                <a:latin typeface="Verdana"/>
              </a:rPr>
              <a:t> 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2"/>
                </a:solidFill>
                <a:latin typeface="Verdana"/>
              </a:rPr>
              <a:t>It is also known as “benzodiazepine receptor”. 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200"/>
                </a:solidFill>
                <a:latin typeface="Verdana"/>
              </a:rPr>
              <a:t>Benzodiazepines</a:t>
            </a:r>
            <a:r>
              <a:rPr b="1" lang="en-US" sz="2000" spc="-1" strike="noStrike">
                <a:solidFill>
                  <a:srgbClr val="000032"/>
                </a:solidFill>
                <a:latin typeface="Verdana"/>
              </a:rPr>
              <a:t>, which have powerful anxiolytic and sedative effects, bind to this modulatory site to facilitate the binding and inhibitory action of GABA at the receptor site.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755640" y="40464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611280" y="4437000"/>
            <a:ext cx="79912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0000"/>
                </a:solidFill>
                <a:latin typeface="Verdana"/>
              </a:rPr>
              <a:t>3. </a:t>
            </a:r>
            <a:r>
              <a:rPr b="1" lang="en-US" sz="2000" spc="-1" strike="noStrike" u="sng">
                <a:solidFill>
                  <a:srgbClr val="fa0000"/>
                </a:solidFill>
                <a:uFillTx/>
                <a:latin typeface="Verdana"/>
              </a:rPr>
              <a:t>The chloride channel</a:t>
            </a:r>
            <a:r>
              <a:rPr b="1" lang="en-US" sz="2000" spc="-1" strike="noStrike">
                <a:solidFill>
                  <a:srgbClr val="fa0000"/>
                </a:solidFill>
                <a:latin typeface="Verdana"/>
              </a:rPr>
              <a:t>: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2"/>
                </a:solidFill>
                <a:latin typeface="Verdana"/>
              </a:rPr>
              <a:t>It can be blocked by drugs producing convulsions (e.g. </a:t>
            </a:r>
            <a:r>
              <a:rPr b="1" lang="en-US" sz="2000" spc="-1" strike="noStrike">
                <a:solidFill>
                  <a:srgbClr val="008200"/>
                </a:solidFill>
                <a:latin typeface="Verdana"/>
              </a:rPr>
              <a:t>picrotoxin</a:t>
            </a:r>
            <a:r>
              <a:rPr b="1" lang="en-US" sz="2000" spc="-1" strike="noStrike">
                <a:solidFill>
                  <a:srgbClr val="000032"/>
                </a:solidFill>
                <a:latin typeface="Verdana"/>
              </a:rPr>
              <a:t>) </a:t>
            </a:r>
            <a:endParaRPr b="0" lang="en-US" sz="20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3" dur="indefinite" restart="never" nodeType="tmRoot">
          <p:childTnLst>
            <p:seq>
              <p:cTn id="1644" dur="indefinite" nodeType="mainSeq">
                <p:childTnLst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500"/>
                            </p:stCondLst>
                            <p:childTnLst>
                              <p:par>
                                <p:cTn id="16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44509E-006 L 0.00156 -0.26705 E">
                                      <p:cBhvr>
                                        <p:cTn id="1659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1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6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9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4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8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0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3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5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1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fill="hold">
                      <p:stCondLst>
                        <p:cond delay="indefinite"/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6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1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5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7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0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12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5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17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3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fill="hold">
                      <p:stCondLst>
                        <p:cond delay="indefinite"/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8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539640" y="620640"/>
            <a:ext cx="223200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lycine 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539640" y="1700280"/>
            <a:ext cx="828036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Glyc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s an inhibitory amino acid which is present in high concentrations in the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spinal cord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spinal stimulant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strychn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produces convulsions by </a:t>
            </a:r>
            <a:r>
              <a:rPr b="1" lang="en-US" sz="2400" spc="-1" strike="noStrike">
                <a:solidFill>
                  <a:srgbClr val="e64d08"/>
                </a:solidFill>
                <a:latin typeface="Verdana"/>
              </a:rPr>
              <a:t>competitive antagonism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of the inhibitory response to glycine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n addition,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tetanus toxin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acts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selectively to prevent glycine releas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from inhibitory neurons of the spinal cord causing excessive reflex hyperexcitability and violent muscle spasms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245" name="Picture 4" descr="tetaiac002a"/>
          <p:cNvPicPr/>
          <p:nvPr/>
        </p:nvPicPr>
        <p:blipFill>
          <a:blip r:embed="rId1"/>
          <a:stretch/>
        </p:blipFill>
        <p:spPr>
          <a:xfrm>
            <a:off x="1835280" y="47628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9" dur="indefinite" restart="never" nodeType="tmRoot">
          <p:childTnLst>
            <p:seq>
              <p:cTn id="1730" dur="indefinite" nodeType="mainSeq">
                <p:childTnLst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1" fill="hold">
                            <p:stCondLst>
                              <p:cond delay="500"/>
                            </p:stCondLst>
                            <p:childTnLst>
                              <p:par>
                                <p:cTn id="17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fill="hold">
                      <p:stCondLst>
                        <p:cond delay="indefinite"/>
                      </p:stCondLst>
                      <p:childTnLst>
                        <p:par>
                          <p:cTn id="1745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8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3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8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8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1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cortex2"/>
          <p:cNvPicPr/>
          <p:nvPr/>
        </p:nvPicPr>
        <p:blipFill>
          <a:blip r:embed="rId1"/>
          <a:stretch/>
        </p:blipFill>
        <p:spPr>
          <a:xfrm>
            <a:off x="2411280" y="3284640"/>
            <a:ext cx="4105440" cy="307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684360" y="692280"/>
            <a:ext cx="79930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cerebral cortex is divided into different 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functional area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: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buClr>
                <a:srgbClr val="fa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Motor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rea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(voluntary movements)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buClr>
                <a:srgbClr val="fa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Sensor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rea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(sensation)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buClr>
                <a:srgbClr val="fa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ssociation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rea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(higher mental activities  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as consciousness, memory, and behavior)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755640" y="1557360"/>
            <a:ext cx="770400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Adenosine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s a purine acting on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</a:t>
            </a:r>
            <a:r>
              <a:rPr b="1" lang="en-US" sz="2400" spc="-1" strike="noStrike" baseline="-25000">
                <a:solidFill>
                  <a:srgbClr val="008200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</a:t>
            </a:r>
            <a:r>
              <a:rPr b="1" lang="en-US" sz="2400" spc="-1" strike="noStrike" baseline="-25000">
                <a:solidFill>
                  <a:srgbClr val="0082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and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</a:t>
            </a:r>
            <a:r>
              <a:rPr b="1" lang="en-US" sz="2400" spc="-1" strike="noStrike" baseline="-25000">
                <a:solidFill>
                  <a:srgbClr val="008200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receptors (G-protein coupled)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Adenosine is mainly inhibitory producing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drowsines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nalgesi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, and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nticonvulsant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ctivity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refore, synthetic adenosine agonists could be useful in treating sleep disturbance, pain, and epilepsy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On the other hand, xanthines, such as caffeine, produce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rousal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nd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alertness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by acting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as antagonists at the A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-receptors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826920" y="476280"/>
            <a:ext cx="273708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denosine 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3" dur="indefinite" restart="never" nodeType="tmRoot">
          <p:childTnLst>
            <p:seq>
              <p:cTn id="1774" dur="indefinite" nodeType="mainSeq">
                <p:childTnLst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500"/>
                            </p:stCondLst>
                            <p:childTnLst>
                              <p:par>
                                <p:cTn id="178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2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7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2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7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539640" y="1341360"/>
            <a:ext cx="81360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Melatonin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is a mediator that is synthesized from 5-HT in the pineal gland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Melatonin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receptors are G-protein coupled, and are mainly found in the 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retina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and </a:t>
            </a:r>
            <a:r>
              <a:rPr b="1" lang="en-US" sz="2200" spc="-1" strike="noStrike">
                <a:solidFill>
                  <a:srgbClr val="008200"/>
                </a:solidFill>
                <a:latin typeface="Verdana"/>
              </a:rPr>
              <a:t>brain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Melatonin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secretion is controlled by an input from the retina to a structure in the hypothalamus termed as “</a:t>
            </a:r>
            <a:r>
              <a:rPr b="1" lang="en-US" sz="2200" spc="-1" strike="noStrike" u="sng">
                <a:solidFill>
                  <a:srgbClr val="008200"/>
                </a:solidFill>
                <a:uFillTx/>
                <a:latin typeface="Verdana"/>
              </a:rPr>
              <a:t>the biological clock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”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Melatonin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secretion is high at night and low by day, therefore it is important in the regulation of “</a:t>
            </a:r>
            <a:r>
              <a:rPr b="1" lang="en-US" sz="2200" spc="-1" strike="noStrike" u="sng">
                <a:solidFill>
                  <a:srgbClr val="008200"/>
                </a:solidFill>
                <a:uFillTx/>
                <a:latin typeface="Verdana"/>
              </a:rPr>
              <a:t>circadian rhythm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”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a0000"/>
                </a:solidFill>
                <a:latin typeface="Verdana"/>
              </a:rPr>
              <a:t>Melatonin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 is medicinally used to control “</a:t>
            </a:r>
            <a:r>
              <a:rPr b="1" lang="en-US" sz="2200" spc="-1" strike="noStrike" u="sng">
                <a:solidFill>
                  <a:srgbClr val="008200"/>
                </a:solidFill>
                <a:uFillTx/>
                <a:latin typeface="Verdana"/>
              </a:rPr>
              <a:t>jet-lag</a:t>
            </a:r>
            <a:r>
              <a:rPr b="1" lang="en-US" sz="2200" spc="-1" strike="noStrike">
                <a:solidFill>
                  <a:srgbClr val="000032"/>
                </a:solidFill>
                <a:latin typeface="Verdana"/>
              </a:rPr>
              <a:t>” and in improving the performance of night-shift workers.</a:t>
            </a:r>
            <a:endParaRPr b="0" lang="en-US" sz="2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539640" y="333360"/>
            <a:ext cx="2737080" cy="853560"/>
          </a:xfrm>
          <a:prstGeom prst="rect">
            <a:avLst/>
          </a:prstGeom>
          <a:solidFill>
            <a:srgbClr val="000032"/>
          </a:solidFill>
          <a:ln w="9360">
            <a:solidFill>
              <a:srgbClr val="0000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elatonin  </a:t>
            </a:r>
            <a:endParaRPr b="0" lang="en-US" sz="3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250" name="Picture 4" descr="PinealLocation"/>
          <p:cNvPicPr/>
          <p:nvPr/>
        </p:nvPicPr>
        <p:blipFill>
          <a:blip r:embed="rId1"/>
          <a:stretch/>
        </p:blipFill>
        <p:spPr>
          <a:xfrm>
            <a:off x="5724360" y="1773360"/>
            <a:ext cx="3151440" cy="2232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Circadian%20Rhythm"/>
          <p:cNvPicPr/>
          <p:nvPr/>
        </p:nvPicPr>
        <p:blipFill>
          <a:blip r:embed="rId2"/>
          <a:stretch/>
        </p:blipFill>
        <p:spPr>
          <a:xfrm>
            <a:off x="2195640" y="404640"/>
            <a:ext cx="5038560" cy="36514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9" descr="Melatonin"/>
          <p:cNvPicPr/>
          <p:nvPr/>
        </p:nvPicPr>
        <p:blipFill>
          <a:blip r:embed="rId3"/>
          <a:stretch/>
        </p:blipFill>
        <p:spPr>
          <a:xfrm>
            <a:off x="2268360" y="1341360"/>
            <a:ext cx="504828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8" dur="indefinite" restart="never" nodeType="tmRoot">
          <p:childTnLst>
            <p:seq>
              <p:cTn id="1809" dur="indefinite" nodeType="mainSeq">
                <p:childTnLst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4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836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3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5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fill="hold">
                      <p:stCondLst>
                        <p:cond delay="indefinite"/>
                      </p:stCondLst>
                      <p:childTnLst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0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5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7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59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2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4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2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74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8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8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3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8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0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3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4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5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8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0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3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5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8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9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2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1547640" y="2565360"/>
            <a:ext cx="64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32"/>
                </a:solidFill>
                <a:latin typeface="Verdana"/>
              </a:rPr>
              <a:t>Thank you</a:t>
            </a:r>
            <a:endParaRPr b="0" lang="en-US" sz="72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2" dur="indefinite" restart="never" nodeType="tmRoot">
          <p:childTnLst>
            <p:seq>
              <p:cTn id="1923" dur="indefinite" nodeType="mainSeq">
                <p:childTnLst>
                  <p:par>
                    <p:cTn id="1924" fill="hold">
                      <p:stCondLst>
                        <p:cond delay="0"/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611280" y="549360"/>
            <a:ext cx="792144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Deep in the cerebral hemispheres are located the “</a:t>
            </a:r>
            <a:r>
              <a:rPr b="1" lang="en-US" sz="2400" spc="-1" strike="noStrike" u="sng">
                <a:solidFill>
                  <a:srgbClr val="fa0000"/>
                </a:solidFill>
                <a:uFillTx/>
                <a:latin typeface="Verdana"/>
              </a:rPr>
              <a:t>basal gangli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which include the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corpus striatum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 &amp; 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substantia nigr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”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fa0000"/>
                </a:solidFill>
                <a:latin typeface="Verdana"/>
              </a:rPr>
              <a:t>basal ganglia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play an important role in the control of 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“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motor</a:t>
            </a:r>
            <a:r>
              <a:rPr b="1" lang="en-US" sz="2400" spc="-1" strike="noStrike">
                <a:solidFill>
                  <a:srgbClr val="008200"/>
                </a:solidFill>
                <a:latin typeface="Verdana"/>
              </a:rPr>
              <a:t>”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activities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62" name="Picture 4" descr="ns9"/>
          <p:cNvPicPr/>
          <p:nvPr/>
        </p:nvPicPr>
        <p:blipFill>
          <a:blip r:embed="rId1"/>
          <a:stretch/>
        </p:blipFill>
        <p:spPr>
          <a:xfrm>
            <a:off x="2771640" y="1989000"/>
            <a:ext cx="360072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684360" y="1413000"/>
            <a:ext cx="4537080" cy="38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680" indent="-58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thalamus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functions as a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sensor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ntegrating center for well-being and malaise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receives th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sensory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 impulses from all parts of the body and relays them to specific areas of the cerebral cortex.</a:t>
            </a:r>
            <a:r>
              <a:rPr b="1" lang="en-US" sz="2400" spc="-1" strike="noStrike" u="sng">
                <a:solidFill>
                  <a:srgbClr val="000032"/>
                </a:solidFill>
                <a:uFillTx/>
                <a:latin typeface="Verdana"/>
              </a:rPr>
              <a:t>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64" name="Picture 3" descr="thalamus"/>
          <p:cNvPicPr/>
          <p:nvPr/>
        </p:nvPicPr>
        <p:blipFill>
          <a:blip r:embed="rId1"/>
          <a:stretch/>
        </p:blipFill>
        <p:spPr>
          <a:xfrm>
            <a:off x="5796000" y="1844640"/>
            <a:ext cx="2894040" cy="31813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5651640" y="4797360"/>
            <a:ext cx="316836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468360" y="1341360"/>
            <a:ext cx="5111640" cy="38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680" indent="-58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a0000"/>
                </a:solidFill>
                <a:uFillTx/>
                <a:latin typeface="Verdana"/>
              </a:rPr>
              <a:t>The hypothalamus:</a:t>
            </a:r>
            <a:endParaRPr b="0" lang="en-US" sz="28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serves as a control center for the entire </a:t>
            </a:r>
            <a:r>
              <a:rPr b="1" lang="en-US" sz="2400" spc="-1" strike="noStrike" u="sng">
                <a:solidFill>
                  <a:srgbClr val="008200"/>
                </a:solidFill>
                <a:uFillTx/>
                <a:latin typeface="Verdana"/>
              </a:rPr>
              <a:t>autonomic nervous system</a:t>
            </a: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. 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  <a:p>
            <a:pPr marL="58680" indent="-586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2"/>
                </a:solidFill>
                <a:latin typeface="Verdana"/>
              </a:rPr>
              <a:t>It regulates blood pressure, body temperature, water balance, metabolism, and secretions of the anterior pituitary gland.</a:t>
            </a:r>
            <a:endParaRPr b="0" lang="en-US" sz="24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  <p:pic>
        <p:nvPicPr>
          <p:cNvPr id="67" name="Picture 3" descr="hypothalamus"/>
          <p:cNvPicPr/>
          <p:nvPr/>
        </p:nvPicPr>
        <p:blipFill>
          <a:blip r:embed="rId1"/>
          <a:stretch/>
        </p:blipFill>
        <p:spPr>
          <a:xfrm>
            <a:off x="5796000" y="1989000"/>
            <a:ext cx="2816280" cy="30956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5724360" y="4797360"/>
            <a:ext cx="3024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6T23:05:35Z</dcterms:created>
  <dc:creator>User</dc:creator>
  <dc:description/>
  <dc:language>en-US</dc:language>
  <cp:lastModifiedBy>COMPUTER</cp:lastModifiedBy>
  <dcterms:modified xsi:type="dcterms:W3CDTF">2011-09-17T06:33:28Z</dcterms:modified>
  <cp:revision>76</cp:revision>
  <dc:subject/>
  <dc:title>Autonomic nervous system</dc:title>
</cp:coreProperties>
</file>