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EF7F-0E0B-463B-8408-A29EBFE535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ancer.gov/dictionary/db_alpha.aspx?expand=c#cel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EEB4-92FE-4B1F-AB8A-5CCE09F0AFF4}"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axanes are a group of drugs that includes paclitaxel (</a:t>
            </a:r>
            <a:r>
              <a:rPr b="1" lang="en-US" sz="1600" spc="-1" strike="noStrike">
                <a:solidFill>
                  <a:srgbClr val="000000"/>
                </a:solidFill>
                <a:latin typeface="Calibri"/>
              </a:rPr>
              <a:t>Taxol</a:t>
            </a:r>
            <a:r>
              <a:rPr b="0" lang="en-US" sz="1600" spc="-1" strike="noStrike">
                <a:solidFill>
                  <a:srgbClr val="000000"/>
                </a:solidFill>
                <a:latin typeface="Calibri"/>
              </a:rPr>
              <a:t>®) and docetaxel (Taxotere®)</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agents are mainly used to treat </a:t>
            </a:r>
            <a:r>
              <a:rPr b="1" lang="en-US" sz="1600" spc="-1" strike="noStrike">
                <a:solidFill>
                  <a:srgbClr val="000000"/>
                </a:solidFill>
                <a:latin typeface="Calibri"/>
              </a:rPr>
              <a:t>breast cancer</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AEA1-913E-4C28-B9D0-1A71A1DD03F5}"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xanes have a unique way of preventing the growth of cancer </a:t>
            </a:r>
            <a:r>
              <a:rPr b="0" lang="en-US" sz="1600" spc="-1" strike="noStrike" u="sng">
                <a:solidFill>
                  <a:srgbClr val="0000ff"/>
                </a:solidFill>
                <a:uFillTx/>
                <a:latin typeface="Calibri"/>
                <a:hlinkClick r:id="rId1"/>
              </a:rPr>
              <a:t>cells</a:t>
            </a:r>
            <a:r>
              <a:rPr b="0" lang="en-US" sz="1600" spc="-1" strike="noStrike">
                <a:solidFill>
                  <a:srgbClr val="000000"/>
                </a:solidFill>
                <a:latin typeface="Calibri"/>
              </a:rPr>
              <a:t>: they affect cell structures called microtubules, which play an important role in cell functions. In normal cell growth, microtubules are formed when a cell starts dividing. Once the cell stops dividing, the microtubules are broken down or destroyed. Taxanes stop the microtubules from breaking down; cancer cells become so clogged with microtubules that they cannot grow and divid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4CD8-F3FC-4433-AEF4-B09B45E25DE9}"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228600" y="4343400"/>
            <a:ext cx="64008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ide Effects of </a:t>
            </a:r>
            <a:r>
              <a:rPr b="1" i="1" lang="en-US" sz="1400" spc="-1" strike="noStrike">
                <a:solidFill>
                  <a:srgbClr val="000000"/>
                </a:solidFill>
                <a:latin typeface="Calibri"/>
              </a:rPr>
              <a:t>Paclitaxel</a:t>
            </a: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paclitaxel can cause hypersensitivity (allergic) reactions such as flushing of the face, skin rash, or shortness of breath. Patients often receive medication to prevent hypersensitivity reactions before they take paclitaxel. Paclitaxel can also cause temporary damage to the bone marrow. The bone marrow is the soft, sponge-like tissue in the center of large bones that produces blood cells, which fight infection, carry oxygen, and help prevent bleeding by causing blood clots to form. Bone marrow damage can cause a person to be more susceptible to infection, anemia (a condition in which the number of red blood cells is below normal), and bruise or bleed easily. Other side effects may include joint or muscle pain in the arms or legs; diarrhea; nausea and vomiting; numbness, burning, or tingling in the hands or feet; and loss of hair. Nevertheless, for many patients with cancer, the benefits outweigh the risks associated with this drug.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ide Effects of </a:t>
            </a:r>
            <a:r>
              <a:rPr b="1" i="1" lang="en-US" sz="1400" spc="-1" strike="noStrike">
                <a:solidFill>
                  <a:srgbClr val="000000"/>
                </a:solidFill>
                <a:latin typeface="Calibri"/>
              </a:rPr>
              <a:t>Docetaxel</a:t>
            </a: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ide effects of docetaxel are similar to those related to paclitaxel. Additionally, docetaxel can cause </a:t>
            </a:r>
            <a:r>
              <a:rPr b="1" lang="en-US" sz="1400" spc="-1" strike="noStrike">
                <a:solidFill>
                  <a:srgbClr val="000000"/>
                </a:solidFill>
                <a:latin typeface="Calibri"/>
              </a:rPr>
              <a:t>fluid</a:t>
            </a:r>
            <a:r>
              <a:rPr b="0" lang="en-US" sz="1400" spc="-1" strike="noStrike">
                <a:solidFill>
                  <a:srgbClr val="000000"/>
                </a:solidFill>
                <a:latin typeface="Calibri"/>
              </a:rPr>
              <a:t> </a:t>
            </a:r>
            <a:r>
              <a:rPr b="1" lang="en-US" sz="1400" spc="-1" strike="noStrike">
                <a:solidFill>
                  <a:srgbClr val="000000"/>
                </a:solidFill>
                <a:latin typeface="Calibri"/>
              </a:rPr>
              <a:t>retention</a:t>
            </a:r>
            <a:r>
              <a:rPr b="0" lang="en-US" sz="1400" spc="-1" strike="noStrike">
                <a:solidFill>
                  <a:srgbClr val="000000"/>
                </a:solidFill>
                <a:latin typeface="Calibri"/>
              </a:rPr>
              <a:t>, which is the accumulation of fluid in the body. </a:t>
            </a:r>
            <a:r>
              <a:rPr b="1" lang="en-US" sz="1400" spc="-1" strike="noStrike">
                <a:solidFill>
                  <a:srgbClr val="000000"/>
                </a:solidFill>
                <a:latin typeface="Calibri"/>
              </a:rPr>
              <a:t>This can result in shortness of breath, swelling of hands or feet, or unexplained weight</a:t>
            </a:r>
            <a:r>
              <a:rPr b="0" lang="en-US" sz="1400" spc="-1" strike="noStrike">
                <a:solidFill>
                  <a:srgbClr val="000000"/>
                </a:solidFill>
                <a:latin typeface="Calibri"/>
              </a:rPr>
              <a:t> </a:t>
            </a:r>
            <a:r>
              <a:rPr b="1" lang="en-US" sz="1400" spc="-1" strike="noStrike">
                <a:solidFill>
                  <a:srgbClr val="000000"/>
                </a:solidFill>
                <a:latin typeface="Calibri"/>
              </a:rPr>
              <a:t>gain</a:t>
            </a:r>
            <a:r>
              <a:rPr b="0" lang="en-US" sz="1400" spc="-1" strike="noStrike">
                <a:solidFill>
                  <a:srgbClr val="000000"/>
                </a:solidFill>
                <a:latin typeface="Calibri"/>
              </a:rPr>
              <a:t>. Before receiving docetaxel, patients are often given medication to prevent fluid retention. </a:t>
            </a: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A986-544B-4CB4-88A0-57BCF3E3247A}"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8FF8-B849-4540-82EC-7E0DD44FA09F}"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B82A-8D3B-4ED9-B577-92D4B51B71C9}"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rived from the vinca rosea, the periwinkle plant</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crotubules are an important part of the cytoskeleton and the mitotic spindle</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Spindle Poison”</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664C6-6764-472B-91D3-95B186096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C9BB2-3F6A-4528-8AB8-B2BA3010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D3690-DF2A-4F74-8ED6-175CCAB88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60ACA-B138-4A0C-8AFD-236267E14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50AE5-C5DC-4B83-80A2-74EF66BAF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F2097-FF47-4738-99DF-247B6190B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869D-68E0-4016-B8E0-4543D935C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BDEFA-F13C-4142-B8F5-EDA78BADA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93A1F-181A-4718-9236-749FA155A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C396-95C9-4CD4-A4EF-4F33FA7C6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F7D2-ABDD-4D0A-AF51-65FE9A55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B207-D115-4489-BD06-807BACDF0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BD861-1099-4AAE-81A7-26305D87D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3253-10E4-4852-A258-A11AD440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60178-6C57-4766-8BE6-949AB0338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6AC22-9F37-4446-8E53-CA8F4E749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4CF6A-9B33-4FB9-9FA2-AB00F9015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D4B49F0-7841-4086-99F3-D27E686AF0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9E204D-8F35-4FB5-8636-ABB7E811B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C3E927-5ED0-4589-9788-C843603BD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E16060-4F1A-4877-B40D-EAE5AEA20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A3AFB1-9548-4DBD-887B-2DD9B8DF0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3470-302F-4DB4-90F3-D909D401A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B1D599-0F29-4E7D-92D0-736072A68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C88308-E7A7-4AB7-9B9F-F9A0BAA49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2E6767-D70B-4F5B-8F5A-A57361CA4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97FB13-94AF-4F95-B041-04FD73799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B0DD81-897A-499D-8D3E-0EFFB8A81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4D3863D-7525-4AC7-B6C2-4B07B9E64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6FB87B-E712-4298-A13A-5E7BAD007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65313A-407C-4155-BC7D-2BBFD7C53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A5401-E2D6-450A-9D17-F24761E99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7A35E-2F83-45FC-B659-C0D1211E6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EFBD0-ECB8-4943-84E7-DDBB2CA9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80A1B-7C21-4EB8-A3F9-4FBAFC23F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EE9D9-658A-4380-A664-399BE8ADF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4CAAB-D6B8-4A30-9D5D-BFCF12214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9FDB2-3755-4B61-84E5-BD5DA0E94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6C807-3B32-4C7C-887C-A9A3EE5BD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52626-F507-4505-A3C2-1AC813FF6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25C11-006F-4FF0-9CBB-6BF797CB3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D5C10-DEED-424B-BBD2-5BC7BCFABA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B4513-56D6-42F1-8777-AB2EA05CC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57B469-6622-4917-AD12-1164FD8F0D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24047-7C78-43B0-8168-2754B4D40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0DA0C9-5056-46E7-A7A0-77D6AEDDBA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73B061-7397-4FC2-A17D-DB9A2EF62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56B6AD-9116-433A-BF6F-B92A91DB9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8F898D-D4DB-48C6-BAE9-13B612922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BC1C0C-CCFA-4ABC-9562-9113D0C07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72473F-61E8-4DF3-BEDF-A0848F097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D40BBA-0161-43C1-BB50-7AEFF525E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7A647A-14DF-4AC0-8826-DFCA7DD8D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FD488E-551E-4A10-8B93-207105E88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0FAFC8-D654-4398-8066-220277323D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2EFD-5A0E-4623-B756-454F25320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CA7570-0FD4-4808-961B-A8505E742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9A6DDC3-2A04-4DD5-A669-A006C22CD6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0A9333-8863-4CA4-8871-704170BF0F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653D69-7989-4468-9A6A-998E88451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FAE906-76A2-405F-8847-56D7A6728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601625-7DF3-4713-BFB2-D76B4B175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14BD1D-3316-47FE-948A-D74719E43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0E2053-E6E3-4368-ABCE-4B4B56E17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083FD5-BE34-4B0B-B24E-B387FA797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21D1CA-4ACE-4121-AEB1-63C4CEEAB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2103-860E-49FC-AED9-E24E2896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D0BEE5-9BD5-451C-A0B6-7FD58729B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926FFE6-FD19-4209-983F-FD78724E39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B99A736-E774-442C-8109-DC6BB6940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277C293-D8FA-4D3C-BB0F-227F754338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275AC7-46D2-477A-9473-7CAD985B7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815686-B925-4B7E-AA08-89EF64E6B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6B47A4-C20F-494A-846A-803943DF2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4755B8-7970-414E-8848-5606C46EE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B9B91FC-4556-464F-BF7E-B6D827FC1B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48E3DA-FF77-495C-9563-1B6E2C896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036C-8878-46C7-83B9-F286F4E3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2379A5-C48A-4849-BCC6-B48FDB7CA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440101-30DA-4796-B975-2F2800BEB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337154-13D4-4517-80F8-F0A28B3FD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173461D-DC24-4A3B-BD6C-38102E873B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C482B8-1001-40B0-85B0-E08F69975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6934-51A2-4BBC-9B48-F2446780E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D220-4588-4544-9AC7-B97CA51968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CF4B-D5A9-4B71-AF0E-08F667F37B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7641-219E-4D49-AC3B-802F736AC2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2BBA-790D-4FCE-9007-A493125A75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F4BD-3159-475A-BC4A-F59CD05AC0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1A96-5707-4077-8EF3-33211C7E58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3408-72FD-45B0-842F-836E5D1112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8568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entury Schoolbook"/>
              </a:rPr>
              <a:t>ANTIMICROTUBULES </a:t>
            </a:r>
            <a:br>
              <a:rPr sz="2900"/>
            </a:br>
            <a:br>
              <a:rPr sz="2900"/>
            </a:br>
            <a:r>
              <a:rPr b="1" lang="en-US" sz="2900" spc="-1" strike="noStrike">
                <a:solidFill>
                  <a:srgbClr val="ff0000"/>
                </a:solidFill>
                <a:latin typeface="Century Schoolbook"/>
              </a:rPr>
              <a:t>PHL 417</a:t>
            </a:r>
            <a:endParaRPr b="0" lang="en-US" sz="29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30456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2. TAXANES</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Paclitaxel</a:t>
            </a:r>
            <a:r>
              <a:rPr b="0" lang="en-US" sz="2400" spc="-1" strike="noStrike">
                <a:solidFill>
                  <a:srgbClr val="000000"/>
                </a:solidFill>
                <a:latin typeface="Century Schoolbook"/>
              </a:rPr>
              <a:t> (Tax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cetaxe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kaloid esters derived from the bark of ash tree (</a:t>
            </a:r>
            <a:r>
              <a:rPr b="0" i="1" lang="en-US" sz="2400" spc="-1" strike="noStrike">
                <a:solidFill>
                  <a:srgbClr val="000000"/>
                </a:solidFill>
                <a:latin typeface="Century Schoolbook"/>
              </a:rPr>
              <a:t>Taxus brevifolia</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382" name="Line 4"/>
          <p:cNvSpPr/>
          <p:nvPr/>
        </p:nvSpPr>
        <p:spPr>
          <a:xfrm>
            <a:off x="609480" y="1447920"/>
            <a:ext cx="28195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TAXA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axanes </a:t>
            </a:r>
            <a:r>
              <a:rPr b="1" lang="en-US" sz="2400" spc="-1" strike="noStrike" u="sng">
                <a:solidFill>
                  <a:srgbClr val="ff0000"/>
                </a:solidFill>
                <a:uFillTx/>
                <a:latin typeface="Century Schoolbook"/>
              </a:rPr>
              <a:t>enhance assembly of microtubules</a:t>
            </a:r>
            <a:r>
              <a:rPr b="0" lang="en-US" sz="2400" spc="-1" strike="noStrike" u="sng">
                <a:solidFill>
                  <a:srgbClr val="000000"/>
                </a:solidFill>
                <a:uFillTx/>
                <a:latin typeface="Century Schoolbook"/>
              </a:rPr>
              <a:t> and </a:t>
            </a:r>
            <a:r>
              <a:rPr b="0" lang="en-US" sz="2400" spc="-1" strike="noStrike" u="sng">
                <a:solidFill>
                  <a:srgbClr val="ff9900"/>
                </a:solidFill>
                <a:uFillTx/>
                <a:latin typeface="Century Schoolbook"/>
              </a:rPr>
              <a:t>stabilize them against depolymerization. </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binds to tubulin (at a site distinct from that used by vinca alkaloids) and promotes assembly of microtubules giving non-functional microtubule network. </a:t>
            </a: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86" name="Picture 2" descr=""/>
          <p:cNvPicPr/>
          <p:nvPr/>
        </p:nvPicPr>
        <p:blipFill>
          <a:blip r:embed="rId1"/>
          <a:stretch/>
        </p:blipFill>
        <p:spPr>
          <a:xfrm>
            <a:off x="1403280" y="404640"/>
            <a:ext cx="5472360" cy="606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000" y="18864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TAXA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Paclitax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utropenia, thrombocytopen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Peripheral neuropath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cetax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one marrow suppre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Neurotoxici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uid retention</a:t>
            </a:r>
            <a:endParaRPr b="0" lang="en-US" sz="21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ANTIMICROTUBULE AGENTS</a:t>
            </a:r>
            <a:endParaRPr b="0" lang="en-US" sz="3600" spc="-1" strike="noStrike">
              <a:solidFill>
                <a:srgbClr val="575f6d"/>
              </a:solidFill>
              <a:latin typeface="Century Schoolbook"/>
            </a:endParaRPr>
          </a:p>
        </p:txBody>
      </p:sp>
      <p:pic>
        <p:nvPicPr>
          <p:cNvPr id="360" name="Picture 4" descr=""/>
          <p:cNvPicPr/>
          <p:nvPr/>
        </p:nvPicPr>
        <p:blipFill>
          <a:blip r:embed="rId1"/>
          <a:stretch/>
        </p:blipFill>
        <p:spPr>
          <a:xfrm>
            <a:off x="762120" y="1219320"/>
            <a:ext cx="79246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1. VINCA ALKALOIDS</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blastin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cristin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orelbine</a:t>
            </a:r>
            <a:endParaRPr b="0" lang="en-US" sz="2800" spc="-1" strike="noStrike">
              <a:solidFill>
                <a:srgbClr val="000000"/>
              </a:solidFill>
              <a:latin typeface="Century Schoolbook"/>
            </a:endParaRPr>
          </a:p>
        </p:txBody>
      </p:sp>
      <p:sp>
        <p:nvSpPr>
          <p:cNvPr id="363" name="Line 7"/>
          <p:cNvSpPr/>
          <p:nvPr/>
        </p:nvSpPr>
        <p:spPr>
          <a:xfrm>
            <a:off x="609480" y="1447920"/>
            <a:ext cx="37339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VINCA ALKALOID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6" name="Picture 3" descr="Neoplastic190001"/>
          <p:cNvPicPr/>
          <p:nvPr/>
        </p:nvPicPr>
        <p:blipFill>
          <a:blip r:embed="rId1"/>
          <a:stretch/>
        </p:blipFill>
        <p:spPr>
          <a:xfrm>
            <a:off x="1295280" y="1295280"/>
            <a:ext cx="7086600" cy="5562720"/>
          </a:xfrm>
          <a:prstGeom prst="rect">
            <a:avLst/>
          </a:prstGeom>
          <a:ln w="0">
            <a:noFill/>
          </a:ln>
        </p:spPr>
      </p:pic>
      <p:sp>
        <p:nvSpPr>
          <p:cNvPr id="367" name="Text Box 4"/>
          <p:cNvSpPr/>
          <p:nvPr/>
        </p:nvSpPr>
        <p:spPr>
          <a:xfrm>
            <a:off x="799740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Century Schoolbook"/>
            </a:endParaRPr>
          </a:p>
        </p:txBody>
      </p:sp>
      <p:sp>
        <p:nvSpPr>
          <p:cNvPr id="368" name="Text Box 5"/>
          <p:cNvSpPr/>
          <p:nvPr/>
        </p:nvSpPr>
        <p:spPr>
          <a:xfrm>
            <a:off x="7997400" y="5156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Century Schoolbook"/>
            </a:endParaRPr>
          </a:p>
        </p:txBody>
      </p:sp>
      <p:sp>
        <p:nvSpPr>
          <p:cNvPr id="369" name="Text Box 6"/>
          <p:cNvSpPr/>
          <p:nvPr/>
        </p:nvSpPr>
        <p:spPr>
          <a:xfrm>
            <a:off x="0" y="3581280"/>
            <a:ext cx="2286000" cy="109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Century Schoolbook"/>
              </a:rPr>
              <a:t>They are plant alkaloids extracted from</a:t>
            </a:r>
            <a:r>
              <a:rPr b="0" lang="en-US" sz="1600" spc="-1" strike="noStrike">
                <a:solidFill>
                  <a:srgbClr val="800080"/>
                </a:solidFill>
                <a:latin typeface="Times New Roman"/>
              </a:rPr>
              <a:t> </a:t>
            </a:r>
            <a:r>
              <a:rPr b="0" lang="en-US" sz="1600" spc="-1" strike="noStrike">
                <a:solidFill>
                  <a:srgbClr val="800080"/>
                </a:solidFill>
                <a:latin typeface="Century Schoolbook"/>
              </a:rPr>
              <a:t>Periwinkle plant</a:t>
            </a:r>
            <a:r>
              <a:rPr b="0" lang="en-US" sz="1600" spc="-1" strike="noStrike">
                <a:solidFill>
                  <a:srgbClr val="800080"/>
                </a:solidFill>
                <a:latin typeface="Century Schoolbook"/>
              </a:rPr>
              <a:t> </a:t>
            </a:r>
            <a:endParaRPr b="0" lang="en-US" sz="16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Century Schoolbook"/>
              </a:rPr>
              <a:t>(</a:t>
            </a:r>
            <a:r>
              <a:rPr b="0" lang="en-US" sz="1600" spc="-1" strike="noStrike">
                <a:solidFill>
                  <a:srgbClr val="800080"/>
                </a:solidFill>
                <a:latin typeface="Century Schoolbook"/>
              </a:rPr>
              <a:t>Vinca Rosa</a:t>
            </a:r>
            <a:r>
              <a:rPr b="0" lang="en-US" sz="1600" spc="-1" strike="noStrike">
                <a:solidFill>
                  <a:srgbClr val="800080"/>
                </a:solidFill>
                <a:latin typeface="Century Schoolbook"/>
              </a:rPr>
              <a:t>)</a:t>
            </a:r>
            <a:r>
              <a:rPr b="0" lang="en-US" sz="1800" spc="-1" strike="noStrike">
                <a:solidFill>
                  <a:srgbClr val="800080"/>
                </a:solidFill>
                <a:latin typeface="Century Schoolbook"/>
              </a:rPr>
              <a:t> </a:t>
            </a:r>
            <a:endParaRPr b="0" lang="en-US" sz="18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S</a:t>
            </a:r>
            <a:br>
              <a:rPr sz="3600"/>
            </a:br>
            <a:r>
              <a:rPr b="0" lang="en-US" sz="3600" spc="-1" strike="noStrike">
                <a:solidFill>
                  <a:srgbClr val="ff00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u="sng">
                <a:solidFill>
                  <a:srgbClr val="ff0000"/>
                </a:solidFill>
                <a:uFillTx/>
                <a:latin typeface="Century Schoolbook"/>
              </a:rPr>
              <a:t>MECHANISM OF ACTION</a:t>
            </a:r>
            <a:endParaRPr b="0" lang="en-US" sz="36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y act by binding to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nd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t>
            </a:r>
            <a:r>
              <a:rPr b="0" lang="en-US" sz="2800" spc="-1" strike="noStrike">
                <a:solidFill>
                  <a:srgbClr val="000000"/>
                </a:solidFill>
                <a:latin typeface="Century Schoolbook"/>
              </a:rPr>
              <a:t>tubulin and inhibit its polymerization into microtubules leading to preventing spindle formation in mitosing cells.</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ulting in mitotic arrest at metaphase, dissolution of the mitotic spindle, and interference with chromosome segregation.</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CS agents- M phase</a:t>
            </a:r>
            <a:endParaRPr b="0" lang="en-US" sz="28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3" name="Picture 2" descr=""/>
          <p:cNvPicPr/>
          <p:nvPr/>
        </p:nvPicPr>
        <p:blipFill>
          <a:blip r:embed="rId1"/>
          <a:stretch/>
        </p:blipFill>
        <p:spPr>
          <a:xfrm>
            <a:off x="1476360" y="476280"/>
            <a:ext cx="561672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MECHANISM OF RESISTANCE</a:t>
            </a:r>
            <a:endParaRPr b="0" lang="en-US" sz="36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1- Pleiotropic drug resistances</a:t>
            </a:r>
            <a:r>
              <a:rPr b="0" lang="en-US" sz="2800" spc="-1" strike="noStrike">
                <a:solidFill>
                  <a:srgbClr val="000000"/>
                </a:solidFill>
                <a:latin typeface="Century Schoolbook"/>
              </a:rPr>
              <a:t> i.e. cross-resistant to a wide range of chemically dissimilar agents: vinca alkaloid, epidophyllotoxin, anthracyclines and colchicine.</a:t>
            </a:r>
            <a:endParaRPr b="0" lang="en-US" sz="2800" spc="-1" strike="noStrike">
              <a:solidFill>
                <a:srgbClr val="000000"/>
              </a:solidFill>
              <a:latin typeface="Century Schoolbook"/>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Due to:</a:t>
            </a:r>
            <a:endParaRPr b="0" lang="en-US" sz="2800" spc="-1" strike="noStrike">
              <a:solidFill>
                <a:srgbClr val="000000"/>
              </a:solidFill>
              <a:latin typeface="Century Schoolbook"/>
            </a:endParaRPr>
          </a:p>
          <a:p>
            <a:pPr lvl="1" marL="3668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level of </a:t>
            </a:r>
            <a:r>
              <a:rPr b="0" lang="en-US" sz="2400" spc="-1" strike="noStrike">
                <a:solidFill>
                  <a:srgbClr val="cc0066"/>
                </a:solidFill>
                <a:latin typeface="Century Schoolbook"/>
              </a:rPr>
              <a:t>P-glycoprotein</a:t>
            </a:r>
            <a:endParaRPr b="0" lang="en-US" sz="24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2- Mutation in either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nd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t>
            </a:r>
            <a:r>
              <a:rPr b="0" lang="en-US" sz="2800" spc="-1" strike="noStrike">
                <a:solidFill>
                  <a:srgbClr val="cc0066"/>
                </a:solidFill>
                <a:latin typeface="Century Schoolbook"/>
              </a:rPr>
              <a:t>tubulin that </a:t>
            </a:r>
            <a:r>
              <a:rPr b="0" lang="en-US" sz="2400" spc="-1" strike="noStrike">
                <a:solidFill>
                  <a:srgbClr val="000000"/>
                </a:solidFill>
                <a:latin typeface="Century Schoolbook"/>
              </a:rPr>
              <a:t>prevent effective binding of vinca alkaloids </a:t>
            </a:r>
            <a:endParaRPr b="0" lang="en-US" sz="24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a:t>
            </a:r>
            <a:br>
              <a:rPr sz="3600"/>
            </a:b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graphicFrame>
        <p:nvGraphicFramePr>
          <p:cNvPr id="377" name=""/>
          <p:cNvGraphicFramePr/>
          <p:nvPr/>
        </p:nvGraphicFramePr>
        <p:xfrm>
          <a:off x="457200" y="1600200"/>
          <a:ext cx="7467480" cy="3287880"/>
        </p:xfrm>
        <a:graphic>
          <a:graphicData uri="http://schemas.openxmlformats.org/drawingml/2006/table">
            <a:tbl>
              <a:tblPr/>
              <a:tblGrid>
                <a:gridCol w="2281320"/>
                <a:gridCol w="2627280"/>
                <a:gridCol w="2558880"/>
              </a:tblGrid>
              <a:tr h="1290960">
                <a:tc>
                  <a:txBody>
                    <a:bodyPr lIns="82800" rIns="82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80"/>
                          </a:solidFill>
                          <a:uFillTx/>
                          <a:latin typeface="Arial"/>
                        </a:rPr>
                        <a:t>Vincristine</a:t>
                      </a:r>
                      <a:endParaRPr b="0" lang="en-US" sz="2800" spc="-1" strike="noStrike">
                        <a:solidFill>
                          <a:srgbClr val="000000"/>
                        </a:solidFill>
                        <a:latin typeface="Century Schoolbook"/>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blastine</a:t>
                      </a:r>
                      <a:endParaRPr b="0" lang="en-US" sz="2800" spc="-1" strike="noStrike">
                        <a:solidFill>
                          <a:srgbClr val="000000"/>
                        </a:solidFill>
                        <a:latin typeface="Century Schoolbook"/>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80"/>
                          </a:solidFill>
                          <a:uFillTx/>
                          <a:latin typeface="Arial"/>
                        </a:rPr>
                        <a:t>Vinorelbine</a:t>
                      </a:r>
                      <a:endParaRPr b="0" lang="en-US" sz="2800" spc="-1" strike="noStrike">
                        <a:solidFill>
                          <a:srgbClr val="000000"/>
                        </a:solidFill>
                        <a:latin typeface="Century Schoolbook"/>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noFill/>
                  </a:tcPr>
                </a:tc>
              </a:tr>
              <a:tr h="1996920">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With prednisone for remission of Acute Leukemia</a:t>
                      </a:r>
                      <a:endParaRPr b="0" lang="en-US" sz="2400" spc="-1" strike="noStrike">
                        <a:solidFill>
                          <a:srgbClr val="000000"/>
                        </a:solidFill>
                        <a:latin typeface="Century Schoolbook"/>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mphomas and Systemic Hodgkin’s disease</a:t>
                      </a:r>
                      <a:endParaRPr b="0" lang="en-US" sz="2400" spc="-1" strike="noStrike">
                        <a:solidFill>
                          <a:srgbClr val="000000"/>
                        </a:solidFill>
                        <a:latin typeface="Century Schoolboo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Non-small cell lung cancer</a:t>
                      </a:r>
                      <a:endParaRPr b="0" lang="en-US" sz="2400" spc="-1" strike="noStrike">
                        <a:solidFill>
                          <a:srgbClr val="000000"/>
                        </a:solidFill>
                        <a:latin typeface="Century Schoolbook"/>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 </a:t>
            </a:r>
            <a:br>
              <a:rPr sz="3600"/>
            </a:b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SIDE EFFECTS</a:t>
            </a:r>
            <a:endParaRPr b="0" lang="en-US" sz="3600" spc="-1" strike="noStrike">
              <a:solidFill>
                <a:srgbClr val="575f6d"/>
              </a:solidFill>
              <a:latin typeface="Century Schoolbook"/>
            </a:endParaRPr>
          </a:p>
        </p:txBody>
      </p:sp>
      <p:graphicFrame>
        <p:nvGraphicFramePr>
          <p:cNvPr id="379" name=""/>
          <p:cNvGraphicFramePr/>
          <p:nvPr/>
        </p:nvGraphicFramePr>
        <p:xfrm>
          <a:off x="457200" y="1600200"/>
          <a:ext cx="7786800" cy="2995560"/>
        </p:xfrm>
        <a:graphic>
          <a:graphicData uri="http://schemas.openxmlformats.org/drawingml/2006/table">
            <a:tbl>
              <a:tblPr/>
              <a:tblGrid>
                <a:gridCol w="2489040"/>
                <a:gridCol w="2560680"/>
                <a:gridCol w="2737080"/>
              </a:tblGrid>
              <a:tr h="1288080">
                <a:tc>
                  <a:txBody>
                    <a:bodyPr lIns="82800" rIns="82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cristine</a:t>
                      </a:r>
                      <a:endParaRPr b="0" lang="en-US" sz="2800" spc="-1" strike="noStrike">
                        <a:solidFill>
                          <a:srgbClr val="000000"/>
                        </a:solidFill>
                        <a:latin typeface="Century Schoolbook"/>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blastine</a:t>
                      </a:r>
                      <a:endParaRPr b="0" lang="en-US" sz="2800" spc="-1" strike="noStrike">
                        <a:solidFill>
                          <a:srgbClr val="000000"/>
                        </a:solidFill>
                        <a:latin typeface="Century Schoolbook"/>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orelbine</a:t>
                      </a:r>
                      <a:endParaRPr b="0" lang="en-US" sz="2800" spc="-1" strike="noStrike">
                        <a:solidFill>
                          <a:srgbClr val="000000"/>
                        </a:solidFill>
                        <a:latin typeface="Century Schoolbook"/>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noFill/>
                  </a:tcPr>
                </a:tc>
              </a:tr>
              <a:tr h="1707480">
                <a:tc>
                  <a:txBody>
                    <a:bodyPr lIns="82800" rIns="82800" anchor="t">
                      <a:noAutofit/>
                    </a:bodyPr>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 loss</a:t>
                      </a:r>
                      <a:endParaRPr b="0" lang="en-US" sz="2400" spc="-1" strike="noStrike">
                        <a:solidFill>
                          <a:srgbClr val="000000"/>
                        </a:solidFill>
                        <a:latin typeface="Century Schoolbook"/>
                      </a:endParaRPr>
                    </a:p>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Neuromuscular abnormalities</a:t>
                      </a:r>
                      <a:endParaRPr b="0" lang="en-US" sz="2400" spc="-1" strike="noStrike">
                        <a:solidFill>
                          <a:srgbClr val="000000"/>
                        </a:solidFill>
                        <a:latin typeface="Century Schoolbook"/>
                      </a:endParaRPr>
                    </a:p>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parathesia</a:t>
                      </a:r>
                      <a:endParaRPr b="0" lang="en-US" sz="2400" spc="-1" strike="noStrike">
                        <a:solidFill>
                          <a:srgbClr val="000000"/>
                        </a:solidFill>
                        <a:latin typeface="Century Schoolbook"/>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cc0066"/>
                          </a:solidFill>
                          <a:latin typeface="Arial"/>
                        </a:rPr>
                        <a:t>Myelosupression</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T ulceration</a:t>
                      </a:r>
                      <a:endParaRPr b="0" lang="en-US" sz="2400" spc="-1" strike="noStrike">
                        <a:solidFill>
                          <a:srgbClr val="000000"/>
                        </a:solidFill>
                        <a:latin typeface="Century Schoolbook"/>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cc0066"/>
                          </a:solidFill>
                          <a:latin typeface="Arial"/>
                        </a:rPr>
                        <a:t>Granulocytopenia</a:t>
                      </a:r>
                      <a:endParaRPr b="0" lang="en-US" sz="2400" spc="-1" strike="noStrike">
                        <a:solidFill>
                          <a:srgbClr val="000000"/>
                        </a:solidFill>
                        <a:latin typeface="Century Schoolbook"/>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User</cp:lastModifiedBy>
  <dcterms:modified xsi:type="dcterms:W3CDTF">2015-08-27T05:08:24Z</dcterms:modified>
  <cp:revision>133</cp:revision>
  <dc:subject/>
  <dc:title>الشريحة 1</dc:title>
</cp:coreProperties>
</file>