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DDB-5B71-4A2C-AD53-7DAA7E54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B7B8-66C5-48AE-827A-4C2DC746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079-363E-4B48-8C44-E39AEDFE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DA5-FEC7-4CE0-A419-8559D97C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695-A983-4AD4-845C-82958975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579-BD4D-4C0E-9D77-838F96C2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58F-CD27-41FF-93A0-8E3DEC61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6AE-71C8-4848-9A32-FDF63391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425-C47C-4346-B170-B5D1D317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CF7-366D-4855-8036-8190D1C2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304-6662-4E74-B9EF-406683F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01E-E899-4B5B-B100-2625035E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5B4C-BEE7-4280-BEF7-2AC4561804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3600"/>
            </a:b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ltidrug Resistance (MDR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L 417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RACTION OF TOPO I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D TOPO II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imultaneous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inhibitors lead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 antago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rease in cytotoxicity because both TOPO I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 II have base specificity and may comp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 for cleavable si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Sequential administ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OPO I and TOPO 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ibitors lead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ergistic cytotoxi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rtl="1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SISTANCE TO TOPOISOMERASE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- Altered Topoiso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- Multidrug Resistance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ultidrug Resistance (MD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ross Resi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many structurally unrelated anticanc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rins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fore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cqu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fter exposure to chemothera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overexpression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OUR M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ge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most studied MDR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-glyco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s a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P-consuming pum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a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lux of cytotoxic drugs outside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rtl="1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-GLYCO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3578_1"/>
          <p:cNvPicPr/>
          <p:nvPr/>
        </p:nvPicPr>
        <p:blipFill>
          <a:blip r:embed="rId1"/>
          <a:stretch/>
        </p:blipFill>
        <p:spPr>
          <a:xfrm>
            <a:off x="685800" y="1620720"/>
            <a:ext cx="784872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enes Involved in M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- Multidrug Resistance (M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DR1 (P-glycoprotein)        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D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DR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 Multidrug Resistance Associated Protein (M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- Lung Resistance Related Protein (L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- Breast Cancer Resistance Protein (BCR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4419720" y="2666880"/>
            <a:ext cx="1981080" cy="457200"/>
          </a:xfrm>
          <a:prstGeom prst="rightArrow">
            <a:avLst>
              <a:gd name="adj1" fmla="val 50000"/>
              <a:gd name="adj2" fmla="val 108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AGON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Anthracycli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Anthrac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 Bisantr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pi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Vinca Alkaloid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Epipodophyllotox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Vinblastine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Etoposide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cristi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eniposide (V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des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inorel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Topoisomerase Inhibitor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Taxanes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Topotecan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Paclitaxel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Campttothecin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Doceta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ETITIVE  P-GLYCOPROTEIN 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odulator2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N-COMPETITIVE P-GLYCOPROTEIN 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odulator 3"/>
          <p:cNvPicPr/>
          <p:nvPr/>
        </p:nvPicPr>
        <p:blipFill>
          <a:blip r:embed="rId1"/>
          <a:stretch/>
        </p:blipFill>
        <p:spPr>
          <a:xfrm>
            <a:off x="380880" y="1143000"/>
            <a:ext cx="815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DR BLO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1- Calcium channel blocke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Verapam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Nifedi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- Immunosuppressan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yclosporin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- Antieste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amoxifen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- Calmodulin inhibitor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Trifluoper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hlorpromaz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hlorperazi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- Antimalarial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- Antiarrhythmic drug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inid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Amiodarone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79360" y="1219320"/>
            <a:ext cx="871236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Role of Topoisomerases (TO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TOPOISOMERASES induce TRANSIENT BREAK in single strand (TOPO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33cc"/>
                </a:solidFill>
                <a:latin typeface="Arial"/>
              </a:rPr>
              <a:t>and double stands (TOPO II) and RESE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Swiveling DNA into 2 single strands which is importa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transcri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ff0000"/>
                </a:solidFill>
                <a:uFillTx/>
                <a:latin typeface="Times New Roman"/>
              </a:rPr>
              <a:t>Topoisomerase II</a:t>
            </a: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de-DE" sz="1800" spc="-1" strike="noStrike">
                <a:solidFill>
                  <a:srgbClr val="0033cc"/>
                </a:solidFill>
                <a:latin typeface="Times New Roman"/>
              </a:rPr>
              <a:t> Allow the passage of one segment of DNA-double strand through a temporary gate in other seg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wo types of TOPO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 alpha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33cc"/>
                </a:solidFill>
                <a:uFillTx/>
                <a:latin typeface="Arial"/>
              </a:rPr>
              <a:t>TOPO II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0 k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8o k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7q21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P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2209680" y="228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Topoisomerase I (L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T1B"/>
          <p:cNvPicPr/>
          <p:nvPr/>
        </p:nvPicPr>
        <p:blipFill>
          <a:blip r:embed="rId1"/>
          <a:stretch/>
        </p:blipFill>
        <p:spPr>
          <a:xfrm>
            <a:off x="457200" y="99072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CHANISM OF ACTION OF TOPOISOM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- It inhibits the cycle (break and resealing) of TOPO at the DNA break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- It inhibits DNA closing or resealing reaction by forming stable cleavable-TOPO-DNA comp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- It forms indirect protein-associated single and double strand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8229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 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OP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RINOTE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MPTOTHECIN (CPT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OPL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23"/>
                </a:solidFill>
                <a:latin typeface="Arial"/>
              </a:rPr>
              <a:t>TOPOISOMERASE II INHIBI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1- EPIPODOPHLLYO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Etoposid (VP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- Teniposide (NM-2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2- ANTHRACYC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x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auno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itoxant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darubi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i24p30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Oval 5"/>
          <p:cNvSpPr/>
          <p:nvPr/>
        </p:nvSpPr>
        <p:spPr>
          <a:xfrm rot="18585000">
            <a:off x="6114960" y="4562280"/>
            <a:ext cx="457200" cy="171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80880" y="228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potecan stabilises topoisomerase I-DNA cleavabl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fi24p30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5486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582480" y="274680"/>
            <a:ext cx="77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Topoisomerase I mechanism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6"/>
          <p:cNvGrpSpPr/>
          <p:nvPr/>
        </p:nvGrpSpPr>
        <p:grpSpPr>
          <a:xfrm>
            <a:off x="5720760" y="4079520"/>
            <a:ext cx="889560" cy="834480"/>
            <a:chOff x="5720760" y="4079520"/>
            <a:chExt cx="889560" cy="834480"/>
          </a:xfrm>
        </p:grpSpPr>
        <p:sp>
          <p:nvSpPr>
            <p:cNvPr id="61" name="AutoShape 7"/>
            <p:cNvSpPr/>
            <p:nvPr/>
          </p:nvSpPr>
          <p:spPr>
            <a:xfrm rot="19318200">
              <a:off x="5778360" y="4269600"/>
              <a:ext cx="774360" cy="453960"/>
            </a:xfrm>
            <a:custGeom>
              <a:avLst/>
              <a:gdLst>
                <a:gd name="textAreaLeft" fmla="*/ 0 w 774360"/>
                <a:gd name="textAreaRight" fmla="*/ 774720 w 774360"/>
                <a:gd name="textAreaTop" fmla="*/ 0 h 453960"/>
                <a:gd name="textAreaBottom" fmla="*/ 162000 h 45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8"/>
            <p:cNvSpPr/>
            <p:nvPr/>
          </p:nvSpPr>
          <p:spPr>
            <a:xfrm rot="52800">
              <a:off x="5946840" y="4152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0000"/>
                  </a:solidFill>
                  <a:latin typeface="Times New Roman"/>
                </a:rPr>
                <a:t>T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8-27T04:47:43Z</dcterms:modified>
  <cp:revision>1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