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B28D-88A1-45EA-A55B-BDC94E65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970-4EB9-4E65-850B-7FAAADA0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2AD0-4662-4BCC-8593-23EB7A1B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C3BC-6D9E-4289-A304-8634BD5C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FD77-C15D-478A-9026-9AD7CDF4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E8C-D959-44D8-A20E-53CDB709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EE5-8691-47E6-BADE-0603B027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976-7C8C-41E6-82C2-8B6BE42A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DA67-9FC7-40F3-A084-008D00A3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B9A0-65BB-44BB-81CC-95DD7A54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3D4-2904-4345-AE31-30A08C73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3E5E-9425-44F8-9161-6566660A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F709-0F9E-4CA6-9BC6-20C670D53E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OPOISOMERASE INHIBITORS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nd </a:t>
            </a:r>
            <a:br>
              <a:rPr sz="3600"/>
            </a:b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ultidrug Resistance (MDR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HL 417</a:t>
            </a:r>
            <a:br>
              <a:rPr sz="3600"/>
            </a:b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ERACTION OF TOPO I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D TOPO II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Simultaneous administ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OPO I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O II inhibitors lead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 antagon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rease in cytotoxicity because both TOPO I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O II have base specificity and may comp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each other for cleavable si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Sequential administ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OPO I and TOPO 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ibitors leads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ergistic cytotoxic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SISTANCE TO TOPOISOMERASE INHIBI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- Altered Topoiso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- Multidrug Resistance (M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ultidrug Resistance (MD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ross Resis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many structurally unrelated anticanc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ug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ntrins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fore exposure to chemotherap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cqui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fter exposure to chemotherap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 by overexpression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OUR M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e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-Glyco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most studied MDR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-glyco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ts a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TP-consuming pum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mulat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lux of cytotoxic drugs outside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-GLYCO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23578_1"/>
          <p:cNvPicPr/>
          <p:nvPr/>
        </p:nvPicPr>
        <p:blipFill>
          <a:blip r:embed="rId1"/>
          <a:stretch/>
        </p:blipFill>
        <p:spPr>
          <a:xfrm>
            <a:off x="685800" y="1620720"/>
            <a:ext cx="784872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Genes Involved in M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- Multidrug Resistance (MD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DR1 (P-glycoprotein)          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D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D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- Multidrug Resistance Associated Protein (M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- Lung Resistance Related Protein (L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- Breast Cancer Resistance Protein (BCR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4419720" y="2666880"/>
            <a:ext cx="1981080" cy="457200"/>
          </a:xfrm>
          <a:prstGeom prst="rightArrow">
            <a:avLst>
              <a:gd name="adj1" fmla="val 50000"/>
              <a:gd name="adj2" fmla="val 1083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DR AGON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- Anthracycline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-Anthrac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oxorubicin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 Mitoxant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aunorubicin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 Bisantr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pirubi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- Vinca Alkaloid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4- Epipodophyllotox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Vinblastine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Etoposide (VP-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incristine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Teniposide (VM-2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indes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inorelb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- Topoisomerase Inhibitor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6- Taxane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Topotecan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Paclitaxel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Campttothecin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Doceta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ETITIVE  P-GLYCOPROTEIN  B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modulator2"/>
          <p:cNvPicPr/>
          <p:nvPr/>
        </p:nvPicPr>
        <p:blipFill>
          <a:blip r:embed="rId1"/>
          <a:stretch/>
        </p:blipFill>
        <p:spPr>
          <a:xfrm>
            <a:off x="685800" y="1143000"/>
            <a:ext cx="8077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N-COMPETITIVE P-GLYCOPROTEIN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modulator 3"/>
          <p:cNvPicPr/>
          <p:nvPr/>
        </p:nvPicPr>
        <p:blipFill>
          <a:blip r:embed="rId1"/>
          <a:stretch/>
        </p:blipFill>
        <p:spPr>
          <a:xfrm>
            <a:off x="380880" y="1143000"/>
            <a:ext cx="8153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DR BLOC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- Calcium channel blocker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erapam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ifedi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- Immunosuppressan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yclosporin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- Antieste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amoxifen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4- Calmodulin inhibitor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Trifluopera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hlorproma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rochlorperazin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- Antimalarial drug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Quin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6- Antiarrhythmic drug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Quinid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Amiodarone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OPOISOMERASE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79360" y="1219320"/>
            <a:ext cx="87123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Role of Topoisomerases (TO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TOPOISOMERASES induce TRANSIENT BREAK in single strand (TOPO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and double stands (TOPO II) and RESEA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de-DE" sz="1800" spc="-1" strike="noStrike" u="sng">
                <a:solidFill>
                  <a:srgbClr val="ff0000"/>
                </a:solidFill>
                <a:uFillTx/>
                <a:latin typeface="Times New Roman"/>
              </a:rPr>
              <a:t>Topoisomerase I</a:t>
            </a:r>
            <a:r>
              <a:rPr b="1" lang="de-DE" sz="18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 Swiveling DNA into 2 single strands which is importan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transcri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0000"/>
                </a:solidFill>
                <a:uFillTx/>
                <a:latin typeface="Times New Roman"/>
              </a:rPr>
              <a:t>Topoisomerase II</a:t>
            </a:r>
            <a:r>
              <a:rPr b="1" lang="de-DE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 Allow the passage of one segment of DNA-double strand through a temporary gate in other seg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Two types of TOPO 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TOPO II alpha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TOPO II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b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170 k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18o k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17q21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3P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8"/>
          <p:cNvSpPr/>
          <p:nvPr/>
        </p:nvSpPr>
        <p:spPr>
          <a:xfrm>
            <a:off x="2209680" y="2286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Topoisomerase I (L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T1B"/>
          <p:cNvPicPr/>
          <p:nvPr/>
        </p:nvPicPr>
        <p:blipFill>
          <a:blip r:embed="rId1"/>
          <a:stretch/>
        </p:blipFill>
        <p:spPr>
          <a:xfrm>
            <a:off x="457200" y="990720"/>
            <a:ext cx="8305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CHANISM OF ACTION OF TOPOISOMERASE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- It inhibits the cycle (break and resealing) of TOPO at the DNA break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- It inhibits DNA closing or resealing reaction by forming stable cleavable-TOPO-DNA compl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- It forms indirect protein-associated single and double strand br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82296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6623"/>
                </a:solidFill>
                <a:latin typeface="Arial"/>
              </a:rPr>
              <a:t>TOPOISOMERASE I  INHIBI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OPOTE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RINOTE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MPTOTHECIN (CPT 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NTOPL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6623"/>
                </a:solidFill>
                <a:latin typeface="Arial"/>
              </a:rPr>
              <a:t>TOPOISOMERASE II INHIBI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1- EPIPODOPHLLYOTOX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- Etoposid (VP-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- Teniposide (NM-2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2- ANTHRACYC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oxorubi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aunorubi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itoxant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darubi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fi24p30"/>
          <p:cNvPicPr/>
          <p:nvPr/>
        </p:nvPicPr>
        <p:blipFill>
          <a:blip r:embed="rId1"/>
          <a:stretch/>
        </p:blipFill>
        <p:spPr>
          <a:xfrm>
            <a:off x="685800" y="1219320"/>
            <a:ext cx="7924680" cy="5410080"/>
          </a:xfrm>
          <a:prstGeom prst="rect">
            <a:avLst/>
          </a:prstGeom>
          <a:ln w="0">
            <a:noFill/>
          </a:ln>
        </p:spPr>
      </p:pic>
      <p:sp>
        <p:nvSpPr>
          <p:cNvPr id="55" name="Oval 5"/>
          <p:cNvSpPr/>
          <p:nvPr/>
        </p:nvSpPr>
        <p:spPr>
          <a:xfrm rot="18585000">
            <a:off x="6114960" y="4562280"/>
            <a:ext cx="457200" cy="171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80880" y="2286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potecan stabilises topoisomerase I-DNA cleavabl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i24p30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54864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582480" y="274680"/>
            <a:ext cx="77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Topoisomerase I mechanism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6"/>
          <p:cNvGrpSpPr/>
          <p:nvPr/>
        </p:nvGrpSpPr>
        <p:grpSpPr>
          <a:xfrm>
            <a:off x="5720760" y="4079520"/>
            <a:ext cx="889560" cy="834480"/>
            <a:chOff x="5720760" y="4079520"/>
            <a:chExt cx="889560" cy="834480"/>
          </a:xfrm>
        </p:grpSpPr>
        <p:sp>
          <p:nvSpPr>
            <p:cNvPr id="61" name="AutoShape 7"/>
            <p:cNvSpPr/>
            <p:nvPr/>
          </p:nvSpPr>
          <p:spPr>
            <a:xfrm rot="19318200">
              <a:off x="5778360" y="4269600"/>
              <a:ext cx="774360" cy="453960"/>
            </a:xfrm>
            <a:custGeom>
              <a:avLst/>
              <a:gdLst>
                <a:gd name="textAreaLeft" fmla="*/ 0 w 774360"/>
                <a:gd name="textAreaRight" fmla="*/ 774720 w 774360"/>
                <a:gd name="textAreaTop" fmla="*/ 0 h 453960"/>
                <a:gd name="textAreaBottom" fmla="*/ 162000 h 45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8"/>
            <p:cNvSpPr/>
            <p:nvPr/>
          </p:nvSpPr>
          <p:spPr>
            <a:xfrm rot="52800">
              <a:off x="5946840" y="41529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0000"/>
                  </a:solidFill>
                  <a:latin typeface="Times New Roman"/>
                </a:rPr>
                <a:t>T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8-27T04:47:43Z</dcterms:modified>
  <cp:revision>1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