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wmf" ContentType="image/x-wmf"/>
  <Override PartName="/ppt/media/image5.png" ContentType="image/png"/>
  <Override PartName="/ppt/media/image6.jpeg" ContentType="image/jpeg"/>
  <Override PartName="/ppt/media/image7.png" ContentType="image/pn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4022640" y="0"/>
            <a:ext cx="3076560" cy="511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Mohamed M. Sayed-Ahmed</a:t>
            </a:r>
            <a:endParaRPr b="0" lang="en-US" sz="1200" spc="-1" strike="noStrike">
              <a:solidFill>
                <a:srgbClr val="000000"/>
              </a:solidFill>
              <a:latin typeface="Arial"/>
            </a:endParaRPr>
          </a:p>
        </p:txBody>
      </p:sp>
      <p:sp>
        <p:nvSpPr>
          <p:cNvPr id="43" name="PlaceHolder 2"/>
          <p:cNvSpPr>
            <a:spLocks noGrp="1"/>
          </p:cNvSpPr>
          <p:nvPr>
            <p:ph type="dt" idx="4"/>
          </p:nvPr>
        </p:nvSpPr>
        <p:spPr>
          <a:xfrm>
            <a:off x="1440" y="0"/>
            <a:ext cx="3076560" cy="511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1/2015</a:t>
            </a:r>
            <a:endParaRPr b="0" lang="en-US" sz="12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4022640" y="9721800"/>
            <a:ext cx="3076560" cy="511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L 425</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1440" y="9721800"/>
            <a:ext cx="3076560" cy="511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D2701-123D-48C6-8316-2C65946A3DB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92160" y="768240"/>
            <a:ext cx="5114880" cy="3837240"/>
          </a:xfrm>
          <a:prstGeom prst="rect">
            <a:avLst/>
          </a:prstGeom>
          <a:ln w="0">
            <a:noFill/>
          </a:ln>
        </p:spPr>
      </p:sp>
      <p:sp>
        <p:nvSpPr>
          <p:cNvPr id="29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1440" y="9721800"/>
            <a:ext cx="3076560" cy="511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F8060-B639-499A-8047-9FB054FD9B8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Date Placeholder 4"/>
          <p:cNvSpPr/>
          <p:nvPr/>
        </p:nvSpPr>
        <p:spPr>
          <a:xfrm>
            <a:off x="1440" y="0"/>
            <a:ext cx="3076560" cy="51120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1/2015</a:t>
            </a:r>
            <a:endParaRPr b="0" lang="en-US" sz="1200" spc="-1" strike="noStrike">
              <a:solidFill>
                <a:srgbClr val="000000"/>
              </a:solidFill>
              <a:latin typeface="Arial"/>
            </a:endParaRPr>
          </a:p>
        </p:txBody>
      </p:sp>
      <p:sp>
        <p:nvSpPr>
          <p:cNvPr id="297" name="Footer Placeholder 5"/>
          <p:cNvSpPr/>
          <p:nvPr/>
        </p:nvSpPr>
        <p:spPr>
          <a:xfrm>
            <a:off x="402264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L 425</a:t>
            </a:r>
            <a:endParaRPr b="0" lang="en-US" sz="1200" spc="-1" strike="noStrike">
              <a:solidFill>
                <a:srgbClr val="000000"/>
              </a:solidFill>
              <a:latin typeface="Arial"/>
            </a:endParaRPr>
          </a:p>
        </p:txBody>
      </p:sp>
      <p:sp>
        <p:nvSpPr>
          <p:cNvPr id="298" name="Header Placeholder 6"/>
          <p:cNvSpPr/>
          <p:nvPr/>
        </p:nvSpPr>
        <p:spPr>
          <a:xfrm>
            <a:off x="4022640" y="0"/>
            <a:ext cx="3076560" cy="5112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Mohamed M. Sayed-Ahm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E6E271-CFA5-4307-8C43-B03A88EF55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05EB0-03E2-40EB-89BD-95B455658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FBC94E-3DD2-42DA-A71F-CD38D58D16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0DF5C2-B8ED-4A1F-9AFF-E18279E80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FD700-F1CB-4B18-8EBB-4EFE4CA4E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51B41-0E34-41A1-9568-B38A2DB74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48CB4-A19D-4749-BD25-8E33BE35D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AF4F4-0260-4FCB-951F-648AEBCAA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E8F5D-2398-443C-939F-C5A482E54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B0CCC-5C4F-49E0-A3E9-E65E12171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B8ED2-0316-4D6B-A8C8-E5B911CAE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3A022-31DF-4F38-99CE-C7F265ED6F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41D75-DAD8-4E11-BA2C-85C1BD6F47C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685440"/>
            <a:ext cx="8229600" cy="4724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ANCER, ONCOGENES AND TUMOUR</a:t>
            </a:r>
            <a:br>
              <a:rPr sz="3200"/>
            </a:br>
            <a:br>
              <a:rPr sz="3200"/>
            </a:br>
            <a:r>
              <a:rPr b="1" lang="en-US" sz="3200" spc="-1" strike="noStrike">
                <a:solidFill>
                  <a:srgbClr val="ff0000"/>
                </a:solidFill>
                <a:latin typeface="Arial"/>
              </a:rPr>
              <a:t> SUPPRESSOR GENES</a:t>
            </a:r>
            <a:br>
              <a:rPr sz="4000"/>
            </a:br>
            <a:br>
              <a:rPr sz="4000"/>
            </a:br>
            <a:r>
              <a:rPr b="1" lang="en-US" sz="4000" spc="-1" strike="noStrike">
                <a:solidFill>
                  <a:srgbClr val="ff0000"/>
                </a:solidFill>
                <a:latin typeface="Arial"/>
              </a:rPr>
              <a:t>PHL 425</a:t>
            </a:r>
            <a:br>
              <a:rPr sz="4000"/>
            </a:br>
            <a:br>
              <a:rPr sz="4000"/>
            </a:br>
            <a:r>
              <a:rPr b="1" lang="en-US" sz="4000" spc="-1" strike="noStrike">
                <a:solidFill>
                  <a:srgbClr val="ff0000"/>
                </a:solidFill>
                <a:latin typeface="Arial"/>
              </a:rPr>
              <a:t>Dr. Mohamed M. Sayed-Ahmed</a:t>
            </a:r>
            <a:endParaRPr b="0" lang="en-US" sz="4000" spc="-1" strike="noStrike">
              <a:solidFill>
                <a:srgbClr val="000000"/>
              </a:solidFill>
              <a:latin typeface="Arial"/>
            </a:endParaRPr>
          </a:p>
        </p:txBody>
      </p:sp>
      <p:sp>
        <p:nvSpPr>
          <p:cNvPr id="49"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5960" y="274320"/>
            <a:ext cx="4343400" cy="639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hemical Carcinogenesis</a:t>
            </a:r>
            <a:endParaRPr b="0" lang="en-US" sz="2400" spc="-1" strike="noStrike">
              <a:solidFill>
                <a:srgbClr val="000000"/>
              </a:solidFill>
              <a:latin typeface="Arial"/>
            </a:endParaRPr>
          </a:p>
        </p:txBody>
      </p:sp>
      <p:sp>
        <p:nvSpPr>
          <p:cNvPr id="211" name="PlaceHolder 2"/>
          <p:cNvSpPr>
            <a:spLocks noGrp="1"/>
          </p:cNvSpPr>
          <p:nvPr>
            <p:ph/>
          </p:nvPr>
        </p:nvSpPr>
        <p:spPr>
          <a:xfrm>
            <a:off x="-360" y="1066680"/>
            <a:ext cx="5257800" cy="5562720"/>
          </a:xfrm>
          <a:prstGeom prst="rect">
            <a:avLst/>
          </a:prstGeom>
          <a:noFill/>
          <a:ln w="0">
            <a:noFill/>
          </a:ln>
        </p:spPr>
        <p:txBody>
          <a:bodyPr anchor="t">
            <a:normAutofit/>
          </a:bodyPr>
          <a:p>
            <a:pPr marL="343080" indent="-343080">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Initiation </a:t>
            </a:r>
            <a:endParaRPr b="0" lang="en-US" sz="24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NA damage eg.</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DENA (diethylnitrosamine)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Benzpyren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romotion</a:t>
            </a:r>
            <a:r>
              <a:rPr b="0" lang="en-US" sz="2400" spc="-1" strike="noStrike">
                <a:solidFill>
                  <a:srgbClr val="0033cc"/>
                </a:solidFill>
                <a:latin typeface="Arial"/>
              </a:rPr>
              <a:t> </a:t>
            </a:r>
            <a:endParaRPr b="0" lang="en-US" sz="24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istologic chang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Ccl4</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Turpentine (co-carcinogens)</a:t>
            </a:r>
            <a:endParaRPr b="0" lang="en-US" sz="24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ENA + Ccl4 (Liver Cancer)</a:t>
            </a:r>
            <a:endParaRPr b="0" lang="en-US" sz="2400" spc="-1" strike="noStrike">
              <a:solidFill>
                <a:srgbClr val="000000"/>
              </a:solidFill>
              <a:latin typeface="Arial"/>
            </a:endParaRPr>
          </a:p>
          <a:p>
            <a:pPr marL="343080" indent="-343080">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Malignant transformation</a:t>
            </a:r>
            <a:r>
              <a:rPr b="1"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Visible tumor formation </a:t>
            </a:r>
            <a:endParaRPr b="0" lang="en-US" sz="2400" spc="-1" strike="noStrike">
              <a:solidFill>
                <a:srgbClr val="000000"/>
              </a:solidFill>
              <a:latin typeface="Arial"/>
            </a:endParaRPr>
          </a:p>
        </p:txBody>
      </p:sp>
      <p:pic>
        <p:nvPicPr>
          <p:cNvPr id="212" name="Picture 4" descr="chemical carcinogenesis"/>
          <p:cNvPicPr/>
          <p:nvPr/>
        </p:nvPicPr>
        <p:blipFill>
          <a:blip r:embed="rId1"/>
          <a:stretch/>
        </p:blipFill>
        <p:spPr>
          <a:xfrm>
            <a:off x="5867280" y="380880"/>
            <a:ext cx="3124440" cy="6172200"/>
          </a:xfrm>
          <a:prstGeom prst="rect">
            <a:avLst/>
          </a:prstGeom>
          <a:ln w="0">
            <a:noFill/>
          </a:ln>
        </p:spPr>
      </p:pic>
      <p:sp>
        <p:nvSpPr>
          <p:cNvPr id="213"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4"/>
          <p:cNvSpPr/>
          <p:nvPr/>
        </p:nvSpPr>
        <p:spPr>
          <a:xfrm>
            <a:off x="533520" y="380880"/>
            <a:ext cx="8305560" cy="5883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INITIATION</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tion </a:t>
            </a:r>
            <a:r>
              <a:rPr b="1" lang="en-US" sz="2800" spc="-1" strike="noStrike">
                <a:solidFill>
                  <a:srgbClr val="ff0000"/>
                </a:solidFill>
                <a:latin typeface="Arial"/>
              </a:rPr>
              <a:t>is an irreversible genetic alteration</a:t>
            </a:r>
            <a:r>
              <a:rPr b="0" lang="en-US" sz="2800" spc="-1" strike="noStrike">
                <a:solidFill>
                  <a:srgbClr val="000000"/>
                </a:solidFill>
                <a:latin typeface="Arial"/>
              </a:rPr>
              <a:t> which result from the interaction of the ultimate carcinogen with the DNA in the target cel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t>
            </a:r>
            <a:r>
              <a:rPr b="0" lang="en-US" sz="2800" spc="-1" strike="noStrike">
                <a:solidFill>
                  <a:srgbClr val="000099"/>
                </a:solidFill>
                <a:latin typeface="Arial"/>
              </a:rPr>
              <a:t>1</a:t>
            </a:r>
            <a:r>
              <a:rPr b="0" lang="en-US" sz="2800" spc="-1" strike="noStrike">
                <a:solidFill>
                  <a:srgbClr val="000099"/>
                </a:solidFill>
                <a:latin typeface="Arial"/>
              </a:rPr>
              <a:t>) </a:t>
            </a:r>
            <a:r>
              <a:rPr b="0" lang="en-US" sz="2800" spc="-1" strike="noStrike">
                <a:solidFill>
                  <a:srgbClr val="000099"/>
                </a:solidFill>
                <a:latin typeface="Arial"/>
              </a:rPr>
              <a:t>Is an irreversible process</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t>
            </a:r>
            <a:r>
              <a:rPr b="0" lang="en-US" sz="2800" spc="-1" strike="noStrike">
                <a:solidFill>
                  <a:srgbClr val="000099"/>
                </a:solidFill>
                <a:latin typeface="Arial"/>
              </a:rPr>
              <a:t>2</a:t>
            </a:r>
            <a:r>
              <a:rPr b="0" lang="en-US" sz="2800" spc="-1" strike="noStrike">
                <a:solidFill>
                  <a:srgbClr val="000099"/>
                </a:solidFill>
                <a:latin typeface="Arial"/>
              </a:rPr>
              <a:t>) </a:t>
            </a:r>
            <a:r>
              <a:rPr b="0" lang="en-US" sz="2800" spc="-1" strike="noStrike">
                <a:solidFill>
                  <a:srgbClr val="000099"/>
                </a:solidFill>
                <a:latin typeface="Arial"/>
              </a:rPr>
              <a:t>Caused only by carcinogenic compounds</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t>
            </a:r>
            <a:r>
              <a:rPr b="0" lang="en-US" sz="2800" spc="-1" strike="noStrike">
                <a:solidFill>
                  <a:srgbClr val="000099"/>
                </a:solidFill>
                <a:latin typeface="Arial"/>
              </a:rPr>
              <a:t>3</a:t>
            </a:r>
            <a:r>
              <a:rPr b="0" lang="en-US" sz="2800" spc="-1" strike="noStrike">
                <a:solidFill>
                  <a:srgbClr val="000099"/>
                </a:solidFill>
                <a:latin typeface="Arial"/>
              </a:rPr>
              <a:t>) </a:t>
            </a:r>
            <a:r>
              <a:rPr b="0" lang="en-US" sz="2800" spc="-1" strike="noStrike">
                <a:solidFill>
                  <a:srgbClr val="000099"/>
                </a:solidFill>
                <a:latin typeface="Arial"/>
              </a:rPr>
              <a:t>Occurs after carcinogen exposure</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t>
            </a:r>
            <a:r>
              <a:rPr b="0" lang="en-US" sz="2800" spc="-1" strike="noStrike">
                <a:solidFill>
                  <a:srgbClr val="000099"/>
                </a:solidFill>
                <a:latin typeface="Arial"/>
              </a:rPr>
              <a:t>4</a:t>
            </a:r>
            <a:r>
              <a:rPr b="0" lang="en-US" sz="2800" spc="-1" strike="noStrike">
                <a:solidFill>
                  <a:srgbClr val="000099"/>
                </a:solidFill>
                <a:latin typeface="Arial"/>
              </a:rPr>
              <a:t>) </a:t>
            </a:r>
            <a:r>
              <a:rPr b="0" lang="en-US" sz="2800" spc="-1" strike="noStrike">
                <a:solidFill>
                  <a:srgbClr val="000099"/>
                </a:solidFill>
                <a:latin typeface="Arial"/>
              </a:rPr>
              <a:t>Initiator alone does not result in tumor formation</a:t>
            </a:r>
            <a:endParaRPr b="0" lang="en-US" sz="2800" spc="-1" strike="noStrike">
              <a:solidFill>
                <a:srgbClr val="000000"/>
              </a:solidFill>
              <a:latin typeface="Arial"/>
            </a:endParaRPr>
          </a:p>
        </p:txBody>
      </p:sp>
      <p:sp>
        <p:nvSpPr>
          <p:cNvPr id="215"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4"/>
          <p:cNvSpPr/>
          <p:nvPr/>
        </p:nvSpPr>
        <p:spPr>
          <a:xfrm>
            <a:off x="304920" y="152280"/>
            <a:ext cx="8686800" cy="722052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MOTION</a:t>
            </a:r>
            <a:endParaRPr b="0" lang="en-US" sz="32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ion refers to a phenomenon of gene activation in which </a:t>
            </a:r>
            <a:r>
              <a:rPr b="1" lang="en-US" sz="2800" spc="-1" strike="noStrike">
                <a:solidFill>
                  <a:srgbClr val="ff0000"/>
                </a:solidFill>
                <a:latin typeface="Arial"/>
              </a:rPr>
              <a:t>the latent altered phenotype of the initiated cells</a:t>
            </a:r>
            <a:r>
              <a:rPr b="0" lang="en-US" sz="2800" spc="-1" strike="noStrike">
                <a:solidFill>
                  <a:srgbClr val="000000"/>
                </a:solidFill>
                <a:latin typeface="Arial"/>
              </a:rPr>
              <a:t> </a:t>
            </a:r>
            <a:r>
              <a:rPr b="1" lang="en-US" sz="2800" spc="-1" strike="noStrike">
                <a:solidFill>
                  <a:srgbClr val="000099"/>
                </a:solidFill>
                <a:latin typeface="Arial"/>
              </a:rPr>
              <a:t>becomes expressed through selection</a:t>
            </a:r>
            <a:r>
              <a:rPr b="0" lang="en-US" sz="2800" spc="-1" strike="noStrike">
                <a:solidFill>
                  <a:srgbClr val="000000"/>
                </a:solidFill>
                <a:latin typeface="Arial"/>
              </a:rPr>
              <a:t> and clonal expans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1</a:t>
            </a:r>
            <a:r>
              <a:rPr b="1" lang="en-US" sz="2800" spc="-1" strike="noStrike">
                <a:solidFill>
                  <a:srgbClr val="000099"/>
                </a:solidFill>
                <a:latin typeface="Arial"/>
              </a:rPr>
              <a:t>- </a:t>
            </a:r>
            <a:r>
              <a:rPr b="1" lang="en-US" sz="2800" spc="-1" strike="noStrike">
                <a:solidFill>
                  <a:srgbClr val="000099"/>
                </a:solidFill>
                <a:latin typeface="Arial"/>
              </a:rPr>
              <a:t>Is a reversible process</a:t>
            </a:r>
            <a:endParaRPr b="0" lang="en-US" sz="2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2</a:t>
            </a:r>
            <a:r>
              <a:rPr b="1" lang="en-US" sz="2800" spc="-1" strike="noStrike">
                <a:solidFill>
                  <a:srgbClr val="000099"/>
                </a:solidFill>
                <a:latin typeface="Arial"/>
              </a:rPr>
              <a:t>- </a:t>
            </a:r>
            <a:r>
              <a:rPr b="1" lang="en-US" sz="2800" spc="-1" strike="noStrike">
                <a:solidFill>
                  <a:srgbClr val="000099"/>
                </a:solidFill>
                <a:latin typeface="Arial"/>
              </a:rPr>
              <a:t>Acts only after exposure to an initiator</a:t>
            </a:r>
            <a:endParaRPr b="0" lang="en-US" sz="2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3</a:t>
            </a:r>
            <a:r>
              <a:rPr b="1" lang="en-US" sz="2800" spc="-1" strike="noStrike">
                <a:solidFill>
                  <a:srgbClr val="000099"/>
                </a:solidFill>
                <a:latin typeface="Arial"/>
              </a:rPr>
              <a:t>- </a:t>
            </a:r>
            <a:r>
              <a:rPr b="1" lang="en-US" sz="2800" spc="-1" strike="noStrike">
                <a:solidFill>
                  <a:srgbClr val="000099"/>
                </a:solidFill>
                <a:latin typeface="Arial"/>
              </a:rPr>
              <a:t>Requires repeated administration</a:t>
            </a:r>
            <a:endParaRPr b="0" lang="en-US" sz="2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4</a:t>
            </a:r>
            <a:r>
              <a:rPr b="1" lang="en-US" sz="2800" spc="-1" strike="noStrike">
                <a:solidFill>
                  <a:srgbClr val="000099"/>
                </a:solidFill>
                <a:latin typeface="Arial"/>
              </a:rPr>
              <a:t>- </a:t>
            </a:r>
            <a:r>
              <a:rPr b="1" lang="en-US" sz="2800" spc="-1" strike="noStrike">
                <a:solidFill>
                  <a:srgbClr val="000099"/>
                </a:solidFill>
                <a:latin typeface="Arial"/>
              </a:rPr>
              <a:t>Promotor is not carcinogenic in itself</a:t>
            </a:r>
            <a:endParaRPr b="0" lang="en-US" sz="2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5</a:t>
            </a:r>
            <a:r>
              <a:rPr b="1" lang="en-US" sz="2800" spc="-1" strike="noStrike">
                <a:solidFill>
                  <a:srgbClr val="000099"/>
                </a:solidFill>
                <a:latin typeface="Arial"/>
              </a:rPr>
              <a:t>- </a:t>
            </a:r>
            <a:r>
              <a:rPr b="0" lang="en-US" sz="2800" spc="-1" strike="noStrike">
                <a:solidFill>
                  <a:srgbClr val="000099"/>
                </a:solidFill>
                <a:latin typeface="Arial"/>
              </a:rPr>
              <a:t>promotr alone does not result in tumor formation</a:t>
            </a:r>
            <a:endParaRPr b="0" lang="en-US" sz="2800" spc="-1" strike="noStrike">
              <a:solidFill>
                <a:srgbClr val="000000"/>
              </a:solidFill>
              <a:latin typeface="Arial"/>
            </a:endParaRPr>
          </a:p>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0000"/>
                </a:solidFill>
                <a:latin typeface="Arial"/>
              </a:rPr>
              <a:t>INITIATION AND PROMOTION</a:t>
            </a:r>
            <a:br>
              <a:rPr sz="2800"/>
            </a:br>
            <a:endParaRPr b="0" lang="en-US" sz="2800" spc="-1" strike="noStrike">
              <a:solidFill>
                <a:srgbClr val="000000"/>
              </a:solidFill>
              <a:latin typeface="Arial"/>
            </a:endParaRPr>
          </a:p>
        </p:txBody>
      </p:sp>
      <p:pic>
        <p:nvPicPr>
          <p:cNvPr id="219" name="Picture 4" descr=""/>
          <p:cNvPicPr/>
          <p:nvPr/>
        </p:nvPicPr>
        <p:blipFill>
          <a:blip r:embed="rId1"/>
          <a:stretch/>
        </p:blipFill>
        <p:spPr>
          <a:xfrm>
            <a:off x="380880" y="990720"/>
            <a:ext cx="8305920" cy="5333760"/>
          </a:xfrm>
          <a:prstGeom prst="rect">
            <a:avLst/>
          </a:prstGeom>
          <a:ln w="0">
            <a:noFill/>
          </a:ln>
        </p:spPr>
      </p:pic>
      <p:sp>
        <p:nvSpPr>
          <p:cNvPr id="220"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Molecular Basis of Carcinogenesis</a:t>
            </a:r>
            <a:endParaRPr b="0" lang="en-US" sz="3600" spc="-1" strike="noStrike">
              <a:solidFill>
                <a:srgbClr val="000000"/>
              </a:solidFill>
              <a:latin typeface="Arial"/>
            </a:endParaRPr>
          </a:p>
        </p:txBody>
      </p:sp>
      <p:sp>
        <p:nvSpPr>
          <p:cNvPr id="222" name="PlaceHolder 2"/>
          <p:cNvSpPr>
            <a:spLocks noGrp="1"/>
          </p:cNvSpPr>
          <p:nvPr>
            <p:ph/>
          </p:nvPr>
        </p:nvSpPr>
        <p:spPr>
          <a:xfrm>
            <a:off x="228600" y="1600200"/>
            <a:ext cx="8610480" cy="4525920"/>
          </a:xfrm>
          <a:prstGeom prst="rect">
            <a:avLst/>
          </a:prstGeom>
          <a:noFill/>
          <a:ln w="0">
            <a:noFill/>
          </a:ln>
        </p:spPr>
        <p:txBody>
          <a:bodyPr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 classes of regulatory genes</a:t>
            </a:r>
            <a:r>
              <a:rPr b="1" lang="en-US" sz="2800" spc="-1" strike="noStrike">
                <a:solidFill>
                  <a:srgbClr val="000099"/>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1</a:t>
            </a:r>
            <a:r>
              <a:rPr b="1" lang="en-US" sz="2800" spc="-1" strike="noStrike">
                <a:solidFill>
                  <a:srgbClr val="000099"/>
                </a:solidFill>
                <a:latin typeface="Arial"/>
              </a:rPr>
              <a:t>- </a:t>
            </a:r>
            <a:r>
              <a:rPr b="1" lang="en-US" sz="2800" spc="-1" strike="noStrike">
                <a:solidFill>
                  <a:srgbClr val="000099"/>
                </a:solidFill>
                <a:latin typeface="Arial"/>
              </a:rPr>
              <a:t>Tumour Promotors:</a:t>
            </a:r>
            <a:r>
              <a:rPr b="0" lang="en-US" sz="2800" spc="-1" strike="noStrike">
                <a:solidFill>
                  <a:srgbClr val="000000"/>
                </a:solidFill>
                <a:latin typeface="Arial"/>
              </a:rPr>
              <a:t> </a:t>
            </a:r>
            <a:r>
              <a:rPr b="1" lang="en-US" sz="2800" spc="-1" strike="noStrike">
                <a:solidFill>
                  <a:srgbClr val="ff0000"/>
                </a:solidFill>
                <a:latin typeface="Arial"/>
              </a:rPr>
              <a:t>Proto-oncogenes</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2</a:t>
            </a:r>
            <a:r>
              <a:rPr b="1" lang="en-US" sz="2800" spc="-1" strike="noStrike">
                <a:solidFill>
                  <a:srgbClr val="000099"/>
                </a:solidFill>
                <a:latin typeface="Arial"/>
              </a:rPr>
              <a:t>- </a:t>
            </a:r>
            <a:r>
              <a:rPr b="1" lang="en-US" sz="2800" spc="-1" strike="noStrike">
                <a:solidFill>
                  <a:srgbClr val="000099"/>
                </a:solidFill>
                <a:latin typeface="Arial"/>
              </a:rPr>
              <a:t>Tumour Inhibitors:</a:t>
            </a:r>
            <a:r>
              <a:rPr b="1" lang="en-US" sz="2800" spc="-1" strike="noStrike">
                <a:solidFill>
                  <a:srgbClr val="ff0000"/>
                </a:solidFill>
                <a:latin typeface="Arial"/>
              </a:rPr>
              <a:t>Tumour-suppressor genes</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3</a:t>
            </a:r>
            <a:r>
              <a:rPr b="1" lang="en-US" sz="2800" spc="-1" strike="noStrike">
                <a:solidFill>
                  <a:srgbClr val="000099"/>
                </a:solidFill>
                <a:latin typeface="Arial"/>
              </a:rPr>
              <a:t>- </a:t>
            </a:r>
            <a:r>
              <a:rPr b="1" lang="en-US" sz="2800" spc="-1" strike="noStrike">
                <a:solidFill>
                  <a:srgbClr val="000099"/>
                </a:solidFill>
                <a:latin typeface="Arial"/>
              </a:rPr>
              <a:t>Genes regulating </a:t>
            </a:r>
            <a:r>
              <a:rPr b="1" lang="en-US" sz="2800" spc="-1" strike="noStrike">
                <a:solidFill>
                  <a:srgbClr val="ff0000"/>
                </a:solidFill>
                <a:latin typeface="Arial"/>
              </a:rPr>
              <a:t>Apoptosis</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4</a:t>
            </a:r>
            <a:r>
              <a:rPr b="1" lang="en-US" sz="2800" spc="-1" strike="noStrike">
                <a:solidFill>
                  <a:srgbClr val="000099"/>
                </a:solidFill>
                <a:latin typeface="Arial"/>
              </a:rPr>
              <a:t>- </a:t>
            </a:r>
            <a:r>
              <a:rPr b="1" lang="en-US" sz="2800" spc="-1" strike="noStrike">
                <a:solidFill>
                  <a:srgbClr val="ff0000"/>
                </a:solidFill>
                <a:latin typeface="Arial"/>
              </a:rPr>
              <a:t>DNA repair</a:t>
            </a:r>
            <a:r>
              <a:rPr b="1" lang="en-US" sz="2800" spc="-1" strike="noStrike">
                <a:solidFill>
                  <a:srgbClr val="000099"/>
                </a:solidFill>
                <a:latin typeface="Arial"/>
              </a:rPr>
              <a:t> gen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on-lethal Genetic damage lies at the center of carcinogenesis</a:t>
            </a:r>
            <a:endParaRPr b="0" lang="en-US" sz="32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oss/damage</a:t>
            </a:r>
            <a:r>
              <a:rPr b="1" lang="en-US" sz="3200" spc="-1" strike="noStrike">
                <a:solidFill>
                  <a:srgbClr val="0033cc"/>
                </a:solidFill>
                <a:latin typeface="Arial"/>
              </a:rPr>
              <a:t> to suppressor gen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verexpression</a:t>
            </a:r>
            <a:r>
              <a:rPr b="1" lang="en-US" sz="3200" spc="-1" strike="noStrike">
                <a:solidFill>
                  <a:srgbClr val="0033cc"/>
                </a:solidFill>
                <a:latin typeface="Arial"/>
              </a:rPr>
              <a:t> of promotor gen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oss/damage</a:t>
            </a:r>
            <a:r>
              <a:rPr b="1" lang="en-US" sz="3200" spc="-1" strike="noStrike">
                <a:solidFill>
                  <a:srgbClr val="0033cc"/>
                </a:solidFill>
                <a:latin typeface="Arial"/>
              </a:rPr>
              <a:t> to Apoptosis gen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oss/damage</a:t>
            </a:r>
            <a:r>
              <a:rPr b="1" lang="en-US" sz="3200" spc="-1" strike="noStrike">
                <a:solidFill>
                  <a:srgbClr val="0033cc"/>
                </a:solidFill>
                <a:latin typeface="Arial"/>
              </a:rPr>
              <a:t> of DNA repair genes.</a:t>
            </a:r>
            <a:endParaRPr b="0" lang="en-US" sz="3200" spc="-1" strike="noStrike">
              <a:solidFill>
                <a:srgbClr val="000000"/>
              </a:solidFill>
              <a:latin typeface="Arial"/>
            </a:endParaRPr>
          </a:p>
          <a:p>
            <a:pPr marL="343080" indent="0"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761760" y="762120"/>
            <a:ext cx="8381880" cy="53640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TO-ONCOGEN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re genes which promote cell growth and </a:t>
            </a:r>
            <a:r>
              <a:rPr b="0" lang="en-US" sz="3200" spc="-1" strike="noStrike" u="sng">
                <a:solidFill>
                  <a:srgbClr val="0033cc"/>
                </a:solidFill>
                <a:uFillTx/>
                <a:latin typeface="Arial"/>
              </a:rPr>
              <a:t>mitosis </a:t>
            </a:r>
            <a:r>
              <a:rPr b="0" lang="en-US" sz="3200" spc="-1" strike="noStrike">
                <a:solidFill>
                  <a:srgbClr val="000000"/>
                </a:solidFill>
                <a:latin typeface="Arial"/>
              </a:rPr>
              <a:t>(cell divis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UMOUR SUPPRESSOR GENES:</a:t>
            </a:r>
            <a:r>
              <a:rPr b="0" lang="en-US" sz="3200" spc="-1" strike="noStrike">
                <a:solidFill>
                  <a:srgbClr val="000000"/>
                </a:solidFill>
                <a:latin typeface="Arial"/>
              </a:rPr>
              <a:t> discourage cell growth, or </a:t>
            </a:r>
            <a:r>
              <a:rPr b="0" lang="en-US" sz="3200" spc="-1" strike="noStrike">
                <a:solidFill>
                  <a:srgbClr val="000099"/>
                </a:solidFill>
                <a:latin typeface="Arial"/>
              </a:rPr>
              <a:t>temporarily halts cell division from</a:t>
            </a:r>
            <a:r>
              <a:rPr b="0" lang="en-US" sz="3200" spc="-1" strike="noStrike">
                <a:solidFill>
                  <a:srgbClr val="000000"/>
                </a:solidFill>
                <a:latin typeface="Arial"/>
              </a:rPr>
              <a:t> occurring in order to carry out </a:t>
            </a:r>
            <a:r>
              <a:rPr b="1" lang="en-US" sz="3200" spc="-1" strike="noStrike">
                <a:solidFill>
                  <a:srgbClr val="0033cc"/>
                </a:solidFill>
                <a:latin typeface="Arial"/>
              </a:rPr>
              <a:t>DNA repair</a:t>
            </a:r>
            <a:r>
              <a:rPr b="0" lang="en-US" sz="3200" spc="-1" strike="noStrike">
                <a:solidFill>
                  <a:srgbClr val="000000"/>
                </a:solidFill>
                <a:latin typeface="Arial"/>
              </a:rPr>
              <a:t>. Typically, a series of several </a:t>
            </a:r>
            <a:r>
              <a:rPr b="1" lang="en-US" sz="3200" spc="-1" strike="noStrike">
                <a:solidFill>
                  <a:srgbClr val="0033cc"/>
                </a:solidFill>
                <a:latin typeface="Arial"/>
              </a:rPr>
              <a:t>mutations</a:t>
            </a:r>
            <a:r>
              <a:rPr b="0" lang="en-US" sz="3200" spc="-1" strike="noStrike">
                <a:solidFill>
                  <a:srgbClr val="000000"/>
                </a:solidFill>
                <a:latin typeface="Arial"/>
              </a:rPr>
              <a:t> </a:t>
            </a:r>
            <a:r>
              <a:rPr b="1" lang="en-US" sz="3200" spc="-1" strike="noStrike">
                <a:solidFill>
                  <a:srgbClr val="0033cc"/>
                </a:solidFill>
                <a:latin typeface="Arial"/>
              </a:rPr>
              <a:t>to these genes are required before a normal cell transforms into a cancer cel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4"/>
          <p:cNvSpPr/>
          <p:nvPr/>
        </p:nvSpPr>
        <p:spPr>
          <a:xfrm rot="18388200">
            <a:off x="-1180440" y="1104840"/>
            <a:ext cx="4647960" cy="1218960"/>
          </a:xfrm>
          <a:prstGeom prst="rect">
            <a:avLst/>
          </a:prstGeom>
          <a:noFill/>
          <a:ln w="0">
            <a:noFill/>
          </a:ln>
        </p:spPr>
        <p:style>
          <a:lnRef idx="0"/>
          <a:fillRef idx="0"/>
          <a:effectRef idx="0"/>
          <a:fontRef idx="minor"/>
        </p:style>
        <p:txBody>
          <a:bodyPr lIns="92160" rIns="92160" tIns="46080" bIns="46080" anchor="b">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thogenesis</a:t>
            </a:r>
            <a:endParaRPr b="0" lang="en-US" sz="4400" spc="-1" strike="noStrike">
              <a:solidFill>
                <a:srgbClr val="000000"/>
              </a:solidFill>
              <a:latin typeface="Arial"/>
            </a:endParaRPr>
          </a:p>
        </p:txBody>
      </p:sp>
      <p:sp>
        <p:nvSpPr>
          <p:cNvPr id="230" name="Rectangle 5"/>
          <p:cNvSpPr/>
          <p:nvPr/>
        </p:nvSpPr>
        <p:spPr>
          <a:xfrm>
            <a:off x="2514600" y="304920"/>
            <a:ext cx="4876920" cy="10666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Acquired environmental factor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chemicals ,radiation ,viruses</a:t>
            </a:r>
            <a:endParaRPr b="0" lang="en-US" sz="2400" spc="-1" strike="noStrike">
              <a:solidFill>
                <a:srgbClr val="000000"/>
              </a:solidFill>
              <a:latin typeface="Arial"/>
            </a:endParaRPr>
          </a:p>
        </p:txBody>
      </p:sp>
      <p:sp>
        <p:nvSpPr>
          <p:cNvPr id="231" name="Rectangle 6"/>
          <p:cNvSpPr/>
          <p:nvPr/>
        </p:nvSpPr>
        <p:spPr>
          <a:xfrm>
            <a:off x="3124080" y="1828800"/>
            <a:ext cx="297972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Changes in genom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 </a:t>
            </a:r>
            <a:r>
              <a:rPr b="1" lang="en-US" sz="2400" spc="-1" strike="noStrike">
                <a:solidFill>
                  <a:srgbClr val="000099"/>
                </a:solidFill>
                <a:latin typeface="Century Gothic"/>
              </a:rPr>
              <a:t>of somatic cells</a:t>
            </a:r>
            <a:endParaRPr b="0" lang="en-US" sz="2400" spc="-1" strike="noStrike">
              <a:solidFill>
                <a:srgbClr val="000000"/>
              </a:solidFill>
              <a:latin typeface="Arial"/>
            </a:endParaRPr>
          </a:p>
        </p:txBody>
      </p:sp>
      <p:sp>
        <p:nvSpPr>
          <p:cNvPr id="232" name="Rectangle 7"/>
          <p:cNvSpPr/>
          <p:nvPr/>
        </p:nvSpPr>
        <p:spPr>
          <a:xfrm>
            <a:off x="1353960" y="3429000"/>
            <a:ext cx="3387960" cy="10666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Activation of growth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promoting oncogenes</a:t>
            </a:r>
            <a:endParaRPr b="0" lang="en-US" sz="2400" spc="-1" strike="noStrike">
              <a:solidFill>
                <a:srgbClr val="000000"/>
              </a:solidFill>
              <a:latin typeface="Arial"/>
            </a:endParaRPr>
          </a:p>
        </p:txBody>
      </p:sp>
      <p:sp>
        <p:nvSpPr>
          <p:cNvPr id="233" name="Rectangle 8"/>
          <p:cNvSpPr/>
          <p:nvPr/>
        </p:nvSpPr>
        <p:spPr>
          <a:xfrm>
            <a:off x="5181480" y="3429000"/>
            <a:ext cx="345456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Inactivation of tumou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 </a:t>
            </a:r>
            <a:r>
              <a:rPr b="1" lang="en-US" sz="2400" spc="-1" strike="noStrike">
                <a:solidFill>
                  <a:srgbClr val="000099"/>
                </a:solidFill>
                <a:latin typeface="Century Gothic"/>
              </a:rPr>
              <a:t>supressor genes</a:t>
            </a:r>
            <a:endParaRPr b="0" lang="en-US" sz="2400" spc="-1" strike="noStrike">
              <a:solidFill>
                <a:srgbClr val="000000"/>
              </a:solidFill>
              <a:latin typeface="Arial"/>
            </a:endParaRPr>
          </a:p>
        </p:txBody>
      </p:sp>
      <p:sp>
        <p:nvSpPr>
          <p:cNvPr id="234" name="Rectangle 9"/>
          <p:cNvSpPr/>
          <p:nvPr/>
        </p:nvSpPr>
        <p:spPr>
          <a:xfrm>
            <a:off x="1981080" y="5029200"/>
            <a:ext cx="548640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Expression all altered gene produc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and loss of regular gene products</a:t>
            </a:r>
            <a:endParaRPr b="0" lang="en-US" sz="2400" spc="-1" strike="noStrike">
              <a:solidFill>
                <a:srgbClr val="000000"/>
              </a:solidFill>
              <a:latin typeface="Arial"/>
            </a:endParaRPr>
          </a:p>
        </p:txBody>
      </p:sp>
      <p:sp>
        <p:nvSpPr>
          <p:cNvPr id="235" name="Rectangle 10"/>
          <p:cNvSpPr/>
          <p:nvPr/>
        </p:nvSpPr>
        <p:spPr>
          <a:xfrm>
            <a:off x="2666880" y="6172200"/>
            <a:ext cx="4038840" cy="457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entury Gothic"/>
              </a:rPr>
              <a:t>MALIGNANT NEOPLSM</a:t>
            </a:r>
            <a:endParaRPr b="0" lang="en-US" sz="2800" spc="-1" strike="noStrike">
              <a:solidFill>
                <a:srgbClr val="000000"/>
              </a:solidFill>
              <a:latin typeface="Arial"/>
            </a:endParaRPr>
          </a:p>
        </p:txBody>
      </p:sp>
      <p:sp>
        <p:nvSpPr>
          <p:cNvPr id="236" name="AutoShape 11"/>
          <p:cNvSpPr/>
          <p:nvPr/>
        </p:nvSpPr>
        <p:spPr>
          <a:xfrm>
            <a:off x="4444920" y="1447920"/>
            <a:ext cx="203400" cy="380880"/>
          </a:xfrm>
          <a:prstGeom prst="downArrow">
            <a:avLst>
              <a:gd name="adj1" fmla="val 50000"/>
              <a:gd name="adj2" fmla="val 46814"/>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utoShape 12"/>
          <p:cNvSpPr/>
          <p:nvPr/>
        </p:nvSpPr>
        <p:spPr>
          <a:xfrm>
            <a:off x="4648320" y="5715000"/>
            <a:ext cx="271440" cy="457200"/>
          </a:xfrm>
          <a:prstGeom prst="downArrow">
            <a:avLst>
              <a:gd name="adj1" fmla="val 50000"/>
              <a:gd name="adj2" fmla="val 42109"/>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Text Box 13"/>
          <p:cNvSpPr/>
          <p:nvPr/>
        </p:nvSpPr>
        <p:spPr>
          <a:xfrm>
            <a:off x="6905880" y="1600200"/>
            <a:ext cx="1978920" cy="3988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Black"/>
              </a:rPr>
              <a:t>Genetic factors</a:t>
            </a:r>
            <a:endParaRPr b="0" lang="en-US" sz="2000" spc="-1" strike="noStrike">
              <a:solidFill>
                <a:srgbClr val="000000"/>
              </a:solidFill>
              <a:latin typeface="Arial"/>
            </a:endParaRPr>
          </a:p>
        </p:txBody>
      </p:sp>
      <p:sp>
        <p:nvSpPr>
          <p:cNvPr id="239" name="AutoShape 14"/>
          <p:cNvSpPr/>
          <p:nvPr/>
        </p:nvSpPr>
        <p:spPr>
          <a:xfrm rot="15738000">
            <a:off x="7742160" y="1020240"/>
            <a:ext cx="533160" cy="473040"/>
          </a:xfrm>
          <a:custGeom>
            <a:avLst/>
            <a:gdLst>
              <a:gd name="textAreaLeft" fmla="*/ 93240 w 533160"/>
              <a:gd name="textAreaRight" fmla="*/ 386640 w 533160"/>
              <a:gd name="textAreaTop" fmla="*/ 63360 h 473040"/>
              <a:gd name="textAreaBottom" fmla="*/ 409680 h 4730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15"/>
          <p:cNvSpPr/>
          <p:nvPr/>
        </p:nvSpPr>
        <p:spPr>
          <a:xfrm>
            <a:off x="3048120" y="4495680"/>
            <a:ext cx="203040" cy="457200"/>
          </a:xfrm>
          <a:prstGeom prst="downArrow">
            <a:avLst>
              <a:gd name="adj1" fmla="val 50000"/>
              <a:gd name="adj2" fmla="val 56294"/>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AutoShape 16"/>
          <p:cNvSpPr/>
          <p:nvPr/>
        </p:nvSpPr>
        <p:spPr>
          <a:xfrm>
            <a:off x="5791320" y="4495680"/>
            <a:ext cx="203040" cy="457200"/>
          </a:xfrm>
          <a:prstGeom prst="downArrow">
            <a:avLst>
              <a:gd name="adj1" fmla="val 50000"/>
              <a:gd name="adj2" fmla="val 56294"/>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utoShape 17"/>
          <p:cNvSpPr/>
          <p:nvPr/>
        </p:nvSpPr>
        <p:spPr>
          <a:xfrm>
            <a:off x="5816520" y="2895480"/>
            <a:ext cx="203400" cy="457200"/>
          </a:xfrm>
          <a:prstGeom prst="downArrow">
            <a:avLst>
              <a:gd name="adj1" fmla="val 50000"/>
              <a:gd name="adj2" fmla="val 56195"/>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AutoShape 18"/>
          <p:cNvSpPr/>
          <p:nvPr/>
        </p:nvSpPr>
        <p:spPr>
          <a:xfrm>
            <a:off x="3225960" y="2895480"/>
            <a:ext cx="203040" cy="457200"/>
          </a:xfrm>
          <a:prstGeom prst="downArrow">
            <a:avLst>
              <a:gd name="adj1" fmla="val 50000"/>
              <a:gd name="adj2" fmla="val 56294"/>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229"/>
                                        </p:tgtEl>
                                        <p:attrNameLst>
                                          <p:attrName>style.visibility</p:attrName>
                                        </p:attrNameLst>
                                      </p:cBhvr>
                                      <p:to>
                                        <p:strVal val="visible"/>
                                      </p:to>
                                    </p:set>
                                    <p:animEffect filter="wipe(left)" transition="in">
                                      <p:cBhvr additive="repl">
                                        <p:cTn id="7"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a:off x="838080" y="364680"/>
            <a:ext cx="7772400" cy="6426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Molecular Basis of Neoplasia</a:t>
            </a:r>
            <a:endParaRPr b="0" lang="en-US" sz="3600" spc="-1" strike="noStrike">
              <a:solidFill>
                <a:srgbClr val="000000"/>
              </a:solidFill>
              <a:latin typeface="Arial"/>
            </a:endParaRPr>
          </a:p>
        </p:txBody>
      </p:sp>
      <p:sp>
        <p:nvSpPr>
          <p:cNvPr id="246" name="AutoShape 5"/>
          <p:cNvSpPr/>
          <p:nvPr/>
        </p:nvSpPr>
        <p:spPr>
          <a:xfrm>
            <a:off x="685800" y="1371600"/>
            <a:ext cx="3505320" cy="1143000"/>
          </a:xfrm>
          <a:prstGeom prst="bevel">
            <a:avLst>
              <a:gd name="adj" fmla="val 12500"/>
            </a:avLst>
          </a:prstGeom>
          <a:solidFill>
            <a:srgbClr val="008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Proto-oncogene</a:t>
            </a:r>
            <a:endParaRPr b="0" lang="en-US" sz="3600" spc="-1" strike="noStrike">
              <a:solidFill>
                <a:srgbClr val="000000"/>
              </a:solidFill>
              <a:latin typeface="Arial"/>
            </a:endParaRPr>
          </a:p>
        </p:txBody>
      </p:sp>
      <p:sp>
        <p:nvSpPr>
          <p:cNvPr id="247" name="AutoShape 6"/>
          <p:cNvSpPr/>
          <p:nvPr/>
        </p:nvSpPr>
        <p:spPr>
          <a:xfrm>
            <a:off x="5867280" y="5029200"/>
            <a:ext cx="2362320" cy="1143000"/>
          </a:xfrm>
          <a:prstGeom prst="bevel">
            <a:avLst>
              <a:gd name="adj" fmla="val 125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Oncogene</a:t>
            </a:r>
            <a:endParaRPr b="0" lang="en-US" sz="3600" spc="-1" strike="noStrike">
              <a:solidFill>
                <a:srgbClr val="000000"/>
              </a:solidFill>
              <a:latin typeface="Arial"/>
            </a:endParaRPr>
          </a:p>
        </p:txBody>
      </p:sp>
      <p:grpSp>
        <p:nvGrpSpPr>
          <p:cNvPr id="248" name="Group 7"/>
          <p:cNvGrpSpPr/>
          <p:nvPr/>
        </p:nvGrpSpPr>
        <p:grpSpPr>
          <a:xfrm>
            <a:off x="2310480" y="2948760"/>
            <a:ext cx="3303720" cy="2713680"/>
            <a:chOff x="2310480" y="2948760"/>
            <a:chExt cx="3303720" cy="2713680"/>
          </a:xfrm>
        </p:grpSpPr>
        <p:sp>
          <p:nvSpPr>
            <p:cNvPr id="249" name="AutoShape 8"/>
            <p:cNvSpPr/>
            <p:nvPr/>
          </p:nvSpPr>
          <p:spPr>
            <a:xfrm rot="20075400">
              <a:off x="2437920" y="3276720"/>
              <a:ext cx="1752480" cy="990720"/>
            </a:xfrm>
            <a:prstGeom prst="pie">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V-Onc</a:t>
              </a:r>
              <a:endParaRPr b="0" lang="en-US" sz="2400" spc="-1" strike="noStrike">
                <a:solidFill>
                  <a:srgbClr val="000000"/>
                </a:solidFill>
                <a:latin typeface="Arial"/>
              </a:endParaRPr>
            </a:p>
          </p:txBody>
        </p:sp>
        <p:sp>
          <p:nvSpPr>
            <p:cNvPr id="250" name="AutoShape 9"/>
            <p:cNvSpPr/>
            <p:nvPr/>
          </p:nvSpPr>
          <p:spPr>
            <a:xfrm rot="20075400">
              <a:off x="3733200" y="4343400"/>
              <a:ext cx="1752840" cy="990720"/>
            </a:xfrm>
            <a:prstGeom prst="pie">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Other</a:t>
              </a:r>
              <a:endParaRPr b="0" lang="en-US" sz="2400" spc="-1" strike="noStrike">
                <a:solidFill>
                  <a:srgbClr val="000000"/>
                </a:solidFill>
                <a:latin typeface="Arial"/>
              </a:endParaRPr>
            </a:p>
          </p:txBody>
        </p:sp>
      </p:grpSp>
      <p:grpSp>
        <p:nvGrpSpPr>
          <p:cNvPr id="251" name="Group 10"/>
          <p:cNvGrpSpPr/>
          <p:nvPr/>
        </p:nvGrpSpPr>
        <p:grpSpPr>
          <a:xfrm>
            <a:off x="4369320" y="892080"/>
            <a:ext cx="2315880" cy="2035800"/>
            <a:chOff x="4369320" y="892080"/>
            <a:chExt cx="2315880" cy="2035800"/>
          </a:xfrm>
        </p:grpSpPr>
        <p:sp>
          <p:nvSpPr>
            <p:cNvPr id="252" name="AutoShape 11"/>
            <p:cNvSpPr/>
            <p:nvPr/>
          </p:nvSpPr>
          <p:spPr>
            <a:xfrm rot="8698200">
              <a:off x="4460400" y="1414440"/>
              <a:ext cx="2133720" cy="990720"/>
            </a:xfrm>
            <a:custGeom>
              <a:avLst/>
              <a:gdLst>
                <a:gd name="textAreaLeft" fmla="*/ 333360 w 2133720"/>
                <a:gd name="textAreaRight" fmla="*/ 1867320 w 2133720"/>
                <a:gd name="textAreaTop" fmla="*/ 247680 h 990720"/>
                <a:gd name="textAreaBottom" fmla="*/ 743040 h 990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00"/>
            </a:solidFill>
            <a:ln cap="sq" w="12600">
              <a:solidFill>
                <a:srgbClr val="000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253" name="Text Box 12"/>
            <p:cNvSpPr/>
            <p:nvPr/>
          </p:nvSpPr>
          <p:spPr>
            <a:xfrm rot="19643400">
              <a:off x="4953600" y="152352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Heredity</a:t>
              </a:r>
              <a:endParaRPr b="0" lang="en-US" sz="2400" spc="-1" strike="noStrike">
                <a:solidFill>
                  <a:srgbClr val="000000"/>
                </a:solidFill>
                <a:latin typeface="Arial"/>
              </a:endParaRPr>
            </a:p>
          </p:txBody>
        </p:sp>
      </p:grpSp>
      <p:grpSp>
        <p:nvGrpSpPr>
          <p:cNvPr id="254" name="Group 13"/>
          <p:cNvGrpSpPr/>
          <p:nvPr/>
        </p:nvGrpSpPr>
        <p:grpSpPr>
          <a:xfrm>
            <a:off x="5353200" y="1577880"/>
            <a:ext cx="2627640" cy="2254320"/>
            <a:chOff x="5353200" y="1577880"/>
            <a:chExt cx="2627640" cy="2254320"/>
          </a:xfrm>
        </p:grpSpPr>
        <p:sp>
          <p:nvSpPr>
            <p:cNvPr id="255" name="AutoShape 14"/>
            <p:cNvSpPr/>
            <p:nvPr/>
          </p:nvSpPr>
          <p:spPr>
            <a:xfrm rot="8698200">
              <a:off x="5409360" y="2209320"/>
              <a:ext cx="2514600" cy="990720"/>
            </a:xfrm>
            <a:custGeom>
              <a:avLst/>
              <a:gdLst>
                <a:gd name="textAreaLeft" fmla="*/ 393480 w 2514600"/>
                <a:gd name="textAreaRight" fmla="*/ 2200320 w 2514600"/>
                <a:gd name="textAreaTop" fmla="*/ 247680 h 990720"/>
                <a:gd name="textAreaBottom" fmla="*/ 743040 h 990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00"/>
            </a:solidFill>
            <a:ln cap="sq" w="12600">
              <a:solidFill>
                <a:srgbClr val="000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256" name="Text Box 15"/>
            <p:cNvSpPr/>
            <p:nvPr/>
          </p:nvSpPr>
          <p:spPr>
            <a:xfrm rot="19643400">
              <a:off x="5639040" y="243756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adiation</a:t>
              </a:r>
              <a:endParaRPr b="0" lang="en-US" sz="2400" spc="-1" strike="noStrike">
                <a:solidFill>
                  <a:srgbClr val="000000"/>
                </a:solidFill>
                <a:latin typeface="Arial"/>
              </a:endParaRPr>
            </a:p>
          </p:txBody>
        </p:sp>
      </p:grpSp>
      <p:sp>
        <p:nvSpPr>
          <p:cNvPr id="257" name="AutoShape 16"/>
          <p:cNvSpPr/>
          <p:nvPr/>
        </p:nvSpPr>
        <p:spPr>
          <a:xfrm rot="2886600">
            <a:off x="3695400" y="3466440"/>
            <a:ext cx="3124440" cy="609840"/>
          </a:xfrm>
          <a:prstGeom prst="rightArrow">
            <a:avLst>
              <a:gd name="adj1" fmla="val 50000"/>
              <a:gd name="adj2" fmla="val 128084"/>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8" name="Group 17"/>
          <p:cNvGrpSpPr/>
          <p:nvPr/>
        </p:nvGrpSpPr>
        <p:grpSpPr>
          <a:xfrm>
            <a:off x="6115320" y="2833920"/>
            <a:ext cx="2381400" cy="1910880"/>
            <a:chOff x="6115320" y="2833920"/>
            <a:chExt cx="2381400" cy="1910880"/>
          </a:xfrm>
        </p:grpSpPr>
        <p:sp>
          <p:nvSpPr>
            <p:cNvPr id="259" name="AutoShape 18"/>
            <p:cNvSpPr/>
            <p:nvPr/>
          </p:nvSpPr>
          <p:spPr>
            <a:xfrm rot="8698200">
              <a:off x="6233760" y="3319200"/>
              <a:ext cx="1828800" cy="990360"/>
            </a:xfrm>
            <a:custGeom>
              <a:avLst/>
              <a:gdLst>
                <a:gd name="textAreaLeft" fmla="*/ 285480 w 1828800"/>
                <a:gd name="textAreaRight" fmla="*/ 1600200 w 1828800"/>
                <a:gd name="textAreaTop" fmla="*/ 247680 h 990360"/>
                <a:gd name="textAreaBottom" fmla="*/ 743040 h 99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00"/>
            </a:solidFill>
            <a:ln cap="sq" w="12600">
              <a:solidFill>
                <a:srgbClr val="000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260" name="Text Box 19"/>
            <p:cNvSpPr/>
            <p:nvPr/>
          </p:nvSpPr>
          <p:spPr>
            <a:xfrm rot="19643400">
              <a:off x="6477480" y="335196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hemical</a:t>
              </a:r>
              <a:endParaRPr b="0" lang="en-US" sz="2400" spc="-1" strike="noStrike">
                <a:solidFill>
                  <a:srgbClr val="000000"/>
                </a:solidFill>
                <a:latin typeface="Arial"/>
              </a:endParaRPr>
            </a:p>
          </p:txBody>
        </p:sp>
      </p:grpSp>
      <p:sp>
        <p:nvSpPr>
          <p:cNvPr id="26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246"/>
                                        </p:tgtEl>
                                        <p:attrNameLst>
                                          <p:attrName>style.visibility</p:attrName>
                                        </p:attrNameLst>
                                      </p:cBhvr>
                                      <p:to>
                                        <p:strVal val="visible"/>
                                      </p:to>
                                    </p:set>
                                    <p:anim calcmode="lin" valueType="num">
                                      <p:cBhvr additive="base">
                                        <p:cTn id="14" dur="500" fill="hold"/>
                                        <p:tgtEl>
                                          <p:spTgt spid="246"/>
                                        </p:tgtEl>
                                        <p:attrNameLst>
                                          <p:attrName>ppt_x</p:attrName>
                                        </p:attrNameLst>
                                      </p:cBhvr>
                                      <p:tavLst>
                                        <p:tav tm="0">
                                          <p:val>
                                            <p:strVal val="0-#ppt_w/2"/>
                                          </p:val>
                                        </p:tav>
                                        <p:tav tm="100000">
                                          <p:val>
                                            <p:strVal val="#ppt_x"/>
                                          </p:val>
                                        </p:tav>
                                      </p:tavLst>
                                    </p:anim>
                                    <p:anim calcmode="lin" valueType="num">
                                      <p:cBhvr additive="base">
                                        <p:cTn id="15"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257"/>
                                        </p:tgtEl>
                                        <p:attrNameLst>
                                          <p:attrName>style.visibility</p:attrName>
                                        </p:attrNameLst>
                                      </p:cBhvr>
                                      <p:to>
                                        <p:strVal val="visible"/>
                                      </p:to>
                                    </p:set>
                                    <p:anim calcmode="lin" valueType="num">
                                      <p:cBhvr additive="base">
                                        <p:cTn id="20" dur="500" fill="hold"/>
                                        <p:tgtEl>
                                          <p:spTgt spid="257"/>
                                        </p:tgtEl>
                                        <p:attrNameLst>
                                          <p:attrName>ppt_x</p:attrName>
                                        </p:attrNameLst>
                                      </p:cBhvr>
                                      <p:tavLst>
                                        <p:tav tm="0">
                                          <p:val>
                                            <p:strVal val="0-#ppt_w/2"/>
                                          </p:val>
                                        </p:tav>
                                        <p:tav tm="100000">
                                          <p:val>
                                            <p:strVal val="#ppt_x"/>
                                          </p:val>
                                        </p:tav>
                                      </p:tavLst>
                                    </p:anim>
                                    <p:anim calcmode="lin" valueType="num">
                                      <p:cBhvr additive="base">
                                        <p:cTn id="21"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247"/>
                                        </p:tgtEl>
                                        <p:attrNameLst>
                                          <p:attrName>style.visibility</p:attrName>
                                        </p:attrNameLst>
                                      </p:cBhvr>
                                      <p:to>
                                        <p:strVal val="visible"/>
                                      </p:to>
                                    </p:set>
                                    <p:anim calcmode="lin" valueType="num">
                                      <p:cBhvr additive="base">
                                        <p:cTn id="26" dur="500" fill="hold"/>
                                        <p:tgtEl>
                                          <p:spTgt spid="247"/>
                                        </p:tgtEl>
                                        <p:attrNameLst>
                                          <p:attrName>ppt_x</p:attrName>
                                        </p:attrNameLst>
                                      </p:cBhvr>
                                      <p:tavLst>
                                        <p:tav tm="0">
                                          <p:val>
                                            <p:strVal val="0-#ppt_w/2"/>
                                          </p:val>
                                        </p:tav>
                                        <p:tav tm="100000">
                                          <p:val>
                                            <p:strVal val="#ppt_x"/>
                                          </p:val>
                                        </p:tav>
                                      </p:tavLst>
                                    </p:anim>
                                    <p:anim calcmode="lin" valueType="num">
                                      <p:cBhvr additive="base">
                                        <p:cTn id="27"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2">
                                  <p:stCondLst>
                                    <p:cond delay="0"/>
                                  </p:stCondLst>
                                  <p:childTnLst>
                                    <p:set>
                                      <p:cBhvr>
                                        <p:cTn id="31" dur="1" fill="hold">
                                          <p:stCondLst>
                                            <p:cond delay="0"/>
                                          </p:stCondLst>
                                        </p:cTn>
                                        <p:tgtEl>
                                          <p:spTgt spid="251"/>
                                        </p:tgtEl>
                                        <p:attrNameLst>
                                          <p:attrName>style.visibility</p:attrName>
                                        </p:attrNameLst>
                                      </p:cBhvr>
                                      <p:to>
                                        <p:strVal val="visible"/>
                                      </p:to>
                                    </p:set>
                                    <p:anim calcmode="lin" valueType="num">
                                      <p:cBhvr additive="base">
                                        <p:cTn id="32" dur="500" fill="hold"/>
                                        <p:tgtEl>
                                          <p:spTgt spid="251"/>
                                        </p:tgtEl>
                                        <p:attrNameLst>
                                          <p:attrName>ppt_x</p:attrName>
                                        </p:attrNameLst>
                                      </p:cBhvr>
                                      <p:tavLst>
                                        <p:tav tm="0">
                                          <p:val>
                                            <p:strVal val="1+#ppt_w/2"/>
                                          </p:val>
                                        </p:tav>
                                        <p:tav tm="100000">
                                          <p:val>
                                            <p:strVal val="#ppt_x"/>
                                          </p:val>
                                        </p:tav>
                                      </p:tavLst>
                                    </p:anim>
                                    <p:anim calcmode="lin" valueType="num">
                                      <p:cBhvr additive="base">
                                        <p:cTn id="33"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2">
                                  <p:stCondLst>
                                    <p:cond delay="0"/>
                                  </p:stCondLst>
                                  <p:childTnLst>
                                    <p:set>
                                      <p:cBhvr>
                                        <p:cTn id="37" dur="1" fill="hold">
                                          <p:stCondLst>
                                            <p:cond delay="0"/>
                                          </p:stCondLst>
                                        </p:cTn>
                                        <p:tgtEl>
                                          <p:spTgt spid="258"/>
                                        </p:tgtEl>
                                        <p:attrNameLst>
                                          <p:attrName>style.visibility</p:attrName>
                                        </p:attrNameLst>
                                      </p:cBhvr>
                                      <p:to>
                                        <p:strVal val="visible"/>
                                      </p:to>
                                    </p:set>
                                    <p:anim calcmode="lin" valueType="num">
                                      <p:cBhvr additive="base">
                                        <p:cTn id="38" dur="500" fill="hold"/>
                                        <p:tgtEl>
                                          <p:spTgt spid="258"/>
                                        </p:tgtEl>
                                        <p:attrNameLst>
                                          <p:attrName>ppt_x</p:attrName>
                                        </p:attrNameLst>
                                      </p:cBhvr>
                                      <p:tavLst>
                                        <p:tav tm="0">
                                          <p:val>
                                            <p:strVal val="1+#ppt_w/2"/>
                                          </p:val>
                                        </p:tav>
                                        <p:tav tm="100000">
                                          <p:val>
                                            <p:strVal val="#ppt_x"/>
                                          </p:val>
                                        </p:tav>
                                      </p:tavLst>
                                    </p:anim>
                                    <p:anim calcmode="lin" valueType="num">
                                      <p:cBhvr additive="base">
                                        <p:cTn id="39"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2">
                                  <p:stCondLst>
                                    <p:cond delay="0"/>
                                  </p:stCondLst>
                                  <p:childTnLst>
                                    <p:set>
                                      <p:cBhvr>
                                        <p:cTn id="43" dur="1" fill="hold">
                                          <p:stCondLst>
                                            <p:cond delay="0"/>
                                          </p:stCondLst>
                                        </p:cTn>
                                        <p:tgtEl>
                                          <p:spTgt spid="254"/>
                                        </p:tgtEl>
                                        <p:attrNameLst>
                                          <p:attrName>style.visibility</p:attrName>
                                        </p:attrNameLst>
                                      </p:cBhvr>
                                      <p:to>
                                        <p:strVal val="visible"/>
                                      </p:to>
                                    </p:set>
                                    <p:anim calcmode="lin" valueType="num">
                                      <p:cBhvr additive="base">
                                        <p:cTn id="44" dur="500" fill="hold"/>
                                        <p:tgtEl>
                                          <p:spTgt spid="254"/>
                                        </p:tgtEl>
                                        <p:attrNameLst>
                                          <p:attrName>ppt_x</p:attrName>
                                        </p:attrNameLst>
                                      </p:cBhvr>
                                      <p:tavLst>
                                        <p:tav tm="0">
                                          <p:val>
                                            <p:strVal val="1+#ppt_w/2"/>
                                          </p:val>
                                        </p:tav>
                                        <p:tav tm="100000">
                                          <p:val>
                                            <p:strVal val="#ppt_x"/>
                                          </p:val>
                                        </p:tav>
                                      </p:tavLst>
                                    </p:anim>
                                    <p:anim calcmode="lin" valueType="num">
                                      <p:cBhvr additive="base">
                                        <p:cTn id="45"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248"/>
                                        </p:tgtEl>
                                        <p:attrNameLst>
                                          <p:attrName>style.visibility</p:attrName>
                                        </p:attrNameLst>
                                      </p:cBhvr>
                                      <p:to>
                                        <p:strVal val="visible"/>
                                      </p:to>
                                    </p:set>
                                    <p:anim calcmode="lin" valueType="num">
                                      <p:cBhvr additive="base">
                                        <p:cTn id="50" dur="500" fill="hold"/>
                                        <p:tgtEl>
                                          <p:spTgt spid="248"/>
                                        </p:tgtEl>
                                        <p:attrNameLst>
                                          <p:attrName>ppt_x</p:attrName>
                                        </p:attrNameLst>
                                      </p:cBhvr>
                                      <p:tavLst>
                                        <p:tav tm="0">
                                          <p:val>
                                            <p:strVal val="0-#ppt_w/2"/>
                                          </p:val>
                                        </p:tav>
                                        <p:tav tm="100000">
                                          <p:val>
                                            <p:strVal val="#ppt_x"/>
                                          </p:val>
                                        </p:tav>
                                      </p:tavLst>
                                    </p:anim>
                                    <p:anim calcmode="lin" valueType="num">
                                      <p:cBhvr additive="base">
                                        <p:cTn id="51" dur="500" fill="hold"/>
                                        <p:tgtEl>
                                          <p:spTgt spid="2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457200" y="380520"/>
            <a:ext cx="8305920" cy="632484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umor suppressor genes</a:t>
            </a:r>
            <a:endParaRPr b="0" lang="en-US" sz="36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tumor suppressor gene is a gene that reduces the probability that a cell in a multicellular organism will turn into a tumor cell. </a:t>
            </a:r>
            <a:r>
              <a:rPr b="1" lang="en-US" sz="2400" spc="-1" strike="noStrike">
                <a:solidFill>
                  <a:srgbClr val="ff0000"/>
                </a:solidFill>
                <a:latin typeface="Arial"/>
              </a:rPr>
              <a:t>A mutation or deletion of such a gene will increase the probability of the formation of a tumo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like oncogenes, tumor suppressor genes generally follow the 'two-hit hypothesis,' which implies that both alleles that code for a particular gene must be affected before an effect is manifested. This is due to the fact that if only one allele for the gene is damaged, the second can still produce the correct protein. However, there are cases where mutations in only one allele will cause an effect. A notable example is the gene that codes for </a:t>
            </a:r>
            <a:r>
              <a:rPr b="1" lang="en-US" sz="2400" spc="-1" strike="noStrike">
                <a:solidFill>
                  <a:srgbClr val="ff0000"/>
                </a:solidFill>
                <a:latin typeface="Arial"/>
              </a:rPr>
              <a:t>p53</a:t>
            </a:r>
            <a:r>
              <a:rPr b="1"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639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SOLID TUMOURS</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715000"/>
          </a:xfrm>
          <a:prstGeom prst="rect">
            <a:avLst/>
          </a:prstGeom>
          <a:noFill/>
          <a:ln w="0">
            <a:noFill/>
          </a:ln>
        </p:spPr>
        <p:txBody>
          <a:bodyPr anchor="t">
            <a:normAutofit fontScale="99000"/>
          </a:bodyPr>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Anal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Billary tract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Brain tumours (Gliomas)</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Breast cancer</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Cervical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Colorectal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Endometrial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Esophageal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Gastric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Germ cell carcinomas</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Head and neck carcinoma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Hepatocellular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Lung cancer (SCLC and NSCLC)</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Malignant mela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Neuroblast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Ovarian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Pancreatic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Prostatic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Renal cell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Retinoblast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Throid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Wilms’ tumour (Nephroblastoma)</a:t>
            </a:r>
            <a:endParaRPr b="0" lang="en-US" sz="14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4"/>
          <p:cNvSpPr/>
          <p:nvPr/>
        </p:nvSpPr>
        <p:spPr>
          <a:xfrm>
            <a:off x="762120" y="380880"/>
            <a:ext cx="8229600" cy="61596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mor suppressor genes, or more precisely, the proteins for which they code, either have a dampening or repressive effect on the regulation of the cell cycle or promote apoptosis, and sometimes do both</a:t>
            </a:r>
            <a:r>
              <a:rPr b="1" lang="en-US" sz="1800" spc="-1" strike="noStrike">
                <a:solidFill>
                  <a:srgbClr val="000000"/>
                </a:solidFill>
                <a:latin typeface="Arial"/>
              </a:rPr>
              <a:t>. </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s of tumour suppressor Genes Includes</a:t>
            </a:r>
            <a:r>
              <a:rPr b="1" lang="en-US" sz="1800" spc="-1" strike="noStrike">
                <a:solidFill>
                  <a:srgbClr val="000000"/>
                </a:solidFill>
                <a:latin typeface="Arial"/>
              </a:rPr>
              <a:t>:</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3200" spc="-1" strike="noStrike">
                <a:solidFill>
                  <a:srgbClr val="ff0000"/>
                </a:solidFill>
                <a:latin typeface="Arial"/>
              </a:rPr>
              <a:t>P53,    Rb,     BRCA-1  and  BRCA-2</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he first tumor suppressor protein discovered was the </a:t>
            </a:r>
            <a:r>
              <a:rPr b="1" i="1" lang="en-US" sz="2000" spc="-1" strike="noStrike">
                <a:solidFill>
                  <a:srgbClr val="000099"/>
                </a:solidFill>
                <a:latin typeface="Arial"/>
              </a:rPr>
              <a:t>pRB protein</a:t>
            </a:r>
            <a:r>
              <a:rPr b="1" lang="en-US" sz="2000" spc="-1" strike="noStrike">
                <a:solidFill>
                  <a:srgbClr val="000099"/>
                </a:solidFill>
                <a:latin typeface="Arial"/>
              </a:rPr>
              <a:t> in human retinoblastoma</a:t>
            </a:r>
            <a:r>
              <a:rPr b="1" lang="en-US" sz="1800" spc="-1" strike="noStrike">
                <a:solidFill>
                  <a:srgbClr val="000000"/>
                </a:solidFill>
                <a:latin typeface="Arial"/>
              </a:rPr>
              <a:t>; however, recent evidence has also implicated pRb as a tumor survival factor. Another important tumor suppressor is the p53 tumor suppressor protein produced by the TP53 gene</a:t>
            </a:r>
            <a:r>
              <a:rPr b="1" lang="en-US" sz="1800" spc="-1" strike="noStrike">
                <a:solidFill>
                  <a:srgbClr val="000000"/>
                </a:solidFill>
                <a:latin typeface="Arial"/>
              </a:rPr>
              <a:t>. </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Families in which there is a high breast cancer frequency have mutations affecting the tumor suppressor gene </a:t>
            </a:r>
            <a:r>
              <a:rPr b="1" lang="en-US" sz="2000" spc="-1" strike="noStrike">
                <a:solidFill>
                  <a:srgbClr val="ff0000"/>
                </a:solidFill>
                <a:latin typeface="Arial"/>
              </a:rPr>
              <a:t>BRCA-1 and BRCA-2</a:t>
            </a:r>
            <a:r>
              <a:rPr b="1" lang="en-US" sz="2000" spc="-1" strike="noStrike">
                <a:solidFill>
                  <a:srgbClr val="ff0000"/>
                </a:solidFill>
                <a:latin typeface="Arial"/>
              </a:rPr>
              <a:t>.</a:t>
            </a:r>
            <a:r>
              <a:rPr b="1" lang="en-GB" sz="2000" spc="-1" strike="noStrike">
                <a:solidFill>
                  <a:srgbClr val="000000"/>
                </a:solidFill>
                <a:latin typeface="Arial"/>
              </a:rPr>
              <a:t> </a:t>
            </a:r>
            <a:endParaRPr b="0" lang="en-US" sz="2000" spc="-1" strike="noStrike">
              <a:solidFill>
                <a:srgbClr val="000000"/>
              </a:solidFill>
              <a:latin typeface="Arial"/>
            </a:endParaRPr>
          </a:p>
        </p:txBody>
      </p:sp>
      <p:sp>
        <p:nvSpPr>
          <p:cNvPr id="265"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04560"/>
            <a:ext cx="82296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ole of p53 gene </a:t>
            </a:r>
            <a:endParaRPr b="0" lang="en-US" sz="4000" spc="-1" strike="noStrike">
              <a:solidFill>
                <a:srgbClr val="000000"/>
              </a:solidFill>
              <a:latin typeface="Arial"/>
            </a:endParaRPr>
          </a:p>
        </p:txBody>
      </p:sp>
      <p:sp>
        <p:nvSpPr>
          <p:cNvPr id="267" name="PlaceHolder 2"/>
          <p:cNvSpPr>
            <a:spLocks noGrp="1"/>
          </p:cNvSpPr>
          <p:nvPr>
            <p:ph/>
          </p:nvPr>
        </p:nvSpPr>
        <p:spPr>
          <a:xfrm>
            <a:off x="457200" y="1142640"/>
            <a:ext cx="8229600" cy="53341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 p53 senses DNA damag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2- Induces G1 arres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 Induces DNA repair proces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4- induces apoptosis in cells with un-repairable DN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5- “P53 is a guardian of the geno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ts homozygous loss leads to accumulation of damaged DNA may result in malignanc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omozygous loss of p53 is seen in virtually every type of cance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ver half of human malignant cells show loss of p53 gene by special tests.</a:t>
            </a:r>
            <a:endParaRPr b="0" lang="en-US" sz="2400" spc="-1" strike="noStrike">
              <a:solidFill>
                <a:srgbClr val="000000"/>
              </a:solidFill>
              <a:latin typeface="Arial"/>
            </a:endParaRPr>
          </a:p>
        </p:txBody>
      </p:sp>
      <p:sp>
        <p:nvSpPr>
          <p:cNvPr id="268"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3" descr=""/>
          <p:cNvPicPr/>
          <p:nvPr/>
        </p:nvPicPr>
        <p:blipFill>
          <a:blip r:embed="rId1"/>
          <a:stretch/>
        </p:blipFill>
        <p:spPr>
          <a:xfrm>
            <a:off x="357120" y="142920"/>
            <a:ext cx="8501040" cy="6500880"/>
          </a:xfrm>
          <a:prstGeom prst="rect">
            <a:avLst/>
          </a:prstGeom>
          <a:ln w="0">
            <a:noFill/>
          </a:ln>
        </p:spPr>
      </p:pic>
      <p:sp>
        <p:nvSpPr>
          <p:cNvPr id="270"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2" name="Picture 1" descr="71AFDAF3"/>
          <p:cNvPicPr/>
          <p:nvPr/>
        </p:nvPicPr>
        <p:blipFill>
          <a:blip r:embed="rId1"/>
          <a:stretch/>
        </p:blipFill>
        <p:spPr>
          <a:xfrm>
            <a:off x="214200" y="142920"/>
            <a:ext cx="8715600" cy="6429240"/>
          </a:xfrm>
          <a:prstGeom prst="rect">
            <a:avLst/>
          </a:prstGeom>
          <a:ln w="0">
            <a:noFill/>
          </a:ln>
        </p:spPr>
      </p:pic>
      <p:sp>
        <p:nvSpPr>
          <p:cNvPr id="273"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228600" y="-360"/>
            <a:ext cx="8763120" cy="6629400"/>
          </a:xfrm>
          <a:prstGeom prst="rect">
            <a:avLst/>
          </a:prstGeom>
          <a:noFill/>
          <a:ln w="0">
            <a:noFill/>
          </a:ln>
        </p:spPr>
        <p:txBody>
          <a:bodyPr anchor="t">
            <a:normAutofit fontScale="99000"/>
          </a:bodyPr>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oto-Oncogenes</a:t>
            </a:r>
            <a:endParaRPr b="0" lang="en-US" sz="3600" spc="-1" strike="noStrike">
              <a:solidFill>
                <a:srgbClr val="000000"/>
              </a:solidFill>
              <a:latin typeface="Arial"/>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 proto-oncogen is a normal gene that can become an</a:t>
            </a:r>
            <a:endParaRPr b="0" lang="en-US" sz="24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cogene, either after mutation or increased expression.</a:t>
            </a:r>
            <a:endParaRPr b="0" lang="en-US" sz="24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Proto-oncogenes code for proteins that help to regulate</a:t>
            </a:r>
            <a:endParaRPr b="0" lang="en-US" sz="24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ell growth and differentiation.</a:t>
            </a:r>
            <a:endParaRPr b="0" lang="en-US" sz="24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o-oncogenes are often involved in signal transduction</a:t>
            </a:r>
            <a:endParaRPr b="0" lang="en-US" sz="24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execution of mitogenic signals, usually through their</a:t>
            </a:r>
            <a:endParaRPr b="0" lang="en-US" sz="24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tein products. </a:t>
            </a:r>
            <a:endParaRPr b="0" lang="en-US" sz="24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Upon </a:t>
            </a:r>
            <a:r>
              <a:rPr b="1" i="1" lang="en-US" sz="2800" spc="-1" strike="noStrike">
                <a:solidFill>
                  <a:srgbClr val="000099"/>
                </a:solidFill>
                <a:latin typeface="Arial"/>
              </a:rPr>
              <a:t>activation</a:t>
            </a:r>
            <a:r>
              <a:rPr b="1" lang="en-US" sz="2800" spc="-1" strike="noStrike">
                <a:solidFill>
                  <a:srgbClr val="000099"/>
                </a:solidFill>
                <a:latin typeface="Arial"/>
              </a:rPr>
              <a:t>, a proto-oncogene (or its product) becomes a tumor inducing agent, an oncogene.</a:t>
            </a:r>
            <a:endParaRPr b="0" lang="en-US" sz="2800" spc="-1" strike="noStrike">
              <a:solidFill>
                <a:srgbClr val="000000"/>
              </a:solidFill>
              <a:latin typeface="Arial"/>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228600"/>
            <a:ext cx="77724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MYC</a:t>
            </a:r>
            <a:br>
              <a:rPr sz="4400"/>
            </a:br>
            <a:endParaRPr b="0" lang="en-US" sz="4400" spc="-1" strike="noStrike">
              <a:solidFill>
                <a:srgbClr val="000000"/>
              </a:solidFill>
              <a:latin typeface="Arial"/>
            </a:endParaRPr>
          </a:p>
        </p:txBody>
      </p:sp>
      <p:sp>
        <p:nvSpPr>
          <p:cNvPr id="277" name="PlaceHolder 2"/>
          <p:cNvSpPr>
            <a:spLocks noGrp="1"/>
          </p:cNvSpPr>
          <p:nvPr>
            <p:ph type="subTitle"/>
          </p:nvPr>
        </p:nvSpPr>
        <p:spPr>
          <a:xfrm>
            <a:off x="228600" y="1447920"/>
            <a:ext cx="8229600" cy="5410080"/>
          </a:xfrm>
          <a:prstGeom prst="rect">
            <a:avLst/>
          </a:prstGeom>
          <a:noFill/>
          <a:ln w="0">
            <a:noFill/>
          </a:ln>
        </p:spPr>
        <p:txBody>
          <a:bodyPr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YC is a major transcription factor that encodes nuclear DNA binding proteins that regulate cell growth, transformation, angiogenesis, cell-cycle control and apoptosis . </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could explain the aggressiveness and poor prognosis associated with tumours over expressing  C-MYC proteins. </a:t>
            </a:r>
            <a:endParaRPr b="0" lang="en-US" sz="2000" spc="-1" strike="noStrike">
              <a:solidFill>
                <a:srgbClr val="000000"/>
              </a:solidFill>
              <a:latin typeface="Arial"/>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ubTitle"/>
          </p:nvPr>
        </p:nvSpPr>
        <p:spPr>
          <a:xfrm>
            <a:off x="228240" y="0"/>
            <a:ext cx="8458200" cy="6477120"/>
          </a:xfrm>
          <a:prstGeom prst="rect">
            <a:avLst/>
          </a:prstGeom>
          <a:noFill/>
          <a:ln w="0">
            <a:noFill/>
          </a:ln>
        </p:spPr>
        <p:txBody>
          <a:bodyPr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HER-1</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HER1 gene, codes for epidermal growth factor receptor (EGFR), which has extracellular ligand binding domain and cytoplasmic domain with high tyrosine kinase activity.</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plays an important role in cell proliferation, migration and protection against apoptosis. </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or prognosis of breast tumors over expressing HER1 has been reported.</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t is well documented that HER1 protein is targeted by inhibiting its extracellular legend binding domain using monoclonal antibodies and/or its tyrosine kinase activity in cytoplasmic domain by tyrosine kinase inhibitors (TKIs). </a:t>
            </a:r>
            <a:endParaRPr b="0" lang="en-US" sz="20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76320"/>
            <a:ext cx="77724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R2/neu</a:t>
            </a:r>
            <a:r>
              <a:rPr b="1" lang="en-US" sz="4400" spc="-1" strike="noStrike">
                <a:solidFill>
                  <a:srgbClr val="ff0000"/>
                </a:solidFill>
                <a:latin typeface="Arial"/>
              </a:rPr>
              <a:t>.</a:t>
            </a:r>
            <a:endParaRPr b="0" lang="en-US" sz="4400" spc="-1" strike="noStrike">
              <a:solidFill>
                <a:srgbClr val="000000"/>
              </a:solidFill>
              <a:latin typeface="Arial"/>
            </a:endParaRPr>
          </a:p>
        </p:txBody>
      </p:sp>
      <p:sp>
        <p:nvSpPr>
          <p:cNvPr id="282" name="PlaceHolder 2"/>
          <p:cNvSpPr>
            <a:spLocks noGrp="1"/>
          </p:cNvSpPr>
          <p:nvPr>
            <p:ph type="subTitle"/>
          </p:nvPr>
        </p:nvSpPr>
        <p:spPr>
          <a:xfrm>
            <a:off x="304920" y="1295280"/>
            <a:ext cx="8610480" cy="502920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ER2/neu gene, codes for the human epidermal growth factor receptor 2 (HER2), </a:t>
            </a:r>
            <a:r>
              <a:rPr b="1" lang="en-US" sz="2400" spc="-1" strike="noStrike">
                <a:solidFill>
                  <a:srgbClr val="000000"/>
                </a:solidFill>
                <a:latin typeface="Arial"/>
              </a:rPr>
              <a:t>which has extracellular ligand binding domain and cytoplasmic domain with high tyrosine kinase activity. It plays an important role in cell proliferation, migration and protection against apoptosis.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ER2 is overexpressed by many adenocarcinomas, particularly breast</a:t>
            </a:r>
            <a:r>
              <a:rPr b="0" lang="en-US" sz="2400" spc="-1" strike="noStrike">
                <a:solidFill>
                  <a:srgbClr val="000099"/>
                </a:solidFill>
                <a:latin typeface="Arial"/>
              </a:rPr>
              <a:t> </a:t>
            </a:r>
            <a:r>
              <a:rPr b="1" lang="en-US" sz="2400" spc="-1" strike="noStrike">
                <a:solidFill>
                  <a:srgbClr val="000099"/>
                </a:solidFill>
                <a:latin typeface="Arial"/>
              </a:rPr>
              <a:t>adenocarcinomas.</a:t>
            </a:r>
            <a:r>
              <a:rPr b="0" lang="en-GB" sz="2400" spc="-1" strike="noStrike">
                <a:solidFill>
                  <a:srgbClr val="000099"/>
                </a:solidFill>
                <a:latin typeface="Arial"/>
              </a:rPr>
              <a:t> </a:t>
            </a:r>
            <a:r>
              <a:rPr b="1" lang="en-US" sz="2400" spc="-1" strike="noStrike">
                <a:solidFill>
                  <a:srgbClr val="000099"/>
                </a:solidFill>
                <a:latin typeface="Arial"/>
              </a:rPr>
              <a:t>Trastuzumab is a monoclonal antibody and must only be administered </a:t>
            </a:r>
            <a:r>
              <a:rPr b="1" lang="en-US" sz="2400" spc="-1" strike="noStrike" u="sng">
                <a:solidFill>
                  <a:srgbClr val="ff0000"/>
                </a:solidFill>
                <a:uFillTx/>
                <a:latin typeface="Arial"/>
              </a:rPr>
              <a:t>to female HER-2-positive patients</a:t>
            </a:r>
            <a:r>
              <a:rPr b="1" lang="en-US" sz="2400" spc="-1" strike="noStrike">
                <a:solidFill>
                  <a:srgbClr val="ff0000"/>
                </a:solidFill>
                <a:latin typeface="Arial"/>
              </a:rPr>
              <a:t>,</a:t>
            </a:r>
            <a:r>
              <a:rPr b="1" lang="en-US" sz="2400" spc="-1" strike="noStrike">
                <a:solidFill>
                  <a:srgbClr val="000099"/>
                </a:solidFill>
                <a:latin typeface="Arial"/>
              </a:rPr>
              <a:t> i.e., in whom the tumours overexpress the HER-2 protein or amplify the HER-2 gene. </a:t>
            </a: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endParaRPr b="0" lang="en-US" sz="2000" spc="-1" strike="noStrike">
              <a:solidFill>
                <a:srgbClr val="000000"/>
              </a:solidFill>
              <a:latin typeface="Arial"/>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Cell cycle</a:t>
            </a:r>
            <a:endParaRPr b="0" lang="en-US" sz="4400" spc="-1" strike="noStrike">
              <a:solidFill>
                <a:srgbClr val="000000"/>
              </a:solidFill>
              <a:latin typeface="Arial"/>
            </a:endParaRPr>
          </a:p>
        </p:txBody>
      </p:sp>
      <p:pic>
        <p:nvPicPr>
          <p:cNvPr id="285" name="Picture 4" descr="cellcycle"/>
          <p:cNvPicPr/>
          <p:nvPr/>
        </p:nvPicPr>
        <p:blipFill>
          <a:blip r:embed="rId1"/>
          <a:stretch/>
        </p:blipFill>
        <p:spPr>
          <a:xfrm>
            <a:off x="2041560" y="1798560"/>
            <a:ext cx="5060880" cy="4525920"/>
          </a:xfrm>
          <a:prstGeom prst="rect">
            <a:avLst/>
          </a:prstGeom>
          <a:ln w="0">
            <a:noFill/>
          </a:ln>
        </p:spPr>
      </p:pic>
      <p:sp>
        <p:nvSpPr>
          <p:cNvPr id="286"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2" descr="79709414"/>
          <p:cNvPicPr/>
          <p:nvPr/>
        </p:nvPicPr>
        <p:blipFill>
          <a:blip r:embed="rId1"/>
          <a:stretch/>
        </p:blipFill>
        <p:spPr>
          <a:xfrm>
            <a:off x="642960" y="214200"/>
            <a:ext cx="8215200" cy="6072480"/>
          </a:xfrm>
          <a:prstGeom prst="rect">
            <a:avLst/>
          </a:prstGeom>
          <a:ln w="0">
            <a:noFill/>
          </a:ln>
        </p:spPr>
      </p:pic>
      <p:sp>
        <p:nvSpPr>
          <p:cNvPr id="288"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04560"/>
            <a:ext cx="8229600" cy="639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HEMATOLOGIC TUMOURS</a:t>
            </a:r>
            <a:endParaRPr b="0" lang="en-US" sz="4000" spc="-1" strike="noStrike">
              <a:solidFill>
                <a:srgbClr val="000000"/>
              </a:solidFill>
              <a:latin typeface="Arial"/>
            </a:endParaRPr>
          </a:p>
        </p:txBody>
      </p:sp>
      <p:sp>
        <p:nvSpPr>
          <p:cNvPr id="54" name="PlaceHolder 2"/>
          <p:cNvSpPr>
            <a:spLocks noGrp="1"/>
          </p:cNvSpPr>
          <p:nvPr>
            <p:ph/>
          </p:nvPr>
        </p:nvSpPr>
        <p:spPr>
          <a:xfrm>
            <a:off x="457200" y="1371240"/>
            <a:ext cx="8229600" cy="5715000"/>
          </a:xfrm>
          <a:prstGeom prst="rect">
            <a:avLst/>
          </a:prstGeom>
          <a:noFill/>
          <a:ln w="0">
            <a:noFill/>
          </a:ln>
        </p:spPr>
        <p:txBody>
          <a:bodyPr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Acute lymphoblastic leukemia (AL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Acute myeloid leukemia (AM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Chronic lymphocytic leukemia (CL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Chronic myeloid leukemia (CM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Hairy cell leukemia (HC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Hodgkin’s lymphoma (H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Non-Hodgkin’s lymphoma (NH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2" descr="http://image.slidesharecdn.com/cancerchemotherapy-131021122836-phpapp02/95/slide-4-638.jpg?1382377759"/>
          <p:cNvPicPr/>
          <p:nvPr/>
        </p:nvPicPr>
        <p:blipFill>
          <a:blip r:embed="rId1"/>
          <a:stretch/>
        </p:blipFill>
        <p:spPr>
          <a:xfrm>
            <a:off x="476280" y="228600"/>
            <a:ext cx="8210520" cy="6400800"/>
          </a:xfrm>
          <a:prstGeom prst="rect">
            <a:avLst/>
          </a:prstGeom>
          <a:ln w="0">
            <a:noFill/>
          </a:ln>
        </p:spPr>
      </p:pic>
      <p:sp>
        <p:nvSpPr>
          <p:cNvPr id="290"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http://image.slidesharecdn.com/cancerchemotherapy-131021122836-phpapp02/95/slide-5-638.jpg?1382377759"/>
          <p:cNvPicPr/>
          <p:nvPr/>
        </p:nvPicPr>
        <p:blipFill>
          <a:blip r:embed="rId1"/>
          <a:stretch/>
        </p:blipFill>
        <p:spPr>
          <a:xfrm>
            <a:off x="33480" y="228600"/>
            <a:ext cx="8805600" cy="6248520"/>
          </a:xfrm>
          <a:prstGeom prst="rect">
            <a:avLst/>
          </a:prstGeom>
          <a:ln w="0">
            <a:noFill/>
          </a:ln>
        </p:spPr>
      </p:pic>
      <p:sp>
        <p:nvSpPr>
          <p:cNvPr id="292"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04560"/>
            <a:ext cx="8229600" cy="487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CANCER</a:t>
            </a:r>
            <a:endParaRPr b="0" lang="en-US" sz="4000" spc="-1" strike="noStrike">
              <a:solidFill>
                <a:srgbClr val="000000"/>
              </a:solidFill>
              <a:latin typeface="Arial"/>
            </a:endParaRPr>
          </a:p>
        </p:txBody>
      </p:sp>
      <p:sp>
        <p:nvSpPr>
          <p:cNvPr id="57" name="PlaceHolder 2"/>
          <p:cNvSpPr>
            <a:spLocks noGrp="1"/>
          </p:cNvSpPr>
          <p:nvPr>
            <p:ph/>
          </p:nvPr>
        </p:nvSpPr>
        <p:spPr>
          <a:xfrm>
            <a:off x="457200" y="914040"/>
            <a:ext cx="8229600" cy="5715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CANCER is the uncontrolled growth of cells due to damage to DNA (mutations).</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 division (</a:t>
            </a:r>
            <a:r>
              <a:rPr b="0" i="1" lang="en-US" sz="2000" spc="-1" strike="noStrike">
                <a:solidFill>
                  <a:srgbClr val="000000"/>
                </a:solidFill>
                <a:latin typeface="Arial"/>
              </a:rPr>
              <a:t>proliferation</a:t>
            </a:r>
            <a:r>
              <a:rPr b="0" lang="en-US" sz="2000" spc="-1" strike="noStrike">
                <a:solidFill>
                  <a:srgbClr val="000000"/>
                </a:solidFill>
                <a:latin typeface="Arial"/>
              </a:rPr>
              <a:t>) is a physiological process that occurs in almost all tissues and under many circumstances. </a:t>
            </a:r>
            <a:r>
              <a:rPr b="1" lang="en-US" sz="2000" spc="-1" strike="noStrike">
                <a:solidFill>
                  <a:srgbClr val="0033cc"/>
                </a:solidFill>
                <a:latin typeface="Arial"/>
              </a:rPr>
              <a:t>Normally homeostasis, the balance between</a:t>
            </a:r>
            <a:r>
              <a:rPr b="1" lang="en-US" sz="2000" spc="-1" strike="noStrike">
                <a:solidFill>
                  <a:srgbClr val="000000"/>
                </a:solidFill>
                <a:latin typeface="Arial"/>
              </a:rPr>
              <a:t> </a:t>
            </a:r>
            <a:r>
              <a:rPr b="1" lang="en-US" sz="2000" spc="-1" strike="noStrike">
                <a:solidFill>
                  <a:srgbClr val="ff0000"/>
                </a:solidFill>
                <a:latin typeface="Arial"/>
              </a:rPr>
              <a:t>proliferation</a:t>
            </a:r>
            <a:r>
              <a:rPr b="1" lang="en-US" sz="2000" spc="-1" strike="noStrike">
                <a:solidFill>
                  <a:srgbClr val="000000"/>
                </a:solidFill>
                <a:latin typeface="Arial"/>
              </a:rPr>
              <a:t> and programmed cell death (</a:t>
            </a:r>
            <a:r>
              <a:rPr b="1" lang="en-US" sz="2000" spc="-1" strike="noStrike">
                <a:solidFill>
                  <a:srgbClr val="ff0000"/>
                </a:solidFill>
                <a:latin typeface="Arial"/>
              </a:rPr>
              <a:t>apoptosis</a:t>
            </a:r>
            <a:r>
              <a:rPr b="0" lang="en-US" sz="2000" spc="-1" strike="noStrike">
                <a:solidFill>
                  <a:srgbClr val="0033cc"/>
                </a:solidFill>
                <a:latin typeface="Arial"/>
              </a:rPr>
              <a:t>)</a:t>
            </a:r>
            <a:r>
              <a:rPr b="0" lang="en-US" sz="2000" spc="-1" strike="noStrike">
                <a:solidFill>
                  <a:srgbClr val="000000"/>
                </a:solidFill>
                <a:latin typeface="Arial"/>
              </a:rPr>
              <a:t> is maintained by tightly regulating both processes to ensure the integrity of organs and tissues.</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gn="just">
              <a:lnSpc>
                <a:spcPct val="90000"/>
              </a:lnSpc>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Mutations in DNA</a:t>
            </a:r>
            <a:r>
              <a:rPr b="0" lang="en-US" sz="2000" spc="-1" strike="noStrike">
                <a:solidFill>
                  <a:srgbClr val="000000"/>
                </a:solidFill>
                <a:latin typeface="Arial"/>
              </a:rPr>
              <a:t> that </a:t>
            </a:r>
            <a:r>
              <a:rPr b="0" lang="en-US" sz="2000" spc="-1" strike="noStrike">
                <a:solidFill>
                  <a:srgbClr val="0033cc"/>
                </a:solidFill>
                <a:latin typeface="Arial"/>
              </a:rPr>
              <a:t>lead to cancer</a:t>
            </a:r>
            <a:r>
              <a:rPr b="0" lang="en-US" sz="2000" spc="-1" strike="noStrike">
                <a:solidFill>
                  <a:srgbClr val="000000"/>
                </a:solidFill>
                <a:latin typeface="Arial"/>
              </a:rPr>
              <a:t> disrupt these orderly processes by disrupting the programming regulating the processes. </a:t>
            </a:r>
            <a:r>
              <a:rPr b="1" lang="en-US" sz="2000" spc="-1" strike="noStrike">
                <a:solidFill>
                  <a:srgbClr val="000099"/>
                </a:solidFill>
                <a:latin typeface="Arial"/>
              </a:rPr>
              <a:t>In fact, a series of several mutations to certain classes of genes is usually required before a normal cell will transform into a cancer cell.</a:t>
            </a:r>
            <a:r>
              <a:rPr b="0" lang="en-US" sz="2000" spc="-1" strike="noStrike">
                <a:solidFill>
                  <a:srgbClr val="000000"/>
                </a:solidFill>
                <a:latin typeface="Arial"/>
              </a:rPr>
              <a:t> </a:t>
            </a:r>
            <a:r>
              <a:rPr b="1" lang="en-US" sz="2000" spc="-1" strike="noStrike">
                <a:solidFill>
                  <a:srgbClr val="ff0000"/>
                </a:solidFill>
                <a:latin typeface="Arial"/>
              </a:rPr>
              <a:t>Only mutations in those certain types of genes which play vital roles in </a:t>
            </a:r>
            <a:r>
              <a:rPr b="1" lang="en-US" sz="2000" spc="-1" strike="noStrike">
                <a:solidFill>
                  <a:srgbClr val="000099"/>
                </a:solidFill>
                <a:latin typeface="Arial"/>
              </a:rPr>
              <a:t>cell division</a:t>
            </a:r>
            <a:r>
              <a:rPr b="1" lang="en-US" sz="2000" spc="-1" strike="noStrike">
                <a:solidFill>
                  <a:srgbClr val="ff0000"/>
                </a:solidFill>
                <a:latin typeface="Arial"/>
              </a:rPr>
              <a:t>, </a:t>
            </a:r>
            <a:r>
              <a:rPr b="1" lang="en-US" sz="2000" spc="-1" strike="noStrike">
                <a:solidFill>
                  <a:srgbClr val="ff9900"/>
                </a:solidFill>
                <a:latin typeface="Arial"/>
              </a:rPr>
              <a:t>cell death</a:t>
            </a:r>
            <a:r>
              <a:rPr b="1" lang="en-US" sz="2000" spc="-1" strike="noStrike">
                <a:solidFill>
                  <a:srgbClr val="ff0000"/>
                </a:solidFill>
                <a:latin typeface="Arial"/>
              </a:rPr>
              <a:t>, and DNA repair </a:t>
            </a:r>
            <a:r>
              <a:rPr b="1" lang="en-US" sz="2000" spc="-1" strike="noStrike">
                <a:solidFill>
                  <a:srgbClr val="ff9900"/>
                </a:solidFill>
                <a:latin typeface="Arial"/>
              </a:rPr>
              <a:t>will cause a cell to lose control of its proliferation.</a:t>
            </a:r>
            <a:endParaRPr b="0" lang="en-US" sz="2000" spc="-1" strike="noStrike">
              <a:solidFill>
                <a:srgbClr val="000000"/>
              </a:solidFill>
              <a:latin typeface="Arial"/>
            </a:endParaRPr>
          </a:p>
        </p:txBody>
      </p:sp>
      <p:sp>
        <p:nvSpPr>
          <p:cNvPr id="58"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456840" y="228240"/>
            <a:ext cx="8534520" cy="609588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Characteristics of Cancer Cell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They are </a:t>
            </a:r>
            <a:r>
              <a:rPr b="0" lang="en-US" sz="2000" spc="-1" strike="noStrike">
                <a:solidFill>
                  <a:srgbClr val="ff0000"/>
                </a:solidFill>
                <a:latin typeface="Arial"/>
              </a:rPr>
              <a:t>resistant to apoptosis ("programmed" cell death</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hey have an </a:t>
            </a:r>
            <a:r>
              <a:rPr b="0" lang="en-US" sz="2000" spc="-1" strike="noStrike">
                <a:solidFill>
                  <a:srgbClr val="ff0000"/>
                </a:solidFill>
                <a:latin typeface="Arial"/>
              </a:rPr>
              <a:t>uncontrolled ability to divide</a:t>
            </a:r>
            <a:r>
              <a:rPr b="0" lang="en-US" sz="2000" spc="-1" strike="noStrike">
                <a:solidFill>
                  <a:srgbClr val="000000"/>
                </a:solidFill>
                <a:latin typeface="Arial"/>
              </a:rPr>
              <a:t> (or, they are immorta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they often divide at an increased rat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These cells are </a:t>
            </a:r>
            <a:r>
              <a:rPr b="0" lang="en-US" sz="2000" spc="-1" strike="noStrike">
                <a:solidFill>
                  <a:srgbClr val="ff0000"/>
                </a:solidFill>
                <a:latin typeface="Arial"/>
              </a:rPr>
              <a:t>self-sufficient with respect to growth factor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They are </a:t>
            </a:r>
            <a:r>
              <a:rPr b="0" lang="en-US" sz="2000" spc="-1" strike="noStrike">
                <a:solidFill>
                  <a:srgbClr val="ff0000"/>
                </a:solidFill>
                <a:latin typeface="Arial"/>
              </a:rPr>
              <a:t>insensitive to antigrowth factor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hey </a:t>
            </a:r>
            <a:r>
              <a:rPr b="1" lang="en-US" sz="2000" spc="-1" strike="noStrike">
                <a:solidFill>
                  <a:srgbClr val="ff0000"/>
                </a:solidFill>
                <a:latin typeface="Arial"/>
              </a:rPr>
              <a:t>have the ability to invade neighboring tissues</a:t>
            </a:r>
            <a:r>
              <a:rPr b="0" lang="en-US" sz="2000" spc="-1" strike="noStrike">
                <a:solidFill>
                  <a:srgbClr val="000000"/>
                </a:solidFill>
                <a:latin typeface="Arial"/>
              </a:rPr>
              <a:t>, usually throug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secretion of metalloproteinases that can digest extracellula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trix material. They can form new tumors </a:t>
            </a:r>
            <a:r>
              <a:rPr b="1" lang="en-US" sz="2000" spc="-1" strike="noStrike">
                <a:solidFill>
                  <a:srgbClr val="000000"/>
                </a:solidFill>
                <a:latin typeface="Arial"/>
              </a:rPr>
              <a:t>(</a:t>
            </a:r>
            <a:r>
              <a:rPr b="1" lang="en-US" sz="2000" spc="-1" strike="noStrike">
                <a:solidFill>
                  <a:srgbClr val="ff0000"/>
                </a:solidFill>
                <a:latin typeface="Arial"/>
              </a:rPr>
              <a:t>metastases</a:t>
            </a:r>
            <a:r>
              <a:rPr b="1" lang="en-US" sz="2000" spc="-1" strike="noStrike">
                <a:solidFill>
                  <a:srgbClr val="000000"/>
                </a:solidFill>
                <a:latin typeface="Arial"/>
              </a:rPr>
              <a:t>)</a:t>
            </a:r>
            <a:r>
              <a:rPr b="0" lang="en-US" sz="2000" spc="-1" strike="noStrike">
                <a:solidFill>
                  <a:srgbClr val="000000"/>
                </a:solidFill>
                <a:latin typeface="Arial"/>
              </a:rPr>
              <a:t> at distan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t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They </a:t>
            </a:r>
            <a:r>
              <a:rPr b="0" lang="en-US" sz="2000" spc="-1" strike="noStrike">
                <a:solidFill>
                  <a:srgbClr val="000099"/>
                </a:solidFill>
                <a:latin typeface="Arial"/>
              </a:rPr>
              <a:t>secrete chemical signals that stimulate the growth of new</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0" lang="en-US" sz="2000" spc="-1" strike="noStrike">
                <a:solidFill>
                  <a:srgbClr val="000099"/>
                </a:solidFill>
                <a:latin typeface="Arial"/>
              </a:rPr>
              <a:t>blood vessels</a:t>
            </a:r>
            <a:r>
              <a:rPr b="0" lang="en-US" sz="2000" spc="-1" strike="noStrike">
                <a:solidFill>
                  <a:srgbClr val="000000"/>
                </a:solidFill>
                <a:latin typeface="Arial"/>
              </a:rPr>
              <a:t> (</a:t>
            </a:r>
            <a:r>
              <a:rPr b="1" lang="en-US" sz="2000" spc="-1" strike="noStrike">
                <a:solidFill>
                  <a:srgbClr val="ff0000"/>
                </a:solidFill>
                <a:latin typeface="Arial"/>
              </a:rPr>
              <a:t>angiogenesi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0"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NORMAL CELL</a:t>
            </a:r>
            <a:endParaRPr b="0" lang="en-US" sz="4000" spc="-1" strike="noStrike">
              <a:solidFill>
                <a:srgbClr val="000000"/>
              </a:solidFill>
              <a:latin typeface="Arial"/>
            </a:endParaRPr>
          </a:p>
        </p:txBody>
      </p:sp>
      <p:sp>
        <p:nvSpPr>
          <p:cNvPr id="62" name="Oval 5"/>
          <p:cNvSpPr/>
          <p:nvPr/>
        </p:nvSpPr>
        <p:spPr>
          <a:xfrm>
            <a:off x="2971800" y="2057400"/>
            <a:ext cx="2575080" cy="42670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6"/>
          <p:cNvSpPr/>
          <p:nvPr/>
        </p:nvSpPr>
        <p:spPr>
          <a:xfrm rot="10727400">
            <a:off x="4063680" y="1904760"/>
            <a:ext cx="474480" cy="53316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Line 7"/>
          <p:cNvSpPr/>
          <p:nvPr/>
        </p:nvSpPr>
        <p:spPr>
          <a:xfrm>
            <a:off x="3995640" y="1905120"/>
            <a:ext cx="271440" cy="60948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8"/>
          <p:cNvSpPr/>
          <p:nvPr/>
        </p:nvSpPr>
        <p:spPr>
          <a:xfrm flipH="1">
            <a:off x="4335480" y="1981080"/>
            <a:ext cx="270000" cy="53352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Oval 9"/>
          <p:cNvSpPr/>
          <p:nvPr/>
        </p:nvSpPr>
        <p:spPr>
          <a:xfrm>
            <a:off x="3924360" y="4411800"/>
            <a:ext cx="744480" cy="9903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10"/>
          <p:cNvSpPr/>
          <p:nvPr/>
        </p:nvSpPr>
        <p:spPr>
          <a:xfrm>
            <a:off x="5232960" y="1538280"/>
            <a:ext cx="3708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Growth fact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Growth factor receptor</a:t>
            </a:r>
            <a:endParaRPr b="0" lang="en-US" sz="2400" spc="-1" strike="noStrike">
              <a:solidFill>
                <a:srgbClr val="000000"/>
              </a:solidFill>
              <a:latin typeface="Arial"/>
            </a:endParaRPr>
          </a:p>
        </p:txBody>
      </p:sp>
      <p:sp>
        <p:nvSpPr>
          <p:cNvPr id="68" name="Line 11"/>
          <p:cNvSpPr/>
          <p:nvPr/>
        </p:nvSpPr>
        <p:spPr>
          <a:xfrm flipH="1">
            <a:off x="4335120" y="1752480"/>
            <a:ext cx="1082520" cy="15264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2"/>
          <p:cNvSpPr/>
          <p:nvPr/>
        </p:nvSpPr>
        <p:spPr>
          <a:xfrm flipH="1">
            <a:off x="4538160" y="2133720"/>
            <a:ext cx="87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AutoShape 13"/>
          <p:cNvSpPr/>
          <p:nvPr/>
        </p:nvSpPr>
        <p:spPr>
          <a:xfrm>
            <a:off x="4199040" y="2743200"/>
            <a:ext cx="203040" cy="1371600"/>
          </a:xfrm>
          <a:prstGeom prst="downArrow">
            <a:avLst>
              <a:gd name="adj1" fmla="val 50000"/>
              <a:gd name="adj2" fmla="val 16888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14"/>
          <p:cNvSpPr/>
          <p:nvPr/>
        </p:nvSpPr>
        <p:spPr>
          <a:xfrm>
            <a:off x="3995640" y="4952880"/>
            <a:ext cx="550800" cy="304920"/>
          </a:xfrm>
          <a:custGeom>
            <a:avLst/>
            <a:gdLst>
              <a:gd name="textAreaLeft" fmla="*/ 0 w 550800"/>
              <a:gd name="textAreaRight" fmla="*/ 551160 w 550800"/>
              <a:gd name="textAreaTop" fmla="*/ 0 h 304920"/>
              <a:gd name="textAreaBottom" fmla="*/ 305280 h 304920"/>
            </a:gdLst>
            <a:ahLst/>
            <a:rect l="textAreaLeft" t="textAreaTop" r="textAreaRight" b="textAreaBottom"/>
            <a:pathLst>
              <a:path w="1594" h="859">
                <a:moveTo>
                  <a:pt x="3" y="199"/>
                </a:moveTo>
                <a:cubicBezTo>
                  <a:pt x="64" y="97"/>
                  <a:pt x="0" y="194"/>
                  <a:pt x="76" y="105"/>
                </a:cubicBezTo>
                <a:cubicBezTo>
                  <a:pt x="97" y="80"/>
                  <a:pt x="103" y="43"/>
                  <a:pt x="128" y="21"/>
                </a:cubicBezTo>
                <a:cubicBezTo>
                  <a:pt x="142" y="9"/>
                  <a:pt x="163" y="7"/>
                  <a:pt x="181" y="0"/>
                </a:cubicBezTo>
                <a:cubicBezTo>
                  <a:pt x="216" y="3"/>
                  <a:pt x="251" y="5"/>
                  <a:pt x="285" y="10"/>
                </a:cubicBezTo>
                <a:cubicBezTo>
                  <a:pt x="296" y="12"/>
                  <a:pt x="310" y="12"/>
                  <a:pt x="317" y="21"/>
                </a:cubicBezTo>
                <a:cubicBezTo>
                  <a:pt x="326" y="32"/>
                  <a:pt x="321" y="50"/>
                  <a:pt x="327" y="63"/>
                </a:cubicBezTo>
                <a:cubicBezTo>
                  <a:pt x="332" y="74"/>
                  <a:pt x="342" y="83"/>
                  <a:pt x="348" y="94"/>
                </a:cubicBezTo>
                <a:cubicBezTo>
                  <a:pt x="353" y="104"/>
                  <a:pt x="355" y="115"/>
                  <a:pt x="359" y="126"/>
                </a:cubicBezTo>
                <a:cubicBezTo>
                  <a:pt x="356" y="171"/>
                  <a:pt x="329" y="409"/>
                  <a:pt x="369" y="450"/>
                </a:cubicBezTo>
                <a:cubicBezTo>
                  <a:pt x="371" y="453"/>
                  <a:pt x="429" y="470"/>
                  <a:pt x="432" y="471"/>
                </a:cubicBezTo>
                <a:cubicBezTo>
                  <a:pt x="485" y="461"/>
                  <a:pt x="507" y="464"/>
                  <a:pt x="537" y="419"/>
                </a:cubicBezTo>
                <a:cubicBezTo>
                  <a:pt x="557" y="354"/>
                  <a:pt x="563" y="288"/>
                  <a:pt x="599" y="230"/>
                </a:cubicBezTo>
                <a:cubicBezTo>
                  <a:pt x="631" y="234"/>
                  <a:pt x="666" y="226"/>
                  <a:pt x="694" y="241"/>
                </a:cubicBezTo>
                <a:cubicBezTo>
                  <a:pt x="716" y="253"/>
                  <a:pt x="736" y="304"/>
                  <a:pt x="736" y="304"/>
                </a:cubicBezTo>
                <a:cubicBezTo>
                  <a:pt x="795" y="486"/>
                  <a:pt x="643" y="632"/>
                  <a:pt x="840" y="670"/>
                </a:cubicBezTo>
                <a:cubicBezTo>
                  <a:pt x="921" y="659"/>
                  <a:pt x="930" y="660"/>
                  <a:pt x="976" y="597"/>
                </a:cubicBezTo>
                <a:cubicBezTo>
                  <a:pt x="987" y="546"/>
                  <a:pt x="1001" y="514"/>
                  <a:pt x="1029" y="471"/>
                </a:cubicBezTo>
                <a:cubicBezTo>
                  <a:pt x="1029" y="470"/>
                  <a:pt x="1038" y="389"/>
                  <a:pt x="1071" y="408"/>
                </a:cubicBezTo>
                <a:cubicBezTo>
                  <a:pt x="1093" y="420"/>
                  <a:pt x="1099" y="450"/>
                  <a:pt x="1113" y="471"/>
                </a:cubicBezTo>
                <a:cubicBezTo>
                  <a:pt x="1120" y="482"/>
                  <a:pt x="1134" y="503"/>
                  <a:pt x="1134" y="503"/>
                </a:cubicBezTo>
                <a:cubicBezTo>
                  <a:pt x="1168" y="609"/>
                  <a:pt x="1075" y="784"/>
                  <a:pt x="1186" y="859"/>
                </a:cubicBezTo>
                <a:cubicBezTo>
                  <a:pt x="1224" y="855"/>
                  <a:pt x="1264" y="859"/>
                  <a:pt x="1301" y="848"/>
                </a:cubicBezTo>
                <a:cubicBezTo>
                  <a:pt x="1325" y="841"/>
                  <a:pt x="1364" y="806"/>
                  <a:pt x="1364" y="806"/>
                </a:cubicBezTo>
                <a:cubicBezTo>
                  <a:pt x="1406" y="743"/>
                  <a:pt x="1449" y="719"/>
                  <a:pt x="1521" y="702"/>
                </a:cubicBezTo>
                <a:cubicBezTo>
                  <a:pt x="1580" y="713"/>
                  <a:pt x="1555" y="712"/>
                  <a:pt x="1594" y="71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15"/>
          <p:cNvSpPr/>
          <p:nvPr/>
        </p:nvSpPr>
        <p:spPr>
          <a:xfrm>
            <a:off x="3995640" y="5022720"/>
            <a:ext cx="471600" cy="311400"/>
          </a:xfrm>
          <a:custGeom>
            <a:avLst/>
            <a:gdLst>
              <a:gd name="textAreaLeft" fmla="*/ 0 w 471600"/>
              <a:gd name="textAreaRight" fmla="*/ 471960 w 471600"/>
              <a:gd name="textAreaTop" fmla="*/ 0 h 311400"/>
              <a:gd name="textAreaBottom" fmla="*/ 311760 h 311400"/>
            </a:gdLst>
            <a:ahLst/>
            <a:rect l="textAreaLeft" t="textAreaTop" r="textAreaRight" b="textAreaBottom"/>
            <a:pathLst>
              <a:path w="1367" h="879">
                <a:moveTo>
                  <a:pt x="1362" y="680"/>
                </a:moveTo>
                <a:cubicBezTo>
                  <a:pt x="1359" y="705"/>
                  <a:pt x="1367" y="734"/>
                  <a:pt x="1352" y="754"/>
                </a:cubicBezTo>
                <a:cubicBezTo>
                  <a:pt x="1344" y="764"/>
                  <a:pt x="1341" y="730"/>
                  <a:pt x="1331" y="722"/>
                </a:cubicBezTo>
                <a:cubicBezTo>
                  <a:pt x="1310" y="705"/>
                  <a:pt x="1251" y="697"/>
                  <a:pt x="1226" y="691"/>
                </a:cubicBezTo>
                <a:cubicBezTo>
                  <a:pt x="1184" y="694"/>
                  <a:pt x="1142" y="695"/>
                  <a:pt x="1101" y="701"/>
                </a:cubicBezTo>
                <a:cubicBezTo>
                  <a:pt x="1090" y="702"/>
                  <a:pt x="1077" y="704"/>
                  <a:pt x="1069" y="712"/>
                </a:cubicBezTo>
                <a:cubicBezTo>
                  <a:pt x="1051" y="730"/>
                  <a:pt x="1027" y="775"/>
                  <a:pt x="1027" y="775"/>
                </a:cubicBezTo>
                <a:cubicBezTo>
                  <a:pt x="1020" y="797"/>
                  <a:pt x="1015" y="821"/>
                  <a:pt x="996" y="838"/>
                </a:cubicBezTo>
                <a:cubicBezTo>
                  <a:pt x="977" y="854"/>
                  <a:pt x="933" y="879"/>
                  <a:pt x="933" y="879"/>
                </a:cubicBezTo>
                <a:cubicBezTo>
                  <a:pt x="871" y="859"/>
                  <a:pt x="922" y="849"/>
                  <a:pt x="860" y="827"/>
                </a:cubicBezTo>
                <a:cubicBezTo>
                  <a:pt x="810" y="752"/>
                  <a:pt x="824" y="788"/>
                  <a:pt x="807" y="722"/>
                </a:cubicBezTo>
                <a:cubicBezTo>
                  <a:pt x="813" y="671"/>
                  <a:pt x="844" y="566"/>
                  <a:pt x="818" y="513"/>
                </a:cubicBezTo>
                <a:cubicBezTo>
                  <a:pt x="812" y="502"/>
                  <a:pt x="797" y="499"/>
                  <a:pt x="786" y="492"/>
                </a:cubicBezTo>
                <a:cubicBezTo>
                  <a:pt x="753" y="496"/>
                  <a:pt x="705" y="496"/>
                  <a:pt x="671" y="513"/>
                </a:cubicBezTo>
                <a:cubicBezTo>
                  <a:pt x="614" y="542"/>
                  <a:pt x="580" y="595"/>
                  <a:pt x="514" y="618"/>
                </a:cubicBezTo>
                <a:cubicBezTo>
                  <a:pt x="439" y="602"/>
                  <a:pt x="435" y="611"/>
                  <a:pt x="420" y="534"/>
                </a:cubicBezTo>
                <a:cubicBezTo>
                  <a:pt x="416" y="445"/>
                  <a:pt x="469" y="277"/>
                  <a:pt x="357" y="241"/>
                </a:cubicBezTo>
                <a:cubicBezTo>
                  <a:pt x="229" y="253"/>
                  <a:pt x="184" y="267"/>
                  <a:pt x="95" y="356"/>
                </a:cubicBezTo>
                <a:cubicBezTo>
                  <a:pt x="0" y="258"/>
                  <a:pt x="74" y="123"/>
                  <a:pt x="74"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16"/>
          <p:cNvSpPr/>
          <p:nvPr/>
        </p:nvSpPr>
        <p:spPr>
          <a:xfrm flipH="1">
            <a:off x="4335120" y="4648320"/>
            <a:ext cx="13500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Text Box 17"/>
          <p:cNvSpPr/>
          <p:nvPr/>
        </p:nvSpPr>
        <p:spPr>
          <a:xfrm>
            <a:off x="5657400" y="3387600"/>
            <a:ext cx="316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ignal transduction</a:t>
            </a:r>
            <a:endParaRPr b="0" lang="en-US" sz="2400" spc="-1" strike="noStrike">
              <a:solidFill>
                <a:srgbClr val="000000"/>
              </a:solidFill>
              <a:latin typeface="Arial"/>
            </a:endParaRPr>
          </a:p>
        </p:txBody>
      </p:sp>
      <p:sp>
        <p:nvSpPr>
          <p:cNvPr id="75" name="Text Box 18"/>
          <p:cNvSpPr/>
          <p:nvPr/>
        </p:nvSpPr>
        <p:spPr>
          <a:xfrm>
            <a:off x="5824440" y="4343400"/>
            <a:ext cx="2724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ctivation of transcription</a:t>
            </a:r>
            <a:endParaRPr b="0" lang="en-US" sz="2400" spc="-1" strike="noStrike">
              <a:solidFill>
                <a:srgbClr val="000000"/>
              </a:solidFill>
              <a:latin typeface="Arial"/>
            </a:endParaRPr>
          </a:p>
        </p:txBody>
      </p:sp>
      <p:sp>
        <p:nvSpPr>
          <p:cNvPr id="76" name="Line 19"/>
          <p:cNvSpPr/>
          <p:nvPr/>
        </p:nvSpPr>
        <p:spPr>
          <a:xfrm flipH="1">
            <a:off x="4402080" y="3581280"/>
            <a:ext cx="1355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20"/>
          <p:cNvSpPr/>
          <p:nvPr/>
        </p:nvSpPr>
        <p:spPr>
          <a:xfrm flipH="1">
            <a:off x="4538160" y="4724280"/>
            <a:ext cx="1150920" cy="76320"/>
          </a:xfrm>
          <a:prstGeom prst="line">
            <a:avLst/>
          </a:prstGeom>
          <a:ln w="284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8" name="Text Box 21"/>
          <p:cNvSpPr/>
          <p:nvPr/>
        </p:nvSpPr>
        <p:spPr>
          <a:xfrm>
            <a:off x="995040" y="2424240"/>
            <a:ext cx="201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cytoplasm</a:t>
            </a:r>
            <a:endParaRPr b="0" lang="en-US" sz="2800" spc="-1" strike="noStrike">
              <a:solidFill>
                <a:srgbClr val="000000"/>
              </a:solidFill>
              <a:latin typeface="Arial"/>
            </a:endParaRPr>
          </a:p>
        </p:txBody>
      </p:sp>
      <p:sp>
        <p:nvSpPr>
          <p:cNvPr id="79" name="Text Box 22"/>
          <p:cNvSpPr/>
          <p:nvPr/>
        </p:nvSpPr>
        <p:spPr>
          <a:xfrm>
            <a:off x="996480" y="4952880"/>
            <a:ext cx="155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nucleus</a:t>
            </a:r>
            <a:endParaRPr b="0" lang="en-US" sz="2800" spc="-1" strike="noStrike">
              <a:solidFill>
                <a:srgbClr val="000000"/>
              </a:solidFill>
              <a:latin typeface="Arial"/>
            </a:endParaRPr>
          </a:p>
        </p:txBody>
      </p:sp>
      <p:sp>
        <p:nvSpPr>
          <p:cNvPr id="80" name="Line 23"/>
          <p:cNvSpPr/>
          <p:nvPr/>
        </p:nvSpPr>
        <p:spPr>
          <a:xfrm flipV="1">
            <a:off x="2641680" y="4876560"/>
            <a:ext cx="135396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24"/>
          <p:cNvSpPr/>
          <p:nvPr/>
        </p:nvSpPr>
        <p:spPr>
          <a:xfrm>
            <a:off x="2776680" y="2666880"/>
            <a:ext cx="677880" cy="15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NEOPLASTIC CELLS</a:t>
            </a:r>
            <a:endParaRPr b="0" lang="en-US" sz="4400" spc="-1" strike="noStrike">
              <a:solidFill>
                <a:srgbClr val="000000"/>
              </a:solidFill>
              <a:latin typeface="Arial"/>
            </a:endParaRPr>
          </a:p>
        </p:txBody>
      </p:sp>
      <p:sp>
        <p:nvSpPr>
          <p:cNvPr id="84" name="Oval 5"/>
          <p:cNvSpPr/>
          <p:nvPr/>
        </p:nvSpPr>
        <p:spPr>
          <a:xfrm>
            <a:off x="338040" y="2319480"/>
            <a:ext cx="1508400" cy="2417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6"/>
          <p:cNvSpPr/>
          <p:nvPr/>
        </p:nvSpPr>
        <p:spPr>
          <a:xfrm>
            <a:off x="2570040" y="3419640"/>
            <a:ext cx="435240" cy="561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7"/>
          <p:cNvSpPr/>
          <p:nvPr/>
        </p:nvSpPr>
        <p:spPr>
          <a:xfrm>
            <a:off x="2728800" y="2470320"/>
            <a:ext cx="119160" cy="776160"/>
          </a:xfrm>
          <a:prstGeom prst="downArrow">
            <a:avLst>
              <a:gd name="adj1" fmla="val 50000"/>
              <a:gd name="adj2" fmla="val 16284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8"/>
          <p:cNvSpPr/>
          <p:nvPr/>
        </p:nvSpPr>
        <p:spPr>
          <a:xfrm>
            <a:off x="2610000" y="3720960"/>
            <a:ext cx="322200" cy="173160"/>
          </a:xfrm>
          <a:custGeom>
            <a:avLst/>
            <a:gdLst>
              <a:gd name="textAreaLeft" fmla="*/ 0 w 322200"/>
              <a:gd name="textAreaRight" fmla="*/ 322560 w 322200"/>
              <a:gd name="textAreaTop" fmla="*/ 0 h 173160"/>
              <a:gd name="textAreaBottom" fmla="*/ 173520 h 173160"/>
            </a:gdLst>
            <a:ahLst/>
            <a:rect l="textAreaLeft" t="textAreaTop" r="textAreaRight" b="textAreaBottom"/>
            <a:pathLst>
              <a:path w="1594" h="859">
                <a:moveTo>
                  <a:pt x="3" y="199"/>
                </a:moveTo>
                <a:cubicBezTo>
                  <a:pt x="64" y="97"/>
                  <a:pt x="0" y="194"/>
                  <a:pt x="76" y="105"/>
                </a:cubicBezTo>
                <a:cubicBezTo>
                  <a:pt x="97" y="80"/>
                  <a:pt x="103" y="43"/>
                  <a:pt x="128" y="21"/>
                </a:cubicBezTo>
                <a:cubicBezTo>
                  <a:pt x="142" y="9"/>
                  <a:pt x="163" y="7"/>
                  <a:pt x="181" y="0"/>
                </a:cubicBezTo>
                <a:cubicBezTo>
                  <a:pt x="216" y="3"/>
                  <a:pt x="251" y="5"/>
                  <a:pt x="285" y="10"/>
                </a:cubicBezTo>
                <a:cubicBezTo>
                  <a:pt x="296" y="12"/>
                  <a:pt x="310" y="12"/>
                  <a:pt x="317" y="21"/>
                </a:cubicBezTo>
                <a:cubicBezTo>
                  <a:pt x="326" y="32"/>
                  <a:pt x="321" y="50"/>
                  <a:pt x="327" y="63"/>
                </a:cubicBezTo>
                <a:cubicBezTo>
                  <a:pt x="332" y="74"/>
                  <a:pt x="342" y="83"/>
                  <a:pt x="348" y="94"/>
                </a:cubicBezTo>
                <a:cubicBezTo>
                  <a:pt x="353" y="104"/>
                  <a:pt x="355" y="115"/>
                  <a:pt x="359" y="126"/>
                </a:cubicBezTo>
                <a:cubicBezTo>
                  <a:pt x="356" y="171"/>
                  <a:pt x="329" y="409"/>
                  <a:pt x="369" y="450"/>
                </a:cubicBezTo>
                <a:cubicBezTo>
                  <a:pt x="371" y="453"/>
                  <a:pt x="429" y="470"/>
                  <a:pt x="432" y="471"/>
                </a:cubicBezTo>
                <a:cubicBezTo>
                  <a:pt x="485" y="461"/>
                  <a:pt x="507" y="464"/>
                  <a:pt x="537" y="419"/>
                </a:cubicBezTo>
                <a:cubicBezTo>
                  <a:pt x="557" y="354"/>
                  <a:pt x="563" y="288"/>
                  <a:pt x="599" y="230"/>
                </a:cubicBezTo>
                <a:cubicBezTo>
                  <a:pt x="631" y="234"/>
                  <a:pt x="666" y="226"/>
                  <a:pt x="694" y="241"/>
                </a:cubicBezTo>
                <a:cubicBezTo>
                  <a:pt x="716" y="253"/>
                  <a:pt x="736" y="304"/>
                  <a:pt x="736" y="304"/>
                </a:cubicBezTo>
                <a:cubicBezTo>
                  <a:pt x="795" y="486"/>
                  <a:pt x="643" y="632"/>
                  <a:pt x="840" y="670"/>
                </a:cubicBezTo>
                <a:cubicBezTo>
                  <a:pt x="921" y="659"/>
                  <a:pt x="930" y="660"/>
                  <a:pt x="976" y="597"/>
                </a:cubicBezTo>
                <a:cubicBezTo>
                  <a:pt x="987" y="546"/>
                  <a:pt x="1001" y="514"/>
                  <a:pt x="1029" y="471"/>
                </a:cubicBezTo>
                <a:cubicBezTo>
                  <a:pt x="1029" y="470"/>
                  <a:pt x="1038" y="389"/>
                  <a:pt x="1071" y="408"/>
                </a:cubicBezTo>
                <a:cubicBezTo>
                  <a:pt x="1093" y="420"/>
                  <a:pt x="1099" y="450"/>
                  <a:pt x="1113" y="471"/>
                </a:cubicBezTo>
                <a:cubicBezTo>
                  <a:pt x="1120" y="482"/>
                  <a:pt x="1134" y="503"/>
                  <a:pt x="1134" y="503"/>
                </a:cubicBezTo>
                <a:cubicBezTo>
                  <a:pt x="1168" y="609"/>
                  <a:pt x="1075" y="784"/>
                  <a:pt x="1186" y="859"/>
                </a:cubicBezTo>
                <a:cubicBezTo>
                  <a:pt x="1224" y="855"/>
                  <a:pt x="1264" y="859"/>
                  <a:pt x="1301" y="848"/>
                </a:cubicBezTo>
                <a:cubicBezTo>
                  <a:pt x="1325" y="841"/>
                  <a:pt x="1364" y="806"/>
                  <a:pt x="1364" y="806"/>
                </a:cubicBezTo>
                <a:cubicBezTo>
                  <a:pt x="1406" y="743"/>
                  <a:pt x="1449" y="719"/>
                  <a:pt x="1521" y="702"/>
                </a:cubicBezTo>
                <a:cubicBezTo>
                  <a:pt x="1580" y="713"/>
                  <a:pt x="1555" y="712"/>
                  <a:pt x="1594" y="71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9"/>
          <p:cNvSpPr/>
          <p:nvPr/>
        </p:nvSpPr>
        <p:spPr>
          <a:xfrm>
            <a:off x="2610000" y="3760920"/>
            <a:ext cx="276120" cy="176040"/>
          </a:xfrm>
          <a:custGeom>
            <a:avLst/>
            <a:gdLst>
              <a:gd name="textAreaLeft" fmla="*/ 0 w 276120"/>
              <a:gd name="textAreaRight" fmla="*/ 276480 w 276120"/>
              <a:gd name="textAreaTop" fmla="*/ 0 h 176040"/>
              <a:gd name="textAreaBottom" fmla="*/ 176400 h 176040"/>
            </a:gdLst>
            <a:ahLst/>
            <a:rect l="textAreaLeft" t="textAreaTop" r="textAreaRight" b="textAreaBottom"/>
            <a:pathLst>
              <a:path w="1367" h="879">
                <a:moveTo>
                  <a:pt x="1362" y="680"/>
                </a:moveTo>
                <a:cubicBezTo>
                  <a:pt x="1359" y="705"/>
                  <a:pt x="1367" y="734"/>
                  <a:pt x="1352" y="754"/>
                </a:cubicBezTo>
                <a:cubicBezTo>
                  <a:pt x="1344" y="764"/>
                  <a:pt x="1341" y="730"/>
                  <a:pt x="1331" y="722"/>
                </a:cubicBezTo>
                <a:cubicBezTo>
                  <a:pt x="1310" y="705"/>
                  <a:pt x="1251" y="697"/>
                  <a:pt x="1226" y="691"/>
                </a:cubicBezTo>
                <a:cubicBezTo>
                  <a:pt x="1184" y="694"/>
                  <a:pt x="1142" y="695"/>
                  <a:pt x="1101" y="701"/>
                </a:cubicBezTo>
                <a:cubicBezTo>
                  <a:pt x="1090" y="702"/>
                  <a:pt x="1077" y="704"/>
                  <a:pt x="1069" y="712"/>
                </a:cubicBezTo>
                <a:cubicBezTo>
                  <a:pt x="1051" y="730"/>
                  <a:pt x="1027" y="775"/>
                  <a:pt x="1027" y="775"/>
                </a:cubicBezTo>
                <a:cubicBezTo>
                  <a:pt x="1020" y="797"/>
                  <a:pt x="1015" y="821"/>
                  <a:pt x="996" y="838"/>
                </a:cubicBezTo>
                <a:cubicBezTo>
                  <a:pt x="977" y="854"/>
                  <a:pt x="933" y="879"/>
                  <a:pt x="933" y="879"/>
                </a:cubicBezTo>
                <a:cubicBezTo>
                  <a:pt x="871" y="859"/>
                  <a:pt x="922" y="849"/>
                  <a:pt x="860" y="827"/>
                </a:cubicBezTo>
                <a:cubicBezTo>
                  <a:pt x="810" y="752"/>
                  <a:pt x="824" y="788"/>
                  <a:pt x="807" y="722"/>
                </a:cubicBezTo>
                <a:cubicBezTo>
                  <a:pt x="813" y="671"/>
                  <a:pt x="844" y="566"/>
                  <a:pt x="818" y="513"/>
                </a:cubicBezTo>
                <a:cubicBezTo>
                  <a:pt x="812" y="502"/>
                  <a:pt x="797" y="499"/>
                  <a:pt x="786" y="492"/>
                </a:cubicBezTo>
                <a:cubicBezTo>
                  <a:pt x="753" y="496"/>
                  <a:pt x="705" y="496"/>
                  <a:pt x="671" y="513"/>
                </a:cubicBezTo>
                <a:cubicBezTo>
                  <a:pt x="614" y="542"/>
                  <a:pt x="580" y="595"/>
                  <a:pt x="514" y="618"/>
                </a:cubicBezTo>
                <a:cubicBezTo>
                  <a:pt x="439" y="602"/>
                  <a:pt x="435" y="611"/>
                  <a:pt x="420" y="534"/>
                </a:cubicBezTo>
                <a:cubicBezTo>
                  <a:pt x="416" y="445"/>
                  <a:pt x="469" y="277"/>
                  <a:pt x="357" y="241"/>
                </a:cubicBezTo>
                <a:cubicBezTo>
                  <a:pt x="229" y="253"/>
                  <a:pt x="184" y="267"/>
                  <a:pt x="95" y="356"/>
                </a:cubicBezTo>
                <a:cubicBezTo>
                  <a:pt x="0" y="258"/>
                  <a:pt x="74" y="123"/>
                  <a:pt x="74"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10"/>
          <p:cNvSpPr/>
          <p:nvPr/>
        </p:nvSpPr>
        <p:spPr>
          <a:xfrm flipH="1">
            <a:off x="2760840" y="3584520"/>
            <a:ext cx="1346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Oval 11"/>
          <p:cNvSpPr/>
          <p:nvPr/>
        </p:nvSpPr>
        <p:spPr>
          <a:xfrm>
            <a:off x="2301840" y="2209680"/>
            <a:ext cx="1508040" cy="24177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12"/>
          <p:cNvSpPr/>
          <p:nvPr/>
        </p:nvSpPr>
        <p:spPr>
          <a:xfrm rot="10727400">
            <a:off x="2776320" y="2071800"/>
            <a:ext cx="277560" cy="30312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Line 13"/>
          <p:cNvSpPr/>
          <p:nvPr/>
        </p:nvSpPr>
        <p:spPr>
          <a:xfrm>
            <a:off x="2744640" y="2146320"/>
            <a:ext cx="158760" cy="34596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14"/>
          <p:cNvSpPr/>
          <p:nvPr/>
        </p:nvSpPr>
        <p:spPr>
          <a:xfrm flipH="1">
            <a:off x="2943000" y="2190600"/>
            <a:ext cx="158760" cy="30168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Oval 15"/>
          <p:cNvSpPr/>
          <p:nvPr/>
        </p:nvSpPr>
        <p:spPr>
          <a:xfrm>
            <a:off x="2705040" y="3571920"/>
            <a:ext cx="436680" cy="561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16"/>
          <p:cNvSpPr/>
          <p:nvPr/>
        </p:nvSpPr>
        <p:spPr>
          <a:xfrm>
            <a:off x="2863800" y="2622600"/>
            <a:ext cx="119160" cy="776160"/>
          </a:xfrm>
          <a:prstGeom prst="downArrow">
            <a:avLst>
              <a:gd name="adj1" fmla="val 50000"/>
              <a:gd name="adj2" fmla="val 16284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17"/>
          <p:cNvSpPr/>
          <p:nvPr/>
        </p:nvSpPr>
        <p:spPr>
          <a:xfrm>
            <a:off x="2744640" y="3873600"/>
            <a:ext cx="322560" cy="172800"/>
          </a:xfrm>
          <a:custGeom>
            <a:avLst/>
            <a:gdLst>
              <a:gd name="textAreaLeft" fmla="*/ 0 w 322560"/>
              <a:gd name="textAreaRight" fmla="*/ 322560 w 322560"/>
              <a:gd name="textAreaTop" fmla="*/ 0 h 172800"/>
              <a:gd name="textAreaBottom" fmla="*/ 173160 h 172800"/>
            </a:gdLst>
            <a:ahLst/>
            <a:rect l="textAreaLeft" t="textAreaTop" r="textAreaRight" b="textAreaBottom"/>
            <a:pathLst>
              <a:path w="1594" h="859">
                <a:moveTo>
                  <a:pt x="3" y="199"/>
                </a:moveTo>
                <a:cubicBezTo>
                  <a:pt x="64" y="97"/>
                  <a:pt x="0" y="194"/>
                  <a:pt x="76" y="105"/>
                </a:cubicBezTo>
                <a:cubicBezTo>
                  <a:pt x="97" y="80"/>
                  <a:pt x="103" y="43"/>
                  <a:pt x="128" y="21"/>
                </a:cubicBezTo>
                <a:cubicBezTo>
                  <a:pt x="142" y="9"/>
                  <a:pt x="163" y="7"/>
                  <a:pt x="181" y="0"/>
                </a:cubicBezTo>
                <a:cubicBezTo>
                  <a:pt x="216" y="3"/>
                  <a:pt x="251" y="5"/>
                  <a:pt x="285" y="10"/>
                </a:cubicBezTo>
                <a:cubicBezTo>
                  <a:pt x="296" y="12"/>
                  <a:pt x="310" y="12"/>
                  <a:pt x="317" y="21"/>
                </a:cubicBezTo>
                <a:cubicBezTo>
                  <a:pt x="326" y="32"/>
                  <a:pt x="321" y="50"/>
                  <a:pt x="327" y="63"/>
                </a:cubicBezTo>
                <a:cubicBezTo>
                  <a:pt x="332" y="74"/>
                  <a:pt x="342" y="83"/>
                  <a:pt x="348" y="94"/>
                </a:cubicBezTo>
                <a:cubicBezTo>
                  <a:pt x="353" y="104"/>
                  <a:pt x="355" y="115"/>
                  <a:pt x="359" y="126"/>
                </a:cubicBezTo>
                <a:cubicBezTo>
                  <a:pt x="356" y="171"/>
                  <a:pt x="329" y="409"/>
                  <a:pt x="369" y="450"/>
                </a:cubicBezTo>
                <a:cubicBezTo>
                  <a:pt x="371" y="453"/>
                  <a:pt x="429" y="470"/>
                  <a:pt x="432" y="471"/>
                </a:cubicBezTo>
                <a:cubicBezTo>
                  <a:pt x="485" y="461"/>
                  <a:pt x="507" y="464"/>
                  <a:pt x="537" y="419"/>
                </a:cubicBezTo>
                <a:cubicBezTo>
                  <a:pt x="557" y="354"/>
                  <a:pt x="563" y="288"/>
                  <a:pt x="599" y="230"/>
                </a:cubicBezTo>
                <a:cubicBezTo>
                  <a:pt x="631" y="234"/>
                  <a:pt x="666" y="226"/>
                  <a:pt x="694" y="241"/>
                </a:cubicBezTo>
                <a:cubicBezTo>
                  <a:pt x="716" y="253"/>
                  <a:pt x="736" y="304"/>
                  <a:pt x="736" y="304"/>
                </a:cubicBezTo>
                <a:cubicBezTo>
                  <a:pt x="795" y="486"/>
                  <a:pt x="643" y="632"/>
                  <a:pt x="840" y="670"/>
                </a:cubicBezTo>
                <a:cubicBezTo>
                  <a:pt x="921" y="659"/>
                  <a:pt x="930" y="660"/>
                  <a:pt x="976" y="597"/>
                </a:cubicBezTo>
                <a:cubicBezTo>
                  <a:pt x="987" y="546"/>
                  <a:pt x="1001" y="514"/>
                  <a:pt x="1029" y="471"/>
                </a:cubicBezTo>
                <a:cubicBezTo>
                  <a:pt x="1029" y="470"/>
                  <a:pt x="1038" y="389"/>
                  <a:pt x="1071" y="408"/>
                </a:cubicBezTo>
                <a:cubicBezTo>
                  <a:pt x="1093" y="420"/>
                  <a:pt x="1099" y="450"/>
                  <a:pt x="1113" y="471"/>
                </a:cubicBezTo>
                <a:cubicBezTo>
                  <a:pt x="1120" y="482"/>
                  <a:pt x="1134" y="503"/>
                  <a:pt x="1134" y="503"/>
                </a:cubicBezTo>
                <a:cubicBezTo>
                  <a:pt x="1168" y="609"/>
                  <a:pt x="1075" y="784"/>
                  <a:pt x="1186" y="859"/>
                </a:cubicBezTo>
                <a:cubicBezTo>
                  <a:pt x="1224" y="855"/>
                  <a:pt x="1264" y="859"/>
                  <a:pt x="1301" y="848"/>
                </a:cubicBezTo>
                <a:cubicBezTo>
                  <a:pt x="1325" y="841"/>
                  <a:pt x="1364" y="806"/>
                  <a:pt x="1364" y="806"/>
                </a:cubicBezTo>
                <a:cubicBezTo>
                  <a:pt x="1406" y="743"/>
                  <a:pt x="1449" y="719"/>
                  <a:pt x="1521" y="702"/>
                </a:cubicBezTo>
                <a:cubicBezTo>
                  <a:pt x="1580" y="713"/>
                  <a:pt x="1555" y="712"/>
                  <a:pt x="1594" y="71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8"/>
          <p:cNvSpPr/>
          <p:nvPr/>
        </p:nvSpPr>
        <p:spPr>
          <a:xfrm>
            <a:off x="2744640" y="3913200"/>
            <a:ext cx="276480" cy="176040"/>
          </a:xfrm>
          <a:custGeom>
            <a:avLst/>
            <a:gdLst>
              <a:gd name="textAreaLeft" fmla="*/ 0 w 276480"/>
              <a:gd name="textAreaRight" fmla="*/ 276840 w 276480"/>
              <a:gd name="textAreaTop" fmla="*/ 0 h 176040"/>
              <a:gd name="textAreaBottom" fmla="*/ 176400 h 176040"/>
            </a:gdLst>
            <a:ahLst/>
            <a:rect l="textAreaLeft" t="textAreaTop" r="textAreaRight" b="textAreaBottom"/>
            <a:pathLst>
              <a:path w="1367" h="879">
                <a:moveTo>
                  <a:pt x="1362" y="680"/>
                </a:moveTo>
                <a:cubicBezTo>
                  <a:pt x="1359" y="705"/>
                  <a:pt x="1367" y="734"/>
                  <a:pt x="1352" y="754"/>
                </a:cubicBezTo>
                <a:cubicBezTo>
                  <a:pt x="1344" y="764"/>
                  <a:pt x="1341" y="730"/>
                  <a:pt x="1331" y="722"/>
                </a:cubicBezTo>
                <a:cubicBezTo>
                  <a:pt x="1310" y="705"/>
                  <a:pt x="1251" y="697"/>
                  <a:pt x="1226" y="691"/>
                </a:cubicBezTo>
                <a:cubicBezTo>
                  <a:pt x="1184" y="694"/>
                  <a:pt x="1142" y="695"/>
                  <a:pt x="1101" y="701"/>
                </a:cubicBezTo>
                <a:cubicBezTo>
                  <a:pt x="1090" y="702"/>
                  <a:pt x="1077" y="704"/>
                  <a:pt x="1069" y="712"/>
                </a:cubicBezTo>
                <a:cubicBezTo>
                  <a:pt x="1051" y="730"/>
                  <a:pt x="1027" y="775"/>
                  <a:pt x="1027" y="775"/>
                </a:cubicBezTo>
                <a:cubicBezTo>
                  <a:pt x="1020" y="797"/>
                  <a:pt x="1015" y="821"/>
                  <a:pt x="996" y="838"/>
                </a:cubicBezTo>
                <a:cubicBezTo>
                  <a:pt x="977" y="854"/>
                  <a:pt x="933" y="879"/>
                  <a:pt x="933" y="879"/>
                </a:cubicBezTo>
                <a:cubicBezTo>
                  <a:pt x="871" y="859"/>
                  <a:pt x="922" y="849"/>
                  <a:pt x="860" y="827"/>
                </a:cubicBezTo>
                <a:cubicBezTo>
                  <a:pt x="810" y="752"/>
                  <a:pt x="824" y="788"/>
                  <a:pt x="807" y="722"/>
                </a:cubicBezTo>
                <a:cubicBezTo>
                  <a:pt x="813" y="671"/>
                  <a:pt x="844" y="566"/>
                  <a:pt x="818" y="513"/>
                </a:cubicBezTo>
                <a:cubicBezTo>
                  <a:pt x="812" y="502"/>
                  <a:pt x="797" y="499"/>
                  <a:pt x="786" y="492"/>
                </a:cubicBezTo>
                <a:cubicBezTo>
                  <a:pt x="753" y="496"/>
                  <a:pt x="705" y="496"/>
                  <a:pt x="671" y="513"/>
                </a:cubicBezTo>
                <a:cubicBezTo>
                  <a:pt x="614" y="542"/>
                  <a:pt x="580" y="595"/>
                  <a:pt x="514" y="618"/>
                </a:cubicBezTo>
                <a:cubicBezTo>
                  <a:pt x="439" y="602"/>
                  <a:pt x="435" y="611"/>
                  <a:pt x="420" y="534"/>
                </a:cubicBezTo>
                <a:cubicBezTo>
                  <a:pt x="416" y="445"/>
                  <a:pt x="469" y="277"/>
                  <a:pt x="357" y="241"/>
                </a:cubicBezTo>
                <a:cubicBezTo>
                  <a:pt x="229" y="253"/>
                  <a:pt x="184" y="267"/>
                  <a:pt x="95" y="356"/>
                </a:cubicBezTo>
                <a:cubicBezTo>
                  <a:pt x="0" y="258"/>
                  <a:pt x="74" y="123"/>
                  <a:pt x="74"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9"/>
          <p:cNvSpPr/>
          <p:nvPr/>
        </p:nvSpPr>
        <p:spPr>
          <a:xfrm flipH="1">
            <a:off x="2895120" y="3736800"/>
            <a:ext cx="1350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Oval 20"/>
          <p:cNvSpPr/>
          <p:nvPr/>
        </p:nvSpPr>
        <p:spPr>
          <a:xfrm>
            <a:off x="304920" y="2286000"/>
            <a:ext cx="1508040" cy="24177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21"/>
          <p:cNvSpPr/>
          <p:nvPr/>
        </p:nvSpPr>
        <p:spPr>
          <a:xfrm rot="10727400">
            <a:off x="920520" y="2232000"/>
            <a:ext cx="277560" cy="30312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Line 23"/>
          <p:cNvSpPr/>
          <p:nvPr/>
        </p:nvSpPr>
        <p:spPr>
          <a:xfrm flipH="1">
            <a:off x="1079280" y="2276640"/>
            <a:ext cx="158760" cy="30132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Oval 24"/>
          <p:cNvSpPr/>
          <p:nvPr/>
        </p:nvSpPr>
        <p:spPr>
          <a:xfrm>
            <a:off x="6904080" y="3657600"/>
            <a:ext cx="436680" cy="561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25"/>
          <p:cNvSpPr/>
          <p:nvPr/>
        </p:nvSpPr>
        <p:spPr>
          <a:xfrm>
            <a:off x="7064280" y="2708280"/>
            <a:ext cx="117720" cy="776160"/>
          </a:xfrm>
          <a:prstGeom prst="downArrow">
            <a:avLst>
              <a:gd name="adj1" fmla="val 50000"/>
              <a:gd name="adj2" fmla="val 16483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26"/>
          <p:cNvSpPr/>
          <p:nvPr/>
        </p:nvSpPr>
        <p:spPr>
          <a:xfrm>
            <a:off x="6943680" y="3959280"/>
            <a:ext cx="324000" cy="173160"/>
          </a:xfrm>
          <a:custGeom>
            <a:avLst/>
            <a:gdLst>
              <a:gd name="textAreaLeft" fmla="*/ 0 w 324000"/>
              <a:gd name="textAreaRight" fmla="*/ 324360 w 324000"/>
              <a:gd name="textAreaTop" fmla="*/ 0 h 173160"/>
              <a:gd name="textAreaBottom" fmla="*/ 173520 h 173160"/>
            </a:gdLst>
            <a:ahLst/>
            <a:rect l="textAreaLeft" t="textAreaTop" r="textAreaRight" b="textAreaBottom"/>
            <a:pathLst>
              <a:path w="1594" h="859">
                <a:moveTo>
                  <a:pt x="3" y="199"/>
                </a:moveTo>
                <a:cubicBezTo>
                  <a:pt x="64" y="97"/>
                  <a:pt x="0" y="194"/>
                  <a:pt x="76" y="105"/>
                </a:cubicBezTo>
                <a:cubicBezTo>
                  <a:pt x="97" y="80"/>
                  <a:pt x="103" y="43"/>
                  <a:pt x="128" y="21"/>
                </a:cubicBezTo>
                <a:cubicBezTo>
                  <a:pt x="142" y="9"/>
                  <a:pt x="163" y="7"/>
                  <a:pt x="181" y="0"/>
                </a:cubicBezTo>
                <a:cubicBezTo>
                  <a:pt x="216" y="3"/>
                  <a:pt x="251" y="5"/>
                  <a:pt x="285" y="10"/>
                </a:cubicBezTo>
                <a:cubicBezTo>
                  <a:pt x="296" y="12"/>
                  <a:pt x="310" y="12"/>
                  <a:pt x="317" y="21"/>
                </a:cubicBezTo>
                <a:cubicBezTo>
                  <a:pt x="326" y="32"/>
                  <a:pt x="321" y="50"/>
                  <a:pt x="327" y="63"/>
                </a:cubicBezTo>
                <a:cubicBezTo>
                  <a:pt x="332" y="74"/>
                  <a:pt x="342" y="83"/>
                  <a:pt x="348" y="94"/>
                </a:cubicBezTo>
                <a:cubicBezTo>
                  <a:pt x="353" y="104"/>
                  <a:pt x="355" y="115"/>
                  <a:pt x="359" y="126"/>
                </a:cubicBezTo>
                <a:cubicBezTo>
                  <a:pt x="356" y="171"/>
                  <a:pt x="329" y="409"/>
                  <a:pt x="369" y="450"/>
                </a:cubicBezTo>
                <a:cubicBezTo>
                  <a:pt x="371" y="453"/>
                  <a:pt x="429" y="470"/>
                  <a:pt x="432" y="471"/>
                </a:cubicBezTo>
                <a:cubicBezTo>
                  <a:pt x="485" y="461"/>
                  <a:pt x="507" y="464"/>
                  <a:pt x="537" y="419"/>
                </a:cubicBezTo>
                <a:cubicBezTo>
                  <a:pt x="557" y="354"/>
                  <a:pt x="563" y="288"/>
                  <a:pt x="599" y="230"/>
                </a:cubicBezTo>
                <a:cubicBezTo>
                  <a:pt x="631" y="234"/>
                  <a:pt x="666" y="226"/>
                  <a:pt x="694" y="241"/>
                </a:cubicBezTo>
                <a:cubicBezTo>
                  <a:pt x="716" y="253"/>
                  <a:pt x="736" y="304"/>
                  <a:pt x="736" y="304"/>
                </a:cubicBezTo>
                <a:cubicBezTo>
                  <a:pt x="795" y="486"/>
                  <a:pt x="643" y="632"/>
                  <a:pt x="840" y="670"/>
                </a:cubicBezTo>
                <a:cubicBezTo>
                  <a:pt x="921" y="659"/>
                  <a:pt x="930" y="660"/>
                  <a:pt x="976" y="597"/>
                </a:cubicBezTo>
                <a:cubicBezTo>
                  <a:pt x="987" y="546"/>
                  <a:pt x="1001" y="514"/>
                  <a:pt x="1029" y="471"/>
                </a:cubicBezTo>
                <a:cubicBezTo>
                  <a:pt x="1029" y="470"/>
                  <a:pt x="1038" y="389"/>
                  <a:pt x="1071" y="408"/>
                </a:cubicBezTo>
                <a:cubicBezTo>
                  <a:pt x="1093" y="420"/>
                  <a:pt x="1099" y="450"/>
                  <a:pt x="1113" y="471"/>
                </a:cubicBezTo>
                <a:cubicBezTo>
                  <a:pt x="1120" y="482"/>
                  <a:pt x="1134" y="503"/>
                  <a:pt x="1134" y="503"/>
                </a:cubicBezTo>
                <a:cubicBezTo>
                  <a:pt x="1168" y="609"/>
                  <a:pt x="1075" y="784"/>
                  <a:pt x="1186" y="859"/>
                </a:cubicBezTo>
                <a:cubicBezTo>
                  <a:pt x="1224" y="855"/>
                  <a:pt x="1264" y="859"/>
                  <a:pt x="1301" y="848"/>
                </a:cubicBezTo>
                <a:cubicBezTo>
                  <a:pt x="1325" y="841"/>
                  <a:pt x="1364" y="806"/>
                  <a:pt x="1364" y="806"/>
                </a:cubicBezTo>
                <a:cubicBezTo>
                  <a:pt x="1406" y="743"/>
                  <a:pt x="1449" y="719"/>
                  <a:pt x="1521" y="702"/>
                </a:cubicBezTo>
                <a:cubicBezTo>
                  <a:pt x="1580" y="713"/>
                  <a:pt x="1555" y="712"/>
                  <a:pt x="1594" y="71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27"/>
          <p:cNvSpPr/>
          <p:nvPr/>
        </p:nvSpPr>
        <p:spPr>
          <a:xfrm>
            <a:off x="6943680" y="3998880"/>
            <a:ext cx="276120" cy="176400"/>
          </a:xfrm>
          <a:custGeom>
            <a:avLst/>
            <a:gdLst>
              <a:gd name="textAreaLeft" fmla="*/ 0 w 276120"/>
              <a:gd name="textAreaRight" fmla="*/ 276480 w 276120"/>
              <a:gd name="textAreaTop" fmla="*/ 0 h 176400"/>
              <a:gd name="textAreaBottom" fmla="*/ 176400 h 176400"/>
            </a:gdLst>
            <a:ahLst/>
            <a:rect l="textAreaLeft" t="textAreaTop" r="textAreaRight" b="textAreaBottom"/>
            <a:pathLst>
              <a:path w="1367" h="879">
                <a:moveTo>
                  <a:pt x="1362" y="680"/>
                </a:moveTo>
                <a:cubicBezTo>
                  <a:pt x="1359" y="705"/>
                  <a:pt x="1367" y="734"/>
                  <a:pt x="1352" y="754"/>
                </a:cubicBezTo>
                <a:cubicBezTo>
                  <a:pt x="1344" y="764"/>
                  <a:pt x="1341" y="730"/>
                  <a:pt x="1331" y="722"/>
                </a:cubicBezTo>
                <a:cubicBezTo>
                  <a:pt x="1310" y="705"/>
                  <a:pt x="1251" y="697"/>
                  <a:pt x="1226" y="691"/>
                </a:cubicBezTo>
                <a:cubicBezTo>
                  <a:pt x="1184" y="694"/>
                  <a:pt x="1142" y="695"/>
                  <a:pt x="1101" y="701"/>
                </a:cubicBezTo>
                <a:cubicBezTo>
                  <a:pt x="1090" y="702"/>
                  <a:pt x="1077" y="704"/>
                  <a:pt x="1069" y="712"/>
                </a:cubicBezTo>
                <a:cubicBezTo>
                  <a:pt x="1051" y="730"/>
                  <a:pt x="1027" y="775"/>
                  <a:pt x="1027" y="775"/>
                </a:cubicBezTo>
                <a:cubicBezTo>
                  <a:pt x="1020" y="797"/>
                  <a:pt x="1015" y="821"/>
                  <a:pt x="996" y="838"/>
                </a:cubicBezTo>
                <a:cubicBezTo>
                  <a:pt x="977" y="854"/>
                  <a:pt x="933" y="879"/>
                  <a:pt x="933" y="879"/>
                </a:cubicBezTo>
                <a:cubicBezTo>
                  <a:pt x="871" y="859"/>
                  <a:pt x="922" y="849"/>
                  <a:pt x="860" y="827"/>
                </a:cubicBezTo>
                <a:cubicBezTo>
                  <a:pt x="810" y="752"/>
                  <a:pt x="824" y="788"/>
                  <a:pt x="807" y="722"/>
                </a:cubicBezTo>
                <a:cubicBezTo>
                  <a:pt x="813" y="671"/>
                  <a:pt x="844" y="566"/>
                  <a:pt x="818" y="513"/>
                </a:cubicBezTo>
                <a:cubicBezTo>
                  <a:pt x="812" y="502"/>
                  <a:pt x="797" y="499"/>
                  <a:pt x="786" y="492"/>
                </a:cubicBezTo>
                <a:cubicBezTo>
                  <a:pt x="753" y="496"/>
                  <a:pt x="705" y="496"/>
                  <a:pt x="671" y="513"/>
                </a:cubicBezTo>
                <a:cubicBezTo>
                  <a:pt x="614" y="542"/>
                  <a:pt x="580" y="595"/>
                  <a:pt x="514" y="618"/>
                </a:cubicBezTo>
                <a:cubicBezTo>
                  <a:pt x="439" y="602"/>
                  <a:pt x="435" y="611"/>
                  <a:pt x="420" y="534"/>
                </a:cubicBezTo>
                <a:cubicBezTo>
                  <a:pt x="416" y="445"/>
                  <a:pt x="469" y="277"/>
                  <a:pt x="357" y="241"/>
                </a:cubicBezTo>
                <a:cubicBezTo>
                  <a:pt x="229" y="253"/>
                  <a:pt x="184" y="267"/>
                  <a:pt x="95" y="356"/>
                </a:cubicBezTo>
                <a:cubicBezTo>
                  <a:pt x="0" y="258"/>
                  <a:pt x="74" y="123"/>
                  <a:pt x="74"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28"/>
          <p:cNvSpPr/>
          <p:nvPr/>
        </p:nvSpPr>
        <p:spPr>
          <a:xfrm flipH="1">
            <a:off x="7094160" y="3822840"/>
            <a:ext cx="136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Oval 29"/>
          <p:cNvSpPr/>
          <p:nvPr/>
        </p:nvSpPr>
        <p:spPr>
          <a:xfrm>
            <a:off x="6477120" y="2438280"/>
            <a:ext cx="1508040" cy="24177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AutoShape 30"/>
          <p:cNvSpPr/>
          <p:nvPr/>
        </p:nvSpPr>
        <p:spPr>
          <a:xfrm rot="10727400">
            <a:off x="7119720" y="2383920"/>
            <a:ext cx="277560" cy="30348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31"/>
          <p:cNvSpPr/>
          <p:nvPr/>
        </p:nvSpPr>
        <p:spPr>
          <a:xfrm>
            <a:off x="7080120" y="2384280"/>
            <a:ext cx="158760" cy="34632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32"/>
          <p:cNvSpPr/>
          <p:nvPr/>
        </p:nvSpPr>
        <p:spPr>
          <a:xfrm flipH="1">
            <a:off x="7278840" y="2428920"/>
            <a:ext cx="156960" cy="30168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Oval 33"/>
          <p:cNvSpPr/>
          <p:nvPr/>
        </p:nvSpPr>
        <p:spPr>
          <a:xfrm>
            <a:off x="7040520" y="3809880"/>
            <a:ext cx="434880" cy="561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34"/>
          <p:cNvSpPr/>
          <p:nvPr/>
        </p:nvSpPr>
        <p:spPr>
          <a:xfrm>
            <a:off x="7164360" y="2895480"/>
            <a:ext cx="119160" cy="776520"/>
          </a:xfrm>
          <a:prstGeom prst="downArrow">
            <a:avLst>
              <a:gd name="adj1" fmla="val 50000"/>
              <a:gd name="adj2" fmla="val 16291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reeform 35"/>
          <p:cNvSpPr/>
          <p:nvPr/>
        </p:nvSpPr>
        <p:spPr>
          <a:xfrm>
            <a:off x="7080120" y="4111560"/>
            <a:ext cx="322560" cy="173160"/>
          </a:xfrm>
          <a:custGeom>
            <a:avLst/>
            <a:gdLst>
              <a:gd name="textAreaLeft" fmla="*/ 0 w 322560"/>
              <a:gd name="textAreaRight" fmla="*/ 322560 w 322560"/>
              <a:gd name="textAreaTop" fmla="*/ 0 h 173160"/>
              <a:gd name="textAreaBottom" fmla="*/ 173520 h 173160"/>
            </a:gdLst>
            <a:ahLst/>
            <a:rect l="textAreaLeft" t="textAreaTop" r="textAreaRight" b="textAreaBottom"/>
            <a:pathLst>
              <a:path w="1594" h="859">
                <a:moveTo>
                  <a:pt x="3" y="199"/>
                </a:moveTo>
                <a:cubicBezTo>
                  <a:pt x="64" y="97"/>
                  <a:pt x="0" y="194"/>
                  <a:pt x="76" y="105"/>
                </a:cubicBezTo>
                <a:cubicBezTo>
                  <a:pt x="97" y="80"/>
                  <a:pt x="103" y="43"/>
                  <a:pt x="128" y="21"/>
                </a:cubicBezTo>
                <a:cubicBezTo>
                  <a:pt x="142" y="9"/>
                  <a:pt x="163" y="7"/>
                  <a:pt x="181" y="0"/>
                </a:cubicBezTo>
                <a:cubicBezTo>
                  <a:pt x="216" y="3"/>
                  <a:pt x="251" y="5"/>
                  <a:pt x="285" y="10"/>
                </a:cubicBezTo>
                <a:cubicBezTo>
                  <a:pt x="296" y="12"/>
                  <a:pt x="310" y="12"/>
                  <a:pt x="317" y="21"/>
                </a:cubicBezTo>
                <a:cubicBezTo>
                  <a:pt x="326" y="32"/>
                  <a:pt x="321" y="50"/>
                  <a:pt x="327" y="63"/>
                </a:cubicBezTo>
                <a:cubicBezTo>
                  <a:pt x="332" y="74"/>
                  <a:pt x="342" y="83"/>
                  <a:pt x="348" y="94"/>
                </a:cubicBezTo>
                <a:cubicBezTo>
                  <a:pt x="353" y="104"/>
                  <a:pt x="355" y="115"/>
                  <a:pt x="359" y="126"/>
                </a:cubicBezTo>
                <a:cubicBezTo>
                  <a:pt x="356" y="171"/>
                  <a:pt x="329" y="409"/>
                  <a:pt x="369" y="450"/>
                </a:cubicBezTo>
                <a:cubicBezTo>
                  <a:pt x="371" y="453"/>
                  <a:pt x="429" y="470"/>
                  <a:pt x="432" y="471"/>
                </a:cubicBezTo>
                <a:cubicBezTo>
                  <a:pt x="485" y="461"/>
                  <a:pt x="507" y="464"/>
                  <a:pt x="537" y="419"/>
                </a:cubicBezTo>
                <a:cubicBezTo>
                  <a:pt x="557" y="354"/>
                  <a:pt x="563" y="288"/>
                  <a:pt x="599" y="230"/>
                </a:cubicBezTo>
                <a:cubicBezTo>
                  <a:pt x="631" y="234"/>
                  <a:pt x="666" y="226"/>
                  <a:pt x="694" y="241"/>
                </a:cubicBezTo>
                <a:cubicBezTo>
                  <a:pt x="716" y="253"/>
                  <a:pt x="736" y="304"/>
                  <a:pt x="736" y="304"/>
                </a:cubicBezTo>
                <a:cubicBezTo>
                  <a:pt x="795" y="486"/>
                  <a:pt x="643" y="632"/>
                  <a:pt x="840" y="670"/>
                </a:cubicBezTo>
                <a:cubicBezTo>
                  <a:pt x="921" y="659"/>
                  <a:pt x="930" y="660"/>
                  <a:pt x="976" y="597"/>
                </a:cubicBezTo>
                <a:cubicBezTo>
                  <a:pt x="987" y="546"/>
                  <a:pt x="1001" y="514"/>
                  <a:pt x="1029" y="471"/>
                </a:cubicBezTo>
                <a:cubicBezTo>
                  <a:pt x="1029" y="470"/>
                  <a:pt x="1038" y="389"/>
                  <a:pt x="1071" y="408"/>
                </a:cubicBezTo>
                <a:cubicBezTo>
                  <a:pt x="1093" y="420"/>
                  <a:pt x="1099" y="450"/>
                  <a:pt x="1113" y="471"/>
                </a:cubicBezTo>
                <a:cubicBezTo>
                  <a:pt x="1120" y="482"/>
                  <a:pt x="1134" y="503"/>
                  <a:pt x="1134" y="503"/>
                </a:cubicBezTo>
                <a:cubicBezTo>
                  <a:pt x="1168" y="609"/>
                  <a:pt x="1075" y="784"/>
                  <a:pt x="1186" y="859"/>
                </a:cubicBezTo>
                <a:cubicBezTo>
                  <a:pt x="1224" y="855"/>
                  <a:pt x="1264" y="859"/>
                  <a:pt x="1301" y="848"/>
                </a:cubicBezTo>
                <a:cubicBezTo>
                  <a:pt x="1325" y="841"/>
                  <a:pt x="1364" y="806"/>
                  <a:pt x="1364" y="806"/>
                </a:cubicBezTo>
                <a:cubicBezTo>
                  <a:pt x="1406" y="743"/>
                  <a:pt x="1449" y="719"/>
                  <a:pt x="1521" y="702"/>
                </a:cubicBezTo>
                <a:cubicBezTo>
                  <a:pt x="1580" y="713"/>
                  <a:pt x="1555" y="712"/>
                  <a:pt x="1594" y="71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36"/>
          <p:cNvSpPr/>
          <p:nvPr/>
        </p:nvSpPr>
        <p:spPr>
          <a:xfrm>
            <a:off x="7080120" y="4151160"/>
            <a:ext cx="276480" cy="176400"/>
          </a:xfrm>
          <a:custGeom>
            <a:avLst/>
            <a:gdLst>
              <a:gd name="textAreaLeft" fmla="*/ 0 w 276480"/>
              <a:gd name="textAreaRight" fmla="*/ 276840 w 276480"/>
              <a:gd name="textAreaTop" fmla="*/ 0 h 176400"/>
              <a:gd name="textAreaBottom" fmla="*/ 176400 h 176400"/>
            </a:gdLst>
            <a:ahLst/>
            <a:rect l="textAreaLeft" t="textAreaTop" r="textAreaRight" b="textAreaBottom"/>
            <a:pathLst>
              <a:path w="1367" h="879">
                <a:moveTo>
                  <a:pt x="1362" y="680"/>
                </a:moveTo>
                <a:cubicBezTo>
                  <a:pt x="1359" y="705"/>
                  <a:pt x="1367" y="734"/>
                  <a:pt x="1352" y="754"/>
                </a:cubicBezTo>
                <a:cubicBezTo>
                  <a:pt x="1344" y="764"/>
                  <a:pt x="1341" y="730"/>
                  <a:pt x="1331" y="722"/>
                </a:cubicBezTo>
                <a:cubicBezTo>
                  <a:pt x="1310" y="705"/>
                  <a:pt x="1251" y="697"/>
                  <a:pt x="1226" y="691"/>
                </a:cubicBezTo>
                <a:cubicBezTo>
                  <a:pt x="1184" y="694"/>
                  <a:pt x="1142" y="695"/>
                  <a:pt x="1101" y="701"/>
                </a:cubicBezTo>
                <a:cubicBezTo>
                  <a:pt x="1090" y="702"/>
                  <a:pt x="1077" y="704"/>
                  <a:pt x="1069" y="712"/>
                </a:cubicBezTo>
                <a:cubicBezTo>
                  <a:pt x="1051" y="730"/>
                  <a:pt x="1027" y="775"/>
                  <a:pt x="1027" y="775"/>
                </a:cubicBezTo>
                <a:cubicBezTo>
                  <a:pt x="1020" y="797"/>
                  <a:pt x="1015" y="821"/>
                  <a:pt x="996" y="838"/>
                </a:cubicBezTo>
                <a:cubicBezTo>
                  <a:pt x="977" y="854"/>
                  <a:pt x="933" y="879"/>
                  <a:pt x="933" y="879"/>
                </a:cubicBezTo>
                <a:cubicBezTo>
                  <a:pt x="871" y="859"/>
                  <a:pt x="922" y="849"/>
                  <a:pt x="860" y="827"/>
                </a:cubicBezTo>
                <a:cubicBezTo>
                  <a:pt x="810" y="752"/>
                  <a:pt x="824" y="788"/>
                  <a:pt x="807" y="722"/>
                </a:cubicBezTo>
                <a:cubicBezTo>
                  <a:pt x="813" y="671"/>
                  <a:pt x="844" y="566"/>
                  <a:pt x="818" y="513"/>
                </a:cubicBezTo>
                <a:cubicBezTo>
                  <a:pt x="812" y="502"/>
                  <a:pt x="797" y="499"/>
                  <a:pt x="786" y="492"/>
                </a:cubicBezTo>
                <a:cubicBezTo>
                  <a:pt x="753" y="496"/>
                  <a:pt x="705" y="496"/>
                  <a:pt x="671" y="513"/>
                </a:cubicBezTo>
                <a:cubicBezTo>
                  <a:pt x="614" y="542"/>
                  <a:pt x="580" y="595"/>
                  <a:pt x="514" y="618"/>
                </a:cubicBezTo>
                <a:cubicBezTo>
                  <a:pt x="439" y="602"/>
                  <a:pt x="435" y="611"/>
                  <a:pt x="420" y="534"/>
                </a:cubicBezTo>
                <a:cubicBezTo>
                  <a:pt x="416" y="445"/>
                  <a:pt x="469" y="277"/>
                  <a:pt x="357" y="241"/>
                </a:cubicBezTo>
                <a:cubicBezTo>
                  <a:pt x="229" y="253"/>
                  <a:pt x="184" y="267"/>
                  <a:pt x="95" y="356"/>
                </a:cubicBezTo>
                <a:cubicBezTo>
                  <a:pt x="0" y="258"/>
                  <a:pt x="74" y="123"/>
                  <a:pt x="74"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37"/>
          <p:cNvSpPr/>
          <p:nvPr/>
        </p:nvSpPr>
        <p:spPr>
          <a:xfrm flipH="1">
            <a:off x="7236000" y="3975120"/>
            <a:ext cx="1346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Oval 38"/>
          <p:cNvSpPr/>
          <p:nvPr/>
        </p:nvSpPr>
        <p:spPr>
          <a:xfrm>
            <a:off x="4668840" y="3495600"/>
            <a:ext cx="436680" cy="561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AutoShape 39"/>
          <p:cNvSpPr/>
          <p:nvPr/>
        </p:nvSpPr>
        <p:spPr>
          <a:xfrm>
            <a:off x="4829040" y="2546280"/>
            <a:ext cx="117720" cy="776520"/>
          </a:xfrm>
          <a:prstGeom prst="downArrow">
            <a:avLst>
              <a:gd name="adj1" fmla="val 50000"/>
              <a:gd name="adj2" fmla="val 16490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40"/>
          <p:cNvSpPr/>
          <p:nvPr/>
        </p:nvSpPr>
        <p:spPr>
          <a:xfrm>
            <a:off x="4708440" y="3797280"/>
            <a:ext cx="324000" cy="173160"/>
          </a:xfrm>
          <a:custGeom>
            <a:avLst/>
            <a:gdLst>
              <a:gd name="textAreaLeft" fmla="*/ 0 w 324000"/>
              <a:gd name="textAreaRight" fmla="*/ 324360 w 324000"/>
              <a:gd name="textAreaTop" fmla="*/ 0 h 173160"/>
              <a:gd name="textAreaBottom" fmla="*/ 173520 h 173160"/>
            </a:gdLst>
            <a:ahLst/>
            <a:rect l="textAreaLeft" t="textAreaTop" r="textAreaRight" b="textAreaBottom"/>
            <a:pathLst>
              <a:path w="1594" h="859">
                <a:moveTo>
                  <a:pt x="3" y="199"/>
                </a:moveTo>
                <a:cubicBezTo>
                  <a:pt x="64" y="97"/>
                  <a:pt x="0" y="194"/>
                  <a:pt x="76" y="105"/>
                </a:cubicBezTo>
                <a:cubicBezTo>
                  <a:pt x="97" y="80"/>
                  <a:pt x="103" y="43"/>
                  <a:pt x="128" y="21"/>
                </a:cubicBezTo>
                <a:cubicBezTo>
                  <a:pt x="142" y="9"/>
                  <a:pt x="163" y="7"/>
                  <a:pt x="181" y="0"/>
                </a:cubicBezTo>
                <a:cubicBezTo>
                  <a:pt x="216" y="3"/>
                  <a:pt x="251" y="5"/>
                  <a:pt x="285" y="10"/>
                </a:cubicBezTo>
                <a:cubicBezTo>
                  <a:pt x="296" y="12"/>
                  <a:pt x="310" y="12"/>
                  <a:pt x="317" y="21"/>
                </a:cubicBezTo>
                <a:cubicBezTo>
                  <a:pt x="326" y="32"/>
                  <a:pt x="321" y="50"/>
                  <a:pt x="327" y="63"/>
                </a:cubicBezTo>
                <a:cubicBezTo>
                  <a:pt x="332" y="74"/>
                  <a:pt x="342" y="83"/>
                  <a:pt x="348" y="94"/>
                </a:cubicBezTo>
                <a:cubicBezTo>
                  <a:pt x="353" y="104"/>
                  <a:pt x="355" y="115"/>
                  <a:pt x="359" y="126"/>
                </a:cubicBezTo>
                <a:cubicBezTo>
                  <a:pt x="356" y="171"/>
                  <a:pt x="329" y="409"/>
                  <a:pt x="369" y="450"/>
                </a:cubicBezTo>
                <a:cubicBezTo>
                  <a:pt x="371" y="453"/>
                  <a:pt x="429" y="470"/>
                  <a:pt x="432" y="471"/>
                </a:cubicBezTo>
                <a:cubicBezTo>
                  <a:pt x="485" y="461"/>
                  <a:pt x="507" y="464"/>
                  <a:pt x="537" y="419"/>
                </a:cubicBezTo>
                <a:cubicBezTo>
                  <a:pt x="557" y="354"/>
                  <a:pt x="563" y="288"/>
                  <a:pt x="599" y="230"/>
                </a:cubicBezTo>
                <a:cubicBezTo>
                  <a:pt x="631" y="234"/>
                  <a:pt x="666" y="226"/>
                  <a:pt x="694" y="241"/>
                </a:cubicBezTo>
                <a:cubicBezTo>
                  <a:pt x="716" y="253"/>
                  <a:pt x="736" y="304"/>
                  <a:pt x="736" y="304"/>
                </a:cubicBezTo>
                <a:cubicBezTo>
                  <a:pt x="795" y="486"/>
                  <a:pt x="643" y="632"/>
                  <a:pt x="840" y="670"/>
                </a:cubicBezTo>
                <a:cubicBezTo>
                  <a:pt x="921" y="659"/>
                  <a:pt x="930" y="660"/>
                  <a:pt x="976" y="597"/>
                </a:cubicBezTo>
                <a:cubicBezTo>
                  <a:pt x="987" y="546"/>
                  <a:pt x="1001" y="514"/>
                  <a:pt x="1029" y="471"/>
                </a:cubicBezTo>
                <a:cubicBezTo>
                  <a:pt x="1029" y="470"/>
                  <a:pt x="1038" y="389"/>
                  <a:pt x="1071" y="408"/>
                </a:cubicBezTo>
                <a:cubicBezTo>
                  <a:pt x="1093" y="420"/>
                  <a:pt x="1099" y="450"/>
                  <a:pt x="1113" y="471"/>
                </a:cubicBezTo>
                <a:cubicBezTo>
                  <a:pt x="1120" y="482"/>
                  <a:pt x="1134" y="503"/>
                  <a:pt x="1134" y="503"/>
                </a:cubicBezTo>
                <a:cubicBezTo>
                  <a:pt x="1168" y="609"/>
                  <a:pt x="1075" y="784"/>
                  <a:pt x="1186" y="859"/>
                </a:cubicBezTo>
                <a:cubicBezTo>
                  <a:pt x="1224" y="855"/>
                  <a:pt x="1264" y="859"/>
                  <a:pt x="1301" y="848"/>
                </a:cubicBezTo>
                <a:cubicBezTo>
                  <a:pt x="1325" y="841"/>
                  <a:pt x="1364" y="806"/>
                  <a:pt x="1364" y="806"/>
                </a:cubicBezTo>
                <a:cubicBezTo>
                  <a:pt x="1406" y="743"/>
                  <a:pt x="1449" y="719"/>
                  <a:pt x="1521" y="702"/>
                </a:cubicBezTo>
                <a:cubicBezTo>
                  <a:pt x="1580" y="713"/>
                  <a:pt x="1555" y="712"/>
                  <a:pt x="1594" y="71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41"/>
          <p:cNvSpPr/>
          <p:nvPr/>
        </p:nvSpPr>
        <p:spPr>
          <a:xfrm>
            <a:off x="4708440" y="3836880"/>
            <a:ext cx="276480" cy="176400"/>
          </a:xfrm>
          <a:custGeom>
            <a:avLst/>
            <a:gdLst>
              <a:gd name="textAreaLeft" fmla="*/ 0 w 276480"/>
              <a:gd name="textAreaRight" fmla="*/ 276840 w 276480"/>
              <a:gd name="textAreaTop" fmla="*/ 0 h 176400"/>
              <a:gd name="textAreaBottom" fmla="*/ 176400 h 176400"/>
            </a:gdLst>
            <a:ahLst/>
            <a:rect l="textAreaLeft" t="textAreaTop" r="textAreaRight" b="textAreaBottom"/>
            <a:pathLst>
              <a:path w="1367" h="879">
                <a:moveTo>
                  <a:pt x="1362" y="680"/>
                </a:moveTo>
                <a:cubicBezTo>
                  <a:pt x="1359" y="705"/>
                  <a:pt x="1367" y="734"/>
                  <a:pt x="1352" y="754"/>
                </a:cubicBezTo>
                <a:cubicBezTo>
                  <a:pt x="1344" y="764"/>
                  <a:pt x="1341" y="730"/>
                  <a:pt x="1331" y="722"/>
                </a:cubicBezTo>
                <a:cubicBezTo>
                  <a:pt x="1310" y="705"/>
                  <a:pt x="1251" y="697"/>
                  <a:pt x="1226" y="691"/>
                </a:cubicBezTo>
                <a:cubicBezTo>
                  <a:pt x="1184" y="694"/>
                  <a:pt x="1142" y="695"/>
                  <a:pt x="1101" y="701"/>
                </a:cubicBezTo>
                <a:cubicBezTo>
                  <a:pt x="1090" y="702"/>
                  <a:pt x="1077" y="704"/>
                  <a:pt x="1069" y="712"/>
                </a:cubicBezTo>
                <a:cubicBezTo>
                  <a:pt x="1051" y="730"/>
                  <a:pt x="1027" y="775"/>
                  <a:pt x="1027" y="775"/>
                </a:cubicBezTo>
                <a:cubicBezTo>
                  <a:pt x="1020" y="797"/>
                  <a:pt x="1015" y="821"/>
                  <a:pt x="996" y="838"/>
                </a:cubicBezTo>
                <a:cubicBezTo>
                  <a:pt x="977" y="854"/>
                  <a:pt x="933" y="879"/>
                  <a:pt x="933" y="879"/>
                </a:cubicBezTo>
                <a:cubicBezTo>
                  <a:pt x="871" y="859"/>
                  <a:pt x="922" y="849"/>
                  <a:pt x="860" y="827"/>
                </a:cubicBezTo>
                <a:cubicBezTo>
                  <a:pt x="810" y="752"/>
                  <a:pt x="824" y="788"/>
                  <a:pt x="807" y="722"/>
                </a:cubicBezTo>
                <a:cubicBezTo>
                  <a:pt x="813" y="671"/>
                  <a:pt x="844" y="566"/>
                  <a:pt x="818" y="513"/>
                </a:cubicBezTo>
                <a:cubicBezTo>
                  <a:pt x="812" y="502"/>
                  <a:pt x="797" y="499"/>
                  <a:pt x="786" y="492"/>
                </a:cubicBezTo>
                <a:cubicBezTo>
                  <a:pt x="753" y="496"/>
                  <a:pt x="705" y="496"/>
                  <a:pt x="671" y="513"/>
                </a:cubicBezTo>
                <a:cubicBezTo>
                  <a:pt x="614" y="542"/>
                  <a:pt x="580" y="595"/>
                  <a:pt x="514" y="618"/>
                </a:cubicBezTo>
                <a:cubicBezTo>
                  <a:pt x="439" y="602"/>
                  <a:pt x="435" y="611"/>
                  <a:pt x="420" y="534"/>
                </a:cubicBezTo>
                <a:cubicBezTo>
                  <a:pt x="416" y="445"/>
                  <a:pt x="469" y="277"/>
                  <a:pt x="357" y="241"/>
                </a:cubicBezTo>
                <a:cubicBezTo>
                  <a:pt x="229" y="253"/>
                  <a:pt x="184" y="267"/>
                  <a:pt x="95" y="356"/>
                </a:cubicBezTo>
                <a:cubicBezTo>
                  <a:pt x="0" y="258"/>
                  <a:pt x="74" y="123"/>
                  <a:pt x="74"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42"/>
          <p:cNvSpPr/>
          <p:nvPr/>
        </p:nvSpPr>
        <p:spPr>
          <a:xfrm flipH="1">
            <a:off x="4858920" y="3660840"/>
            <a:ext cx="136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Oval 43"/>
          <p:cNvSpPr/>
          <p:nvPr/>
        </p:nvSpPr>
        <p:spPr>
          <a:xfrm>
            <a:off x="4435560" y="2286000"/>
            <a:ext cx="1508040" cy="24177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44"/>
          <p:cNvSpPr/>
          <p:nvPr/>
        </p:nvSpPr>
        <p:spPr>
          <a:xfrm rot="10727400">
            <a:off x="4884480" y="2222640"/>
            <a:ext cx="277560" cy="30312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45"/>
          <p:cNvSpPr/>
          <p:nvPr/>
        </p:nvSpPr>
        <p:spPr>
          <a:xfrm>
            <a:off x="4844880" y="2222640"/>
            <a:ext cx="158760" cy="34596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46"/>
          <p:cNvSpPr/>
          <p:nvPr/>
        </p:nvSpPr>
        <p:spPr>
          <a:xfrm flipH="1">
            <a:off x="5043600" y="2266920"/>
            <a:ext cx="156960" cy="30168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Oval 47"/>
          <p:cNvSpPr/>
          <p:nvPr/>
        </p:nvSpPr>
        <p:spPr>
          <a:xfrm>
            <a:off x="4805280" y="3648240"/>
            <a:ext cx="434880" cy="561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48"/>
          <p:cNvSpPr/>
          <p:nvPr/>
        </p:nvSpPr>
        <p:spPr>
          <a:xfrm>
            <a:off x="4964040" y="2698920"/>
            <a:ext cx="119160" cy="776160"/>
          </a:xfrm>
          <a:prstGeom prst="downArrow">
            <a:avLst>
              <a:gd name="adj1" fmla="val 50000"/>
              <a:gd name="adj2" fmla="val 16284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49"/>
          <p:cNvSpPr/>
          <p:nvPr/>
        </p:nvSpPr>
        <p:spPr>
          <a:xfrm>
            <a:off x="4844880" y="3949560"/>
            <a:ext cx="322560" cy="173160"/>
          </a:xfrm>
          <a:custGeom>
            <a:avLst/>
            <a:gdLst>
              <a:gd name="textAreaLeft" fmla="*/ 0 w 322560"/>
              <a:gd name="textAreaRight" fmla="*/ 322560 w 322560"/>
              <a:gd name="textAreaTop" fmla="*/ 0 h 173160"/>
              <a:gd name="textAreaBottom" fmla="*/ 173520 h 173160"/>
            </a:gdLst>
            <a:ahLst/>
            <a:rect l="textAreaLeft" t="textAreaTop" r="textAreaRight" b="textAreaBottom"/>
            <a:pathLst>
              <a:path w="1594" h="859">
                <a:moveTo>
                  <a:pt x="3" y="199"/>
                </a:moveTo>
                <a:cubicBezTo>
                  <a:pt x="64" y="97"/>
                  <a:pt x="0" y="194"/>
                  <a:pt x="76" y="105"/>
                </a:cubicBezTo>
                <a:cubicBezTo>
                  <a:pt x="97" y="80"/>
                  <a:pt x="103" y="43"/>
                  <a:pt x="128" y="21"/>
                </a:cubicBezTo>
                <a:cubicBezTo>
                  <a:pt x="142" y="9"/>
                  <a:pt x="163" y="7"/>
                  <a:pt x="181" y="0"/>
                </a:cubicBezTo>
                <a:cubicBezTo>
                  <a:pt x="216" y="3"/>
                  <a:pt x="251" y="5"/>
                  <a:pt x="285" y="10"/>
                </a:cubicBezTo>
                <a:cubicBezTo>
                  <a:pt x="296" y="12"/>
                  <a:pt x="310" y="12"/>
                  <a:pt x="317" y="21"/>
                </a:cubicBezTo>
                <a:cubicBezTo>
                  <a:pt x="326" y="32"/>
                  <a:pt x="321" y="50"/>
                  <a:pt x="327" y="63"/>
                </a:cubicBezTo>
                <a:cubicBezTo>
                  <a:pt x="332" y="74"/>
                  <a:pt x="342" y="83"/>
                  <a:pt x="348" y="94"/>
                </a:cubicBezTo>
                <a:cubicBezTo>
                  <a:pt x="353" y="104"/>
                  <a:pt x="355" y="115"/>
                  <a:pt x="359" y="126"/>
                </a:cubicBezTo>
                <a:cubicBezTo>
                  <a:pt x="356" y="171"/>
                  <a:pt x="329" y="409"/>
                  <a:pt x="369" y="450"/>
                </a:cubicBezTo>
                <a:cubicBezTo>
                  <a:pt x="371" y="453"/>
                  <a:pt x="429" y="470"/>
                  <a:pt x="432" y="471"/>
                </a:cubicBezTo>
                <a:cubicBezTo>
                  <a:pt x="485" y="461"/>
                  <a:pt x="507" y="464"/>
                  <a:pt x="537" y="419"/>
                </a:cubicBezTo>
                <a:cubicBezTo>
                  <a:pt x="557" y="354"/>
                  <a:pt x="563" y="288"/>
                  <a:pt x="599" y="230"/>
                </a:cubicBezTo>
                <a:cubicBezTo>
                  <a:pt x="631" y="234"/>
                  <a:pt x="666" y="226"/>
                  <a:pt x="694" y="241"/>
                </a:cubicBezTo>
                <a:cubicBezTo>
                  <a:pt x="716" y="253"/>
                  <a:pt x="736" y="304"/>
                  <a:pt x="736" y="304"/>
                </a:cubicBezTo>
                <a:cubicBezTo>
                  <a:pt x="795" y="486"/>
                  <a:pt x="643" y="632"/>
                  <a:pt x="840" y="670"/>
                </a:cubicBezTo>
                <a:cubicBezTo>
                  <a:pt x="921" y="659"/>
                  <a:pt x="930" y="660"/>
                  <a:pt x="976" y="597"/>
                </a:cubicBezTo>
                <a:cubicBezTo>
                  <a:pt x="987" y="546"/>
                  <a:pt x="1001" y="514"/>
                  <a:pt x="1029" y="471"/>
                </a:cubicBezTo>
                <a:cubicBezTo>
                  <a:pt x="1029" y="470"/>
                  <a:pt x="1038" y="389"/>
                  <a:pt x="1071" y="408"/>
                </a:cubicBezTo>
                <a:cubicBezTo>
                  <a:pt x="1093" y="420"/>
                  <a:pt x="1099" y="450"/>
                  <a:pt x="1113" y="471"/>
                </a:cubicBezTo>
                <a:cubicBezTo>
                  <a:pt x="1120" y="482"/>
                  <a:pt x="1134" y="503"/>
                  <a:pt x="1134" y="503"/>
                </a:cubicBezTo>
                <a:cubicBezTo>
                  <a:pt x="1168" y="609"/>
                  <a:pt x="1075" y="784"/>
                  <a:pt x="1186" y="859"/>
                </a:cubicBezTo>
                <a:cubicBezTo>
                  <a:pt x="1224" y="855"/>
                  <a:pt x="1264" y="859"/>
                  <a:pt x="1301" y="848"/>
                </a:cubicBezTo>
                <a:cubicBezTo>
                  <a:pt x="1325" y="841"/>
                  <a:pt x="1364" y="806"/>
                  <a:pt x="1364" y="806"/>
                </a:cubicBezTo>
                <a:cubicBezTo>
                  <a:pt x="1406" y="743"/>
                  <a:pt x="1449" y="719"/>
                  <a:pt x="1521" y="702"/>
                </a:cubicBezTo>
                <a:cubicBezTo>
                  <a:pt x="1580" y="713"/>
                  <a:pt x="1555" y="712"/>
                  <a:pt x="1594" y="71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50"/>
          <p:cNvSpPr/>
          <p:nvPr/>
        </p:nvSpPr>
        <p:spPr>
          <a:xfrm>
            <a:off x="4844880" y="3989520"/>
            <a:ext cx="276480" cy="176040"/>
          </a:xfrm>
          <a:custGeom>
            <a:avLst/>
            <a:gdLst>
              <a:gd name="textAreaLeft" fmla="*/ 0 w 276480"/>
              <a:gd name="textAreaRight" fmla="*/ 276840 w 276480"/>
              <a:gd name="textAreaTop" fmla="*/ 0 h 176040"/>
              <a:gd name="textAreaBottom" fmla="*/ 176400 h 176040"/>
            </a:gdLst>
            <a:ahLst/>
            <a:rect l="textAreaLeft" t="textAreaTop" r="textAreaRight" b="textAreaBottom"/>
            <a:pathLst>
              <a:path w="1367" h="879">
                <a:moveTo>
                  <a:pt x="1362" y="680"/>
                </a:moveTo>
                <a:cubicBezTo>
                  <a:pt x="1359" y="705"/>
                  <a:pt x="1367" y="734"/>
                  <a:pt x="1352" y="754"/>
                </a:cubicBezTo>
                <a:cubicBezTo>
                  <a:pt x="1344" y="764"/>
                  <a:pt x="1341" y="730"/>
                  <a:pt x="1331" y="722"/>
                </a:cubicBezTo>
                <a:cubicBezTo>
                  <a:pt x="1310" y="705"/>
                  <a:pt x="1251" y="697"/>
                  <a:pt x="1226" y="691"/>
                </a:cubicBezTo>
                <a:cubicBezTo>
                  <a:pt x="1184" y="694"/>
                  <a:pt x="1142" y="695"/>
                  <a:pt x="1101" y="701"/>
                </a:cubicBezTo>
                <a:cubicBezTo>
                  <a:pt x="1090" y="702"/>
                  <a:pt x="1077" y="704"/>
                  <a:pt x="1069" y="712"/>
                </a:cubicBezTo>
                <a:cubicBezTo>
                  <a:pt x="1051" y="730"/>
                  <a:pt x="1027" y="775"/>
                  <a:pt x="1027" y="775"/>
                </a:cubicBezTo>
                <a:cubicBezTo>
                  <a:pt x="1020" y="797"/>
                  <a:pt x="1015" y="821"/>
                  <a:pt x="996" y="838"/>
                </a:cubicBezTo>
                <a:cubicBezTo>
                  <a:pt x="977" y="854"/>
                  <a:pt x="933" y="879"/>
                  <a:pt x="933" y="879"/>
                </a:cubicBezTo>
                <a:cubicBezTo>
                  <a:pt x="871" y="859"/>
                  <a:pt x="922" y="849"/>
                  <a:pt x="860" y="827"/>
                </a:cubicBezTo>
                <a:cubicBezTo>
                  <a:pt x="810" y="752"/>
                  <a:pt x="824" y="788"/>
                  <a:pt x="807" y="722"/>
                </a:cubicBezTo>
                <a:cubicBezTo>
                  <a:pt x="813" y="671"/>
                  <a:pt x="844" y="566"/>
                  <a:pt x="818" y="513"/>
                </a:cubicBezTo>
                <a:cubicBezTo>
                  <a:pt x="812" y="502"/>
                  <a:pt x="797" y="499"/>
                  <a:pt x="786" y="492"/>
                </a:cubicBezTo>
                <a:cubicBezTo>
                  <a:pt x="753" y="496"/>
                  <a:pt x="705" y="496"/>
                  <a:pt x="671" y="513"/>
                </a:cubicBezTo>
                <a:cubicBezTo>
                  <a:pt x="614" y="542"/>
                  <a:pt x="580" y="595"/>
                  <a:pt x="514" y="618"/>
                </a:cubicBezTo>
                <a:cubicBezTo>
                  <a:pt x="439" y="602"/>
                  <a:pt x="435" y="611"/>
                  <a:pt x="420" y="534"/>
                </a:cubicBezTo>
                <a:cubicBezTo>
                  <a:pt x="416" y="445"/>
                  <a:pt x="469" y="277"/>
                  <a:pt x="357" y="241"/>
                </a:cubicBezTo>
                <a:cubicBezTo>
                  <a:pt x="229" y="253"/>
                  <a:pt x="184" y="267"/>
                  <a:pt x="95" y="356"/>
                </a:cubicBezTo>
                <a:cubicBezTo>
                  <a:pt x="0" y="258"/>
                  <a:pt x="74" y="123"/>
                  <a:pt x="74"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51"/>
          <p:cNvSpPr/>
          <p:nvPr/>
        </p:nvSpPr>
        <p:spPr>
          <a:xfrm flipH="1">
            <a:off x="5046840" y="3809880"/>
            <a:ext cx="1346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AutoShape 52"/>
          <p:cNvSpPr/>
          <p:nvPr/>
        </p:nvSpPr>
        <p:spPr>
          <a:xfrm>
            <a:off x="1015920" y="2755800"/>
            <a:ext cx="119160" cy="776520"/>
          </a:xfrm>
          <a:prstGeom prst="downArrow">
            <a:avLst>
              <a:gd name="adj1" fmla="val 50000"/>
              <a:gd name="adj2" fmla="val 16291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53"/>
          <p:cNvSpPr/>
          <p:nvPr/>
        </p:nvSpPr>
        <p:spPr>
          <a:xfrm>
            <a:off x="812880" y="3746520"/>
            <a:ext cx="436320" cy="561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54"/>
          <p:cNvSpPr/>
          <p:nvPr/>
        </p:nvSpPr>
        <p:spPr>
          <a:xfrm>
            <a:off x="826920" y="4046400"/>
            <a:ext cx="276480" cy="176400"/>
          </a:xfrm>
          <a:custGeom>
            <a:avLst/>
            <a:gdLst>
              <a:gd name="textAreaLeft" fmla="*/ 0 w 276480"/>
              <a:gd name="textAreaRight" fmla="*/ 276840 w 276480"/>
              <a:gd name="textAreaTop" fmla="*/ 0 h 176400"/>
              <a:gd name="textAreaBottom" fmla="*/ 176400 h 176400"/>
            </a:gdLst>
            <a:ahLst/>
            <a:rect l="textAreaLeft" t="textAreaTop" r="textAreaRight" b="textAreaBottom"/>
            <a:pathLst>
              <a:path w="1367" h="879">
                <a:moveTo>
                  <a:pt x="1362" y="680"/>
                </a:moveTo>
                <a:cubicBezTo>
                  <a:pt x="1359" y="705"/>
                  <a:pt x="1367" y="734"/>
                  <a:pt x="1352" y="754"/>
                </a:cubicBezTo>
                <a:cubicBezTo>
                  <a:pt x="1344" y="764"/>
                  <a:pt x="1341" y="730"/>
                  <a:pt x="1331" y="722"/>
                </a:cubicBezTo>
                <a:cubicBezTo>
                  <a:pt x="1310" y="705"/>
                  <a:pt x="1251" y="697"/>
                  <a:pt x="1226" y="691"/>
                </a:cubicBezTo>
                <a:cubicBezTo>
                  <a:pt x="1184" y="694"/>
                  <a:pt x="1142" y="695"/>
                  <a:pt x="1101" y="701"/>
                </a:cubicBezTo>
                <a:cubicBezTo>
                  <a:pt x="1090" y="702"/>
                  <a:pt x="1077" y="704"/>
                  <a:pt x="1069" y="712"/>
                </a:cubicBezTo>
                <a:cubicBezTo>
                  <a:pt x="1051" y="730"/>
                  <a:pt x="1027" y="775"/>
                  <a:pt x="1027" y="775"/>
                </a:cubicBezTo>
                <a:cubicBezTo>
                  <a:pt x="1020" y="797"/>
                  <a:pt x="1015" y="821"/>
                  <a:pt x="996" y="838"/>
                </a:cubicBezTo>
                <a:cubicBezTo>
                  <a:pt x="977" y="854"/>
                  <a:pt x="933" y="879"/>
                  <a:pt x="933" y="879"/>
                </a:cubicBezTo>
                <a:cubicBezTo>
                  <a:pt x="871" y="859"/>
                  <a:pt x="922" y="849"/>
                  <a:pt x="860" y="827"/>
                </a:cubicBezTo>
                <a:cubicBezTo>
                  <a:pt x="810" y="752"/>
                  <a:pt x="824" y="788"/>
                  <a:pt x="807" y="722"/>
                </a:cubicBezTo>
                <a:cubicBezTo>
                  <a:pt x="813" y="671"/>
                  <a:pt x="844" y="566"/>
                  <a:pt x="818" y="513"/>
                </a:cubicBezTo>
                <a:cubicBezTo>
                  <a:pt x="812" y="502"/>
                  <a:pt x="797" y="499"/>
                  <a:pt x="786" y="492"/>
                </a:cubicBezTo>
                <a:cubicBezTo>
                  <a:pt x="753" y="496"/>
                  <a:pt x="705" y="496"/>
                  <a:pt x="671" y="513"/>
                </a:cubicBezTo>
                <a:cubicBezTo>
                  <a:pt x="614" y="542"/>
                  <a:pt x="580" y="595"/>
                  <a:pt x="514" y="618"/>
                </a:cubicBezTo>
                <a:cubicBezTo>
                  <a:pt x="439" y="602"/>
                  <a:pt x="435" y="611"/>
                  <a:pt x="420" y="534"/>
                </a:cubicBezTo>
                <a:cubicBezTo>
                  <a:pt x="416" y="445"/>
                  <a:pt x="469" y="277"/>
                  <a:pt x="357" y="241"/>
                </a:cubicBezTo>
                <a:cubicBezTo>
                  <a:pt x="229" y="253"/>
                  <a:pt x="184" y="267"/>
                  <a:pt x="95" y="356"/>
                </a:cubicBezTo>
                <a:cubicBezTo>
                  <a:pt x="0" y="258"/>
                  <a:pt x="74" y="123"/>
                  <a:pt x="74"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55"/>
          <p:cNvSpPr/>
          <p:nvPr/>
        </p:nvSpPr>
        <p:spPr>
          <a:xfrm>
            <a:off x="812880" y="4025880"/>
            <a:ext cx="323640" cy="173160"/>
          </a:xfrm>
          <a:custGeom>
            <a:avLst/>
            <a:gdLst>
              <a:gd name="textAreaLeft" fmla="*/ 0 w 323640"/>
              <a:gd name="textAreaRight" fmla="*/ 324000 w 323640"/>
              <a:gd name="textAreaTop" fmla="*/ 0 h 173160"/>
              <a:gd name="textAreaBottom" fmla="*/ 173520 h 173160"/>
            </a:gdLst>
            <a:ahLst/>
            <a:rect l="textAreaLeft" t="textAreaTop" r="textAreaRight" b="textAreaBottom"/>
            <a:pathLst>
              <a:path w="1594" h="859">
                <a:moveTo>
                  <a:pt x="3" y="199"/>
                </a:moveTo>
                <a:cubicBezTo>
                  <a:pt x="64" y="97"/>
                  <a:pt x="0" y="194"/>
                  <a:pt x="76" y="105"/>
                </a:cubicBezTo>
                <a:cubicBezTo>
                  <a:pt x="97" y="80"/>
                  <a:pt x="103" y="43"/>
                  <a:pt x="128" y="21"/>
                </a:cubicBezTo>
                <a:cubicBezTo>
                  <a:pt x="142" y="9"/>
                  <a:pt x="163" y="7"/>
                  <a:pt x="181" y="0"/>
                </a:cubicBezTo>
                <a:cubicBezTo>
                  <a:pt x="216" y="3"/>
                  <a:pt x="251" y="5"/>
                  <a:pt x="285" y="10"/>
                </a:cubicBezTo>
                <a:cubicBezTo>
                  <a:pt x="296" y="12"/>
                  <a:pt x="310" y="12"/>
                  <a:pt x="317" y="21"/>
                </a:cubicBezTo>
                <a:cubicBezTo>
                  <a:pt x="326" y="32"/>
                  <a:pt x="321" y="50"/>
                  <a:pt x="327" y="63"/>
                </a:cubicBezTo>
                <a:cubicBezTo>
                  <a:pt x="332" y="74"/>
                  <a:pt x="342" y="83"/>
                  <a:pt x="348" y="94"/>
                </a:cubicBezTo>
                <a:cubicBezTo>
                  <a:pt x="353" y="104"/>
                  <a:pt x="355" y="115"/>
                  <a:pt x="359" y="126"/>
                </a:cubicBezTo>
                <a:cubicBezTo>
                  <a:pt x="356" y="171"/>
                  <a:pt x="329" y="409"/>
                  <a:pt x="369" y="450"/>
                </a:cubicBezTo>
                <a:cubicBezTo>
                  <a:pt x="371" y="453"/>
                  <a:pt x="429" y="470"/>
                  <a:pt x="432" y="471"/>
                </a:cubicBezTo>
                <a:cubicBezTo>
                  <a:pt x="485" y="461"/>
                  <a:pt x="507" y="464"/>
                  <a:pt x="537" y="419"/>
                </a:cubicBezTo>
                <a:cubicBezTo>
                  <a:pt x="557" y="354"/>
                  <a:pt x="563" y="288"/>
                  <a:pt x="599" y="230"/>
                </a:cubicBezTo>
                <a:cubicBezTo>
                  <a:pt x="631" y="234"/>
                  <a:pt x="666" y="226"/>
                  <a:pt x="694" y="241"/>
                </a:cubicBezTo>
                <a:cubicBezTo>
                  <a:pt x="716" y="253"/>
                  <a:pt x="736" y="304"/>
                  <a:pt x="736" y="304"/>
                </a:cubicBezTo>
                <a:cubicBezTo>
                  <a:pt x="795" y="486"/>
                  <a:pt x="643" y="632"/>
                  <a:pt x="840" y="670"/>
                </a:cubicBezTo>
                <a:cubicBezTo>
                  <a:pt x="921" y="659"/>
                  <a:pt x="930" y="660"/>
                  <a:pt x="976" y="597"/>
                </a:cubicBezTo>
                <a:cubicBezTo>
                  <a:pt x="987" y="546"/>
                  <a:pt x="1001" y="514"/>
                  <a:pt x="1029" y="471"/>
                </a:cubicBezTo>
                <a:cubicBezTo>
                  <a:pt x="1029" y="470"/>
                  <a:pt x="1038" y="389"/>
                  <a:pt x="1071" y="408"/>
                </a:cubicBezTo>
                <a:cubicBezTo>
                  <a:pt x="1093" y="420"/>
                  <a:pt x="1099" y="450"/>
                  <a:pt x="1113" y="471"/>
                </a:cubicBezTo>
                <a:cubicBezTo>
                  <a:pt x="1120" y="482"/>
                  <a:pt x="1134" y="503"/>
                  <a:pt x="1134" y="503"/>
                </a:cubicBezTo>
                <a:cubicBezTo>
                  <a:pt x="1168" y="609"/>
                  <a:pt x="1075" y="784"/>
                  <a:pt x="1186" y="859"/>
                </a:cubicBezTo>
                <a:cubicBezTo>
                  <a:pt x="1224" y="855"/>
                  <a:pt x="1264" y="859"/>
                  <a:pt x="1301" y="848"/>
                </a:cubicBezTo>
                <a:cubicBezTo>
                  <a:pt x="1325" y="841"/>
                  <a:pt x="1364" y="806"/>
                  <a:pt x="1364" y="806"/>
                </a:cubicBezTo>
                <a:cubicBezTo>
                  <a:pt x="1406" y="743"/>
                  <a:pt x="1449" y="719"/>
                  <a:pt x="1521" y="702"/>
                </a:cubicBezTo>
                <a:cubicBezTo>
                  <a:pt x="1580" y="713"/>
                  <a:pt x="1555" y="712"/>
                  <a:pt x="1594" y="71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56"/>
          <p:cNvSpPr/>
          <p:nvPr/>
        </p:nvSpPr>
        <p:spPr>
          <a:xfrm flipH="1">
            <a:off x="1015920" y="3898800"/>
            <a:ext cx="684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AutoShape 57"/>
          <p:cNvSpPr/>
          <p:nvPr/>
        </p:nvSpPr>
        <p:spPr>
          <a:xfrm rot="10727400">
            <a:off x="1150920" y="1841040"/>
            <a:ext cx="277920" cy="30348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58"/>
          <p:cNvSpPr/>
          <p:nvPr/>
        </p:nvSpPr>
        <p:spPr>
          <a:xfrm rot="10727400">
            <a:off x="744480" y="1841040"/>
            <a:ext cx="277920" cy="30348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59"/>
          <p:cNvSpPr/>
          <p:nvPr/>
        </p:nvSpPr>
        <p:spPr>
          <a:xfrm rot="10727400">
            <a:off x="474480" y="2069640"/>
            <a:ext cx="276120" cy="30348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AutoShape 60"/>
          <p:cNvSpPr/>
          <p:nvPr/>
        </p:nvSpPr>
        <p:spPr>
          <a:xfrm rot="10727400">
            <a:off x="1422000" y="1994040"/>
            <a:ext cx="276120" cy="30312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61"/>
          <p:cNvSpPr/>
          <p:nvPr/>
        </p:nvSpPr>
        <p:spPr>
          <a:xfrm rot="10727400">
            <a:off x="406080" y="1612440"/>
            <a:ext cx="276120" cy="30348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62"/>
          <p:cNvSpPr/>
          <p:nvPr/>
        </p:nvSpPr>
        <p:spPr>
          <a:xfrm flipH="1">
            <a:off x="7112160" y="3975120"/>
            <a:ext cx="1346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63"/>
          <p:cNvSpPr/>
          <p:nvPr/>
        </p:nvSpPr>
        <p:spPr>
          <a:xfrm flipH="1">
            <a:off x="7314840" y="4051440"/>
            <a:ext cx="1350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AutoShape 64"/>
          <p:cNvSpPr/>
          <p:nvPr/>
        </p:nvSpPr>
        <p:spPr>
          <a:xfrm>
            <a:off x="5099040" y="2679840"/>
            <a:ext cx="119160" cy="776160"/>
          </a:xfrm>
          <a:prstGeom prst="downArrow">
            <a:avLst>
              <a:gd name="adj1" fmla="val 50000"/>
              <a:gd name="adj2" fmla="val 16284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AutoShape 65"/>
          <p:cNvSpPr/>
          <p:nvPr/>
        </p:nvSpPr>
        <p:spPr>
          <a:xfrm>
            <a:off x="4808520" y="2679840"/>
            <a:ext cx="119160" cy="776160"/>
          </a:xfrm>
          <a:prstGeom prst="downArrow">
            <a:avLst>
              <a:gd name="adj1" fmla="val 50000"/>
              <a:gd name="adj2" fmla="val 16284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66"/>
          <p:cNvSpPr/>
          <p:nvPr/>
        </p:nvSpPr>
        <p:spPr>
          <a:xfrm>
            <a:off x="5219640" y="2751120"/>
            <a:ext cx="119160" cy="776160"/>
          </a:xfrm>
          <a:prstGeom prst="downArrow">
            <a:avLst>
              <a:gd name="adj1" fmla="val 50000"/>
              <a:gd name="adj2" fmla="val 16284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67"/>
          <p:cNvSpPr/>
          <p:nvPr/>
        </p:nvSpPr>
        <p:spPr>
          <a:xfrm>
            <a:off x="406440" y="4965840"/>
            <a:ext cx="1571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Increas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In growth factor</a:t>
            </a:r>
            <a:endParaRPr b="0" lang="en-US" sz="2000" spc="-1" strike="noStrike">
              <a:solidFill>
                <a:srgbClr val="000000"/>
              </a:solidFill>
              <a:latin typeface="Arial"/>
            </a:endParaRPr>
          </a:p>
        </p:txBody>
      </p:sp>
      <p:sp>
        <p:nvSpPr>
          <p:cNvPr id="146" name="Text Box 68"/>
          <p:cNvSpPr/>
          <p:nvPr/>
        </p:nvSpPr>
        <p:spPr>
          <a:xfrm>
            <a:off x="2438280" y="4876920"/>
            <a:ext cx="16401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Increas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In growth fact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Black"/>
              </a:rPr>
              <a:t>receptors</a:t>
            </a:r>
            <a:endParaRPr b="0" lang="en-US" sz="2000" spc="-1" strike="noStrike">
              <a:solidFill>
                <a:srgbClr val="000000"/>
              </a:solidFill>
              <a:latin typeface="Arial"/>
            </a:endParaRPr>
          </a:p>
        </p:txBody>
      </p:sp>
      <p:sp>
        <p:nvSpPr>
          <p:cNvPr id="147" name="Text Box 69"/>
          <p:cNvSpPr/>
          <p:nvPr/>
        </p:nvSpPr>
        <p:spPr>
          <a:xfrm>
            <a:off x="4419720" y="4952880"/>
            <a:ext cx="1846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Increased in signal transduction</a:t>
            </a:r>
            <a:endParaRPr b="0" lang="en-US" sz="2000" spc="-1" strike="noStrike">
              <a:solidFill>
                <a:srgbClr val="000000"/>
              </a:solidFill>
              <a:latin typeface="Arial"/>
            </a:endParaRPr>
          </a:p>
        </p:txBody>
      </p:sp>
      <p:sp>
        <p:nvSpPr>
          <p:cNvPr id="148" name="Text Box 70"/>
          <p:cNvSpPr/>
          <p:nvPr/>
        </p:nvSpPr>
        <p:spPr>
          <a:xfrm>
            <a:off x="6721560" y="5118120"/>
            <a:ext cx="18129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Increase in activation of transcription</a:t>
            </a:r>
            <a:endParaRPr b="0" lang="en-US" sz="2000" spc="-1" strike="noStrike">
              <a:solidFill>
                <a:srgbClr val="000000"/>
              </a:solidFill>
              <a:latin typeface="Arial"/>
            </a:endParaRPr>
          </a:p>
        </p:txBody>
      </p:sp>
      <p:sp>
        <p:nvSpPr>
          <p:cNvPr id="149" name="AutoShape 71"/>
          <p:cNvSpPr/>
          <p:nvPr/>
        </p:nvSpPr>
        <p:spPr>
          <a:xfrm rot="10727400">
            <a:off x="3454200" y="3594240"/>
            <a:ext cx="276120" cy="30312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Line 72"/>
          <p:cNvSpPr/>
          <p:nvPr/>
        </p:nvSpPr>
        <p:spPr>
          <a:xfrm>
            <a:off x="3413160" y="3594240"/>
            <a:ext cx="160200" cy="34596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73"/>
          <p:cNvSpPr/>
          <p:nvPr/>
        </p:nvSpPr>
        <p:spPr>
          <a:xfrm flipH="1">
            <a:off x="3613320" y="3638520"/>
            <a:ext cx="156960" cy="30168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AutoShape 74"/>
          <p:cNvSpPr/>
          <p:nvPr/>
        </p:nvSpPr>
        <p:spPr>
          <a:xfrm rot="10727400">
            <a:off x="2979720" y="4355640"/>
            <a:ext cx="277920" cy="30348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Line 75"/>
          <p:cNvSpPr/>
          <p:nvPr/>
        </p:nvSpPr>
        <p:spPr>
          <a:xfrm>
            <a:off x="2979720" y="4432320"/>
            <a:ext cx="160200" cy="34596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76"/>
          <p:cNvSpPr/>
          <p:nvPr/>
        </p:nvSpPr>
        <p:spPr>
          <a:xfrm flipH="1">
            <a:off x="3182400" y="4356000"/>
            <a:ext cx="158760" cy="30168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AutoShape 77"/>
          <p:cNvSpPr/>
          <p:nvPr/>
        </p:nvSpPr>
        <p:spPr>
          <a:xfrm rot="5404800">
            <a:off x="2149560" y="3840120"/>
            <a:ext cx="311040" cy="27000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3200" bIns="432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Line 78"/>
          <p:cNvSpPr/>
          <p:nvPr/>
        </p:nvSpPr>
        <p:spPr>
          <a:xfrm flipV="1">
            <a:off x="2091600" y="3985560"/>
            <a:ext cx="312480" cy="17136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79"/>
          <p:cNvSpPr/>
          <p:nvPr/>
        </p:nvSpPr>
        <p:spPr>
          <a:xfrm>
            <a:off x="2101680" y="3743280"/>
            <a:ext cx="263880" cy="18432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AutoShape 80"/>
          <p:cNvSpPr/>
          <p:nvPr/>
        </p:nvSpPr>
        <p:spPr>
          <a:xfrm rot="13342200">
            <a:off x="3448080" y="2603160"/>
            <a:ext cx="277920" cy="30312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Line 81"/>
          <p:cNvSpPr/>
          <p:nvPr/>
        </p:nvSpPr>
        <p:spPr>
          <a:xfrm flipH="1">
            <a:off x="3471840" y="2520360"/>
            <a:ext cx="124200" cy="36036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82"/>
          <p:cNvSpPr/>
          <p:nvPr/>
        </p:nvSpPr>
        <p:spPr>
          <a:xfrm flipH="1">
            <a:off x="3506760" y="2779200"/>
            <a:ext cx="322920" cy="10836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AutoShape 83"/>
          <p:cNvSpPr/>
          <p:nvPr/>
        </p:nvSpPr>
        <p:spPr>
          <a:xfrm rot="7593000">
            <a:off x="2014200" y="3001680"/>
            <a:ext cx="311400" cy="27000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3200" bIns="432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Line 84"/>
          <p:cNvSpPr/>
          <p:nvPr/>
        </p:nvSpPr>
        <p:spPr>
          <a:xfrm>
            <a:off x="2077200" y="3204000"/>
            <a:ext cx="352080" cy="45720"/>
          </a:xfrm>
          <a:prstGeom prst="line">
            <a:avLst/>
          </a:prstGeom>
          <a:ln w="76320">
            <a:solidFill>
              <a:srgbClr val="0c08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63" name="Line 85"/>
          <p:cNvSpPr/>
          <p:nvPr/>
        </p:nvSpPr>
        <p:spPr>
          <a:xfrm>
            <a:off x="2250360" y="2920680"/>
            <a:ext cx="101520" cy="30528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AutoShape 86"/>
          <p:cNvSpPr/>
          <p:nvPr/>
        </p:nvSpPr>
        <p:spPr>
          <a:xfrm rot="9096600">
            <a:off x="2302920" y="2374560"/>
            <a:ext cx="276120" cy="30312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Line 87"/>
          <p:cNvSpPr/>
          <p:nvPr/>
        </p:nvSpPr>
        <p:spPr>
          <a:xfrm>
            <a:off x="2192040" y="2430000"/>
            <a:ext cx="299160" cy="23544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88"/>
          <p:cNvSpPr/>
          <p:nvPr/>
        </p:nvSpPr>
        <p:spPr>
          <a:xfrm flipH="1">
            <a:off x="2562120" y="2371320"/>
            <a:ext cx="2520" cy="34092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auses of Neoplasia</a:t>
            </a: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fontScale="98000"/>
          </a:bodyPr>
          <a:p>
            <a:pPr lvl="1" marL="727920" indent="-280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Environmental causes: (Carcinogens</a:t>
            </a:r>
            <a:r>
              <a:rPr b="1" lang="en-US" sz="3200" spc="-1" strike="noStrike">
                <a:solidFill>
                  <a:srgbClr val="000000"/>
                </a:solidFill>
                <a:latin typeface="Arial"/>
              </a:rPr>
              <a:t>)</a:t>
            </a:r>
            <a:endParaRPr b="0" lang="en-US" sz="3200" spc="-1" strike="noStrike">
              <a:solidFill>
                <a:srgbClr val="000000"/>
              </a:solidFill>
              <a:latin typeface="Arial"/>
            </a:endParaRPr>
          </a:p>
          <a:p>
            <a:pPr lvl="2" marL="1119960" indent="-223920">
              <a:spcBef>
                <a:spcPts val="799"/>
              </a:spcBef>
              <a:buClr>
                <a:srgbClr val="ff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hemicals </a:t>
            </a:r>
            <a:endParaRPr b="0" lang="en-US" sz="3200" spc="-1" strike="noStrike">
              <a:solidFill>
                <a:srgbClr val="000000"/>
              </a:solidFill>
              <a:latin typeface="Arial"/>
            </a:endParaRPr>
          </a:p>
          <a:p>
            <a:pPr lvl="2" marL="1119960" indent="-223920">
              <a:spcBef>
                <a:spcPts val="799"/>
              </a:spcBef>
              <a:buClr>
                <a:srgbClr val="ff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Viruses </a:t>
            </a:r>
            <a:endParaRPr b="0" lang="en-US" sz="3200" spc="-1" strike="noStrike">
              <a:solidFill>
                <a:srgbClr val="000000"/>
              </a:solidFill>
              <a:latin typeface="Arial"/>
            </a:endParaRPr>
          </a:p>
          <a:p>
            <a:pPr lvl="2" marL="1119960" indent="-223920">
              <a:spcBef>
                <a:spcPts val="799"/>
              </a:spcBef>
              <a:buClr>
                <a:srgbClr val="ff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adiation</a:t>
            </a:r>
            <a:r>
              <a:rPr b="0" lang="en-US" sz="3200" spc="-1" strike="noStrike">
                <a:solidFill>
                  <a:srgbClr val="000000"/>
                </a:solidFill>
                <a:latin typeface="Arial"/>
              </a:rPr>
              <a:t> </a:t>
            </a:r>
            <a:endParaRPr b="0" lang="en-US" sz="3200" spc="-1" strike="noStrike">
              <a:solidFill>
                <a:srgbClr val="000000"/>
              </a:solidFill>
              <a:latin typeface="Arial"/>
            </a:endParaRPr>
          </a:p>
          <a:p>
            <a:pPr lvl="1" marL="727920" indent="-280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ereditary causes- Genetic defects.</a:t>
            </a:r>
            <a:endParaRPr b="0" lang="en-US" sz="3200" spc="-1" strike="noStrike">
              <a:solidFill>
                <a:srgbClr val="000000"/>
              </a:solidFill>
              <a:latin typeface="Arial"/>
            </a:endParaRPr>
          </a:p>
          <a:p>
            <a:pPr lvl="1" marL="727920" indent="-280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ombination – common.</a:t>
            </a:r>
            <a:endParaRPr b="0" lang="en-US" sz="3200" spc="-1" strike="noStrike">
              <a:solidFill>
                <a:srgbClr val="000000"/>
              </a:solidFill>
              <a:latin typeface="Arial"/>
            </a:endParaRPr>
          </a:p>
          <a:p>
            <a:pPr lvl="1" marL="727920" indent="-280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ll cancer is genetic, not all cancer is hereditary</a:t>
            </a:r>
            <a:endParaRPr b="0" lang="en-US" sz="3200" spc="-1" strike="noStrike">
              <a:solidFill>
                <a:srgbClr val="000000"/>
              </a:solidFill>
              <a:latin typeface="Arial"/>
            </a:endParaRPr>
          </a:p>
          <a:p>
            <a:pPr lvl="1" marL="727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1" descr="http://image.slidesharecdn.com/cancerchemotherapy-131021122836-phpapp02/95/slide-2-638.jpg?1382377759"/>
          <p:cNvPicPr/>
          <p:nvPr/>
        </p:nvPicPr>
        <p:blipFill>
          <a:blip r:embed="rId1"/>
          <a:stretch/>
        </p:blipFill>
        <p:spPr>
          <a:xfrm>
            <a:off x="0" y="0"/>
            <a:ext cx="9144000" cy="6964200"/>
          </a:xfrm>
          <a:prstGeom prst="rect">
            <a:avLst/>
          </a:prstGeom>
          <a:ln w="0">
            <a:noFill/>
          </a:ln>
        </p:spPr>
      </p:pic>
      <p:sp>
        <p:nvSpPr>
          <p:cNvPr id="172" name="AutoShape 3"/>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4"/>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5"/>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6"/>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AutoShape 7"/>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8"/>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9"/>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AutoShape 10"/>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AutoShape 11"/>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AutoShape 12"/>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13"/>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AutoShape 14"/>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utoShape 15"/>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AutoShape 16"/>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17"/>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18"/>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utoShape 19"/>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20"/>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AutoShape 21"/>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AutoShape 22"/>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23"/>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AutoShape 24"/>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AutoShape 25"/>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AutoShape 26"/>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AutoShape 27"/>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28"/>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29"/>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30"/>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AutoShape 31"/>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32"/>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33"/>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34"/>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AutoShape 35"/>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36"/>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37"/>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38"/>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39"/>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er</dc:creator>
  <dc:description/>
  <dc:language>en-US</dc:language>
  <cp:lastModifiedBy>User</cp:lastModifiedBy>
  <dcterms:modified xsi:type="dcterms:W3CDTF">2015-02-12T07:54:00Z</dcterms:modified>
  <cp:revision>19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