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amed M. Sayed-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4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1/1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40226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L 4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74E4-ED35-400F-A6BF-8BDBF3CCB54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50B0-F377-4D84-9041-10C31D5605D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ate Placeholder 4"/>
          <p:cNvSpPr/>
          <p:nvPr/>
        </p:nvSpPr>
        <p:spPr>
          <a:xfrm>
            <a:off x="14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1/1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5"/>
          <p:cNvSpPr/>
          <p:nvPr/>
        </p:nvSpPr>
        <p:spPr>
          <a:xfrm>
            <a:off x="40226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L 4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Header Placeholder 6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amed M. Sayed-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9C9-86C7-41C5-A498-DB624B52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A0A2-91FD-4A4A-A2C0-C8F1B203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422-457F-4006-9BF5-4484FB59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369-15C6-4DD3-85C6-9F864E45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BFA-7AB9-4E51-A589-B1C2CA05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863A-D255-4FF7-903D-19D68E9B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7CD-45CB-4F1E-99B1-D1AA35A8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496-2795-41BC-8878-818E5B4A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50E-C5FE-494B-B793-891BCF3C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4B7-2056-4EC1-B7B3-05785073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5B83-A8D5-4D85-9A6F-941AE4EA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B5F-7D46-4241-B160-C95EF811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59E0-25B6-4431-8F99-FBA249D789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L 425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. Mohamed M. Sayed-Ahm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poisomerase Inhibito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drug Resist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ACTION OF TOPO 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TOPO II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Simultaneous administ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OPO I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 II inhibitors lead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antagon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ase in cytotoxicity because both TOPO I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 II have base specificity and may comp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 for cleavable si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Sequential administ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OPO I and TOPO 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ibitors leads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ergistic cytotoxi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SISTANCE TO TOPOISOMERASE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- Altered Topoiso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- Multidrug Resistance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ultidrug Resistance (MD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ross Resis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many structurally unrelated anticanc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u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ntrins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fore exposure to chemotherap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cqui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fter exposure to chemotherap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overexpression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OUR M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e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-Glyco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most studied MDR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-glyco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ts a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TP-consuming pum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mula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lux of cytotoxic drugs outside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-GLYCO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3578_1"/>
          <p:cNvPicPr/>
          <p:nvPr/>
        </p:nvPicPr>
        <p:blipFill>
          <a:blip r:embed="rId1"/>
          <a:stretch/>
        </p:blipFill>
        <p:spPr>
          <a:xfrm>
            <a:off x="685800" y="1620720"/>
            <a:ext cx="784872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DR AGON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- Anthracycline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-Anthrac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oxorubicin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 Mitoxant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aunorubicin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 Bisantr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pi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- Vinca Alkaloid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- Epipodophyllotox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Vinblastine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Etoposide (VP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cristin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eniposide (VM-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des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orel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- Topoisomerase Inhibitor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- Taxane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Topotecan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Paclitaxel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Campttothecin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Doceta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ETITIVE  P-GLYCOPROTEIN 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odulator2"/>
          <p:cNvPicPr/>
          <p:nvPr/>
        </p:nvPicPr>
        <p:blipFill>
          <a:blip r:embed="rId1"/>
          <a:stretch/>
        </p:blipFill>
        <p:spPr>
          <a:xfrm>
            <a:off x="685800" y="1143000"/>
            <a:ext cx="8077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N-COMPETITIVE P-GLYCOPROTEIN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odulator 3"/>
          <p:cNvPicPr/>
          <p:nvPr/>
        </p:nvPicPr>
        <p:blipFill>
          <a:blip r:embed="rId1"/>
          <a:stretch/>
        </p:blipFill>
        <p:spPr>
          <a:xfrm>
            <a:off x="380880" y="1143000"/>
            <a:ext cx="8153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DR BLOC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- Calcium channel blocker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erapam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ifedi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- Immunosuppressan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yclospori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- Antieste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amoxifen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- Calmodulin inhibitor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rifluoper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hlorprom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rochlorperazin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- Antimalarial drug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in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- Antiarrhythmic drug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inid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Amiodaron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POISOMERAS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79360" y="1219320"/>
            <a:ext cx="87123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Role of Topoisomerases (TO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TOPOISOMERASES induce TRANSIENT BREAK in single strand (TOPO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and double stands (TOPO II) and RESEA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Times New Roman"/>
              </a:rPr>
              <a:t>Topoisomerase I</a:t>
            </a: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Swiveling DNA into 2 single strands which is importa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transcri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0000"/>
                </a:solidFill>
                <a:uFillTx/>
                <a:latin typeface="Times New Roman"/>
              </a:rPr>
              <a:t>Topoisomerase II</a:t>
            </a: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Allow the passage of one segment of DNA-double strand through a temporary gate in other se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wo types of TOPO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OPO II alpha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OPO II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b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70 k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8o k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7q21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3P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"/>
          <p:cNvSpPr/>
          <p:nvPr/>
        </p:nvSpPr>
        <p:spPr>
          <a:xfrm>
            <a:off x="2209680" y="2286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Topoisomerase I (L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T1B"/>
          <p:cNvPicPr/>
          <p:nvPr/>
        </p:nvPicPr>
        <p:blipFill>
          <a:blip r:embed="rId1"/>
          <a:stretch/>
        </p:blipFill>
        <p:spPr>
          <a:xfrm>
            <a:off x="457200" y="990720"/>
            <a:ext cx="8305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CHANISM OF ACTION OF TOPOISOMERAS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- It inhibits the cycle (break and resealing) of TOPO at the DNA break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- It inhibits DNA closing or resealing reaction by forming stable cleavable-TOPO-DNA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- It forms indirect protein-associated single and double strand br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2296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6623"/>
                </a:solidFill>
                <a:latin typeface="Arial"/>
              </a:rPr>
              <a:t>TOPOISOMERASE I 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OPOTE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RINOTE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PTOTHECIN (CPT 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TOPL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6623"/>
                </a:solidFill>
                <a:latin typeface="Arial"/>
              </a:rPr>
              <a:t>TOPOISOMERASE II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1- EPIPODOPHLLYOTOX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Etoposid (VP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Teniposide (NM-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2- ANTHRACYC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oxo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auno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itoxant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da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i24p30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5410080"/>
          </a:xfrm>
          <a:prstGeom prst="rect">
            <a:avLst/>
          </a:prstGeom>
          <a:ln w="0">
            <a:noFill/>
          </a:ln>
        </p:spPr>
      </p:pic>
      <p:sp>
        <p:nvSpPr>
          <p:cNvPr id="62" name="Oval 5"/>
          <p:cNvSpPr/>
          <p:nvPr/>
        </p:nvSpPr>
        <p:spPr>
          <a:xfrm rot="18585000">
            <a:off x="6114960" y="4562280"/>
            <a:ext cx="457200" cy="171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228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potecan stabilises topoisomerase I-DNA cleavabl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fi24p30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82480" y="274680"/>
            <a:ext cx="77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Topoisomerase I mechanism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5720760" y="4079520"/>
            <a:ext cx="889560" cy="834480"/>
            <a:chOff x="5720760" y="4079520"/>
            <a:chExt cx="889560" cy="834480"/>
          </a:xfrm>
        </p:grpSpPr>
        <p:sp>
          <p:nvSpPr>
            <p:cNvPr id="68" name="AutoShape 7"/>
            <p:cNvSpPr/>
            <p:nvPr/>
          </p:nvSpPr>
          <p:spPr>
            <a:xfrm rot="19318200">
              <a:off x="5778360" y="4269600"/>
              <a:ext cx="774360" cy="453960"/>
            </a:xfrm>
            <a:custGeom>
              <a:avLst/>
              <a:gdLst>
                <a:gd name="textAreaLeft" fmla="*/ 0 w 774360"/>
                <a:gd name="textAreaRight" fmla="*/ 774720 w 774360"/>
                <a:gd name="textAreaTop" fmla="*/ 0 h 453960"/>
                <a:gd name="textAreaBottom" fmla="*/ 162000 h 4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 rot="52800">
              <a:off x="5946840" y="41529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Times New Roman"/>
                </a:rPr>
                <a:t>T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02-24T05:09:08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