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amed M. Sayed-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4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1/1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40226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L 4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4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E4E1-9ECB-49F9-B5C2-0802C0677CA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14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3632-1FC5-43F4-ABAA-F9020F5565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Date Placeholder 4"/>
          <p:cNvSpPr/>
          <p:nvPr/>
        </p:nvSpPr>
        <p:spPr>
          <a:xfrm>
            <a:off x="14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1/1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5"/>
          <p:cNvSpPr/>
          <p:nvPr/>
        </p:nvSpPr>
        <p:spPr>
          <a:xfrm>
            <a:off x="40226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L 4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Header Placeholder 6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amed M. Sayed-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1820-D518-4F29-A797-0B393C2C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85C6-0655-48EC-AD07-39094431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4E8-4E37-4965-BC4E-E5C85F5F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E635-6B6F-4C2B-9C5B-F6094E94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ABB-3DAD-4C49-A8F3-78A3A940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BBFD-C349-4396-AE78-A6975A2A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6C4-2E48-4ED8-8E4C-FEF6C668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7B4-F700-4624-807F-D396DB49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0222-7CB9-469A-A59F-9503ECC2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98E4-2E17-4FCE-91F0-3B9FAE0C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0546-CD12-4EE1-A720-BFF49255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157E-89D1-492F-83E8-634D2D6B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3C62-82EA-4F26-9A8E-7D88C970CF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HL 425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r. Mohamed M. Sayed-Ahme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poisomerase Inhibito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drug Resist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ERACTION OF TOPO I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D TOPO II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Simultaneous administ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OPO I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O II inhibitors lead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antagon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rease in cytotoxicity because both TOPO I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O II have base specificity and may comp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 for cleavable si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Sequential administ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OPO I and TOPO 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ibitors leads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ergistic cytotoxic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SISTANCE TO TOPOISOMERASE INHIBI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- Altered Topoiso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- Multidrug Resistance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ultidrug Resistance (MD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ross Resis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many structurally unrelated anticanc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ug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ntrins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fore exposure to chemotherap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cqui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fter exposure to chemotherap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 by overexpression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OUR M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e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-Glyco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most studied MDR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-glyco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ts a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TP-consuming pum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mulat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lux of cytotoxic drugs outside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-GLYCO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23578_1"/>
          <p:cNvPicPr/>
          <p:nvPr/>
        </p:nvPicPr>
        <p:blipFill>
          <a:blip r:embed="rId1"/>
          <a:stretch/>
        </p:blipFill>
        <p:spPr>
          <a:xfrm>
            <a:off x="685800" y="1620720"/>
            <a:ext cx="784872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DR AGON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- Anthracycline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-Anthrac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oxorubicin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 Mitoxant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aunorubicin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 Bisantr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pi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- Vinca Alkaloid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- Epipodophyllotox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Vinblastine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Etoposide (VP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incristine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Teniposide (VM-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indes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inorel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- Topoisomerase Inhibitor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6- Taxane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Topotecan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Paclitaxel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Campttothecin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Doceta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ETITIVE  P-GLYCOPROTEIN 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odulator2"/>
          <p:cNvPicPr/>
          <p:nvPr/>
        </p:nvPicPr>
        <p:blipFill>
          <a:blip r:embed="rId1"/>
          <a:stretch/>
        </p:blipFill>
        <p:spPr>
          <a:xfrm>
            <a:off x="685800" y="1143000"/>
            <a:ext cx="8077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N-COMPETITIVE P-GLYCOPROTEIN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odulator 3"/>
          <p:cNvPicPr/>
          <p:nvPr/>
        </p:nvPicPr>
        <p:blipFill>
          <a:blip r:embed="rId1"/>
          <a:stretch/>
        </p:blipFill>
        <p:spPr>
          <a:xfrm>
            <a:off x="380880" y="1143000"/>
            <a:ext cx="8153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DR BLOC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- Calcium channel blocker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erapam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ifedi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- Immunosuppressan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yclosporin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- Antieste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amoxifen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- Calmodulin inhibitor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Trifluoper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hlorprom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rochlorperazin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- Antimalarial drug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Quin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6- Antiarrhythmic drug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Quinid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Amiodarone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OPOISOMERAS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79360" y="1219320"/>
            <a:ext cx="87123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Role of Topoisomerases (TO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TOPOISOMERASES induce TRANSIENT BREAK in single strand (TOPO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and double stands (TOPO II) and RESEA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Times New Roman"/>
              </a:rPr>
              <a:t>Topoisomerase I</a:t>
            </a:r>
            <a:r>
              <a:rPr b="1" lang="de-DE" sz="18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Swiveling DNA into 2 single strands which is importan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transcri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0000"/>
                </a:solidFill>
                <a:uFillTx/>
                <a:latin typeface="Times New Roman"/>
              </a:rPr>
              <a:t>Topoisomerase II</a:t>
            </a:r>
            <a:r>
              <a:rPr b="1" lang="de-DE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Allow the passage of one segment of DNA-double strand through a temporary gate in other seg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Two types of TOPO 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TOPO II alpha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TOPO II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b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70 k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8o k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7q21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3P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8"/>
          <p:cNvSpPr/>
          <p:nvPr/>
        </p:nvSpPr>
        <p:spPr>
          <a:xfrm>
            <a:off x="2209680" y="2286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Topoisomerase I (L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T1B"/>
          <p:cNvPicPr/>
          <p:nvPr/>
        </p:nvPicPr>
        <p:blipFill>
          <a:blip r:embed="rId1"/>
          <a:stretch/>
        </p:blipFill>
        <p:spPr>
          <a:xfrm>
            <a:off x="457200" y="990720"/>
            <a:ext cx="8305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CHANISM OF ACTION OF TOPOISOMERAS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- It inhibits the cycle (break and resealing) of TOPO at the DNA break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- It inhibits DNA closing or resealing reaction by forming stable cleavable-TOPO-DNA comp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- It forms indirect protein-associated single and double strand br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2296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6623"/>
                </a:solidFill>
                <a:latin typeface="Arial"/>
              </a:rPr>
              <a:t>TOPOISOMERASE I  INHIBI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OPOTE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RINOTE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MPTOTHECIN (CPT 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NTOPL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6623"/>
                </a:solidFill>
                <a:latin typeface="Arial"/>
              </a:rPr>
              <a:t>TOPOISOMERASE II INHIBI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1- EPIPODOPHLLYOTOX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- Etoposid (VP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- Teniposide (NM-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2- ANTHRACYC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oxo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auno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itoxant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da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i24p30"/>
          <p:cNvPicPr/>
          <p:nvPr/>
        </p:nvPicPr>
        <p:blipFill>
          <a:blip r:embed="rId1"/>
          <a:stretch/>
        </p:blipFill>
        <p:spPr>
          <a:xfrm>
            <a:off x="685800" y="1219320"/>
            <a:ext cx="7924680" cy="5410080"/>
          </a:xfrm>
          <a:prstGeom prst="rect">
            <a:avLst/>
          </a:prstGeom>
          <a:ln w="0">
            <a:noFill/>
          </a:ln>
        </p:spPr>
      </p:pic>
      <p:sp>
        <p:nvSpPr>
          <p:cNvPr id="62" name="Oval 5"/>
          <p:cNvSpPr/>
          <p:nvPr/>
        </p:nvSpPr>
        <p:spPr>
          <a:xfrm rot="18585000">
            <a:off x="6114960" y="4562280"/>
            <a:ext cx="457200" cy="171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0880" y="2286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potecan stabilises topoisomerase I-DNA cleavabl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fi24p30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82480" y="274680"/>
            <a:ext cx="77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Topoisomerase I mechanism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6"/>
          <p:cNvGrpSpPr/>
          <p:nvPr/>
        </p:nvGrpSpPr>
        <p:grpSpPr>
          <a:xfrm>
            <a:off x="5720760" y="4079520"/>
            <a:ext cx="889560" cy="834480"/>
            <a:chOff x="5720760" y="4079520"/>
            <a:chExt cx="889560" cy="834480"/>
          </a:xfrm>
        </p:grpSpPr>
        <p:sp>
          <p:nvSpPr>
            <p:cNvPr id="68" name="AutoShape 7"/>
            <p:cNvSpPr/>
            <p:nvPr/>
          </p:nvSpPr>
          <p:spPr>
            <a:xfrm rot="19318200">
              <a:off x="5778360" y="4269600"/>
              <a:ext cx="774360" cy="453960"/>
            </a:xfrm>
            <a:custGeom>
              <a:avLst/>
              <a:gdLst>
                <a:gd name="textAreaLeft" fmla="*/ 0 w 774360"/>
                <a:gd name="textAreaRight" fmla="*/ 774720 w 774360"/>
                <a:gd name="textAreaTop" fmla="*/ 0 h 453960"/>
                <a:gd name="textAreaBottom" fmla="*/ 162000 h 45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 rot="52800">
              <a:off x="5946840" y="41529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0000"/>
                  </a:solidFill>
                  <a:latin typeface="Times New Roman"/>
                </a:rPr>
                <a:t>T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5-02-24T05:09:08Z</dcterms:modified>
  <cp:revision>1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