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851-2633-47BC-8252-54BCFFC9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8F3-730C-46A7-8A41-7D44CD8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190-A41F-40F5-907E-3C36592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67F-7103-4C31-911B-98389A80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EB7-282B-403B-9221-A3C1F92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2B7-ABEE-417C-9B3B-2D4B6FA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FC3-71A5-429C-AE35-EC051F29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B5D-EAEF-4466-913D-D22C9E4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7A1-6160-426B-B113-17918266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7C3-0EC3-4F3B-AFE1-1452FFB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B4-92D0-4151-A1D9-45356F4A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6D8-F4EE-4B4D-B7F6-E78E9A1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F4F-883B-4686-B88C-23EB4A2FBB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514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362320" y="3047760"/>
            <a:ext cx="9903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191120"/>
            <a:ext cx="152388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variable plotted on vertical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4724280"/>
            <a:ext cx="152388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variable plotted on horizontal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571640" y="3200040"/>
            <a:ext cx="15228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761760" cy="457200"/>
          </a:xfrm>
          <a:prstGeom prst="line">
            <a:avLst/>
          </a:prstGeom>
          <a:ln w="284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990720"/>
            <a:ext cx="3200400" cy="119124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Slope or the change in y for every 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28600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Y-intercept or the value of y when x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410080" y="1828800"/>
            <a:ext cx="457200" cy="838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ing the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895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otal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aggregate dispersion of the individual data values across the various factor levels (S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9528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Within-Group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persion that exists among the data values within a particular factor level (S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886200"/>
            <a:ext cx="79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mong-Group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persion between the factor sample means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1905120"/>
            <a:ext cx="3657600" cy="581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 = SSA + S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>
            <a:off x="2437920" y="2209680"/>
            <a:ext cx="1752840" cy="8384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209680"/>
            <a:ext cx="2209680" cy="8384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 of Total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838080"/>
            <a:ext cx="4800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31760" y="3048120"/>
            <a:ext cx="293076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ue to Factor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46760" y="3067200"/>
            <a:ext cx="3975120" cy="8204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 Due to Random Sampling (S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0760" y="1693800"/>
            <a:ext cx="3746520" cy="51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tion (S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2520" y="4495680"/>
            <a:ext cx="4038840" cy="19051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72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referred to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quares Un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2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-Group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495680"/>
            <a:ext cx="3886200" cy="1905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7280" indent="-287280"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ly referred to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Betwe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Am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of Squares Explai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64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ng Groups Vari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680" y="3187800"/>
            <a:ext cx="834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4000" y="3124080"/>
            <a:ext cx="835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n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f. = n –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4120" y="2895480"/>
            <a:ext cx="365760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ong-Group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4038480"/>
            <a:ext cx="1827000" cy="144648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aba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9760" y="4038480"/>
            <a:ext cx="1750680" cy="144648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aba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4038480"/>
            <a:ext cx="1751040" cy="144648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1827360" cy="144648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038480"/>
            <a:ext cx="0" cy="1524240"/>
          </a:xfrm>
          <a:prstGeom prst="line">
            <a:avLst/>
          </a:prstGeom>
          <a:ln w="12600">
            <a:solidFill>
              <a:srgbClr val="abab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038480"/>
            <a:ext cx="0" cy="1524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200400"/>
            <a:ext cx="3276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Du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mo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1920" y="6095880"/>
            <a:ext cx="1297080" cy="230400"/>
          </a:xfrm>
          <a:custGeom>
            <a:avLst/>
            <a:gdLst/>
            <a:ahLst/>
            <a:rect l="l" t="t" r="r" b="b"/>
            <a:pathLst>
              <a:path w="337" h="145">
                <a:moveTo>
                  <a:pt x="0" y="72"/>
                </a:moveTo>
                <a:lnTo>
                  <a:pt x="67" y="144"/>
                </a:lnTo>
                <a:lnTo>
                  <a:pt x="67" y="108"/>
                </a:lnTo>
                <a:lnTo>
                  <a:pt x="269" y="108"/>
                </a:lnTo>
                <a:lnTo>
                  <a:pt x="269" y="144"/>
                </a:lnTo>
                <a:lnTo>
                  <a:pt x="336" y="72"/>
                </a:lnTo>
                <a:lnTo>
                  <a:pt x="269" y="0"/>
                </a:lnTo>
                <a:lnTo>
                  <a:pt x="269" y="36"/>
                </a:lnTo>
                <a:lnTo>
                  <a:pt x="67" y="36"/>
                </a:lnTo>
                <a:lnTo>
                  <a:pt x="67" y="0"/>
                </a:lnTo>
                <a:lnTo>
                  <a:pt x="0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81080" y="5562720"/>
          <a:ext cx="4143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562720"/>
                    <a:ext cx="414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124080" y="5562720"/>
          <a:ext cx="4431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562720"/>
                    <a:ext cx="443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14560" y="1735200"/>
                <a:ext cx="38415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715000" y="2971800"/>
                <a:ext cx="24382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A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57200" y="5562720"/>
            <a:ext cx="449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343400"/>
            <a:ext cx="3276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quare Among = SSA/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4120" y="2895480"/>
            <a:ext cx="3657600" cy="2590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in-Group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316400"/>
            <a:ext cx="17510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3164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200400"/>
            <a:ext cx="3276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ng the variation within each group and then adding over al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5154480"/>
            <a:ext cx="1371600" cy="230400"/>
          </a:xfrm>
          <a:custGeom>
            <a:avLst/>
            <a:gdLst/>
            <a:ahLst/>
            <a:rect l="l" t="t" r="r" b="b"/>
            <a:pathLst>
              <a:path w="337" h="145">
                <a:moveTo>
                  <a:pt x="0" y="72"/>
                </a:moveTo>
                <a:lnTo>
                  <a:pt x="67" y="144"/>
                </a:lnTo>
                <a:lnTo>
                  <a:pt x="67" y="108"/>
                </a:lnTo>
                <a:lnTo>
                  <a:pt x="269" y="108"/>
                </a:lnTo>
                <a:lnTo>
                  <a:pt x="269" y="144"/>
                </a:lnTo>
                <a:lnTo>
                  <a:pt x="336" y="72"/>
                </a:lnTo>
                <a:lnTo>
                  <a:pt x="269" y="0"/>
                </a:lnTo>
                <a:lnTo>
                  <a:pt x="269" y="36"/>
                </a:lnTo>
                <a:lnTo>
                  <a:pt x="67" y="36"/>
                </a:lnTo>
                <a:lnTo>
                  <a:pt x="67" y="0"/>
                </a:lnTo>
                <a:lnTo>
                  <a:pt x="0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72080" y="2971800"/>
                <a:ext cx="2724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W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066680" y="5840280"/>
            <a:ext cx="35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4343400"/>
            <a:ext cx="3276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quare Within = SSW/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3520" y="1752480"/>
                <a:ext cx="46846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/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643120" y="5791320"/>
                <a:ext cx="449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1752480"/>
            <a:ext cx="6629400" cy="9144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752480"/>
            <a:ext cx="1752480" cy="3657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752480"/>
            <a:ext cx="8381880" cy="365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80880"/>
            <a:ext cx="772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828800"/>
            <a:ext cx="167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ource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74800" y="1943280"/>
            <a:ext cx="4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99000" y="194328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9040" y="1828800"/>
            <a:ext cx="165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4640" y="2793960"/>
            <a:ext cx="153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mo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7600" y="2971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9720" y="2971800"/>
            <a:ext cx="112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4640" y="3703680"/>
            <a:ext cx="14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ith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5640" y="388620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886200"/>
            <a:ext cx="8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09000" y="3886200"/>
            <a:ext cx="119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040" y="472428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5640" y="472428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720" y="4572000"/>
            <a:ext cx="167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+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6000" y="29718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1752480"/>
            <a:ext cx="0" cy="365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6668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65760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57200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01360" y="281952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4040" y="32637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10360" y="326376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2360" y="198108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638680"/>
            <a:ext cx="51055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= number of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sum of the sample sizes from all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f =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1520" y="27432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9720" y="32004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3657600"/>
            <a:ext cx="8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411480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4114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0440" y="3048120"/>
            <a:ext cx="63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29000" y="2819520"/>
            <a:ext cx="2362320" cy="12189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:  F Test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815328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S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mean squares </a:t>
            </a:r>
            <a:r>
              <a:rPr b="0" lang="en-US" sz="1700" spc="-1" strike="noStrike">
                <a:solidFill>
                  <a:srgbClr val="0033cc"/>
                </a:solidFill>
                <a:latin typeface="Arial"/>
              </a:rPr>
              <a:t>amo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S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mean squares </a:t>
            </a:r>
            <a:r>
              <a:rPr b="0" lang="en-US" sz="1700" spc="-1" strike="noStrike">
                <a:solidFill>
                  <a:srgbClr val="0033cc"/>
                </a:solidFill>
                <a:latin typeface="Arial"/>
              </a:rPr>
              <a:t>withi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c – 1        (c = number of group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n – c        (n = sum of sample sizes from all population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657600" y="2895480"/>
                <a:ext cx="198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752480" y="1600200"/>
            <a:ext cx="6629400" cy="11167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 least two population mean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343400"/>
            <a:ext cx="380988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preting One-Way ANOV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 statistic is the ratio of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m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 of variance and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imate of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ratio must always be posi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1 will typically be sm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will typically be l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419720"/>
            <a:ext cx="36576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F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0120" y="542448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02160" y="4267080"/>
            <a:ext cx="3513240" cy="13860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54244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45080" y="43578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28148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4244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160" y="5195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48909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086600" y="5653080"/>
            <a:ext cx="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486040" y="5881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086240" y="5881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80536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58053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172200"/>
            <a:ext cx="609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67480" y="1828800"/>
            <a:ext cx="114300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1828800"/>
            <a:ext cx="1295280" cy="236232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828800"/>
            <a:ext cx="1219320" cy="236232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: F Test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368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ee if cholesterol level is different in three gro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andomly select five patients. Measure their cholesterol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0.05 significance level, is there a difference in mean ch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051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8288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0120" y="51814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50292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4724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800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0384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029200"/>
            <a:ext cx="30456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5410080"/>
            <a:ext cx="1761840" cy="486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4876920"/>
            <a:ext cx="1541520" cy="485640"/>
          </a:xfrm>
          <a:prstGeom prst="rect">
            <a:avLst/>
          </a:prstGeom>
          <a:solidFill>
            <a:srgbClr val="fcc9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4876920"/>
            <a:ext cx="1395360" cy="485640"/>
          </a:xfrm>
          <a:prstGeom prst="rect">
            <a:avLst/>
          </a:prstGeom>
          <a:solidFill>
            <a:srgbClr val="f98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876920"/>
            <a:ext cx="1468440" cy="48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e-Way ANOVA Example: Scatt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19051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6248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828800"/>
            <a:ext cx="83484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97640" y="33544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97640" y="31258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97640" y="2668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7640" y="251604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21351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64320" y="42688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4320" y="41925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64320" y="3811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64320" y="343044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64320" y="3506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c98c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962520"/>
            <a:ext cx="3068640" cy="0"/>
          </a:xfrm>
          <a:prstGeom prst="line">
            <a:avLst/>
          </a:prstGeom>
          <a:ln w="25560">
            <a:solidFill>
              <a:srgbClr val="a5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523880"/>
            <a:ext cx="160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867280" y="2590920"/>
          <a:ext cx="8384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90920"/>
                    <a:ext cx="838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34320" y="3886200"/>
          <a:ext cx="609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886200"/>
                    <a:ext cx="609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924680" y="4724280"/>
          <a:ext cx="67968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4724280"/>
                    <a:ext cx="679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705720" y="4114800"/>
            <a:ext cx="304560" cy="0"/>
          </a:xfrm>
          <a:prstGeom prst="line">
            <a:avLst/>
          </a:prstGeom>
          <a:ln w="38160">
            <a:solidFill>
              <a:srgbClr val="fcc9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05560" y="2971800"/>
            <a:ext cx="3045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05920" y="3581280"/>
          <a:ext cx="6094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3581280"/>
                    <a:ext cx="60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 flipH="1">
            <a:off x="5165640" y="5791320"/>
            <a:ext cx="921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181480" y="59436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181480" y="6095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67440" y="58672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6024600"/>
            <a:ext cx="7632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8600" y="4952880"/>
                <a:ext cx="42670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    {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</m:t>
                    </m:r>
                    <m:r>
                      <m:rPr>
                        <m:lit/>
                        <m:nor/>
                      </m:rPr>
                      <m:t xml:space="preserve"> 2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209680" y="426708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1828800"/>
            <a:ext cx="114300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1828800"/>
            <a:ext cx="1295280" cy="236232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828800"/>
            <a:ext cx="1219320" cy="236232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051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646416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61722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2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828800"/>
            <a:ext cx="36576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6172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48320" y="1676520"/>
            <a:ext cx="3047760" cy="457200"/>
          </a:xfrm>
          <a:prstGeom prst="rect">
            <a:avLst/>
          </a:prstGeom>
          <a:solidFill>
            <a:srgbClr val="f98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209680"/>
            <a:ext cx="3047760" cy="457200"/>
          </a:xfrm>
          <a:prstGeom prst="rect">
            <a:avLst/>
          </a:prstGeom>
          <a:solidFill>
            <a:srgbClr val="fcc9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2743200"/>
            <a:ext cx="3047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191120"/>
            <a:ext cx="800100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334120"/>
            <a:ext cx="350532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ne-Way ANOVA Example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1676520"/>
            <a:ext cx="114300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1676520"/>
            <a:ext cx="1295280" cy="2361960"/>
          </a:xfrm>
          <a:prstGeom prst="rect">
            <a:avLst/>
          </a:prstGeom>
          <a:solidFill>
            <a:srgbClr val="fcc98c"/>
          </a:solidFill>
          <a:ln w="9360">
            <a:solidFill>
              <a:srgbClr val="fddc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76520"/>
            <a:ext cx="1219320" cy="2361960"/>
          </a:xfrm>
          <a:prstGeom prst="rect">
            <a:avLst/>
          </a:prstGeom>
          <a:solidFill>
            <a:srgbClr val="f98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ctr" pos="465120"/>
                <a:tab algn="ctr" pos="1595520"/>
                <a:tab algn="ctr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p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2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1752480"/>
            <a:ext cx="144792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2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227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1752480"/>
            <a:ext cx="144756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4191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=  5 (249.2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5 (226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5 (205.8 – 227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471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648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W =  (254 – 249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263 – 249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…+ (204 – 205.8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11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5334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A = 4716.4 / (3-1) = 235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7913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W = 1119.6 / (15-3) = 9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5334120"/>
            <a:ext cx="381240" cy="914400"/>
          </a:xfrm>
          <a:custGeom>
            <a:avLst/>
            <a:gdLst>
              <a:gd name="textAreaLeft" fmla="*/ 0 w 381240"/>
              <a:gd name="textAreaRight" fmla="*/ 137520 w 381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794120" y="5334120"/>
                <a:ext cx="30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380880" y="1676520"/>
            <a:ext cx="36576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5105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ressio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verage change i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by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edicted value for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lope = 0, then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help in predicting 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nea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52680" y="5943600"/>
            <a:ext cx="1447920" cy="4356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5.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447920"/>
            <a:ext cx="2667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OVA Exampl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48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not all equ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2      d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6120" y="4191120"/>
            <a:ext cx="3578400" cy="574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5181480"/>
            <a:ext cx="396252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evidence that at least on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s from th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 3.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5704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419720" y="2438280"/>
                <a:ext cx="43815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80988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 3.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gnificant and Non-significan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14400" y="2133720"/>
          <a:ext cx="2600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600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952880" y="2133720"/>
          <a:ext cx="35528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133720"/>
                    <a:ext cx="35528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912960" y="510552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&gt;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1440" y="502920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&gt;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OVA (summ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143000"/>
            <a:ext cx="8382240" cy="53550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hypothesis is that there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the m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hypothesis i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 least two means di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 statistic as your test statistic. It tests the between-sample variance (difference between the means) against the within-sample variance (variability within the sample). The larger this is the more likely the means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of freedom for numerator is k-1 (k is the number of treat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s of freedom for the denominator is n-k (n is the number of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est F is larger than critical F, then reject th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-value is less than alpha, then reject th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OVA (summar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371600"/>
            <a:ext cx="807696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REJECT THE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one-way ANOVA after you have rejected the null, you may want to determine which treatment yielded the bes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o follow-on analysis to determine if the difference between each pair of means if significan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ost ANOVA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One-way ANOVA 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udy described here is about measuring cortisol levels in 3 groups of subjec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y (n =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ed: Non-melancholic depressed (n = 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ed:  Melancholic depressed (n =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were obtain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480" y="2285640"/>
            <a:ext cx="9083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urce     DF        SS        MS        F       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rp.        2     164.7      82.3     6.61    0.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     53     660.0     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     55     82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dividual 95% CIs For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d on Pooled St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vel       N      Mean     StDev  -+---------+---------+---------+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         16     9.200     2.931   (------*-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          22    10.700     2.758          (-----*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         18    13.500     4.674                    (------*-----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+---------+---------+---------+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oled StDev =    3.529           7.5      10.0      12.5      1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ultiple Comparison of the Means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ethods are available depending upon whether one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wishes to compare means with a control me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Dunnet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just overall compari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ukey and Fis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280" y="30481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Dunnett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mparisons with a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ritical value = 2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 = level (1) of Grp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treatment mean minus control 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vel           Lower    Center     Upper -----+---------+---------+---------+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    -1.127     1.500     4.127 (----------*----------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     1.553     4.300     7.047            (----------*----------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+---------+---------+---------+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0      1.5       4.0      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ultiple Comparison of Means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Tukey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air wise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(column level mean)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−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row level m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-4.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-7.224      -5.5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376      -0.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urier New"/>
              </a:rPr>
              <a:t>Fisher'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air wise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vals for (column level mean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−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row level m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-3.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-6.732      -5.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.868      -0.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64008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al ANOVA Setting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arisons of 2 or mor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 controls one or more independ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treatment vari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contains two or m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groups or categories/class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effects on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levels of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esign: the plan used to collect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gic of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ation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fferent from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nd (total sample) 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om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sources of variance from 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That due to the treatment or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at which is unexplained by our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666880"/>
            <a:ext cx="76964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Way Analysis of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aluate the difference among the means of two or more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Example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ccident rates for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cted mileage for five brands of ti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ssum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s are normally distribu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s have equal vari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s are randomly and independently draw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ypotheses of One-Way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1612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13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opulation means are eq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.e., no treatment eff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o variation in means among grou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one population mean is diff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re is a treatment eff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not mean that all population means are different (some pairs may be the s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OVA does not tell you where the difference lies. For this reason ,you need another test, either the Scheffe' or Tukey post ANOVA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00000" y="1198440"/>
                <a:ext cx="3976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65160" y="3200400"/>
                <a:ext cx="7645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 all of the population means are the sam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e-Factor AN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73392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733920"/>
            <a:ext cx="17510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6576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657600"/>
            <a:ext cx="182700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581280"/>
            <a:ext cx="1979640" cy="144648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81280"/>
            <a:ext cx="1903320" cy="1446480"/>
          </a:xfrm>
          <a:custGeom>
            <a:avLst/>
            <a:gdLst/>
            <a:ahLst/>
            <a:rect l="l" t="t" r="r" b="b"/>
            <a:pathLst>
              <a:path w="1199" h="911">
                <a:moveTo>
                  <a:pt x="0" y="910"/>
                </a:moveTo>
                <a:lnTo>
                  <a:pt x="126" y="899"/>
                </a:lnTo>
                <a:lnTo>
                  <a:pt x="189" y="889"/>
                </a:lnTo>
                <a:lnTo>
                  <a:pt x="254" y="872"/>
                </a:lnTo>
                <a:lnTo>
                  <a:pt x="315" y="852"/>
                </a:lnTo>
                <a:lnTo>
                  <a:pt x="380" y="825"/>
                </a:lnTo>
                <a:lnTo>
                  <a:pt x="441" y="787"/>
                </a:lnTo>
                <a:lnTo>
                  <a:pt x="566" y="683"/>
                </a:lnTo>
                <a:lnTo>
                  <a:pt x="692" y="533"/>
                </a:lnTo>
                <a:lnTo>
                  <a:pt x="820" y="356"/>
                </a:lnTo>
                <a:lnTo>
                  <a:pt x="881" y="265"/>
                </a:lnTo>
                <a:lnTo>
                  <a:pt x="946" y="181"/>
                </a:lnTo>
                <a:lnTo>
                  <a:pt x="1007" y="107"/>
                </a:lnTo>
                <a:lnTo>
                  <a:pt x="1072" y="49"/>
                </a:lnTo>
                <a:lnTo>
                  <a:pt x="1133" y="14"/>
                </a:lnTo>
                <a:lnTo>
                  <a:pt x="1198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429000"/>
            <a:ext cx="4572000" cy="11642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l Means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Null Hypothesis is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o Treatment Eff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7339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24200" y="52578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46280" y="1600200"/>
                <a:ext cx="3975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73280" y="2181240"/>
                <a:ext cx="4122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t all 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sa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62120" y="5257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59040" y="5715000"/>
                <a:ext cx="18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-Factor AN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10112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11480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114800"/>
            <a:ext cx="105588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191120"/>
            <a:ext cx="1143000" cy="144612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4191120"/>
            <a:ext cx="1127160" cy="1444680"/>
          </a:xfrm>
          <a:custGeom>
            <a:avLst/>
            <a:gdLst/>
            <a:ahLst/>
            <a:rect l="l" t="t" r="r" b="b"/>
            <a:pathLst>
              <a:path w="710" h="910">
                <a:moveTo>
                  <a:pt x="0" y="910"/>
                </a:moveTo>
                <a:lnTo>
                  <a:pt x="73" y="899"/>
                </a:lnTo>
                <a:lnTo>
                  <a:pt x="109" y="889"/>
                </a:lnTo>
                <a:lnTo>
                  <a:pt x="147" y="872"/>
                </a:lnTo>
                <a:lnTo>
                  <a:pt x="182" y="852"/>
                </a:lnTo>
                <a:lnTo>
                  <a:pt x="219" y="825"/>
                </a:lnTo>
                <a:lnTo>
                  <a:pt x="255" y="787"/>
                </a:lnTo>
                <a:lnTo>
                  <a:pt x="327" y="683"/>
                </a:lnTo>
                <a:lnTo>
                  <a:pt x="399" y="533"/>
                </a:lnTo>
                <a:lnTo>
                  <a:pt x="473" y="356"/>
                </a:lnTo>
                <a:lnTo>
                  <a:pt x="508" y="265"/>
                </a:lnTo>
                <a:lnTo>
                  <a:pt x="546" y="181"/>
                </a:lnTo>
                <a:lnTo>
                  <a:pt x="581" y="107"/>
                </a:lnTo>
                <a:lnTo>
                  <a:pt x="619" y="49"/>
                </a:lnTo>
                <a:lnTo>
                  <a:pt x="654" y="14"/>
                </a:lnTo>
                <a:lnTo>
                  <a:pt x="71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895480"/>
            <a:ext cx="5029200" cy="11642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least one mean is diffe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Null Hypothesis is NOT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reatment Effect is 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468520" y="1523880"/>
                <a:ext cx="3978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96960" y="2104920"/>
                <a:ext cx="41230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t all 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sa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80880" y="57150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49200" y="5867280"/>
                <a:ext cx="1881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324480" y="4191120"/>
            <a:ext cx="105588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191120"/>
            <a:ext cx="1011240" cy="1446120"/>
          </a:xfrm>
          <a:custGeom>
            <a:avLst/>
            <a:gdLst/>
            <a:ahLst/>
            <a:rect l="l" t="t" r="r" b="b"/>
            <a:pathLst>
              <a:path w="1103" h="911">
                <a:moveTo>
                  <a:pt x="0" y="910"/>
                </a:moveTo>
                <a:lnTo>
                  <a:pt x="116" y="899"/>
                </a:lnTo>
                <a:lnTo>
                  <a:pt x="174" y="889"/>
                </a:lnTo>
                <a:lnTo>
                  <a:pt x="234" y="872"/>
                </a:lnTo>
                <a:lnTo>
                  <a:pt x="290" y="852"/>
                </a:lnTo>
                <a:lnTo>
                  <a:pt x="349" y="825"/>
                </a:lnTo>
                <a:lnTo>
                  <a:pt x="405" y="787"/>
                </a:lnTo>
                <a:lnTo>
                  <a:pt x="521" y="683"/>
                </a:lnTo>
                <a:lnTo>
                  <a:pt x="637" y="533"/>
                </a:lnTo>
                <a:lnTo>
                  <a:pt x="755" y="356"/>
                </a:lnTo>
                <a:lnTo>
                  <a:pt x="811" y="265"/>
                </a:lnTo>
                <a:lnTo>
                  <a:pt x="870" y="181"/>
                </a:lnTo>
                <a:lnTo>
                  <a:pt x="927" y="107"/>
                </a:lnTo>
                <a:lnTo>
                  <a:pt x="986" y="49"/>
                </a:lnTo>
                <a:lnTo>
                  <a:pt x="1042" y="14"/>
                </a:lnTo>
                <a:lnTo>
                  <a:pt x="1102" y="0"/>
                </a:lnTo>
              </a:path>
            </a:pathLst>
          </a:custGeom>
          <a:noFill/>
          <a:ln cap="rnd"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1150" y="910"/>
                </a:moveTo>
                <a:lnTo>
                  <a:pt x="1029" y="899"/>
                </a:lnTo>
                <a:lnTo>
                  <a:pt x="969" y="889"/>
                </a:lnTo>
                <a:lnTo>
                  <a:pt x="906" y="872"/>
                </a:lnTo>
                <a:lnTo>
                  <a:pt x="848" y="852"/>
                </a:lnTo>
                <a:lnTo>
                  <a:pt x="786" y="825"/>
                </a:lnTo>
                <a:lnTo>
                  <a:pt x="727" y="787"/>
                </a:lnTo>
                <a:lnTo>
                  <a:pt x="604" y="683"/>
                </a:lnTo>
                <a:lnTo>
                  <a:pt x="483" y="533"/>
                </a:lnTo>
                <a:lnTo>
                  <a:pt x="363" y="356"/>
                </a:lnTo>
                <a:lnTo>
                  <a:pt x="302" y="265"/>
                </a:lnTo>
                <a:lnTo>
                  <a:pt x="240" y="181"/>
                </a:lnTo>
                <a:lnTo>
                  <a:pt x="181" y="107"/>
                </a:lnTo>
                <a:lnTo>
                  <a:pt x="119" y="49"/>
                </a:lnTo>
                <a:lnTo>
                  <a:pt x="60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191120"/>
            <a:ext cx="1055520" cy="1446120"/>
          </a:xfrm>
          <a:custGeom>
            <a:avLst/>
            <a:gdLst/>
            <a:ahLst/>
            <a:rect l="l" t="t" r="r" b="b"/>
            <a:pathLst>
              <a:path w="1151" h="911">
                <a:moveTo>
                  <a:pt x="0" y="910"/>
                </a:moveTo>
                <a:lnTo>
                  <a:pt x="121" y="899"/>
                </a:lnTo>
                <a:lnTo>
                  <a:pt x="181" y="889"/>
                </a:lnTo>
                <a:lnTo>
                  <a:pt x="244" y="872"/>
                </a:lnTo>
                <a:lnTo>
                  <a:pt x="302" y="852"/>
                </a:lnTo>
                <a:lnTo>
                  <a:pt x="365" y="825"/>
                </a:lnTo>
                <a:lnTo>
                  <a:pt x="423" y="787"/>
                </a:lnTo>
                <a:lnTo>
                  <a:pt x="544" y="683"/>
                </a:lnTo>
                <a:lnTo>
                  <a:pt x="665" y="533"/>
                </a:lnTo>
                <a:lnTo>
                  <a:pt x="787" y="356"/>
                </a:lnTo>
                <a:lnTo>
                  <a:pt x="846" y="265"/>
                </a:lnTo>
                <a:lnTo>
                  <a:pt x="908" y="181"/>
                </a:lnTo>
                <a:lnTo>
                  <a:pt x="967" y="107"/>
                </a:lnTo>
                <a:lnTo>
                  <a:pt x="1029" y="49"/>
                </a:lnTo>
                <a:lnTo>
                  <a:pt x="1088" y="14"/>
                </a:lnTo>
                <a:lnTo>
                  <a:pt x="1150" y="0"/>
                </a:lnTo>
              </a:path>
            </a:pathLst>
          </a:custGeom>
          <a:noFill/>
          <a:ln cap="rnd" w="255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4191120"/>
            <a:ext cx="1143000" cy="1446120"/>
          </a:xfrm>
          <a:custGeom>
            <a:avLst/>
            <a:gdLst/>
            <a:ahLst/>
            <a:rect l="l" t="t" r="r" b="b"/>
            <a:pathLst>
              <a:path w="1247" h="911">
                <a:moveTo>
                  <a:pt x="1246" y="910"/>
                </a:moveTo>
                <a:lnTo>
                  <a:pt x="1115" y="899"/>
                </a:lnTo>
                <a:lnTo>
                  <a:pt x="1050" y="889"/>
                </a:lnTo>
                <a:lnTo>
                  <a:pt x="982" y="872"/>
                </a:lnTo>
                <a:lnTo>
                  <a:pt x="919" y="852"/>
                </a:lnTo>
                <a:lnTo>
                  <a:pt x="851" y="825"/>
                </a:lnTo>
                <a:lnTo>
                  <a:pt x="788" y="787"/>
                </a:lnTo>
                <a:lnTo>
                  <a:pt x="655" y="683"/>
                </a:lnTo>
                <a:lnTo>
                  <a:pt x="524" y="533"/>
                </a:lnTo>
                <a:lnTo>
                  <a:pt x="393" y="356"/>
                </a:lnTo>
                <a:lnTo>
                  <a:pt x="327" y="265"/>
                </a:lnTo>
                <a:lnTo>
                  <a:pt x="260" y="181"/>
                </a:lnTo>
                <a:lnTo>
                  <a:pt x="196" y="107"/>
                </a:lnTo>
                <a:lnTo>
                  <a:pt x="129" y="49"/>
                </a:lnTo>
                <a:lnTo>
                  <a:pt x="65" y="14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4191120"/>
            <a:ext cx="1127160" cy="1444680"/>
          </a:xfrm>
          <a:custGeom>
            <a:avLst/>
            <a:gdLst/>
            <a:ahLst/>
            <a:rect l="l" t="t" r="r" b="b"/>
            <a:pathLst>
              <a:path w="710" h="910">
                <a:moveTo>
                  <a:pt x="0" y="910"/>
                </a:moveTo>
                <a:lnTo>
                  <a:pt x="73" y="899"/>
                </a:lnTo>
                <a:lnTo>
                  <a:pt x="109" y="889"/>
                </a:lnTo>
                <a:lnTo>
                  <a:pt x="147" y="872"/>
                </a:lnTo>
                <a:lnTo>
                  <a:pt x="182" y="852"/>
                </a:lnTo>
                <a:lnTo>
                  <a:pt x="219" y="825"/>
                </a:lnTo>
                <a:lnTo>
                  <a:pt x="255" y="787"/>
                </a:lnTo>
                <a:lnTo>
                  <a:pt x="327" y="683"/>
                </a:lnTo>
                <a:lnTo>
                  <a:pt x="399" y="533"/>
                </a:lnTo>
                <a:lnTo>
                  <a:pt x="473" y="356"/>
                </a:lnTo>
                <a:lnTo>
                  <a:pt x="508" y="265"/>
                </a:lnTo>
                <a:lnTo>
                  <a:pt x="546" y="181"/>
                </a:lnTo>
                <a:lnTo>
                  <a:pt x="581" y="107"/>
                </a:lnTo>
                <a:lnTo>
                  <a:pt x="619" y="49"/>
                </a:lnTo>
                <a:lnTo>
                  <a:pt x="654" y="14"/>
                </a:lnTo>
                <a:lnTo>
                  <a:pt x="71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7150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45240" y="5867280"/>
                <a:ext cx="18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1148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tioning the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variation can be split into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6576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 = Sum of Squares Amo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Among-group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W = Sum of Squares With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(Within-group var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590920"/>
            <a:ext cx="3886200" cy="581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 = SSA + S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5:00:45Z</dcterms:created>
  <dc:creator>Dr. Inas El Attar</dc:creator>
  <dc:description/>
  <dc:language>en-US</dc:language>
  <cp:lastModifiedBy>www.arabswell.com</cp:lastModifiedBy>
  <dcterms:modified xsi:type="dcterms:W3CDTF">2011-03-23T04:17:54Z</dcterms:modified>
  <cp:revision>293</cp:revision>
  <dc:subject/>
  <dc:title>Lecture #2 </dc:title>
</cp:coreProperties>
</file>