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1C91-75D8-420F-B8AB-1ED482E78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62A5-987C-4074-80BF-403D9E1C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D7EB-C17A-48F1-811D-CEBBBB93F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E7AB-5E77-413E-82C3-60C02575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096B-43A3-4BF2-9320-61C94D21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BD17-0B59-4901-AB83-EF3D57EA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77E5-4F1B-4AB0-A549-4D3366C2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CAAB-166A-4336-BF6B-97BD8292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C202-535F-4571-B0B5-72E3E908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7785-757E-40A0-9D76-64804C81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4768-A720-4EA2-AF90-22D0D0DD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6331-9E24-4E2B-AD78-BB5E9421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116C-D2D8-4881-A676-A7C2AB52A16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611280" y="2697840"/>
            <a:ext cx="784836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040" bIns="320040" anchor="ctr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INTERPRETATION OF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Scan0012"/>
          <p:cNvPicPr/>
          <p:nvPr/>
        </p:nvPicPr>
        <p:blipFill>
          <a:blip r:embed="rId1"/>
          <a:stretch/>
        </p:blipFill>
        <p:spPr>
          <a:xfrm>
            <a:off x="826920" y="404640"/>
            <a:ext cx="7575840" cy="6223320"/>
          </a:xfrm>
          <a:prstGeom prst="rect">
            <a:avLst/>
          </a:prstGeom>
          <a:ln w="0">
            <a:noFill/>
          </a:ln>
        </p:spPr>
      </p:pic>
      <p:sp>
        <p:nvSpPr>
          <p:cNvPr id="88" name="Line 3"/>
          <p:cNvSpPr/>
          <p:nvPr/>
        </p:nvSpPr>
        <p:spPr>
          <a:xfrm>
            <a:off x="5580000" y="836640"/>
            <a:ext cx="0" cy="20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1476360" y="2997360"/>
            <a:ext cx="3887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5"/>
          <p:cNvSpPr/>
          <p:nvPr/>
        </p:nvSpPr>
        <p:spPr>
          <a:xfrm>
            <a:off x="5219640" y="2852640"/>
            <a:ext cx="719280" cy="2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684360" y="1268280"/>
            <a:ext cx="7775280" cy="36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n the provided example, the critical t corresponding to 14 degrees of freedom and 0.05 probability is equal to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2.145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Therefore, since the </a:t>
            </a:r>
            <a:r>
              <a:rPr b="1" lang="en-US" sz="2600" spc="-1" strike="noStrike">
                <a:solidFill>
                  <a:srgbClr val="00ff00"/>
                </a:solidFill>
                <a:latin typeface="Verdana"/>
              </a:rPr>
              <a:t>computed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ff00"/>
                </a:solidFill>
                <a:latin typeface="Verdana"/>
              </a:rPr>
              <a:t>t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ff00"/>
                </a:solidFill>
                <a:latin typeface="Verdana"/>
              </a:rPr>
              <a:t>(3.6)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&gt;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critical t (2.145)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this means that the lowering in BP was due to the drug under study in 95% of the cases and that the difference between both groups is significant at P&lt;0.0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What is your decision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ffect of Oral Hypoglycemic Drug on blood gluc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was determined in 6 diabetic rats. The level of bl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ucose was as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treatment: 210, 190, 220, 200, 240, 2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treatment: 120, 110, 105, 100, 125, 1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this drug have significant hypoglycemic effect,     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&lt; 0.05, knowing that tabulated t at degree of freedom 10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3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What is your decision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ffect of Oral Hypoglycemic Drug on blood gluc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was determined in two different groups of 6 diabetic rats e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vel of blood glucose was as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Diabetic rats : 210, 190, 220, 200, 240, 2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-treated rats: 120, 110, 105, 100, 125, 1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this drug have significant hypoglycemic effect,     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&lt; 0.05, knowing that tabulated t at degree of freedom 10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3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What is Your </a:t>
            </a:r>
            <a:br>
              <a:rPr sz="2800"/>
            </a:b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Decision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4495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You give 9 students a slice of white donuts and a slice of brown donuts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ince you are such a skilled researcher you present the slices of donuts in a counterbalanced order across your stud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cc"/>
                </a:solidFill>
                <a:latin typeface="Arial"/>
              </a:rPr>
              <a:t>You measure the number of grams of white and brown donuts that each person ea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0000"/>
                </a:solidFill>
                <a:latin typeface="Arial"/>
              </a:rPr>
              <a:t>Is white donuts is prefer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0000"/>
                </a:solidFill>
                <a:latin typeface="Arial"/>
              </a:rPr>
              <a:t>over brown donuts?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495680" y="380880"/>
          <a:ext cx="4496040" cy="5668920"/>
        </p:xfrm>
        <a:graphic>
          <a:graphicData uri="http://schemas.openxmlformats.org/drawingml/2006/table">
            <a:tbl>
              <a:tblPr/>
              <a:tblGrid>
                <a:gridCol w="1327320"/>
                <a:gridCol w="1547640"/>
                <a:gridCol w="1621080"/>
              </a:tblGrid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ame o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ers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White donuts</a:t>
                      </a: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2400"/>
                      </a:b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grams eaten)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Brown donuts</a:t>
                      </a: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2400"/>
                      </a:b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grams eate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hm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m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a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rney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et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ty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rba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lva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n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755640" y="1341360"/>
            <a:ext cx="77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611280" y="549360"/>
            <a:ext cx="8137440" cy="30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n order to compare "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two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" or “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more than two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” means and to indicate whether the difference between them is "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real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" and not due to "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chance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" factors, or, in other words, the difference between them is "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statistically significant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", different </a:t>
            </a:r>
            <a:r>
              <a:rPr b="1" lang="en-US" sz="2600" spc="-1" strike="noStrike" u="sng">
                <a:solidFill>
                  <a:srgbClr val="00ff00"/>
                </a:solidFill>
                <a:uFillTx/>
                <a:latin typeface="Verdana"/>
              </a:rPr>
              <a:t>tests of significance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are perform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The commonly used tests include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468360" y="4149720"/>
            <a:ext cx="813744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450720" algn="just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The "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student's t test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" (for comparison of 2 mean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-450720" algn="just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The “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analysis of variance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” or “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ANOVA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” (for comparison of more than 2 means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and Non-significant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3"/>
          <p:cNvGraphicFramePr/>
          <p:nvPr/>
        </p:nvGraphicFramePr>
        <p:xfrm>
          <a:off x="914400" y="2133720"/>
          <a:ext cx="26002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33720"/>
                    <a:ext cx="26002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4"/>
          <p:cNvGraphicFramePr/>
          <p:nvPr/>
        </p:nvGraphicFramePr>
        <p:xfrm>
          <a:off x="4952880" y="2133720"/>
          <a:ext cx="3552840" cy="27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2133720"/>
                    <a:ext cx="355284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Text Box 5"/>
          <p:cNvSpPr/>
          <p:nvPr/>
        </p:nvSpPr>
        <p:spPr>
          <a:xfrm>
            <a:off x="912960" y="5105520"/>
            <a:ext cx="257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&gt; Wit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4951440" y="5029200"/>
            <a:ext cx="257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signific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in &gt; 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755640" y="1341360"/>
            <a:ext cx="77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3"/>
          <p:cNvGraphicFramePr/>
          <p:nvPr/>
        </p:nvGraphicFramePr>
        <p:xfrm>
          <a:off x="1763640" y="620640"/>
          <a:ext cx="5661000" cy="428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620640"/>
                    <a:ext cx="5661000" cy="42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4"/>
          <p:cNvSpPr/>
          <p:nvPr/>
        </p:nvSpPr>
        <p:spPr>
          <a:xfrm>
            <a:off x="1116000" y="530064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son of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 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5"/>
          <p:cNvSpPr/>
          <p:nvPr/>
        </p:nvSpPr>
        <p:spPr>
          <a:xfrm>
            <a:off x="4572000" y="3500280"/>
            <a:ext cx="216000" cy="2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6"/>
          <p:cNvSpPr/>
          <p:nvPr/>
        </p:nvSpPr>
        <p:spPr>
          <a:xfrm>
            <a:off x="5364000" y="3213000"/>
            <a:ext cx="216000" cy="2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7"/>
          <p:cNvSpPr/>
          <p:nvPr/>
        </p:nvSpPr>
        <p:spPr>
          <a:xfrm>
            <a:off x="6156360" y="2708280"/>
            <a:ext cx="216000" cy="2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755640" y="1341360"/>
            <a:ext cx="77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1692360" y="549360"/>
          <a:ext cx="5661000" cy="42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549360"/>
                    <a:ext cx="566100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 Box 4"/>
          <p:cNvSpPr/>
          <p:nvPr/>
        </p:nvSpPr>
        <p:spPr>
          <a:xfrm>
            <a:off x="1116000" y="530064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son of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 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5"/>
          <p:cNvSpPr/>
          <p:nvPr/>
        </p:nvSpPr>
        <p:spPr>
          <a:xfrm>
            <a:off x="4500720" y="3141720"/>
            <a:ext cx="215640" cy="2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6"/>
          <p:cNvSpPr/>
          <p:nvPr/>
        </p:nvSpPr>
        <p:spPr>
          <a:xfrm>
            <a:off x="5292720" y="2781360"/>
            <a:ext cx="216000" cy="2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7"/>
          <p:cNvSpPr/>
          <p:nvPr/>
        </p:nvSpPr>
        <p:spPr>
          <a:xfrm>
            <a:off x="6012000" y="2205000"/>
            <a:ext cx="215640" cy="2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8"/>
          <p:cNvSpPr/>
          <p:nvPr/>
        </p:nvSpPr>
        <p:spPr>
          <a:xfrm>
            <a:off x="4500720" y="3429000"/>
            <a:ext cx="215640" cy="2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9"/>
          <p:cNvSpPr/>
          <p:nvPr/>
        </p:nvSpPr>
        <p:spPr>
          <a:xfrm>
            <a:off x="6084720" y="2781360"/>
            <a:ext cx="216000" cy="2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0"/>
          <p:cNvSpPr/>
          <p:nvPr/>
        </p:nvSpPr>
        <p:spPr>
          <a:xfrm>
            <a:off x="5292720" y="3141720"/>
            <a:ext cx="216000" cy="2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684360" y="620640"/>
            <a:ext cx="45352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 algn="ctr">
              <a:lnSpc>
                <a:spcPct val="100000"/>
              </a:lnSpc>
              <a:spcBef>
                <a:spcPts val="2801"/>
              </a:spcBef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tudent’s “t”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611280" y="1628640"/>
            <a:ext cx="792000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For unpaired data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"</a:t>
            </a:r>
            <a:r>
              <a:rPr b="1" lang="en-US" sz="2600" spc="-1" strike="noStrike">
                <a:solidFill>
                  <a:srgbClr val="00ff00"/>
                </a:solidFill>
                <a:latin typeface="Verdana"/>
              </a:rPr>
              <a:t>Unpaired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" data indicates that the two means are obtained from 2 different group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Scan0002"/>
          <p:cNvPicPr/>
          <p:nvPr/>
        </p:nvPicPr>
        <p:blipFill>
          <a:blip r:embed="rId1"/>
          <a:stretch/>
        </p:blipFill>
        <p:spPr>
          <a:xfrm>
            <a:off x="2124000" y="3860640"/>
            <a:ext cx="4824360" cy="15274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6804000" y="3213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940360" y="602136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andard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 flipH="1">
            <a:off x="6300720" y="3716280"/>
            <a:ext cx="71928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 flipH="1" flipV="1">
            <a:off x="5796000" y="5157360"/>
            <a:ext cx="28872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95280" y="476280"/>
            <a:ext cx="8064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e.g.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Two groups of rats were used in a study of the antihypertensive effect of  Losartan. The following results were obtain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Scan0002"/>
          <p:cNvPicPr/>
          <p:nvPr/>
        </p:nvPicPr>
        <p:blipFill>
          <a:blip r:embed="rId1"/>
          <a:stretch/>
        </p:blipFill>
        <p:spPr>
          <a:xfrm>
            <a:off x="1835280" y="2492280"/>
            <a:ext cx="5688000" cy="27464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684360" y="5589720"/>
            <a:ext cx="777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Does Losartan have a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significant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antihypertensive action ?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Scan0002"/>
          <p:cNvPicPr/>
          <p:nvPr/>
        </p:nvPicPr>
        <p:blipFill>
          <a:blip r:embed="rId1"/>
          <a:stretch/>
        </p:blipFill>
        <p:spPr>
          <a:xfrm>
            <a:off x="1547640" y="260280"/>
            <a:ext cx="5904000" cy="2430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Scan0002"/>
          <p:cNvPicPr/>
          <p:nvPr/>
        </p:nvPicPr>
        <p:blipFill>
          <a:blip r:embed="rId2"/>
          <a:stretch/>
        </p:blipFill>
        <p:spPr>
          <a:xfrm>
            <a:off x="2627280" y="2924280"/>
            <a:ext cx="3567240" cy="2305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Scan0002"/>
          <p:cNvPicPr/>
          <p:nvPr/>
        </p:nvPicPr>
        <p:blipFill>
          <a:blip r:embed="rId3"/>
          <a:stretch/>
        </p:blipFill>
        <p:spPr>
          <a:xfrm>
            <a:off x="2340000" y="5445000"/>
            <a:ext cx="4176720" cy="1008360"/>
          </a:xfrm>
          <a:prstGeom prst="rect">
            <a:avLst/>
          </a:prstGeom>
          <a:ln w="0">
            <a:noFill/>
          </a:ln>
        </p:spPr>
      </p:pic>
      <p:sp>
        <p:nvSpPr>
          <p:cNvPr id="82" name="Oval 5"/>
          <p:cNvSpPr/>
          <p:nvPr/>
        </p:nvSpPr>
        <p:spPr>
          <a:xfrm>
            <a:off x="4284720" y="4724280"/>
            <a:ext cx="50328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6"/>
          <p:cNvSpPr/>
          <p:nvPr/>
        </p:nvSpPr>
        <p:spPr>
          <a:xfrm>
            <a:off x="6012000" y="5950080"/>
            <a:ext cx="431640" cy="358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684360" y="76500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n, by referring to the </a:t>
            </a: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tables of "t" distribution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t different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probability levels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nd at the corresponding degree of freedom, the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computed "t"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is compared to the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critical "t"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(i.e. the "t" value obtained from probability tabl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684360" y="3500280"/>
            <a:ext cx="770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f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computed 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&gt; critical t at the 0.05 probability level, this means that the lowering in blood pressure is due to the drug in 95% of the cases, i.e. this difference is expected to occur by chance in less than 5% of the cases. In other words, the difference between both groups i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significan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t P&lt;0.0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611280" y="357336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n the other hand, if computed t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critical 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, this means that the difference between both groups i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not significan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t P&lt;0.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05:00:45Z</dcterms:created>
  <dc:creator>Dr. Inas El Attar</dc:creator>
  <dc:description/>
  <dc:language>en-US</dc:language>
  <cp:lastModifiedBy>User</cp:lastModifiedBy>
  <dcterms:modified xsi:type="dcterms:W3CDTF">2015-09-02T05:19:59Z</dcterms:modified>
  <cp:revision>132</cp:revision>
  <dc:subject/>
  <dc:title>Lecture #2 </dc:title>
</cp:coreProperties>
</file>