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632-F146-4440-A0AD-E51897A7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4D6-BDB9-4153-98AE-164A0E6B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B5A-1182-4635-9EB7-4CBE0252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BE9-0E19-4A05-A218-11103B8C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B68-047F-49E1-8BF4-E26BD258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632-65AA-446B-925E-2FC9C909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BDA-7397-4D68-8DDE-1D4A94EC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F29-F3EE-423E-AD4B-B1CAE18E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33C-76C6-474E-81ED-CC55ABEB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0DC-BB3E-4828-87B1-F98D504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3B2-1DB4-4168-8B25-EE5A8639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CA0-582D-4FE5-A21A-FD8D62CA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B36E-3720-421B-B741-9F7A754E59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11280" y="2697840"/>
            <a:ext cx="784836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320040" anchor="ctr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INTERPRETATION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can0012"/>
          <p:cNvPicPr/>
          <p:nvPr/>
        </p:nvPicPr>
        <p:blipFill>
          <a:blip r:embed="rId1"/>
          <a:stretch/>
        </p:blipFill>
        <p:spPr>
          <a:xfrm>
            <a:off x="826920" y="404640"/>
            <a:ext cx="7575840" cy="6223320"/>
          </a:xfrm>
          <a:prstGeom prst="rect">
            <a:avLst/>
          </a:prstGeom>
          <a:ln w="0">
            <a:noFill/>
          </a:ln>
        </p:spPr>
      </p:pic>
      <p:sp>
        <p:nvSpPr>
          <p:cNvPr id="88" name="Line 3"/>
          <p:cNvSpPr/>
          <p:nvPr/>
        </p:nvSpPr>
        <p:spPr>
          <a:xfrm>
            <a:off x="5580000" y="836640"/>
            <a:ext cx="0" cy="20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1476360" y="2997360"/>
            <a:ext cx="388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"/>
          <p:cNvSpPr/>
          <p:nvPr/>
        </p:nvSpPr>
        <p:spPr>
          <a:xfrm>
            <a:off x="5219640" y="2852640"/>
            <a:ext cx="71928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84360" y="1268280"/>
            <a:ext cx="7775280" cy="36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 the provided example, the critical t corresponding to 14 degrees of freedom and 0.05 probability is equal to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2.145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herefore, since the </a:t>
            </a: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computed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t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(3.6)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&gt;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critical t (2.145)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this means that the lowering in BP was due to the drug under study in 95% of the cases and that the difference between both groups is significant at P&lt;0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hat is your decision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ffect of Oral Hypoglycemic Drug on blood 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was determined in 6 diabetic rats. The level of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ucose was as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reatment: 210, 190, 220, 200, 240, 2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reatment: 120, 110, 105, 100, 125, 1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is drug have significant hypoglycemic effect,    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&lt; 0.05, knowing that tabulated t at degree of freedom 10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3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hat is your decision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ffect of Oral Hypoglycemic Drug on blood 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was determined in two different groups of 6 diabetic rats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el of blood glucose was as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Diabetic rats : 210, 190, 220, 200, 240, 2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-treated rats: 120, 110, 105, 100, 125, 1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is drug have significant hypoglycemic effect,    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&lt; 0.05, knowing that tabulated t at degree of freedom 10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3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What is Your </a:t>
            </a:r>
            <a:br>
              <a:rPr sz="2800"/>
            </a:b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Decision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You give 9 students a slice of white donuts and a slice of brown donut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ince you are such a skilled researcher you present the slices of donuts in a counterbalanced order across your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cc"/>
                </a:solidFill>
                <a:latin typeface="Arial"/>
              </a:rPr>
              <a:t>You measure the number of grams of white and brown donuts that each person ea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Is white donuts is prefer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over brown donuts?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495680" y="380880"/>
          <a:ext cx="4496040" cy="5668920"/>
        </p:xfrm>
        <a:graphic>
          <a:graphicData uri="http://schemas.openxmlformats.org/drawingml/2006/table">
            <a:tbl>
              <a:tblPr/>
              <a:tblGrid>
                <a:gridCol w="1327320"/>
                <a:gridCol w="1547640"/>
                <a:gridCol w="162108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ame o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er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White donuts</a:t>
                      </a: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grams eaten)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Brown donuts</a:t>
                      </a: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grams eate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a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ney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t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ty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ba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va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55640" y="134136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11280" y="549360"/>
            <a:ext cx="8137440" cy="30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 order to compare "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two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" or “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more than two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” means and to indicate whether the difference between them is "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real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" and not due to "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chance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" factors, or, in other words, the difference between them is "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statistically significant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", different </a:t>
            </a:r>
            <a:r>
              <a:rPr b="1" lang="en-US" sz="2600" spc="-1" strike="noStrike" u="sng">
                <a:solidFill>
                  <a:srgbClr val="00ff00"/>
                </a:solidFill>
                <a:uFillTx/>
                <a:latin typeface="Verdana"/>
              </a:rPr>
              <a:t>tests of significance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are perform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The commonly used tests include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68360" y="4149720"/>
            <a:ext cx="813744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450720" algn="just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he "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student's t test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" (for comparison of 2 mean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6640" indent="-450720" algn="just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he “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analysis of variance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” or “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ANOVA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” (for comparison of more than 2 means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and Non-significant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3"/>
          <p:cNvGraphicFramePr/>
          <p:nvPr/>
        </p:nvGraphicFramePr>
        <p:xfrm>
          <a:off x="914400" y="2133720"/>
          <a:ext cx="26002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26002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4"/>
          <p:cNvGraphicFramePr/>
          <p:nvPr/>
        </p:nvGraphicFramePr>
        <p:xfrm>
          <a:off x="4952880" y="2133720"/>
          <a:ext cx="355284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133720"/>
                    <a:ext cx="355284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5"/>
          <p:cNvSpPr/>
          <p:nvPr/>
        </p:nvSpPr>
        <p:spPr>
          <a:xfrm>
            <a:off x="912960" y="5105520"/>
            <a:ext cx="25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&gt; Wi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951440" y="5029200"/>
            <a:ext cx="25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signific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&gt;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55640" y="134136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1763640" y="620640"/>
          <a:ext cx="5661000" cy="42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620640"/>
                    <a:ext cx="5661000" cy="42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4"/>
          <p:cNvSpPr/>
          <p:nvPr/>
        </p:nvSpPr>
        <p:spPr>
          <a:xfrm>
            <a:off x="1116000" y="530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son of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4572000" y="350028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5364000" y="321300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6156360" y="270828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55640" y="134136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1692360" y="549360"/>
          <a:ext cx="566100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549360"/>
                    <a:ext cx="566100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1116000" y="530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son of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4500720" y="3141720"/>
            <a:ext cx="21564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5292720" y="278136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6012000" y="2205000"/>
            <a:ext cx="21564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4500720" y="3429000"/>
            <a:ext cx="21564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6084720" y="278136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5292720" y="314172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84360" y="620640"/>
            <a:ext cx="45352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algn="ctr">
              <a:lnSpc>
                <a:spcPct val="100000"/>
              </a:lnSpc>
              <a:spcBef>
                <a:spcPts val="2801"/>
              </a:spcBef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tudent’s “t”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611280" y="1628640"/>
            <a:ext cx="79200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For unpaired data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Unpaired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" data indicates that the two means are obtained from 2 different grou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Scan0002"/>
          <p:cNvPicPr/>
          <p:nvPr/>
        </p:nvPicPr>
        <p:blipFill>
          <a:blip r:embed="rId1"/>
          <a:stretch/>
        </p:blipFill>
        <p:spPr>
          <a:xfrm>
            <a:off x="2124000" y="3860640"/>
            <a:ext cx="4824360" cy="1527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6804000" y="3213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940360" y="60213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andard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 flipH="1">
            <a:off x="6300720" y="3716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H="1" flipV="1">
            <a:off x="5796000" y="5157360"/>
            <a:ext cx="2887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95280" y="476280"/>
            <a:ext cx="8064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e.g.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Two groups of rats were used in a study of the antihypertensive effect of  Losartan. The following results were obtain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Scan0002"/>
          <p:cNvPicPr/>
          <p:nvPr/>
        </p:nvPicPr>
        <p:blipFill>
          <a:blip r:embed="rId1"/>
          <a:stretch/>
        </p:blipFill>
        <p:spPr>
          <a:xfrm>
            <a:off x="1835280" y="2492280"/>
            <a:ext cx="5688000" cy="2746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684360" y="5589720"/>
            <a:ext cx="777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Does Losartan have a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significant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antihypertensive action 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can0002"/>
          <p:cNvPicPr/>
          <p:nvPr/>
        </p:nvPicPr>
        <p:blipFill>
          <a:blip r:embed="rId1"/>
          <a:stretch/>
        </p:blipFill>
        <p:spPr>
          <a:xfrm>
            <a:off x="1547640" y="260280"/>
            <a:ext cx="5904000" cy="243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Scan0002"/>
          <p:cNvPicPr/>
          <p:nvPr/>
        </p:nvPicPr>
        <p:blipFill>
          <a:blip r:embed="rId2"/>
          <a:stretch/>
        </p:blipFill>
        <p:spPr>
          <a:xfrm>
            <a:off x="2627280" y="2924280"/>
            <a:ext cx="3567240" cy="230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Scan0002"/>
          <p:cNvPicPr/>
          <p:nvPr/>
        </p:nvPicPr>
        <p:blipFill>
          <a:blip r:embed="rId3"/>
          <a:stretch/>
        </p:blipFill>
        <p:spPr>
          <a:xfrm>
            <a:off x="2340000" y="5445000"/>
            <a:ext cx="4176720" cy="1008360"/>
          </a:xfrm>
          <a:prstGeom prst="rect">
            <a:avLst/>
          </a:prstGeom>
          <a:ln w="0">
            <a:noFill/>
          </a:ln>
        </p:spPr>
      </p:pic>
      <p:sp>
        <p:nvSpPr>
          <p:cNvPr id="82" name="Oval 5"/>
          <p:cNvSpPr/>
          <p:nvPr/>
        </p:nvSpPr>
        <p:spPr>
          <a:xfrm>
            <a:off x="4284720" y="4724280"/>
            <a:ext cx="5032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6012000" y="5950080"/>
            <a:ext cx="43164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84360" y="76500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n, by referring to the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tables of "t" distribution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t different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probability level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at the corresponding degree of freedom, th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omputed "t"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is compared to th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ritical "t"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i.e. the "t" value obtained from probability tab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84360" y="3500280"/>
            <a:ext cx="770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f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omputed 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&gt; critical t at the 0.05 probability level, this means that the lowering in blood pressure is due to the drug in 95% of the cases, i.e. this difference is expected to occur by chance in less than 5% of the cases. In other words, the difference between both groups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significan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t P&lt;0.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11280" y="3573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n the other hand, if computed t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ritical 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, this means that the difference between both groups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not significan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t P&lt;0.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05:00:45Z</dcterms:created>
  <dc:creator>Dr. Inas El Attar</dc:creator>
  <dc:description/>
  <dc:language>en-US</dc:language>
  <cp:lastModifiedBy>User</cp:lastModifiedBy>
  <dcterms:modified xsi:type="dcterms:W3CDTF">2015-09-02T05:19:59Z</dcterms:modified>
  <cp:revision>132</cp:revision>
  <dc:subject/>
  <dc:title>Lecture #2 </dc:title>
</cp:coreProperties>
</file>