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32B354-2957-41F2-ACFB-A50A6BA75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B10207-1316-4981-87F0-555FEC0BA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946080" y="3666600"/>
            <a:ext cx="520704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Img"/>
          </p:nvPr>
        </p:nvSpPr>
        <p:spPr>
          <a:xfrm>
            <a:off x="1852560" y="774720"/>
            <a:ext cx="3394080" cy="2544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D01B8E-68E3-4ACD-92AB-0AE6D0CB9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46080" y="3666600"/>
            <a:ext cx="520704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ldImg"/>
          </p:nvPr>
        </p:nvSpPr>
        <p:spPr>
          <a:xfrm>
            <a:off x="1852560" y="774720"/>
            <a:ext cx="3394080" cy="2544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9B7CA2-8AB8-4E46-91EA-2180E5F10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46080" y="3666600"/>
            <a:ext cx="520704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1852560" y="774720"/>
            <a:ext cx="3394080" cy="2544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4703-CE03-4DFD-A959-828BE872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432C-CA77-4CD2-832E-0CD4F5B3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64E8-A04F-4E83-A4B5-71239F32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F85-E1E7-455F-BBF4-97613003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B1F7-6FD6-46CA-9854-5B847D85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8E28-BD58-401C-9093-72869C6F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B01-9384-4B85-BDF3-412D4B7E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A89D-E4C7-4604-80E6-4D167301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8D22-4214-44DD-8C84-1227557A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092A-A606-4EF5-9D0F-86BE6CDC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A8C9-6652-4EB7-BA9B-6BE3989F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DC3B-E12C-4883-8930-B8948076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1064-37CD-43E2-B745-6A083F271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ypothesis Testing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3"/>
          <p:cNvGraphicFramePr/>
          <p:nvPr/>
        </p:nvGraphicFramePr>
        <p:xfrm>
          <a:off x="395280" y="1736640"/>
          <a:ext cx="846288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36640"/>
                    <a:ext cx="8462880" cy="4435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51" name="Rectangle 4"/>
          <p:cNvSpPr/>
          <p:nvPr/>
        </p:nvSpPr>
        <p:spPr>
          <a:xfrm>
            <a:off x="5127480" y="5713560"/>
            <a:ext cx="360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More Tests Exi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) Discret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number of suitcases lost must be a whole number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) Continuou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eight of corn plants can take on infinitely many values (any decimal is possible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) Discret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ears of corn must be a whole number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) Continuou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mount of time can take on infinitely many values (any decimal is possible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) Continuou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weight of the tomatoes can take on infinitely many values (any decimal is possi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is a parameter and why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ould I c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statistical tests, like the t test, assume some kind of underlying distribution, like the norma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know the mean and the standard deviation of a normal distribution then you know how to calculate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and standard deviations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rame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ll theoretical distributions have para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stical tests that assume a distribution and use parameters are called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rametric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atistical tests that don't assume a distribution or use parameters are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n-parametric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arametric Test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 Involve Population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ample: Population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 Require Interval Scale or Ratio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ole Numbers or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Height in Inches (72, 60.5, 54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 Have Stringent 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Example: Normal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parametric Tes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686800" cy="43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nonparametric t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hypothesis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does not require any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s about the shape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s or the value of any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ests are often call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distribution free”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est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Why non-parametric statist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to analyse ‘Crude’ data (nominal, -ordi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derived from small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that do not follow a norm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of unknow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ff0000"/>
                </a:solidFill>
                <a:latin typeface="Arial"/>
              </a:rPr>
              <a:t>Wilcoxon rank sum test </a:t>
            </a:r>
            <a:br>
              <a:rPr sz="4000"/>
            </a:br>
            <a:r>
              <a:rPr b="1" lang="nb-NO" sz="4000" spc="-1" strike="noStrike">
                <a:solidFill>
                  <a:srgbClr val="ff0000"/>
                </a:solidFill>
                <a:latin typeface="Arial"/>
              </a:rPr>
              <a:t>(or the Mann-Whitney U tes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55640" y="21700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atist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n-Whitne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 (also calle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n-Whitney-Wilcox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W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coxon rank-sum 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coxon-Mann-Whitn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) is a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n-paramet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 for assessing whethe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wo sam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bservations come from the same distrib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quires the two samples to be,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observations to be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rdinal or 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surements, i.e. one can at least say, of any two observations, which is the grea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24000" y="68580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one of the best-known non-parametric significance tes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proposed initially b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ilcox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945), for equal sample sizes, and extended to arbitrary sample sizes and in other ways by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ann an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Whitn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94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WW is virtually identical in performing an ordinary parametric two-sampl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on the data after ranking over the combined s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57200" y="907920"/>
            <a:ext cx="8229600" cy="50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 the one-way ANOVA is an extension of the two independent groups t-tes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e Kruskal-Wallis test is an extension of the Mann-W hitney U t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Kruskal-Wallis test handles k-independent groups of samp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ke the Mann-Whiteny U test, this test uses ranks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80880" y="12189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s between proportions or percent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questions about two or more separate or independen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 questions about two dependent or correlate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62120" y="235440"/>
            <a:ext cx="7338960" cy="729360"/>
          </a:xfrm>
          <a:prstGeom prst="rect">
            <a:avLst/>
          </a:prstGeom>
          <a:solidFill>
            <a:srgbClr val="73e8eb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59760" bIns="59760" anchor="ctr">
            <a:spAutoFit/>
          </a:bodyPr>
          <a:p>
            <a:pPr algn="ctr">
              <a:tabLst>
                <a:tab algn="l" pos="0"/>
                <a:tab algn="l" pos="1206360"/>
                <a:tab algn="l" pos="2413080"/>
                <a:tab algn="l" pos="3619440"/>
                <a:tab algn="l" pos="4826160"/>
                <a:tab algn="l" pos="6032520"/>
                <a:tab algn="l" pos="7238880"/>
                <a:tab algn="l" pos="8445600"/>
                <a:tab algn="l" pos="9651960"/>
                <a:tab algn="l" pos="1085868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hisqu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95280" y="380880"/>
          <a:ext cx="8443800" cy="6248520"/>
        </p:xfrm>
        <a:graphic>
          <a:graphicData uri="http://schemas.openxmlformats.org/drawingml/2006/table">
            <a:tbl>
              <a:tblPr/>
              <a:tblGrid>
                <a:gridCol w="2838600"/>
                <a:gridCol w="2759040"/>
                <a:gridCol w="2846160"/>
              </a:tblGrid>
              <a:tr h="10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Parametric 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f1efa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orresponding Nonparametric 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efad"/>
                      </a:solidFill>
                    </a:lnL>
                    <a:lnR w="5760">
                      <a:solidFill>
                        <a:srgbClr val="f1efad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Purpose of 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efa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test for independent s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1efad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nn-Whitney U test; Wilcoxon rank-sum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efad"/>
                      </a:solidFill>
                    </a:lnL>
                    <a:lnR w="5760">
                      <a:solidFill>
                        <a:srgbClr val="f1efad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es two independent s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efa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aired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1efad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Wilcoxon matched pairs signed-rank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efad"/>
                      </a:solidFill>
                    </a:lnL>
                    <a:lnR w="5760">
                      <a:solidFill>
                        <a:srgbClr val="f1efad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ines a set of differ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efa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earson correlation coeffic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1efad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pearman rank correlation coeffic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efad"/>
                      </a:solidFill>
                    </a:lnL>
                    <a:lnR w="5760">
                      <a:solidFill>
                        <a:srgbClr val="f1efad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esses the linear association between two variab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efa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One way analysis of variance (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te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1efad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Kruskal-Wallis analysis of variance by ra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efad"/>
                      </a:solidFill>
                    </a:lnL>
                    <a:lnR w="5760">
                      <a:solidFill>
                        <a:srgbClr val="f1efad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es three or more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efa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wo way analysis of vari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1efad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Friedman Two way analysis of vari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efad"/>
                      </a:solidFill>
                    </a:lnL>
                    <a:lnR w="5760">
                      <a:solidFill>
                        <a:srgbClr val="f1efad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es groups classified by two different factor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efa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Types of Data and </a:t>
            </a: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60400" y="1600200"/>
            <a:ext cx="6616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mina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dina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ret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inuou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2819520" y="32767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85080" y="361152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Para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5364000" y="1676520"/>
            <a:ext cx="609840" cy="2895480"/>
          </a:xfrm>
          <a:custGeom>
            <a:avLst/>
            <a:gdLst>
              <a:gd name="textAreaLeft" fmla="*/ 0 w 609840"/>
              <a:gd name="textAreaRight" fmla="*/ 220320 w 60984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018120" y="2786040"/>
            <a:ext cx="29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Times New Roman"/>
              </a:rPr>
              <a:t>Non-para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Types of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Nominal: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No numeric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Ordinal: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Order or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Discrete: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Continuous: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Interval,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Nomina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n numeric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lood grouping: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A, B, AB,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Grades in PHL 541: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32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rates in urine: ++, +++,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rdinal Da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 on an ordinal scale are set into some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kind of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order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y their position on the scal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is may indicate such as temporal position, superiorit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der of items is often defined by assigning numbers to them to show their relative position. Letters or other sequential symbols may also be used as appropri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ou cannot do arithmetic with ordinal numbers -- they show sequence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first, third and fifth person in a r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ay bands in an organization, as denoted by A, B, C and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iscret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e of data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re are only a finite number of values possible or if there is a spac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line between each 2 possible valu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xmp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5 question quiz is given in PHL 541 class. The number of correct answers on a student's quiz is an example of discrete data. The number of correct answers would have to be one of the following : 0, 1, 2, 3, 4, or 5. There are not an infinite number of values, therefore this data is discrete. Also, if we were to draw a number line and place each possible value on it, we would see a space between each pair of valu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xmp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order to obtain a taxi license in Riyadh, a person must pass a written exam regarding different locations in the city. How many times it would take a person to pass this test is also an example of discrete data. A person could take it once, or twice, or 3 times, or 4 times, or… . So, the possible values are 1, 2, 3, … . There are infinitely many possible values, but if we were to put them on a number line, we would see a space between each pair of valu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iscrete data usually occurs in a case where there are only a certain number of values, or when we are counting something (using whole numbers).</a:t>
            </a:r>
            <a:br>
              <a:rPr sz="1800"/>
            </a:b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ntinuous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inuou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kes up the rest of numerical data. This is a type of data that is usually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ssociated with some sort of physical measurement.</a:t>
            </a:r>
            <a:br>
              <a:rPr sz="2000"/>
            </a:b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height of trees at a nursery is an example of continuous data. Is it possible for a tree to be 76.2" tall? S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bout 76.29"? Yes. How about 76.2914563782"? Ye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general way to tell if data is continuous is to ask yourself if it is possible for the data to take o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alues that are fractions or decim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f your answer is yes, this is usually continuous data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length of time it takes for a light bulb to burn out is an example of continuous data. Could it take 800 hours? How about 800.7? 800.7354? The answer to all 3 is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assify each set of data as discrete or continuo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The number of suitcases lost by an airlin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The height of corn plant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The number of ears of corn produce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The time it takes for a car battery to di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 The production of tomatoes by w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9-02T05:23:0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