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4B2-87F7-4F97-B87D-CEB6ED2A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C53-9731-40BD-86F3-89B47A8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2E4-9755-4249-8EB4-F5F33AE0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3F4-B617-44EA-93A8-25335EE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349-271F-45CE-9CE2-A976D508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70E-27BC-45B3-BD59-E54FDA9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1B8-4444-467D-AC45-1B421E5C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1B6-01E0-4115-A173-72AD73C2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B77-D74D-4855-B728-9C4E587C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59E-A047-49D2-BD36-5C91BC8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532-4065-417F-B448-7D58C0D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9E2-4E3B-4EEF-BA33-D4B9C87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AC0-FDBC-439D-A53F-26A43AF9BB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71212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 flipH="1" flipV="1">
            <a:off x="914040" y="2286000"/>
            <a:ext cx="6094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28600" y="1600200"/>
            <a:ext cx="182880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019320" y="2052720"/>
            <a:ext cx="3105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0" y="2819520"/>
            <a:ext cx="16765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"/>
          <p:cNvPicPr/>
          <p:nvPr/>
        </p:nvPicPr>
        <p:blipFill>
          <a:blip r:embed="rId1"/>
          <a:srcRect l="169" t="0" r="0" b="0"/>
          <a:stretch/>
        </p:blipFill>
        <p:spPr>
          <a:xfrm>
            <a:off x="318960" y="2286000"/>
            <a:ext cx="8444160" cy="119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19810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8600" y="820800"/>
            <a:ext cx="8915400" cy="5248080"/>
          </a:xfrm>
          <a:prstGeom prst="rect">
            <a:avLst/>
          </a:prstGeom>
          <a:ln w="0">
            <a:noFill/>
          </a:ln>
        </p:spPr>
      </p:pic>
      <p:sp>
        <p:nvSpPr>
          <p:cNvPr id="69" name="Oval 5"/>
          <p:cNvSpPr/>
          <p:nvPr/>
        </p:nvSpPr>
        <p:spPr>
          <a:xfrm>
            <a:off x="-19080" y="1981080"/>
            <a:ext cx="10666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162" t="240" r="7324" b="75729"/>
          <a:stretch/>
        </p:blipFill>
        <p:spPr>
          <a:xfrm>
            <a:off x="120600" y="1996920"/>
            <a:ext cx="88711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0574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39846" t="0" r="0" b="53640"/>
          <a:stretch/>
        </p:blipFill>
        <p:spPr>
          <a:xfrm>
            <a:off x="92160" y="965160"/>
            <a:ext cx="8991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75" name="Oval 5"/>
          <p:cNvSpPr/>
          <p:nvPr/>
        </p:nvSpPr>
        <p:spPr>
          <a:xfrm>
            <a:off x="1752480" y="685800"/>
            <a:ext cx="106704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0" y="2209680"/>
            <a:ext cx="6858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240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26120" y="26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4419720" y="380880"/>
            <a:ext cx="167616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1295280" y="3657600"/>
            <a:ext cx="419112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4943" t="15243" r="58142" b="59086"/>
          <a:stretch/>
        </p:blipFill>
        <p:spPr>
          <a:xfrm>
            <a:off x="762120" y="1828800"/>
            <a:ext cx="7391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0" t="0" r="19835" b="4611"/>
          <a:stretch/>
        </p:blipFill>
        <p:spPr>
          <a:xfrm>
            <a:off x="228600" y="57240"/>
            <a:ext cx="8458200" cy="6800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28600" y="1066680"/>
            <a:ext cx="4191120" cy="838440"/>
          </a:xfrm>
          <a:prstGeom prst="rect">
            <a:avLst/>
          </a:prstGeom>
          <a:gradFill rotWithShape="0">
            <a:gsLst>
              <a:gs pos="0">
                <a:srgbClr val="ffffcc">
                  <a:alpha val="21176"/>
                </a:srgbClr>
              </a:gs>
              <a:gs pos="100000">
                <a:srgbClr val="ccffcc">
                  <a:alpha val="25098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90720" y="3581280"/>
            <a:ext cx="7467480" cy="2667240"/>
          </a:xfrm>
          <a:prstGeom prst="rect">
            <a:avLst/>
          </a:prstGeom>
          <a:gradFill rotWithShape="0">
            <a:gsLst>
              <a:gs pos="0">
                <a:srgbClr val="ffffcc">
                  <a:alpha val="21176"/>
                </a:srgbClr>
              </a:gs>
              <a:gs pos="100000">
                <a:srgbClr val="ccffcc">
                  <a:alpha val="25098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3429000" y="6095880"/>
            <a:ext cx="198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38281" t="0" r="0" b="52565"/>
          <a:stretch/>
        </p:blipFill>
        <p:spPr>
          <a:xfrm>
            <a:off x="0" y="990720"/>
            <a:ext cx="9144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89000" y="155520"/>
            <a:ext cx="87627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71280" y="144360"/>
            <a:ext cx="8963280" cy="6494400"/>
          </a:xfrm>
          <a:prstGeom prst="rect">
            <a:avLst/>
          </a:prstGeom>
          <a:ln w="0">
            <a:noFill/>
          </a:ln>
        </p:spPr>
      </p:pic>
      <p:sp>
        <p:nvSpPr>
          <p:cNvPr id="47" name="Oval 5"/>
          <p:cNvSpPr/>
          <p:nvPr/>
        </p:nvSpPr>
        <p:spPr>
          <a:xfrm>
            <a:off x="228600" y="1295280"/>
            <a:ext cx="396252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80880" y="4381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4400" y="1033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50" name="Oval 6"/>
          <p:cNvSpPr/>
          <p:nvPr/>
        </p:nvSpPr>
        <p:spPr>
          <a:xfrm>
            <a:off x="838080" y="4495680"/>
            <a:ext cx="29718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H="1" flipV="1">
            <a:off x="2395440" y="5122440"/>
            <a:ext cx="1262160" cy="9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480" y="162000"/>
            <a:ext cx="8883360" cy="6437160"/>
          </a:xfrm>
          <a:prstGeom prst="rect">
            <a:avLst/>
          </a:prstGeom>
          <a:ln w="0">
            <a:noFill/>
          </a:ln>
        </p:spPr>
      </p:pic>
      <p:sp>
        <p:nvSpPr>
          <p:cNvPr id="53" name="Oval 5"/>
          <p:cNvSpPr/>
          <p:nvPr/>
        </p:nvSpPr>
        <p:spPr>
          <a:xfrm>
            <a:off x="1295280" y="3276720"/>
            <a:ext cx="213372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rcRect l="0" t="0" r="0" b="23048"/>
          <a:stretch/>
        </p:blipFill>
        <p:spPr>
          <a:xfrm>
            <a:off x="0" y="762120"/>
            <a:ext cx="9144000" cy="509904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4114800" y="2895480"/>
            <a:ext cx="22860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990720" y="4572000"/>
            <a:ext cx="167616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7772400" y="5638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6"/>
          <p:cNvGrpSpPr/>
          <p:nvPr/>
        </p:nvGrpSpPr>
        <p:grpSpPr>
          <a:xfrm>
            <a:off x="609480" y="380880"/>
            <a:ext cx="7696440" cy="6066000"/>
            <a:chOff x="609480" y="380880"/>
            <a:chExt cx="7696440" cy="6066000"/>
          </a:xfrm>
        </p:grpSpPr>
        <p:pic>
          <p:nvPicPr>
            <p:cNvPr id="59" name="Picture 4" descr=""/>
            <p:cNvPicPr/>
            <p:nvPr/>
          </p:nvPicPr>
          <p:blipFill>
            <a:blip r:embed="rId1"/>
            <a:srcRect l="0" t="0" r="0" b="7086"/>
            <a:stretch/>
          </p:blipFill>
          <p:spPr>
            <a:xfrm>
              <a:off x="609480" y="380880"/>
              <a:ext cx="769644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"/>
            <p:cNvPicPr/>
            <p:nvPr/>
          </p:nvPicPr>
          <p:blipFill>
            <a:blip r:embed="rId2"/>
            <a:srcRect l="0" t="84156" r="0" b="0"/>
            <a:stretch/>
          </p:blipFill>
          <p:spPr>
            <a:xfrm>
              <a:off x="609480" y="5562360"/>
              <a:ext cx="7696440" cy="8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Oval 7"/>
          <p:cNvSpPr/>
          <p:nvPr/>
        </p:nvSpPr>
        <p:spPr>
          <a:xfrm>
            <a:off x="6629400" y="4572000"/>
            <a:ext cx="20574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1:54:42Z</dcterms:created>
  <dc:creator>user2</dc:creator>
  <dc:description/>
  <dc:language>en-US</dc:language>
  <cp:lastModifiedBy>aa</cp:lastModifiedBy>
  <dcterms:modified xsi:type="dcterms:W3CDTF">2014-03-04T14:17:21Z</dcterms:modified>
  <cp:revision>11</cp:revision>
  <dc:subject/>
  <dc:title>Slide 1</dc:title>
</cp:coreProperties>
</file>