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media/image19.pct" ContentType="image/x-pict"/>
  <Override PartName="/ppt/media/image21.pct" ContentType="image/x-pict"/>
  <Override PartName="/ppt/media/image2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63A-A9C9-44D7-BF9B-B1DD035A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EB4-3EC2-4142-BC8C-9AD062CF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359-C807-4F61-B5DD-34CAF647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AA8-FB00-4593-B8CE-362A0F4A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468-818F-4207-845F-FE05E00C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D3D-B432-4037-A085-CB853D74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9D3-1AA2-400D-8E69-9712C3B0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181-706F-48A0-BD0B-BCA01A64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9C9-3F96-45EB-82F3-537AA94B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71A-6B7F-448C-A004-20E0DEA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D2B-1BEB-4333-9871-49299A9A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B47-8637-4004-9AE7-4A2C5D3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7B68-8E9F-4114-A989-F738FD7429B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D32-8DEB-4290-9F0E-A5C354E3C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ct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ct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ct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ct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ct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ct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MATHEMATICAL PHYSICS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OMPLEX ALGEBR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LECTURE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The imaginary numbers are a wonderful flight of God’s spirit; they are almost an amphibian between being and not being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LEIBNITZ 17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6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complex plane or Arg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geometric representation shows us that to each complex number corresponds a vector. The magnitude of this vector is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modulus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of the complex number: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98960" y="4241880"/>
          <a:ext cx="175572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8960" y="4241880"/>
                    <a:ext cx="1755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7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complex conju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r a given complex number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 may define a conjugate number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 complex variable and its conjugate are mirror images of each other reflected in the x-axi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273720" y="2251080"/>
          <a:ext cx="1575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73720" y="2251080"/>
                    <a:ext cx="1575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603600" y="3645000"/>
          <a:ext cx="157788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0" y="3645000"/>
                    <a:ext cx="1577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8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complex conju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Example: Show that the product of a complex number and its conjugate gives the following important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352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362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52680" y="243828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24440" y="2438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880" y="19810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2520" y="1676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7640" y="29480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352680"/>
            <a:ext cx="17528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71800" y="3276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40384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30640" y="327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81560" y="4064040"/>
          <a:ext cx="26676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560" y="4064040"/>
                    <a:ext cx="266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091040" y="5334120"/>
          <a:ext cx="1547640" cy="63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91040" y="5334120"/>
                    <a:ext cx="15476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9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 vector form of complex numbers is reflected on the so called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riangl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s inequality can be generaliz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6880" y="3581280"/>
          <a:ext cx="4267440" cy="5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581280"/>
                    <a:ext cx="42674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477800" y="5135400"/>
          <a:ext cx="679788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7800" y="5135400"/>
                    <a:ext cx="67978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0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f we use polar coordinates we kn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6019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52680" y="4723920"/>
            <a:ext cx="1752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24440" y="4853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42320" y="424332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32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57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25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19520" y="5614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79720" y="2711520"/>
          <a:ext cx="1565280" cy="102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9720" y="2711520"/>
                    <a:ext cx="156528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014880" y="4241880"/>
          <a:ext cx="2408400" cy="17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4880" y="4241880"/>
                    <a:ext cx="24084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1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n we may write for the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 complex number              we may write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principal value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 the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,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which we denote it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,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e define the unique value of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rg 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which lies in the interval (-π, π], t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33880" y="2590920"/>
          <a:ext cx="2859120" cy="4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3880" y="2590920"/>
                    <a:ext cx="28591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317840" y="3352680"/>
          <a:ext cx="787680" cy="3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7840" y="3352680"/>
                    <a:ext cx="7876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76240" y="3916440"/>
          <a:ext cx="7429680" cy="5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76240" y="3916440"/>
                    <a:ext cx="7429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136600" y="5794200"/>
          <a:ext cx="5213520" cy="45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6600" y="5794200"/>
                    <a:ext cx="52135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s of complex algebra-12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exponenti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re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Euler’s formula.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ith the help of this formula we can write a complex number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 polar representation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657600" y="4894200"/>
          <a:ext cx="137160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4894200"/>
                    <a:ext cx="13716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828880" y="2468520"/>
          <a:ext cx="273384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28880" y="2468520"/>
                    <a:ext cx="2733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3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product of complex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ing the exponential form of a complex number we may find the following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29000" y="3025800"/>
          <a:ext cx="217800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025800"/>
                    <a:ext cx="2178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754360" y="3971880"/>
          <a:ext cx="35290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54360" y="3971880"/>
                    <a:ext cx="3529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14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polar form of a complex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choice of polar or cartesian representation is a matter of convenience. Addition and subtraction of complex variables are easier in cartesian form. Multiplication, division, powers and roots are easier to handle in polar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 physics we may encounter pairs of function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hich both satisfy Laplace equation.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example if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s the electrostatic potential then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v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s the electric field. Or, in the hydrodynamics of irrotational flow of an ideal fluid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ght describe the velocity potential, whereas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v the stream function.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 many cases in which these functions are unknown, mapping or transforming in the complex plane permits us to create a coordinate system tailored to the particular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03600" y="2895480"/>
          <a:ext cx="3889440" cy="8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3600" y="2895480"/>
                    <a:ext cx="38894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rder differential equations of interest in physics may be solved in power series in a complex plane. The use of complex analysis gives us greater insight into the behavior of our solution and a powerful tool (analytic continuation) for extending the reason in which the solution is va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change of the paramet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rom real to imaginary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k -&gt; ik,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ransforms the Helmholtz equation into the diffusion equation. The same change transforms the Helmholtz equation solutions (Bessel and spherical Bessel) into the diffusion equation solutions (modified Bessel and spherical Bess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Why we care about complex variables in physics?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ls in the complex plane have a wide variety of usefu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valuating definite integ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rting power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ming finit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btaining solutions of differential for large values of the variable (asymptotic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stigating the stability of potentially oscillatory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verting integral trans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s of complex algebra-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 complex number is an ordered pair of two numbers (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)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ib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here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imilarly a complex variable is an ordered pair of two re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real numbers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re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real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imaginar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arts of </a:t>
            </a:r>
            <a:r>
              <a:rPr b="0" i="1" lang="en-US" sz="2800" spc="-1" strike="noStrike">
                <a:solidFill>
                  <a:srgbClr val="000000"/>
                </a:solidFill>
                <a:latin typeface="Palatino"/>
              </a:rPr>
              <a:t>z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respectiv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ordering is significant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15000" y="1981080"/>
          <a:ext cx="106668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1981080"/>
                    <a:ext cx="1066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382920" y="3352680"/>
          <a:ext cx="2103480" cy="44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82920" y="3352680"/>
                    <a:ext cx="2103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352680" y="5676840"/>
          <a:ext cx="1981440" cy="43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5676840"/>
                    <a:ext cx="19814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436920" y="4697280"/>
          <a:ext cx="2300400" cy="37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6920" y="4697280"/>
                    <a:ext cx="2300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addition and multiplication of complex numbers are defin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e following properties (known from real numbers) do h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24200" y="2971800"/>
          <a:ext cx="5022720" cy="98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4200" y="2971800"/>
                    <a:ext cx="50227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832040" y="4876920"/>
          <a:ext cx="5864040" cy="14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2040" y="4876920"/>
                    <a:ext cx="58640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identity elements with respect to addition and multiplication are the nu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whi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ny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 there is a number          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= (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 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93800" y="2514600"/>
          <a:ext cx="274032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3800" y="2514600"/>
                    <a:ext cx="27403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90920" y="3200400"/>
          <a:ext cx="231444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3200400"/>
                    <a:ext cx="2314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032280" y="4648320"/>
          <a:ext cx="1525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32280" y="4648320"/>
                    <a:ext cx="1525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any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non-zero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complex number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there is a number          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e division of two complex numbers is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25960" y="2743200"/>
          <a:ext cx="117000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5960" y="2743200"/>
                    <a:ext cx="1170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362320" y="2336760"/>
          <a:ext cx="40644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233676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984400" y="3784680"/>
          <a:ext cx="16020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4400" y="3784680"/>
                    <a:ext cx="1602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alatino"/>
              </a:rPr>
              <a:t>Basics of complex algebra-5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The complex plane or Arg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omplex variable can be graphically represented if we plot the real part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s the abscissa and the imaginary part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Palatino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s the ord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6019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52680" y="4723920"/>
            <a:ext cx="1752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24440" y="4853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42320" y="424332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4800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5232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57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82520" y="4343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Vasileios Lempessi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7:42:30Z</dcterms:created>
  <dc:creator>Office 2004 Test Drive User</dc:creator>
  <dc:description/>
  <dc:language>en-US</dc:language>
  <cp:lastModifiedBy>Dr. Vassilis Lembessis</cp:lastModifiedBy>
  <dcterms:modified xsi:type="dcterms:W3CDTF">2014-02-01T10:27:48Z</dcterms:modified>
  <cp:revision>59</cp:revision>
  <dc:subject/>
  <dc:title>MATHEMATICAL PHYSICS II FOURIER SERIES</dc:title>
</cp:coreProperties>
</file>