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330-B8F9-435F-ADB2-EB1B906F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B94-F3CF-43FA-B3C3-220E419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D8F-DED9-4C07-AFF5-DCC848BB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3F9-2410-49A0-8E83-320AA5A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847-55FF-412C-8BC5-300D760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AC9-4B69-4F90-9DBA-645708E9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F1C-CD81-4BCE-8494-713B2ED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BE0-5F9A-4638-A29A-EA25F890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7B0-926F-423C-BA58-E88A842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2FA-ABF6-4432-A794-1476071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A67-0463-4E5A-B89F-4C95FED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AC6-1D14-43E4-A529-509D0E8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86D-78B2-46A6-AF1C-456C863EF2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BB51-CAC1-4DEC-8FA7-A02333076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MATHEMATICAL PHYSICS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MPLEX ALGEB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LECTURE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The imaginary numbers are a wonderful flight of God’s spirit; they are almost an amphibian between being and not being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LEIBNITZ 1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6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geometric representation shows us that to each complex number corresponds a vector. The magnitude of this vector i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modulus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f the complex number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98960" y="4241880"/>
          <a:ext cx="17557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8960" y="4241880"/>
                    <a:ext cx="1755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7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a given complex number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 may define a conjugate number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complex variable and its conjugate are mirror images of each other reflected in the x-axi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273720" y="2251080"/>
          <a:ext cx="1575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3720" y="2251080"/>
                    <a:ext cx="1575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3600" y="3645000"/>
          <a:ext cx="1577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0" y="364500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8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xample: Show that the product of a complex number and its conjugate gives the following important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3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2438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4440" y="2438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880" y="19810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2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948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35268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1800" y="3276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0384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064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81560" y="4064040"/>
          <a:ext cx="26676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560" y="4064040"/>
                    <a:ext cx="26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091040" y="5334120"/>
          <a:ext cx="1547640" cy="63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1040" y="5334120"/>
                    <a:ext cx="1547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9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vector form of complex numbers is reflected on the so called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riangl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s inequality can be generaliz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3581280"/>
          <a:ext cx="4267440" cy="5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426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477800" y="5135400"/>
          <a:ext cx="679788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7800" y="5135400"/>
                    <a:ext cx="6797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0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f we use polar coordinates we kn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9520" y="5614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79720" y="2711520"/>
          <a:ext cx="156528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2711520"/>
                    <a:ext cx="156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014880" y="4241880"/>
          <a:ext cx="2408400" cy="17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4880" y="4241880"/>
                    <a:ext cx="2408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1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n we may write for the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 complex number              we may write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rincipal value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 the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we denote it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e define the unique value o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lies in the interval (-π, π], t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33880" y="2590920"/>
          <a:ext cx="285912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590920"/>
                    <a:ext cx="28591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317840" y="3352680"/>
          <a:ext cx="78768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7840" y="3352680"/>
                    <a:ext cx="787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76240" y="3916440"/>
          <a:ext cx="7429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6240" y="3916440"/>
                    <a:ext cx="7429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36600" y="5794200"/>
          <a:ext cx="521352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6600" y="5794200"/>
                    <a:ext cx="5213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2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Euler’s formula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ith the help of this formula we can write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 polar representation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57600" y="4894200"/>
          <a:ext cx="137160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894200"/>
                    <a:ext cx="13716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28880" y="2468520"/>
          <a:ext cx="27338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8880" y="2468520"/>
                    <a:ext cx="2733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3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product of complex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the exponential form of a complex number we may find the following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29000" y="3025800"/>
          <a:ext cx="217800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025800"/>
                    <a:ext cx="2178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54360" y="3971880"/>
          <a:ext cx="35290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54360" y="3971880"/>
                    <a:ext cx="3529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4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choice of polar or cartesian representation is a matter of convenience. Addition and subtraction of complex variables are easier in cartesian form. Multiplication, division, powers and roots are easier to handle in pola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physics we may encounter pairs of function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ich both satisfy Laplace equation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example i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ostatic potential then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ic field. Or, in the hydrodynamics of irrotational flow of an ideal fluid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ght describe the velocity potential, whereas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the stream function.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many cases in which these functions are unknown, mapping or transforming in the complex plane permits us to create a coordinate system tailored to the particula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03600" y="2895480"/>
          <a:ext cx="38894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3600" y="2895480"/>
                    <a:ext cx="3889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rder differential equations of interest in physics may be solved in power series in a complex plane. The use of complex analysis gives us greater insight into the behavior of our solution and a powerful tool (analytic continuation) for extending the reason in which the solution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change of the paramet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rom real to imaginary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-&gt; ik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nsforms the Helmholtz equation into the diffusion equation. The same change transforms the Helmholtz equation solutions (Bessel and spherical Bessel) into the diffusion equation solutions (modified Bessel and spherical Bess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ls in the complex plane have a wide variety of usefu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valuating definite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pow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ming finit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taining solutions of differential for large values of the variable (asymptotic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stigating the stability of potentially oscillato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integral trans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 complex number is an ordered pair of two numbers (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)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b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ere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milarly a complex variable is an ordered pair of two re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al number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r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maginar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art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respec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ordering is significant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5000" y="1981080"/>
          <a:ext cx="106668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1981080"/>
                    <a:ext cx="1066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382920" y="3352680"/>
          <a:ext cx="210348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82920" y="3352680"/>
                    <a:ext cx="2103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352680" y="5676840"/>
          <a:ext cx="198144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5676840"/>
                    <a:ext cx="1981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436920" y="4697280"/>
          <a:ext cx="2300400" cy="37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6920" y="4697280"/>
                    <a:ext cx="2300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addition and multiplication of complex numbers are def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following properties (known from real numbers) do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24200" y="2971800"/>
          <a:ext cx="5022720" cy="9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4200" y="2971800"/>
                    <a:ext cx="5022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32040" y="4876920"/>
          <a:ext cx="5864040" cy="14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2040" y="4876920"/>
                    <a:ext cx="5864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identity elements with respect to addition and multiplication are the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whi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there is a number         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3800" y="2514600"/>
          <a:ext cx="27403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514600"/>
                    <a:ext cx="27403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90920" y="3200400"/>
          <a:ext cx="23144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3200400"/>
                    <a:ext cx="2314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32280" y="4648320"/>
          <a:ext cx="1525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4648320"/>
                    <a:ext cx="1525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non-zero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there is a number         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division of two complex numbers 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25960" y="2743200"/>
          <a:ext cx="11700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5960" y="2743200"/>
                    <a:ext cx="1170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362320" y="233676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233676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84400" y="3784680"/>
          <a:ext cx="16020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0" y="3784680"/>
                    <a:ext cx="1602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5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mplex variable can be graphically represented if we plot the real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abscissa and the imaginary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7:42:30Z</dcterms:created>
  <dc:creator>Office 2004 Test Drive User</dc:creator>
  <dc:description/>
  <dc:language>en-US</dc:language>
  <cp:lastModifiedBy>Dr. Vassilis Lembessis</cp:lastModifiedBy>
  <dcterms:modified xsi:type="dcterms:W3CDTF">2014-02-01T10:27:48Z</dcterms:modified>
  <cp:revision>59</cp:revision>
  <dc:subject/>
  <dc:title>MATHEMATICAL PHYSICS II FOURIER SERIES</dc:title>
</cp:coreProperties>
</file>