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ct" ContentType="image/x-pict"/>
  <Override PartName="/ppt/media/image23.pct" ContentType="image/x-pict"/>
  <Override PartName="/ppt/media/image28.pct" ContentType="image/x-pict"/>
  <Override PartName="/ppt/media/image5.pct" ContentType="image/x-pict"/>
  <Override PartName="/ppt/media/image30.pct" ContentType="image/x-pict"/>
  <Override PartName="/ppt/media/image10.pct" ContentType="image/x-pict"/>
  <Override PartName="/ppt/media/image29.pct" ContentType="image/x-pict"/>
  <Override PartName="/ppt/media/image6.pct" ContentType="image/x-pict"/>
  <Override PartName="/ppt/media/image31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media/image4.pct" ContentType="image/x-pict"/>
  <Override PartName="/ppt/media/image27.pct" ContentType="image/x-pict"/>
  <Override PartName="/ppt/media/image3.pct" ContentType="image/x-pict"/>
  <Override PartName="/ppt/media/image26.pct" ContentType="image/x-pict"/>
  <Override PartName="/ppt/media/image2.pct" ContentType="image/x-pict"/>
  <Override PartName="/ppt/media/image25.pct" ContentType="image/x-pict"/>
  <Override PartName="/ppt/media/image1.jpeg" ContentType="image/jpeg"/>
  <Override PartName="/ppt/media/image18.pct" ContentType="image/x-pict"/>
  <Override PartName="/ppt/media/image20.pct" ContentType="image/x-pict"/>
  <Override PartName="/ppt/media/image14.pct" ContentType="image/x-pict"/>
  <Override PartName="/ppt/media/image15.pct" ContentType="image/x-pict"/>
  <Override PartName="/ppt/media/image16.pct" ContentType="image/x-pict"/>
  <Override PartName="/ppt/media/image17.pct" ContentType="image/x-pict"/>
  <Override PartName="/ppt/media/image19.pct" ContentType="image/x-pict"/>
  <Override PartName="/ppt/media/image21.pct" ContentType="image/x-pict"/>
  <Override PartName="/ppt/media/image22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F700-FF93-46B1-A14D-E9A7BA680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66FD-E1FF-4D5B-9AE8-2A3C70BC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0A3A-63B6-4EB9-8A72-D969182EF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4494-7E20-49BF-B089-2E51B1263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BD33-CADB-49CF-872E-B902EE7A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073D-B2B0-4CBB-AA51-6274DE6E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C602-8CC2-47DB-A780-916D8DC0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54B2-6CDC-4B0E-A457-12D578CF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DD07-8B3E-40D7-880D-D6DFDD88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CC73-EA09-4F4B-9C21-F4D8CD90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B110-29C9-4C33-B738-3CFB11E7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C94A-09B4-4F83-9C3D-5BB99D9A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7A6B-CB01-425B-8FBC-C08CE4E23B4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C369-BA6D-4032-8ED1-96225FD27E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ct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ct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ct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pct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pct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pct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pct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pct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pct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ct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ct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pct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MATHEMATICAL PHYSICS I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OMPLEX ALGEBR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LECTURE -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The imaginary numbers are a wonderful flight of God’s spirit; they are almost an amphibian between being and not being”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LEIBNITZ 17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Basics of complex algebra-6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The complex plane or Arg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The geometric representation shows us that to each complex number corresponds a vector. The magnitude of this vector is the 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modulus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of the complex number: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198960" y="4241880"/>
          <a:ext cx="1755720" cy="55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98960" y="4241880"/>
                    <a:ext cx="175572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Basics of complex algebra-7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complex conju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r a given complex number </a:t>
            </a: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 may define a conjugate number given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e complex variable and its conjugate are mirror images of each other reflected in the x-axis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273720" y="2251080"/>
          <a:ext cx="1575000" cy="49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73720" y="2251080"/>
                    <a:ext cx="15750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3603600" y="3645000"/>
          <a:ext cx="1577880" cy="54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03600" y="3645000"/>
                    <a:ext cx="15778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Basics of complex algebra-8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complex conju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464832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Example: Show that the product of a complex number and its conjugate gives the following important rel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19051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71800" y="33526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2362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352680" y="243828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24440" y="24382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05880" y="1981080"/>
            <a:ext cx="8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82520" y="1676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87640" y="29480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05520" y="2438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0552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52680" y="3352680"/>
            <a:ext cx="17528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71800" y="32767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05520" y="4038480"/>
            <a:ext cx="8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30640" y="3276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381560" y="4064040"/>
          <a:ext cx="266760" cy="35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81560" y="4064040"/>
                    <a:ext cx="26676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091040" y="5334120"/>
          <a:ext cx="1547640" cy="636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91040" y="5334120"/>
                    <a:ext cx="154764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Basics of complex algebra-9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The polar form of a complex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e vector form of complex numbers is reflected on the so called </a:t>
            </a: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triangle in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s inequality can be generalized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666880" y="3581280"/>
          <a:ext cx="4267440" cy="57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3581280"/>
                    <a:ext cx="426744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477800" y="5135400"/>
          <a:ext cx="6797880" cy="57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7800" y="5135400"/>
                    <a:ext cx="679788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Basics of complex algebra-10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The polar form of a complex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574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f we use polar coordinates we know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52680" y="41148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71800" y="60199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05520" y="4648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352680" y="4723920"/>
            <a:ext cx="17528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24440" y="48531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42320" y="4243320"/>
            <a:ext cx="8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320" y="4648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25720" y="601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82520" y="4343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05520" y="48006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19520" y="56149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879720" y="2711520"/>
          <a:ext cx="1565280" cy="102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79720" y="2711520"/>
                    <a:ext cx="156528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6014880" y="4241880"/>
          <a:ext cx="2408400" cy="17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14880" y="4241880"/>
                    <a:ext cx="24084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Basics of complex algebra-11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The polar form of a complex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en we may write for the complex number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r a complex number              we may write a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As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principal value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of the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arg z,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 which we denote it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Arg z,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e define the unique value of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arg z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 which lies in the interval (-π, π], th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33880" y="2590920"/>
          <a:ext cx="2859120" cy="48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33880" y="2590920"/>
                    <a:ext cx="285912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4317840" y="3352680"/>
          <a:ext cx="787680" cy="366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17840" y="3352680"/>
                    <a:ext cx="78768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876240" y="3916440"/>
          <a:ext cx="7429680" cy="503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76240" y="3916440"/>
                    <a:ext cx="74296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2136600" y="5794200"/>
          <a:ext cx="5213520" cy="454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36600" y="5794200"/>
                    <a:ext cx="5213520" cy="4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asics of complex algebra-12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exponential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The re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s known as 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Euler’s formula.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With the help of this formula we can write a complex number 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z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 polar representation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657600" y="4894200"/>
          <a:ext cx="1371600" cy="59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4894200"/>
                    <a:ext cx="137160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2828880" y="2468520"/>
          <a:ext cx="2733840" cy="48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28880" y="2468520"/>
                    <a:ext cx="27338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Basics of complex algebra-13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product of complex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ing the exponential form of a complex number we may find the following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429000" y="3025800"/>
          <a:ext cx="2178000" cy="52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3025800"/>
                    <a:ext cx="21780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2754360" y="3971880"/>
          <a:ext cx="3529080" cy="523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54360" y="3971880"/>
                    <a:ext cx="35290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Basics of complex algebra-14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The polar form of a complex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The choice of polar or cartesian representation is a matter of convenience. Addition and subtraction of complex variables are easier in cartesian form. Multiplication, division, powers and roots are easier to handle in polar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Why we care about complex variables in physics?-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In physics we may encounter pairs of functions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u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v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hich both satisfy Laplace equation.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r example if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u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is the electrostatic potential then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 v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is the electric field. Or, in the hydrodynamics of irrotational flow of an ideal fluid,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u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might describe the velocity potential, whereas the function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v the stream function.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In many cases in which these functions are unknown, mapping or transforming in the complex plane permits us to create a coordinate system tailored to the particular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703600" y="2895480"/>
          <a:ext cx="3889440" cy="83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3600" y="2895480"/>
                    <a:ext cx="388944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Why we care about complex variables in physics?-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cond order differential equations of interest in physics may be solved in power series in a complex plane. The use of complex analysis gives us greater insight into the behavior of our solution and a powerful tool (analytic continuation) for extending the reason in which the solution is val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e change of the parameter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rom real to imaginary,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k -&gt; ik,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ransforms the Helmholtz equation into the diffusion equation. The same change transforms the Helmholtz equation solutions (Bessel and spherical Bessel) into the diffusion equation solutions (modified Bessel and spherical Besse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Why we care about complex variables in physics?-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ls in the complex plane have a wide variety of usefu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valuating definite integ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Inverting power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rming finite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Obtaining solutions of differential for large values of the variable (asymptotic solu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Investigating the stability of potentially oscillatory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Inverting integral transfo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asics of complex algebra-1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A complex number is an ordered pair of two numbers (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) or 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ib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where         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imilarly a complex variable is an ordered pair of two real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The real numbers 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are known as the 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real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imaginar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arts of 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z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respective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The ordering is significant si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715000" y="1981080"/>
          <a:ext cx="1066680" cy="44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5000" y="1981080"/>
                    <a:ext cx="10666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382920" y="3352680"/>
          <a:ext cx="2103480" cy="444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82920" y="3352680"/>
                    <a:ext cx="21034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3352680" y="5676840"/>
          <a:ext cx="1981440" cy="43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52680" y="5676840"/>
                    <a:ext cx="198144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436920" y="4697280"/>
          <a:ext cx="2300400" cy="370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36920" y="4697280"/>
                    <a:ext cx="230040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Basics of complex algebra-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The addition and multiplication of complex numbers are defined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The following properties (known from real numbers) do hol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924200" y="2971800"/>
          <a:ext cx="5022720" cy="98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4200" y="2971800"/>
                    <a:ext cx="502272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1832040" y="4876920"/>
          <a:ext cx="5864040" cy="1433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32040" y="4876920"/>
                    <a:ext cx="58640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Basics of complex algebra-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e identity elements with respect to addition and multiplication are the numb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r which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r any complex number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= (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) there is a number          -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= (-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, -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)  such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593800" y="2514600"/>
          <a:ext cx="274032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3800" y="2514600"/>
                    <a:ext cx="27403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2590920" y="3200400"/>
          <a:ext cx="2314440" cy="355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90920" y="3200400"/>
                    <a:ext cx="23144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3032280" y="4648320"/>
          <a:ext cx="1525320" cy="457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32280" y="4648320"/>
                    <a:ext cx="15253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Basics of complex algebra-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r any </a:t>
            </a: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non-zero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 complex number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 there is a number           such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e division of two complex numbers is defined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225960" y="2743200"/>
          <a:ext cx="1170000" cy="40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25960" y="2743200"/>
                    <a:ext cx="11700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362320" y="2336760"/>
          <a:ext cx="406440" cy="406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62320" y="2336760"/>
                    <a:ext cx="406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2984400" y="3784680"/>
          <a:ext cx="1602000" cy="863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84400" y="3784680"/>
                    <a:ext cx="16020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Basics of complex algebra-5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The complex plane or Arg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omplex variable can be graphically represented if we plot the real part </a:t>
            </a: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f </a:t>
            </a: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z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s the abscissa and the imaginary part </a:t>
            </a: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f </a:t>
            </a: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z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s the ordin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52680" y="41148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60199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05520" y="4648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352680" y="4723920"/>
            <a:ext cx="17528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24440" y="48531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42320" y="4243320"/>
            <a:ext cx="8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05520" y="48006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352320" y="4648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25720" y="601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82520" y="4343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7:42:30Z</dcterms:created>
  <dc:creator>Office 2004 Test Drive User</dc:creator>
  <dc:description/>
  <dc:language>en-US</dc:language>
  <cp:lastModifiedBy>Dr. Vassilis Lembessis</cp:lastModifiedBy>
  <dcterms:modified xsi:type="dcterms:W3CDTF">2014-02-01T10:27:48Z</dcterms:modified>
  <cp:revision>59</cp:revision>
  <dc:subject/>
  <dc:title>MATHEMATICAL PHYSICS II FOURIER SERIES</dc:title>
</cp:coreProperties>
</file>