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octor-Patient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ociology as applied to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ernal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ditional D-P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tor Takes on role of “pare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submi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ft towards Mu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controlled consul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838160"/>
          <a:ext cx="379080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38160"/>
                    <a:ext cx="379080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’re paid to do what I tell you!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s beliefs and expec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uenc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 experience, literature, the medi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 and friends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al influence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signific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beliefs influence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octor’s consulting sty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ctor centred consultation sty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ternalistic -  doctor is the expert and patient expected to coope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ghtly controlled interviewing style aimed at reaching an organic diagn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aternalistic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3440" y="1828800"/>
          <a:ext cx="375444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828800"/>
                    <a:ext cx="37544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’ve told you once I told you 1,000 times,  stop smoking!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octor’s consultation sty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Centred consultation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authoritarian - encourages patient to their own feelings and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questioning, interested in psycho-social aspect of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centred clinical int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tor - history examination invest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in a differential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- ideas expectations fee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in an understanding of patients belie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ngth of Consul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1160" y="1828800"/>
          <a:ext cx="33400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828800"/>
                    <a:ext cx="33400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8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patient centred consultation styles more difficu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influences on consul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tient’s ability to exercise and control depends on a number of fa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and educational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hip of an ethnic min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ntigrated approach to information gath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eking to identify physical psychological and social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likely to produce a better out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ctor Patient Cont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,000 GP consultations every working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ture of the relationship determines the success or otherwise of th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to this is the exchange of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and 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who feel at ease and who are encouraged to talk freely are more likely to  disclose the real reason for consu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and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ice reassurance and support from the doctor can have a significant effect on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cebo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ltation Sty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68480"/>
          <a:ext cx="3790800" cy="38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379080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serious isn’t it doct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ons’ “Ideal Patient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mitt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ve up some activities and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garded as being in need of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Retur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want to get bett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ek help from and cooperate with a do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sons’ “ Ideal Doctor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a high degree of skill and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 for the good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in objective and emotionally de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 the position of privi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lict of Inter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s of patient v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s of patient v other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confidenti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D-P Relation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2280" y="1835280"/>
            <a:ext cx="7759440" cy="41018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Control      Low               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                      Default           Paterna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onsumerist   Mu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3429000"/>
            <a:ext cx="7759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9320" y="2362320"/>
            <a:ext cx="77853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835280"/>
            <a:ext cx="0" cy="40258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13:10:58Z</dcterms:created>
  <dc:creator>DAVID ROSS SHANKILL</dc:creator>
  <dc:description/>
  <dc:language>en-US</dc:language>
  <cp:lastModifiedBy>K. McGlade</cp:lastModifiedBy>
  <cp:lastPrinted>31131-03-27T02:06:35Z</cp:lastPrinted>
  <dcterms:modified xsi:type="dcterms:W3CDTF">1999-11-03T17:22:12Z</dcterms:modified>
  <cp:revision>2</cp:revision>
  <dc:subject/>
  <dc:title>The Doctor-Patient Relationship</dc:title>
</cp:coreProperties>
</file>