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57428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Physiologic Basis for Hemodynamic Monitoring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600520"/>
            <a:ext cx="10464840" cy="166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臺大醫院麻醉部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鄭雅蓉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888480" y="7823160"/>
            <a:ext cx="3179880" cy="2184480"/>
          </a:xfrm>
          <a:prstGeom prst="rect">
            <a:avLst/>
          </a:prstGeom>
          <a:ln w="0">
            <a:noFill/>
          </a:ln>
          <a:effectLst>
            <a:outerShdw dist="76133" dir="3595144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ing Truth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6920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No monitoring device, no matter how simple or complex, invasive or non-invasive, inaccurate or precise will improve outco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Unless coupled to a </a:t>
            </a:r>
            <a:r>
              <a:rPr b="0" i="1" lang="en-US" sz="4200" spc="-1" strike="noStrike" u="sng">
                <a:solidFill>
                  <a:srgbClr val="ffffff"/>
                </a:solidFill>
                <a:uFillTx/>
                <a:latin typeface="Gill Sans"/>
                <a:ea typeface="新細明體"/>
              </a:rPr>
              <a:t>treatme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, which itself improves outco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2971800" y="8400960"/>
            <a:ext cx="9944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新細明體"/>
              </a:rPr>
              <a:t>Pinsky &amp; Payen. Functional Hemodynamic Monitoring, Springer, 2004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Goals of Monito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463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SzPct val="159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To assure the adequacy of perfus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SzPct val="159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Early detection of inadequacy of perfus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SzPct val="159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To titrate therapy to specific hemodynamic end poin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SzPct val="159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To differentiate among various organ system dysfunction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09600" y="8190000"/>
            <a:ext cx="12217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ing for individual patient should be physiologically based and goal orient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Different Environments Demand Different Rule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74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SzPct val="1594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Emergency Depart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6199"/>
              </a:spcBef>
              <a:buSzPct val="1594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rauma ICU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6199"/>
              </a:spcBef>
              <a:buSzPct val="1594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Operation Ro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10800"/>
              </a:spcBef>
              <a:buSzPct val="1594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CU &amp; R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2285640" y="5102280"/>
            <a:ext cx="6375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Rapid, invasive, high specificity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247840" y="8362800"/>
            <a:ext cx="936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Somewhere in between ER and O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47840" y="6356520"/>
            <a:ext cx="109983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Accurate, invasive, high specifici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Close titration, zero tolerance for complicatio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2231280" y="3679920"/>
            <a:ext cx="8387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Rapid, minimally invasive, high sensitivi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s (1)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1055880" indent="-79164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Traditional invasive monitor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936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Arterial lin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936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CVP &amp; Scv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936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PA catheter, CCO, Sv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55880" indent="-79164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al pressure vari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936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Pulse pressure vari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936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Stroke volume variation 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s (2)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69720" y="3652560"/>
            <a:ext cx="10488600" cy="483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Alternative to right-side heart catheteriz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25676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PiCCO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2116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Echocardiograph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25676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Transesophageal echocardiography (TEE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25676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Esophageal doppler monito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211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Is Cardiac Output Adequate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723960" y="5626080"/>
            <a:ext cx="3276720" cy="2489400"/>
          </a:xfrm>
          <a:prstGeom prst="roundRect">
            <a:avLst>
              <a:gd name="adj" fmla="val 765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Pump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 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4762440" y="5626080"/>
            <a:ext cx="3276720" cy="2489400"/>
          </a:xfrm>
          <a:prstGeom prst="roundRect">
            <a:avLst>
              <a:gd name="adj" fmla="val 765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Adequate intravascular volume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8801280" y="5626080"/>
            <a:ext cx="3276360" cy="2489400"/>
          </a:xfrm>
          <a:prstGeom prst="roundRect">
            <a:avLst>
              <a:gd name="adj" fmla="val 7653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Driving pressure for venous return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1606680" y="3076560"/>
            <a:ext cx="94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s blood flow adequate to meet metabolic demand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Is Cardiac Output Adequate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23960" y="5626080"/>
            <a:ext cx="3276720" cy="2489400"/>
          </a:xfrm>
          <a:prstGeom prst="roundRect">
            <a:avLst>
              <a:gd name="adj" fmla="val 765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Left &amp; right ventricular func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4762440" y="5597640"/>
            <a:ext cx="3276720" cy="2517840"/>
          </a:xfrm>
          <a:prstGeom prst="roundRect">
            <a:avLst>
              <a:gd name="adj" fmla="val 765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The effects of respiration or mechanical ventil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8801280" y="5626080"/>
            <a:ext cx="3276360" cy="2489400"/>
          </a:xfrm>
          <a:prstGeom prst="roundRect">
            <a:avLst>
              <a:gd name="adj" fmla="val 7653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Preload &amp; preload responsive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4066560" y="3220920"/>
            <a:ext cx="439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We Should Kn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Ventricular Func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45960" y="2284560"/>
            <a:ext cx="10464840" cy="614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Left ventricular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Right ventricular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Depressed right ventricular function was further linked to more severely compromised left ventricular func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4414680" y="7659360"/>
            <a:ext cx="8102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Nielsen et al. Intensive care med 32:585-94, 200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41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  <a:ea typeface="新細明體"/>
              </a:rPr>
              <a:t>Respiration and RV function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pontaneous ventil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Mechanical positive pressure ventilation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1160" y="38160"/>
            <a:ext cx="127890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新細明體"/>
              </a:rPr>
              <a:t>Use of Heart Lung Interactions to Diagnose Preload-Responsivenes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55520"/>
            <a:ext cx="11518920" cy="732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ValSalva maneuv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8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Ventilation-induced changes i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Right atrial press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ystolic arterial press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Arterial pulse press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nferior vena caval diame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uperior vena caval diame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2780640" y="2802960"/>
            <a:ext cx="614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Sharpey-Schaffer. Br Med J 1:693-699, 195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Zema et al., D Chest 85,59-64, 198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830680" y="5164200"/>
            <a:ext cx="5829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Magder et al. J Crit Care 7:76‑85, 1992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2736000" y="6291000"/>
            <a:ext cx="636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Perel et al. Anesthesiology 67:498-502, 1987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7207200"/>
            <a:ext cx="8362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Michard et al. Am J Respir Crit Care Med 162:134-8, 20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2830680" y="8190000"/>
            <a:ext cx="907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Jardin &amp; Vieillard-Baron. Intensive Care Med 29:1426-34, 200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2830680" y="9198000"/>
            <a:ext cx="8867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新細明體"/>
              </a:rPr>
              <a:t>Vieillard-Baron et al. Am J Respir Crit Care Med 168: 671-6, 200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Circulation to Perfus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6692760" y="2692440"/>
            <a:ext cx="2095560" cy="2095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Arteri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788320" y="4788000"/>
            <a:ext cx="2095560" cy="2095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Organs &amp; Tissu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597560" y="4788000"/>
            <a:ext cx="2095200" cy="20955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Hear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692760" y="6883560"/>
            <a:ext cx="2095560" cy="2095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Vein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82760" y="6985080"/>
            <a:ext cx="3174840" cy="19047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Anesthesi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Sedati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82760" y="2793960"/>
            <a:ext cx="3174840" cy="19051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Sympathetic Nervous System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1066680" y="5207040"/>
            <a:ext cx="2006640" cy="1270080"/>
          </a:xfrm>
          <a:prstGeom prst="rightArrow">
            <a:avLst>
              <a:gd name="adj1" fmla="val 32000"/>
              <a:gd name="adj2" fmla="val 44004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 rot="2700000">
            <a:off x="3346560" y="4203360"/>
            <a:ext cx="1409760" cy="1270080"/>
          </a:xfrm>
          <a:prstGeom prst="rightArrow">
            <a:avLst>
              <a:gd name="adj1" fmla="val 32000"/>
              <a:gd name="adj2" fmla="val 4400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4000680" y="3111480"/>
            <a:ext cx="2400120" cy="1270080"/>
          </a:xfrm>
          <a:prstGeom prst="rightArrow">
            <a:avLst>
              <a:gd name="adj1" fmla="val 32000"/>
              <a:gd name="adj2" fmla="val 43997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8623440" y="4452480"/>
            <a:ext cx="558720" cy="507960"/>
          </a:xfrm>
          <a:prstGeom prst="line">
            <a:avLst/>
          </a:prstGeom>
          <a:ln w="101520">
            <a:solidFill>
              <a:srgbClr val="f7d667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736840" y="6891120"/>
            <a:ext cx="523800" cy="525240"/>
          </a:xfrm>
          <a:prstGeom prst="line">
            <a:avLst/>
          </a:prstGeom>
          <a:ln w="101520">
            <a:solidFill>
              <a:srgbClr val="f7d667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6388200" y="6700680"/>
            <a:ext cx="503280" cy="427320"/>
          </a:xfrm>
          <a:prstGeom prst="line">
            <a:avLst/>
          </a:prstGeom>
          <a:ln w="101520">
            <a:solidFill>
              <a:srgbClr val="f7d667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10031400" y="1708200"/>
            <a:ext cx="3262320" cy="3367080"/>
          </a:xfrm>
          <a:prstGeom prst="wedgeEllipseCallout">
            <a:avLst>
              <a:gd name="adj1" fmla="val -52500"/>
              <a:gd name="adj2" fmla="val 50000"/>
            </a:avLst>
          </a:prstGeom>
          <a:solidFill>
            <a:srgbClr val="ffffff"/>
          </a:solid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Oxygenati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新細明體"/>
              </a:rPr>
              <a:t>Consumpti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573960" y="4731840"/>
            <a:ext cx="36036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934320" y="458964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6573960" y="4589640"/>
            <a:ext cx="577800" cy="792000"/>
          </a:xfrm>
          <a:prstGeom prst="upDownArrow">
            <a:avLst>
              <a:gd name="adj1" fmla="val 50000"/>
              <a:gd name="adj2" fmla="val 27287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  <a:ea typeface="新細明體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63280" y="988920"/>
            <a:ext cx="10464840" cy="26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SzPct val="1594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Mechanical positive pressure ventil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1822320" y="3363840"/>
            <a:ext cx="10464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buClr>
                <a:srgbClr val="ffffff"/>
              </a:buClr>
              <a:buSzPct val="12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ncrease RV outflow impedance, reduce ejection, increase RVEDV, tricuspid regurgi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SzPct val="12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EE: SVC diameter: the effect of venous retur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SzPct val="12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 may be mislead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Preload &amp; Preload 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Responsivenes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36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75360" indent="-434160">
              <a:spcBef>
                <a:spcPts val="2401"/>
              </a:spcBef>
              <a:buSzPct val="1594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tarling’s law is still operat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578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578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75360" indent="-434160">
              <a:spcBef>
                <a:spcPts val="2401"/>
              </a:spcBef>
              <a:buSzPct val="1594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, PAOP and their changes: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2254320" y="3652920"/>
            <a:ext cx="10198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f end diastolic volume ( EDV ) increased in response to volume loading, then stroke volume increased as well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2181240" y="6532560"/>
            <a:ext cx="97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Did not respond with EDV, b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Provide a stable route for drug titration and fluid infu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Neither CVP or Ppao reflect Ventricular Volumes or tract preload-responsivenes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35040" y="2870280"/>
            <a:ext cx="11721960" cy="5499000"/>
            <a:chOff x="635040" y="2870280"/>
            <a:chExt cx="11721960" cy="5499000"/>
          </a:xfrm>
        </p:grpSpPr>
        <p:sp>
          <p:nvSpPr>
            <p:cNvPr id="633" name=""/>
            <p:cNvSpPr/>
            <p:nvPr/>
          </p:nvSpPr>
          <p:spPr>
            <a:xfrm>
              <a:off x="635040" y="2870280"/>
              <a:ext cx="11721960" cy="5499000"/>
            </a:xfrm>
            <a:prstGeom prst="roundRect">
              <a:avLst>
                <a:gd name="adj" fmla="val 3463"/>
              </a:avLst>
            </a:prstGeom>
            <a:solidFill>
              <a:srgbClr val="ffffff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34" name="" descr=""/>
            <p:cNvPicPr/>
            <p:nvPr/>
          </p:nvPicPr>
          <p:blipFill>
            <a:blip r:embed="rId2"/>
            <a:stretch/>
          </p:blipFill>
          <p:spPr>
            <a:xfrm>
              <a:off x="851040" y="3117960"/>
              <a:ext cx="5570280" cy="50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"/>
            <a:stretch/>
          </p:blipFill>
          <p:spPr>
            <a:xfrm>
              <a:off x="6426360" y="3122640"/>
              <a:ext cx="5708520" cy="50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"/>
          <p:cNvSpPr/>
          <p:nvPr/>
        </p:nvSpPr>
        <p:spPr>
          <a:xfrm>
            <a:off x="3981600" y="8940960"/>
            <a:ext cx="8921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Kumar et al. Crit Care Med 32:691-9,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Neither CVP or Ppao reflect Ventricular Volumes or tract preload-responsivenes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35040" y="2870280"/>
            <a:ext cx="11721960" cy="5499000"/>
            <a:chOff x="635040" y="2870280"/>
            <a:chExt cx="11721960" cy="5499000"/>
          </a:xfrm>
        </p:grpSpPr>
        <p:sp>
          <p:nvSpPr>
            <p:cNvPr id="639" name=""/>
            <p:cNvSpPr/>
            <p:nvPr/>
          </p:nvSpPr>
          <p:spPr>
            <a:xfrm>
              <a:off x="635040" y="2870280"/>
              <a:ext cx="11721960" cy="5499000"/>
            </a:xfrm>
            <a:prstGeom prst="roundRect">
              <a:avLst>
                <a:gd name="adj" fmla="val 3463"/>
              </a:avLst>
            </a:prstGeom>
            <a:solidFill>
              <a:srgbClr val="ffffff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2"/>
            <a:stretch/>
          </p:blipFill>
          <p:spPr>
            <a:xfrm>
              <a:off x="851040" y="3117960"/>
              <a:ext cx="5570280" cy="50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3"/>
            <a:stretch/>
          </p:blipFill>
          <p:spPr>
            <a:xfrm>
              <a:off x="6426360" y="3122640"/>
              <a:ext cx="5708520" cy="507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 rot="20970000">
            <a:off x="422280" y="4668840"/>
            <a:ext cx="12166560" cy="18543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c0c0c0"/>
            </a:outerShdw>
          </a:effectLst>
        </p:spPr>
      </p:pic>
      <p:sp>
        <p:nvSpPr>
          <p:cNvPr id="643" name=""/>
          <p:cNvSpPr/>
          <p:nvPr/>
        </p:nvSpPr>
        <p:spPr>
          <a:xfrm>
            <a:off x="3981600" y="8940960"/>
            <a:ext cx="8921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Kumar et al. Crit Care Med 32:691-9,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Physiological limita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6821640" y="3301920"/>
            <a:ext cx="50799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PAO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LV diastolic complianc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Pericardial restrai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Intrathoracic pressur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Heart rat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Mitral valvulopath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1104840" y="3301920"/>
            <a:ext cx="50799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RV dysfunc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Pulmonary hypertens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LV dysfunc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Tamponade &amp; hyperinfl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Intravascular volume expans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58720" y="63360"/>
            <a:ext cx="1188720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Predicting Fluid Responsivenes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in ICU Patient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549440" y="1612800"/>
          <a:ext cx="9893160" cy="6819840"/>
        </p:xfrm>
        <a:graphic>
          <a:graphicData uri="http://schemas.openxmlformats.org/drawingml/2006/table">
            <a:tbl>
              <a:tblPr/>
              <a:tblGrid>
                <a:gridCol w="4591080"/>
                <a:gridCol w="2982960"/>
                <a:gridCol w="2319120"/>
              </a:tblGrid>
              <a:tr h="46764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Responders / Non-respond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% Respond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Calvin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Surgery 81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0 /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7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Schneider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Am Heart J 8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3 /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Reu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Chest 9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6 /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6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Magder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J Crit Care 9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7 / 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5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Diebel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Arch Surgery 9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3 /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5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Diebel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J Trauma 9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6 / 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Wagner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Chest 9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0 / 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Tavernier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Anesthesio 9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1 / 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6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Magder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J Crit Care 99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3 / 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Tousignant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A Analg 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6 / 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Michard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AJRCCM 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6 / 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Feissel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(Chest 0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10 /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5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M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211 / 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ill Sans"/>
                          <a:ea typeface="新細明體"/>
                        </a:rPr>
                        <a:t>5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5437440" y="8948880"/>
            <a:ext cx="700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新細明體"/>
              </a:rPr>
              <a:t>Michard &amp; Teboul. Chest 121:2000-8, 200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Can CVP Be Use for Fluid Management?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72880" y="1996560"/>
            <a:ext cx="104648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Relativel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Absolutel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新細明體"/>
              </a:rPr>
              <a:t>Does apneic CVP predict preload responsiveness?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3327120" y="9053640"/>
            <a:ext cx="934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新細明體"/>
              </a:rPr>
              <a:t>Michard et al. Am J Respir Crit Care Med 162:134-8, 2000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2161440" y="3220920"/>
            <a:ext cx="505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Y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on most cou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2191680" y="5092560"/>
            <a:ext cx="94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Yes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for hypovolemia (10 mmHg cut-off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2135160" y="7469280"/>
            <a:ext cx="10869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No,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but then neither does Ppao or direct measures of LV end-diastolic volu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280" y="253800"/>
            <a:ext cx="121287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Thermodilution Cardiac Outpu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2880" y="32205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778040" indent="-57168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Mean (steady state) blood fl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al significance of a specific cardiac output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ardiac output varies to match the metabolic demands of the bod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4414680" y="847728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Pinsky, The meaning of cardiac output.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新細明體"/>
              </a:rPr>
              <a:t>Intensive Care Med 16:415-417, 199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1434600" y="3147840"/>
            <a:ext cx="787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he meaning of cardiac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Mixed Venous Oximetry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is the averaged end-capillary oxygen content (essential for 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 Fick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is a useful parameter of hemodynamic status is specific cond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f 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&lt; 60% some capillary beds ischemi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In sedated, paralyzed patient 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parallels C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Adequate Oxygen delivery?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93840" y="2768400"/>
            <a:ext cx="1220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: mixed venous oxygen satur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8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(a-v)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: arterial-venous oxygen content differ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8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Lactate: the demand and need of the use of oxyg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3332880" y="3903480"/>
            <a:ext cx="5624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 u="sng">
                <a:solidFill>
                  <a:srgbClr val="ffffff"/>
                </a:solidFill>
                <a:uFillTx/>
                <a:latin typeface="Gill Sans"/>
                <a:ea typeface="新細明體"/>
              </a:rPr>
              <a:t>Consumption &amp; delive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3306960" y="6150240"/>
            <a:ext cx="726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 u="sng">
                <a:solidFill>
                  <a:srgbClr val="ffffff"/>
                </a:solidFill>
                <a:uFillTx/>
                <a:latin typeface="Gill Sans"/>
                <a:ea typeface="新細明體"/>
              </a:rPr>
              <a:t>Consumption &amp; cardiac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3530520" y="8332560"/>
            <a:ext cx="576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 u="sng">
                <a:solidFill>
                  <a:srgbClr val="ffffff"/>
                </a:solidFill>
                <a:uFillTx/>
                <a:latin typeface="Gill Sans"/>
                <a:ea typeface="新細明體"/>
              </a:rPr>
              <a:t>Consumption &amp; dem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530520" y="1816200"/>
            <a:ext cx="5943600" cy="7327800"/>
          </a:xfrm>
          <a:prstGeom prst="rect">
            <a:avLst/>
          </a:prstGeom>
          <a:ln w="0">
            <a:noFill/>
          </a:ln>
          <a:effectLst>
            <a:outerShdw dist="11455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0334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  <a:ea typeface="新細明體"/>
              </a:rPr>
              <a:t>Adequate Oxygen Delivery?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6818400" y="6432480"/>
            <a:ext cx="4005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Consump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3280680" y="6466680"/>
            <a:ext cx="2452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新細明體"/>
              </a:rPr>
              <a:t>Demand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9240" y="268200"/>
            <a:ext cx="121460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Central Venous and Mixed Venous O</a:t>
            </a:r>
            <a:r>
              <a:rPr b="0" lang="en-US" sz="7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 Saturation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c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on CVP monit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on PA cathe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is a sensitive but non-specific measure of cardiovascular instabil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Although Sc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tracked Sv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, it is tended to 7 ± 4 % high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Arterial Catheterization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13960" y="2788920"/>
            <a:ext cx="1149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Directly measured arterial blood press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Baroreceptor mechanisms defend arterial pressure over a wide range of flow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Hypotension is always pathologic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Beat-to-beat variations in pulse pressure reflect changes in stroke volume rather than cardiac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127440" y="75960"/>
            <a:ext cx="132462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"/>
                <a:ea typeface="新細明體"/>
              </a:rPr>
              <a:t>Pulmonary Arterial Catheterization </a:t>
            </a:r>
            <a:endParaRPr b="0" lang="en-US" sz="6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2158920"/>
            <a:ext cx="12090240" cy="742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Pressures reflect intrathoracic pressur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Ventilation alters both pulmonary blood flow and vascular resistanc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Resistance increases with increasing lung volume above resting lung volume (FRC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7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Right ventricular output varies in phase with respiration-induced changes in venous retur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7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Spontaneous inspiration increases pulmonary blood flow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7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Positive-pressure inspiration decreases pulmonary </a:t>
            </a: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blood flow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3139640" cy="170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al Hemodynamic Monitor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1760" y="2260440"/>
            <a:ext cx="1148076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Arterial pulse contour analysis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A better monitors for preload responsiveness: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a significant correlation between the increase of cardiac index by fluid loading by pulse pressure variation and stroke volume vari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Peripheral continuous cardiac output system (PiCCO): arterial pulse contour and transpulmonary thermal injection: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Gill Sans"/>
                <a:ea typeface="新細明體"/>
              </a:rPr>
              <a:t>intrathoracic volume and extravascular lung wat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598320" y="2932200"/>
            <a:ext cx="12001680" cy="618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ing becomes more effective at predicting cardiovascular function when measured using performance parame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 and arterial pulse pressure (ΔPP) variations predict preload responsive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, ScvO</a:t>
            </a:r>
            <a:r>
              <a:rPr b="0" i="1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and PAOP, SvO</a:t>
            </a:r>
            <a:r>
              <a:rPr b="0" i="1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 predict the adequacy of oxygen transpor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-30240" y="339480"/>
            <a:ext cx="130348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Conclusions Regarding Different Monito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669600" y="3147480"/>
            <a:ext cx="1173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achycardia is never a good th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Hypotension is always pathologica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here is no normal cardiac outpu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VP is only elevated in diseas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A higher mortality was shown in patients with right ventricular dysfunction and an increase of pulmonary vascular resistance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101520" y="253800"/>
            <a:ext cx="128016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The Truths in Hemodynamic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The Truths in Hemodynamic Monitoring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4120" y="2184480"/>
            <a:ext cx="12776040" cy="779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Monitors associate with inaccuracies, misconceptions and poorly documented benefit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A good understanding of the pathophysiological underpinnings for its effective application across patient groups is requir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al hemodynamic monitors are superior to conventional filling pressure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he goal of treatments based on monitoring is to restore the physiological homeostasi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Delivery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206360" y="7467480"/>
            <a:ext cx="2667240" cy="1613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Arterial Blood Ga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5168880" y="7467480"/>
            <a:ext cx="2666880" cy="1613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Hemoglobi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PaO</a:t>
            </a:r>
            <a:r>
              <a:rPr b="0" lang="en-US" sz="26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9131400" y="7467480"/>
            <a:ext cx="2666880" cy="1613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Conten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3949560" y="7645320"/>
            <a:ext cx="1143000" cy="1270080"/>
          </a:xfrm>
          <a:prstGeom prst="rightArrow">
            <a:avLst>
              <a:gd name="adj1" fmla="val 32000"/>
              <a:gd name="adj2" fmla="val 48889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7912080" y="7645320"/>
            <a:ext cx="1143000" cy="1270080"/>
          </a:xfrm>
          <a:prstGeom prst="rightArrow">
            <a:avLst>
              <a:gd name="adj1" fmla="val 32000"/>
              <a:gd name="adj2" fmla="val 48889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206360" y="5194440"/>
            <a:ext cx="2667240" cy="1612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Deliver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5130720" y="5194440"/>
            <a:ext cx="2667240" cy="1612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Cardiac Outpu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9131400" y="5194440"/>
            <a:ext cx="2666880" cy="1612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Conten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4269960" y="5512680"/>
            <a:ext cx="465480" cy="97560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=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8226360" y="5512680"/>
            <a:ext cx="476280" cy="97560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X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6502320" y="2692440"/>
            <a:ext cx="4000680" cy="1270080"/>
          </a:xfrm>
          <a:prstGeom prst="roundRect">
            <a:avLst>
              <a:gd name="adj" fmla="val 150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新細明體"/>
              </a:rPr>
              <a:t>Hemodynamic Monitor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 rot="8100000">
            <a:off x="7277040" y="415296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Consump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1206360" y="3416400"/>
            <a:ext cx="26672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Deliver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5168880" y="3416400"/>
            <a:ext cx="2666880" cy="1904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Consum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9131400" y="3416400"/>
            <a:ext cx="2666880" cy="1904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Remaining Oxygen to Hear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4282560" y="3874680"/>
            <a:ext cx="465480" cy="97560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=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8245080" y="3874680"/>
            <a:ext cx="465480" cy="97560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新細明體"/>
              </a:rPr>
              <a:t>+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5168880" y="5727600"/>
            <a:ext cx="2666880" cy="2971800"/>
          </a:xfrm>
          <a:custGeom>
            <a:avLst/>
            <a:gdLst>
              <a:gd name="textAreaLeft" fmla="*/ 55440 w 2666880"/>
              <a:gd name="textAreaRight" fmla="*/ 2611440 w 2666880"/>
              <a:gd name="textAreaTop" fmla="*/ 55440 h 2971800"/>
              <a:gd name="textAreaBottom" fmla="*/ 2916360 h 2971800"/>
            </a:gdLst>
            <a:ahLst/>
            <a:rect l="textAreaLeft" t="textAreaTop" r="textAreaRight" b="textAreaBottom"/>
            <a:pathLst>
              <a:path w="21600" h="24069">
                <a:moveTo>
                  <a:pt x="1542" y="0"/>
                </a:moveTo>
                <a:arcTo wR="1542" hR="1542" stAng="16200000" swAng="-5400000"/>
                <a:lnTo>
                  <a:pt x="0" y="22527"/>
                </a:lnTo>
                <a:arcTo wR="1542" hR="1542" stAng="10800000" swAng="-5400000"/>
                <a:lnTo>
                  <a:pt x="20058" y="24069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Uptake by Organs &amp; Tissu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9131400" y="5727600"/>
            <a:ext cx="2666880" cy="2971800"/>
          </a:xfrm>
          <a:custGeom>
            <a:avLst/>
            <a:gdLst>
              <a:gd name="textAreaLeft" fmla="*/ 55440 w 2666880"/>
              <a:gd name="textAreaRight" fmla="*/ 2611440 w 2666880"/>
              <a:gd name="textAreaTop" fmla="*/ 55440 h 2971800"/>
              <a:gd name="textAreaBottom" fmla="*/ 2916360 h 2971800"/>
            </a:gdLst>
            <a:ahLst/>
            <a:rect l="textAreaLeft" t="textAreaTop" r="textAreaRight" b="textAreaBottom"/>
            <a:pathLst>
              <a:path w="21600" h="24069">
                <a:moveTo>
                  <a:pt x="1542" y="0"/>
                </a:moveTo>
                <a:arcTo wR="1542" hR="1542" stAng="16200000" swAng="-5400000"/>
                <a:lnTo>
                  <a:pt x="0" y="22527"/>
                </a:lnTo>
                <a:arcTo wR="1542" hR="1542" stAng="10800000" swAng="-5400000"/>
                <a:lnTo>
                  <a:pt x="20058" y="24069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新細明體"/>
              </a:rPr>
              <a:t>Oxygen Content in CVP &amp; P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"/>
                <a:ea typeface="新細明體"/>
              </a:rPr>
              <a:t>Physiological Truth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Physiological Truth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500200"/>
            <a:ext cx="10731600" cy="654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There is no such thing as a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“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Normal Cardiac Outpu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ardiac output is eith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Absolute values can only be used as minimal levels below which some tissue beds are probably under perfu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1500120" y="5490000"/>
            <a:ext cx="1085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- Adequate to meet the metabolic deman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1430280" y="6213960"/>
            <a:ext cx="11325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- Inadequate to meet the metabolic deman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22080" y="1638360"/>
            <a:ext cx="1046484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1960s: golden age of vasopresso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6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1970s: golden age of inotrop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6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1980s: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9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1990s till now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1269720" y="-3430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新細明體"/>
              </a:rPr>
              <a:t>History of Monitor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2046960" y="2416680"/>
            <a:ext cx="658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Pressure, arterial line &amp; CV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1995840" y="3953160"/>
            <a:ext cx="6511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Cardiac output, PA cathe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2476440" y="5213520"/>
            <a:ext cx="895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SvO</a:t>
            </a:r>
            <a:r>
              <a:rPr b="0" i="1" lang="en-US" sz="4200" spc="-1" strike="noStrike" baseline="-6000">
                <a:solidFill>
                  <a:srgbClr val="ffffff"/>
                </a:solidFill>
                <a:latin typeface="Gill Sans"/>
                <a:ea typeface="新細明體"/>
              </a:rPr>
              <a:t>2 ,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relative balance between oxygen supply and dem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2398680" y="6821640"/>
            <a:ext cx="1086660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Better understanding of tissue oxygenation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新細明體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right ventricular function</a:t>
            </a:r>
            <a:r>
              <a:rPr b="0" lang="zh-TW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Functional monitoring, PiCCO, continuous C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ill Sans"/>
                <a:ea typeface="新細明體"/>
              </a:rPr>
              <a:t>Less invasive, TE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麻醉</cp:lastModifiedBy>
  <dcterms:modified xsi:type="dcterms:W3CDTF">2007-09-01T05:23:49Z</dcterms:modified>
  <cp:revision>39</cp:revision>
  <dc:subject/>
  <dc:title>Physiologic Basis for Hemodynamic Monitoring</dc:title>
</cp:coreProperties>
</file>