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5EAC-8CB4-4499-B646-07725E97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D6E0-929C-4C9C-98B6-6ED4D179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4D98-FE88-46EC-B5C7-45C7C557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14A-8D5F-46EF-AD47-978967CE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BD0B-51CF-482F-B6C1-507CAB0A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54D2-96EC-47A2-B538-951BEE5C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0E0E-0065-49C0-9C1B-E796F82A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400E-A770-4EA2-92D3-BE61A76D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CB07-56C8-4A54-95BD-C296CDE7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2537-FF01-482E-869F-37C0AE7B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8115-1E2E-482E-A53F-7F19C585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D642-A4EE-4DE1-8CD2-21C0368D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7D04-E6E3-49C7-82E3-BF16D4ACF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ounded Rectangle 24" descr=""/>
          <p:cNvPicPr/>
          <p:nvPr/>
        </p:nvPicPr>
        <p:blipFill>
          <a:blip r:embed="rId2"/>
          <a:stretch/>
        </p:blipFill>
        <p:spPr>
          <a:xfrm>
            <a:off x="2262240" y="1523880"/>
            <a:ext cx="493560" cy="221292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6"/>
          <p:cNvGrpSpPr/>
          <p:nvPr/>
        </p:nvGrpSpPr>
        <p:grpSpPr>
          <a:xfrm>
            <a:off x="1219320" y="228600"/>
            <a:ext cx="1587960" cy="6248520"/>
            <a:chOff x="1219320" y="228600"/>
            <a:chExt cx="1587960" cy="6248520"/>
          </a:xfrm>
        </p:grpSpPr>
        <p:sp>
          <p:nvSpPr>
            <p:cNvPr id="43" name="Trapezoid 12"/>
            <p:cNvSpPr/>
            <p:nvPr/>
          </p:nvSpPr>
          <p:spPr>
            <a:xfrm rot="10800000">
              <a:off x="1828440" y="3657600"/>
              <a:ext cx="609480" cy="761760"/>
            </a:xfrm>
            <a:custGeom>
              <a:avLst/>
              <a:gdLst/>
              <a:ahLst/>
              <a:rect l="l" t="t" r="r" b="b"/>
              <a:pathLst>
                <a:path w="609754" h="762000">
                  <a:moveTo>
                    <a:pt x="0" y="762000"/>
                  </a:moveTo>
                  <a:lnTo>
                    <a:pt x="152439" y="0"/>
                  </a:lnTo>
                  <a:lnTo>
                    <a:pt x="457316" y="0"/>
                  </a:lnTo>
                  <a:lnTo>
                    <a:pt x="609754" y="762000"/>
                  </a:lnTo>
                  <a:lnTo>
                    <a:pt x="0" y="76200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Can 4"/>
            <p:cNvSpPr/>
            <p:nvPr/>
          </p:nvSpPr>
          <p:spPr>
            <a:xfrm rot="10800000">
              <a:off x="1828800" y="228240"/>
              <a:ext cx="533520" cy="30456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Can 5"/>
            <p:cNvSpPr/>
            <p:nvPr/>
          </p:nvSpPr>
          <p:spPr>
            <a:xfrm flipV="1">
              <a:off x="1981440" y="457200"/>
              <a:ext cx="228600" cy="457200"/>
            </a:xfrm>
            <a:prstGeom prst="can">
              <a:avLst>
                <a:gd name="adj" fmla="val 12504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Block Arc 6"/>
            <p:cNvSpPr/>
            <p:nvPr/>
          </p:nvSpPr>
          <p:spPr>
            <a:xfrm>
              <a:off x="1219320" y="838080"/>
              <a:ext cx="685800" cy="609480"/>
            </a:xfrm>
            <a:custGeom>
              <a:avLst/>
              <a:gdLst/>
              <a:ahLst/>
              <a:rect l="l" t="t" r="r" b="b"/>
              <a:pathLst>
                <a:path w="685973" h="609600">
                  <a:moveTo>
                    <a:pt x="282" y="317150"/>
                  </a:moveTo>
                  <a:cubicBezTo>
                    <a:pt x="-6172" y="175717"/>
                    <a:pt x="97792" y="48948"/>
                    <a:pt x="251276" y="11099"/>
                  </a:cubicBezTo>
                  <a:cubicBezTo>
                    <a:pt x="389685" y="-23033"/>
                    <a:pt x="537366" y="23094"/>
                    <a:pt x="621309" y="126675"/>
                  </a:cubicBezTo>
                  <a:lnTo>
                    <a:pt x="522264" y="190062"/>
                  </a:lnTo>
                  <a:cubicBezTo>
                    <a:pt x="466911" y="130303"/>
                    <a:pt x="373965" y="103810"/>
                    <a:pt x="286142" y="122758"/>
                  </a:cubicBezTo>
                  <a:cubicBezTo>
                    <a:pt x="182836" y="145047"/>
                    <a:pt x="112316" y="224312"/>
                    <a:pt x="116939" y="312946"/>
                  </a:cubicBezTo>
                  <a:lnTo>
                    <a:pt x="282" y="317150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Diagonal Stripe 7"/>
            <p:cNvSpPr/>
            <p:nvPr/>
          </p:nvSpPr>
          <p:spPr>
            <a:xfrm rot="13935600">
              <a:off x="2327040" y="872640"/>
              <a:ext cx="438120" cy="320400"/>
            </a:xfrm>
            <a:custGeom>
              <a:avLst/>
              <a:gdLst/>
              <a:ahLst/>
              <a:rect l="l" t="t" r="r" b="b"/>
              <a:pathLst>
                <a:path w="438150" h="320756">
                  <a:moveTo>
                    <a:pt x="0" y="203144"/>
                  </a:moveTo>
                  <a:lnTo>
                    <a:pt x="277494" y="0"/>
                  </a:lnTo>
                  <a:lnTo>
                    <a:pt x="438150" y="0"/>
                  </a:lnTo>
                  <a:lnTo>
                    <a:pt x="0" y="320756"/>
                  </a:lnTo>
                  <a:lnTo>
                    <a:pt x="0" y="203144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ounded Rectangle 10"/>
            <p:cNvSpPr/>
            <p:nvPr/>
          </p:nvSpPr>
          <p:spPr>
            <a:xfrm flipH="1">
              <a:off x="2285640" y="1066680"/>
              <a:ext cx="228600" cy="53316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533160"/>
                <a:gd name="textAreaBottom" fmla="*/ 522000 h 533160"/>
              </a:gdLst>
              <a:ahLst/>
              <a:rect l="textAreaLeft" t="textAreaTop" r="textAreaRight" b="textAreaBottom"/>
              <a:pathLst>
                <a:path w="21600" h="50332">
                  <a:moveTo>
                    <a:pt x="3600" y="0"/>
                  </a:moveTo>
                  <a:arcTo wR="3600" hR="3600" stAng="16200000" swAng="-5400000"/>
                  <a:lnTo>
                    <a:pt x="0" y="46732"/>
                  </a:lnTo>
                  <a:arcTo wR="3600" hR="3600" stAng="10800000" swAng="-5400000"/>
                  <a:lnTo>
                    <a:pt x="18000" y="503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ounded Rectangle 8"/>
            <p:cNvSpPr/>
            <p:nvPr/>
          </p:nvSpPr>
          <p:spPr>
            <a:xfrm>
              <a:off x="1752840" y="838080"/>
              <a:ext cx="609480" cy="289548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2895480"/>
                <a:gd name="textAreaBottom" fmla="*/ 2865960 h 2895480"/>
              </a:gdLst>
              <a:ahLst/>
              <a:rect l="textAreaLeft" t="textAreaTop" r="textAreaRight" b="textAreaBottom"/>
              <a:pathLst>
                <a:path w="21600" h="102568">
                  <a:moveTo>
                    <a:pt x="3600" y="0"/>
                  </a:moveTo>
                  <a:arcTo wR="3600" hR="3600" stAng="16200000" swAng="-5400000"/>
                  <a:lnTo>
                    <a:pt x="0" y="98968"/>
                  </a:lnTo>
                  <a:arcTo wR="3600" hR="3600" stAng="10800000" swAng="-5400000"/>
                  <a:lnTo>
                    <a:pt x="18000" y="102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lowchart: Decision 11"/>
            <p:cNvSpPr/>
            <p:nvPr/>
          </p:nvSpPr>
          <p:spPr>
            <a:xfrm>
              <a:off x="1676520" y="990360"/>
              <a:ext cx="152280" cy="2590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rapezoid 14"/>
            <p:cNvSpPr/>
            <p:nvPr/>
          </p:nvSpPr>
          <p:spPr>
            <a:xfrm rot="10800000">
              <a:off x="2057040" y="6172560"/>
              <a:ext cx="152280" cy="304560"/>
            </a:xfrm>
            <a:custGeom>
              <a:avLst/>
              <a:gdLst/>
              <a:ahLst/>
              <a:rect l="l" t="t" r="r" b="b"/>
              <a:pathLst>
                <a:path w="152439" h="304800">
                  <a:moveTo>
                    <a:pt x="0" y="304800"/>
                  </a:moveTo>
                  <a:lnTo>
                    <a:pt x="38110" y="0"/>
                  </a:lnTo>
                  <a:lnTo>
                    <a:pt x="114329" y="0"/>
                  </a:lnTo>
                  <a:lnTo>
                    <a:pt x="152439" y="304800"/>
                  </a:lnTo>
                  <a:lnTo>
                    <a:pt x="0" y="304800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15"/>
            <p:cNvSpPr/>
            <p:nvPr/>
          </p:nvSpPr>
          <p:spPr>
            <a:xfrm rot="16200000">
              <a:off x="1708200" y="2025360"/>
              <a:ext cx="7617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rapezoid 13"/>
            <p:cNvSpPr/>
            <p:nvPr/>
          </p:nvSpPr>
          <p:spPr>
            <a:xfrm rot="10800000">
              <a:off x="1981440" y="4343400"/>
              <a:ext cx="304560" cy="1905120"/>
            </a:xfrm>
            <a:custGeom>
              <a:avLst/>
              <a:gdLst/>
              <a:ahLst/>
              <a:rect l="l" t="t" r="r" b="b"/>
              <a:pathLst>
                <a:path w="304877" h="1905000">
                  <a:moveTo>
                    <a:pt x="0" y="1905000"/>
                  </a:moveTo>
                  <a:lnTo>
                    <a:pt x="59280" y="0"/>
                  </a:lnTo>
                  <a:lnTo>
                    <a:pt x="245597" y="0"/>
                  </a:lnTo>
                  <a:lnTo>
                    <a:pt x="304877" y="1905000"/>
                  </a:lnTo>
                  <a:lnTo>
                    <a:pt x="0" y="190500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17"/>
          <p:cNvSpPr/>
          <p:nvPr/>
        </p:nvSpPr>
        <p:spPr>
          <a:xfrm>
            <a:off x="3581280" y="1143000"/>
            <a:ext cx="510552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Micropipette Tutor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rom the Office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cience Lab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chnical Assis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C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8"/>
          <p:cNvGrpSpPr/>
          <p:nvPr/>
        </p:nvGrpSpPr>
        <p:grpSpPr>
          <a:xfrm>
            <a:off x="1295280" y="380880"/>
            <a:ext cx="1435320" cy="5486400"/>
            <a:chOff x="1295280" y="380880"/>
            <a:chExt cx="1435320" cy="5486400"/>
          </a:xfrm>
        </p:grpSpPr>
        <p:sp>
          <p:nvSpPr>
            <p:cNvPr id="205" name="Trapezoid 33"/>
            <p:cNvSpPr/>
            <p:nvPr/>
          </p:nvSpPr>
          <p:spPr>
            <a:xfrm rot="10800000">
              <a:off x="1848960" y="3495240"/>
              <a:ext cx="554040" cy="639720"/>
            </a:xfrm>
            <a:custGeom>
              <a:avLst/>
              <a:gdLst/>
              <a:ahLst/>
              <a:rect l="l" t="t" r="r" b="b"/>
              <a:pathLst>
                <a:path w="609204" h="760298">
                  <a:moveTo>
                    <a:pt x="0" y="760298"/>
                  </a:moveTo>
                  <a:lnTo>
                    <a:pt x="152301" y="0"/>
                  </a:lnTo>
                  <a:lnTo>
                    <a:pt x="456903" y="0"/>
                  </a:lnTo>
                  <a:lnTo>
                    <a:pt x="609204" y="760298"/>
                  </a:lnTo>
                  <a:lnTo>
                    <a:pt x="0" y="760298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Can 34"/>
            <p:cNvSpPr/>
            <p:nvPr/>
          </p:nvSpPr>
          <p:spPr>
            <a:xfrm rot="10800000">
              <a:off x="1848960" y="380880"/>
              <a:ext cx="485640" cy="257040"/>
            </a:xfrm>
            <a:prstGeom prst="can">
              <a:avLst>
                <a:gd name="adj" fmla="val 25000"/>
              </a:avLst>
            </a:prstGeom>
            <a:solidFill>
              <a:srgbClr val="00b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Can 35"/>
            <p:cNvSpPr/>
            <p:nvPr/>
          </p:nvSpPr>
          <p:spPr>
            <a:xfrm flipV="1">
              <a:off x="1987920" y="608760"/>
              <a:ext cx="183960" cy="609480"/>
            </a:xfrm>
            <a:prstGeom prst="can">
              <a:avLst>
                <a:gd name="adj" fmla="val 6986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Block Arc 36"/>
            <p:cNvSpPr/>
            <p:nvPr/>
          </p:nvSpPr>
          <p:spPr>
            <a:xfrm>
              <a:off x="1295280" y="1122120"/>
              <a:ext cx="623880" cy="512640"/>
            </a:xfrm>
            <a:custGeom>
              <a:avLst/>
              <a:gdLst/>
              <a:ahLst/>
              <a:rect l="l" t="t" r="r" b="b"/>
              <a:pathLst>
                <a:path w="686191" h="609369">
                  <a:moveTo>
                    <a:pt x="282" y="317038"/>
                  </a:moveTo>
                  <a:cubicBezTo>
                    <a:pt x="-6179" y="175635"/>
                    <a:pt x="97849" y="48896"/>
                    <a:pt x="251414" y="11079"/>
                  </a:cubicBezTo>
                  <a:cubicBezTo>
                    <a:pt x="389812" y="-23003"/>
                    <a:pt x="537469" y="23073"/>
                    <a:pt x="621439" y="126544"/>
                  </a:cubicBezTo>
                  <a:lnTo>
                    <a:pt x="522424" y="189914"/>
                  </a:lnTo>
                  <a:cubicBezTo>
                    <a:pt x="467035" y="130243"/>
                    <a:pt x="374096" y="103790"/>
                    <a:pt x="286269" y="122699"/>
                  </a:cubicBezTo>
                  <a:cubicBezTo>
                    <a:pt x="182861" y="144963"/>
                    <a:pt x="112263" y="224214"/>
                    <a:pt x="116895" y="312836"/>
                  </a:cubicBezTo>
                  <a:lnTo>
                    <a:pt x="282" y="317038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Diagonal Stripe 37"/>
            <p:cNvSpPr/>
            <p:nvPr/>
          </p:nvSpPr>
          <p:spPr>
            <a:xfrm rot="13935600">
              <a:off x="2318040" y="1139400"/>
              <a:ext cx="368280" cy="292320"/>
            </a:xfrm>
            <a:custGeom>
              <a:avLst/>
              <a:gdLst/>
              <a:ahLst/>
              <a:rect l="l" t="t" r="r" b="b"/>
              <a:pathLst>
                <a:path w="437690" h="321338">
                  <a:moveTo>
                    <a:pt x="0" y="203513"/>
                  </a:moveTo>
                  <a:lnTo>
                    <a:pt x="277202" y="0"/>
                  </a:lnTo>
                  <a:lnTo>
                    <a:pt x="437690" y="0"/>
                  </a:lnTo>
                  <a:lnTo>
                    <a:pt x="0" y="321338"/>
                  </a:lnTo>
                  <a:lnTo>
                    <a:pt x="0" y="203513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ounded Rectangle 38"/>
            <p:cNvSpPr/>
            <p:nvPr/>
          </p:nvSpPr>
          <p:spPr>
            <a:xfrm flipH="1">
              <a:off x="2264400" y="1314360"/>
              <a:ext cx="208440" cy="449280"/>
            </a:xfrm>
            <a:custGeom>
              <a:avLst/>
              <a:gdLst>
                <a:gd name="textAreaLeft" fmla="*/ 10080 w 208440"/>
                <a:gd name="textAreaRight" fmla="*/ 198360 w 208440"/>
                <a:gd name="textAreaTop" fmla="*/ 10080 h 449280"/>
                <a:gd name="textAreaBottom" fmla="*/ 439200 h 449280"/>
              </a:gdLst>
              <a:ahLst/>
              <a:rect l="textAreaLeft" t="textAreaTop" r="textAreaRight" b="textAreaBottom"/>
              <a:pathLst>
                <a:path w="21600" h="46514">
                  <a:moveTo>
                    <a:pt x="3600" y="0"/>
                  </a:moveTo>
                  <a:arcTo wR="3600" hR="3600" stAng="16200000" swAng="-5400000"/>
                  <a:lnTo>
                    <a:pt x="0" y="42914"/>
                  </a:lnTo>
                  <a:arcTo wR="3600" hR="3600" stAng="10800000" swAng="-5400000"/>
                  <a:lnTo>
                    <a:pt x="18000" y="465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ounded Rectangle 39"/>
            <p:cNvSpPr/>
            <p:nvPr/>
          </p:nvSpPr>
          <p:spPr>
            <a:xfrm>
              <a:off x="1780920" y="1122120"/>
              <a:ext cx="554040" cy="2436840"/>
            </a:xfrm>
            <a:custGeom>
              <a:avLst/>
              <a:gdLst>
                <a:gd name="textAreaLeft" fmla="*/ 27000 w 554040"/>
                <a:gd name="textAreaRight" fmla="*/ 527040 w 554040"/>
                <a:gd name="textAreaTop" fmla="*/ 27000 h 2436840"/>
                <a:gd name="textAreaBottom" fmla="*/ 2409840 h 2436840"/>
              </a:gdLst>
              <a:ahLst/>
              <a:rect l="textAreaLeft" t="textAreaTop" r="textAreaRight" b="textAreaBottom"/>
              <a:pathLst>
                <a:path w="21600" h="94956">
                  <a:moveTo>
                    <a:pt x="3600" y="0"/>
                  </a:moveTo>
                  <a:arcTo wR="3600" hR="3600" stAng="16200000" swAng="-5400000"/>
                  <a:lnTo>
                    <a:pt x="0" y="91356"/>
                  </a:lnTo>
                  <a:arcTo wR="3600" hR="3600" stAng="10800000" swAng="-5400000"/>
                  <a:lnTo>
                    <a:pt x="18000" y="949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Rounded Rectangle 40" descr=""/>
            <p:cNvPicPr/>
            <p:nvPr/>
          </p:nvPicPr>
          <p:blipFill>
            <a:blip r:embed="rId1"/>
            <a:stretch/>
          </p:blipFill>
          <p:spPr>
            <a:xfrm>
              <a:off x="2233440" y="1633680"/>
              <a:ext cx="473400" cy="18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Flowchart: Decision 41"/>
            <p:cNvSpPr/>
            <p:nvPr/>
          </p:nvSpPr>
          <p:spPr>
            <a:xfrm>
              <a:off x="1710720" y="1250640"/>
              <a:ext cx="138240" cy="217944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rapezoid 42"/>
            <p:cNvSpPr/>
            <p:nvPr/>
          </p:nvSpPr>
          <p:spPr>
            <a:xfrm rot="10800000">
              <a:off x="2057760" y="5610240"/>
              <a:ext cx="138240" cy="257040"/>
            </a:xfrm>
            <a:custGeom>
              <a:avLst/>
              <a:gdLst/>
              <a:ahLst/>
              <a:rect l="l" t="t" r="r" b="b"/>
              <a:pathLst>
                <a:path w="152300" h="305628">
                  <a:moveTo>
                    <a:pt x="0" y="305628"/>
                  </a:moveTo>
                  <a:lnTo>
                    <a:pt x="38075" y="0"/>
                  </a:lnTo>
                  <a:lnTo>
                    <a:pt x="114225" y="0"/>
                  </a:lnTo>
                  <a:lnTo>
                    <a:pt x="152300" y="305628"/>
                  </a:lnTo>
                  <a:lnTo>
                    <a:pt x="0" y="305628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43"/>
            <p:cNvSpPr/>
            <p:nvPr/>
          </p:nvSpPr>
          <p:spPr>
            <a:xfrm rot="16200000">
              <a:off x="1750320" y="2230920"/>
              <a:ext cx="6858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auhaus 93"/>
                </a:rPr>
                <a:t>2 7 </a:t>
              </a:r>
              <a:r>
                <a:rPr b="0" lang="en-US" sz="1600" spc="-1" strike="noStrike">
                  <a:solidFill>
                    <a:srgbClr val="ff0000"/>
                  </a:solidFill>
                  <a:latin typeface="Bauhaus 93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rapezoid 44"/>
            <p:cNvSpPr/>
            <p:nvPr/>
          </p:nvSpPr>
          <p:spPr>
            <a:xfrm rot="10800000">
              <a:off x="1987560" y="4071960"/>
              <a:ext cx="276840" cy="1603440"/>
            </a:xfrm>
            <a:custGeom>
              <a:avLst/>
              <a:gdLst/>
              <a:ahLst/>
              <a:rect l="l" t="t" r="r" b="b"/>
              <a:pathLst>
                <a:path w="304602" h="1905461">
                  <a:moveTo>
                    <a:pt x="0" y="1905461"/>
                  </a:moveTo>
                  <a:lnTo>
                    <a:pt x="59227" y="0"/>
                  </a:lnTo>
                  <a:lnTo>
                    <a:pt x="245375" y="0"/>
                  </a:lnTo>
                  <a:lnTo>
                    <a:pt x="304602" y="1905461"/>
                  </a:lnTo>
                  <a:lnTo>
                    <a:pt x="0" y="1905461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rapezoid 45"/>
          <p:cNvSpPr/>
          <p:nvPr/>
        </p:nvSpPr>
        <p:spPr>
          <a:xfrm rot="10800000">
            <a:off x="2057040" y="5638680"/>
            <a:ext cx="228600" cy="1067040"/>
          </a:xfrm>
          <a:custGeom>
            <a:avLst/>
            <a:gdLst/>
            <a:ahLst/>
            <a:rect l="l" t="t" r="r" b="b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lnTo>
                  <a:pt x="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5"/>
          <p:cNvSpPr/>
          <p:nvPr/>
        </p:nvSpPr>
        <p:spPr>
          <a:xfrm>
            <a:off x="4114800" y="143820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tings can vary between models and manufacturer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pipette’s range is 20-10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 and is set to deliver 27.8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ever you might see the following readings for this exact setting on different pipet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Straight Arrow Connector 16"/>
          <p:cNvCxnSpPr/>
          <p:nvPr/>
        </p:nvCxnSpPr>
        <p:spPr>
          <a:xfrm flipH="1">
            <a:off x="2285640" y="1676520"/>
            <a:ext cx="1829520" cy="4579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0" name="TextBox 18"/>
          <p:cNvSpPr/>
          <p:nvPr/>
        </p:nvSpPr>
        <p:spPr>
          <a:xfrm>
            <a:off x="4267080" y="2286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tting 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1"/>
          <p:cNvSpPr/>
          <p:nvPr/>
        </p:nvSpPr>
        <p:spPr>
          <a:xfrm>
            <a:off x="4267080" y="3809880"/>
            <a:ext cx="838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</a:t>
            </a:r>
            <a:r>
              <a:rPr b="0" lang="en-US" sz="1800" spc="-1" strike="noStrike">
                <a:solidFill>
                  <a:srgbClr val="ff0000"/>
                </a:solidFill>
                <a:latin typeface="Bauhaus 93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0"/>
          <p:cNvSpPr/>
          <p:nvPr/>
        </p:nvSpPr>
        <p:spPr>
          <a:xfrm>
            <a:off x="4267080" y="4343400"/>
            <a:ext cx="838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.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2"/>
          <p:cNvSpPr/>
          <p:nvPr/>
        </p:nvSpPr>
        <p:spPr>
          <a:xfrm>
            <a:off x="4267080" y="5192640"/>
            <a:ext cx="838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3"/>
          <p:cNvSpPr/>
          <p:nvPr/>
        </p:nvSpPr>
        <p:spPr>
          <a:xfrm>
            <a:off x="5791320" y="3809880"/>
            <a:ext cx="2590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first two make the decimal places obviou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the last one implies the tenths place if you know the r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8"/>
          <p:cNvGrpSpPr/>
          <p:nvPr/>
        </p:nvGrpSpPr>
        <p:grpSpPr>
          <a:xfrm>
            <a:off x="1295280" y="380880"/>
            <a:ext cx="1435320" cy="5486400"/>
            <a:chOff x="1295280" y="380880"/>
            <a:chExt cx="1435320" cy="5486400"/>
          </a:xfrm>
        </p:grpSpPr>
        <p:sp>
          <p:nvSpPr>
            <p:cNvPr id="226" name="Trapezoid 33"/>
            <p:cNvSpPr/>
            <p:nvPr/>
          </p:nvSpPr>
          <p:spPr>
            <a:xfrm rot="10800000">
              <a:off x="1848960" y="3495240"/>
              <a:ext cx="554040" cy="639720"/>
            </a:xfrm>
            <a:custGeom>
              <a:avLst/>
              <a:gdLst/>
              <a:ahLst/>
              <a:rect l="l" t="t" r="r" b="b"/>
              <a:pathLst>
                <a:path w="609204" h="760298">
                  <a:moveTo>
                    <a:pt x="0" y="760298"/>
                  </a:moveTo>
                  <a:lnTo>
                    <a:pt x="152301" y="0"/>
                  </a:lnTo>
                  <a:lnTo>
                    <a:pt x="456903" y="0"/>
                  </a:lnTo>
                  <a:lnTo>
                    <a:pt x="609204" y="760298"/>
                  </a:lnTo>
                  <a:lnTo>
                    <a:pt x="0" y="760298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Can 34"/>
            <p:cNvSpPr/>
            <p:nvPr/>
          </p:nvSpPr>
          <p:spPr>
            <a:xfrm rot="10800000">
              <a:off x="1848960" y="380880"/>
              <a:ext cx="485640" cy="257040"/>
            </a:xfrm>
            <a:prstGeom prst="can">
              <a:avLst>
                <a:gd name="adj" fmla="val 25000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Can 35"/>
            <p:cNvSpPr/>
            <p:nvPr/>
          </p:nvSpPr>
          <p:spPr>
            <a:xfrm flipV="1">
              <a:off x="1987920" y="608760"/>
              <a:ext cx="183960" cy="609480"/>
            </a:xfrm>
            <a:prstGeom prst="can">
              <a:avLst>
                <a:gd name="adj" fmla="val 6986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Block Arc 36"/>
            <p:cNvSpPr/>
            <p:nvPr/>
          </p:nvSpPr>
          <p:spPr>
            <a:xfrm>
              <a:off x="1295280" y="1122120"/>
              <a:ext cx="623880" cy="512640"/>
            </a:xfrm>
            <a:custGeom>
              <a:avLst/>
              <a:gdLst/>
              <a:ahLst/>
              <a:rect l="l" t="t" r="r" b="b"/>
              <a:pathLst>
                <a:path w="686191" h="609369">
                  <a:moveTo>
                    <a:pt x="282" y="317038"/>
                  </a:moveTo>
                  <a:cubicBezTo>
                    <a:pt x="-6179" y="175635"/>
                    <a:pt x="97849" y="48896"/>
                    <a:pt x="251414" y="11079"/>
                  </a:cubicBezTo>
                  <a:cubicBezTo>
                    <a:pt x="389812" y="-23003"/>
                    <a:pt x="537469" y="23073"/>
                    <a:pt x="621439" y="126544"/>
                  </a:cubicBezTo>
                  <a:lnTo>
                    <a:pt x="522424" y="189914"/>
                  </a:lnTo>
                  <a:cubicBezTo>
                    <a:pt x="467035" y="130243"/>
                    <a:pt x="374096" y="103790"/>
                    <a:pt x="286269" y="122699"/>
                  </a:cubicBezTo>
                  <a:cubicBezTo>
                    <a:pt x="182861" y="144963"/>
                    <a:pt x="112263" y="224214"/>
                    <a:pt x="116895" y="312836"/>
                  </a:cubicBezTo>
                  <a:lnTo>
                    <a:pt x="282" y="317038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Diagonal Stripe 37"/>
            <p:cNvSpPr/>
            <p:nvPr/>
          </p:nvSpPr>
          <p:spPr>
            <a:xfrm rot="13935600">
              <a:off x="2318040" y="1139400"/>
              <a:ext cx="368280" cy="292320"/>
            </a:xfrm>
            <a:custGeom>
              <a:avLst/>
              <a:gdLst/>
              <a:ahLst/>
              <a:rect l="l" t="t" r="r" b="b"/>
              <a:pathLst>
                <a:path w="437690" h="321338">
                  <a:moveTo>
                    <a:pt x="0" y="203513"/>
                  </a:moveTo>
                  <a:lnTo>
                    <a:pt x="277202" y="0"/>
                  </a:lnTo>
                  <a:lnTo>
                    <a:pt x="437690" y="0"/>
                  </a:lnTo>
                  <a:lnTo>
                    <a:pt x="0" y="321338"/>
                  </a:lnTo>
                  <a:lnTo>
                    <a:pt x="0" y="203513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ounded Rectangle 38"/>
            <p:cNvSpPr/>
            <p:nvPr/>
          </p:nvSpPr>
          <p:spPr>
            <a:xfrm flipH="1">
              <a:off x="2264400" y="1314360"/>
              <a:ext cx="208440" cy="449280"/>
            </a:xfrm>
            <a:custGeom>
              <a:avLst/>
              <a:gdLst>
                <a:gd name="textAreaLeft" fmla="*/ 10080 w 208440"/>
                <a:gd name="textAreaRight" fmla="*/ 198360 w 208440"/>
                <a:gd name="textAreaTop" fmla="*/ 10080 h 449280"/>
                <a:gd name="textAreaBottom" fmla="*/ 439200 h 449280"/>
              </a:gdLst>
              <a:ahLst/>
              <a:rect l="textAreaLeft" t="textAreaTop" r="textAreaRight" b="textAreaBottom"/>
              <a:pathLst>
                <a:path w="21600" h="46514">
                  <a:moveTo>
                    <a:pt x="3600" y="0"/>
                  </a:moveTo>
                  <a:arcTo wR="3600" hR="3600" stAng="16200000" swAng="-5400000"/>
                  <a:lnTo>
                    <a:pt x="0" y="42914"/>
                  </a:lnTo>
                  <a:arcTo wR="3600" hR="3600" stAng="10800000" swAng="-5400000"/>
                  <a:lnTo>
                    <a:pt x="18000" y="465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ounded Rectangle 39"/>
            <p:cNvSpPr/>
            <p:nvPr/>
          </p:nvSpPr>
          <p:spPr>
            <a:xfrm>
              <a:off x="1780920" y="1122120"/>
              <a:ext cx="554040" cy="2436840"/>
            </a:xfrm>
            <a:custGeom>
              <a:avLst/>
              <a:gdLst>
                <a:gd name="textAreaLeft" fmla="*/ 27000 w 554040"/>
                <a:gd name="textAreaRight" fmla="*/ 527040 w 554040"/>
                <a:gd name="textAreaTop" fmla="*/ 27000 h 2436840"/>
                <a:gd name="textAreaBottom" fmla="*/ 2409840 h 2436840"/>
              </a:gdLst>
              <a:ahLst/>
              <a:rect l="textAreaLeft" t="textAreaTop" r="textAreaRight" b="textAreaBottom"/>
              <a:pathLst>
                <a:path w="21600" h="94956">
                  <a:moveTo>
                    <a:pt x="3600" y="0"/>
                  </a:moveTo>
                  <a:arcTo wR="3600" hR="3600" stAng="16200000" swAng="-5400000"/>
                  <a:lnTo>
                    <a:pt x="0" y="91356"/>
                  </a:lnTo>
                  <a:arcTo wR="3600" hR="3600" stAng="10800000" swAng="-5400000"/>
                  <a:lnTo>
                    <a:pt x="18000" y="949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Rounded Rectangle 40" descr=""/>
            <p:cNvPicPr/>
            <p:nvPr/>
          </p:nvPicPr>
          <p:blipFill>
            <a:blip r:embed="rId1"/>
            <a:stretch/>
          </p:blipFill>
          <p:spPr>
            <a:xfrm>
              <a:off x="2233440" y="1633680"/>
              <a:ext cx="473400" cy="18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Flowchart: Decision 41"/>
            <p:cNvSpPr/>
            <p:nvPr/>
          </p:nvSpPr>
          <p:spPr>
            <a:xfrm>
              <a:off x="1710720" y="1250640"/>
              <a:ext cx="138240" cy="217944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rapezoid 42"/>
            <p:cNvSpPr/>
            <p:nvPr/>
          </p:nvSpPr>
          <p:spPr>
            <a:xfrm rot="10800000">
              <a:off x="2057760" y="5610240"/>
              <a:ext cx="138240" cy="257040"/>
            </a:xfrm>
            <a:custGeom>
              <a:avLst/>
              <a:gdLst/>
              <a:ahLst/>
              <a:rect l="l" t="t" r="r" b="b"/>
              <a:pathLst>
                <a:path w="152300" h="305628">
                  <a:moveTo>
                    <a:pt x="0" y="305628"/>
                  </a:moveTo>
                  <a:lnTo>
                    <a:pt x="38075" y="0"/>
                  </a:lnTo>
                  <a:lnTo>
                    <a:pt x="114225" y="0"/>
                  </a:lnTo>
                  <a:lnTo>
                    <a:pt x="152300" y="305628"/>
                  </a:lnTo>
                  <a:lnTo>
                    <a:pt x="0" y="305628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43"/>
            <p:cNvSpPr/>
            <p:nvPr/>
          </p:nvSpPr>
          <p:spPr>
            <a:xfrm rot="16200000">
              <a:off x="1872000" y="2109240"/>
              <a:ext cx="685800" cy="58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auhaus 93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Bauhaus 93"/>
                </a:rPr>
                <a:t>2 </a:t>
              </a:r>
              <a:r>
                <a:rPr b="0" lang="en-US" sz="1600" spc="-1" strike="noStrike">
                  <a:solidFill>
                    <a:srgbClr val="ff0000"/>
                  </a:solidFill>
                  <a:latin typeface="Bauhaus 93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Bauhaus 93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Bauhaus 93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rapezoid 44"/>
            <p:cNvSpPr/>
            <p:nvPr/>
          </p:nvSpPr>
          <p:spPr>
            <a:xfrm rot="10800000">
              <a:off x="1987560" y="4071960"/>
              <a:ext cx="276840" cy="1603440"/>
            </a:xfrm>
            <a:custGeom>
              <a:avLst/>
              <a:gdLst/>
              <a:ahLst/>
              <a:rect l="l" t="t" r="r" b="b"/>
              <a:pathLst>
                <a:path w="304602" h="1905461">
                  <a:moveTo>
                    <a:pt x="0" y="1905461"/>
                  </a:moveTo>
                  <a:lnTo>
                    <a:pt x="59227" y="0"/>
                  </a:lnTo>
                  <a:lnTo>
                    <a:pt x="245375" y="0"/>
                  </a:lnTo>
                  <a:lnTo>
                    <a:pt x="304602" y="1905461"/>
                  </a:lnTo>
                  <a:lnTo>
                    <a:pt x="0" y="1905461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rapezoid 45"/>
          <p:cNvSpPr/>
          <p:nvPr/>
        </p:nvSpPr>
        <p:spPr>
          <a:xfrm rot="10800000">
            <a:off x="2057040" y="5638680"/>
            <a:ext cx="228600" cy="1067040"/>
          </a:xfrm>
          <a:custGeom>
            <a:avLst/>
            <a:gdLst/>
            <a:ahLst/>
            <a:rect l="l" t="t" r="r" b="b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lnTo>
                  <a:pt x="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5"/>
          <p:cNvSpPr/>
          <p:nvPr/>
        </p:nvSpPr>
        <p:spPr>
          <a:xfrm>
            <a:off x="4114800" y="143820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tings can vary between models and manufacturer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pipette’s range is 1-1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 and is set to deliver 2.78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ever you might see the following readings for this exact setting on different pipet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Straight Arrow Connector 16"/>
          <p:cNvCxnSpPr/>
          <p:nvPr/>
        </p:nvCxnSpPr>
        <p:spPr>
          <a:xfrm flipH="1" flipV="1">
            <a:off x="2361960" y="685080"/>
            <a:ext cx="1219680" cy="48013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1" name="TextBox 18"/>
          <p:cNvSpPr/>
          <p:nvPr/>
        </p:nvSpPr>
        <p:spPr>
          <a:xfrm>
            <a:off x="4267080" y="2286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tting 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1"/>
          <p:cNvSpPr/>
          <p:nvPr/>
        </p:nvSpPr>
        <p:spPr>
          <a:xfrm>
            <a:off x="4267080" y="3809880"/>
            <a:ext cx="838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</a:t>
            </a:r>
            <a:r>
              <a:rPr b="0" lang="en-US" sz="1800" spc="-1" strike="noStrike">
                <a:solidFill>
                  <a:srgbClr val="ff0000"/>
                </a:solidFill>
                <a:latin typeface="Bauhaus 93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Bauhaus 93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0"/>
          <p:cNvSpPr/>
          <p:nvPr/>
        </p:nvSpPr>
        <p:spPr>
          <a:xfrm>
            <a:off x="4267080" y="4343400"/>
            <a:ext cx="838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.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2"/>
          <p:cNvSpPr/>
          <p:nvPr/>
        </p:nvSpPr>
        <p:spPr>
          <a:xfrm>
            <a:off x="4267080" y="4876920"/>
            <a:ext cx="838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4"/>
          <p:cNvSpPr/>
          <p:nvPr/>
        </p:nvSpPr>
        <p:spPr>
          <a:xfrm>
            <a:off x="3505320" y="556272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companies will change the color of the plunger butt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an 22"/>
          <p:cNvSpPr/>
          <p:nvPr/>
        </p:nvSpPr>
        <p:spPr>
          <a:xfrm rot="10800000">
            <a:off x="5334120" y="6095520"/>
            <a:ext cx="506160" cy="257400"/>
          </a:xfrm>
          <a:prstGeom prst="can">
            <a:avLst>
              <a:gd name="adj" fmla="val 25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Can 23"/>
          <p:cNvSpPr/>
          <p:nvPr/>
        </p:nvSpPr>
        <p:spPr>
          <a:xfrm rot="10800000">
            <a:off x="6171840" y="6095520"/>
            <a:ext cx="506520" cy="257400"/>
          </a:xfrm>
          <a:prstGeom prst="can">
            <a:avLst>
              <a:gd name="adj" fmla="val 2500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5"/>
          <p:cNvSpPr/>
          <p:nvPr/>
        </p:nvSpPr>
        <p:spPr>
          <a:xfrm>
            <a:off x="4267080" y="2286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taching t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rapezoid 16"/>
          <p:cNvSpPr/>
          <p:nvPr/>
        </p:nvSpPr>
        <p:spPr>
          <a:xfrm rot="10800000">
            <a:off x="1828440" y="2819160"/>
            <a:ext cx="289080" cy="1603080"/>
          </a:xfrm>
          <a:custGeom>
            <a:avLst/>
            <a:gdLst/>
            <a:ahLst/>
            <a:rect l="l" t="t" r="r" b="b"/>
            <a:pathLst>
              <a:path w="288925" h="1603375">
                <a:moveTo>
                  <a:pt x="0" y="1603375"/>
                </a:moveTo>
                <a:lnTo>
                  <a:pt x="56179" y="0"/>
                </a:lnTo>
                <a:lnTo>
                  <a:pt x="232746" y="0"/>
                </a:lnTo>
                <a:lnTo>
                  <a:pt x="288925" y="1603375"/>
                </a:lnTo>
                <a:lnTo>
                  <a:pt x="0" y="1603375"/>
                </a:lnTo>
                <a:close/>
              </a:path>
            </a:pathLst>
          </a:custGeom>
          <a:solidFill>
            <a:srgbClr val="e6e0e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9"/>
          <p:cNvSpPr/>
          <p:nvPr/>
        </p:nvSpPr>
        <p:spPr>
          <a:xfrm>
            <a:off x="533520" y="99072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sure to choose the proper size ti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20"/>
          <p:cNvGrpSpPr/>
          <p:nvPr/>
        </p:nvGrpSpPr>
        <p:grpSpPr>
          <a:xfrm>
            <a:off x="3962520" y="2819520"/>
            <a:ext cx="288720" cy="1780920"/>
            <a:chOff x="3962520" y="2819520"/>
            <a:chExt cx="288720" cy="1780920"/>
          </a:xfrm>
        </p:grpSpPr>
        <p:sp>
          <p:nvSpPr>
            <p:cNvPr id="252" name="Trapezoid 21"/>
            <p:cNvSpPr/>
            <p:nvPr/>
          </p:nvSpPr>
          <p:spPr>
            <a:xfrm rot="10800000">
              <a:off x="4038120" y="4343400"/>
              <a:ext cx="144360" cy="257040"/>
            </a:xfrm>
            <a:custGeom>
              <a:avLst/>
              <a:gdLst/>
              <a:ahLst/>
              <a:rect l="l" t="t" r="r" b="b"/>
              <a:pathLst>
                <a:path w="144596" h="257074">
                  <a:moveTo>
                    <a:pt x="0" y="257074"/>
                  </a:moveTo>
                  <a:lnTo>
                    <a:pt x="36149" y="0"/>
                  </a:lnTo>
                  <a:lnTo>
                    <a:pt x="108447" y="0"/>
                  </a:lnTo>
                  <a:lnTo>
                    <a:pt x="144596" y="257074"/>
                  </a:lnTo>
                  <a:lnTo>
                    <a:pt x="0" y="257074"/>
                  </a:lnTo>
                  <a:close/>
                </a:path>
              </a:pathLst>
            </a:custGeom>
            <a:solidFill>
              <a:srgbClr val="c6d9f1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rapezoid 22"/>
            <p:cNvSpPr/>
            <p:nvPr/>
          </p:nvSpPr>
          <p:spPr>
            <a:xfrm rot="10800000">
              <a:off x="3962520" y="2819520"/>
              <a:ext cx="288720" cy="1603440"/>
            </a:xfrm>
            <a:custGeom>
              <a:avLst/>
              <a:gdLst/>
              <a:ahLst/>
              <a:rect l="l" t="t" r="r" b="b"/>
              <a:pathLst>
                <a:path w="289190" h="1602748">
                  <a:moveTo>
                    <a:pt x="0" y="1602748"/>
                  </a:moveTo>
                  <a:lnTo>
                    <a:pt x="56230" y="0"/>
                  </a:lnTo>
                  <a:lnTo>
                    <a:pt x="232960" y="0"/>
                  </a:lnTo>
                  <a:lnTo>
                    <a:pt x="289190" y="1602748"/>
                  </a:lnTo>
                  <a:lnTo>
                    <a:pt x="0" y="1602748"/>
                  </a:lnTo>
                  <a:close/>
                </a:path>
              </a:pathLst>
            </a:custGeom>
            <a:solidFill>
              <a:srgbClr val="e6e0ec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rapezoid 45"/>
          <p:cNvSpPr/>
          <p:nvPr/>
        </p:nvSpPr>
        <p:spPr>
          <a:xfrm rot="10800000">
            <a:off x="3962520" y="4190760"/>
            <a:ext cx="304560" cy="1066680"/>
          </a:xfrm>
          <a:custGeom>
            <a:avLst/>
            <a:gdLst/>
            <a:ahLst/>
            <a:rect l="l" t="t" r="r" b="b"/>
            <a:pathLst>
              <a:path w="304800" h="1066800">
                <a:moveTo>
                  <a:pt x="0" y="1066800"/>
                </a:moveTo>
                <a:lnTo>
                  <a:pt x="124968" y="0"/>
                </a:lnTo>
                <a:lnTo>
                  <a:pt x="179832" y="0"/>
                </a:lnTo>
                <a:lnTo>
                  <a:pt x="304800" y="1066800"/>
                </a:lnTo>
                <a:lnTo>
                  <a:pt x="0" y="1066800"/>
                </a:lnTo>
                <a:close/>
              </a:path>
            </a:pathLst>
          </a:custGeom>
          <a:solidFill>
            <a:srgbClr val="ddd9c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rapezoid 25"/>
          <p:cNvSpPr/>
          <p:nvPr/>
        </p:nvSpPr>
        <p:spPr>
          <a:xfrm rot="10800000">
            <a:off x="6248520" y="2819160"/>
            <a:ext cx="288720" cy="1603080"/>
          </a:xfrm>
          <a:custGeom>
            <a:avLst/>
            <a:gdLst/>
            <a:ahLst/>
            <a:rect l="l" t="t" r="r" b="b"/>
            <a:pathLst>
              <a:path w="288925" h="1603375">
                <a:moveTo>
                  <a:pt x="0" y="1603375"/>
                </a:moveTo>
                <a:lnTo>
                  <a:pt x="56179" y="0"/>
                </a:lnTo>
                <a:lnTo>
                  <a:pt x="232746" y="0"/>
                </a:lnTo>
                <a:lnTo>
                  <a:pt x="288925" y="1603375"/>
                </a:lnTo>
                <a:lnTo>
                  <a:pt x="0" y="1603375"/>
                </a:lnTo>
                <a:close/>
              </a:path>
            </a:pathLst>
          </a:custGeom>
          <a:solidFill>
            <a:srgbClr val="e6e0e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rapezoid 26"/>
          <p:cNvSpPr/>
          <p:nvPr/>
        </p:nvSpPr>
        <p:spPr>
          <a:xfrm rot="10800000">
            <a:off x="1904760" y="4724280"/>
            <a:ext cx="152280" cy="1067040"/>
          </a:xfrm>
          <a:custGeom>
            <a:avLst/>
            <a:gdLst/>
            <a:ahLst/>
            <a:rect l="l" t="t" r="r" b="b"/>
            <a:pathLst>
              <a:path w="152400" h="1066800">
                <a:moveTo>
                  <a:pt x="0" y="1066800"/>
                </a:moveTo>
                <a:lnTo>
                  <a:pt x="62484" y="0"/>
                </a:lnTo>
                <a:lnTo>
                  <a:pt x="89916" y="0"/>
                </a:lnTo>
                <a:lnTo>
                  <a:pt x="152400" y="1066800"/>
                </a:lnTo>
                <a:lnTo>
                  <a:pt x="0" y="1066800"/>
                </a:lnTo>
                <a:close/>
              </a:path>
            </a:pathLst>
          </a:custGeom>
          <a:solidFill>
            <a:srgbClr val="ddd9c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rapezoid 27"/>
          <p:cNvSpPr/>
          <p:nvPr/>
        </p:nvSpPr>
        <p:spPr>
          <a:xfrm rot="10800000">
            <a:off x="6172200" y="4648320"/>
            <a:ext cx="457200" cy="1752480"/>
          </a:xfrm>
          <a:custGeom>
            <a:avLst/>
            <a:gdLst/>
            <a:ahLst/>
            <a:rect l="l" t="t" r="r" b="b"/>
            <a:pathLst>
              <a:path w="457200" h="1752600">
                <a:moveTo>
                  <a:pt x="0" y="1752600"/>
                </a:moveTo>
                <a:lnTo>
                  <a:pt x="187452" y="0"/>
                </a:lnTo>
                <a:lnTo>
                  <a:pt x="269748" y="0"/>
                </a:lnTo>
                <a:lnTo>
                  <a:pt x="457200" y="1752600"/>
                </a:lnTo>
                <a:lnTo>
                  <a:pt x="0" y="1752600"/>
                </a:lnTo>
                <a:close/>
              </a:path>
            </a:pathLst>
          </a:custGeom>
          <a:solidFill>
            <a:srgbClr val="ddd9c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&quot;No&quot; Symbol 29"/>
          <p:cNvSpPr/>
          <p:nvPr/>
        </p:nvSpPr>
        <p:spPr>
          <a:xfrm>
            <a:off x="5867280" y="4038480"/>
            <a:ext cx="1143000" cy="1143000"/>
          </a:xfrm>
          <a:custGeom>
            <a:avLst/>
            <a:gdLst/>
            <a:ahLst/>
            <a:rect l="l" t="t" r="r" b="b"/>
            <a:pathLst>
              <a:path w="1143000" h="1143000">
                <a:moveTo>
                  <a:pt x="0" y="571500"/>
                </a:moveTo>
                <a:cubicBezTo>
                  <a:pt x="0" y="255869"/>
                  <a:pt x="255869" y="0"/>
                  <a:pt x="571500" y="0"/>
                </a:cubicBezTo>
                <a:cubicBezTo>
                  <a:pt x="887131" y="0"/>
                  <a:pt x="1143000" y="255869"/>
                  <a:pt x="1143000" y="571500"/>
                </a:cubicBezTo>
                <a:cubicBezTo>
                  <a:pt x="1143000" y="887131"/>
                  <a:pt x="887131" y="1143000"/>
                  <a:pt x="571500" y="1143000"/>
                </a:cubicBezTo>
                <a:cubicBezTo>
                  <a:pt x="255869" y="1143000"/>
                  <a:pt x="0" y="887131"/>
                  <a:pt x="0" y="571500"/>
                </a:cubicBezTo>
                <a:close/>
                <a:moveTo>
                  <a:pt x="939971" y="872734"/>
                </a:moveTo>
                <a:cubicBezTo>
                  <a:pt x="1094685" y="683487"/>
                  <a:pt x="1080881" y="407809"/>
                  <a:pt x="908036" y="234964"/>
                </a:cubicBezTo>
                <a:cubicBezTo>
                  <a:pt x="735191" y="62119"/>
                  <a:pt x="459513" y="48315"/>
                  <a:pt x="270266" y="203028"/>
                </a:cubicBezTo>
                <a:lnTo>
                  <a:pt x="939971" y="872734"/>
                </a:lnTo>
                <a:close/>
                <a:moveTo>
                  <a:pt x="203029" y="270266"/>
                </a:moveTo>
                <a:cubicBezTo>
                  <a:pt x="48315" y="459513"/>
                  <a:pt x="62119" y="735191"/>
                  <a:pt x="234964" y="908036"/>
                </a:cubicBezTo>
                <a:cubicBezTo>
                  <a:pt x="407809" y="1080881"/>
                  <a:pt x="683487" y="1094685"/>
                  <a:pt x="872734" y="939971"/>
                </a:cubicBezTo>
                <a:lnTo>
                  <a:pt x="203029" y="270266"/>
                </a:lnTo>
                <a:close/>
              </a:path>
            </a:pathLst>
          </a:custGeom>
          <a:solidFill>
            <a:srgbClr val="ff0000">
              <a:alpha val="17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miley Face 30"/>
          <p:cNvSpPr/>
          <p:nvPr/>
        </p:nvSpPr>
        <p:spPr>
          <a:xfrm>
            <a:off x="3657600" y="3124080"/>
            <a:ext cx="914400" cy="762120"/>
          </a:xfrm>
          <a:prstGeom prst="smileyFace">
            <a:avLst>
              <a:gd name="adj" fmla="val 9282"/>
            </a:avLst>
          </a:prstGeom>
          <a:solidFill>
            <a:srgbClr val="ffff00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&quot;No&quot; Symbol 31"/>
          <p:cNvSpPr/>
          <p:nvPr/>
        </p:nvSpPr>
        <p:spPr>
          <a:xfrm>
            <a:off x="1447920" y="4038480"/>
            <a:ext cx="1143000" cy="1143000"/>
          </a:xfrm>
          <a:custGeom>
            <a:avLst/>
            <a:gdLst/>
            <a:ahLst/>
            <a:rect l="l" t="t" r="r" b="b"/>
            <a:pathLst>
              <a:path w="1143000" h="1143000">
                <a:moveTo>
                  <a:pt x="0" y="571500"/>
                </a:moveTo>
                <a:cubicBezTo>
                  <a:pt x="0" y="255869"/>
                  <a:pt x="255869" y="0"/>
                  <a:pt x="571500" y="0"/>
                </a:cubicBezTo>
                <a:cubicBezTo>
                  <a:pt x="887131" y="0"/>
                  <a:pt x="1143000" y="255869"/>
                  <a:pt x="1143000" y="571500"/>
                </a:cubicBezTo>
                <a:cubicBezTo>
                  <a:pt x="1143000" y="887131"/>
                  <a:pt x="887131" y="1143000"/>
                  <a:pt x="571500" y="1143000"/>
                </a:cubicBezTo>
                <a:cubicBezTo>
                  <a:pt x="255869" y="1143000"/>
                  <a:pt x="0" y="887131"/>
                  <a:pt x="0" y="571500"/>
                </a:cubicBezTo>
                <a:close/>
                <a:moveTo>
                  <a:pt x="939971" y="872734"/>
                </a:moveTo>
                <a:cubicBezTo>
                  <a:pt x="1094685" y="683487"/>
                  <a:pt x="1080881" y="407809"/>
                  <a:pt x="908036" y="234964"/>
                </a:cubicBezTo>
                <a:cubicBezTo>
                  <a:pt x="735191" y="62119"/>
                  <a:pt x="459513" y="48315"/>
                  <a:pt x="270266" y="203028"/>
                </a:cubicBezTo>
                <a:lnTo>
                  <a:pt x="939971" y="872734"/>
                </a:lnTo>
                <a:close/>
                <a:moveTo>
                  <a:pt x="203029" y="270266"/>
                </a:moveTo>
                <a:cubicBezTo>
                  <a:pt x="48315" y="459513"/>
                  <a:pt x="62119" y="735191"/>
                  <a:pt x="234964" y="908036"/>
                </a:cubicBezTo>
                <a:cubicBezTo>
                  <a:pt x="407809" y="1080881"/>
                  <a:pt x="683487" y="1094685"/>
                  <a:pt x="872734" y="939971"/>
                </a:cubicBezTo>
                <a:lnTo>
                  <a:pt x="203029" y="270266"/>
                </a:lnTo>
                <a:close/>
              </a:path>
            </a:pathLst>
          </a:custGeom>
          <a:solidFill>
            <a:srgbClr val="ff0000">
              <a:alpha val="17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rapezoid 14"/>
          <p:cNvSpPr/>
          <p:nvPr/>
        </p:nvSpPr>
        <p:spPr>
          <a:xfrm rot="10800000">
            <a:off x="1676160" y="2209320"/>
            <a:ext cx="577800" cy="639720"/>
          </a:xfrm>
          <a:custGeom>
            <a:avLst/>
            <a:gdLst/>
            <a:ahLst/>
            <a:rect l="l" t="t" r="r" b="b"/>
            <a:pathLst>
              <a:path w="577850" h="639763">
                <a:moveTo>
                  <a:pt x="0" y="639763"/>
                </a:moveTo>
                <a:lnTo>
                  <a:pt x="144463" y="0"/>
                </a:lnTo>
                <a:lnTo>
                  <a:pt x="433388" y="0"/>
                </a:lnTo>
                <a:lnTo>
                  <a:pt x="577850" y="639763"/>
                </a:lnTo>
                <a:lnTo>
                  <a:pt x="0" y="639763"/>
                </a:lnTo>
                <a:close/>
              </a:path>
            </a:pathLst>
          </a:custGeom>
          <a:solidFill>
            <a:srgbClr val="e6e0e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rapezoid 15"/>
          <p:cNvSpPr/>
          <p:nvPr/>
        </p:nvSpPr>
        <p:spPr>
          <a:xfrm rot="10800000">
            <a:off x="3809520" y="2209320"/>
            <a:ext cx="577800" cy="639720"/>
          </a:xfrm>
          <a:custGeom>
            <a:avLst/>
            <a:gdLst/>
            <a:ahLst/>
            <a:rect l="l" t="t" r="r" b="b"/>
            <a:pathLst>
              <a:path w="577850" h="639763">
                <a:moveTo>
                  <a:pt x="0" y="639763"/>
                </a:moveTo>
                <a:lnTo>
                  <a:pt x="144463" y="0"/>
                </a:lnTo>
                <a:lnTo>
                  <a:pt x="433388" y="0"/>
                </a:lnTo>
                <a:lnTo>
                  <a:pt x="577850" y="639763"/>
                </a:lnTo>
                <a:lnTo>
                  <a:pt x="0" y="639763"/>
                </a:lnTo>
                <a:close/>
              </a:path>
            </a:pathLst>
          </a:custGeom>
          <a:solidFill>
            <a:srgbClr val="e6e0e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rapezoid 17"/>
          <p:cNvSpPr/>
          <p:nvPr/>
        </p:nvSpPr>
        <p:spPr>
          <a:xfrm rot="10800000">
            <a:off x="6095520" y="2209320"/>
            <a:ext cx="577800" cy="639720"/>
          </a:xfrm>
          <a:custGeom>
            <a:avLst/>
            <a:gdLst/>
            <a:ahLst/>
            <a:rect l="l" t="t" r="r" b="b"/>
            <a:pathLst>
              <a:path w="577850" h="639763">
                <a:moveTo>
                  <a:pt x="0" y="639763"/>
                </a:moveTo>
                <a:lnTo>
                  <a:pt x="144463" y="0"/>
                </a:lnTo>
                <a:lnTo>
                  <a:pt x="433388" y="0"/>
                </a:lnTo>
                <a:lnTo>
                  <a:pt x="577850" y="639763"/>
                </a:lnTo>
                <a:lnTo>
                  <a:pt x="0" y="639763"/>
                </a:lnTo>
                <a:close/>
              </a:path>
            </a:pathLst>
          </a:custGeom>
          <a:solidFill>
            <a:srgbClr val="e6e0e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8"/>
          <p:cNvGrpSpPr/>
          <p:nvPr/>
        </p:nvGrpSpPr>
        <p:grpSpPr>
          <a:xfrm>
            <a:off x="1295280" y="533520"/>
            <a:ext cx="1492200" cy="5486400"/>
            <a:chOff x="1295280" y="533520"/>
            <a:chExt cx="1492200" cy="5486400"/>
          </a:xfrm>
        </p:grpSpPr>
        <p:sp>
          <p:nvSpPr>
            <p:cNvPr id="265" name="Trapezoid 33"/>
            <p:cNvSpPr/>
            <p:nvPr/>
          </p:nvSpPr>
          <p:spPr>
            <a:xfrm rot="10800000">
              <a:off x="1872720" y="3647880"/>
              <a:ext cx="577800" cy="639720"/>
            </a:xfrm>
            <a:custGeom>
              <a:avLst/>
              <a:gdLst/>
              <a:ahLst/>
              <a:rect l="l" t="t" r="r" b="b"/>
              <a:pathLst>
                <a:path w="609204" h="760298">
                  <a:moveTo>
                    <a:pt x="0" y="760298"/>
                  </a:moveTo>
                  <a:lnTo>
                    <a:pt x="152301" y="0"/>
                  </a:lnTo>
                  <a:lnTo>
                    <a:pt x="456903" y="0"/>
                  </a:lnTo>
                  <a:lnTo>
                    <a:pt x="609204" y="760298"/>
                  </a:lnTo>
                  <a:lnTo>
                    <a:pt x="0" y="760298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Can 34"/>
            <p:cNvSpPr/>
            <p:nvPr/>
          </p:nvSpPr>
          <p:spPr>
            <a:xfrm rot="10800000">
              <a:off x="1872720" y="533520"/>
              <a:ext cx="506520" cy="25704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Can 35"/>
            <p:cNvSpPr/>
            <p:nvPr/>
          </p:nvSpPr>
          <p:spPr>
            <a:xfrm flipV="1">
              <a:off x="2017800" y="761400"/>
              <a:ext cx="191880" cy="609480"/>
            </a:xfrm>
            <a:prstGeom prst="can">
              <a:avLst>
                <a:gd name="adj" fmla="val 6986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Block Arc 36"/>
            <p:cNvSpPr/>
            <p:nvPr/>
          </p:nvSpPr>
          <p:spPr>
            <a:xfrm>
              <a:off x="1295280" y="1274760"/>
              <a:ext cx="650880" cy="512640"/>
            </a:xfrm>
            <a:custGeom>
              <a:avLst/>
              <a:gdLst/>
              <a:ahLst/>
              <a:rect l="l" t="t" r="r" b="b"/>
              <a:pathLst>
                <a:path w="686191" h="609369">
                  <a:moveTo>
                    <a:pt x="282" y="317038"/>
                  </a:moveTo>
                  <a:cubicBezTo>
                    <a:pt x="-6179" y="175635"/>
                    <a:pt x="97849" y="48896"/>
                    <a:pt x="251414" y="11079"/>
                  </a:cubicBezTo>
                  <a:cubicBezTo>
                    <a:pt x="389812" y="-23003"/>
                    <a:pt x="537469" y="23073"/>
                    <a:pt x="621439" y="126544"/>
                  </a:cubicBezTo>
                  <a:lnTo>
                    <a:pt x="522424" y="189914"/>
                  </a:lnTo>
                  <a:cubicBezTo>
                    <a:pt x="467035" y="130243"/>
                    <a:pt x="374096" y="103790"/>
                    <a:pt x="286269" y="122699"/>
                  </a:cubicBezTo>
                  <a:cubicBezTo>
                    <a:pt x="182861" y="144963"/>
                    <a:pt x="112263" y="224214"/>
                    <a:pt x="116895" y="312836"/>
                  </a:cubicBezTo>
                  <a:lnTo>
                    <a:pt x="282" y="317038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Diagonal Stripe 37"/>
            <p:cNvSpPr/>
            <p:nvPr/>
          </p:nvSpPr>
          <p:spPr>
            <a:xfrm rot="13935600">
              <a:off x="2369880" y="1285200"/>
              <a:ext cx="368280" cy="304920"/>
            </a:xfrm>
            <a:custGeom>
              <a:avLst/>
              <a:gdLst/>
              <a:ahLst/>
              <a:rect l="l" t="t" r="r" b="b"/>
              <a:pathLst>
                <a:path w="437690" h="321338">
                  <a:moveTo>
                    <a:pt x="0" y="203513"/>
                  </a:moveTo>
                  <a:lnTo>
                    <a:pt x="277202" y="0"/>
                  </a:lnTo>
                  <a:lnTo>
                    <a:pt x="437690" y="0"/>
                  </a:lnTo>
                  <a:lnTo>
                    <a:pt x="0" y="321338"/>
                  </a:lnTo>
                  <a:lnTo>
                    <a:pt x="0" y="203513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ounded Rectangle 38"/>
            <p:cNvSpPr/>
            <p:nvPr/>
          </p:nvSpPr>
          <p:spPr>
            <a:xfrm flipH="1">
              <a:off x="2306880" y="1467000"/>
              <a:ext cx="217440" cy="449280"/>
            </a:xfrm>
            <a:custGeom>
              <a:avLst/>
              <a:gdLst>
                <a:gd name="textAreaLeft" fmla="*/ 10440 w 217440"/>
                <a:gd name="textAreaRight" fmla="*/ 207000 w 217440"/>
                <a:gd name="textAreaTop" fmla="*/ 10440 h 449280"/>
                <a:gd name="textAreaBottom" fmla="*/ 438840 h 449280"/>
              </a:gdLst>
              <a:ahLst/>
              <a:rect l="textAreaLeft" t="textAreaTop" r="textAreaRight" b="textAreaBottom"/>
              <a:pathLst>
                <a:path w="21600" h="44592">
                  <a:moveTo>
                    <a:pt x="3600" y="0"/>
                  </a:moveTo>
                  <a:arcTo wR="3600" hR="3600" stAng="16200000" swAng="-5400000"/>
                  <a:lnTo>
                    <a:pt x="0" y="40992"/>
                  </a:lnTo>
                  <a:arcTo wR="3600" hR="3600" stAng="10800000" swAng="-5400000"/>
                  <a:lnTo>
                    <a:pt x="18000" y="445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ounded Rectangle 39"/>
            <p:cNvSpPr/>
            <p:nvPr/>
          </p:nvSpPr>
          <p:spPr>
            <a:xfrm>
              <a:off x="1801800" y="1274760"/>
              <a:ext cx="577800" cy="2436840"/>
            </a:xfrm>
            <a:custGeom>
              <a:avLst/>
              <a:gdLst>
                <a:gd name="textAreaLeft" fmla="*/ 28080 w 577800"/>
                <a:gd name="textAreaRight" fmla="*/ 549720 w 577800"/>
                <a:gd name="textAreaTop" fmla="*/ 28080 h 2436840"/>
                <a:gd name="textAreaBottom" fmla="*/ 2408760 h 2436840"/>
              </a:gdLst>
              <a:ahLst/>
              <a:rect l="textAreaLeft" t="textAreaTop" r="textAreaRight" b="textAreaBottom"/>
              <a:pathLst>
                <a:path w="21600" h="91054">
                  <a:moveTo>
                    <a:pt x="3600" y="0"/>
                  </a:moveTo>
                  <a:arcTo wR="3600" hR="3600" stAng="16200000" swAng="-5400000"/>
                  <a:lnTo>
                    <a:pt x="0" y="87454"/>
                  </a:lnTo>
                  <a:arcTo wR="3600" hR="3600" stAng="10800000" swAng="-5400000"/>
                  <a:lnTo>
                    <a:pt x="18000" y="910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ounded Rectangle 40"/>
            <p:cNvSpPr/>
            <p:nvPr/>
          </p:nvSpPr>
          <p:spPr>
            <a:xfrm>
              <a:off x="2379960" y="1787400"/>
              <a:ext cx="217440" cy="1860480"/>
            </a:xfrm>
            <a:custGeom>
              <a:avLst/>
              <a:gdLst>
                <a:gd name="textAreaLeft" fmla="*/ 10440 w 217440"/>
                <a:gd name="textAreaRight" fmla="*/ 207000 w 217440"/>
                <a:gd name="textAreaTop" fmla="*/ 10440 h 1860480"/>
                <a:gd name="textAreaBottom" fmla="*/ 1850040 h 1860480"/>
              </a:gdLst>
              <a:ahLst/>
              <a:rect l="textAreaLeft" t="textAreaTop" r="textAreaRight" b="textAreaBottom"/>
              <a:pathLst>
                <a:path w="21600" h="184546">
                  <a:moveTo>
                    <a:pt x="3600" y="0"/>
                  </a:moveTo>
                  <a:arcTo wR="3600" hR="3600" stAng="16200000" swAng="-5400000"/>
                  <a:lnTo>
                    <a:pt x="0" y="180946"/>
                  </a:lnTo>
                  <a:arcTo wR="3600" hR="3600" stAng="10800000" swAng="-5400000"/>
                  <a:lnTo>
                    <a:pt x="18000" y="1845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lowchart: Decision 41"/>
            <p:cNvSpPr/>
            <p:nvPr/>
          </p:nvSpPr>
          <p:spPr>
            <a:xfrm>
              <a:off x="1728720" y="1403280"/>
              <a:ext cx="144360" cy="217944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rapezoid 42"/>
            <p:cNvSpPr/>
            <p:nvPr/>
          </p:nvSpPr>
          <p:spPr>
            <a:xfrm rot="10800000">
              <a:off x="2090520" y="5762880"/>
              <a:ext cx="144360" cy="257040"/>
            </a:xfrm>
            <a:custGeom>
              <a:avLst/>
              <a:gdLst/>
              <a:ahLst/>
              <a:rect l="l" t="t" r="r" b="b"/>
              <a:pathLst>
                <a:path w="152300" h="305628">
                  <a:moveTo>
                    <a:pt x="0" y="305628"/>
                  </a:moveTo>
                  <a:lnTo>
                    <a:pt x="38075" y="0"/>
                  </a:lnTo>
                  <a:lnTo>
                    <a:pt x="114225" y="0"/>
                  </a:lnTo>
                  <a:lnTo>
                    <a:pt x="152300" y="305628"/>
                  </a:lnTo>
                  <a:lnTo>
                    <a:pt x="0" y="305628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43"/>
            <p:cNvSpPr/>
            <p:nvPr/>
          </p:nvSpPr>
          <p:spPr>
            <a:xfrm rot="16200000">
              <a:off x="1777680" y="2383560"/>
              <a:ext cx="6858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rapezoid 44"/>
            <p:cNvSpPr/>
            <p:nvPr/>
          </p:nvSpPr>
          <p:spPr>
            <a:xfrm rot="10800000">
              <a:off x="2017800" y="4224600"/>
              <a:ext cx="288720" cy="1603440"/>
            </a:xfrm>
            <a:custGeom>
              <a:avLst/>
              <a:gdLst/>
              <a:ahLst/>
              <a:rect l="l" t="t" r="r" b="b"/>
              <a:pathLst>
                <a:path w="304602" h="1905461">
                  <a:moveTo>
                    <a:pt x="0" y="1905461"/>
                  </a:moveTo>
                  <a:lnTo>
                    <a:pt x="59227" y="0"/>
                  </a:lnTo>
                  <a:lnTo>
                    <a:pt x="245375" y="0"/>
                  </a:lnTo>
                  <a:lnTo>
                    <a:pt x="304602" y="1905461"/>
                  </a:lnTo>
                  <a:lnTo>
                    <a:pt x="0" y="1905461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rapezoid 45"/>
          <p:cNvSpPr/>
          <p:nvPr/>
        </p:nvSpPr>
        <p:spPr>
          <a:xfrm rot="10800000">
            <a:off x="2057040" y="5562360"/>
            <a:ext cx="228600" cy="1066680"/>
          </a:xfrm>
          <a:custGeom>
            <a:avLst/>
            <a:gdLst/>
            <a:ahLst/>
            <a:rect l="l" t="t" r="r" b="b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lnTo>
                  <a:pt x="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5"/>
          <p:cNvSpPr/>
          <p:nvPr/>
        </p:nvSpPr>
        <p:spPr>
          <a:xfrm>
            <a:off x="4267080" y="2286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taching t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rapezoid 16"/>
          <p:cNvSpPr/>
          <p:nvPr/>
        </p:nvSpPr>
        <p:spPr>
          <a:xfrm rot="10800000">
            <a:off x="2514240" y="5562360"/>
            <a:ext cx="228600" cy="1066680"/>
          </a:xfrm>
          <a:custGeom>
            <a:avLst/>
            <a:gdLst/>
            <a:ahLst/>
            <a:rect l="l" t="t" r="r" b="b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lnTo>
                  <a:pt x="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rapezoid 17"/>
          <p:cNvSpPr/>
          <p:nvPr/>
        </p:nvSpPr>
        <p:spPr>
          <a:xfrm rot="10800000">
            <a:off x="2971440" y="5562360"/>
            <a:ext cx="228600" cy="1066680"/>
          </a:xfrm>
          <a:custGeom>
            <a:avLst/>
            <a:gdLst/>
            <a:ahLst/>
            <a:rect l="l" t="t" r="r" b="b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lnTo>
                  <a:pt x="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rapezoid 18"/>
          <p:cNvSpPr/>
          <p:nvPr/>
        </p:nvSpPr>
        <p:spPr>
          <a:xfrm rot="10800000">
            <a:off x="3428640" y="5562360"/>
            <a:ext cx="228600" cy="1066680"/>
          </a:xfrm>
          <a:custGeom>
            <a:avLst/>
            <a:gdLst/>
            <a:ahLst/>
            <a:rect l="l" t="t" r="r" b="b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lnTo>
                  <a:pt x="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9"/>
          <p:cNvSpPr/>
          <p:nvPr/>
        </p:nvSpPr>
        <p:spPr>
          <a:xfrm>
            <a:off x="1752480" y="5715000"/>
            <a:ext cx="3962520" cy="990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0"/>
          <p:cNvSpPr/>
          <p:nvPr/>
        </p:nvSpPr>
        <p:spPr>
          <a:xfrm>
            <a:off x="4114800" y="13716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s the pipette into the tip firmly to create an airtight se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rapezoid 21"/>
          <p:cNvSpPr/>
          <p:nvPr/>
        </p:nvSpPr>
        <p:spPr>
          <a:xfrm rot="10800000">
            <a:off x="3885840" y="5562360"/>
            <a:ext cx="228600" cy="1066680"/>
          </a:xfrm>
          <a:custGeom>
            <a:avLst/>
            <a:gdLst/>
            <a:ahLst/>
            <a:rect l="l" t="t" r="r" b="b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lnTo>
                  <a:pt x="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rapezoid 22"/>
          <p:cNvSpPr/>
          <p:nvPr/>
        </p:nvSpPr>
        <p:spPr>
          <a:xfrm rot="10800000">
            <a:off x="4343040" y="5562360"/>
            <a:ext cx="228600" cy="1066680"/>
          </a:xfrm>
          <a:custGeom>
            <a:avLst/>
            <a:gdLst/>
            <a:ahLst/>
            <a:rect l="l" t="t" r="r" b="b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lnTo>
                  <a:pt x="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rapezoid 23"/>
          <p:cNvSpPr/>
          <p:nvPr/>
        </p:nvSpPr>
        <p:spPr>
          <a:xfrm rot="10800000">
            <a:off x="4800240" y="5562360"/>
            <a:ext cx="228600" cy="1066680"/>
          </a:xfrm>
          <a:custGeom>
            <a:avLst/>
            <a:gdLst/>
            <a:ahLst/>
            <a:rect l="l" t="t" r="r" b="b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lnTo>
                  <a:pt x="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Can 22"/>
          <p:cNvSpPr/>
          <p:nvPr/>
        </p:nvSpPr>
        <p:spPr>
          <a:xfrm rot="10800000">
            <a:off x="1447560" y="1142640"/>
            <a:ext cx="779400" cy="330120"/>
          </a:xfrm>
          <a:prstGeom prst="can">
            <a:avLst>
              <a:gd name="adj" fmla="val 25000"/>
            </a:avLst>
          </a:prstGeom>
          <a:solidFill>
            <a:srgbClr val="f79646">
              <a:alpha val="25000"/>
            </a:srgbClr>
          </a:solidFill>
          <a:ln w="25560">
            <a:solidFill>
              <a:srgbClr val="385d8a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an 23"/>
          <p:cNvSpPr/>
          <p:nvPr/>
        </p:nvSpPr>
        <p:spPr>
          <a:xfrm flipV="1">
            <a:off x="1676520" y="1371600"/>
            <a:ext cx="295200" cy="784080"/>
          </a:xfrm>
          <a:prstGeom prst="can">
            <a:avLst>
              <a:gd name="adj" fmla="val 9412"/>
            </a:avLst>
          </a:prstGeom>
          <a:solidFill>
            <a:srgbClr val="4f81b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6"/>
          <p:cNvGrpSpPr/>
          <p:nvPr/>
        </p:nvGrpSpPr>
        <p:grpSpPr>
          <a:xfrm>
            <a:off x="569880" y="1650600"/>
            <a:ext cx="2269440" cy="3813480"/>
            <a:chOff x="569880" y="1650600"/>
            <a:chExt cx="2269440" cy="3813480"/>
          </a:xfrm>
        </p:grpSpPr>
        <p:sp>
          <p:nvSpPr>
            <p:cNvPr id="290" name="Can 35"/>
            <p:cNvSpPr/>
            <p:nvPr/>
          </p:nvSpPr>
          <p:spPr>
            <a:xfrm flipV="1">
              <a:off x="1682640" y="1958760"/>
              <a:ext cx="295200" cy="784080"/>
            </a:xfrm>
            <a:prstGeom prst="can">
              <a:avLst>
                <a:gd name="adj" fmla="val 7875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Block Arc 36"/>
            <p:cNvSpPr/>
            <p:nvPr/>
          </p:nvSpPr>
          <p:spPr>
            <a:xfrm>
              <a:off x="569880" y="2327040"/>
              <a:ext cx="1001880" cy="660240"/>
            </a:xfrm>
            <a:custGeom>
              <a:avLst/>
              <a:gdLst/>
              <a:ahLst/>
              <a:rect l="l" t="t" r="r" b="b"/>
              <a:pathLst>
                <a:path w="650665" h="512844">
                  <a:moveTo>
                    <a:pt x="339" y="268133"/>
                  </a:moveTo>
                  <a:cubicBezTo>
                    <a:pt x="-6754" y="145859"/>
                    <a:pt x="96787" y="36682"/>
                    <a:pt x="247582" y="7430"/>
                  </a:cubicBezTo>
                  <a:cubicBezTo>
                    <a:pt x="369855" y="-16289"/>
                    <a:pt x="498515" y="17736"/>
                    <a:pt x="577890" y="94784"/>
                  </a:cubicBezTo>
                  <a:lnTo>
                    <a:pt x="492592" y="149376"/>
                  </a:lnTo>
                  <a:cubicBezTo>
                    <a:pt x="437982" y="107969"/>
                    <a:pt x="355928" y="89863"/>
                    <a:pt x="277055" y="101815"/>
                  </a:cubicBezTo>
                  <a:cubicBezTo>
                    <a:pt x="168339" y="118289"/>
                    <a:pt x="92755" y="187196"/>
                    <a:pt x="98503" y="264597"/>
                  </a:cubicBezTo>
                  <a:lnTo>
                    <a:pt x="339" y="268133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Diagonal Stripe 37"/>
            <p:cNvSpPr/>
            <p:nvPr/>
          </p:nvSpPr>
          <p:spPr>
            <a:xfrm rot="13935600">
              <a:off x="2271600" y="2302920"/>
              <a:ext cx="474480" cy="468360"/>
            </a:xfrm>
            <a:custGeom>
              <a:avLst/>
              <a:gdLst/>
              <a:ahLst/>
              <a:rect l="l" t="t" r="r" b="b"/>
              <a:pathLst>
                <a:path w="368606" h="304193">
                  <a:moveTo>
                    <a:pt x="0" y="192655"/>
                  </a:moveTo>
                  <a:lnTo>
                    <a:pt x="233449" y="0"/>
                  </a:lnTo>
                  <a:lnTo>
                    <a:pt x="368606" y="0"/>
                  </a:lnTo>
                  <a:lnTo>
                    <a:pt x="0" y="304193"/>
                  </a:lnTo>
                  <a:lnTo>
                    <a:pt x="0" y="192655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ounded Rectangle 38"/>
            <p:cNvSpPr/>
            <p:nvPr/>
          </p:nvSpPr>
          <p:spPr>
            <a:xfrm flipH="1">
              <a:off x="2129040" y="2574720"/>
              <a:ext cx="333360" cy="5778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577800"/>
                <a:gd name="textAreaBottom" fmla="*/ 561600 h 577800"/>
              </a:gdLst>
              <a:ahLst/>
              <a:rect l="textAreaLeft" t="textAreaTop" r="textAreaRight" b="textAreaBottom"/>
              <a:pathLst>
                <a:path w="21600" h="37421">
                  <a:moveTo>
                    <a:pt x="3600" y="0"/>
                  </a:moveTo>
                  <a:arcTo wR="3600" hR="3600" stAng="16200000" swAng="-5400000"/>
                  <a:lnTo>
                    <a:pt x="0" y="33821"/>
                  </a:lnTo>
                  <a:arcTo wR="3600" hR="3600" stAng="10800000" swAng="-5400000"/>
                  <a:lnTo>
                    <a:pt x="18000" y="374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ounded Rectangle 39"/>
            <p:cNvSpPr/>
            <p:nvPr/>
          </p:nvSpPr>
          <p:spPr>
            <a:xfrm>
              <a:off x="1349280" y="2327040"/>
              <a:ext cx="890640" cy="3137040"/>
            </a:xfrm>
            <a:custGeom>
              <a:avLst/>
              <a:gdLst>
                <a:gd name="textAreaLeft" fmla="*/ 43200 w 890640"/>
                <a:gd name="textAreaRight" fmla="*/ 847440 w 890640"/>
                <a:gd name="textAreaTop" fmla="*/ 43200 h 3137040"/>
                <a:gd name="textAreaBottom" fmla="*/ 3093840 h 3137040"/>
              </a:gdLst>
              <a:ahLst/>
              <a:rect l="textAreaLeft" t="textAreaTop" r="textAreaRight" b="textAreaBottom"/>
              <a:pathLst>
                <a:path w="21600" h="76058">
                  <a:moveTo>
                    <a:pt x="3600" y="0"/>
                  </a:moveTo>
                  <a:arcTo wR="3600" hR="3600" stAng="16200000" swAng="-5400000"/>
                  <a:lnTo>
                    <a:pt x="0" y="72458"/>
                  </a:lnTo>
                  <a:arcTo wR="3600" hR="3600" stAng="10800000" swAng="-5400000"/>
                  <a:lnTo>
                    <a:pt x="18000" y="760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ounded Rectangle 40"/>
            <p:cNvSpPr/>
            <p:nvPr/>
          </p:nvSpPr>
          <p:spPr>
            <a:xfrm>
              <a:off x="2239920" y="2987640"/>
              <a:ext cx="333360" cy="23940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2394000"/>
                <a:gd name="textAreaBottom" fmla="*/ 2377800 h 2394000"/>
              </a:gdLst>
              <a:ahLst/>
              <a:rect l="textAreaLeft" t="textAreaTop" r="textAreaRight" b="textAreaBottom"/>
              <a:pathLst>
                <a:path w="21600" h="154975">
                  <a:moveTo>
                    <a:pt x="3600" y="0"/>
                  </a:moveTo>
                  <a:arcTo wR="3600" hR="3600" stAng="16200000" swAng="-5400000"/>
                  <a:lnTo>
                    <a:pt x="0" y="151375"/>
                  </a:lnTo>
                  <a:arcTo wR="3600" hR="3600" stAng="10800000" swAng="-5400000"/>
                  <a:lnTo>
                    <a:pt x="18000" y="154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lowchart: Decision 41"/>
            <p:cNvSpPr/>
            <p:nvPr/>
          </p:nvSpPr>
          <p:spPr>
            <a:xfrm>
              <a:off x="1238040" y="2492280"/>
              <a:ext cx="222120" cy="2806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43"/>
            <p:cNvSpPr/>
            <p:nvPr/>
          </p:nvSpPr>
          <p:spPr>
            <a:xfrm rot="16200000">
              <a:off x="1398960" y="3771720"/>
              <a:ext cx="883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Can 34"/>
            <p:cNvSpPr/>
            <p:nvPr/>
          </p:nvSpPr>
          <p:spPr>
            <a:xfrm rot="10800000">
              <a:off x="1460160" y="1650600"/>
              <a:ext cx="779400" cy="33012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17"/>
          <p:cNvGrpSpPr/>
          <p:nvPr/>
        </p:nvGrpSpPr>
        <p:grpSpPr>
          <a:xfrm>
            <a:off x="4190760" y="2133360"/>
            <a:ext cx="577800" cy="3124440"/>
            <a:chOff x="4190760" y="2133360"/>
            <a:chExt cx="577800" cy="3124440"/>
          </a:xfrm>
        </p:grpSpPr>
        <p:sp>
          <p:nvSpPr>
            <p:cNvPr id="300" name="Trapezoid 33"/>
            <p:cNvSpPr/>
            <p:nvPr/>
          </p:nvSpPr>
          <p:spPr>
            <a:xfrm rot="10800000">
              <a:off x="4190760" y="2133360"/>
              <a:ext cx="577800" cy="641160"/>
            </a:xfrm>
            <a:custGeom>
              <a:avLst/>
              <a:gdLst/>
              <a:ahLst/>
              <a:rect l="l" t="t" r="r" b="b"/>
              <a:pathLst>
                <a:path w="578380" h="641350">
                  <a:moveTo>
                    <a:pt x="0" y="641350"/>
                  </a:moveTo>
                  <a:lnTo>
                    <a:pt x="144595" y="0"/>
                  </a:lnTo>
                  <a:lnTo>
                    <a:pt x="433785" y="0"/>
                  </a:lnTo>
                  <a:lnTo>
                    <a:pt x="578380" y="641350"/>
                  </a:lnTo>
                  <a:lnTo>
                    <a:pt x="0" y="64135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rapezoid 42"/>
            <p:cNvSpPr/>
            <p:nvPr/>
          </p:nvSpPr>
          <p:spPr>
            <a:xfrm rot="10800000">
              <a:off x="4419360" y="4191120"/>
              <a:ext cx="144360" cy="257040"/>
            </a:xfrm>
            <a:custGeom>
              <a:avLst/>
              <a:gdLst/>
              <a:ahLst/>
              <a:rect l="l" t="t" r="r" b="b"/>
              <a:pathLst>
                <a:path w="144596" h="257175">
                  <a:moveTo>
                    <a:pt x="0" y="257175"/>
                  </a:moveTo>
                  <a:lnTo>
                    <a:pt x="36149" y="0"/>
                  </a:lnTo>
                  <a:lnTo>
                    <a:pt x="108447" y="0"/>
                  </a:lnTo>
                  <a:lnTo>
                    <a:pt x="144596" y="257175"/>
                  </a:lnTo>
                  <a:lnTo>
                    <a:pt x="0" y="257175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rapezoid 44"/>
            <p:cNvSpPr/>
            <p:nvPr/>
          </p:nvSpPr>
          <p:spPr>
            <a:xfrm rot="10800000">
              <a:off x="4343040" y="2666880"/>
              <a:ext cx="289080" cy="1603440"/>
            </a:xfrm>
            <a:custGeom>
              <a:avLst/>
              <a:gdLst/>
              <a:ahLst/>
              <a:rect l="l" t="t" r="r" b="b"/>
              <a:pathLst>
                <a:path w="289190" h="1603375">
                  <a:moveTo>
                    <a:pt x="0" y="1603375"/>
                  </a:moveTo>
                  <a:lnTo>
                    <a:pt x="56230" y="0"/>
                  </a:lnTo>
                  <a:lnTo>
                    <a:pt x="232960" y="0"/>
                  </a:lnTo>
                  <a:lnTo>
                    <a:pt x="289190" y="1603375"/>
                  </a:lnTo>
                  <a:lnTo>
                    <a:pt x="0" y="1603375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rapezoid 45"/>
            <p:cNvSpPr/>
            <p:nvPr/>
          </p:nvSpPr>
          <p:spPr>
            <a:xfrm rot="10800000">
              <a:off x="4343040" y="4038840"/>
              <a:ext cx="304920" cy="1218960"/>
            </a:xfrm>
            <a:custGeom>
              <a:avLst/>
              <a:gdLst/>
              <a:ahLst/>
              <a:rect l="l" t="t" r="r" b="b"/>
              <a:pathLst>
                <a:path w="305080" h="1219200">
                  <a:moveTo>
                    <a:pt x="0" y="1219200"/>
                  </a:moveTo>
                  <a:lnTo>
                    <a:pt x="125083" y="0"/>
                  </a:lnTo>
                  <a:lnTo>
                    <a:pt x="179997" y="0"/>
                  </a:lnTo>
                  <a:lnTo>
                    <a:pt x="305080" y="1219200"/>
                  </a:lnTo>
                  <a:lnTo>
                    <a:pt x="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Box 15"/>
          <p:cNvSpPr/>
          <p:nvPr/>
        </p:nvSpPr>
        <p:spPr>
          <a:xfrm>
            <a:off x="4267080" y="2286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taining a S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9"/>
          <p:cNvSpPr/>
          <p:nvPr/>
        </p:nvSpPr>
        <p:spPr>
          <a:xfrm>
            <a:off x="5410080" y="129528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 ONE – press plunger to first stop and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hol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Straight Arrow Connector 21"/>
          <p:cNvCxnSpPr/>
          <p:nvPr/>
        </p:nvCxnSpPr>
        <p:spPr>
          <a:xfrm flipH="1">
            <a:off x="2514240" y="1218960"/>
            <a:ext cx="2160" cy="68652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7" name="TextBox 24"/>
          <p:cNvSpPr/>
          <p:nvPr/>
        </p:nvSpPr>
        <p:spPr>
          <a:xfrm>
            <a:off x="2590920" y="17524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Can 22"/>
          <p:cNvSpPr/>
          <p:nvPr/>
        </p:nvSpPr>
        <p:spPr>
          <a:xfrm rot="10800000">
            <a:off x="1429920" y="1142640"/>
            <a:ext cx="779400" cy="330120"/>
          </a:xfrm>
          <a:prstGeom prst="can">
            <a:avLst>
              <a:gd name="adj" fmla="val 25000"/>
            </a:avLst>
          </a:prstGeom>
          <a:solidFill>
            <a:srgbClr val="f79646">
              <a:alpha val="25000"/>
            </a:srgbClr>
          </a:solidFill>
          <a:ln w="25560">
            <a:solidFill>
              <a:srgbClr val="385d8a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an 23"/>
          <p:cNvSpPr/>
          <p:nvPr/>
        </p:nvSpPr>
        <p:spPr>
          <a:xfrm flipV="1">
            <a:off x="1685880" y="1371600"/>
            <a:ext cx="295200" cy="784080"/>
          </a:xfrm>
          <a:prstGeom prst="can">
            <a:avLst>
              <a:gd name="adj" fmla="val 9412"/>
            </a:avLst>
          </a:prstGeom>
          <a:solidFill>
            <a:srgbClr val="4f81b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6"/>
          <p:cNvGrpSpPr/>
          <p:nvPr/>
        </p:nvGrpSpPr>
        <p:grpSpPr>
          <a:xfrm>
            <a:off x="569880" y="1650600"/>
            <a:ext cx="2269440" cy="3813480"/>
            <a:chOff x="569880" y="1650600"/>
            <a:chExt cx="2269440" cy="3813480"/>
          </a:xfrm>
        </p:grpSpPr>
        <p:sp>
          <p:nvSpPr>
            <p:cNvPr id="311" name="Can 35"/>
            <p:cNvSpPr/>
            <p:nvPr/>
          </p:nvSpPr>
          <p:spPr>
            <a:xfrm flipV="1">
              <a:off x="1682640" y="1958760"/>
              <a:ext cx="295200" cy="784080"/>
            </a:xfrm>
            <a:prstGeom prst="can">
              <a:avLst>
                <a:gd name="adj" fmla="val 7875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Block Arc 36"/>
            <p:cNvSpPr/>
            <p:nvPr/>
          </p:nvSpPr>
          <p:spPr>
            <a:xfrm>
              <a:off x="569880" y="2327040"/>
              <a:ext cx="1001880" cy="660240"/>
            </a:xfrm>
            <a:custGeom>
              <a:avLst/>
              <a:gdLst/>
              <a:ahLst/>
              <a:rect l="l" t="t" r="r" b="b"/>
              <a:pathLst>
                <a:path w="650665" h="512844">
                  <a:moveTo>
                    <a:pt x="339" y="268133"/>
                  </a:moveTo>
                  <a:cubicBezTo>
                    <a:pt x="-6754" y="145859"/>
                    <a:pt x="96787" y="36682"/>
                    <a:pt x="247582" y="7430"/>
                  </a:cubicBezTo>
                  <a:cubicBezTo>
                    <a:pt x="369855" y="-16289"/>
                    <a:pt x="498515" y="17736"/>
                    <a:pt x="577890" y="94784"/>
                  </a:cubicBezTo>
                  <a:lnTo>
                    <a:pt x="492592" y="149376"/>
                  </a:lnTo>
                  <a:cubicBezTo>
                    <a:pt x="437982" y="107969"/>
                    <a:pt x="355928" y="89863"/>
                    <a:pt x="277055" y="101815"/>
                  </a:cubicBezTo>
                  <a:cubicBezTo>
                    <a:pt x="168339" y="118289"/>
                    <a:pt x="92755" y="187196"/>
                    <a:pt x="98503" y="264597"/>
                  </a:cubicBezTo>
                  <a:lnTo>
                    <a:pt x="339" y="268133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Diagonal Stripe 37"/>
            <p:cNvSpPr/>
            <p:nvPr/>
          </p:nvSpPr>
          <p:spPr>
            <a:xfrm rot="13935600">
              <a:off x="2271600" y="2302920"/>
              <a:ext cx="474480" cy="468360"/>
            </a:xfrm>
            <a:custGeom>
              <a:avLst/>
              <a:gdLst/>
              <a:ahLst/>
              <a:rect l="l" t="t" r="r" b="b"/>
              <a:pathLst>
                <a:path w="368606" h="304193">
                  <a:moveTo>
                    <a:pt x="0" y="192655"/>
                  </a:moveTo>
                  <a:lnTo>
                    <a:pt x="233449" y="0"/>
                  </a:lnTo>
                  <a:lnTo>
                    <a:pt x="368606" y="0"/>
                  </a:lnTo>
                  <a:lnTo>
                    <a:pt x="0" y="304193"/>
                  </a:lnTo>
                  <a:lnTo>
                    <a:pt x="0" y="192655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ounded Rectangle 38"/>
            <p:cNvSpPr/>
            <p:nvPr/>
          </p:nvSpPr>
          <p:spPr>
            <a:xfrm flipH="1">
              <a:off x="2129040" y="2574720"/>
              <a:ext cx="333360" cy="5778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577800"/>
                <a:gd name="textAreaBottom" fmla="*/ 561600 h 577800"/>
              </a:gdLst>
              <a:ahLst/>
              <a:rect l="textAreaLeft" t="textAreaTop" r="textAreaRight" b="textAreaBottom"/>
              <a:pathLst>
                <a:path w="21600" h="37421">
                  <a:moveTo>
                    <a:pt x="3600" y="0"/>
                  </a:moveTo>
                  <a:arcTo wR="3600" hR="3600" stAng="16200000" swAng="-5400000"/>
                  <a:lnTo>
                    <a:pt x="0" y="33821"/>
                  </a:lnTo>
                  <a:arcTo wR="3600" hR="3600" stAng="10800000" swAng="-5400000"/>
                  <a:lnTo>
                    <a:pt x="18000" y="374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ounded Rectangle 39"/>
            <p:cNvSpPr/>
            <p:nvPr/>
          </p:nvSpPr>
          <p:spPr>
            <a:xfrm>
              <a:off x="1349280" y="2327040"/>
              <a:ext cx="890640" cy="3137040"/>
            </a:xfrm>
            <a:custGeom>
              <a:avLst/>
              <a:gdLst>
                <a:gd name="textAreaLeft" fmla="*/ 43200 w 890640"/>
                <a:gd name="textAreaRight" fmla="*/ 847440 w 890640"/>
                <a:gd name="textAreaTop" fmla="*/ 43200 h 3137040"/>
                <a:gd name="textAreaBottom" fmla="*/ 3093840 h 3137040"/>
              </a:gdLst>
              <a:ahLst/>
              <a:rect l="textAreaLeft" t="textAreaTop" r="textAreaRight" b="textAreaBottom"/>
              <a:pathLst>
                <a:path w="21600" h="76058">
                  <a:moveTo>
                    <a:pt x="3600" y="0"/>
                  </a:moveTo>
                  <a:arcTo wR="3600" hR="3600" stAng="16200000" swAng="-5400000"/>
                  <a:lnTo>
                    <a:pt x="0" y="72458"/>
                  </a:lnTo>
                  <a:arcTo wR="3600" hR="3600" stAng="10800000" swAng="-5400000"/>
                  <a:lnTo>
                    <a:pt x="18000" y="760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ounded Rectangle 40"/>
            <p:cNvSpPr/>
            <p:nvPr/>
          </p:nvSpPr>
          <p:spPr>
            <a:xfrm>
              <a:off x="2239920" y="2987640"/>
              <a:ext cx="333360" cy="23940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2394000"/>
                <a:gd name="textAreaBottom" fmla="*/ 2377800 h 2394000"/>
              </a:gdLst>
              <a:ahLst/>
              <a:rect l="textAreaLeft" t="textAreaTop" r="textAreaRight" b="textAreaBottom"/>
              <a:pathLst>
                <a:path w="21600" h="154975">
                  <a:moveTo>
                    <a:pt x="3600" y="0"/>
                  </a:moveTo>
                  <a:arcTo wR="3600" hR="3600" stAng="16200000" swAng="-5400000"/>
                  <a:lnTo>
                    <a:pt x="0" y="151375"/>
                  </a:lnTo>
                  <a:arcTo wR="3600" hR="3600" stAng="10800000" swAng="-5400000"/>
                  <a:lnTo>
                    <a:pt x="18000" y="154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lowchart: Decision 41"/>
            <p:cNvSpPr/>
            <p:nvPr/>
          </p:nvSpPr>
          <p:spPr>
            <a:xfrm>
              <a:off x="1238040" y="2492280"/>
              <a:ext cx="222120" cy="2806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43"/>
            <p:cNvSpPr/>
            <p:nvPr/>
          </p:nvSpPr>
          <p:spPr>
            <a:xfrm rot="16200000">
              <a:off x="1398960" y="3771720"/>
              <a:ext cx="883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Can 34"/>
            <p:cNvSpPr/>
            <p:nvPr/>
          </p:nvSpPr>
          <p:spPr>
            <a:xfrm rot="10800000">
              <a:off x="1407600" y="1650600"/>
              <a:ext cx="779400" cy="33012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17"/>
          <p:cNvGrpSpPr/>
          <p:nvPr/>
        </p:nvGrpSpPr>
        <p:grpSpPr>
          <a:xfrm>
            <a:off x="4190760" y="2133360"/>
            <a:ext cx="577800" cy="3124440"/>
            <a:chOff x="4190760" y="2133360"/>
            <a:chExt cx="577800" cy="3124440"/>
          </a:xfrm>
        </p:grpSpPr>
        <p:sp>
          <p:nvSpPr>
            <p:cNvPr id="321" name="Trapezoid 33"/>
            <p:cNvSpPr/>
            <p:nvPr/>
          </p:nvSpPr>
          <p:spPr>
            <a:xfrm rot="10800000">
              <a:off x="4190760" y="2133360"/>
              <a:ext cx="577800" cy="641160"/>
            </a:xfrm>
            <a:custGeom>
              <a:avLst/>
              <a:gdLst/>
              <a:ahLst/>
              <a:rect l="l" t="t" r="r" b="b"/>
              <a:pathLst>
                <a:path w="578380" h="641350">
                  <a:moveTo>
                    <a:pt x="0" y="641350"/>
                  </a:moveTo>
                  <a:lnTo>
                    <a:pt x="144595" y="0"/>
                  </a:lnTo>
                  <a:lnTo>
                    <a:pt x="433785" y="0"/>
                  </a:lnTo>
                  <a:lnTo>
                    <a:pt x="578380" y="641350"/>
                  </a:lnTo>
                  <a:lnTo>
                    <a:pt x="0" y="64135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rapezoid 42"/>
            <p:cNvSpPr/>
            <p:nvPr/>
          </p:nvSpPr>
          <p:spPr>
            <a:xfrm rot="10800000">
              <a:off x="4419360" y="4191120"/>
              <a:ext cx="144360" cy="257040"/>
            </a:xfrm>
            <a:custGeom>
              <a:avLst/>
              <a:gdLst/>
              <a:ahLst/>
              <a:rect l="l" t="t" r="r" b="b"/>
              <a:pathLst>
                <a:path w="144596" h="257175">
                  <a:moveTo>
                    <a:pt x="0" y="257175"/>
                  </a:moveTo>
                  <a:lnTo>
                    <a:pt x="36149" y="0"/>
                  </a:lnTo>
                  <a:lnTo>
                    <a:pt x="108447" y="0"/>
                  </a:lnTo>
                  <a:lnTo>
                    <a:pt x="144596" y="257175"/>
                  </a:lnTo>
                  <a:lnTo>
                    <a:pt x="0" y="257175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rapezoid 44"/>
            <p:cNvSpPr/>
            <p:nvPr/>
          </p:nvSpPr>
          <p:spPr>
            <a:xfrm rot="10800000">
              <a:off x="4343040" y="2666880"/>
              <a:ext cx="289080" cy="1603440"/>
            </a:xfrm>
            <a:custGeom>
              <a:avLst/>
              <a:gdLst/>
              <a:ahLst/>
              <a:rect l="l" t="t" r="r" b="b"/>
              <a:pathLst>
                <a:path w="289190" h="1603375">
                  <a:moveTo>
                    <a:pt x="0" y="1603375"/>
                  </a:moveTo>
                  <a:lnTo>
                    <a:pt x="56230" y="0"/>
                  </a:lnTo>
                  <a:lnTo>
                    <a:pt x="232960" y="0"/>
                  </a:lnTo>
                  <a:lnTo>
                    <a:pt x="289190" y="1603375"/>
                  </a:lnTo>
                  <a:lnTo>
                    <a:pt x="0" y="1603375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rapezoid 45"/>
            <p:cNvSpPr/>
            <p:nvPr/>
          </p:nvSpPr>
          <p:spPr>
            <a:xfrm rot="10800000">
              <a:off x="4343040" y="4038840"/>
              <a:ext cx="304920" cy="1218960"/>
            </a:xfrm>
            <a:custGeom>
              <a:avLst/>
              <a:gdLst/>
              <a:ahLst/>
              <a:rect l="l" t="t" r="r" b="b"/>
              <a:pathLst>
                <a:path w="305080" h="1219200">
                  <a:moveTo>
                    <a:pt x="0" y="1219200"/>
                  </a:moveTo>
                  <a:lnTo>
                    <a:pt x="125083" y="0"/>
                  </a:lnTo>
                  <a:lnTo>
                    <a:pt x="179997" y="0"/>
                  </a:lnTo>
                  <a:lnTo>
                    <a:pt x="305080" y="1219200"/>
                  </a:lnTo>
                  <a:lnTo>
                    <a:pt x="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TextBox 15"/>
          <p:cNvSpPr/>
          <p:nvPr/>
        </p:nvSpPr>
        <p:spPr>
          <a:xfrm>
            <a:off x="4267080" y="2286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taining a S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9"/>
          <p:cNvSpPr/>
          <p:nvPr/>
        </p:nvSpPr>
        <p:spPr>
          <a:xfrm>
            <a:off x="5410080" y="1295280"/>
            <a:ext cx="32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 TWO – Insert tip into sample only far enough to ensure it stays submerged but not to the bottom where it will get bl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rapezoid 24"/>
          <p:cNvSpPr/>
          <p:nvPr/>
        </p:nvSpPr>
        <p:spPr>
          <a:xfrm rot="10800000">
            <a:off x="3657240" y="4572000"/>
            <a:ext cx="1676520" cy="1295280"/>
          </a:xfrm>
          <a:custGeom>
            <a:avLst/>
            <a:gdLst/>
            <a:ahLst/>
            <a:rect l="l" t="t" r="r" b="b"/>
            <a:pathLst>
              <a:path w="1676400" h="1295400">
                <a:moveTo>
                  <a:pt x="0" y="1295400"/>
                </a:moveTo>
                <a:lnTo>
                  <a:pt x="323850" y="0"/>
                </a:lnTo>
                <a:lnTo>
                  <a:pt x="1352550" y="0"/>
                </a:lnTo>
                <a:lnTo>
                  <a:pt x="1676400" y="1295400"/>
                </a:lnTo>
                <a:lnTo>
                  <a:pt x="0" y="12954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rapezoid 25"/>
          <p:cNvSpPr/>
          <p:nvPr/>
        </p:nvSpPr>
        <p:spPr>
          <a:xfrm rot="10800000">
            <a:off x="3733560" y="4876560"/>
            <a:ext cx="1523880" cy="990360"/>
          </a:xfrm>
          <a:custGeom>
            <a:avLst/>
            <a:gdLst/>
            <a:ahLst/>
            <a:rect l="l" t="t" r="r" b="b"/>
            <a:pathLst>
              <a:path w="1524000" h="990600">
                <a:moveTo>
                  <a:pt x="0" y="990600"/>
                </a:moveTo>
                <a:lnTo>
                  <a:pt x="247650" y="0"/>
                </a:lnTo>
                <a:lnTo>
                  <a:pt x="1276350" y="0"/>
                </a:lnTo>
                <a:lnTo>
                  <a:pt x="1524000" y="990600"/>
                </a:lnTo>
                <a:lnTo>
                  <a:pt x="0" y="990600"/>
                </a:lnTo>
                <a:close/>
              </a:path>
            </a:pathLst>
          </a:custGeom>
          <a:solidFill>
            <a:srgbClr val="604a7b">
              <a:alpha val="27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6"/>
          <p:cNvSpPr/>
          <p:nvPr/>
        </p:nvSpPr>
        <p:spPr>
          <a:xfrm>
            <a:off x="2438280" y="1676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7"/>
          <p:cNvSpPr/>
          <p:nvPr/>
        </p:nvSpPr>
        <p:spPr>
          <a:xfrm>
            <a:off x="248400" y="6172200"/>
            <a:ext cx="37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 the pipette VERTICAL at all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16"/>
          <p:cNvGrpSpPr/>
          <p:nvPr/>
        </p:nvGrpSpPr>
        <p:grpSpPr>
          <a:xfrm>
            <a:off x="533520" y="1371240"/>
            <a:ext cx="2269440" cy="4092840"/>
            <a:chOff x="533520" y="1371240"/>
            <a:chExt cx="2269440" cy="4092840"/>
          </a:xfrm>
        </p:grpSpPr>
        <p:sp>
          <p:nvSpPr>
            <p:cNvPr id="332" name="Can 34"/>
            <p:cNvSpPr/>
            <p:nvPr/>
          </p:nvSpPr>
          <p:spPr>
            <a:xfrm rot="10800000">
              <a:off x="1371240" y="1371240"/>
              <a:ext cx="779400" cy="33012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Can 35"/>
            <p:cNvSpPr/>
            <p:nvPr/>
          </p:nvSpPr>
          <p:spPr>
            <a:xfrm flipV="1">
              <a:off x="1600200" y="1676160"/>
              <a:ext cx="295200" cy="784080"/>
            </a:xfrm>
            <a:prstGeom prst="can">
              <a:avLst>
                <a:gd name="adj" fmla="val 7875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Block Arc 36"/>
            <p:cNvSpPr/>
            <p:nvPr/>
          </p:nvSpPr>
          <p:spPr>
            <a:xfrm>
              <a:off x="533520" y="2327040"/>
              <a:ext cx="1001880" cy="660240"/>
            </a:xfrm>
            <a:custGeom>
              <a:avLst/>
              <a:gdLst/>
              <a:ahLst/>
              <a:rect l="l" t="t" r="r" b="b"/>
              <a:pathLst>
                <a:path w="650665" h="512835">
                  <a:moveTo>
                    <a:pt x="340" y="268129"/>
                  </a:moveTo>
                  <a:cubicBezTo>
                    <a:pt x="-6753" y="145857"/>
                    <a:pt x="96788" y="36681"/>
                    <a:pt x="247584" y="7430"/>
                  </a:cubicBezTo>
                  <a:cubicBezTo>
                    <a:pt x="369856" y="-16288"/>
                    <a:pt x="498514" y="17736"/>
                    <a:pt x="577890" y="94782"/>
                  </a:cubicBezTo>
                  <a:lnTo>
                    <a:pt x="492591" y="149372"/>
                  </a:lnTo>
                  <a:cubicBezTo>
                    <a:pt x="437981" y="107967"/>
                    <a:pt x="355928" y="89862"/>
                    <a:pt x="277055" y="101813"/>
                  </a:cubicBezTo>
                  <a:cubicBezTo>
                    <a:pt x="168337" y="118286"/>
                    <a:pt x="92752" y="187192"/>
                    <a:pt x="98500" y="264592"/>
                  </a:cubicBezTo>
                  <a:lnTo>
                    <a:pt x="340" y="268129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Diagonal Stripe 37"/>
            <p:cNvSpPr/>
            <p:nvPr/>
          </p:nvSpPr>
          <p:spPr>
            <a:xfrm rot="13935600">
              <a:off x="2235240" y="2302920"/>
              <a:ext cx="474480" cy="468360"/>
            </a:xfrm>
            <a:custGeom>
              <a:avLst/>
              <a:gdLst/>
              <a:ahLst/>
              <a:rect l="l" t="t" r="r" b="b"/>
              <a:pathLst>
                <a:path w="368600" h="304194">
                  <a:moveTo>
                    <a:pt x="0" y="192655"/>
                  </a:moveTo>
                  <a:lnTo>
                    <a:pt x="233445" y="0"/>
                  </a:lnTo>
                  <a:lnTo>
                    <a:pt x="368600" y="0"/>
                  </a:lnTo>
                  <a:lnTo>
                    <a:pt x="0" y="304194"/>
                  </a:lnTo>
                  <a:lnTo>
                    <a:pt x="0" y="192655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ounded Rectangle 38"/>
            <p:cNvSpPr/>
            <p:nvPr/>
          </p:nvSpPr>
          <p:spPr>
            <a:xfrm flipH="1">
              <a:off x="2092680" y="2574720"/>
              <a:ext cx="333360" cy="5778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577800"/>
                <a:gd name="textAreaBottom" fmla="*/ 561600 h 577800"/>
              </a:gdLst>
              <a:ahLst/>
              <a:rect l="textAreaLeft" t="textAreaTop" r="textAreaRight" b="textAreaBottom"/>
              <a:pathLst>
                <a:path w="21600" h="37421">
                  <a:moveTo>
                    <a:pt x="3600" y="0"/>
                  </a:moveTo>
                  <a:arcTo wR="3600" hR="3600" stAng="16200000" swAng="-5400000"/>
                  <a:lnTo>
                    <a:pt x="0" y="33821"/>
                  </a:lnTo>
                  <a:arcTo wR="3600" hR="3600" stAng="10800000" swAng="-5400000"/>
                  <a:lnTo>
                    <a:pt x="18000" y="374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ounded Rectangle 39"/>
            <p:cNvSpPr/>
            <p:nvPr/>
          </p:nvSpPr>
          <p:spPr>
            <a:xfrm>
              <a:off x="1312920" y="2327040"/>
              <a:ext cx="890640" cy="3137040"/>
            </a:xfrm>
            <a:custGeom>
              <a:avLst/>
              <a:gdLst>
                <a:gd name="textAreaLeft" fmla="*/ 43200 w 890640"/>
                <a:gd name="textAreaRight" fmla="*/ 847440 w 890640"/>
                <a:gd name="textAreaTop" fmla="*/ 43200 h 3137040"/>
                <a:gd name="textAreaBottom" fmla="*/ 3093840 h 3137040"/>
              </a:gdLst>
              <a:ahLst/>
              <a:rect l="textAreaLeft" t="textAreaTop" r="textAreaRight" b="textAreaBottom"/>
              <a:pathLst>
                <a:path w="21600" h="76058">
                  <a:moveTo>
                    <a:pt x="3600" y="0"/>
                  </a:moveTo>
                  <a:arcTo wR="3600" hR="3600" stAng="16200000" swAng="-5400000"/>
                  <a:lnTo>
                    <a:pt x="0" y="72458"/>
                  </a:lnTo>
                  <a:arcTo wR="3600" hR="3600" stAng="10800000" swAng="-5400000"/>
                  <a:lnTo>
                    <a:pt x="18000" y="760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ounded Rectangle 40"/>
            <p:cNvSpPr/>
            <p:nvPr/>
          </p:nvSpPr>
          <p:spPr>
            <a:xfrm>
              <a:off x="2203560" y="2987640"/>
              <a:ext cx="333360" cy="23940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2394000"/>
                <a:gd name="textAreaBottom" fmla="*/ 2377800 h 2394000"/>
              </a:gdLst>
              <a:ahLst/>
              <a:rect l="textAreaLeft" t="textAreaTop" r="textAreaRight" b="textAreaBottom"/>
              <a:pathLst>
                <a:path w="21600" h="154975">
                  <a:moveTo>
                    <a:pt x="3600" y="0"/>
                  </a:moveTo>
                  <a:arcTo wR="3600" hR="3600" stAng="16200000" swAng="-5400000"/>
                  <a:lnTo>
                    <a:pt x="0" y="151375"/>
                  </a:lnTo>
                  <a:arcTo wR="3600" hR="3600" stAng="10800000" swAng="-5400000"/>
                  <a:lnTo>
                    <a:pt x="18000" y="154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lowchart: Decision 41"/>
            <p:cNvSpPr/>
            <p:nvPr/>
          </p:nvSpPr>
          <p:spPr>
            <a:xfrm>
              <a:off x="1201680" y="2492280"/>
              <a:ext cx="222120" cy="280656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43"/>
            <p:cNvSpPr/>
            <p:nvPr/>
          </p:nvSpPr>
          <p:spPr>
            <a:xfrm rot="16200000">
              <a:off x="1362600" y="3771720"/>
              <a:ext cx="883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17"/>
          <p:cNvGrpSpPr/>
          <p:nvPr/>
        </p:nvGrpSpPr>
        <p:grpSpPr>
          <a:xfrm>
            <a:off x="4222440" y="2133360"/>
            <a:ext cx="577800" cy="3124440"/>
            <a:chOff x="4222440" y="2133360"/>
            <a:chExt cx="577800" cy="3124440"/>
          </a:xfrm>
        </p:grpSpPr>
        <p:sp>
          <p:nvSpPr>
            <p:cNvPr id="342" name="Trapezoid 33"/>
            <p:cNvSpPr/>
            <p:nvPr/>
          </p:nvSpPr>
          <p:spPr>
            <a:xfrm rot="10800000">
              <a:off x="4222440" y="2133360"/>
              <a:ext cx="577800" cy="641160"/>
            </a:xfrm>
            <a:custGeom>
              <a:avLst/>
              <a:gdLst/>
              <a:ahLst/>
              <a:rect l="l" t="t" r="r" b="b"/>
              <a:pathLst>
                <a:path w="578380" h="641350">
                  <a:moveTo>
                    <a:pt x="0" y="641350"/>
                  </a:moveTo>
                  <a:lnTo>
                    <a:pt x="144595" y="0"/>
                  </a:lnTo>
                  <a:lnTo>
                    <a:pt x="433785" y="0"/>
                  </a:lnTo>
                  <a:lnTo>
                    <a:pt x="578380" y="641350"/>
                  </a:lnTo>
                  <a:lnTo>
                    <a:pt x="0" y="64135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rapezoid 42"/>
            <p:cNvSpPr/>
            <p:nvPr/>
          </p:nvSpPr>
          <p:spPr>
            <a:xfrm rot="10800000">
              <a:off x="4451040" y="4191120"/>
              <a:ext cx="144360" cy="257040"/>
            </a:xfrm>
            <a:custGeom>
              <a:avLst/>
              <a:gdLst/>
              <a:ahLst/>
              <a:rect l="l" t="t" r="r" b="b"/>
              <a:pathLst>
                <a:path w="144596" h="257175">
                  <a:moveTo>
                    <a:pt x="0" y="257175"/>
                  </a:moveTo>
                  <a:lnTo>
                    <a:pt x="36149" y="0"/>
                  </a:lnTo>
                  <a:lnTo>
                    <a:pt x="108447" y="0"/>
                  </a:lnTo>
                  <a:lnTo>
                    <a:pt x="144596" y="257175"/>
                  </a:lnTo>
                  <a:lnTo>
                    <a:pt x="0" y="257175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rapezoid 44"/>
            <p:cNvSpPr/>
            <p:nvPr/>
          </p:nvSpPr>
          <p:spPr>
            <a:xfrm rot="10800000">
              <a:off x="4374720" y="2666880"/>
              <a:ext cx="289080" cy="1603440"/>
            </a:xfrm>
            <a:custGeom>
              <a:avLst/>
              <a:gdLst/>
              <a:ahLst/>
              <a:rect l="l" t="t" r="r" b="b"/>
              <a:pathLst>
                <a:path w="289190" h="1603375">
                  <a:moveTo>
                    <a:pt x="0" y="1603375"/>
                  </a:moveTo>
                  <a:lnTo>
                    <a:pt x="56230" y="0"/>
                  </a:lnTo>
                  <a:lnTo>
                    <a:pt x="232960" y="0"/>
                  </a:lnTo>
                  <a:lnTo>
                    <a:pt x="289190" y="1603375"/>
                  </a:lnTo>
                  <a:lnTo>
                    <a:pt x="0" y="1603375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rapezoid 45"/>
            <p:cNvSpPr/>
            <p:nvPr/>
          </p:nvSpPr>
          <p:spPr>
            <a:xfrm rot="10800000">
              <a:off x="4374720" y="4038840"/>
              <a:ext cx="304920" cy="1218960"/>
            </a:xfrm>
            <a:custGeom>
              <a:avLst/>
              <a:gdLst/>
              <a:ahLst/>
              <a:rect l="l" t="t" r="r" b="b"/>
              <a:pathLst>
                <a:path w="305080" h="1219200">
                  <a:moveTo>
                    <a:pt x="0" y="1219200"/>
                  </a:moveTo>
                  <a:lnTo>
                    <a:pt x="125083" y="0"/>
                  </a:lnTo>
                  <a:lnTo>
                    <a:pt x="179997" y="0"/>
                  </a:lnTo>
                  <a:lnTo>
                    <a:pt x="305080" y="1219200"/>
                  </a:lnTo>
                  <a:lnTo>
                    <a:pt x="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TextBox 15"/>
          <p:cNvSpPr/>
          <p:nvPr/>
        </p:nvSpPr>
        <p:spPr>
          <a:xfrm>
            <a:off x="4267080" y="2286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taining a S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9"/>
          <p:cNvSpPr/>
          <p:nvPr/>
        </p:nvSpPr>
        <p:spPr>
          <a:xfrm>
            <a:off x="5410080" y="1295280"/>
            <a:ext cx="32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 THREE – Allow plunger to return to the home position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LOW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o you don’t draw in air bubbles, or splash sample up into tip or the pipette it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Straight Arrow Connector 21"/>
          <p:cNvCxnSpPr/>
          <p:nvPr/>
        </p:nvCxnSpPr>
        <p:spPr>
          <a:xfrm flipH="1" flipV="1">
            <a:off x="2590560" y="1447200"/>
            <a:ext cx="2160" cy="61164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9" name="Trapezoid 24"/>
          <p:cNvSpPr/>
          <p:nvPr/>
        </p:nvSpPr>
        <p:spPr>
          <a:xfrm rot="10800000">
            <a:off x="3657240" y="4572000"/>
            <a:ext cx="1676520" cy="1295280"/>
          </a:xfrm>
          <a:custGeom>
            <a:avLst/>
            <a:gdLst/>
            <a:ahLst/>
            <a:rect l="l" t="t" r="r" b="b"/>
            <a:pathLst>
              <a:path w="1676400" h="1295400">
                <a:moveTo>
                  <a:pt x="0" y="1295400"/>
                </a:moveTo>
                <a:lnTo>
                  <a:pt x="323850" y="0"/>
                </a:lnTo>
                <a:lnTo>
                  <a:pt x="1352550" y="0"/>
                </a:lnTo>
                <a:lnTo>
                  <a:pt x="1676400" y="1295400"/>
                </a:lnTo>
                <a:lnTo>
                  <a:pt x="0" y="12954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rapezoid 25"/>
          <p:cNvSpPr/>
          <p:nvPr/>
        </p:nvSpPr>
        <p:spPr>
          <a:xfrm rot="10800000">
            <a:off x="3733560" y="4876560"/>
            <a:ext cx="1523880" cy="990360"/>
          </a:xfrm>
          <a:custGeom>
            <a:avLst/>
            <a:gdLst/>
            <a:ahLst/>
            <a:rect l="l" t="t" r="r" b="b"/>
            <a:pathLst>
              <a:path w="1524000" h="990600">
                <a:moveTo>
                  <a:pt x="0" y="990600"/>
                </a:moveTo>
                <a:lnTo>
                  <a:pt x="247650" y="0"/>
                </a:lnTo>
                <a:lnTo>
                  <a:pt x="1276350" y="0"/>
                </a:lnTo>
                <a:lnTo>
                  <a:pt x="1524000" y="990600"/>
                </a:lnTo>
                <a:lnTo>
                  <a:pt x="0" y="990600"/>
                </a:lnTo>
                <a:close/>
              </a:path>
            </a:pathLst>
          </a:custGeom>
          <a:solidFill>
            <a:srgbClr val="604a7b">
              <a:alpha val="27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Can 22"/>
          <p:cNvSpPr/>
          <p:nvPr/>
        </p:nvSpPr>
        <p:spPr>
          <a:xfrm rot="10800000">
            <a:off x="1371240" y="1828440"/>
            <a:ext cx="779400" cy="330120"/>
          </a:xfrm>
          <a:prstGeom prst="can">
            <a:avLst>
              <a:gd name="adj" fmla="val 25000"/>
            </a:avLst>
          </a:prstGeom>
          <a:solidFill>
            <a:srgbClr val="f79646">
              <a:alpha val="25000"/>
            </a:srgbClr>
          </a:solidFill>
          <a:ln w="25560">
            <a:solidFill>
              <a:srgbClr val="385d8a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rapezoid 27"/>
          <p:cNvSpPr/>
          <p:nvPr/>
        </p:nvSpPr>
        <p:spPr>
          <a:xfrm rot="10800000">
            <a:off x="4419360" y="4495320"/>
            <a:ext cx="228600" cy="685800"/>
          </a:xfrm>
          <a:custGeom>
            <a:avLst/>
            <a:gdLst/>
            <a:ahLst/>
            <a:rect l="l" t="t" r="r" b="b"/>
            <a:pathLst>
              <a:path w="228600" h="685800">
                <a:moveTo>
                  <a:pt x="0" y="685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685800"/>
                </a:lnTo>
                <a:lnTo>
                  <a:pt x="0" y="685800"/>
                </a:lnTo>
                <a:close/>
              </a:path>
            </a:pathLst>
          </a:cu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8"/>
          <p:cNvSpPr/>
          <p:nvPr/>
        </p:nvSpPr>
        <p:spPr>
          <a:xfrm>
            <a:off x="259920" y="617220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EEP the pipette VERTICAL at 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17"/>
          <p:cNvGrpSpPr/>
          <p:nvPr/>
        </p:nvGrpSpPr>
        <p:grpSpPr>
          <a:xfrm>
            <a:off x="837720" y="1219320"/>
            <a:ext cx="1860840" cy="4114800"/>
            <a:chOff x="837720" y="1219320"/>
            <a:chExt cx="1860840" cy="4114800"/>
          </a:xfrm>
        </p:grpSpPr>
        <p:sp>
          <p:nvSpPr>
            <p:cNvPr id="355" name="Trapezoid 3"/>
            <p:cNvSpPr/>
            <p:nvPr/>
          </p:nvSpPr>
          <p:spPr>
            <a:xfrm rot="10800000">
              <a:off x="1303200" y="1733040"/>
              <a:ext cx="882720" cy="865080"/>
            </a:xfrm>
            <a:custGeom>
              <a:avLst/>
              <a:gdLst/>
              <a:ahLst/>
              <a:rect l="l" t="t" r="r" b="b"/>
              <a:pathLst>
                <a:path w="144598" h="256352">
                  <a:moveTo>
                    <a:pt x="0" y="256352"/>
                  </a:moveTo>
                  <a:lnTo>
                    <a:pt x="36150" y="0"/>
                  </a:lnTo>
                  <a:lnTo>
                    <a:pt x="108449" y="0"/>
                  </a:lnTo>
                  <a:lnTo>
                    <a:pt x="144598" y="256352"/>
                  </a:lnTo>
                  <a:lnTo>
                    <a:pt x="0" y="256352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rapezoid 5"/>
            <p:cNvSpPr/>
            <p:nvPr/>
          </p:nvSpPr>
          <p:spPr>
            <a:xfrm rot="10800000">
              <a:off x="837720" y="1219320"/>
              <a:ext cx="1860840" cy="4114800"/>
            </a:xfrm>
            <a:custGeom>
              <a:avLst/>
              <a:gdLst/>
              <a:ahLst/>
              <a:rect l="l" t="t" r="r" b="b"/>
              <a:pathLst>
                <a:path w="304800" h="1219200">
                  <a:moveTo>
                    <a:pt x="0" y="1219200"/>
                  </a:moveTo>
                  <a:lnTo>
                    <a:pt x="124968" y="0"/>
                  </a:lnTo>
                  <a:lnTo>
                    <a:pt x="179832" y="0"/>
                  </a:lnTo>
                  <a:lnTo>
                    <a:pt x="304800" y="1219200"/>
                  </a:lnTo>
                  <a:lnTo>
                    <a:pt x="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rapezoid 8"/>
          <p:cNvSpPr/>
          <p:nvPr/>
        </p:nvSpPr>
        <p:spPr>
          <a:xfrm rot="10800000">
            <a:off x="1195200" y="2943000"/>
            <a:ext cx="1143000" cy="1857240"/>
          </a:xfrm>
          <a:custGeom>
            <a:avLst/>
            <a:gdLst/>
            <a:ahLst/>
            <a:rect l="l" t="t" r="r" b="b"/>
            <a:pathLst>
              <a:path w="1143000" h="1857375">
                <a:moveTo>
                  <a:pt x="0" y="1857375"/>
                </a:moveTo>
                <a:lnTo>
                  <a:pt x="349872" y="0"/>
                </a:lnTo>
                <a:lnTo>
                  <a:pt x="793128" y="0"/>
                </a:lnTo>
                <a:lnTo>
                  <a:pt x="1143000" y="1857375"/>
                </a:lnTo>
                <a:lnTo>
                  <a:pt x="0" y="1857375"/>
                </a:lnTo>
                <a:close/>
              </a:path>
            </a:pathLst>
          </a:cu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9"/>
          <p:cNvSpPr/>
          <p:nvPr/>
        </p:nvSpPr>
        <p:spPr>
          <a:xfrm>
            <a:off x="4267080" y="2286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taining a S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7"/>
          <p:cNvGrpSpPr/>
          <p:nvPr/>
        </p:nvGrpSpPr>
        <p:grpSpPr>
          <a:xfrm>
            <a:off x="3580920" y="1219320"/>
            <a:ext cx="1860840" cy="4114800"/>
            <a:chOff x="3580920" y="1219320"/>
            <a:chExt cx="1860840" cy="4114800"/>
          </a:xfrm>
        </p:grpSpPr>
        <p:sp>
          <p:nvSpPr>
            <p:cNvPr id="360" name="Trapezoid 11"/>
            <p:cNvSpPr/>
            <p:nvPr/>
          </p:nvSpPr>
          <p:spPr>
            <a:xfrm rot="10800000">
              <a:off x="4046400" y="1733040"/>
              <a:ext cx="882720" cy="865080"/>
            </a:xfrm>
            <a:custGeom>
              <a:avLst/>
              <a:gdLst/>
              <a:ahLst/>
              <a:rect l="l" t="t" r="r" b="b"/>
              <a:pathLst>
                <a:path w="144598" h="256352">
                  <a:moveTo>
                    <a:pt x="0" y="256352"/>
                  </a:moveTo>
                  <a:lnTo>
                    <a:pt x="36150" y="0"/>
                  </a:lnTo>
                  <a:lnTo>
                    <a:pt x="108449" y="0"/>
                  </a:lnTo>
                  <a:lnTo>
                    <a:pt x="144598" y="256352"/>
                  </a:lnTo>
                  <a:lnTo>
                    <a:pt x="0" y="256352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rapezoid 12"/>
            <p:cNvSpPr/>
            <p:nvPr/>
          </p:nvSpPr>
          <p:spPr>
            <a:xfrm rot="10800000">
              <a:off x="3580920" y="1219320"/>
              <a:ext cx="1860840" cy="4114800"/>
            </a:xfrm>
            <a:custGeom>
              <a:avLst/>
              <a:gdLst/>
              <a:ahLst/>
              <a:rect l="l" t="t" r="r" b="b"/>
              <a:pathLst>
                <a:path w="304800" h="1219200">
                  <a:moveTo>
                    <a:pt x="0" y="1219200"/>
                  </a:moveTo>
                  <a:lnTo>
                    <a:pt x="124968" y="0"/>
                  </a:lnTo>
                  <a:lnTo>
                    <a:pt x="179832" y="0"/>
                  </a:lnTo>
                  <a:lnTo>
                    <a:pt x="304800" y="1219200"/>
                  </a:lnTo>
                  <a:lnTo>
                    <a:pt x="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rapezoid 13"/>
          <p:cNvSpPr/>
          <p:nvPr/>
        </p:nvSpPr>
        <p:spPr>
          <a:xfrm rot="10800000">
            <a:off x="3938400" y="2943000"/>
            <a:ext cx="1143000" cy="2314440"/>
          </a:xfrm>
          <a:custGeom>
            <a:avLst/>
            <a:gdLst/>
            <a:ahLst/>
            <a:rect l="l" t="t" r="r" b="b"/>
            <a:pathLst>
              <a:path w="1143000" h="2314575">
                <a:moveTo>
                  <a:pt x="0" y="2314575"/>
                </a:moveTo>
                <a:lnTo>
                  <a:pt x="444878" y="0"/>
                </a:lnTo>
                <a:lnTo>
                  <a:pt x="698122" y="0"/>
                </a:lnTo>
                <a:lnTo>
                  <a:pt x="1143000" y="2314575"/>
                </a:lnTo>
                <a:lnTo>
                  <a:pt x="0" y="2314575"/>
                </a:lnTo>
                <a:close/>
              </a:path>
            </a:pathLst>
          </a:cu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17"/>
          <p:cNvGrpSpPr/>
          <p:nvPr/>
        </p:nvGrpSpPr>
        <p:grpSpPr>
          <a:xfrm>
            <a:off x="6248520" y="1219320"/>
            <a:ext cx="1860480" cy="4114800"/>
            <a:chOff x="6248520" y="1219320"/>
            <a:chExt cx="1860480" cy="4114800"/>
          </a:xfrm>
        </p:grpSpPr>
        <p:sp>
          <p:nvSpPr>
            <p:cNvPr id="364" name="Trapezoid 15"/>
            <p:cNvSpPr/>
            <p:nvPr/>
          </p:nvSpPr>
          <p:spPr>
            <a:xfrm rot="10800000">
              <a:off x="6713640" y="1733040"/>
              <a:ext cx="882720" cy="865080"/>
            </a:xfrm>
            <a:custGeom>
              <a:avLst/>
              <a:gdLst/>
              <a:ahLst/>
              <a:rect l="l" t="t" r="r" b="b"/>
              <a:pathLst>
                <a:path w="144598" h="256352">
                  <a:moveTo>
                    <a:pt x="0" y="256352"/>
                  </a:moveTo>
                  <a:lnTo>
                    <a:pt x="36150" y="0"/>
                  </a:lnTo>
                  <a:lnTo>
                    <a:pt x="108449" y="0"/>
                  </a:lnTo>
                  <a:lnTo>
                    <a:pt x="144598" y="256352"/>
                  </a:lnTo>
                  <a:lnTo>
                    <a:pt x="0" y="256352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rapezoid 16"/>
            <p:cNvSpPr/>
            <p:nvPr/>
          </p:nvSpPr>
          <p:spPr>
            <a:xfrm rot="10800000">
              <a:off x="6248520" y="1219320"/>
              <a:ext cx="1860480" cy="4114800"/>
            </a:xfrm>
            <a:custGeom>
              <a:avLst/>
              <a:gdLst/>
              <a:ahLst/>
              <a:rect l="l" t="t" r="r" b="b"/>
              <a:pathLst>
                <a:path w="304800" h="1219200">
                  <a:moveTo>
                    <a:pt x="0" y="1219200"/>
                  </a:moveTo>
                  <a:lnTo>
                    <a:pt x="124968" y="0"/>
                  </a:lnTo>
                  <a:lnTo>
                    <a:pt x="179832" y="0"/>
                  </a:lnTo>
                  <a:lnTo>
                    <a:pt x="304800" y="1219200"/>
                  </a:lnTo>
                  <a:lnTo>
                    <a:pt x="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Trapezoid 17"/>
          <p:cNvSpPr/>
          <p:nvPr/>
        </p:nvSpPr>
        <p:spPr>
          <a:xfrm rot="10800000">
            <a:off x="6552720" y="2666520"/>
            <a:ext cx="1219320" cy="762120"/>
          </a:xfrm>
          <a:custGeom>
            <a:avLst/>
            <a:gdLst/>
            <a:ahLst/>
            <a:rect l="l" t="t" r="r" b="b"/>
            <a:pathLst>
              <a:path w="1219200" h="762000">
                <a:moveTo>
                  <a:pt x="0" y="762000"/>
                </a:moveTo>
                <a:lnTo>
                  <a:pt x="106581" y="0"/>
                </a:lnTo>
                <a:lnTo>
                  <a:pt x="1112619" y="0"/>
                </a:lnTo>
                <a:lnTo>
                  <a:pt x="1219200" y="762000"/>
                </a:lnTo>
                <a:lnTo>
                  <a:pt x="0" y="762000"/>
                </a:lnTo>
                <a:close/>
              </a:path>
            </a:pathLst>
          </a:cu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rapezoid 18"/>
          <p:cNvSpPr/>
          <p:nvPr/>
        </p:nvSpPr>
        <p:spPr>
          <a:xfrm rot="10800000">
            <a:off x="6400440" y="1752480"/>
            <a:ext cx="1523880" cy="609840"/>
          </a:xfrm>
          <a:custGeom>
            <a:avLst/>
            <a:gdLst/>
            <a:ahLst/>
            <a:rect l="l" t="t" r="r" b="b"/>
            <a:pathLst>
              <a:path w="1524000" h="609600">
                <a:moveTo>
                  <a:pt x="0" y="609600"/>
                </a:moveTo>
                <a:lnTo>
                  <a:pt x="94762" y="0"/>
                </a:lnTo>
                <a:lnTo>
                  <a:pt x="1429238" y="0"/>
                </a:lnTo>
                <a:lnTo>
                  <a:pt x="15240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rapezoid 19"/>
          <p:cNvSpPr/>
          <p:nvPr/>
        </p:nvSpPr>
        <p:spPr>
          <a:xfrm rot="10800000">
            <a:off x="6781320" y="3733560"/>
            <a:ext cx="762120" cy="1523880"/>
          </a:xfrm>
          <a:custGeom>
            <a:avLst/>
            <a:gdLst/>
            <a:ahLst/>
            <a:rect l="l" t="t" r="r" b="b"/>
            <a:pathLst>
              <a:path w="762000" h="1524000">
                <a:moveTo>
                  <a:pt x="0" y="1524000"/>
                </a:moveTo>
                <a:lnTo>
                  <a:pt x="253403" y="0"/>
                </a:lnTo>
                <a:lnTo>
                  <a:pt x="508597" y="0"/>
                </a:lnTo>
                <a:lnTo>
                  <a:pt x="762000" y="1524000"/>
                </a:lnTo>
                <a:lnTo>
                  <a:pt x="0" y="1524000"/>
                </a:lnTo>
                <a:close/>
              </a:path>
            </a:pathLst>
          </a:cu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miley Face 20"/>
          <p:cNvSpPr/>
          <p:nvPr/>
        </p:nvSpPr>
        <p:spPr>
          <a:xfrm>
            <a:off x="4038480" y="1295280"/>
            <a:ext cx="914400" cy="762120"/>
          </a:xfrm>
          <a:prstGeom prst="smileyFace">
            <a:avLst>
              <a:gd name="adj" fmla="val 9282"/>
            </a:avLst>
          </a:prstGeom>
          <a:solidFill>
            <a:srgbClr val="ffff00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&quot;No&quot; Symbol 21"/>
          <p:cNvSpPr/>
          <p:nvPr/>
        </p:nvSpPr>
        <p:spPr>
          <a:xfrm>
            <a:off x="6553080" y="990720"/>
            <a:ext cx="1143000" cy="1143000"/>
          </a:xfrm>
          <a:custGeom>
            <a:avLst/>
            <a:gdLst/>
            <a:ahLst/>
            <a:rect l="l" t="t" r="r" b="b"/>
            <a:pathLst>
              <a:path w="1143000" h="1143000">
                <a:moveTo>
                  <a:pt x="0" y="571500"/>
                </a:moveTo>
                <a:cubicBezTo>
                  <a:pt x="0" y="255869"/>
                  <a:pt x="255869" y="0"/>
                  <a:pt x="571500" y="0"/>
                </a:cubicBezTo>
                <a:cubicBezTo>
                  <a:pt x="887131" y="0"/>
                  <a:pt x="1143000" y="255869"/>
                  <a:pt x="1143000" y="571500"/>
                </a:cubicBezTo>
                <a:cubicBezTo>
                  <a:pt x="1143000" y="887131"/>
                  <a:pt x="887131" y="1143000"/>
                  <a:pt x="571500" y="1143000"/>
                </a:cubicBezTo>
                <a:cubicBezTo>
                  <a:pt x="255869" y="1143000"/>
                  <a:pt x="0" y="887131"/>
                  <a:pt x="0" y="571500"/>
                </a:cubicBezTo>
                <a:close/>
                <a:moveTo>
                  <a:pt x="939971" y="872734"/>
                </a:moveTo>
                <a:cubicBezTo>
                  <a:pt x="1094685" y="683487"/>
                  <a:pt x="1080881" y="407809"/>
                  <a:pt x="908036" y="234964"/>
                </a:cubicBezTo>
                <a:cubicBezTo>
                  <a:pt x="735191" y="62119"/>
                  <a:pt x="459513" y="48315"/>
                  <a:pt x="270266" y="203028"/>
                </a:cubicBezTo>
                <a:lnTo>
                  <a:pt x="939971" y="872734"/>
                </a:lnTo>
                <a:close/>
                <a:moveTo>
                  <a:pt x="203029" y="270266"/>
                </a:moveTo>
                <a:cubicBezTo>
                  <a:pt x="48315" y="459513"/>
                  <a:pt x="62119" y="735191"/>
                  <a:pt x="234964" y="908036"/>
                </a:cubicBezTo>
                <a:cubicBezTo>
                  <a:pt x="407809" y="1080881"/>
                  <a:pt x="683487" y="1094685"/>
                  <a:pt x="872734" y="939971"/>
                </a:cubicBezTo>
                <a:lnTo>
                  <a:pt x="203029" y="270266"/>
                </a:lnTo>
                <a:close/>
              </a:path>
            </a:pathLst>
          </a:custGeom>
          <a:solidFill>
            <a:srgbClr val="ff0000">
              <a:alpha val="17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&quot;No&quot; Symbol 22"/>
          <p:cNvSpPr/>
          <p:nvPr/>
        </p:nvSpPr>
        <p:spPr>
          <a:xfrm>
            <a:off x="1143000" y="838080"/>
            <a:ext cx="1143000" cy="1143000"/>
          </a:xfrm>
          <a:custGeom>
            <a:avLst/>
            <a:gdLst/>
            <a:ahLst/>
            <a:rect l="l" t="t" r="r" b="b"/>
            <a:pathLst>
              <a:path w="1143000" h="1143000">
                <a:moveTo>
                  <a:pt x="0" y="571500"/>
                </a:moveTo>
                <a:cubicBezTo>
                  <a:pt x="0" y="255869"/>
                  <a:pt x="255869" y="0"/>
                  <a:pt x="571500" y="0"/>
                </a:cubicBezTo>
                <a:cubicBezTo>
                  <a:pt x="887131" y="0"/>
                  <a:pt x="1143000" y="255869"/>
                  <a:pt x="1143000" y="571500"/>
                </a:cubicBezTo>
                <a:cubicBezTo>
                  <a:pt x="1143000" y="887131"/>
                  <a:pt x="887131" y="1143000"/>
                  <a:pt x="571500" y="1143000"/>
                </a:cubicBezTo>
                <a:cubicBezTo>
                  <a:pt x="255869" y="1143000"/>
                  <a:pt x="0" y="887131"/>
                  <a:pt x="0" y="571500"/>
                </a:cubicBezTo>
                <a:close/>
                <a:moveTo>
                  <a:pt x="939971" y="872734"/>
                </a:moveTo>
                <a:cubicBezTo>
                  <a:pt x="1094685" y="683487"/>
                  <a:pt x="1080881" y="407809"/>
                  <a:pt x="908036" y="234964"/>
                </a:cubicBezTo>
                <a:cubicBezTo>
                  <a:pt x="735191" y="62119"/>
                  <a:pt x="459513" y="48315"/>
                  <a:pt x="270266" y="203028"/>
                </a:cubicBezTo>
                <a:lnTo>
                  <a:pt x="939971" y="872734"/>
                </a:lnTo>
                <a:close/>
                <a:moveTo>
                  <a:pt x="203029" y="270266"/>
                </a:moveTo>
                <a:cubicBezTo>
                  <a:pt x="48315" y="459513"/>
                  <a:pt x="62119" y="735191"/>
                  <a:pt x="234964" y="908036"/>
                </a:cubicBezTo>
                <a:cubicBezTo>
                  <a:pt x="407809" y="1080881"/>
                  <a:pt x="683487" y="1094685"/>
                  <a:pt x="872734" y="939971"/>
                </a:cubicBezTo>
                <a:lnTo>
                  <a:pt x="203029" y="270266"/>
                </a:lnTo>
                <a:close/>
              </a:path>
            </a:pathLst>
          </a:custGeom>
          <a:solidFill>
            <a:srgbClr val="ff0000">
              <a:alpha val="17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152280" y="5486400"/>
            <a:ext cx="29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ved tip from sample before the plunger was all the way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24"/>
          <p:cNvSpPr/>
          <p:nvPr/>
        </p:nvSpPr>
        <p:spPr>
          <a:xfrm>
            <a:off x="5867280" y="5486400"/>
            <a:ext cx="29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kely allowed the plunger to move to home too quick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25"/>
          <p:cNvSpPr/>
          <p:nvPr/>
        </p:nvSpPr>
        <p:spPr>
          <a:xfrm>
            <a:off x="3657600" y="5410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8"/>
          <p:cNvSpPr/>
          <p:nvPr/>
        </p:nvSpPr>
        <p:spPr>
          <a:xfrm>
            <a:off x="3809880" y="4952880"/>
            <a:ext cx="4114800" cy="609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6"/>
          <p:cNvGrpSpPr/>
          <p:nvPr/>
        </p:nvGrpSpPr>
        <p:grpSpPr>
          <a:xfrm>
            <a:off x="533520" y="1371240"/>
            <a:ext cx="2269440" cy="4092840"/>
            <a:chOff x="533520" y="1371240"/>
            <a:chExt cx="2269440" cy="4092840"/>
          </a:xfrm>
        </p:grpSpPr>
        <p:sp>
          <p:nvSpPr>
            <p:cNvPr id="377" name="Can 34"/>
            <p:cNvSpPr/>
            <p:nvPr/>
          </p:nvSpPr>
          <p:spPr>
            <a:xfrm rot="10800000">
              <a:off x="1371240" y="1371240"/>
              <a:ext cx="779400" cy="33012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Can 35"/>
            <p:cNvSpPr/>
            <p:nvPr/>
          </p:nvSpPr>
          <p:spPr>
            <a:xfrm flipV="1">
              <a:off x="1600200" y="1676160"/>
              <a:ext cx="295200" cy="784080"/>
            </a:xfrm>
            <a:prstGeom prst="can">
              <a:avLst>
                <a:gd name="adj" fmla="val 7875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Block Arc 36"/>
            <p:cNvSpPr/>
            <p:nvPr/>
          </p:nvSpPr>
          <p:spPr>
            <a:xfrm>
              <a:off x="533520" y="2327040"/>
              <a:ext cx="1001880" cy="660240"/>
            </a:xfrm>
            <a:custGeom>
              <a:avLst/>
              <a:gdLst/>
              <a:ahLst/>
              <a:rect l="l" t="t" r="r" b="b"/>
              <a:pathLst>
                <a:path w="650665" h="512835">
                  <a:moveTo>
                    <a:pt x="340" y="268129"/>
                  </a:moveTo>
                  <a:cubicBezTo>
                    <a:pt x="-6753" y="145857"/>
                    <a:pt x="96788" y="36681"/>
                    <a:pt x="247584" y="7430"/>
                  </a:cubicBezTo>
                  <a:cubicBezTo>
                    <a:pt x="369856" y="-16288"/>
                    <a:pt x="498514" y="17736"/>
                    <a:pt x="577890" y="94782"/>
                  </a:cubicBezTo>
                  <a:lnTo>
                    <a:pt x="492591" y="149372"/>
                  </a:lnTo>
                  <a:cubicBezTo>
                    <a:pt x="437981" y="107967"/>
                    <a:pt x="355928" y="89862"/>
                    <a:pt x="277055" y="101813"/>
                  </a:cubicBezTo>
                  <a:cubicBezTo>
                    <a:pt x="168337" y="118286"/>
                    <a:pt x="92752" y="187192"/>
                    <a:pt x="98500" y="264592"/>
                  </a:cubicBezTo>
                  <a:lnTo>
                    <a:pt x="340" y="268129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Diagonal Stripe 37"/>
            <p:cNvSpPr/>
            <p:nvPr/>
          </p:nvSpPr>
          <p:spPr>
            <a:xfrm rot="13935600">
              <a:off x="2235240" y="2302920"/>
              <a:ext cx="474480" cy="468360"/>
            </a:xfrm>
            <a:custGeom>
              <a:avLst/>
              <a:gdLst/>
              <a:ahLst/>
              <a:rect l="l" t="t" r="r" b="b"/>
              <a:pathLst>
                <a:path w="368600" h="304194">
                  <a:moveTo>
                    <a:pt x="0" y="192655"/>
                  </a:moveTo>
                  <a:lnTo>
                    <a:pt x="233445" y="0"/>
                  </a:lnTo>
                  <a:lnTo>
                    <a:pt x="368600" y="0"/>
                  </a:lnTo>
                  <a:lnTo>
                    <a:pt x="0" y="304194"/>
                  </a:lnTo>
                  <a:lnTo>
                    <a:pt x="0" y="192655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ounded Rectangle 38"/>
            <p:cNvSpPr/>
            <p:nvPr/>
          </p:nvSpPr>
          <p:spPr>
            <a:xfrm flipH="1">
              <a:off x="2092680" y="2574720"/>
              <a:ext cx="333360" cy="5778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577800"/>
                <a:gd name="textAreaBottom" fmla="*/ 561600 h 577800"/>
              </a:gdLst>
              <a:ahLst/>
              <a:rect l="textAreaLeft" t="textAreaTop" r="textAreaRight" b="textAreaBottom"/>
              <a:pathLst>
                <a:path w="21600" h="37421">
                  <a:moveTo>
                    <a:pt x="3600" y="0"/>
                  </a:moveTo>
                  <a:arcTo wR="3600" hR="3600" stAng="16200000" swAng="-5400000"/>
                  <a:lnTo>
                    <a:pt x="0" y="33821"/>
                  </a:lnTo>
                  <a:arcTo wR="3600" hR="3600" stAng="10800000" swAng="-5400000"/>
                  <a:lnTo>
                    <a:pt x="18000" y="374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ounded Rectangle 39"/>
            <p:cNvSpPr/>
            <p:nvPr/>
          </p:nvSpPr>
          <p:spPr>
            <a:xfrm>
              <a:off x="1312920" y="2327040"/>
              <a:ext cx="890640" cy="3137040"/>
            </a:xfrm>
            <a:custGeom>
              <a:avLst/>
              <a:gdLst>
                <a:gd name="textAreaLeft" fmla="*/ 43200 w 890640"/>
                <a:gd name="textAreaRight" fmla="*/ 847440 w 890640"/>
                <a:gd name="textAreaTop" fmla="*/ 43200 h 3137040"/>
                <a:gd name="textAreaBottom" fmla="*/ 3093840 h 3137040"/>
              </a:gdLst>
              <a:ahLst/>
              <a:rect l="textAreaLeft" t="textAreaTop" r="textAreaRight" b="textAreaBottom"/>
              <a:pathLst>
                <a:path w="21600" h="76058">
                  <a:moveTo>
                    <a:pt x="3600" y="0"/>
                  </a:moveTo>
                  <a:arcTo wR="3600" hR="3600" stAng="16200000" swAng="-5400000"/>
                  <a:lnTo>
                    <a:pt x="0" y="72458"/>
                  </a:lnTo>
                  <a:arcTo wR="3600" hR="3600" stAng="10800000" swAng="-5400000"/>
                  <a:lnTo>
                    <a:pt x="18000" y="760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ounded Rectangle 40"/>
            <p:cNvSpPr/>
            <p:nvPr/>
          </p:nvSpPr>
          <p:spPr>
            <a:xfrm>
              <a:off x="2203560" y="2987640"/>
              <a:ext cx="333360" cy="23940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2394000"/>
                <a:gd name="textAreaBottom" fmla="*/ 2377800 h 2394000"/>
              </a:gdLst>
              <a:ahLst/>
              <a:rect l="textAreaLeft" t="textAreaTop" r="textAreaRight" b="textAreaBottom"/>
              <a:pathLst>
                <a:path w="21600" h="154975">
                  <a:moveTo>
                    <a:pt x="3600" y="0"/>
                  </a:moveTo>
                  <a:arcTo wR="3600" hR="3600" stAng="16200000" swAng="-5400000"/>
                  <a:lnTo>
                    <a:pt x="0" y="151375"/>
                  </a:lnTo>
                  <a:arcTo wR="3600" hR="3600" stAng="10800000" swAng="-5400000"/>
                  <a:lnTo>
                    <a:pt x="18000" y="154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lowchart: Decision 41"/>
            <p:cNvSpPr/>
            <p:nvPr/>
          </p:nvSpPr>
          <p:spPr>
            <a:xfrm>
              <a:off x="1201680" y="2492280"/>
              <a:ext cx="222120" cy="280656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Box 43"/>
            <p:cNvSpPr/>
            <p:nvPr/>
          </p:nvSpPr>
          <p:spPr>
            <a:xfrm rot="16200000">
              <a:off x="1362600" y="3771720"/>
              <a:ext cx="883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TextBox 15"/>
          <p:cNvSpPr/>
          <p:nvPr/>
        </p:nvSpPr>
        <p:spPr>
          <a:xfrm>
            <a:off x="37339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livering the S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9"/>
          <p:cNvSpPr/>
          <p:nvPr/>
        </p:nvSpPr>
        <p:spPr>
          <a:xfrm>
            <a:off x="5410080" y="129528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 FOUR – insert tip into the area you wish to deliver your sample. (in this case a gel for DNA fingerprinting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ounded Rectangle 29"/>
          <p:cNvSpPr/>
          <p:nvPr/>
        </p:nvSpPr>
        <p:spPr>
          <a:xfrm>
            <a:off x="434340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23"/>
          <p:cNvGrpSpPr/>
          <p:nvPr/>
        </p:nvGrpSpPr>
        <p:grpSpPr>
          <a:xfrm>
            <a:off x="4222440" y="2133360"/>
            <a:ext cx="577800" cy="3124440"/>
            <a:chOff x="4222440" y="2133360"/>
            <a:chExt cx="577800" cy="3124440"/>
          </a:xfrm>
        </p:grpSpPr>
        <p:grpSp>
          <p:nvGrpSpPr>
            <p:cNvPr id="390" name="Group 17"/>
            <p:cNvGrpSpPr/>
            <p:nvPr/>
          </p:nvGrpSpPr>
          <p:grpSpPr>
            <a:xfrm>
              <a:off x="4222440" y="2133360"/>
              <a:ext cx="577800" cy="3124440"/>
              <a:chOff x="4222440" y="2133360"/>
              <a:chExt cx="577800" cy="3124440"/>
            </a:xfrm>
          </p:grpSpPr>
          <p:sp>
            <p:nvSpPr>
              <p:cNvPr id="391" name="Trapezoid 33"/>
              <p:cNvSpPr/>
              <p:nvPr/>
            </p:nvSpPr>
            <p:spPr>
              <a:xfrm rot="10800000">
                <a:off x="4222440" y="2133360"/>
                <a:ext cx="577800" cy="641160"/>
              </a:xfrm>
              <a:custGeom>
                <a:avLst/>
                <a:gdLst/>
                <a:ahLst/>
                <a:rect l="l" t="t" r="r" b="b"/>
                <a:pathLst>
                  <a:path w="578380" h="641350">
                    <a:moveTo>
                      <a:pt x="0" y="641350"/>
                    </a:moveTo>
                    <a:lnTo>
                      <a:pt x="144595" y="0"/>
                    </a:lnTo>
                    <a:lnTo>
                      <a:pt x="433785" y="0"/>
                    </a:lnTo>
                    <a:lnTo>
                      <a:pt x="578380" y="641350"/>
                    </a:lnTo>
                    <a:lnTo>
                      <a:pt x="0" y="641350"/>
                    </a:lnTo>
                    <a:close/>
                  </a:path>
                </a:pathLst>
              </a:custGeom>
              <a:solidFill>
                <a:srgbClr val="e6e0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rapezoid 42"/>
              <p:cNvSpPr/>
              <p:nvPr/>
            </p:nvSpPr>
            <p:spPr>
              <a:xfrm rot="10800000">
                <a:off x="4451040" y="4191120"/>
                <a:ext cx="144360" cy="257040"/>
              </a:xfrm>
              <a:custGeom>
                <a:avLst/>
                <a:gdLst/>
                <a:ahLst/>
                <a:rect l="l" t="t" r="r" b="b"/>
                <a:pathLst>
                  <a:path w="144596" h="257175">
                    <a:moveTo>
                      <a:pt x="0" y="257175"/>
                    </a:moveTo>
                    <a:lnTo>
                      <a:pt x="36149" y="0"/>
                    </a:lnTo>
                    <a:lnTo>
                      <a:pt x="108447" y="0"/>
                    </a:lnTo>
                    <a:lnTo>
                      <a:pt x="144596" y="257175"/>
                    </a:lnTo>
                    <a:lnTo>
                      <a:pt x="0" y="257175"/>
                    </a:lnTo>
                    <a:close/>
                  </a:path>
                </a:pathLst>
              </a:custGeom>
              <a:solidFill>
                <a:srgbClr val="c6d9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rapezoid 44"/>
              <p:cNvSpPr/>
              <p:nvPr/>
            </p:nvSpPr>
            <p:spPr>
              <a:xfrm rot="10800000">
                <a:off x="4374720" y="2666880"/>
                <a:ext cx="289080" cy="1603440"/>
              </a:xfrm>
              <a:custGeom>
                <a:avLst/>
                <a:gdLst/>
                <a:ahLst/>
                <a:rect l="l" t="t" r="r" b="b"/>
                <a:pathLst>
                  <a:path w="289190" h="1603375">
                    <a:moveTo>
                      <a:pt x="0" y="1603375"/>
                    </a:moveTo>
                    <a:lnTo>
                      <a:pt x="56230" y="0"/>
                    </a:lnTo>
                    <a:lnTo>
                      <a:pt x="232960" y="0"/>
                    </a:lnTo>
                    <a:lnTo>
                      <a:pt x="289190" y="1603375"/>
                    </a:lnTo>
                    <a:lnTo>
                      <a:pt x="0" y="1603375"/>
                    </a:lnTo>
                    <a:close/>
                  </a:path>
                </a:pathLst>
              </a:custGeom>
              <a:solidFill>
                <a:srgbClr val="e6e0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rapezoid 45"/>
              <p:cNvSpPr/>
              <p:nvPr/>
            </p:nvSpPr>
            <p:spPr>
              <a:xfrm rot="10800000">
                <a:off x="4374720" y="4038840"/>
                <a:ext cx="304920" cy="1218960"/>
              </a:xfrm>
              <a:custGeom>
                <a:avLst/>
                <a:gdLst/>
                <a:ahLst/>
                <a:rect l="l" t="t" r="r" b="b"/>
                <a:pathLst>
                  <a:path w="305080" h="1219200">
                    <a:moveTo>
                      <a:pt x="0" y="1219200"/>
                    </a:moveTo>
                    <a:lnTo>
                      <a:pt x="125083" y="0"/>
                    </a:lnTo>
                    <a:lnTo>
                      <a:pt x="179997" y="0"/>
                    </a:lnTo>
                    <a:lnTo>
                      <a:pt x="305080" y="1219200"/>
                    </a:lnTo>
                    <a:lnTo>
                      <a:pt x="0" y="1219200"/>
                    </a:lnTo>
                    <a:close/>
                  </a:path>
                </a:pathLst>
              </a:custGeom>
              <a:solidFill>
                <a:srgbClr val="ddd9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Trapezoid 27"/>
            <p:cNvSpPr/>
            <p:nvPr/>
          </p:nvSpPr>
          <p:spPr>
            <a:xfrm rot="10800000">
              <a:off x="4419360" y="4495680"/>
              <a:ext cx="228600" cy="685800"/>
            </a:xfrm>
            <a:custGeom>
              <a:avLst/>
              <a:gdLst/>
              <a:ahLst/>
              <a:rect l="l" t="t" r="r" b="b"/>
              <a:pathLst>
                <a:path w="228810" h="685800">
                  <a:moveTo>
                    <a:pt x="0" y="685800"/>
                  </a:moveTo>
                  <a:lnTo>
                    <a:pt x="93812" y="0"/>
                  </a:lnTo>
                  <a:lnTo>
                    <a:pt x="134998" y="0"/>
                  </a:lnTo>
                  <a:lnTo>
                    <a:pt x="228810" y="685800"/>
                  </a:lnTo>
                  <a:lnTo>
                    <a:pt x="0" y="685800"/>
                  </a:lnTo>
                  <a:close/>
                </a:path>
              </a:pathLst>
            </a:cu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Rounded Rectangle 30"/>
          <p:cNvSpPr/>
          <p:nvPr/>
        </p:nvSpPr>
        <p:spPr>
          <a:xfrm>
            <a:off x="4952880" y="4876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ounded Rectangle 31"/>
          <p:cNvSpPr/>
          <p:nvPr/>
        </p:nvSpPr>
        <p:spPr>
          <a:xfrm>
            <a:off x="556272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ounded Rectangle 32"/>
          <p:cNvSpPr/>
          <p:nvPr/>
        </p:nvSpPr>
        <p:spPr>
          <a:xfrm>
            <a:off x="617220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ounded Rectangle 46"/>
          <p:cNvSpPr/>
          <p:nvPr/>
        </p:nvSpPr>
        <p:spPr>
          <a:xfrm>
            <a:off x="6781680" y="4876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8"/>
          <p:cNvSpPr/>
          <p:nvPr/>
        </p:nvSpPr>
        <p:spPr>
          <a:xfrm>
            <a:off x="259920" y="617220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EEP the pipette VERTICAL at 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8"/>
          <p:cNvSpPr/>
          <p:nvPr/>
        </p:nvSpPr>
        <p:spPr>
          <a:xfrm>
            <a:off x="3809880" y="4952880"/>
            <a:ext cx="4114800" cy="609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6"/>
          <p:cNvGrpSpPr/>
          <p:nvPr/>
        </p:nvGrpSpPr>
        <p:grpSpPr>
          <a:xfrm>
            <a:off x="533520" y="1294920"/>
            <a:ext cx="2269440" cy="4169160"/>
            <a:chOff x="533520" y="1294920"/>
            <a:chExt cx="2269440" cy="4169160"/>
          </a:xfrm>
        </p:grpSpPr>
        <p:sp>
          <p:nvSpPr>
            <p:cNvPr id="403" name="Can 34"/>
            <p:cNvSpPr/>
            <p:nvPr/>
          </p:nvSpPr>
          <p:spPr>
            <a:xfrm rot="10800000">
              <a:off x="1371240" y="1294920"/>
              <a:ext cx="779400" cy="33012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Can 35"/>
            <p:cNvSpPr/>
            <p:nvPr/>
          </p:nvSpPr>
          <p:spPr>
            <a:xfrm flipV="1">
              <a:off x="1600200" y="1523160"/>
              <a:ext cx="304560" cy="990360"/>
            </a:xfrm>
            <a:prstGeom prst="can">
              <a:avLst>
                <a:gd name="adj" fmla="val 6435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Block Arc 36"/>
            <p:cNvSpPr/>
            <p:nvPr/>
          </p:nvSpPr>
          <p:spPr>
            <a:xfrm>
              <a:off x="533520" y="2327040"/>
              <a:ext cx="1001880" cy="660240"/>
            </a:xfrm>
            <a:custGeom>
              <a:avLst/>
              <a:gdLst/>
              <a:ahLst/>
              <a:rect l="l" t="t" r="r" b="b"/>
              <a:pathLst>
                <a:path w="650665" h="512835">
                  <a:moveTo>
                    <a:pt x="340" y="268129"/>
                  </a:moveTo>
                  <a:cubicBezTo>
                    <a:pt x="-6753" y="145857"/>
                    <a:pt x="96788" y="36681"/>
                    <a:pt x="247584" y="7430"/>
                  </a:cubicBezTo>
                  <a:cubicBezTo>
                    <a:pt x="369856" y="-16288"/>
                    <a:pt x="498514" y="17736"/>
                    <a:pt x="577890" y="94782"/>
                  </a:cubicBezTo>
                  <a:lnTo>
                    <a:pt x="492591" y="149372"/>
                  </a:lnTo>
                  <a:cubicBezTo>
                    <a:pt x="437981" y="107967"/>
                    <a:pt x="355928" y="89862"/>
                    <a:pt x="277055" y="101813"/>
                  </a:cubicBezTo>
                  <a:cubicBezTo>
                    <a:pt x="168337" y="118286"/>
                    <a:pt x="92752" y="187192"/>
                    <a:pt x="98500" y="264592"/>
                  </a:cubicBezTo>
                  <a:lnTo>
                    <a:pt x="340" y="268129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Diagonal Stripe 37"/>
            <p:cNvSpPr/>
            <p:nvPr/>
          </p:nvSpPr>
          <p:spPr>
            <a:xfrm rot="13935600">
              <a:off x="2235240" y="2302920"/>
              <a:ext cx="474480" cy="468360"/>
            </a:xfrm>
            <a:custGeom>
              <a:avLst/>
              <a:gdLst/>
              <a:ahLst/>
              <a:rect l="l" t="t" r="r" b="b"/>
              <a:pathLst>
                <a:path w="368600" h="304194">
                  <a:moveTo>
                    <a:pt x="0" y="192655"/>
                  </a:moveTo>
                  <a:lnTo>
                    <a:pt x="233445" y="0"/>
                  </a:lnTo>
                  <a:lnTo>
                    <a:pt x="368600" y="0"/>
                  </a:lnTo>
                  <a:lnTo>
                    <a:pt x="0" y="304194"/>
                  </a:lnTo>
                  <a:lnTo>
                    <a:pt x="0" y="192655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ounded Rectangle 38"/>
            <p:cNvSpPr/>
            <p:nvPr/>
          </p:nvSpPr>
          <p:spPr>
            <a:xfrm flipH="1">
              <a:off x="2092680" y="2574720"/>
              <a:ext cx="333360" cy="5778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577800"/>
                <a:gd name="textAreaBottom" fmla="*/ 561600 h 577800"/>
              </a:gdLst>
              <a:ahLst/>
              <a:rect l="textAreaLeft" t="textAreaTop" r="textAreaRight" b="textAreaBottom"/>
              <a:pathLst>
                <a:path w="21600" h="37421">
                  <a:moveTo>
                    <a:pt x="3600" y="0"/>
                  </a:moveTo>
                  <a:arcTo wR="3600" hR="3600" stAng="16200000" swAng="-5400000"/>
                  <a:lnTo>
                    <a:pt x="0" y="33821"/>
                  </a:lnTo>
                  <a:arcTo wR="3600" hR="3600" stAng="10800000" swAng="-5400000"/>
                  <a:lnTo>
                    <a:pt x="18000" y="374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ounded Rectangle 39"/>
            <p:cNvSpPr/>
            <p:nvPr/>
          </p:nvSpPr>
          <p:spPr>
            <a:xfrm>
              <a:off x="1312920" y="2327040"/>
              <a:ext cx="890640" cy="3137040"/>
            </a:xfrm>
            <a:custGeom>
              <a:avLst/>
              <a:gdLst>
                <a:gd name="textAreaLeft" fmla="*/ 43200 w 890640"/>
                <a:gd name="textAreaRight" fmla="*/ 847440 w 890640"/>
                <a:gd name="textAreaTop" fmla="*/ 43200 h 3137040"/>
                <a:gd name="textAreaBottom" fmla="*/ 3093840 h 3137040"/>
              </a:gdLst>
              <a:ahLst/>
              <a:rect l="textAreaLeft" t="textAreaTop" r="textAreaRight" b="textAreaBottom"/>
              <a:pathLst>
                <a:path w="21600" h="76058">
                  <a:moveTo>
                    <a:pt x="3600" y="0"/>
                  </a:moveTo>
                  <a:arcTo wR="3600" hR="3600" stAng="16200000" swAng="-5400000"/>
                  <a:lnTo>
                    <a:pt x="0" y="72458"/>
                  </a:lnTo>
                  <a:arcTo wR="3600" hR="3600" stAng="10800000" swAng="-5400000"/>
                  <a:lnTo>
                    <a:pt x="18000" y="760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ounded Rectangle 40"/>
            <p:cNvSpPr/>
            <p:nvPr/>
          </p:nvSpPr>
          <p:spPr>
            <a:xfrm>
              <a:off x="2203560" y="2987640"/>
              <a:ext cx="333360" cy="23940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2394000"/>
                <a:gd name="textAreaBottom" fmla="*/ 2377800 h 2394000"/>
              </a:gdLst>
              <a:ahLst/>
              <a:rect l="textAreaLeft" t="textAreaTop" r="textAreaRight" b="textAreaBottom"/>
              <a:pathLst>
                <a:path w="21600" h="154975">
                  <a:moveTo>
                    <a:pt x="3600" y="0"/>
                  </a:moveTo>
                  <a:arcTo wR="3600" hR="3600" stAng="16200000" swAng="-5400000"/>
                  <a:lnTo>
                    <a:pt x="0" y="151375"/>
                  </a:lnTo>
                  <a:arcTo wR="3600" hR="3600" stAng="10800000" swAng="-5400000"/>
                  <a:lnTo>
                    <a:pt x="18000" y="154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lowchart: Decision 41"/>
            <p:cNvSpPr/>
            <p:nvPr/>
          </p:nvSpPr>
          <p:spPr>
            <a:xfrm>
              <a:off x="1201680" y="2492280"/>
              <a:ext cx="222120" cy="2806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Box 43"/>
            <p:cNvSpPr/>
            <p:nvPr/>
          </p:nvSpPr>
          <p:spPr>
            <a:xfrm rot="16200000">
              <a:off x="1362600" y="3771720"/>
              <a:ext cx="883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TextBox 15"/>
          <p:cNvSpPr/>
          <p:nvPr/>
        </p:nvSpPr>
        <p:spPr>
          <a:xfrm>
            <a:off x="37339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livering the S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9"/>
          <p:cNvSpPr/>
          <p:nvPr/>
        </p:nvSpPr>
        <p:spPr>
          <a:xfrm>
            <a:off x="5410080" y="1295280"/>
            <a:ext cx="32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 FIVE – depress the plunger slowly to the first stop, then continue to the second stop, this will evacuate the entire contents of the tip. And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ounded Rectangle 29"/>
          <p:cNvSpPr/>
          <p:nvPr/>
        </p:nvSpPr>
        <p:spPr>
          <a:xfrm>
            <a:off x="434340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17"/>
          <p:cNvGrpSpPr/>
          <p:nvPr/>
        </p:nvGrpSpPr>
        <p:grpSpPr>
          <a:xfrm>
            <a:off x="4222440" y="2133360"/>
            <a:ext cx="577800" cy="3124440"/>
            <a:chOff x="4222440" y="2133360"/>
            <a:chExt cx="577800" cy="3124440"/>
          </a:xfrm>
        </p:grpSpPr>
        <p:sp>
          <p:nvSpPr>
            <p:cNvPr id="416" name="Trapezoid 33"/>
            <p:cNvSpPr/>
            <p:nvPr/>
          </p:nvSpPr>
          <p:spPr>
            <a:xfrm rot="10800000">
              <a:off x="4222440" y="2133360"/>
              <a:ext cx="577800" cy="641160"/>
            </a:xfrm>
            <a:custGeom>
              <a:avLst/>
              <a:gdLst/>
              <a:ahLst/>
              <a:rect l="l" t="t" r="r" b="b"/>
              <a:pathLst>
                <a:path w="578380" h="641350">
                  <a:moveTo>
                    <a:pt x="0" y="641350"/>
                  </a:moveTo>
                  <a:lnTo>
                    <a:pt x="144595" y="0"/>
                  </a:lnTo>
                  <a:lnTo>
                    <a:pt x="433785" y="0"/>
                  </a:lnTo>
                  <a:lnTo>
                    <a:pt x="578380" y="641350"/>
                  </a:lnTo>
                  <a:lnTo>
                    <a:pt x="0" y="64135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rapezoid 42"/>
            <p:cNvSpPr/>
            <p:nvPr/>
          </p:nvSpPr>
          <p:spPr>
            <a:xfrm rot="10800000">
              <a:off x="4451040" y="4191120"/>
              <a:ext cx="144360" cy="257040"/>
            </a:xfrm>
            <a:custGeom>
              <a:avLst/>
              <a:gdLst/>
              <a:ahLst/>
              <a:rect l="l" t="t" r="r" b="b"/>
              <a:pathLst>
                <a:path w="144596" h="257175">
                  <a:moveTo>
                    <a:pt x="0" y="257175"/>
                  </a:moveTo>
                  <a:lnTo>
                    <a:pt x="36149" y="0"/>
                  </a:lnTo>
                  <a:lnTo>
                    <a:pt x="108447" y="0"/>
                  </a:lnTo>
                  <a:lnTo>
                    <a:pt x="144596" y="257175"/>
                  </a:lnTo>
                  <a:lnTo>
                    <a:pt x="0" y="257175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rapezoid 44"/>
            <p:cNvSpPr/>
            <p:nvPr/>
          </p:nvSpPr>
          <p:spPr>
            <a:xfrm rot="10800000">
              <a:off x="4374720" y="2666880"/>
              <a:ext cx="289080" cy="1603440"/>
            </a:xfrm>
            <a:custGeom>
              <a:avLst/>
              <a:gdLst/>
              <a:ahLst/>
              <a:rect l="l" t="t" r="r" b="b"/>
              <a:pathLst>
                <a:path w="289190" h="1603375">
                  <a:moveTo>
                    <a:pt x="0" y="1603375"/>
                  </a:moveTo>
                  <a:lnTo>
                    <a:pt x="56230" y="0"/>
                  </a:lnTo>
                  <a:lnTo>
                    <a:pt x="232960" y="0"/>
                  </a:lnTo>
                  <a:lnTo>
                    <a:pt x="289190" y="1603375"/>
                  </a:lnTo>
                  <a:lnTo>
                    <a:pt x="0" y="1603375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rapezoid 45"/>
            <p:cNvSpPr/>
            <p:nvPr/>
          </p:nvSpPr>
          <p:spPr>
            <a:xfrm rot="10800000">
              <a:off x="4374720" y="4038840"/>
              <a:ext cx="304920" cy="1218960"/>
            </a:xfrm>
            <a:custGeom>
              <a:avLst/>
              <a:gdLst/>
              <a:ahLst/>
              <a:rect l="l" t="t" r="r" b="b"/>
              <a:pathLst>
                <a:path w="305080" h="1219200">
                  <a:moveTo>
                    <a:pt x="0" y="1219200"/>
                  </a:moveTo>
                  <a:lnTo>
                    <a:pt x="125083" y="0"/>
                  </a:lnTo>
                  <a:lnTo>
                    <a:pt x="179997" y="0"/>
                  </a:lnTo>
                  <a:lnTo>
                    <a:pt x="305080" y="1219200"/>
                  </a:lnTo>
                  <a:lnTo>
                    <a:pt x="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ounded Rectangle 30"/>
          <p:cNvSpPr/>
          <p:nvPr/>
        </p:nvSpPr>
        <p:spPr>
          <a:xfrm>
            <a:off x="4952880" y="4876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ounded Rectangle 31"/>
          <p:cNvSpPr/>
          <p:nvPr/>
        </p:nvSpPr>
        <p:spPr>
          <a:xfrm>
            <a:off x="556272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ounded Rectangle 32"/>
          <p:cNvSpPr/>
          <p:nvPr/>
        </p:nvSpPr>
        <p:spPr>
          <a:xfrm>
            <a:off x="617220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ounded Rectangle 46"/>
          <p:cNvSpPr/>
          <p:nvPr/>
        </p:nvSpPr>
        <p:spPr>
          <a:xfrm>
            <a:off x="6781680" y="4876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Straight Arrow Connector 47"/>
          <p:cNvCxnSpPr/>
          <p:nvPr/>
        </p:nvCxnSpPr>
        <p:spPr>
          <a:xfrm flipH="1">
            <a:off x="2361960" y="1371240"/>
            <a:ext cx="2160" cy="61020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25" name="Straight Arrow Connector 49"/>
          <p:cNvCxnSpPr/>
          <p:nvPr/>
        </p:nvCxnSpPr>
        <p:spPr>
          <a:xfrm flipH="1">
            <a:off x="2361960" y="1980720"/>
            <a:ext cx="2160" cy="30420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26" name="Can 52"/>
          <p:cNvSpPr/>
          <p:nvPr/>
        </p:nvSpPr>
        <p:spPr>
          <a:xfrm rot="10800000">
            <a:off x="1371240" y="1981080"/>
            <a:ext cx="779400" cy="330480"/>
          </a:xfrm>
          <a:prstGeom prst="can">
            <a:avLst>
              <a:gd name="adj" fmla="val 25000"/>
            </a:avLst>
          </a:prstGeom>
          <a:solidFill>
            <a:srgbClr val="f79646">
              <a:alpha val="25000"/>
            </a:srgbClr>
          </a:solidFill>
          <a:ln w="25560">
            <a:solidFill>
              <a:srgbClr val="385d8a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Can 53"/>
          <p:cNvSpPr/>
          <p:nvPr/>
        </p:nvSpPr>
        <p:spPr>
          <a:xfrm rot="10800000">
            <a:off x="1371240" y="1676160"/>
            <a:ext cx="779400" cy="330120"/>
          </a:xfrm>
          <a:prstGeom prst="can">
            <a:avLst>
              <a:gd name="adj" fmla="val 25000"/>
            </a:avLst>
          </a:prstGeom>
          <a:solidFill>
            <a:srgbClr val="f79646">
              <a:alpha val="25000"/>
            </a:srgbClr>
          </a:solidFill>
          <a:ln w="25560">
            <a:solidFill>
              <a:srgbClr val="385d8a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54"/>
          <p:cNvSpPr/>
          <p:nvPr/>
        </p:nvSpPr>
        <p:spPr>
          <a:xfrm>
            <a:off x="2590920" y="2057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ounded Rectangle 55"/>
          <p:cNvSpPr/>
          <p:nvPr/>
        </p:nvSpPr>
        <p:spPr>
          <a:xfrm>
            <a:off x="4343400" y="5029200"/>
            <a:ext cx="380880" cy="3049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Straight Arrow Connector 56"/>
          <p:cNvCxnSpPr/>
          <p:nvPr/>
        </p:nvCxnSpPr>
        <p:spPr>
          <a:xfrm flipH="1">
            <a:off x="4494960" y="4648320"/>
            <a:ext cx="2520" cy="30384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31" name="Rectangle 28"/>
          <p:cNvSpPr/>
          <p:nvPr/>
        </p:nvSpPr>
        <p:spPr>
          <a:xfrm>
            <a:off x="259920" y="617220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EEP the pipette VERTICAL at 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ounded Rectangle 24" descr=""/>
          <p:cNvPicPr/>
          <p:nvPr/>
        </p:nvPicPr>
        <p:blipFill>
          <a:blip r:embed="rId1"/>
          <a:stretch/>
        </p:blipFill>
        <p:spPr>
          <a:xfrm>
            <a:off x="2262240" y="1523880"/>
            <a:ext cx="493560" cy="22129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16"/>
          <p:cNvGrpSpPr/>
          <p:nvPr/>
        </p:nvGrpSpPr>
        <p:grpSpPr>
          <a:xfrm>
            <a:off x="1219320" y="228600"/>
            <a:ext cx="1587960" cy="6248520"/>
            <a:chOff x="1219320" y="228600"/>
            <a:chExt cx="1587960" cy="6248520"/>
          </a:xfrm>
        </p:grpSpPr>
        <p:sp>
          <p:nvSpPr>
            <p:cNvPr id="57" name="Trapezoid 12"/>
            <p:cNvSpPr/>
            <p:nvPr/>
          </p:nvSpPr>
          <p:spPr>
            <a:xfrm rot="10800000">
              <a:off x="1828440" y="3657600"/>
              <a:ext cx="609480" cy="761760"/>
            </a:xfrm>
            <a:custGeom>
              <a:avLst/>
              <a:gdLst/>
              <a:ahLst/>
              <a:rect l="l" t="t" r="r" b="b"/>
              <a:pathLst>
                <a:path w="609754" h="762000">
                  <a:moveTo>
                    <a:pt x="0" y="762000"/>
                  </a:moveTo>
                  <a:lnTo>
                    <a:pt x="152439" y="0"/>
                  </a:lnTo>
                  <a:lnTo>
                    <a:pt x="457316" y="0"/>
                  </a:lnTo>
                  <a:lnTo>
                    <a:pt x="609754" y="762000"/>
                  </a:lnTo>
                  <a:lnTo>
                    <a:pt x="0" y="76200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Can 4"/>
            <p:cNvSpPr/>
            <p:nvPr/>
          </p:nvSpPr>
          <p:spPr>
            <a:xfrm rot="10800000">
              <a:off x="1828800" y="228240"/>
              <a:ext cx="533520" cy="30456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Can 5"/>
            <p:cNvSpPr/>
            <p:nvPr/>
          </p:nvSpPr>
          <p:spPr>
            <a:xfrm flipV="1">
              <a:off x="1981440" y="457200"/>
              <a:ext cx="228600" cy="457200"/>
            </a:xfrm>
            <a:prstGeom prst="can">
              <a:avLst>
                <a:gd name="adj" fmla="val 12504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Block Arc 6"/>
            <p:cNvSpPr/>
            <p:nvPr/>
          </p:nvSpPr>
          <p:spPr>
            <a:xfrm>
              <a:off x="1219320" y="838080"/>
              <a:ext cx="685800" cy="609480"/>
            </a:xfrm>
            <a:custGeom>
              <a:avLst/>
              <a:gdLst/>
              <a:ahLst/>
              <a:rect l="l" t="t" r="r" b="b"/>
              <a:pathLst>
                <a:path w="685973" h="609600">
                  <a:moveTo>
                    <a:pt x="282" y="317150"/>
                  </a:moveTo>
                  <a:cubicBezTo>
                    <a:pt x="-6172" y="175717"/>
                    <a:pt x="97792" y="48948"/>
                    <a:pt x="251276" y="11099"/>
                  </a:cubicBezTo>
                  <a:cubicBezTo>
                    <a:pt x="389685" y="-23033"/>
                    <a:pt x="537366" y="23094"/>
                    <a:pt x="621309" y="126675"/>
                  </a:cubicBezTo>
                  <a:lnTo>
                    <a:pt x="522264" y="190062"/>
                  </a:lnTo>
                  <a:cubicBezTo>
                    <a:pt x="466911" y="130303"/>
                    <a:pt x="373965" y="103810"/>
                    <a:pt x="286142" y="122758"/>
                  </a:cubicBezTo>
                  <a:cubicBezTo>
                    <a:pt x="182836" y="145047"/>
                    <a:pt x="112316" y="224312"/>
                    <a:pt x="116939" y="312946"/>
                  </a:cubicBezTo>
                  <a:lnTo>
                    <a:pt x="282" y="317150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Diagonal Stripe 7"/>
            <p:cNvSpPr/>
            <p:nvPr/>
          </p:nvSpPr>
          <p:spPr>
            <a:xfrm rot="13935600">
              <a:off x="2327040" y="872640"/>
              <a:ext cx="438120" cy="320400"/>
            </a:xfrm>
            <a:custGeom>
              <a:avLst/>
              <a:gdLst/>
              <a:ahLst/>
              <a:rect l="l" t="t" r="r" b="b"/>
              <a:pathLst>
                <a:path w="438150" h="320756">
                  <a:moveTo>
                    <a:pt x="0" y="203144"/>
                  </a:moveTo>
                  <a:lnTo>
                    <a:pt x="277494" y="0"/>
                  </a:lnTo>
                  <a:lnTo>
                    <a:pt x="438150" y="0"/>
                  </a:lnTo>
                  <a:lnTo>
                    <a:pt x="0" y="320756"/>
                  </a:lnTo>
                  <a:lnTo>
                    <a:pt x="0" y="203144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ounded Rectangle 10"/>
            <p:cNvSpPr/>
            <p:nvPr/>
          </p:nvSpPr>
          <p:spPr>
            <a:xfrm flipH="1">
              <a:off x="2285640" y="1066680"/>
              <a:ext cx="228600" cy="53316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533160"/>
                <a:gd name="textAreaBottom" fmla="*/ 522000 h 533160"/>
              </a:gdLst>
              <a:ahLst/>
              <a:rect l="textAreaLeft" t="textAreaTop" r="textAreaRight" b="textAreaBottom"/>
              <a:pathLst>
                <a:path w="21600" h="50332">
                  <a:moveTo>
                    <a:pt x="3600" y="0"/>
                  </a:moveTo>
                  <a:arcTo wR="3600" hR="3600" stAng="16200000" swAng="-5400000"/>
                  <a:lnTo>
                    <a:pt x="0" y="46732"/>
                  </a:lnTo>
                  <a:arcTo wR="3600" hR="3600" stAng="10800000" swAng="-5400000"/>
                  <a:lnTo>
                    <a:pt x="18000" y="503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ounded Rectangle 8"/>
            <p:cNvSpPr/>
            <p:nvPr/>
          </p:nvSpPr>
          <p:spPr>
            <a:xfrm>
              <a:off x="1752840" y="838080"/>
              <a:ext cx="609480" cy="289548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2895480"/>
                <a:gd name="textAreaBottom" fmla="*/ 2865960 h 2895480"/>
              </a:gdLst>
              <a:ahLst/>
              <a:rect l="textAreaLeft" t="textAreaTop" r="textAreaRight" b="textAreaBottom"/>
              <a:pathLst>
                <a:path w="21600" h="102568">
                  <a:moveTo>
                    <a:pt x="3600" y="0"/>
                  </a:moveTo>
                  <a:arcTo wR="3600" hR="3600" stAng="16200000" swAng="-5400000"/>
                  <a:lnTo>
                    <a:pt x="0" y="98968"/>
                  </a:lnTo>
                  <a:arcTo wR="3600" hR="3600" stAng="10800000" swAng="-5400000"/>
                  <a:lnTo>
                    <a:pt x="18000" y="102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lowchart: Decision 11"/>
            <p:cNvSpPr/>
            <p:nvPr/>
          </p:nvSpPr>
          <p:spPr>
            <a:xfrm>
              <a:off x="1676520" y="990360"/>
              <a:ext cx="152280" cy="2590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rapezoid 14"/>
            <p:cNvSpPr/>
            <p:nvPr/>
          </p:nvSpPr>
          <p:spPr>
            <a:xfrm rot="10800000">
              <a:off x="2057040" y="6172560"/>
              <a:ext cx="152280" cy="304560"/>
            </a:xfrm>
            <a:custGeom>
              <a:avLst/>
              <a:gdLst/>
              <a:ahLst/>
              <a:rect l="l" t="t" r="r" b="b"/>
              <a:pathLst>
                <a:path w="152439" h="304800">
                  <a:moveTo>
                    <a:pt x="0" y="304800"/>
                  </a:moveTo>
                  <a:lnTo>
                    <a:pt x="38110" y="0"/>
                  </a:lnTo>
                  <a:lnTo>
                    <a:pt x="114329" y="0"/>
                  </a:lnTo>
                  <a:lnTo>
                    <a:pt x="152439" y="304800"/>
                  </a:lnTo>
                  <a:lnTo>
                    <a:pt x="0" y="304800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15"/>
            <p:cNvSpPr/>
            <p:nvPr/>
          </p:nvSpPr>
          <p:spPr>
            <a:xfrm rot="16200000">
              <a:off x="1708200" y="2025360"/>
              <a:ext cx="7617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rapezoid 13"/>
            <p:cNvSpPr/>
            <p:nvPr/>
          </p:nvSpPr>
          <p:spPr>
            <a:xfrm rot="10800000">
              <a:off x="1981440" y="4343400"/>
              <a:ext cx="304560" cy="1905120"/>
            </a:xfrm>
            <a:custGeom>
              <a:avLst/>
              <a:gdLst/>
              <a:ahLst/>
              <a:rect l="l" t="t" r="r" b="b"/>
              <a:pathLst>
                <a:path w="304877" h="1905000">
                  <a:moveTo>
                    <a:pt x="0" y="1905000"/>
                  </a:moveTo>
                  <a:lnTo>
                    <a:pt x="59280" y="0"/>
                  </a:lnTo>
                  <a:lnTo>
                    <a:pt x="245597" y="0"/>
                  </a:lnTo>
                  <a:lnTo>
                    <a:pt x="304877" y="1905000"/>
                  </a:lnTo>
                  <a:lnTo>
                    <a:pt x="0" y="190500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17"/>
          <p:cNvSpPr/>
          <p:nvPr/>
        </p:nvSpPr>
        <p:spPr>
          <a:xfrm>
            <a:off x="3657600" y="16002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icropipett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used to accurately transfer small quantities of liqu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this model the desired volume can be adjusted within the range of microliters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16"/>
          <p:cNvCxnSpPr/>
          <p:nvPr/>
        </p:nvCxnSpPr>
        <p:spPr>
          <a:xfrm flipH="1" flipV="1">
            <a:off x="2666520" y="2818800"/>
            <a:ext cx="91512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8"/>
          <p:cNvSpPr/>
          <p:nvPr/>
        </p:nvSpPr>
        <p:spPr>
          <a:xfrm>
            <a:off x="3809880" y="4952880"/>
            <a:ext cx="4114800" cy="609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16"/>
          <p:cNvGrpSpPr/>
          <p:nvPr/>
        </p:nvGrpSpPr>
        <p:grpSpPr>
          <a:xfrm>
            <a:off x="533520" y="1904760"/>
            <a:ext cx="2269440" cy="3559320"/>
            <a:chOff x="533520" y="1904760"/>
            <a:chExt cx="2269440" cy="3559320"/>
          </a:xfrm>
        </p:grpSpPr>
        <p:sp>
          <p:nvSpPr>
            <p:cNvPr id="434" name="Can 34"/>
            <p:cNvSpPr/>
            <p:nvPr/>
          </p:nvSpPr>
          <p:spPr>
            <a:xfrm rot="10800000">
              <a:off x="1371240" y="1904760"/>
              <a:ext cx="779400" cy="33012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Can 35"/>
            <p:cNvSpPr/>
            <p:nvPr/>
          </p:nvSpPr>
          <p:spPr>
            <a:xfrm flipV="1">
              <a:off x="1600200" y="2133000"/>
              <a:ext cx="304560" cy="990360"/>
            </a:xfrm>
            <a:prstGeom prst="can">
              <a:avLst>
                <a:gd name="adj" fmla="val 6435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Block Arc 36"/>
            <p:cNvSpPr/>
            <p:nvPr/>
          </p:nvSpPr>
          <p:spPr>
            <a:xfrm>
              <a:off x="533520" y="2327400"/>
              <a:ext cx="1001880" cy="660240"/>
            </a:xfrm>
            <a:custGeom>
              <a:avLst/>
              <a:gdLst/>
              <a:ahLst/>
              <a:rect l="l" t="t" r="r" b="b"/>
              <a:pathLst>
                <a:path w="650665" h="512833">
                  <a:moveTo>
                    <a:pt x="340" y="268128"/>
                  </a:moveTo>
                  <a:cubicBezTo>
                    <a:pt x="-6753" y="145856"/>
                    <a:pt x="96788" y="36681"/>
                    <a:pt x="247585" y="7430"/>
                  </a:cubicBezTo>
                  <a:cubicBezTo>
                    <a:pt x="369857" y="-16288"/>
                    <a:pt x="498514" y="17736"/>
                    <a:pt x="577890" y="94781"/>
                  </a:cubicBezTo>
                  <a:lnTo>
                    <a:pt x="492591" y="149371"/>
                  </a:lnTo>
                  <a:cubicBezTo>
                    <a:pt x="437981" y="107967"/>
                    <a:pt x="355928" y="89862"/>
                    <a:pt x="277056" y="101813"/>
                  </a:cubicBezTo>
                  <a:cubicBezTo>
                    <a:pt x="168338" y="118286"/>
                    <a:pt x="92753" y="187192"/>
                    <a:pt x="98501" y="264591"/>
                  </a:cubicBezTo>
                  <a:lnTo>
                    <a:pt x="340" y="268128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Diagonal Stripe 37"/>
            <p:cNvSpPr/>
            <p:nvPr/>
          </p:nvSpPr>
          <p:spPr>
            <a:xfrm rot="13935600">
              <a:off x="2235240" y="2303280"/>
              <a:ext cx="474480" cy="468360"/>
            </a:xfrm>
            <a:custGeom>
              <a:avLst/>
              <a:gdLst/>
              <a:ahLst/>
              <a:rect l="l" t="t" r="r" b="b"/>
              <a:pathLst>
                <a:path w="368599" h="304194">
                  <a:moveTo>
                    <a:pt x="0" y="192655"/>
                  </a:moveTo>
                  <a:lnTo>
                    <a:pt x="233445" y="0"/>
                  </a:lnTo>
                  <a:lnTo>
                    <a:pt x="368599" y="0"/>
                  </a:lnTo>
                  <a:lnTo>
                    <a:pt x="0" y="304194"/>
                  </a:lnTo>
                  <a:lnTo>
                    <a:pt x="0" y="192655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ounded Rectangle 38"/>
            <p:cNvSpPr/>
            <p:nvPr/>
          </p:nvSpPr>
          <p:spPr>
            <a:xfrm flipH="1">
              <a:off x="2092680" y="2574720"/>
              <a:ext cx="333360" cy="5778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577800"/>
                <a:gd name="textAreaBottom" fmla="*/ 561600 h 577800"/>
              </a:gdLst>
              <a:ahLst/>
              <a:rect l="textAreaLeft" t="textAreaTop" r="textAreaRight" b="textAreaBottom"/>
              <a:pathLst>
                <a:path w="21600" h="37421">
                  <a:moveTo>
                    <a:pt x="3600" y="0"/>
                  </a:moveTo>
                  <a:arcTo wR="3600" hR="3600" stAng="16200000" swAng="-5400000"/>
                  <a:lnTo>
                    <a:pt x="0" y="33821"/>
                  </a:lnTo>
                  <a:arcTo wR="3600" hR="3600" stAng="10800000" swAng="-5400000"/>
                  <a:lnTo>
                    <a:pt x="18000" y="374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ounded Rectangle 39"/>
            <p:cNvSpPr/>
            <p:nvPr/>
          </p:nvSpPr>
          <p:spPr>
            <a:xfrm>
              <a:off x="1312920" y="2327400"/>
              <a:ext cx="890640" cy="3136680"/>
            </a:xfrm>
            <a:custGeom>
              <a:avLst/>
              <a:gdLst>
                <a:gd name="textAreaLeft" fmla="*/ 43200 w 890640"/>
                <a:gd name="textAreaRight" fmla="*/ 847440 w 890640"/>
                <a:gd name="textAreaTop" fmla="*/ 43200 h 3136680"/>
                <a:gd name="textAreaBottom" fmla="*/ 3093480 h 3136680"/>
              </a:gdLst>
              <a:ahLst/>
              <a:rect l="textAreaLeft" t="textAreaTop" r="textAreaRight" b="textAreaBottom"/>
              <a:pathLst>
                <a:path w="21600" h="76049">
                  <a:moveTo>
                    <a:pt x="3600" y="0"/>
                  </a:moveTo>
                  <a:arcTo wR="3600" hR="3600" stAng="16200000" swAng="-5400000"/>
                  <a:lnTo>
                    <a:pt x="0" y="72449"/>
                  </a:lnTo>
                  <a:arcTo wR="3600" hR="3600" stAng="10800000" swAng="-5400000"/>
                  <a:lnTo>
                    <a:pt x="18000" y="760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ounded Rectangle 40"/>
            <p:cNvSpPr/>
            <p:nvPr/>
          </p:nvSpPr>
          <p:spPr>
            <a:xfrm>
              <a:off x="2203560" y="2987640"/>
              <a:ext cx="333360" cy="23940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2394000"/>
                <a:gd name="textAreaBottom" fmla="*/ 2377800 h 2394000"/>
              </a:gdLst>
              <a:ahLst/>
              <a:rect l="textAreaLeft" t="textAreaTop" r="textAreaRight" b="textAreaBottom"/>
              <a:pathLst>
                <a:path w="21600" h="154975">
                  <a:moveTo>
                    <a:pt x="3600" y="0"/>
                  </a:moveTo>
                  <a:arcTo wR="3600" hR="3600" stAng="16200000" swAng="-5400000"/>
                  <a:lnTo>
                    <a:pt x="0" y="151375"/>
                  </a:lnTo>
                  <a:arcTo wR="3600" hR="3600" stAng="10800000" swAng="-5400000"/>
                  <a:lnTo>
                    <a:pt x="18000" y="154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lowchart: Decision 41"/>
            <p:cNvSpPr/>
            <p:nvPr/>
          </p:nvSpPr>
          <p:spPr>
            <a:xfrm>
              <a:off x="1201680" y="2492280"/>
              <a:ext cx="222120" cy="280656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Box 43"/>
            <p:cNvSpPr/>
            <p:nvPr/>
          </p:nvSpPr>
          <p:spPr>
            <a:xfrm rot="16200000">
              <a:off x="1362600" y="3772080"/>
              <a:ext cx="883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TextBox 15"/>
          <p:cNvSpPr/>
          <p:nvPr/>
        </p:nvSpPr>
        <p:spPr>
          <a:xfrm>
            <a:off x="37339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livering the S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9"/>
          <p:cNvSpPr/>
          <p:nvPr/>
        </p:nvSpPr>
        <p:spPr>
          <a:xfrm>
            <a:off x="5410080" y="129528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 SIX  – While still holding the plunger at the second stop. Withdraw the tip from the we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ounded Rectangle 29"/>
          <p:cNvSpPr/>
          <p:nvPr/>
        </p:nvSpPr>
        <p:spPr>
          <a:xfrm>
            <a:off x="434340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17"/>
          <p:cNvGrpSpPr/>
          <p:nvPr/>
        </p:nvGrpSpPr>
        <p:grpSpPr>
          <a:xfrm>
            <a:off x="4222440" y="1523520"/>
            <a:ext cx="577800" cy="3124440"/>
            <a:chOff x="4222440" y="1523520"/>
            <a:chExt cx="577800" cy="3124440"/>
          </a:xfrm>
        </p:grpSpPr>
        <p:sp>
          <p:nvSpPr>
            <p:cNvPr id="447" name="Trapezoid 33"/>
            <p:cNvSpPr/>
            <p:nvPr/>
          </p:nvSpPr>
          <p:spPr>
            <a:xfrm rot="10800000">
              <a:off x="4222440" y="1523520"/>
              <a:ext cx="577800" cy="641160"/>
            </a:xfrm>
            <a:custGeom>
              <a:avLst/>
              <a:gdLst/>
              <a:ahLst/>
              <a:rect l="l" t="t" r="r" b="b"/>
              <a:pathLst>
                <a:path w="578380" h="641350">
                  <a:moveTo>
                    <a:pt x="0" y="641350"/>
                  </a:moveTo>
                  <a:lnTo>
                    <a:pt x="144595" y="0"/>
                  </a:lnTo>
                  <a:lnTo>
                    <a:pt x="433785" y="0"/>
                  </a:lnTo>
                  <a:lnTo>
                    <a:pt x="578380" y="641350"/>
                  </a:lnTo>
                  <a:lnTo>
                    <a:pt x="0" y="64135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rapezoid 42"/>
            <p:cNvSpPr/>
            <p:nvPr/>
          </p:nvSpPr>
          <p:spPr>
            <a:xfrm rot="10800000">
              <a:off x="4451040" y="3581640"/>
              <a:ext cx="144360" cy="257040"/>
            </a:xfrm>
            <a:custGeom>
              <a:avLst/>
              <a:gdLst/>
              <a:ahLst/>
              <a:rect l="l" t="t" r="r" b="b"/>
              <a:pathLst>
                <a:path w="144596" h="257175">
                  <a:moveTo>
                    <a:pt x="0" y="257175"/>
                  </a:moveTo>
                  <a:lnTo>
                    <a:pt x="36149" y="0"/>
                  </a:lnTo>
                  <a:lnTo>
                    <a:pt x="108447" y="0"/>
                  </a:lnTo>
                  <a:lnTo>
                    <a:pt x="144596" y="257175"/>
                  </a:lnTo>
                  <a:lnTo>
                    <a:pt x="0" y="257175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rapezoid 44"/>
            <p:cNvSpPr/>
            <p:nvPr/>
          </p:nvSpPr>
          <p:spPr>
            <a:xfrm rot="10800000">
              <a:off x="4374720" y="2057040"/>
              <a:ext cx="289080" cy="1603440"/>
            </a:xfrm>
            <a:custGeom>
              <a:avLst/>
              <a:gdLst/>
              <a:ahLst/>
              <a:rect l="l" t="t" r="r" b="b"/>
              <a:pathLst>
                <a:path w="289190" h="1603375">
                  <a:moveTo>
                    <a:pt x="0" y="1603375"/>
                  </a:moveTo>
                  <a:lnTo>
                    <a:pt x="56230" y="0"/>
                  </a:lnTo>
                  <a:lnTo>
                    <a:pt x="232960" y="0"/>
                  </a:lnTo>
                  <a:lnTo>
                    <a:pt x="289190" y="1603375"/>
                  </a:lnTo>
                  <a:lnTo>
                    <a:pt x="0" y="1603375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rapezoid 45"/>
            <p:cNvSpPr/>
            <p:nvPr/>
          </p:nvSpPr>
          <p:spPr>
            <a:xfrm rot="10800000">
              <a:off x="4374720" y="3428640"/>
              <a:ext cx="304920" cy="1219320"/>
            </a:xfrm>
            <a:custGeom>
              <a:avLst/>
              <a:gdLst/>
              <a:ahLst/>
              <a:rect l="l" t="t" r="r" b="b"/>
              <a:pathLst>
                <a:path w="305080" h="1219200">
                  <a:moveTo>
                    <a:pt x="0" y="1219200"/>
                  </a:moveTo>
                  <a:lnTo>
                    <a:pt x="125083" y="0"/>
                  </a:lnTo>
                  <a:lnTo>
                    <a:pt x="179997" y="0"/>
                  </a:lnTo>
                  <a:lnTo>
                    <a:pt x="305080" y="1219200"/>
                  </a:lnTo>
                  <a:lnTo>
                    <a:pt x="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Rounded Rectangle 30"/>
          <p:cNvSpPr/>
          <p:nvPr/>
        </p:nvSpPr>
        <p:spPr>
          <a:xfrm>
            <a:off x="4952880" y="4876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ounded Rectangle 31"/>
          <p:cNvSpPr/>
          <p:nvPr/>
        </p:nvSpPr>
        <p:spPr>
          <a:xfrm>
            <a:off x="556272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ounded Rectangle 32"/>
          <p:cNvSpPr/>
          <p:nvPr/>
        </p:nvSpPr>
        <p:spPr>
          <a:xfrm>
            <a:off x="617220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ounded Rectangle 46"/>
          <p:cNvSpPr/>
          <p:nvPr/>
        </p:nvSpPr>
        <p:spPr>
          <a:xfrm>
            <a:off x="6781680" y="4876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54"/>
          <p:cNvSpPr/>
          <p:nvPr/>
        </p:nvSpPr>
        <p:spPr>
          <a:xfrm>
            <a:off x="2362320" y="19810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ounded Rectangle 55"/>
          <p:cNvSpPr/>
          <p:nvPr/>
        </p:nvSpPr>
        <p:spPr>
          <a:xfrm>
            <a:off x="4343400" y="5029200"/>
            <a:ext cx="380880" cy="3049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Straight Arrow Connector 48"/>
          <p:cNvCxnSpPr/>
          <p:nvPr/>
        </p:nvCxnSpPr>
        <p:spPr>
          <a:xfrm flipH="1" flipV="1">
            <a:off x="4114440" y="3885480"/>
            <a:ext cx="2160" cy="68652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58" name="Rectangle 28"/>
          <p:cNvSpPr/>
          <p:nvPr/>
        </p:nvSpPr>
        <p:spPr>
          <a:xfrm>
            <a:off x="259920" y="617220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EEP the pipette VERTICAL at 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8"/>
          <p:cNvSpPr/>
          <p:nvPr/>
        </p:nvSpPr>
        <p:spPr>
          <a:xfrm>
            <a:off x="3809880" y="4952880"/>
            <a:ext cx="4114800" cy="609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6"/>
          <p:cNvGrpSpPr/>
          <p:nvPr/>
        </p:nvGrpSpPr>
        <p:grpSpPr>
          <a:xfrm>
            <a:off x="533520" y="1294920"/>
            <a:ext cx="2269440" cy="4169160"/>
            <a:chOff x="533520" y="1294920"/>
            <a:chExt cx="2269440" cy="4169160"/>
          </a:xfrm>
        </p:grpSpPr>
        <p:sp>
          <p:nvSpPr>
            <p:cNvPr id="461" name="Can 34"/>
            <p:cNvSpPr/>
            <p:nvPr/>
          </p:nvSpPr>
          <p:spPr>
            <a:xfrm rot="10800000">
              <a:off x="1371240" y="1294920"/>
              <a:ext cx="779400" cy="33012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Can 35"/>
            <p:cNvSpPr/>
            <p:nvPr/>
          </p:nvSpPr>
          <p:spPr>
            <a:xfrm flipV="1">
              <a:off x="1600200" y="1523160"/>
              <a:ext cx="304560" cy="990360"/>
            </a:xfrm>
            <a:prstGeom prst="can">
              <a:avLst>
                <a:gd name="adj" fmla="val 6435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Block Arc 36"/>
            <p:cNvSpPr/>
            <p:nvPr/>
          </p:nvSpPr>
          <p:spPr>
            <a:xfrm>
              <a:off x="533520" y="2327040"/>
              <a:ext cx="1001880" cy="660240"/>
            </a:xfrm>
            <a:custGeom>
              <a:avLst/>
              <a:gdLst/>
              <a:ahLst/>
              <a:rect l="l" t="t" r="r" b="b"/>
              <a:pathLst>
                <a:path w="650665" h="512835">
                  <a:moveTo>
                    <a:pt x="340" y="268129"/>
                  </a:moveTo>
                  <a:cubicBezTo>
                    <a:pt x="-6753" y="145857"/>
                    <a:pt x="96788" y="36681"/>
                    <a:pt x="247584" y="7430"/>
                  </a:cubicBezTo>
                  <a:cubicBezTo>
                    <a:pt x="369856" y="-16288"/>
                    <a:pt x="498514" y="17736"/>
                    <a:pt x="577890" y="94782"/>
                  </a:cubicBezTo>
                  <a:lnTo>
                    <a:pt x="492591" y="149372"/>
                  </a:lnTo>
                  <a:cubicBezTo>
                    <a:pt x="437981" y="107967"/>
                    <a:pt x="355928" y="89862"/>
                    <a:pt x="277055" y="101813"/>
                  </a:cubicBezTo>
                  <a:cubicBezTo>
                    <a:pt x="168337" y="118286"/>
                    <a:pt x="92752" y="187192"/>
                    <a:pt x="98500" y="264592"/>
                  </a:cubicBezTo>
                  <a:lnTo>
                    <a:pt x="340" y="268129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Diagonal Stripe 37"/>
            <p:cNvSpPr/>
            <p:nvPr/>
          </p:nvSpPr>
          <p:spPr>
            <a:xfrm rot="13935600">
              <a:off x="2235240" y="2302920"/>
              <a:ext cx="474480" cy="468360"/>
            </a:xfrm>
            <a:custGeom>
              <a:avLst/>
              <a:gdLst/>
              <a:ahLst/>
              <a:rect l="l" t="t" r="r" b="b"/>
              <a:pathLst>
                <a:path w="368600" h="304194">
                  <a:moveTo>
                    <a:pt x="0" y="192655"/>
                  </a:moveTo>
                  <a:lnTo>
                    <a:pt x="233445" y="0"/>
                  </a:lnTo>
                  <a:lnTo>
                    <a:pt x="368600" y="0"/>
                  </a:lnTo>
                  <a:lnTo>
                    <a:pt x="0" y="304194"/>
                  </a:lnTo>
                  <a:lnTo>
                    <a:pt x="0" y="192655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ounded Rectangle 38"/>
            <p:cNvSpPr/>
            <p:nvPr/>
          </p:nvSpPr>
          <p:spPr>
            <a:xfrm flipH="1">
              <a:off x="2092680" y="2574720"/>
              <a:ext cx="333360" cy="5778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577800"/>
                <a:gd name="textAreaBottom" fmla="*/ 561600 h 577800"/>
              </a:gdLst>
              <a:ahLst/>
              <a:rect l="textAreaLeft" t="textAreaTop" r="textAreaRight" b="textAreaBottom"/>
              <a:pathLst>
                <a:path w="21600" h="37421">
                  <a:moveTo>
                    <a:pt x="3600" y="0"/>
                  </a:moveTo>
                  <a:arcTo wR="3600" hR="3600" stAng="16200000" swAng="-5400000"/>
                  <a:lnTo>
                    <a:pt x="0" y="33821"/>
                  </a:lnTo>
                  <a:arcTo wR="3600" hR="3600" stAng="10800000" swAng="-5400000"/>
                  <a:lnTo>
                    <a:pt x="18000" y="374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ounded Rectangle 39"/>
            <p:cNvSpPr/>
            <p:nvPr/>
          </p:nvSpPr>
          <p:spPr>
            <a:xfrm>
              <a:off x="1312920" y="2327040"/>
              <a:ext cx="890640" cy="3137040"/>
            </a:xfrm>
            <a:custGeom>
              <a:avLst/>
              <a:gdLst>
                <a:gd name="textAreaLeft" fmla="*/ 43200 w 890640"/>
                <a:gd name="textAreaRight" fmla="*/ 847440 w 890640"/>
                <a:gd name="textAreaTop" fmla="*/ 43200 h 3137040"/>
                <a:gd name="textAreaBottom" fmla="*/ 3093840 h 3137040"/>
              </a:gdLst>
              <a:ahLst/>
              <a:rect l="textAreaLeft" t="textAreaTop" r="textAreaRight" b="textAreaBottom"/>
              <a:pathLst>
                <a:path w="21600" h="76058">
                  <a:moveTo>
                    <a:pt x="3600" y="0"/>
                  </a:moveTo>
                  <a:arcTo wR="3600" hR="3600" stAng="16200000" swAng="-5400000"/>
                  <a:lnTo>
                    <a:pt x="0" y="72458"/>
                  </a:lnTo>
                  <a:arcTo wR="3600" hR="3600" stAng="10800000" swAng="-5400000"/>
                  <a:lnTo>
                    <a:pt x="18000" y="760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ounded Rectangle 40"/>
            <p:cNvSpPr/>
            <p:nvPr/>
          </p:nvSpPr>
          <p:spPr>
            <a:xfrm>
              <a:off x="2203560" y="2987640"/>
              <a:ext cx="333360" cy="23940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2394000"/>
                <a:gd name="textAreaBottom" fmla="*/ 2377800 h 2394000"/>
              </a:gdLst>
              <a:ahLst/>
              <a:rect l="textAreaLeft" t="textAreaTop" r="textAreaRight" b="textAreaBottom"/>
              <a:pathLst>
                <a:path w="21600" h="154975">
                  <a:moveTo>
                    <a:pt x="3600" y="0"/>
                  </a:moveTo>
                  <a:arcTo wR="3600" hR="3600" stAng="16200000" swAng="-5400000"/>
                  <a:lnTo>
                    <a:pt x="0" y="151375"/>
                  </a:lnTo>
                  <a:arcTo wR="3600" hR="3600" stAng="10800000" swAng="-5400000"/>
                  <a:lnTo>
                    <a:pt x="18000" y="154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lowchart: Decision 41"/>
            <p:cNvSpPr/>
            <p:nvPr/>
          </p:nvSpPr>
          <p:spPr>
            <a:xfrm>
              <a:off x="1201680" y="2492280"/>
              <a:ext cx="222120" cy="2806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Box 43"/>
            <p:cNvSpPr/>
            <p:nvPr/>
          </p:nvSpPr>
          <p:spPr>
            <a:xfrm rot="16200000">
              <a:off x="1362600" y="3771720"/>
              <a:ext cx="883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TextBox 15"/>
          <p:cNvSpPr/>
          <p:nvPr/>
        </p:nvSpPr>
        <p:spPr>
          <a:xfrm>
            <a:off x="37339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livering the S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9"/>
          <p:cNvSpPr/>
          <p:nvPr/>
        </p:nvSpPr>
        <p:spPr>
          <a:xfrm>
            <a:off x="5410080" y="129528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 SEVEN – Allow the plunger to return h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ounded Rectangle 29"/>
          <p:cNvSpPr/>
          <p:nvPr/>
        </p:nvSpPr>
        <p:spPr>
          <a:xfrm>
            <a:off x="434340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17"/>
          <p:cNvGrpSpPr/>
          <p:nvPr/>
        </p:nvGrpSpPr>
        <p:grpSpPr>
          <a:xfrm>
            <a:off x="4222440" y="1523520"/>
            <a:ext cx="577800" cy="3124440"/>
            <a:chOff x="4222440" y="1523520"/>
            <a:chExt cx="577800" cy="3124440"/>
          </a:xfrm>
        </p:grpSpPr>
        <p:sp>
          <p:nvSpPr>
            <p:cNvPr id="474" name="Trapezoid 33"/>
            <p:cNvSpPr/>
            <p:nvPr/>
          </p:nvSpPr>
          <p:spPr>
            <a:xfrm rot="10800000">
              <a:off x="4222440" y="1523520"/>
              <a:ext cx="577800" cy="641160"/>
            </a:xfrm>
            <a:custGeom>
              <a:avLst/>
              <a:gdLst/>
              <a:ahLst/>
              <a:rect l="l" t="t" r="r" b="b"/>
              <a:pathLst>
                <a:path w="578380" h="641350">
                  <a:moveTo>
                    <a:pt x="0" y="641350"/>
                  </a:moveTo>
                  <a:lnTo>
                    <a:pt x="144595" y="0"/>
                  </a:lnTo>
                  <a:lnTo>
                    <a:pt x="433785" y="0"/>
                  </a:lnTo>
                  <a:lnTo>
                    <a:pt x="578380" y="641350"/>
                  </a:lnTo>
                  <a:lnTo>
                    <a:pt x="0" y="64135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rapezoid 42"/>
            <p:cNvSpPr/>
            <p:nvPr/>
          </p:nvSpPr>
          <p:spPr>
            <a:xfrm rot="10800000">
              <a:off x="4451040" y="3581640"/>
              <a:ext cx="144360" cy="257040"/>
            </a:xfrm>
            <a:custGeom>
              <a:avLst/>
              <a:gdLst/>
              <a:ahLst/>
              <a:rect l="l" t="t" r="r" b="b"/>
              <a:pathLst>
                <a:path w="144596" h="257175">
                  <a:moveTo>
                    <a:pt x="0" y="257175"/>
                  </a:moveTo>
                  <a:lnTo>
                    <a:pt x="36149" y="0"/>
                  </a:lnTo>
                  <a:lnTo>
                    <a:pt x="108447" y="0"/>
                  </a:lnTo>
                  <a:lnTo>
                    <a:pt x="144596" y="257175"/>
                  </a:lnTo>
                  <a:lnTo>
                    <a:pt x="0" y="257175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rapezoid 44"/>
            <p:cNvSpPr/>
            <p:nvPr/>
          </p:nvSpPr>
          <p:spPr>
            <a:xfrm rot="10800000">
              <a:off x="4374720" y="2057040"/>
              <a:ext cx="289080" cy="1603440"/>
            </a:xfrm>
            <a:custGeom>
              <a:avLst/>
              <a:gdLst/>
              <a:ahLst/>
              <a:rect l="l" t="t" r="r" b="b"/>
              <a:pathLst>
                <a:path w="289190" h="1603375">
                  <a:moveTo>
                    <a:pt x="0" y="1603375"/>
                  </a:moveTo>
                  <a:lnTo>
                    <a:pt x="56230" y="0"/>
                  </a:lnTo>
                  <a:lnTo>
                    <a:pt x="232960" y="0"/>
                  </a:lnTo>
                  <a:lnTo>
                    <a:pt x="289190" y="1603375"/>
                  </a:lnTo>
                  <a:lnTo>
                    <a:pt x="0" y="1603375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rapezoid 45"/>
            <p:cNvSpPr/>
            <p:nvPr/>
          </p:nvSpPr>
          <p:spPr>
            <a:xfrm rot="10800000">
              <a:off x="4374720" y="3428640"/>
              <a:ext cx="304920" cy="1219320"/>
            </a:xfrm>
            <a:custGeom>
              <a:avLst/>
              <a:gdLst/>
              <a:ahLst/>
              <a:rect l="l" t="t" r="r" b="b"/>
              <a:pathLst>
                <a:path w="305080" h="1219200">
                  <a:moveTo>
                    <a:pt x="0" y="1219200"/>
                  </a:moveTo>
                  <a:lnTo>
                    <a:pt x="125083" y="0"/>
                  </a:lnTo>
                  <a:lnTo>
                    <a:pt x="179997" y="0"/>
                  </a:lnTo>
                  <a:lnTo>
                    <a:pt x="305080" y="1219200"/>
                  </a:lnTo>
                  <a:lnTo>
                    <a:pt x="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Rounded Rectangle 30"/>
          <p:cNvSpPr/>
          <p:nvPr/>
        </p:nvSpPr>
        <p:spPr>
          <a:xfrm>
            <a:off x="4952880" y="4876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ounded Rectangle 31"/>
          <p:cNvSpPr/>
          <p:nvPr/>
        </p:nvSpPr>
        <p:spPr>
          <a:xfrm>
            <a:off x="556272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ounded Rectangle 32"/>
          <p:cNvSpPr/>
          <p:nvPr/>
        </p:nvSpPr>
        <p:spPr>
          <a:xfrm>
            <a:off x="617220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ounded Rectangle 46"/>
          <p:cNvSpPr/>
          <p:nvPr/>
        </p:nvSpPr>
        <p:spPr>
          <a:xfrm>
            <a:off x="6781680" y="4876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ounded Rectangle 55"/>
          <p:cNvSpPr/>
          <p:nvPr/>
        </p:nvSpPr>
        <p:spPr>
          <a:xfrm>
            <a:off x="4343400" y="5029200"/>
            <a:ext cx="380880" cy="3049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Can 47"/>
          <p:cNvSpPr/>
          <p:nvPr/>
        </p:nvSpPr>
        <p:spPr>
          <a:xfrm rot="10800000">
            <a:off x="1371240" y="1981080"/>
            <a:ext cx="779400" cy="330480"/>
          </a:xfrm>
          <a:prstGeom prst="can">
            <a:avLst>
              <a:gd name="adj" fmla="val 25000"/>
            </a:avLst>
          </a:prstGeom>
          <a:solidFill>
            <a:srgbClr val="f79646">
              <a:alpha val="25000"/>
            </a:srgbClr>
          </a:solidFill>
          <a:ln w="25560">
            <a:solidFill>
              <a:srgbClr val="385d8a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51"/>
          <p:cNvGrpSpPr/>
          <p:nvPr/>
        </p:nvGrpSpPr>
        <p:grpSpPr>
          <a:xfrm>
            <a:off x="2286000" y="1294920"/>
            <a:ext cx="1800" cy="990720"/>
            <a:chOff x="2286000" y="1294920"/>
            <a:chExt cx="1800" cy="990720"/>
          </a:xfrm>
        </p:grpSpPr>
        <p:cxnSp>
          <p:nvCxnSpPr>
            <p:cNvPr id="485" name="Straight Arrow Connector 49"/>
            <p:cNvCxnSpPr/>
            <p:nvPr/>
          </p:nvCxnSpPr>
          <p:spPr>
            <a:xfrm flipV="1">
              <a:off x="2286000" y="1294920"/>
              <a:ext cx="2160" cy="610560"/>
            </a:xfrm>
            <a:prstGeom prst="straightConnector1">
              <a:avLst/>
            </a:prstGeom>
            <a:ln w="4752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86" name="Straight Arrow Connector 50"/>
            <p:cNvCxnSpPr/>
            <p:nvPr/>
          </p:nvCxnSpPr>
          <p:spPr>
            <a:xfrm flipV="1">
              <a:off x="2286000" y="1979280"/>
              <a:ext cx="2160" cy="306720"/>
            </a:xfrm>
            <a:prstGeom prst="straightConnector1">
              <a:avLst/>
            </a:prstGeom>
            <a:ln w="4752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487" name="Rectangle 28"/>
          <p:cNvSpPr/>
          <p:nvPr/>
        </p:nvSpPr>
        <p:spPr>
          <a:xfrm>
            <a:off x="259920" y="617220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EEP the pipette VERTICAL at 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Group 16"/>
          <p:cNvGrpSpPr/>
          <p:nvPr/>
        </p:nvGrpSpPr>
        <p:grpSpPr>
          <a:xfrm>
            <a:off x="533520" y="1294920"/>
            <a:ext cx="2269440" cy="4169160"/>
            <a:chOff x="533520" y="1294920"/>
            <a:chExt cx="2269440" cy="4169160"/>
          </a:xfrm>
        </p:grpSpPr>
        <p:sp>
          <p:nvSpPr>
            <p:cNvPr id="489" name="Can 34"/>
            <p:cNvSpPr/>
            <p:nvPr/>
          </p:nvSpPr>
          <p:spPr>
            <a:xfrm rot="10800000">
              <a:off x="1371240" y="1294920"/>
              <a:ext cx="779400" cy="33012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Can 35"/>
            <p:cNvSpPr/>
            <p:nvPr/>
          </p:nvSpPr>
          <p:spPr>
            <a:xfrm flipV="1">
              <a:off x="1600200" y="1523160"/>
              <a:ext cx="304560" cy="990360"/>
            </a:xfrm>
            <a:prstGeom prst="can">
              <a:avLst>
                <a:gd name="adj" fmla="val 6435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Block Arc 36"/>
            <p:cNvSpPr/>
            <p:nvPr/>
          </p:nvSpPr>
          <p:spPr>
            <a:xfrm>
              <a:off x="533520" y="2327040"/>
              <a:ext cx="1001880" cy="660240"/>
            </a:xfrm>
            <a:custGeom>
              <a:avLst/>
              <a:gdLst/>
              <a:ahLst/>
              <a:rect l="l" t="t" r="r" b="b"/>
              <a:pathLst>
                <a:path w="650665" h="512835">
                  <a:moveTo>
                    <a:pt x="340" y="268129"/>
                  </a:moveTo>
                  <a:cubicBezTo>
                    <a:pt x="-6753" y="145857"/>
                    <a:pt x="96788" y="36681"/>
                    <a:pt x="247584" y="7430"/>
                  </a:cubicBezTo>
                  <a:cubicBezTo>
                    <a:pt x="369856" y="-16288"/>
                    <a:pt x="498514" y="17736"/>
                    <a:pt x="577890" y="94782"/>
                  </a:cubicBezTo>
                  <a:lnTo>
                    <a:pt x="492591" y="149372"/>
                  </a:lnTo>
                  <a:cubicBezTo>
                    <a:pt x="437981" y="107967"/>
                    <a:pt x="355928" y="89862"/>
                    <a:pt x="277055" y="101813"/>
                  </a:cubicBezTo>
                  <a:cubicBezTo>
                    <a:pt x="168337" y="118286"/>
                    <a:pt x="92752" y="187192"/>
                    <a:pt x="98500" y="264592"/>
                  </a:cubicBezTo>
                  <a:lnTo>
                    <a:pt x="340" y="268129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Diagonal Stripe 37"/>
            <p:cNvSpPr/>
            <p:nvPr/>
          </p:nvSpPr>
          <p:spPr>
            <a:xfrm rot="13935600">
              <a:off x="2235240" y="2302920"/>
              <a:ext cx="474480" cy="468360"/>
            </a:xfrm>
            <a:custGeom>
              <a:avLst/>
              <a:gdLst/>
              <a:ahLst/>
              <a:rect l="l" t="t" r="r" b="b"/>
              <a:pathLst>
                <a:path w="368600" h="304194">
                  <a:moveTo>
                    <a:pt x="0" y="192655"/>
                  </a:moveTo>
                  <a:lnTo>
                    <a:pt x="233445" y="0"/>
                  </a:lnTo>
                  <a:lnTo>
                    <a:pt x="368600" y="0"/>
                  </a:lnTo>
                  <a:lnTo>
                    <a:pt x="0" y="304194"/>
                  </a:lnTo>
                  <a:lnTo>
                    <a:pt x="0" y="192655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ounded Rectangle 38"/>
            <p:cNvSpPr/>
            <p:nvPr/>
          </p:nvSpPr>
          <p:spPr>
            <a:xfrm flipH="1">
              <a:off x="2092680" y="2574720"/>
              <a:ext cx="333360" cy="5778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577800"/>
                <a:gd name="textAreaBottom" fmla="*/ 561600 h 577800"/>
              </a:gdLst>
              <a:ahLst/>
              <a:rect l="textAreaLeft" t="textAreaTop" r="textAreaRight" b="textAreaBottom"/>
              <a:pathLst>
                <a:path w="21600" h="37421">
                  <a:moveTo>
                    <a:pt x="3600" y="0"/>
                  </a:moveTo>
                  <a:arcTo wR="3600" hR="3600" stAng="16200000" swAng="-5400000"/>
                  <a:lnTo>
                    <a:pt x="0" y="33821"/>
                  </a:lnTo>
                  <a:arcTo wR="3600" hR="3600" stAng="10800000" swAng="-5400000"/>
                  <a:lnTo>
                    <a:pt x="18000" y="374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ounded Rectangle 39"/>
            <p:cNvSpPr/>
            <p:nvPr/>
          </p:nvSpPr>
          <p:spPr>
            <a:xfrm>
              <a:off x="1312920" y="2327040"/>
              <a:ext cx="890640" cy="3137040"/>
            </a:xfrm>
            <a:custGeom>
              <a:avLst/>
              <a:gdLst>
                <a:gd name="textAreaLeft" fmla="*/ 43200 w 890640"/>
                <a:gd name="textAreaRight" fmla="*/ 847440 w 890640"/>
                <a:gd name="textAreaTop" fmla="*/ 43200 h 3137040"/>
                <a:gd name="textAreaBottom" fmla="*/ 3093840 h 3137040"/>
              </a:gdLst>
              <a:ahLst/>
              <a:rect l="textAreaLeft" t="textAreaTop" r="textAreaRight" b="textAreaBottom"/>
              <a:pathLst>
                <a:path w="21600" h="76058">
                  <a:moveTo>
                    <a:pt x="3600" y="0"/>
                  </a:moveTo>
                  <a:arcTo wR="3600" hR="3600" stAng="16200000" swAng="-5400000"/>
                  <a:lnTo>
                    <a:pt x="0" y="72458"/>
                  </a:lnTo>
                  <a:arcTo wR="3600" hR="3600" stAng="10800000" swAng="-5400000"/>
                  <a:lnTo>
                    <a:pt x="18000" y="760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ounded Rectangle 40"/>
            <p:cNvSpPr/>
            <p:nvPr/>
          </p:nvSpPr>
          <p:spPr>
            <a:xfrm>
              <a:off x="2203560" y="2987640"/>
              <a:ext cx="333360" cy="23940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2394000"/>
                <a:gd name="textAreaBottom" fmla="*/ 2377800 h 2394000"/>
              </a:gdLst>
              <a:ahLst/>
              <a:rect l="textAreaLeft" t="textAreaTop" r="textAreaRight" b="textAreaBottom"/>
              <a:pathLst>
                <a:path w="21600" h="154975">
                  <a:moveTo>
                    <a:pt x="3600" y="0"/>
                  </a:moveTo>
                  <a:arcTo wR="3600" hR="3600" stAng="16200000" swAng="-5400000"/>
                  <a:lnTo>
                    <a:pt x="0" y="151375"/>
                  </a:lnTo>
                  <a:arcTo wR="3600" hR="3600" stAng="10800000" swAng="-5400000"/>
                  <a:lnTo>
                    <a:pt x="18000" y="154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lowchart: Decision 41"/>
            <p:cNvSpPr/>
            <p:nvPr/>
          </p:nvSpPr>
          <p:spPr>
            <a:xfrm>
              <a:off x="1201680" y="2492280"/>
              <a:ext cx="222120" cy="2806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Box 43"/>
            <p:cNvSpPr/>
            <p:nvPr/>
          </p:nvSpPr>
          <p:spPr>
            <a:xfrm rot="16200000">
              <a:off x="1362600" y="3771720"/>
              <a:ext cx="883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Box 15"/>
          <p:cNvSpPr/>
          <p:nvPr/>
        </p:nvSpPr>
        <p:spPr>
          <a:xfrm>
            <a:off x="37339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scarding the T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9"/>
          <p:cNvSpPr/>
          <p:nvPr/>
        </p:nvSpPr>
        <p:spPr>
          <a:xfrm>
            <a:off x="5410080" y="129528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 EIGHT – Place tip into the opening of the waste container, then depress the tip ejecto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17"/>
          <p:cNvGrpSpPr/>
          <p:nvPr/>
        </p:nvGrpSpPr>
        <p:grpSpPr>
          <a:xfrm>
            <a:off x="4266720" y="990360"/>
            <a:ext cx="577800" cy="3124440"/>
            <a:chOff x="4266720" y="990360"/>
            <a:chExt cx="577800" cy="3124440"/>
          </a:xfrm>
        </p:grpSpPr>
        <p:sp>
          <p:nvSpPr>
            <p:cNvPr id="501" name="Trapezoid 33"/>
            <p:cNvSpPr/>
            <p:nvPr/>
          </p:nvSpPr>
          <p:spPr>
            <a:xfrm rot="10800000">
              <a:off x="4266720" y="990360"/>
              <a:ext cx="577800" cy="641160"/>
            </a:xfrm>
            <a:custGeom>
              <a:avLst/>
              <a:gdLst/>
              <a:ahLst/>
              <a:rect l="l" t="t" r="r" b="b"/>
              <a:pathLst>
                <a:path w="578380" h="641350">
                  <a:moveTo>
                    <a:pt x="0" y="641350"/>
                  </a:moveTo>
                  <a:lnTo>
                    <a:pt x="144595" y="0"/>
                  </a:lnTo>
                  <a:lnTo>
                    <a:pt x="433785" y="0"/>
                  </a:lnTo>
                  <a:lnTo>
                    <a:pt x="578380" y="641350"/>
                  </a:lnTo>
                  <a:lnTo>
                    <a:pt x="0" y="64135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rapezoid 42"/>
            <p:cNvSpPr/>
            <p:nvPr/>
          </p:nvSpPr>
          <p:spPr>
            <a:xfrm rot="10800000">
              <a:off x="4495320" y="3048120"/>
              <a:ext cx="144360" cy="257040"/>
            </a:xfrm>
            <a:custGeom>
              <a:avLst/>
              <a:gdLst/>
              <a:ahLst/>
              <a:rect l="l" t="t" r="r" b="b"/>
              <a:pathLst>
                <a:path w="144596" h="257175">
                  <a:moveTo>
                    <a:pt x="0" y="257175"/>
                  </a:moveTo>
                  <a:lnTo>
                    <a:pt x="36149" y="0"/>
                  </a:lnTo>
                  <a:lnTo>
                    <a:pt x="108447" y="0"/>
                  </a:lnTo>
                  <a:lnTo>
                    <a:pt x="144596" y="257175"/>
                  </a:lnTo>
                  <a:lnTo>
                    <a:pt x="0" y="257175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rapezoid 44"/>
            <p:cNvSpPr/>
            <p:nvPr/>
          </p:nvSpPr>
          <p:spPr>
            <a:xfrm rot="10800000">
              <a:off x="4419000" y="1523880"/>
              <a:ext cx="289080" cy="1603440"/>
            </a:xfrm>
            <a:custGeom>
              <a:avLst/>
              <a:gdLst/>
              <a:ahLst/>
              <a:rect l="l" t="t" r="r" b="b"/>
              <a:pathLst>
                <a:path w="289190" h="1603375">
                  <a:moveTo>
                    <a:pt x="0" y="1603375"/>
                  </a:moveTo>
                  <a:lnTo>
                    <a:pt x="56230" y="0"/>
                  </a:lnTo>
                  <a:lnTo>
                    <a:pt x="232960" y="0"/>
                  </a:lnTo>
                  <a:lnTo>
                    <a:pt x="289190" y="1603375"/>
                  </a:lnTo>
                  <a:lnTo>
                    <a:pt x="0" y="1603375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rapezoid 45"/>
            <p:cNvSpPr/>
            <p:nvPr/>
          </p:nvSpPr>
          <p:spPr>
            <a:xfrm rot="10800000">
              <a:off x="4419000" y="2895840"/>
              <a:ext cx="304920" cy="1218960"/>
            </a:xfrm>
            <a:custGeom>
              <a:avLst/>
              <a:gdLst/>
              <a:ahLst/>
              <a:rect l="l" t="t" r="r" b="b"/>
              <a:pathLst>
                <a:path w="305080" h="1219200">
                  <a:moveTo>
                    <a:pt x="0" y="1219200"/>
                  </a:moveTo>
                  <a:lnTo>
                    <a:pt x="125083" y="0"/>
                  </a:lnTo>
                  <a:lnTo>
                    <a:pt x="179997" y="0"/>
                  </a:lnTo>
                  <a:lnTo>
                    <a:pt x="305080" y="1219200"/>
                  </a:lnTo>
                  <a:lnTo>
                    <a:pt x="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Can 48"/>
          <p:cNvSpPr/>
          <p:nvPr/>
        </p:nvSpPr>
        <p:spPr>
          <a:xfrm>
            <a:off x="3429000" y="2666880"/>
            <a:ext cx="2438280" cy="3124440"/>
          </a:xfrm>
          <a:prstGeom prst="can">
            <a:avLst>
              <a:gd name="adj" fmla="val 19513"/>
            </a:avLst>
          </a:prstGeom>
          <a:solidFill>
            <a:srgbClr val="d9d9d9">
              <a:alpha val="27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Straight Arrow Connector 51"/>
          <p:cNvCxnSpPr/>
          <p:nvPr/>
        </p:nvCxnSpPr>
        <p:spPr>
          <a:xfrm flipH="1">
            <a:off x="2590560" y="1981080"/>
            <a:ext cx="2160" cy="53280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07" name="TextBox 53"/>
          <p:cNvSpPr/>
          <p:nvPr/>
        </p:nvSpPr>
        <p:spPr>
          <a:xfrm>
            <a:off x="3809880" y="4572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54"/>
          <p:cNvSpPr/>
          <p:nvPr/>
        </p:nvSpPr>
        <p:spPr>
          <a:xfrm>
            <a:off x="2438280" y="1600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p Ej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Straight Arrow Connector 56"/>
          <p:cNvCxnSpPr/>
          <p:nvPr/>
        </p:nvCxnSpPr>
        <p:spPr>
          <a:xfrm flipH="1">
            <a:off x="4723560" y="3733560"/>
            <a:ext cx="2520" cy="53244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10" name="TextBox 19"/>
          <p:cNvSpPr/>
          <p:nvPr/>
        </p:nvSpPr>
        <p:spPr>
          <a:xfrm>
            <a:off x="6324480" y="26352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Be sure to use a new tip each t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8"/>
          <p:cNvSpPr/>
          <p:nvPr/>
        </p:nvSpPr>
        <p:spPr>
          <a:xfrm>
            <a:off x="259920" y="617220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EEP the pipette VERTICAL at 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Box 15"/>
          <p:cNvSpPr/>
          <p:nvPr/>
        </p:nvSpPr>
        <p:spPr>
          <a:xfrm>
            <a:off x="37339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ngs to AVOID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24"/>
          <p:cNvGrpSpPr/>
          <p:nvPr/>
        </p:nvGrpSpPr>
        <p:grpSpPr>
          <a:xfrm>
            <a:off x="826200" y="1996560"/>
            <a:ext cx="3763800" cy="1182600"/>
            <a:chOff x="826200" y="1996560"/>
            <a:chExt cx="3763800" cy="1182600"/>
          </a:xfrm>
        </p:grpSpPr>
        <p:sp>
          <p:nvSpPr>
            <p:cNvPr id="514" name="Trapezoid 25"/>
            <p:cNvSpPr/>
            <p:nvPr/>
          </p:nvSpPr>
          <p:spPr>
            <a:xfrm rot="16981200">
              <a:off x="2103480" y="2152080"/>
              <a:ext cx="360000" cy="465480"/>
            </a:xfrm>
            <a:custGeom>
              <a:avLst/>
              <a:gdLst/>
              <a:ahLst/>
              <a:rect l="l" t="t" r="r" b="b"/>
              <a:pathLst>
                <a:path w="609647" h="762826">
                  <a:moveTo>
                    <a:pt x="0" y="762826"/>
                  </a:moveTo>
                  <a:lnTo>
                    <a:pt x="152412" y="0"/>
                  </a:lnTo>
                  <a:lnTo>
                    <a:pt x="457235" y="0"/>
                  </a:lnTo>
                  <a:lnTo>
                    <a:pt x="609647" y="762826"/>
                  </a:lnTo>
                  <a:lnTo>
                    <a:pt x="0" y="762826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Can 27"/>
            <p:cNvSpPr/>
            <p:nvPr/>
          </p:nvSpPr>
          <p:spPr>
            <a:xfrm rot="16981200">
              <a:off x="4305960" y="2773080"/>
              <a:ext cx="315720" cy="18576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Can 28"/>
            <p:cNvSpPr/>
            <p:nvPr/>
          </p:nvSpPr>
          <p:spPr>
            <a:xfrm flipV="1" rot="6180600">
              <a:off x="4215240" y="2689200"/>
              <a:ext cx="134640" cy="277920"/>
            </a:xfrm>
            <a:prstGeom prst="can">
              <a:avLst>
                <a:gd name="adj" fmla="val 12527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Block Arc 29"/>
            <p:cNvSpPr/>
            <p:nvPr/>
          </p:nvSpPr>
          <p:spPr>
            <a:xfrm rot="6181200">
              <a:off x="3888720" y="2269440"/>
              <a:ext cx="404640" cy="371880"/>
            </a:xfrm>
            <a:custGeom>
              <a:avLst/>
              <a:gdLst/>
              <a:ahLst/>
              <a:rect l="l" t="t" r="r" b="b"/>
              <a:pathLst>
                <a:path w="684846" h="609219">
                  <a:moveTo>
                    <a:pt x="281" y="316939"/>
                  </a:moveTo>
                  <a:cubicBezTo>
                    <a:pt x="-6154" y="175628"/>
                    <a:pt x="97593" y="48964"/>
                    <a:pt x="250776" y="11112"/>
                  </a:cubicBezTo>
                  <a:cubicBezTo>
                    <a:pt x="389038" y="-23053"/>
                    <a:pt x="536581" y="23094"/>
                    <a:pt x="620385" y="126714"/>
                  </a:cubicBezTo>
                  <a:lnTo>
                    <a:pt x="521414" y="190055"/>
                  </a:lnTo>
                  <a:cubicBezTo>
                    <a:pt x="466178" y="130239"/>
                    <a:pt x="373332" y="103717"/>
                    <a:pt x="285619" y="122700"/>
                  </a:cubicBezTo>
                  <a:cubicBezTo>
                    <a:pt x="182583" y="144999"/>
                    <a:pt x="112260" y="224191"/>
                    <a:pt x="116863" y="312738"/>
                  </a:cubicBezTo>
                  <a:lnTo>
                    <a:pt x="281" y="316939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Diagonal Stripe 30"/>
            <p:cNvSpPr/>
            <p:nvPr/>
          </p:nvSpPr>
          <p:spPr>
            <a:xfrm rot="20116800">
              <a:off x="3890160" y="2943360"/>
              <a:ext cx="266760" cy="188640"/>
            </a:xfrm>
            <a:custGeom>
              <a:avLst/>
              <a:gdLst/>
              <a:ahLst/>
              <a:rect l="l" t="t" r="r" b="b"/>
              <a:pathLst>
                <a:path w="437388" h="319596">
                  <a:moveTo>
                    <a:pt x="0" y="202410"/>
                  </a:moveTo>
                  <a:lnTo>
                    <a:pt x="277011" y="0"/>
                  </a:lnTo>
                  <a:lnTo>
                    <a:pt x="437388" y="0"/>
                  </a:lnTo>
                  <a:lnTo>
                    <a:pt x="0" y="319596"/>
                  </a:lnTo>
                  <a:lnTo>
                    <a:pt x="0" y="20241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ounded Rectangle 31"/>
            <p:cNvSpPr/>
            <p:nvPr/>
          </p:nvSpPr>
          <p:spPr>
            <a:xfrm flipH="1" rot="6180600">
              <a:off x="3789000" y="2749320"/>
              <a:ext cx="134640" cy="325800"/>
            </a:xfrm>
            <a:custGeom>
              <a:avLst/>
              <a:gdLst>
                <a:gd name="textAreaLeft" fmla="*/ 6480 w 134640"/>
                <a:gd name="textAreaRight" fmla="*/ 128160 w 134640"/>
                <a:gd name="textAreaTop" fmla="*/ 6480 h 325800"/>
                <a:gd name="textAreaBottom" fmla="*/ 319320 h 325800"/>
              </a:gdLst>
              <a:ahLst/>
              <a:rect l="textAreaLeft" t="textAreaTop" r="textAreaRight" b="textAreaBottom"/>
              <a:pathLst>
                <a:path w="21600" h="52186">
                  <a:moveTo>
                    <a:pt x="3600" y="0"/>
                  </a:moveTo>
                  <a:arcTo wR="3600" hR="3600" stAng="16200000" swAng="-5400000"/>
                  <a:lnTo>
                    <a:pt x="0" y="48586"/>
                  </a:lnTo>
                  <a:arcTo wR="3600" hR="3600" stAng="10800000" swAng="-5400000"/>
                  <a:lnTo>
                    <a:pt x="18000" y="521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ounded Rectangle 32"/>
            <p:cNvSpPr/>
            <p:nvPr/>
          </p:nvSpPr>
          <p:spPr>
            <a:xfrm rot="6181200">
              <a:off x="3164040" y="1704600"/>
              <a:ext cx="360000" cy="1767600"/>
            </a:xfrm>
            <a:custGeom>
              <a:avLst/>
              <a:gdLst>
                <a:gd name="textAreaLeft" fmla="*/ 17280 w 360000"/>
                <a:gd name="textAreaRight" fmla="*/ 342720 w 360000"/>
                <a:gd name="textAreaTop" fmla="*/ 17280 h 1767600"/>
                <a:gd name="textAreaBottom" fmla="*/ 1750320 h 1767600"/>
              </a:gdLst>
              <a:ahLst/>
              <a:rect l="textAreaLeft" t="textAreaTop" r="textAreaRight" b="textAreaBottom"/>
              <a:pathLst>
                <a:path w="21600" h="105972">
                  <a:moveTo>
                    <a:pt x="3600" y="0"/>
                  </a:moveTo>
                  <a:arcTo wR="3600" hR="3600" stAng="16200000" swAng="-5400000"/>
                  <a:lnTo>
                    <a:pt x="0" y="102372"/>
                  </a:lnTo>
                  <a:arcTo wR="3600" hR="3600" stAng="10800000" swAng="-5400000"/>
                  <a:lnTo>
                    <a:pt x="18000" y="1059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ounded Rectangle 46"/>
            <p:cNvSpPr/>
            <p:nvPr/>
          </p:nvSpPr>
          <p:spPr>
            <a:xfrm rot="6181200">
              <a:off x="3053160" y="2114640"/>
              <a:ext cx="134640" cy="1349640"/>
            </a:xfrm>
            <a:custGeom>
              <a:avLst/>
              <a:gdLst>
                <a:gd name="textAreaLeft" fmla="*/ 6480 w 134640"/>
                <a:gd name="textAreaRight" fmla="*/ 128160 w 134640"/>
                <a:gd name="textAreaTop" fmla="*/ 6480 h 1349640"/>
                <a:gd name="textAreaBottom" fmla="*/ 1343160 h 1349640"/>
              </a:gdLst>
              <a:ahLst/>
              <a:rect l="textAreaLeft" t="textAreaTop" r="textAreaRight" b="textAreaBottom"/>
              <a:pathLst>
                <a:path w="21600" h="216000">
                  <a:moveTo>
                    <a:pt x="3600" y="0"/>
                  </a:moveTo>
                  <a:arcTo wR="3600" hR="3600" stAng="16200000" swAng="-5400000"/>
                  <a:lnTo>
                    <a:pt x="0" y="212400"/>
                  </a:lnTo>
                  <a:arcTo wR="3600" hR="3600" stAng="10800000" swAng="-5400000"/>
                  <a:lnTo>
                    <a:pt x="18000" y="2160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lowchart: Decision 47"/>
            <p:cNvSpPr/>
            <p:nvPr/>
          </p:nvSpPr>
          <p:spPr>
            <a:xfrm rot="6181200">
              <a:off x="3334680" y="1616400"/>
              <a:ext cx="90360" cy="158148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rapezoid 49"/>
            <p:cNvSpPr/>
            <p:nvPr/>
          </p:nvSpPr>
          <p:spPr>
            <a:xfrm rot="16981200">
              <a:off x="881640" y="1981440"/>
              <a:ext cx="90360" cy="185760"/>
            </a:xfrm>
            <a:custGeom>
              <a:avLst/>
              <a:gdLst/>
              <a:ahLst/>
              <a:rect l="l" t="t" r="r" b="b"/>
              <a:pathLst>
                <a:path w="153083" h="304609">
                  <a:moveTo>
                    <a:pt x="0" y="304609"/>
                  </a:moveTo>
                  <a:lnTo>
                    <a:pt x="38271" y="0"/>
                  </a:lnTo>
                  <a:lnTo>
                    <a:pt x="114812" y="0"/>
                  </a:lnTo>
                  <a:lnTo>
                    <a:pt x="153083" y="304609"/>
                  </a:lnTo>
                  <a:lnTo>
                    <a:pt x="0" y="304609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50"/>
            <p:cNvSpPr/>
            <p:nvPr/>
          </p:nvSpPr>
          <p:spPr>
            <a:xfrm rot="781200">
              <a:off x="3156120" y="2494080"/>
              <a:ext cx="4651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auhaus 93"/>
                </a:rPr>
                <a:t>27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rapezoid 52"/>
            <p:cNvSpPr/>
            <p:nvPr/>
          </p:nvSpPr>
          <p:spPr>
            <a:xfrm rot="16981200">
              <a:off x="1453320" y="1632960"/>
              <a:ext cx="179280" cy="1163520"/>
            </a:xfrm>
            <a:custGeom>
              <a:avLst/>
              <a:gdLst/>
              <a:ahLst/>
              <a:rect l="l" t="t" r="r" b="b"/>
              <a:pathLst>
                <a:path w="303480" h="1905762">
                  <a:moveTo>
                    <a:pt x="0" y="1905762"/>
                  </a:moveTo>
                  <a:lnTo>
                    <a:pt x="59009" y="0"/>
                  </a:lnTo>
                  <a:lnTo>
                    <a:pt x="244471" y="0"/>
                  </a:lnTo>
                  <a:lnTo>
                    <a:pt x="303480" y="1905762"/>
                  </a:lnTo>
                  <a:lnTo>
                    <a:pt x="0" y="1905762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&quot;No&quot; Symbol 55"/>
          <p:cNvSpPr/>
          <p:nvPr/>
        </p:nvSpPr>
        <p:spPr>
          <a:xfrm>
            <a:off x="1954080" y="1712880"/>
            <a:ext cx="2286000" cy="2209680"/>
          </a:xfrm>
          <a:custGeom>
            <a:avLst/>
            <a:gdLst/>
            <a:ahLst/>
            <a:rect l="l" t="t" r="r" b="b"/>
            <a:pathLst>
              <a:path w="2286000" h="2209800">
                <a:moveTo>
                  <a:pt x="0" y="1104900"/>
                </a:moveTo>
                <a:cubicBezTo>
                  <a:pt x="0" y="494681"/>
                  <a:pt x="511739" y="0"/>
                  <a:pt x="1143000" y="0"/>
                </a:cubicBezTo>
                <a:cubicBezTo>
                  <a:pt x="1774261" y="0"/>
                  <a:pt x="2286000" y="494681"/>
                  <a:pt x="2286000" y="1104900"/>
                </a:cubicBezTo>
                <a:cubicBezTo>
                  <a:pt x="2286000" y="1715119"/>
                  <a:pt x="1774261" y="2209800"/>
                  <a:pt x="1143000" y="2209800"/>
                </a:cubicBezTo>
                <a:cubicBezTo>
                  <a:pt x="511739" y="2209800"/>
                  <a:pt x="0" y="1715119"/>
                  <a:pt x="0" y="1104900"/>
                </a:cubicBezTo>
                <a:close/>
                <a:moveTo>
                  <a:pt x="1885016" y="1699288"/>
                </a:moveTo>
                <a:cubicBezTo>
                  <a:pt x="2213959" y="1320392"/>
                  <a:pt x="2176797" y="760507"/>
                  <a:pt x="1800423" y="424807"/>
                </a:cubicBezTo>
                <a:cubicBezTo>
                  <a:pt x="1445679" y="108400"/>
                  <a:pt x="901923" y="93011"/>
                  <a:pt x="528402" y="388807"/>
                </a:cubicBezTo>
                <a:lnTo>
                  <a:pt x="1885016" y="1699288"/>
                </a:lnTo>
                <a:close/>
                <a:moveTo>
                  <a:pt x="400984" y="510512"/>
                </a:moveTo>
                <a:cubicBezTo>
                  <a:pt x="72041" y="889408"/>
                  <a:pt x="109203" y="1449293"/>
                  <a:pt x="485577" y="1784993"/>
                </a:cubicBezTo>
                <a:cubicBezTo>
                  <a:pt x="840321" y="2101400"/>
                  <a:pt x="1384077" y="2116789"/>
                  <a:pt x="1757598" y="1820993"/>
                </a:cubicBezTo>
                <a:lnTo>
                  <a:pt x="400984" y="51051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57"/>
          <p:cNvSpPr/>
          <p:nvPr/>
        </p:nvSpPr>
        <p:spPr>
          <a:xfrm>
            <a:off x="5181480" y="152388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ver use a pipette in anything but a vertical ori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Box 15"/>
          <p:cNvSpPr/>
          <p:nvPr/>
        </p:nvSpPr>
        <p:spPr>
          <a:xfrm>
            <a:off x="37339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ngs to AVOID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24"/>
          <p:cNvGrpSpPr/>
          <p:nvPr/>
        </p:nvGrpSpPr>
        <p:grpSpPr>
          <a:xfrm>
            <a:off x="3657600" y="1371240"/>
            <a:ext cx="939600" cy="3670560"/>
            <a:chOff x="3657600" y="1371240"/>
            <a:chExt cx="939600" cy="3670560"/>
          </a:xfrm>
        </p:grpSpPr>
        <p:sp>
          <p:nvSpPr>
            <p:cNvPr id="530" name="Trapezoid 25"/>
            <p:cNvSpPr/>
            <p:nvPr/>
          </p:nvSpPr>
          <p:spPr>
            <a:xfrm rot="10800000">
              <a:off x="4017600" y="3462480"/>
              <a:ext cx="358920" cy="465120"/>
            </a:xfrm>
            <a:custGeom>
              <a:avLst/>
              <a:gdLst/>
              <a:ahLst/>
              <a:rect l="l" t="t" r="r" b="b"/>
              <a:pathLst>
                <a:path w="608060" h="762889">
                  <a:moveTo>
                    <a:pt x="0" y="762889"/>
                  </a:moveTo>
                  <a:lnTo>
                    <a:pt x="152015" y="0"/>
                  </a:lnTo>
                  <a:lnTo>
                    <a:pt x="456045" y="0"/>
                  </a:lnTo>
                  <a:lnTo>
                    <a:pt x="608060" y="762889"/>
                  </a:lnTo>
                  <a:lnTo>
                    <a:pt x="0" y="762889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Can 27"/>
            <p:cNvSpPr/>
            <p:nvPr/>
          </p:nvSpPr>
          <p:spPr>
            <a:xfrm rot="10800000">
              <a:off x="4017600" y="1371240"/>
              <a:ext cx="314280" cy="18540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Can 28"/>
            <p:cNvSpPr/>
            <p:nvPr/>
          </p:nvSpPr>
          <p:spPr>
            <a:xfrm flipV="1">
              <a:off x="4106880" y="1510560"/>
              <a:ext cx="135000" cy="277560"/>
            </a:xfrm>
            <a:prstGeom prst="can">
              <a:avLst>
                <a:gd name="adj" fmla="val 12546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Block Arc 29"/>
            <p:cNvSpPr/>
            <p:nvPr/>
          </p:nvSpPr>
          <p:spPr>
            <a:xfrm>
              <a:off x="3657600" y="1742760"/>
              <a:ext cx="405000" cy="371160"/>
            </a:xfrm>
            <a:custGeom>
              <a:avLst/>
              <a:gdLst/>
              <a:ahLst/>
              <a:rect l="l" t="t" r="r" b="b"/>
              <a:pathLst>
                <a:path w="686086" h="609270">
                  <a:moveTo>
                    <a:pt x="282" y="316987"/>
                  </a:moveTo>
                  <a:cubicBezTo>
                    <a:pt x="-6178" y="175607"/>
                    <a:pt x="97834" y="48888"/>
                    <a:pt x="251376" y="11078"/>
                  </a:cubicBezTo>
                  <a:cubicBezTo>
                    <a:pt x="389752" y="-22997"/>
                    <a:pt x="537385" y="23070"/>
                    <a:pt x="621342" y="126523"/>
                  </a:cubicBezTo>
                  <a:lnTo>
                    <a:pt x="522344" y="189883"/>
                  </a:lnTo>
                  <a:cubicBezTo>
                    <a:pt x="466964" y="130223"/>
                    <a:pt x="374039" y="103775"/>
                    <a:pt x="286226" y="122680"/>
                  </a:cubicBezTo>
                  <a:cubicBezTo>
                    <a:pt x="182833" y="144940"/>
                    <a:pt x="112245" y="224179"/>
                    <a:pt x="116876" y="312785"/>
                  </a:cubicBezTo>
                  <a:lnTo>
                    <a:pt x="282" y="316987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Diagonal Stripe 30"/>
            <p:cNvSpPr/>
            <p:nvPr/>
          </p:nvSpPr>
          <p:spPr>
            <a:xfrm rot="13935600">
              <a:off x="4307760" y="1767240"/>
              <a:ext cx="266400" cy="189000"/>
            </a:xfrm>
            <a:custGeom>
              <a:avLst/>
              <a:gdLst/>
              <a:ahLst/>
              <a:rect l="l" t="t" r="r" b="b"/>
              <a:pathLst>
                <a:path w="437425" h="320174">
                  <a:moveTo>
                    <a:pt x="0" y="202776"/>
                  </a:moveTo>
                  <a:lnTo>
                    <a:pt x="277034" y="0"/>
                  </a:lnTo>
                  <a:lnTo>
                    <a:pt x="437425" y="0"/>
                  </a:lnTo>
                  <a:lnTo>
                    <a:pt x="0" y="320174"/>
                  </a:lnTo>
                  <a:lnTo>
                    <a:pt x="0" y="202776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ounded Rectangle 31"/>
            <p:cNvSpPr/>
            <p:nvPr/>
          </p:nvSpPr>
          <p:spPr>
            <a:xfrm flipH="1">
              <a:off x="4287960" y="1882800"/>
              <a:ext cx="133200" cy="325440"/>
            </a:xfrm>
            <a:custGeom>
              <a:avLst/>
              <a:gdLst>
                <a:gd name="textAreaLeft" fmla="*/ 6480 w 133200"/>
                <a:gd name="textAreaRight" fmla="*/ 126720 w 133200"/>
                <a:gd name="textAreaTop" fmla="*/ 6480 h 325440"/>
                <a:gd name="textAreaBottom" fmla="*/ 318960 h 325440"/>
              </a:gdLst>
              <a:ahLst/>
              <a:rect l="textAreaLeft" t="textAreaTop" r="textAreaRight" b="textAreaBottom"/>
              <a:pathLst>
                <a:path w="21600" h="52690">
                  <a:moveTo>
                    <a:pt x="3600" y="0"/>
                  </a:moveTo>
                  <a:arcTo wR="3600" hR="3600" stAng="16200000" swAng="-5400000"/>
                  <a:lnTo>
                    <a:pt x="0" y="49090"/>
                  </a:lnTo>
                  <a:arcTo wR="3600" hR="3600" stAng="10800000" swAng="-5400000"/>
                  <a:lnTo>
                    <a:pt x="18000" y="526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ounded Rectangle 32"/>
            <p:cNvSpPr/>
            <p:nvPr/>
          </p:nvSpPr>
          <p:spPr>
            <a:xfrm>
              <a:off x="3971880" y="1742760"/>
              <a:ext cx="360360" cy="1765080"/>
            </a:xfrm>
            <a:custGeom>
              <a:avLst/>
              <a:gdLst>
                <a:gd name="textAreaLeft" fmla="*/ 17280 w 360360"/>
                <a:gd name="textAreaRight" fmla="*/ 343080 w 360360"/>
                <a:gd name="textAreaTop" fmla="*/ 17280 h 1765080"/>
                <a:gd name="textAreaBottom" fmla="*/ 1747800 h 1765080"/>
              </a:gdLst>
              <a:ahLst/>
              <a:rect l="textAreaLeft" t="textAreaTop" r="textAreaRight" b="textAreaBottom"/>
              <a:pathLst>
                <a:path w="21600" h="105715">
                  <a:moveTo>
                    <a:pt x="3600" y="0"/>
                  </a:moveTo>
                  <a:arcTo wR="3600" hR="3600" stAng="16200000" swAng="-5400000"/>
                  <a:lnTo>
                    <a:pt x="0" y="102115"/>
                  </a:lnTo>
                  <a:arcTo wR="3600" hR="3600" stAng="10800000" swAng="-5400000"/>
                  <a:lnTo>
                    <a:pt x="18000" y="1057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ounded Rectangle 46"/>
            <p:cNvSpPr/>
            <p:nvPr/>
          </p:nvSpPr>
          <p:spPr>
            <a:xfrm>
              <a:off x="4332600" y="2114280"/>
              <a:ext cx="135000" cy="1347840"/>
            </a:xfrm>
            <a:custGeom>
              <a:avLst/>
              <a:gdLst>
                <a:gd name="textAreaLeft" fmla="*/ 6480 w 135000"/>
                <a:gd name="textAreaRight" fmla="*/ 128520 w 135000"/>
                <a:gd name="textAreaTop" fmla="*/ 6480 h 1347840"/>
                <a:gd name="textAreaBottom" fmla="*/ 1341360 h 1347840"/>
              </a:gdLst>
              <a:ahLst/>
              <a:rect l="textAreaLeft" t="textAreaTop" r="textAreaRight" b="textAreaBottom"/>
              <a:pathLst>
                <a:path w="21600" h="215138">
                  <a:moveTo>
                    <a:pt x="3600" y="0"/>
                  </a:moveTo>
                  <a:arcTo wR="3600" hR="3600" stAng="16200000" swAng="-5400000"/>
                  <a:lnTo>
                    <a:pt x="0" y="211538"/>
                  </a:lnTo>
                  <a:arcTo wR="3600" hR="3600" stAng="10800000" swAng="-5400000"/>
                  <a:lnTo>
                    <a:pt x="18000" y="2151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lowchart: Decision 47"/>
            <p:cNvSpPr/>
            <p:nvPr/>
          </p:nvSpPr>
          <p:spPr>
            <a:xfrm>
              <a:off x="3927600" y="1836720"/>
              <a:ext cx="90360" cy="15793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50"/>
            <p:cNvSpPr/>
            <p:nvPr/>
          </p:nvSpPr>
          <p:spPr>
            <a:xfrm rot="16200000">
              <a:off x="3939120" y="2456280"/>
              <a:ext cx="46440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auhaus 93"/>
                </a:rPr>
                <a:t>27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rapezoid 52"/>
            <p:cNvSpPr/>
            <p:nvPr/>
          </p:nvSpPr>
          <p:spPr>
            <a:xfrm rot="10800000">
              <a:off x="4106520" y="3879720"/>
              <a:ext cx="181080" cy="1162080"/>
            </a:xfrm>
            <a:custGeom>
              <a:avLst/>
              <a:gdLst/>
              <a:ahLst/>
              <a:rect l="l" t="t" r="r" b="b"/>
              <a:pathLst>
                <a:path w="306720" h="1905923">
                  <a:moveTo>
                    <a:pt x="0" y="1905923"/>
                  </a:moveTo>
                  <a:lnTo>
                    <a:pt x="59639" y="0"/>
                  </a:lnTo>
                  <a:lnTo>
                    <a:pt x="247081" y="0"/>
                  </a:lnTo>
                  <a:lnTo>
                    <a:pt x="306720" y="1905923"/>
                  </a:lnTo>
                  <a:lnTo>
                    <a:pt x="0" y="1905923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&quot;No&quot; Symbol 55"/>
          <p:cNvSpPr/>
          <p:nvPr/>
        </p:nvSpPr>
        <p:spPr>
          <a:xfrm>
            <a:off x="3048120" y="2057400"/>
            <a:ext cx="2286000" cy="2209680"/>
          </a:xfrm>
          <a:custGeom>
            <a:avLst/>
            <a:gdLst/>
            <a:ahLst/>
            <a:rect l="l" t="t" r="r" b="b"/>
            <a:pathLst>
              <a:path w="2286000" h="2209800">
                <a:moveTo>
                  <a:pt x="0" y="1104900"/>
                </a:moveTo>
                <a:cubicBezTo>
                  <a:pt x="0" y="494681"/>
                  <a:pt x="511739" y="0"/>
                  <a:pt x="1143000" y="0"/>
                </a:cubicBezTo>
                <a:cubicBezTo>
                  <a:pt x="1774261" y="0"/>
                  <a:pt x="2286000" y="494681"/>
                  <a:pt x="2286000" y="1104900"/>
                </a:cubicBezTo>
                <a:cubicBezTo>
                  <a:pt x="2286000" y="1715119"/>
                  <a:pt x="1774261" y="2209800"/>
                  <a:pt x="1143000" y="2209800"/>
                </a:cubicBezTo>
                <a:cubicBezTo>
                  <a:pt x="511739" y="2209800"/>
                  <a:pt x="0" y="1715119"/>
                  <a:pt x="0" y="1104900"/>
                </a:cubicBezTo>
                <a:close/>
                <a:moveTo>
                  <a:pt x="1885016" y="1699288"/>
                </a:moveTo>
                <a:cubicBezTo>
                  <a:pt x="2213959" y="1320392"/>
                  <a:pt x="2176797" y="760507"/>
                  <a:pt x="1800423" y="424807"/>
                </a:cubicBezTo>
                <a:cubicBezTo>
                  <a:pt x="1445679" y="108400"/>
                  <a:pt x="901923" y="93011"/>
                  <a:pt x="528402" y="388807"/>
                </a:cubicBezTo>
                <a:lnTo>
                  <a:pt x="1885016" y="1699288"/>
                </a:lnTo>
                <a:close/>
                <a:moveTo>
                  <a:pt x="400984" y="510512"/>
                </a:moveTo>
                <a:cubicBezTo>
                  <a:pt x="72041" y="889408"/>
                  <a:pt x="109203" y="1449293"/>
                  <a:pt x="485577" y="1784993"/>
                </a:cubicBezTo>
                <a:cubicBezTo>
                  <a:pt x="840321" y="2101400"/>
                  <a:pt x="1384077" y="2116789"/>
                  <a:pt x="1757598" y="1820993"/>
                </a:cubicBezTo>
                <a:lnTo>
                  <a:pt x="400984" y="51051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rapezoid 17"/>
          <p:cNvSpPr/>
          <p:nvPr/>
        </p:nvSpPr>
        <p:spPr>
          <a:xfrm flipV="1">
            <a:off x="3505320" y="5334120"/>
            <a:ext cx="1295280" cy="761760"/>
          </a:xfrm>
          <a:custGeom>
            <a:avLst/>
            <a:gdLst/>
            <a:ahLst/>
            <a:rect l="l" t="t" r="r" b="b"/>
            <a:pathLst>
              <a:path w="1295400" h="762000">
                <a:moveTo>
                  <a:pt x="0" y="762000"/>
                </a:moveTo>
                <a:lnTo>
                  <a:pt x="190500" y="0"/>
                </a:lnTo>
                <a:lnTo>
                  <a:pt x="1104900" y="0"/>
                </a:lnTo>
                <a:lnTo>
                  <a:pt x="1295400" y="762000"/>
                </a:lnTo>
                <a:lnTo>
                  <a:pt x="0" y="762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18"/>
          <p:cNvSpPr/>
          <p:nvPr/>
        </p:nvSpPr>
        <p:spPr>
          <a:xfrm>
            <a:off x="5181480" y="15238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ver use a pipette without a t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rapezoid 19"/>
          <p:cNvSpPr/>
          <p:nvPr/>
        </p:nvSpPr>
        <p:spPr>
          <a:xfrm flipV="1">
            <a:off x="3429000" y="5181480"/>
            <a:ext cx="1447920" cy="914400"/>
          </a:xfrm>
          <a:custGeom>
            <a:avLst/>
            <a:gdLst/>
            <a:ahLst/>
            <a:rect l="l" t="t" r="r" b="b"/>
            <a:pathLst>
              <a:path w="1447800" h="914400">
                <a:moveTo>
                  <a:pt x="0" y="914400"/>
                </a:moveTo>
                <a:lnTo>
                  <a:pt x="228600" y="0"/>
                </a:lnTo>
                <a:lnTo>
                  <a:pt x="1219200" y="0"/>
                </a:lnTo>
                <a:lnTo>
                  <a:pt x="1447800" y="914400"/>
                </a:lnTo>
                <a:lnTo>
                  <a:pt x="0" y="9144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1"/>
          <p:cNvSpPr/>
          <p:nvPr/>
        </p:nvSpPr>
        <p:spPr>
          <a:xfrm>
            <a:off x="457200" y="129528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b050"/>
                </a:solidFill>
                <a:latin typeface="Arial"/>
              </a:rPr>
              <a:t>HAPPY PIPETT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Can 18"/>
          <p:cNvSpPr/>
          <p:nvPr/>
        </p:nvSpPr>
        <p:spPr>
          <a:xfrm rot="10800000">
            <a:off x="1523880" y="227880"/>
            <a:ext cx="1067040" cy="546120"/>
          </a:xfrm>
          <a:prstGeom prst="can">
            <a:avLst>
              <a:gd name="adj" fmla="val 32435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Block Arc 20"/>
          <p:cNvSpPr/>
          <p:nvPr/>
        </p:nvSpPr>
        <p:spPr>
          <a:xfrm>
            <a:off x="609480" y="1268280"/>
            <a:ext cx="1676520" cy="1246320"/>
          </a:xfrm>
          <a:custGeom>
            <a:avLst/>
            <a:gdLst/>
            <a:ahLst/>
            <a:rect l="l" t="t" r="r" b="b"/>
            <a:pathLst>
              <a:path w="1676400" h="1246187">
                <a:moveTo>
                  <a:pt x="983" y="653263"/>
                </a:moveTo>
                <a:cubicBezTo>
                  <a:pt x="-18634" y="352435"/>
                  <a:pt x="254009" y="84238"/>
                  <a:pt x="648671" y="16137"/>
                </a:cubicBezTo>
                <a:cubicBezTo>
                  <a:pt x="952331" y="-36261"/>
                  <a:pt x="1270024" y="40940"/>
                  <a:pt x="1473414" y="216556"/>
                </a:cubicBezTo>
                <a:lnTo>
                  <a:pt x="1262577" y="351492"/>
                </a:lnTo>
                <a:cubicBezTo>
                  <a:pt x="1120781" y="260391"/>
                  <a:pt x="917299" y="220831"/>
                  <a:pt x="720481" y="246102"/>
                </a:cubicBezTo>
                <a:cubicBezTo>
                  <a:pt x="427815" y="283680"/>
                  <a:pt x="222818" y="453572"/>
                  <a:pt x="239565" y="644665"/>
                </a:cubicBezTo>
                <a:lnTo>
                  <a:pt x="983" y="65326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Diagonal Stripe 21"/>
          <p:cNvSpPr/>
          <p:nvPr/>
        </p:nvSpPr>
        <p:spPr>
          <a:xfrm rot="13935600">
            <a:off x="2311200" y="907200"/>
            <a:ext cx="1092240" cy="984600"/>
          </a:xfrm>
          <a:custGeom>
            <a:avLst/>
            <a:gdLst/>
            <a:ahLst/>
            <a:rect l="l" t="t" r="r" b="b"/>
            <a:pathLst>
              <a:path w="1092200" h="984250">
                <a:moveTo>
                  <a:pt x="0" y="623355"/>
                </a:moveTo>
                <a:lnTo>
                  <a:pt x="691723" y="0"/>
                </a:lnTo>
                <a:lnTo>
                  <a:pt x="1092200" y="0"/>
                </a:lnTo>
                <a:lnTo>
                  <a:pt x="0" y="984250"/>
                </a:lnTo>
                <a:lnTo>
                  <a:pt x="0" y="623355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ounded Rectangle 22"/>
          <p:cNvSpPr/>
          <p:nvPr/>
        </p:nvSpPr>
        <p:spPr>
          <a:xfrm flipH="1">
            <a:off x="2438280" y="1600200"/>
            <a:ext cx="457200" cy="9558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55800"/>
              <a:gd name="textAreaBottom" fmla="*/ 933480 h 955800"/>
            </a:gdLst>
            <a:ahLst/>
            <a:rect l="textAreaLeft" t="textAreaTop" r="textAreaRight" b="textAreaBottom"/>
            <a:pathLst>
              <a:path w="21600" h="45137">
                <a:moveTo>
                  <a:pt x="3600" y="0"/>
                </a:moveTo>
                <a:arcTo wR="3600" hR="3600" stAng="16200000" swAng="-5400000"/>
                <a:lnTo>
                  <a:pt x="0" y="41537"/>
                </a:lnTo>
                <a:arcTo wR="3600" hR="3600" stAng="10800000" swAng="-5400000"/>
                <a:lnTo>
                  <a:pt x="18000" y="451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ounded Rectangle 23"/>
          <p:cNvSpPr/>
          <p:nvPr/>
        </p:nvSpPr>
        <p:spPr>
          <a:xfrm>
            <a:off x="1447920" y="1295280"/>
            <a:ext cx="1218960" cy="519300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5193000"/>
              <a:gd name="textAreaBottom" fmla="*/ 5133600 h 5193000"/>
            </a:gdLst>
            <a:ahLst/>
            <a:rect l="textAreaLeft" t="textAreaTop" r="textAreaRight" b="textAreaBottom"/>
            <a:pathLst>
              <a:path w="21600" h="91999">
                <a:moveTo>
                  <a:pt x="3600" y="0"/>
                </a:moveTo>
                <a:arcTo wR="3600" hR="3600" stAng="16200000" swAng="-5400000"/>
                <a:lnTo>
                  <a:pt x="0" y="88399"/>
                </a:lnTo>
                <a:arcTo wR="3600" hR="3600" stAng="10800000" swAng="-5400000"/>
                <a:lnTo>
                  <a:pt x="18000" y="919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ounded Rectangle 24"/>
          <p:cNvSpPr/>
          <p:nvPr/>
        </p:nvSpPr>
        <p:spPr>
          <a:xfrm>
            <a:off x="2514600" y="2438280"/>
            <a:ext cx="457200" cy="39625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962520"/>
              <a:gd name="textAreaBottom" fmla="*/ 3940200 h 3962520"/>
            </a:gdLst>
            <a:ahLst/>
            <a:rect l="textAreaLeft" t="textAreaTop" r="textAreaRight" b="textAreaBottom"/>
            <a:pathLst>
              <a:path w="21600" h="187075">
                <a:moveTo>
                  <a:pt x="3600" y="0"/>
                </a:moveTo>
                <a:arcTo wR="3600" hR="3600" stAng="16200000" swAng="-5400000"/>
                <a:lnTo>
                  <a:pt x="0" y="183475"/>
                </a:lnTo>
                <a:arcTo wR="3600" hR="3600" stAng="10800000" swAng="-5400000"/>
                <a:lnTo>
                  <a:pt x="18000" y="1870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lowchart: Decision 25"/>
          <p:cNvSpPr/>
          <p:nvPr/>
        </p:nvSpPr>
        <p:spPr>
          <a:xfrm>
            <a:off x="1295280" y="1447920"/>
            <a:ext cx="304920" cy="4645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7"/>
          <p:cNvSpPr/>
          <p:nvPr/>
        </p:nvSpPr>
        <p:spPr>
          <a:xfrm rot="16200000">
            <a:off x="1285200" y="2708640"/>
            <a:ext cx="1366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Can 29"/>
          <p:cNvSpPr/>
          <p:nvPr/>
        </p:nvSpPr>
        <p:spPr>
          <a:xfrm flipV="1">
            <a:off x="1523880" y="1370880"/>
            <a:ext cx="1067040" cy="3962520"/>
          </a:xfrm>
          <a:prstGeom prst="can">
            <a:avLst>
              <a:gd name="adj" fmla="val 313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Can 19"/>
          <p:cNvSpPr/>
          <p:nvPr/>
        </p:nvSpPr>
        <p:spPr>
          <a:xfrm flipV="1">
            <a:off x="1828800" y="609480"/>
            <a:ext cx="457200" cy="2322720"/>
          </a:xfrm>
          <a:prstGeom prst="can">
            <a:avLst>
              <a:gd name="adj" fmla="val 4921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Can 30"/>
          <p:cNvSpPr/>
          <p:nvPr/>
        </p:nvSpPr>
        <p:spPr>
          <a:xfrm rot="10800000">
            <a:off x="1523880" y="2819520"/>
            <a:ext cx="1067040" cy="272880"/>
          </a:xfrm>
          <a:prstGeom prst="can">
            <a:avLst>
              <a:gd name="adj" fmla="val 35666"/>
            </a:avLst>
          </a:prstGeom>
          <a:solidFill>
            <a:srgbClr val="ddd9c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16"/>
          <p:cNvGrpSpPr/>
          <p:nvPr/>
        </p:nvGrpSpPr>
        <p:grpSpPr>
          <a:xfrm>
            <a:off x="3809880" y="457200"/>
            <a:ext cx="1587960" cy="6248520"/>
            <a:chOff x="3809880" y="457200"/>
            <a:chExt cx="1587960" cy="6248520"/>
          </a:xfrm>
        </p:grpSpPr>
        <p:sp>
          <p:nvSpPr>
            <p:cNvPr id="558" name="Trapezoid 12"/>
            <p:cNvSpPr/>
            <p:nvPr/>
          </p:nvSpPr>
          <p:spPr>
            <a:xfrm rot="10800000">
              <a:off x="4419000" y="3886200"/>
              <a:ext cx="609480" cy="761760"/>
            </a:xfrm>
            <a:custGeom>
              <a:avLst/>
              <a:gdLst/>
              <a:ahLst/>
              <a:rect l="l" t="t" r="r" b="b"/>
              <a:pathLst>
                <a:path w="609754" h="762000">
                  <a:moveTo>
                    <a:pt x="0" y="762000"/>
                  </a:moveTo>
                  <a:lnTo>
                    <a:pt x="152439" y="0"/>
                  </a:lnTo>
                  <a:lnTo>
                    <a:pt x="457316" y="0"/>
                  </a:lnTo>
                  <a:lnTo>
                    <a:pt x="609754" y="762000"/>
                  </a:lnTo>
                  <a:lnTo>
                    <a:pt x="0" y="76200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Can 4"/>
            <p:cNvSpPr/>
            <p:nvPr/>
          </p:nvSpPr>
          <p:spPr>
            <a:xfrm rot="10800000">
              <a:off x="4419360" y="457200"/>
              <a:ext cx="533520" cy="30456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Can 5"/>
            <p:cNvSpPr/>
            <p:nvPr/>
          </p:nvSpPr>
          <p:spPr>
            <a:xfrm flipV="1">
              <a:off x="4572000" y="685800"/>
              <a:ext cx="228600" cy="457200"/>
            </a:xfrm>
            <a:prstGeom prst="can">
              <a:avLst>
                <a:gd name="adj" fmla="val 12504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Block Arc 6"/>
            <p:cNvSpPr/>
            <p:nvPr/>
          </p:nvSpPr>
          <p:spPr>
            <a:xfrm>
              <a:off x="3809880" y="1066680"/>
              <a:ext cx="685800" cy="609480"/>
            </a:xfrm>
            <a:custGeom>
              <a:avLst/>
              <a:gdLst/>
              <a:ahLst/>
              <a:rect l="l" t="t" r="r" b="b"/>
              <a:pathLst>
                <a:path w="685973" h="609600">
                  <a:moveTo>
                    <a:pt x="282" y="317150"/>
                  </a:moveTo>
                  <a:cubicBezTo>
                    <a:pt x="-6172" y="175717"/>
                    <a:pt x="97792" y="48948"/>
                    <a:pt x="251276" y="11099"/>
                  </a:cubicBezTo>
                  <a:cubicBezTo>
                    <a:pt x="389685" y="-23033"/>
                    <a:pt x="537366" y="23094"/>
                    <a:pt x="621309" y="126675"/>
                  </a:cubicBezTo>
                  <a:lnTo>
                    <a:pt x="522264" y="190062"/>
                  </a:lnTo>
                  <a:cubicBezTo>
                    <a:pt x="466911" y="130303"/>
                    <a:pt x="373965" y="103810"/>
                    <a:pt x="286142" y="122758"/>
                  </a:cubicBezTo>
                  <a:cubicBezTo>
                    <a:pt x="182836" y="145047"/>
                    <a:pt x="112316" y="224312"/>
                    <a:pt x="116939" y="312946"/>
                  </a:cubicBezTo>
                  <a:lnTo>
                    <a:pt x="282" y="317150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Diagonal Stripe 7"/>
            <p:cNvSpPr/>
            <p:nvPr/>
          </p:nvSpPr>
          <p:spPr>
            <a:xfrm rot="13935600">
              <a:off x="4917600" y="1101240"/>
              <a:ext cx="438120" cy="320400"/>
            </a:xfrm>
            <a:custGeom>
              <a:avLst/>
              <a:gdLst/>
              <a:ahLst/>
              <a:rect l="l" t="t" r="r" b="b"/>
              <a:pathLst>
                <a:path w="438150" h="320756">
                  <a:moveTo>
                    <a:pt x="0" y="203144"/>
                  </a:moveTo>
                  <a:lnTo>
                    <a:pt x="277494" y="0"/>
                  </a:lnTo>
                  <a:lnTo>
                    <a:pt x="438150" y="0"/>
                  </a:lnTo>
                  <a:lnTo>
                    <a:pt x="0" y="320756"/>
                  </a:lnTo>
                  <a:lnTo>
                    <a:pt x="0" y="203144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ounded Rectangle 10"/>
            <p:cNvSpPr/>
            <p:nvPr/>
          </p:nvSpPr>
          <p:spPr>
            <a:xfrm flipH="1">
              <a:off x="4876200" y="1295280"/>
              <a:ext cx="228600" cy="53316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533160"/>
                <a:gd name="textAreaBottom" fmla="*/ 522000 h 533160"/>
              </a:gdLst>
              <a:ahLst/>
              <a:rect l="textAreaLeft" t="textAreaTop" r="textAreaRight" b="textAreaBottom"/>
              <a:pathLst>
                <a:path w="21600" h="50332">
                  <a:moveTo>
                    <a:pt x="3600" y="0"/>
                  </a:moveTo>
                  <a:arcTo wR="3600" hR="3600" stAng="16200000" swAng="-5400000"/>
                  <a:lnTo>
                    <a:pt x="0" y="46732"/>
                  </a:lnTo>
                  <a:arcTo wR="3600" hR="3600" stAng="10800000" swAng="-5400000"/>
                  <a:lnTo>
                    <a:pt x="18000" y="503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ounded Rectangle 8"/>
            <p:cNvSpPr/>
            <p:nvPr/>
          </p:nvSpPr>
          <p:spPr>
            <a:xfrm>
              <a:off x="4343400" y="1066680"/>
              <a:ext cx="609480" cy="289548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2895480"/>
                <a:gd name="textAreaBottom" fmla="*/ 2865960 h 2895480"/>
              </a:gdLst>
              <a:ahLst/>
              <a:rect l="textAreaLeft" t="textAreaTop" r="textAreaRight" b="textAreaBottom"/>
              <a:pathLst>
                <a:path w="21600" h="102568">
                  <a:moveTo>
                    <a:pt x="3600" y="0"/>
                  </a:moveTo>
                  <a:arcTo wR="3600" hR="3600" stAng="16200000" swAng="-5400000"/>
                  <a:lnTo>
                    <a:pt x="0" y="98968"/>
                  </a:lnTo>
                  <a:arcTo wR="3600" hR="3600" stAng="10800000" swAng="-5400000"/>
                  <a:lnTo>
                    <a:pt x="18000" y="102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ounded Rectangle 9"/>
            <p:cNvSpPr/>
            <p:nvPr/>
          </p:nvSpPr>
          <p:spPr>
            <a:xfrm>
              <a:off x="4952880" y="1676160"/>
              <a:ext cx="228600" cy="220968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2209680"/>
                <a:gd name="textAreaBottom" fmla="*/ 2198520 h 2209680"/>
              </a:gdLst>
              <a:ahLst/>
              <a:rect l="textAreaLeft" t="textAreaTop" r="textAreaRight" b="textAreaBottom"/>
              <a:pathLst>
                <a:path w="21600" h="208494">
                  <a:moveTo>
                    <a:pt x="3600" y="0"/>
                  </a:moveTo>
                  <a:arcTo wR="3600" hR="3600" stAng="16200000" swAng="-5400000"/>
                  <a:lnTo>
                    <a:pt x="0" y="204894"/>
                  </a:lnTo>
                  <a:arcTo wR="3600" hR="3600" stAng="10800000" swAng="-5400000"/>
                  <a:lnTo>
                    <a:pt x="18000" y="2084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lowchart: Decision 11"/>
            <p:cNvSpPr/>
            <p:nvPr/>
          </p:nvSpPr>
          <p:spPr>
            <a:xfrm>
              <a:off x="4267080" y="1218960"/>
              <a:ext cx="152280" cy="2590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rapezoid 14"/>
            <p:cNvSpPr/>
            <p:nvPr/>
          </p:nvSpPr>
          <p:spPr>
            <a:xfrm rot="10800000">
              <a:off x="4647600" y="6401160"/>
              <a:ext cx="152280" cy="304560"/>
            </a:xfrm>
            <a:custGeom>
              <a:avLst/>
              <a:gdLst/>
              <a:ahLst/>
              <a:rect l="l" t="t" r="r" b="b"/>
              <a:pathLst>
                <a:path w="152439" h="304800">
                  <a:moveTo>
                    <a:pt x="0" y="304800"/>
                  </a:moveTo>
                  <a:lnTo>
                    <a:pt x="38110" y="0"/>
                  </a:lnTo>
                  <a:lnTo>
                    <a:pt x="114329" y="0"/>
                  </a:lnTo>
                  <a:lnTo>
                    <a:pt x="152439" y="304800"/>
                  </a:lnTo>
                  <a:lnTo>
                    <a:pt x="0" y="304800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15"/>
            <p:cNvSpPr/>
            <p:nvPr/>
          </p:nvSpPr>
          <p:spPr>
            <a:xfrm rot="16200000">
              <a:off x="4298760" y="2253960"/>
              <a:ext cx="7617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rapezoid 13"/>
            <p:cNvSpPr/>
            <p:nvPr/>
          </p:nvSpPr>
          <p:spPr>
            <a:xfrm rot="10800000">
              <a:off x="4572000" y="4572000"/>
              <a:ext cx="304560" cy="1905120"/>
            </a:xfrm>
            <a:custGeom>
              <a:avLst/>
              <a:gdLst/>
              <a:ahLst/>
              <a:rect l="l" t="t" r="r" b="b"/>
              <a:pathLst>
                <a:path w="304877" h="1905000">
                  <a:moveTo>
                    <a:pt x="0" y="1905000"/>
                  </a:moveTo>
                  <a:lnTo>
                    <a:pt x="59280" y="0"/>
                  </a:lnTo>
                  <a:lnTo>
                    <a:pt x="245597" y="0"/>
                  </a:lnTo>
                  <a:lnTo>
                    <a:pt x="304877" y="1905000"/>
                  </a:lnTo>
                  <a:lnTo>
                    <a:pt x="0" y="190500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Rounded Rectangle 24" descr=""/>
          <p:cNvPicPr/>
          <p:nvPr/>
        </p:nvPicPr>
        <p:blipFill>
          <a:blip r:embed="rId1"/>
          <a:stretch/>
        </p:blipFill>
        <p:spPr>
          <a:xfrm>
            <a:off x="2262240" y="1523880"/>
            <a:ext cx="493560" cy="221292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16"/>
          <p:cNvGrpSpPr/>
          <p:nvPr/>
        </p:nvGrpSpPr>
        <p:grpSpPr>
          <a:xfrm>
            <a:off x="1219320" y="228600"/>
            <a:ext cx="1587960" cy="6248520"/>
            <a:chOff x="1219320" y="228600"/>
            <a:chExt cx="1587960" cy="6248520"/>
          </a:xfrm>
        </p:grpSpPr>
        <p:sp>
          <p:nvSpPr>
            <p:cNvPr id="72" name="Trapezoid 12"/>
            <p:cNvSpPr/>
            <p:nvPr/>
          </p:nvSpPr>
          <p:spPr>
            <a:xfrm rot="10800000">
              <a:off x="1828440" y="3657600"/>
              <a:ext cx="609480" cy="761760"/>
            </a:xfrm>
            <a:custGeom>
              <a:avLst/>
              <a:gdLst/>
              <a:ahLst/>
              <a:rect l="l" t="t" r="r" b="b"/>
              <a:pathLst>
                <a:path w="609754" h="762000">
                  <a:moveTo>
                    <a:pt x="0" y="762000"/>
                  </a:moveTo>
                  <a:lnTo>
                    <a:pt x="152439" y="0"/>
                  </a:lnTo>
                  <a:lnTo>
                    <a:pt x="457316" y="0"/>
                  </a:lnTo>
                  <a:lnTo>
                    <a:pt x="609754" y="762000"/>
                  </a:lnTo>
                  <a:lnTo>
                    <a:pt x="0" y="76200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Can 4"/>
            <p:cNvSpPr/>
            <p:nvPr/>
          </p:nvSpPr>
          <p:spPr>
            <a:xfrm rot="10800000">
              <a:off x="1828800" y="228240"/>
              <a:ext cx="533520" cy="30456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Can 5"/>
            <p:cNvSpPr/>
            <p:nvPr/>
          </p:nvSpPr>
          <p:spPr>
            <a:xfrm flipV="1">
              <a:off x="1981440" y="457200"/>
              <a:ext cx="228600" cy="457200"/>
            </a:xfrm>
            <a:prstGeom prst="can">
              <a:avLst>
                <a:gd name="adj" fmla="val 12504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Block Arc 6"/>
            <p:cNvSpPr/>
            <p:nvPr/>
          </p:nvSpPr>
          <p:spPr>
            <a:xfrm>
              <a:off x="1219320" y="838080"/>
              <a:ext cx="685800" cy="609480"/>
            </a:xfrm>
            <a:custGeom>
              <a:avLst/>
              <a:gdLst/>
              <a:ahLst/>
              <a:rect l="l" t="t" r="r" b="b"/>
              <a:pathLst>
                <a:path w="685973" h="609600">
                  <a:moveTo>
                    <a:pt x="282" y="317150"/>
                  </a:moveTo>
                  <a:cubicBezTo>
                    <a:pt x="-6172" y="175717"/>
                    <a:pt x="97792" y="48948"/>
                    <a:pt x="251276" y="11099"/>
                  </a:cubicBezTo>
                  <a:cubicBezTo>
                    <a:pt x="389685" y="-23033"/>
                    <a:pt x="537366" y="23094"/>
                    <a:pt x="621309" y="126675"/>
                  </a:cubicBezTo>
                  <a:lnTo>
                    <a:pt x="522264" y="190062"/>
                  </a:lnTo>
                  <a:cubicBezTo>
                    <a:pt x="466911" y="130303"/>
                    <a:pt x="373965" y="103810"/>
                    <a:pt x="286142" y="122758"/>
                  </a:cubicBezTo>
                  <a:cubicBezTo>
                    <a:pt x="182836" y="145047"/>
                    <a:pt x="112316" y="224312"/>
                    <a:pt x="116939" y="312946"/>
                  </a:cubicBezTo>
                  <a:lnTo>
                    <a:pt x="282" y="317150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Diagonal Stripe 7"/>
            <p:cNvSpPr/>
            <p:nvPr/>
          </p:nvSpPr>
          <p:spPr>
            <a:xfrm rot="13935600">
              <a:off x="2327040" y="872640"/>
              <a:ext cx="438120" cy="320400"/>
            </a:xfrm>
            <a:custGeom>
              <a:avLst/>
              <a:gdLst/>
              <a:ahLst/>
              <a:rect l="l" t="t" r="r" b="b"/>
              <a:pathLst>
                <a:path w="438150" h="320756">
                  <a:moveTo>
                    <a:pt x="0" y="203144"/>
                  </a:moveTo>
                  <a:lnTo>
                    <a:pt x="277494" y="0"/>
                  </a:lnTo>
                  <a:lnTo>
                    <a:pt x="438150" y="0"/>
                  </a:lnTo>
                  <a:lnTo>
                    <a:pt x="0" y="320756"/>
                  </a:lnTo>
                  <a:lnTo>
                    <a:pt x="0" y="203144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ounded Rectangle 10"/>
            <p:cNvSpPr/>
            <p:nvPr/>
          </p:nvSpPr>
          <p:spPr>
            <a:xfrm flipH="1">
              <a:off x="2285640" y="1066680"/>
              <a:ext cx="228600" cy="53316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533160"/>
                <a:gd name="textAreaBottom" fmla="*/ 522000 h 533160"/>
              </a:gdLst>
              <a:ahLst/>
              <a:rect l="textAreaLeft" t="textAreaTop" r="textAreaRight" b="textAreaBottom"/>
              <a:pathLst>
                <a:path w="21600" h="50332">
                  <a:moveTo>
                    <a:pt x="3600" y="0"/>
                  </a:moveTo>
                  <a:arcTo wR="3600" hR="3600" stAng="16200000" swAng="-5400000"/>
                  <a:lnTo>
                    <a:pt x="0" y="46732"/>
                  </a:lnTo>
                  <a:arcTo wR="3600" hR="3600" stAng="10800000" swAng="-5400000"/>
                  <a:lnTo>
                    <a:pt x="18000" y="503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ounded Rectangle 8"/>
            <p:cNvSpPr/>
            <p:nvPr/>
          </p:nvSpPr>
          <p:spPr>
            <a:xfrm>
              <a:off x="1752840" y="838080"/>
              <a:ext cx="609480" cy="289548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2895480"/>
                <a:gd name="textAreaBottom" fmla="*/ 2865960 h 2895480"/>
              </a:gdLst>
              <a:ahLst/>
              <a:rect l="textAreaLeft" t="textAreaTop" r="textAreaRight" b="textAreaBottom"/>
              <a:pathLst>
                <a:path w="21600" h="102568">
                  <a:moveTo>
                    <a:pt x="3600" y="0"/>
                  </a:moveTo>
                  <a:arcTo wR="3600" hR="3600" stAng="16200000" swAng="-5400000"/>
                  <a:lnTo>
                    <a:pt x="0" y="98968"/>
                  </a:lnTo>
                  <a:arcTo wR="3600" hR="3600" stAng="10800000" swAng="-5400000"/>
                  <a:lnTo>
                    <a:pt x="18000" y="102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lowchart: Decision 11"/>
            <p:cNvSpPr/>
            <p:nvPr/>
          </p:nvSpPr>
          <p:spPr>
            <a:xfrm>
              <a:off x="1676520" y="990360"/>
              <a:ext cx="152280" cy="2590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rapezoid 14"/>
            <p:cNvSpPr/>
            <p:nvPr/>
          </p:nvSpPr>
          <p:spPr>
            <a:xfrm rot="10800000">
              <a:off x="2057040" y="6172560"/>
              <a:ext cx="152280" cy="304560"/>
            </a:xfrm>
            <a:custGeom>
              <a:avLst/>
              <a:gdLst/>
              <a:ahLst/>
              <a:rect l="l" t="t" r="r" b="b"/>
              <a:pathLst>
                <a:path w="152439" h="304800">
                  <a:moveTo>
                    <a:pt x="0" y="304800"/>
                  </a:moveTo>
                  <a:lnTo>
                    <a:pt x="38110" y="0"/>
                  </a:lnTo>
                  <a:lnTo>
                    <a:pt x="114329" y="0"/>
                  </a:lnTo>
                  <a:lnTo>
                    <a:pt x="152439" y="304800"/>
                  </a:lnTo>
                  <a:lnTo>
                    <a:pt x="0" y="304800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rapezoid 13"/>
            <p:cNvSpPr/>
            <p:nvPr/>
          </p:nvSpPr>
          <p:spPr>
            <a:xfrm rot="10800000">
              <a:off x="1981440" y="4343400"/>
              <a:ext cx="304560" cy="1905120"/>
            </a:xfrm>
            <a:custGeom>
              <a:avLst/>
              <a:gdLst/>
              <a:ahLst/>
              <a:rect l="l" t="t" r="r" b="b"/>
              <a:pathLst>
                <a:path w="304877" h="1905000">
                  <a:moveTo>
                    <a:pt x="0" y="1905000"/>
                  </a:moveTo>
                  <a:lnTo>
                    <a:pt x="59280" y="0"/>
                  </a:lnTo>
                  <a:lnTo>
                    <a:pt x="245597" y="0"/>
                  </a:lnTo>
                  <a:lnTo>
                    <a:pt x="304877" y="1905000"/>
                  </a:lnTo>
                  <a:lnTo>
                    <a:pt x="0" y="190500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Box 17"/>
          <p:cNvSpPr/>
          <p:nvPr/>
        </p:nvSpPr>
        <p:spPr>
          <a:xfrm>
            <a:off x="3657600" y="160020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Micropipettes have preset volumes and cannot be adju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pipette will only deliver 200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7"/>
          <p:cNvSpPr/>
          <p:nvPr/>
        </p:nvSpPr>
        <p:spPr>
          <a:xfrm>
            <a:off x="3733920" y="9144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does it wor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works much like a syringe that would deliver an inj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ide there is a spring loaded piston that moves up and dow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n 18"/>
          <p:cNvSpPr/>
          <p:nvPr/>
        </p:nvSpPr>
        <p:spPr>
          <a:xfrm rot="10800000">
            <a:off x="1523880" y="227880"/>
            <a:ext cx="1067040" cy="546120"/>
          </a:xfrm>
          <a:prstGeom prst="can">
            <a:avLst>
              <a:gd name="adj" fmla="val 32435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Block Arc 20"/>
          <p:cNvSpPr/>
          <p:nvPr/>
        </p:nvSpPr>
        <p:spPr>
          <a:xfrm>
            <a:off x="609480" y="1268280"/>
            <a:ext cx="1676520" cy="1246320"/>
          </a:xfrm>
          <a:custGeom>
            <a:avLst/>
            <a:gdLst/>
            <a:ahLst/>
            <a:rect l="l" t="t" r="r" b="b"/>
            <a:pathLst>
              <a:path w="1676400" h="1246187">
                <a:moveTo>
                  <a:pt x="983" y="653263"/>
                </a:moveTo>
                <a:cubicBezTo>
                  <a:pt x="-18634" y="352435"/>
                  <a:pt x="254009" y="84238"/>
                  <a:pt x="648671" y="16137"/>
                </a:cubicBezTo>
                <a:cubicBezTo>
                  <a:pt x="952331" y="-36261"/>
                  <a:pt x="1270024" y="40940"/>
                  <a:pt x="1473414" y="216556"/>
                </a:cubicBezTo>
                <a:lnTo>
                  <a:pt x="1262577" y="351492"/>
                </a:lnTo>
                <a:cubicBezTo>
                  <a:pt x="1120781" y="260391"/>
                  <a:pt x="917299" y="220831"/>
                  <a:pt x="720481" y="246102"/>
                </a:cubicBezTo>
                <a:cubicBezTo>
                  <a:pt x="427815" y="283680"/>
                  <a:pt x="222818" y="453572"/>
                  <a:pt x="239565" y="644665"/>
                </a:cubicBezTo>
                <a:lnTo>
                  <a:pt x="983" y="65326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iagonal Stripe 21"/>
          <p:cNvSpPr/>
          <p:nvPr/>
        </p:nvSpPr>
        <p:spPr>
          <a:xfrm rot="13935600">
            <a:off x="2311200" y="907200"/>
            <a:ext cx="1092240" cy="984600"/>
          </a:xfrm>
          <a:custGeom>
            <a:avLst/>
            <a:gdLst/>
            <a:ahLst/>
            <a:rect l="l" t="t" r="r" b="b"/>
            <a:pathLst>
              <a:path w="1092200" h="984250">
                <a:moveTo>
                  <a:pt x="0" y="623355"/>
                </a:moveTo>
                <a:lnTo>
                  <a:pt x="691723" y="0"/>
                </a:lnTo>
                <a:lnTo>
                  <a:pt x="1092200" y="0"/>
                </a:lnTo>
                <a:lnTo>
                  <a:pt x="0" y="984250"/>
                </a:lnTo>
                <a:lnTo>
                  <a:pt x="0" y="623355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22"/>
          <p:cNvSpPr/>
          <p:nvPr/>
        </p:nvSpPr>
        <p:spPr>
          <a:xfrm flipH="1">
            <a:off x="2438280" y="1600200"/>
            <a:ext cx="457200" cy="9558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55800"/>
              <a:gd name="textAreaBottom" fmla="*/ 933480 h 955800"/>
            </a:gdLst>
            <a:ahLst/>
            <a:rect l="textAreaLeft" t="textAreaTop" r="textAreaRight" b="textAreaBottom"/>
            <a:pathLst>
              <a:path w="21600" h="45137">
                <a:moveTo>
                  <a:pt x="3600" y="0"/>
                </a:moveTo>
                <a:arcTo wR="3600" hR="3600" stAng="16200000" swAng="-5400000"/>
                <a:lnTo>
                  <a:pt x="0" y="41537"/>
                </a:lnTo>
                <a:arcTo wR="3600" hR="3600" stAng="10800000" swAng="-5400000"/>
                <a:lnTo>
                  <a:pt x="18000" y="451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23"/>
          <p:cNvSpPr/>
          <p:nvPr/>
        </p:nvSpPr>
        <p:spPr>
          <a:xfrm>
            <a:off x="1447920" y="1295280"/>
            <a:ext cx="1218960" cy="519300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5193000"/>
              <a:gd name="textAreaBottom" fmla="*/ 5133600 h 5193000"/>
            </a:gdLst>
            <a:ahLst/>
            <a:rect l="textAreaLeft" t="textAreaTop" r="textAreaRight" b="textAreaBottom"/>
            <a:pathLst>
              <a:path w="21600" h="91999">
                <a:moveTo>
                  <a:pt x="3600" y="0"/>
                </a:moveTo>
                <a:arcTo wR="3600" hR="3600" stAng="16200000" swAng="-5400000"/>
                <a:lnTo>
                  <a:pt x="0" y="88399"/>
                </a:lnTo>
                <a:arcTo wR="3600" hR="3600" stAng="10800000" swAng="-5400000"/>
                <a:lnTo>
                  <a:pt x="18000" y="919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24"/>
          <p:cNvSpPr/>
          <p:nvPr/>
        </p:nvSpPr>
        <p:spPr>
          <a:xfrm>
            <a:off x="2514600" y="2438280"/>
            <a:ext cx="457200" cy="39625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962520"/>
              <a:gd name="textAreaBottom" fmla="*/ 3940200 h 3962520"/>
            </a:gdLst>
            <a:ahLst/>
            <a:rect l="textAreaLeft" t="textAreaTop" r="textAreaRight" b="textAreaBottom"/>
            <a:pathLst>
              <a:path w="21600" h="187075">
                <a:moveTo>
                  <a:pt x="3600" y="0"/>
                </a:moveTo>
                <a:arcTo wR="3600" hR="3600" stAng="16200000" swAng="-5400000"/>
                <a:lnTo>
                  <a:pt x="0" y="183475"/>
                </a:lnTo>
                <a:arcTo wR="3600" hR="3600" stAng="10800000" swAng="-5400000"/>
                <a:lnTo>
                  <a:pt x="18000" y="1870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lowchart: Decision 25"/>
          <p:cNvSpPr/>
          <p:nvPr/>
        </p:nvSpPr>
        <p:spPr>
          <a:xfrm>
            <a:off x="1295280" y="1447920"/>
            <a:ext cx="304920" cy="4645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7"/>
          <p:cNvSpPr/>
          <p:nvPr/>
        </p:nvSpPr>
        <p:spPr>
          <a:xfrm rot="16200000">
            <a:off x="1285200" y="2708640"/>
            <a:ext cx="1366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an 29"/>
          <p:cNvSpPr/>
          <p:nvPr/>
        </p:nvSpPr>
        <p:spPr>
          <a:xfrm flipV="1">
            <a:off x="1523880" y="1370880"/>
            <a:ext cx="1067040" cy="3962520"/>
          </a:xfrm>
          <a:prstGeom prst="can">
            <a:avLst>
              <a:gd name="adj" fmla="val 313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an 19"/>
          <p:cNvSpPr/>
          <p:nvPr/>
        </p:nvSpPr>
        <p:spPr>
          <a:xfrm flipV="1">
            <a:off x="1828800" y="609480"/>
            <a:ext cx="457200" cy="2322720"/>
          </a:xfrm>
          <a:prstGeom prst="can">
            <a:avLst>
              <a:gd name="adj" fmla="val 4921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n 30"/>
          <p:cNvSpPr/>
          <p:nvPr/>
        </p:nvSpPr>
        <p:spPr>
          <a:xfrm rot="10800000">
            <a:off x="1523880" y="2819520"/>
            <a:ext cx="1067040" cy="272880"/>
          </a:xfrm>
          <a:prstGeom prst="can">
            <a:avLst>
              <a:gd name="adj" fmla="val 35666"/>
            </a:avLst>
          </a:prstGeom>
          <a:solidFill>
            <a:srgbClr val="ddd9c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6400800" y="3192480"/>
            <a:ext cx="2743200" cy="366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96" name="Straight Arrow Connector 15"/>
          <p:cNvCxnSpPr/>
          <p:nvPr/>
        </p:nvCxnSpPr>
        <p:spPr>
          <a:xfrm flipH="1" flipV="1">
            <a:off x="2133000" y="2056680"/>
            <a:ext cx="1600920" cy="153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7"/>
          <p:cNvSpPr/>
          <p:nvPr/>
        </p:nvSpPr>
        <p:spPr>
          <a:xfrm>
            <a:off x="4572000" y="4572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lunger has two sto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at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First Sto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piston moves through the volume that is set on the pipette. (In this case 278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an 18"/>
          <p:cNvSpPr/>
          <p:nvPr/>
        </p:nvSpPr>
        <p:spPr>
          <a:xfrm rot="10800000">
            <a:off x="1523880" y="75600"/>
            <a:ext cx="1067040" cy="546120"/>
          </a:xfrm>
          <a:prstGeom prst="can">
            <a:avLst>
              <a:gd name="adj" fmla="val 32435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Block Arc 20"/>
          <p:cNvSpPr/>
          <p:nvPr/>
        </p:nvSpPr>
        <p:spPr>
          <a:xfrm>
            <a:off x="609480" y="1639800"/>
            <a:ext cx="1676520" cy="1244520"/>
          </a:xfrm>
          <a:custGeom>
            <a:avLst/>
            <a:gdLst/>
            <a:ahLst/>
            <a:rect l="l" t="t" r="r" b="b"/>
            <a:pathLst>
              <a:path w="1676400" h="1244600">
                <a:moveTo>
                  <a:pt x="986" y="652470"/>
                </a:moveTo>
                <a:cubicBezTo>
                  <a:pt x="-18662" y="351946"/>
                  <a:pt x="254107" y="84028"/>
                  <a:pt x="648901" y="16078"/>
                </a:cubicBezTo>
                <a:cubicBezTo>
                  <a:pt x="952314" y="-36144"/>
                  <a:pt x="1269710" y="40842"/>
                  <a:pt x="1473070" y="215984"/>
                </a:cubicBezTo>
                <a:lnTo>
                  <a:pt x="1262414" y="350803"/>
                </a:lnTo>
                <a:cubicBezTo>
                  <a:pt x="1120604" y="260017"/>
                  <a:pt x="917296" y="220601"/>
                  <a:pt x="720622" y="245764"/>
                </a:cubicBezTo>
                <a:cubicBezTo>
                  <a:pt x="427688" y="283242"/>
                  <a:pt x="222473" y="452971"/>
                  <a:pt x="239264" y="643883"/>
                </a:cubicBezTo>
                <a:lnTo>
                  <a:pt x="986" y="65247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iagonal Stripe 21"/>
          <p:cNvSpPr/>
          <p:nvPr/>
        </p:nvSpPr>
        <p:spPr>
          <a:xfrm rot="13935600">
            <a:off x="2311200" y="1288440"/>
            <a:ext cx="1092240" cy="984600"/>
          </a:xfrm>
          <a:custGeom>
            <a:avLst/>
            <a:gdLst/>
            <a:ahLst/>
            <a:rect l="l" t="t" r="r" b="b"/>
            <a:pathLst>
              <a:path w="1092200" h="984250">
                <a:moveTo>
                  <a:pt x="0" y="623355"/>
                </a:moveTo>
                <a:lnTo>
                  <a:pt x="691723" y="0"/>
                </a:lnTo>
                <a:lnTo>
                  <a:pt x="1092200" y="0"/>
                </a:lnTo>
                <a:lnTo>
                  <a:pt x="0" y="984250"/>
                </a:lnTo>
                <a:lnTo>
                  <a:pt x="0" y="623355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22"/>
          <p:cNvSpPr/>
          <p:nvPr/>
        </p:nvSpPr>
        <p:spPr>
          <a:xfrm flipH="1">
            <a:off x="2438280" y="1969920"/>
            <a:ext cx="457200" cy="9576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57600"/>
              <a:gd name="textAreaBottom" fmla="*/ 935280 h 957600"/>
            </a:gdLst>
            <a:ahLst/>
            <a:rect l="textAreaLeft" t="textAreaTop" r="textAreaRight" b="textAreaBottom"/>
            <a:pathLst>
              <a:path w="21600" h="45222">
                <a:moveTo>
                  <a:pt x="3600" y="0"/>
                </a:moveTo>
                <a:arcTo wR="3600" hR="3600" stAng="16200000" swAng="-5400000"/>
                <a:lnTo>
                  <a:pt x="0" y="41622"/>
                </a:lnTo>
                <a:arcTo wR="3600" hR="3600" stAng="10800000" swAng="-5400000"/>
                <a:lnTo>
                  <a:pt x="18000" y="452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23"/>
          <p:cNvSpPr/>
          <p:nvPr/>
        </p:nvSpPr>
        <p:spPr>
          <a:xfrm>
            <a:off x="1447920" y="1665360"/>
            <a:ext cx="1218960" cy="519264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5192640"/>
              <a:gd name="textAreaBottom" fmla="*/ 5133240 h 5192640"/>
            </a:gdLst>
            <a:ahLst/>
            <a:rect l="textAreaLeft" t="textAreaTop" r="textAreaRight" b="textAreaBottom"/>
            <a:pathLst>
              <a:path w="21600" h="91993">
                <a:moveTo>
                  <a:pt x="3600" y="0"/>
                </a:moveTo>
                <a:arcTo wR="3600" hR="3600" stAng="16200000" swAng="-5400000"/>
                <a:lnTo>
                  <a:pt x="0" y="88393"/>
                </a:lnTo>
                <a:arcTo wR="3600" hR="3600" stAng="10800000" swAng="-5400000"/>
                <a:lnTo>
                  <a:pt x="18000" y="91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24"/>
          <p:cNvSpPr/>
          <p:nvPr/>
        </p:nvSpPr>
        <p:spPr>
          <a:xfrm>
            <a:off x="2514600" y="2808360"/>
            <a:ext cx="457200" cy="396216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962160"/>
              <a:gd name="textAreaBottom" fmla="*/ 3939840 h 3962160"/>
            </a:gdLst>
            <a:ahLst/>
            <a:rect l="textAreaLeft" t="textAreaTop" r="textAreaRight" b="textAreaBottom"/>
            <a:pathLst>
              <a:path w="21600" h="187058">
                <a:moveTo>
                  <a:pt x="3600" y="0"/>
                </a:moveTo>
                <a:arcTo wR="3600" hR="3600" stAng="16200000" swAng="-5400000"/>
                <a:lnTo>
                  <a:pt x="0" y="183458"/>
                </a:lnTo>
                <a:arcTo wR="3600" hR="3600" stAng="10800000" swAng="-5400000"/>
                <a:lnTo>
                  <a:pt x="18000" y="1870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lowchart: Decision 25"/>
          <p:cNvSpPr/>
          <p:nvPr/>
        </p:nvSpPr>
        <p:spPr>
          <a:xfrm>
            <a:off x="1295280" y="1817640"/>
            <a:ext cx="304920" cy="46465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7"/>
          <p:cNvSpPr/>
          <p:nvPr/>
        </p:nvSpPr>
        <p:spPr>
          <a:xfrm rot="16200000">
            <a:off x="1285200" y="3078720"/>
            <a:ext cx="1366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an 29"/>
          <p:cNvSpPr/>
          <p:nvPr/>
        </p:nvSpPr>
        <p:spPr>
          <a:xfrm flipV="1">
            <a:off x="1523880" y="1740600"/>
            <a:ext cx="1067040" cy="3962520"/>
          </a:xfrm>
          <a:prstGeom prst="can">
            <a:avLst>
              <a:gd name="adj" fmla="val 313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an 19"/>
          <p:cNvSpPr/>
          <p:nvPr/>
        </p:nvSpPr>
        <p:spPr>
          <a:xfrm flipV="1">
            <a:off x="1828800" y="457200"/>
            <a:ext cx="457200" cy="2819520"/>
          </a:xfrm>
          <a:prstGeom prst="can">
            <a:avLst>
              <a:gd name="adj" fmla="val 4055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n 30"/>
          <p:cNvSpPr/>
          <p:nvPr/>
        </p:nvSpPr>
        <p:spPr>
          <a:xfrm rot="10800000">
            <a:off x="1523880" y="3188880"/>
            <a:ext cx="1067040" cy="274680"/>
          </a:xfrm>
          <a:prstGeom prst="can">
            <a:avLst>
              <a:gd name="adj" fmla="val 35666"/>
            </a:avLst>
          </a:prstGeom>
          <a:solidFill>
            <a:srgbClr val="ddd9c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ight Brace 13"/>
          <p:cNvSpPr/>
          <p:nvPr/>
        </p:nvSpPr>
        <p:spPr>
          <a:xfrm flipV="1">
            <a:off x="2590920" y="227520"/>
            <a:ext cx="609480" cy="685800"/>
          </a:xfrm>
          <a:custGeom>
            <a:avLst/>
            <a:gdLst>
              <a:gd name="textAreaLeft" fmla="*/ 0 w 609480"/>
              <a:gd name="textAreaRight" fmla="*/ 219960 w 60948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31"/>
                  <a:pt x="10800" y="7061"/>
                </a:cubicBezTo>
                <a:lnTo>
                  <a:pt x="10800" y="3278"/>
                </a:lnTo>
                <a:cubicBezTo>
                  <a:pt x="10800" y="6809"/>
                  <a:pt x="16200" y="10339"/>
                  <a:pt x="21600" y="10339"/>
                </a:cubicBezTo>
                <a:cubicBezTo>
                  <a:pt x="16200" y="10339"/>
                  <a:pt x="10800" y="13870"/>
                  <a:pt x="10800" y="17400"/>
                </a:cubicBezTo>
                <a:lnTo>
                  <a:pt x="10800" y="14539"/>
                </a:lnTo>
                <a:cubicBezTo>
                  <a:pt x="10800" y="1807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"/>
          <p:cNvSpPr/>
          <p:nvPr/>
        </p:nvSpPr>
        <p:spPr>
          <a:xfrm rot="16200000">
            <a:off x="1479240" y="5226120"/>
            <a:ext cx="10670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Straight Arrow Connector 31"/>
          <p:cNvCxnSpPr/>
          <p:nvPr/>
        </p:nvCxnSpPr>
        <p:spPr>
          <a:xfrm flipH="1" flipV="1">
            <a:off x="3276360" y="608760"/>
            <a:ext cx="1219680" cy="3819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112" name="Group 37"/>
          <p:cNvGrpSpPr/>
          <p:nvPr/>
        </p:nvGrpSpPr>
        <p:grpSpPr>
          <a:xfrm>
            <a:off x="1523880" y="685440"/>
            <a:ext cx="1067040" cy="3321360"/>
            <a:chOff x="1523880" y="685440"/>
            <a:chExt cx="1067040" cy="3321360"/>
          </a:xfrm>
        </p:grpSpPr>
        <p:sp>
          <p:nvSpPr>
            <p:cNvPr id="113" name="Can 16"/>
            <p:cNvSpPr/>
            <p:nvPr/>
          </p:nvSpPr>
          <p:spPr>
            <a:xfrm rot="10800000">
              <a:off x="1523880" y="685080"/>
              <a:ext cx="1067040" cy="546120"/>
            </a:xfrm>
            <a:prstGeom prst="can">
              <a:avLst>
                <a:gd name="adj" fmla="val 32435"/>
              </a:avLst>
            </a:prstGeom>
            <a:solidFill>
              <a:srgbClr val="f79646">
                <a:alpha val="25000"/>
              </a:srgbClr>
            </a:solidFill>
            <a:ln w="25560">
              <a:solidFill>
                <a:srgbClr val="385d8a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Can 34"/>
            <p:cNvSpPr/>
            <p:nvPr/>
          </p:nvSpPr>
          <p:spPr>
            <a:xfrm flipV="1">
              <a:off x="1828800" y="1066680"/>
              <a:ext cx="457200" cy="2819520"/>
            </a:xfrm>
            <a:prstGeom prst="can">
              <a:avLst>
                <a:gd name="adj" fmla="val 4055"/>
              </a:avLst>
            </a:prstGeom>
            <a:solidFill>
              <a:srgbClr val="558ed5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Can 35"/>
            <p:cNvSpPr/>
            <p:nvPr/>
          </p:nvSpPr>
          <p:spPr>
            <a:xfrm rot="10800000">
              <a:off x="1523880" y="3733920"/>
              <a:ext cx="1067040" cy="272880"/>
            </a:xfrm>
            <a:prstGeom prst="can">
              <a:avLst>
                <a:gd name="adj" fmla="val 35666"/>
              </a:avLst>
            </a:prstGeom>
            <a:solidFill>
              <a:srgbClr val="bfbfbf">
                <a:alpha val="2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ight Brace 38"/>
          <p:cNvSpPr/>
          <p:nvPr/>
        </p:nvSpPr>
        <p:spPr>
          <a:xfrm flipV="1">
            <a:off x="2590920" y="3276000"/>
            <a:ext cx="609480" cy="685800"/>
          </a:xfrm>
          <a:custGeom>
            <a:avLst/>
            <a:gdLst>
              <a:gd name="textAreaLeft" fmla="*/ 0 w 609480"/>
              <a:gd name="textAreaRight" fmla="*/ 219960 w 60948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31"/>
                  <a:pt x="10800" y="7061"/>
                </a:cubicBezTo>
                <a:lnTo>
                  <a:pt x="10800" y="3278"/>
                </a:lnTo>
                <a:cubicBezTo>
                  <a:pt x="10800" y="6809"/>
                  <a:pt x="16200" y="10339"/>
                  <a:pt x="21600" y="10339"/>
                </a:cubicBezTo>
                <a:cubicBezTo>
                  <a:pt x="16200" y="10339"/>
                  <a:pt x="10800" y="13870"/>
                  <a:pt x="10800" y="17400"/>
                </a:cubicBezTo>
                <a:lnTo>
                  <a:pt x="10800" y="14539"/>
                </a:lnTo>
                <a:cubicBezTo>
                  <a:pt x="10800" y="1807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9"/>
          <p:cNvSpPr/>
          <p:nvPr/>
        </p:nvSpPr>
        <p:spPr>
          <a:xfrm>
            <a:off x="3205800" y="342900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78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Can 43"/>
          <p:cNvSpPr/>
          <p:nvPr/>
        </p:nvSpPr>
        <p:spPr>
          <a:xfrm flipV="1">
            <a:off x="1828800" y="380880"/>
            <a:ext cx="457200" cy="2322720"/>
          </a:xfrm>
          <a:prstGeom prst="can">
            <a:avLst>
              <a:gd name="adj" fmla="val 4921"/>
            </a:avLst>
          </a:prstGeom>
          <a:solidFill>
            <a:srgbClr val="4f81bd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7"/>
          <p:cNvSpPr/>
          <p:nvPr/>
        </p:nvSpPr>
        <p:spPr>
          <a:xfrm>
            <a:off x="4419720" y="762120"/>
            <a:ext cx="380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The second stop is extra travel used for certain circumstances like evacuating the tip, or drawing up more than the volume indicated on the pipet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an 18"/>
          <p:cNvSpPr/>
          <p:nvPr/>
        </p:nvSpPr>
        <p:spPr>
          <a:xfrm rot="10800000">
            <a:off x="1523880" y="685080"/>
            <a:ext cx="1067040" cy="546120"/>
          </a:xfrm>
          <a:prstGeom prst="can">
            <a:avLst>
              <a:gd name="adj" fmla="val 32435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Block Arc 20"/>
          <p:cNvSpPr/>
          <p:nvPr/>
        </p:nvSpPr>
        <p:spPr>
          <a:xfrm>
            <a:off x="609480" y="1639800"/>
            <a:ext cx="1676520" cy="1244520"/>
          </a:xfrm>
          <a:custGeom>
            <a:avLst/>
            <a:gdLst/>
            <a:ahLst/>
            <a:rect l="l" t="t" r="r" b="b"/>
            <a:pathLst>
              <a:path w="1676400" h="1244600">
                <a:moveTo>
                  <a:pt x="986" y="652470"/>
                </a:moveTo>
                <a:cubicBezTo>
                  <a:pt x="-18662" y="351946"/>
                  <a:pt x="254107" y="84028"/>
                  <a:pt x="648901" y="16078"/>
                </a:cubicBezTo>
                <a:cubicBezTo>
                  <a:pt x="952314" y="-36144"/>
                  <a:pt x="1269710" y="40842"/>
                  <a:pt x="1473070" y="215984"/>
                </a:cubicBezTo>
                <a:lnTo>
                  <a:pt x="1262414" y="350803"/>
                </a:lnTo>
                <a:cubicBezTo>
                  <a:pt x="1120604" y="260017"/>
                  <a:pt x="917296" y="220601"/>
                  <a:pt x="720622" y="245764"/>
                </a:cubicBezTo>
                <a:cubicBezTo>
                  <a:pt x="427688" y="283242"/>
                  <a:pt x="222473" y="452971"/>
                  <a:pt x="239264" y="643883"/>
                </a:cubicBezTo>
                <a:lnTo>
                  <a:pt x="986" y="65247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iagonal Stripe 21"/>
          <p:cNvSpPr/>
          <p:nvPr/>
        </p:nvSpPr>
        <p:spPr>
          <a:xfrm rot="13935600">
            <a:off x="2311200" y="1288440"/>
            <a:ext cx="1092240" cy="984600"/>
          </a:xfrm>
          <a:custGeom>
            <a:avLst/>
            <a:gdLst/>
            <a:ahLst/>
            <a:rect l="l" t="t" r="r" b="b"/>
            <a:pathLst>
              <a:path w="1092200" h="984250">
                <a:moveTo>
                  <a:pt x="0" y="623355"/>
                </a:moveTo>
                <a:lnTo>
                  <a:pt x="691723" y="0"/>
                </a:lnTo>
                <a:lnTo>
                  <a:pt x="1092200" y="0"/>
                </a:lnTo>
                <a:lnTo>
                  <a:pt x="0" y="984250"/>
                </a:lnTo>
                <a:lnTo>
                  <a:pt x="0" y="623355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ounded Rectangle 22"/>
          <p:cNvSpPr/>
          <p:nvPr/>
        </p:nvSpPr>
        <p:spPr>
          <a:xfrm flipH="1">
            <a:off x="2438280" y="1969920"/>
            <a:ext cx="457200" cy="9576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57600"/>
              <a:gd name="textAreaBottom" fmla="*/ 935280 h 957600"/>
            </a:gdLst>
            <a:ahLst/>
            <a:rect l="textAreaLeft" t="textAreaTop" r="textAreaRight" b="textAreaBottom"/>
            <a:pathLst>
              <a:path w="21600" h="45222">
                <a:moveTo>
                  <a:pt x="3600" y="0"/>
                </a:moveTo>
                <a:arcTo wR="3600" hR="3600" stAng="16200000" swAng="-5400000"/>
                <a:lnTo>
                  <a:pt x="0" y="41622"/>
                </a:lnTo>
                <a:arcTo wR="3600" hR="3600" stAng="10800000" swAng="-5400000"/>
                <a:lnTo>
                  <a:pt x="18000" y="452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23"/>
          <p:cNvSpPr/>
          <p:nvPr/>
        </p:nvSpPr>
        <p:spPr>
          <a:xfrm>
            <a:off x="1447920" y="1665360"/>
            <a:ext cx="1218960" cy="519264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5192640"/>
              <a:gd name="textAreaBottom" fmla="*/ 5133240 h 5192640"/>
            </a:gdLst>
            <a:ahLst/>
            <a:rect l="textAreaLeft" t="textAreaTop" r="textAreaRight" b="textAreaBottom"/>
            <a:pathLst>
              <a:path w="21600" h="91993">
                <a:moveTo>
                  <a:pt x="3600" y="0"/>
                </a:moveTo>
                <a:arcTo wR="3600" hR="3600" stAng="16200000" swAng="-5400000"/>
                <a:lnTo>
                  <a:pt x="0" y="88393"/>
                </a:lnTo>
                <a:arcTo wR="3600" hR="3600" stAng="10800000" swAng="-5400000"/>
                <a:lnTo>
                  <a:pt x="18000" y="91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ounded Rectangle 24"/>
          <p:cNvSpPr/>
          <p:nvPr/>
        </p:nvSpPr>
        <p:spPr>
          <a:xfrm>
            <a:off x="2514600" y="2808360"/>
            <a:ext cx="457200" cy="396216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962160"/>
              <a:gd name="textAreaBottom" fmla="*/ 3939840 h 3962160"/>
            </a:gdLst>
            <a:ahLst/>
            <a:rect l="textAreaLeft" t="textAreaTop" r="textAreaRight" b="textAreaBottom"/>
            <a:pathLst>
              <a:path w="21600" h="187058">
                <a:moveTo>
                  <a:pt x="3600" y="0"/>
                </a:moveTo>
                <a:arcTo wR="3600" hR="3600" stAng="16200000" swAng="-5400000"/>
                <a:lnTo>
                  <a:pt x="0" y="183458"/>
                </a:lnTo>
                <a:arcTo wR="3600" hR="3600" stAng="10800000" swAng="-5400000"/>
                <a:lnTo>
                  <a:pt x="18000" y="1870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lowchart: Decision 25"/>
          <p:cNvSpPr/>
          <p:nvPr/>
        </p:nvSpPr>
        <p:spPr>
          <a:xfrm>
            <a:off x="1295280" y="1817640"/>
            <a:ext cx="304920" cy="46465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7"/>
          <p:cNvSpPr/>
          <p:nvPr/>
        </p:nvSpPr>
        <p:spPr>
          <a:xfrm rot="16200000">
            <a:off x="1285200" y="3078720"/>
            <a:ext cx="1366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n 29"/>
          <p:cNvSpPr/>
          <p:nvPr/>
        </p:nvSpPr>
        <p:spPr>
          <a:xfrm flipV="1">
            <a:off x="1523880" y="1740600"/>
            <a:ext cx="1067040" cy="3962520"/>
          </a:xfrm>
          <a:prstGeom prst="can">
            <a:avLst>
              <a:gd name="adj" fmla="val 313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an 19"/>
          <p:cNvSpPr/>
          <p:nvPr/>
        </p:nvSpPr>
        <p:spPr>
          <a:xfrm flipV="1">
            <a:off x="1828800" y="1066680"/>
            <a:ext cx="457200" cy="2819520"/>
          </a:xfrm>
          <a:prstGeom prst="can">
            <a:avLst>
              <a:gd name="adj" fmla="val 4055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an 30"/>
          <p:cNvSpPr/>
          <p:nvPr/>
        </p:nvSpPr>
        <p:spPr>
          <a:xfrm rot="10800000">
            <a:off x="1523880" y="3798360"/>
            <a:ext cx="1067040" cy="274680"/>
          </a:xfrm>
          <a:prstGeom prst="can">
            <a:avLst>
              <a:gd name="adj" fmla="val 35666"/>
            </a:avLst>
          </a:prstGeom>
          <a:solidFill>
            <a:srgbClr val="ddd9c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4"/>
          <p:cNvSpPr/>
          <p:nvPr/>
        </p:nvSpPr>
        <p:spPr>
          <a:xfrm rot="16200000">
            <a:off x="1479240" y="5226120"/>
            <a:ext cx="10670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ight Brace 15"/>
          <p:cNvSpPr/>
          <p:nvPr/>
        </p:nvSpPr>
        <p:spPr>
          <a:xfrm flipV="1">
            <a:off x="2590920" y="838080"/>
            <a:ext cx="685800" cy="457200"/>
          </a:xfrm>
          <a:custGeom>
            <a:avLst/>
            <a:gdLst>
              <a:gd name="textAreaLeft" fmla="*/ 0 w 685800"/>
              <a:gd name="textAreaRight" fmla="*/ 247680 w 685800"/>
              <a:gd name="textAreaTop" fmla="*/ 52560 h 457200"/>
              <a:gd name="textAreaBottom" fmla="*/ 40464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972"/>
                  <a:pt x="10800" y="7944"/>
                </a:cubicBezTo>
                <a:lnTo>
                  <a:pt x="10800" y="2395"/>
                </a:lnTo>
                <a:cubicBezTo>
                  <a:pt x="10800" y="6367"/>
                  <a:pt x="16200" y="10339"/>
                  <a:pt x="21600" y="10339"/>
                </a:cubicBezTo>
                <a:cubicBezTo>
                  <a:pt x="16200" y="10339"/>
                  <a:pt x="10800" y="14311"/>
                  <a:pt x="10800" y="18283"/>
                </a:cubicBezTo>
                <a:lnTo>
                  <a:pt x="10800" y="13656"/>
                </a:lnTo>
                <a:cubicBezTo>
                  <a:pt x="10800" y="17628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Arrow Connector 32"/>
          <p:cNvCxnSpPr/>
          <p:nvPr/>
        </p:nvCxnSpPr>
        <p:spPr>
          <a:xfrm flipH="1">
            <a:off x="3276000" y="989640"/>
            <a:ext cx="1143720" cy="766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134" name="Group 28"/>
          <p:cNvGrpSpPr/>
          <p:nvPr/>
        </p:nvGrpSpPr>
        <p:grpSpPr>
          <a:xfrm>
            <a:off x="1523880" y="1142640"/>
            <a:ext cx="1067040" cy="3321360"/>
            <a:chOff x="1523880" y="1142640"/>
            <a:chExt cx="1067040" cy="3321360"/>
          </a:xfrm>
        </p:grpSpPr>
        <p:sp>
          <p:nvSpPr>
            <p:cNvPr id="135" name="Can 33"/>
            <p:cNvSpPr/>
            <p:nvPr/>
          </p:nvSpPr>
          <p:spPr>
            <a:xfrm rot="10800000">
              <a:off x="1523880" y="1142640"/>
              <a:ext cx="1067040" cy="546120"/>
            </a:xfrm>
            <a:prstGeom prst="can">
              <a:avLst>
                <a:gd name="adj" fmla="val 32435"/>
              </a:avLst>
            </a:prstGeom>
            <a:solidFill>
              <a:srgbClr val="f79646">
                <a:alpha val="25000"/>
              </a:srgbClr>
            </a:solidFill>
            <a:ln w="25560">
              <a:solidFill>
                <a:srgbClr val="385d8a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Can 34"/>
            <p:cNvSpPr/>
            <p:nvPr/>
          </p:nvSpPr>
          <p:spPr>
            <a:xfrm flipV="1">
              <a:off x="1828800" y="1523880"/>
              <a:ext cx="457200" cy="2819520"/>
            </a:xfrm>
            <a:prstGeom prst="can">
              <a:avLst>
                <a:gd name="adj" fmla="val 4055"/>
              </a:avLst>
            </a:prstGeom>
            <a:solidFill>
              <a:srgbClr val="558ed5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Can 35"/>
            <p:cNvSpPr/>
            <p:nvPr/>
          </p:nvSpPr>
          <p:spPr>
            <a:xfrm rot="10800000">
              <a:off x="1523880" y="4191120"/>
              <a:ext cx="1067040" cy="272880"/>
            </a:xfrm>
            <a:prstGeom prst="can">
              <a:avLst>
                <a:gd name="adj" fmla="val 35666"/>
              </a:avLst>
            </a:prstGeom>
            <a:solidFill>
              <a:srgbClr val="bfbfbf">
                <a:alpha val="2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ight Brace 36"/>
          <p:cNvSpPr/>
          <p:nvPr/>
        </p:nvSpPr>
        <p:spPr>
          <a:xfrm flipV="1">
            <a:off x="2590920" y="3276000"/>
            <a:ext cx="609480" cy="685800"/>
          </a:xfrm>
          <a:custGeom>
            <a:avLst/>
            <a:gdLst>
              <a:gd name="textAreaLeft" fmla="*/ 0 w 609480"/>
              <a:gd name="textAreaRight" fmla="*/ 219960 w 60948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31"/>
                  <a:pt x="10800" y="7061"/>
                </a:cubicBezTo>
                <a:lnTo>
                  <a:pt x="10800" y="3278"/>
                </a:lnTo>
                <a:cubicBezTo>
                  <a:pt x="10800" y="6809"/>
                  <a:pt x="16200" y="10339"/>
                  <a:pt x="21600" y="10339"/>
                </a:cubicBezTo>
                <a:cubicBezTo>
                  <a:pt x="16200" y="10339"/>
                  <a:pt x="10800" y="13870"/>
                  <a:pt x="10800" y="17400"/>
                </a:cubicBezTo>
                <a:lnTo>
                  <a:pt x="10800" y="14539"/>
                </a:lnTo>
                <a:cubicBezTo>
                  <a:pt x="10800" y="1807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7"/>
          <p:cNvSpPr/>
          <p:nvPr/>
        </p:nvSpPr>
        <p:spPr>
          <a:xfrm>
            <a:off x="3205800" y="342900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78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ight Brace 38"/>
          <p:cNvSpPr/>
          <p:nvPr/>
        </p:nvSpPr>
        <p:spPr>
          <a:xfrm flipV="1">
            <a:off x="2590920" y="3962520"/>
            <a:ext cx="685800" cy="380880"/>
          </a:xfrm>
          <a:custGeom>
            <a:avLst/>
            <a:gdLst>
              <a:gd name="textAreaLeft" fmla="*/ 0 w 685800"/>
              <a:gd name="textAreaRight" fmla="*/ 247680 w 685800"/>
              <a:gd name="textAreaTop" fmla="*/ 43560 h 380880"/>
              <a:gd name="textAreaBottom" fmla="*/ 3373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972"/>
                  <a:pt x="10800" y="7944"/>
                </a:cubicBezTo>
                <a:lnTo>
                  <a:pt x="10800" y="2395"/>
                </a:lnTo>
                <a:cubicBezTo>
                  <a:pt x="10800" y="6367"/>
                  <a:pt x="16200" y="10339"/>
                  <a:pt x="21600" y="10339"/>
                </a:cubicBezTo>
                <a:cubicBezTo>
                  <a:pt x="16200" y="10339"/>
                  <a:pt x="10800" y="14311"/>
                  <a:pt x="10800" y="18283"/>
                </a:cubicBezTo>
                <a:lnTo>
                  <a:pt x="10800" y="13656"/>
                </a:lnTo>
                <a:cubicBezTo>
                  <a:pt x="10800" y="17628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9"/>
          <p:cNvSpPr/>
          <p:nvPr/>
        </p:nvSpPr>
        <p:spPr>
          <a:xfrm>
            <a:off x="4658760" y="3962520"/>
            <a:ext cx="20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Extra volume (?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Brace 41"/>
          <p:cNvSpPr/>
          <p:nvPr/>
        </p:nvSpPr>
        <p:spPr>
          <a:xfrm flipV="1">
            <a:off x="2590920" y="151200"/>
            <a:ext cx="609480" cy="685800"/>
          </a:xfrm>
          <a:custGeom>
            <a:avLst/>
            <a:gdLst>
              <a:gd name="textAreaLeft" fmla="*/ 0 w 609480"/>
              <a:gd name="textAreaRight" fmla="*/ 219960 w 60948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31"/>
                  <a:pt x="10800" y="7061"/>
                </a:cubicBezTo>
                <a:lnTo>
                  <a:pt x="10800" y="3278"/>
                </a:lnTo>
                <a:cubicBezTo>
                  <a:pt x="10800" y="6809"/>
                  <a:pt x="16200" y="10339"/>
                  <a:pt x="21600" y="10339"/>
                </a:cubicBezTo>
                <a:cubicBezTo>
                  <a:pt x="16200" y="10339"/>
                  <a:pt x="10800" y="13870"/>
                  <a:pt x="10800" y="17400"/>
                </a:cubicBezTo>
                <a:lnTo>
                  <a:pt x="10800" y="14539"/>
                </a:lnTo>
                <a:cubicBezTo>
                  <a:pt x="10800" y="1807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an 42"/>
          <p:cNvSpPr/>
          <p:nvPr/>
        </p:nvSpPr>
        <p:spPr>
          <a:xfrm rot="10800000">
            <a:off x="1523880" y="-360"/>
            <a:ext cx="1067040" cy="546120"/>
          </a:xfrm>
          <a:prstGeom prst="can">
            <a:avLst>
              <a:gd name="adj" fmla="val 32435"/>
            </a:avLst>
          </a:prstGeom>
          <a:solidFill>
            <a:srgbClr val="f79646">
              <a:alpha val="27000"/>
            </a:srgbClr>
          </a:solidFill>
          <a:ln w="25560">
            <a:solidFill>
              <a:srgbClr val="385d8a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an 44"/>
          <p:cNvSpPr/>
          <p:nvPr/>
        </p:nvSpPr>
        <p:spPr>
          <a:xfrm rot="10800000">
            <a:off x="1523880" y="3123720"/>
            <a:ext cx="1067040" cy="273240"/>
          </a:xfrm>
          <a:prstGeom prst="can">
            <a:avLst>
              <a:gd name="adj" fmla="val 35666"/>
            </a:avLst>
          </a:prstGeom>
          <a:solidFill>
            <a:srgbClr val="ddd9c3">
              <a:alpha val="24000"/>
            </a:srgbClr>
          </a:solidFill>
          <a:ln w="25560">
            <a:solidFill>
              <a:srgbClr val="000000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Straight Arrow Connector 45"/>
          <p:cNvCxnSpPr/>
          <p:nvPr/>
        </p:nvCxnSpPr>
        <p:spPr>
          <a:xfrm flipH="1" flipV="1">
            <a:off x="3351960" y="4190760"/>
            <a:ext cx="12200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Can 43"/>
          <p:cNvSpPr/>
          <p:nvPr/>
        </p:nvSpPr>
        <p:spPr>
          <a:xfrm flipV="1">
            <a:off x="1828800" y="380880"/>
            <a:ext cx="457200" cy="2322720"/>
          </a:xfrm>
          <a:prstGeom prst="can">
            <a:avLst>
              <a:gd name="adj" fmla="val 4921"/>
            </a:avLst>
          </a:prstGeom>
          <a:solidFill>
            <a:srgbClr val="4f81bd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7"/>
          <p:cNvSpPr/>
          <p:nvPr/>
        </p:nvSpPr>
        <p:spPr>
          <a:xfrm>
            <a:off x="4419720" y="7621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Find all three posi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Block Arc 20"/>
          <p:cNvSpPr/>
          <p:nvPr/>
        </p:nvSpPr>
        <p:spPr>
          <a:xfrm>
            <a:off x="609480" y="1639800"/>
            <a:ext cx="1676520" cy="1244520"/>
          </a:xfrm>
          <a:custGeom>
            <a:avLst/>
            <a:gdLst/>
            <a:ahLst/>
            <a:rect l="l" t="t" r="r" b="b"/>
            <a:pathLst>
              <a:path w="1676400" h="1244600">
                <a:moveTo>
                  <a:pt x="986" y="652470"/>
                </a:moveTo>
                <a:cubicBezTo>
                  <a:pt x="-18662" y="351946"/>
                  <a:pt x="254107" y="84028"/>
                  <a:pt x="648901" y="16078"/>
                </a:cubicBezTo>
                <a:cubicBezTo>
                  <a:pt x="952314" y="-36144"/>
                  <a:pt x="1269710" y="40842"/>
                  <a:pt x="1473070" y="215984"/>
                </a:cubicBezTo>
                <a:lnTo>
                  <a:pt x="1262414" y="350803"/>
                </a:lnTo>
                <a:cubicBezTo>
                  <a:pt x="1120604" y="260017"/>
                  <a:pt x="917296" y="220601"/>
                  <a:pt x="720622" y="245764"/>
                </a:cubicBezTo>
                <a:cubicBezTo>
                  <a:pt x="427688" y="283242"/>
                  <a:pt x="222473" y="452971"/>
                  <a:pt x="239264" y="643883"/>
                </a:cubicBezTo>
                <a:lnTo>
                  <a:pt x="986" y="65247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iagonal Stripe 21"/>
          <p:cNvSpPr/>
          <p:nvPr/>
        </p:nvSpPr>
        <p:spPr>
          <a:xfrm rot="13935600">
            <a:off x="2311200" y="1288440"/>
            <a:ext cx="1092240" cy="984600"/>
          </a:xfrm>
          <a:custGeom>
            <a:avLst/>
            <a:gdLst/>
            <a:ahLst/>
            <a:rect l="l" t="t" r="r" b="b"/>
            <a:pathLst>
              <a:path w="1092200" h="984250">
                <a:moveTo>
                  <a:pt x="0" y="623355"/>
                </a:moveTo>
                <a:lnTo>
                  <a:pt x="691723" y="0"/>
                </a:lnTo>
                <a:lnTo>
                  <a:pt x="1092200" y="0"/>
                </a:lnTo>
                <a:lnTo>
                  <a:pt x="0" y="984250"/>
                </a:lnTo>
                <a:lnTo>
                  <a:pt x="0" y="623355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22"/>
          <p:cNvSpPr/>
          <p:nvPr/>
        </p:nvSpPr>
        <p:spPr>
          <a:xfrm flipH="1">
            <a:off x="2438280" y="1969920"/>
            <a:ext cx="457200" cy="9576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57600"/>
              <a:gd name="textAreaBottom" fmla="*/ 935280 h 957600"/>
            </a:gdLst>
            <a:ahLst/>
            <a:rect l="textAreaLeft" t="textAreaTop" r="textAreaRight" b="textAreaBottom"/>
            <a:pathLst>
              <a:path w="21600" h="45222">
                <a:moveTo>
                  <a:pt x="3600" y="0"/>
                </a:moveTo>
                <a:arcTo wR="3600" hR="3600" stAng="16200000" swAng="-5400000"/>
                <a:lnTo>
                  <a:pt x="0" y="41622"/>
                </a:lnTo>
                <a:arcTo wR="3600" hR="3600" stAng="10800000" swAng="-5400000"/>
                <a:lnTo>
                  <a:pt x="18000" y="452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ounded Rectangle 23"/>
          <p:cNvSpPr/>
          <p:nvPr/>
        </p:nvSpPr>
        <p:spPr>
          <a:xfrm>
            <a:off x="1447920" y="1665360"/>
            <a:ext cx="1218960" cy="519264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5192640"/>
              <a:gd name="textAreaBottom" fmla="*/ 5133240 h 5192640"/>
            </a:gdLst>
            <a:ahLst/>
            <a:rect l="textAreaLeft" t="textAreaTop" r="textAreaRight" b="textAreaBottom"/>
            <a:pathLst>
              <a:path w="21600" h="91993">
                <a:moveTo>
                  <a:pt x="3600" y="0"/>
                </a:moveTo>
                <a:arcTo wR="3600" hR="3600" stAng="16200000" swAng="-5400000"/>
                <a:lnTo>
                  <a:pt x="0" y="88393"/>
                </a:lnTo>
                <a:arcTo wR="3600" hR="3600" stAng="10800000" swAng="-5400000"/>
                <a:lnTo>
                  <a:pt x="18000" y="91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ounded Rectangle 24"/>
          <p:cNvSpPr/>
          <p:nvPr/>
        </p:nvSpPr>
        <p:spPr>
          <a:xfrm>
            <a:off x="2514600" y="2808360"/>
            <a:ext cx="457200" cy="396216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962160"/>
              <a:gd name="textAreaBottom" fmla="*/ 3939840 h 3962160"/>
            </a:gdLst>
            <a:ahLst/>
            <a:rect l="textAreaLeft" t="textAreaTop" r="textAreaRight" b="textAreaBottom"/>
            <a:pathLst>
              <a:path w="21600" h="187058">
                <a:moveTo>
                  <a:pt x="3600" y="0"/>
                </a:moveTo>
                <a:arcTo wR="3600" hR="3600" stAng="16200000" swAng="-5400000"/>
                <a:lnTo>
                  <a:pt x="0" y="183458"/>
                </a:lnTo>
                <a:arcTo wR="3600" hR="3600" stAng="10800000" swAng="-5400000"/>
                <a:lnTo>
                  <a:pt x="18000" y="1870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lowchart: Decision 25"/>
          <p:cNvSpPr/>
          <p:nvPr/>
        </p:nvSpPr>
        <p:spPr>
          <a:xfrm>
            <a:off x="1295280" y="1817640"/>
            <a:ext cx="304920" cy="46465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7"/>
          <p:cNvSpPr/>
          <p:nvPr/>
        </p:nvSpPr>
        <p:spPr>
          <a:xfrm rot="16200000">
            <a:off x="1285200" y="3078720"/>
            <a:ext cx="1366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an 29"/>
          <p:cNvSpPr/>
          <p:nvPr/>
        </p:nvSpPr>
        <p:spPr>
          <a:xfrm flipV="1">
            <a:off x="1523880" y="1740600"/>
            <a:ext cx="1067040" cy="3962520"/>
          </a:xfrm>
          <a:prstGeom prst="can">
            <a:avLst>
              <a:gd name="adj" fmla="val 313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an 19"/>
          <p:cNvSpPr/>
          <p:nvPr/>
        </p:nvSpPr>
        <p:spPr>
          <a:xfrm flipV="1">
            <a:off x="1828800" y="1066680"/>
            <a:ext cx="457200" cy="2819520"/>
          </a:xfrm>
          <a:prstGeom prst="can">
            <a:avLst>
              <a:gd name="adj" fmla="val 4055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4"/>
          <p:cNvSpPr/>
          <p:nvPr/>
        </p:nvSpPr>
        <p:spPr>
          <a:xfrm rot="16200000">
            <a:off x="1479240" y="5226120"/>
            <a:ext cx="10670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ight Brace 15"/>
          <p:cNvSpPr/>
          <p:nvPr/>
        </p:nvSpPr>
        <p:spPr>
          <a:xfrm flipV="1">
            <a:off x="2590920" y="228240"/>
            <a:ext cx="685800" cy="1295280"/>
          </a:xfrm>
          <a:custGeom>
            <a:avLst/>
            <a:gdLst>
              <a:gd name="textAreaLeft" fmla="*/ 0 w 685800"/>
              <a:gd name="textAreaRight" fmla="*/ 247680 w 685800"/>
              <a:gd name="textAreaTop" fmla="*/ 78840 h 1295280"/>
              <a:gd name="textAreaBottom" fmla="*/ 12164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03"/>
                  <a:pt x="10800" y="4206"/>
                </a:cubicBezTo>
                <a:lnTo>
                  <a:pt x="10800" y="6133"/>
                </a:lnTo>
                <a:cubicBezTo>
                  <a:pt x="10800" y="8236"/>
                  <a:pt x="16200" y="10339"/>
                  <a:pt x="21600" y="10339"/>
                </a:cubicBezTo>
                <a:cubicBezTo>
                  <a:pt x="16200" y="10339"/>
                  <a:pt x="10800" y="12442"/>
                  <a:pt x="10800" y="14545"/>
                </a:cubicBezTo>
                <a:lnTo>
                  <a:pt x="10800" y="17394"/>
                </a:lnTo>
                <a:cubicBezTo>
                  <a:pt x="10800" y="19497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Straight Arrow Connector 32"/>
          <p:cNvCxnSpPr/>
          <p:nvPr/>
        </p:nvCxnSpPr>
        <p:spPr>
          <a:xfrm flipH="1" flipV="1">
            <a:off x="3352320" y="914400"/>
            <a:ext cx="1067760" cy="766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160" name="Group 28"/>
          <p:cNvGrpSpPr/>
          <p:nvPr/>
        </p:nvGrpSpPr>
        <p:grpSpPr>
          <a:xfrm>
            <a:off x="1523880" y="1142640"/>
            <a:ext cx="1067040" cy="3321360"/>
            <a:chOff x="1523880" y="1142640"/>
            <a:chExt cx="1067040" cy="3321360"/>
          </a:xfrm>
        </p:grpSpPr>
        <p:sp>
          <p:nvSpPr>
            <p:cNvPr id="161" name="Can 33"/>
            <p:cNvSpPr/>
            <p:nvPr/>
          </p:nvSpPr>
          <p:spPr>
            <a:xfrm rot="10800000">
              <a:off x="1523880" y="1142640"/>
              <a:ext cx="1067040" cy="546120"/>
            </a:xfrm>
            <a:prstGeom prst="can">
              <a:avLst>
                <a:gd name="adj" fmla="val 32435"/>
              </a:avLst>
            </a:prstGeom>
            <a:solidFill>
              <a:srgbClr val="f79646">
                <a:alpha val="25000"/>
              </a:srgbClr>
            </a:solidFill>
            <a:ln w="25560">
              <a:solidFill>
                <a:srgbClr val="385d8a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Can 34"/>
            <p:cNvSpPr/>
            <p:nvPr/>
          </p:nvSpPr>
          <p:spPr>
            <a:xfrm flipV="1">
              <a:off x="1828800" y="1523880"/>
              <a:ext cx="457200" cy="2819520"/>
            </a:xfrm>
            <a:prstGeom prst="can">
              <a:avLst>
                <a:gd name="adj" fmla="val 4055"/>
              </a:avLst>
            </a:prstGeom>
            <a:solidFill>
              <a:srgbClr val="558ed5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Can 35"/>
            <p:cNvSpPr/>
            <p:nvPr/>
          </p:nvSpPr>
          <p:spPr>
            <a:xfrm rot="10800000">
              <a:off x="1523880" y="4191120"/>
              <a:ext cx="1067040" cy="272880"/>
            </a:xfrm>
            <a:prstGeom prst="can">
              <a:avLst>
                <a:gd name="adj" fmla="val 35666"/>
              </a:avLst>
            </a:prstGeom>
            <a:solidFill>
              <a:srgbClr val="bfbfbf">
                <a:alpha val="25000"/>
              </a:srgbClr>
            </a:solidFill>
            <a:ln w="25560">
              <a:solidFill>
                <a:srgbClr val="0000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Can 42"/>
          <p:cNvSpPr/>
          <p:nvPr/>
        </p:nvSpPr>
        <p:spPr>
          <a:xfrm rot="10800000">
            <a:off x="1523880" y="-360"/>
            <a:ext cx="1067040" cy="546120"/>
          </a:xfrm>
          <a:prstGeom prst="can">
            <a:avLst>
              <a:gd name="adj" fmla="val 32435"/>
            </a:avLst>
          </a:prstGeom>
          <a:solidFill>
            <a:srgbClr val="f79646">
              <a:alpha val="27000"/>
            </a:srgbClr>
          </a:solidFill>
          <a:ln w="25560">
            <a:solidFill>
              <a:srgbClr val="385d8a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an 44"/>
          <p:cNvSpPr/>
          <p:nvPr/>
        </p:nvSpPr>
        <p:spPr>
          <a:xfrm rot="10800000">
            <a:off x="1523880" y="3123720"/>
            <a:ext cx="1067040" cy="273240"/>
          </a:xfrm>
          <a:prstGeom prst="can">
            <a:avLst>
              <a:gd name="adj" fmla="val 35666"/>
            </a:avLst>
          </a:prstGeom>
          <a:solidFill>
            <a:srgbClr val="ddd9c3">
              <a:alpha val="24000"/>
            </a:srgbClr>
          </a:solidFill>
          <a:ln w="25560">
            <a:solidFill>
              <a:srgbClr val="000000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an 40"/>
          <p:cNvSpPr/>
          <p:nvPr/>
        </p:nvSpPr>
        <p:spPr>
          <a:xfrm rot="10800000">
            <a:off x="1523880" y="608760"/>
            <a:ext cx="1067040" cy="546120"/>
          </a:xfrm>
          <a:prstGeom prst="can">
            <a:avLst>
              <a:gd name="adj" fmla="val 32435"/>
            </a:avLst>
          </a:prstGeom>
          <a:solidFill>
            <a:srgbClr val="f79646">
              <a:alpha val="27000"/>
            </a:srgbClr>
          </a:solidFill>
          <a:ln w="25560">
            <a:solidFill>
              <a:srgbClr val="385d8a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an 47"/>
          <p:cNvSpPr/>
          <p:nvPr/>
        </p:nvSpPr>
        <p:spPr>
          <a:xfrm rot="10800000">
            <a:off x="1523880" y="3733920"/>
            <a:ext cx="1067040" cy="272880"/>
          </a:xfrm>
          <a:prstGeom prst="can">
            <a:avLst>
              <a:gd name="adj" fmla="val 35666"/>
            </a:avLst>
          </a:prstGeom>
          <a:solidFill>
            <a:srgbClr val="bfbfbf">
              <a:alpha val="25000"/>
            </a:srgbClr>
          </a:soli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Straight Arrow Connector 48"/>
          <p:cNvCxnSpPr>
            <a:endCxn id="165" idx="2"/>
          </p:cNvCxnSpPr>
          <p:nvPr/>
        </p:nvCxnSpPr>
        <p:spPr>
          <a:xfrm flipH="1">
            <a:off x="2590560" y="1522800"/>
            <a:ext cx="2210400" cy="17377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9" name="Straight Arrow Connector 49"/>
          <p:cNvCxnSpPr>
            <a:endCxn id="167" idx="2"/>
          </p:cNvCxnSpPr>
          <p:nvPr/>
        </p:nvCxnSpPr>
        <p:spPr>
          <a:xfrm flipH="1">
            <a:off x="2590560" y="1600200"/>
            <a:ext cx="2134080" cy="2270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0" name="Straight Arrow Connector 50"/>
          <p:cNvCxnSpPr>
            <a:endCxn id="163" idx="2"/>
          </p:cNvCxnSpPr>
          <p:nvPr/>
        </p:nvCxnSpPr>
        <p:spPr>
          <a:xfrm flipH="1">
            <a:off x="2590560" y="1523880"/>
            <a:ext cx="2210400" cy="28044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8"/>
          <p:cNvGrpSpPr/>
          <p:nvPr/>
        </p:nvGrpSpPr>
        <p:grpSpPr>
          <a:xfrm>
            <a:off x="1295280" y="533520"/>
            <a:ext cx="1492200" cy="5486400"/>
            <a:chOff x="1295280" y="533520"/>
            <a:chExt cx="1492200" cy="5486400"/>
          </a:xfrm>
        </p:grpSpPr>
        <p:sp>
          <p:nvSpPr>
            <p:cNvPr id="172" name="Trapezoid 33"/>
            <p:cNvSpPr/>
            <p:nvPr/>
          </p:nvSpPr>
          <p:spPr>
            <a:xfrm rot="10800000">
              <a:off x="1872720" y="3647880"/>
              <a:ext cx="577800" cy="639720"/>
            </a:xfrm>
            <a:custGeom>
              <a:avLst/>
              <a:gdLst/>
              <a:ahLst/>
              <a:rect l="l" t="t" r="r" b="b"/>
              <a:pathLst>
                <a:path w="609204" h="760298">
                  <a:moveTo>
                    <a:pt x="0" y="760298"/>
                  </a:moveTo>
                  <a:lnTo>
                    <a:pt x="152301" y="0"/>
                  </a:lnTo>
                  <a:lnTo>
                    <a:pt x="456903" y="0"/>
                  </a:lnTo>
                  <a:lnTo>
                    <a:pt x="609204" y="760298"/>
                  </a:lnTo>
                  <a:lnTo>
                    <a:pt x="0" y="760298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Can 34"/>
            <p:cNvSpPr/>
            <p:nvPr/>
          </p:nvSpPr>
          <p:spPr>
            <a:xfrm rot="10800000">
              <a:off x="1872720" y="533520"/>
              <a:ext cx="506520" cy="25704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Can 35"/>
            <p:cNvSpPr/>
            <p:nvPr/>
          </p:nvSpPr>
          <p:spPr>
            <a:xfrm flipV="1">
              <a:off x="2017800" y="761400"/>
              <a:ext cx="191880" cy="609480"/>
            </a:xfrm>
            <a:prstGeom prst="can">
              <a:avLst>
                <a:gd name="adj" fmla="val 6986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Block Arc 36"/>
            <p:cNvSpPr/>
            <p:nvPr/>
          </p:nvSpPr>
          <p:spPr>
            <a:xfrm>
              <a:off x="1295280" y="1274760"/>
              <a:ext cx="650880" cy="512640"/>
            </a:xfrm>
            <a:custGeom>
              <a:avLst/>
              <a:gdLst/>
              <a:ahLst/>
              <a:rect l="l" t="t" r="r" b="b"/>
              <a:pathLst>
                <a:path w="686191" h="609369">
                  <a:moveTo>
                    <a:pt x="282" y="317038"/>
                  </a:moveTo>
                  <a:cubicBezTo>
                    <a:pt x="-6179" y="175635"/>
                    <a:pt x="97849" y="48896"/>
                    <a:pt x="251414" y="11079"/>
                  </a:cubicBezTo>
                  <a:cubicBezTo>
                    <a:pt x="389812" y="-23003"/>
                    <a:pt x="537469" y="23073"/>
                    <a:pt x="621439" y="126544"/>
                  </a:cubicBezTo>
                  <a:lnTo>
                    <a:pt x="522424" y="189914"/>
                  </a:lnTo>
                  <a:cubicBezTo>
                    <a:pt x="467035" y="130243"/>
                    <a:pt x="374096" y="103790"/>
                    <a:pt x="286269" y="122699"/>
                  </a:cubicBezTo>
                  <a:cubicBezTo>
                    <a:pt x="182861" y="144963"/>
                    <a:pt x="112263" y="224214"/>
                    <a:pt x="116895" y="312836"/>
                  </a:cubicBezTo>
                  <a:lnTo>
                    <a:pt x="282" y="317038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Diagonal Stripe 37"/>
            <p:cNvSpPr/>
            <p:nvPr/>
          </p:nvSpPr>
          <p:spPr>
            <a:xfrm rot="13935600">
              <a:off x="2369880" y="1285200"/>
              <a:ext cx="368280" cy="304920"/>
            </a:xfrm>
            <a:custGeom>
              <a:avLst/>
              <a:gdLst/>
              <a:ahLst/>
              <a:rect l="l" t="t" r="r" b="b"/>
              <a:pathLst>
                <a:path w="437690" h="321338">
                  <a:moveTo>
                    <a:pt x="0" y="203513"/>
                  </a:moveTo>
                  <a:lnTo>
                    <a:pt x="277202" y="0"/>
                  </a:lnTo>
                  <a:lnTo>
                    <a:pt x="437690" y="0"/>
                  </a:lnTo>
                  <a:lnTo>
                    <a:pt x="0" y="321338"/>
                  </a:lnTo>
                  <a:lnTo>
                    <a:pt x="0" y="203513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ounded Rectangle 38"/>
            <p:cNvSpPr/>
            <p:nvPr/>
          </p:nvSpPr>
          <p:spPr>
            <a:xfrm flipH="1">
              <a:off x="2306880" y="1467000"/>
              <a:ext cx="217440" cy="449280"/>
            </a:xfrm>
            <a:custGeom>
              <a:avLst/>
              <a:gdLst>
                <a:gd name="textAreaLeft" fmla="*/ 10440 w 217440"/>
                <a:gd name="textAreaRight" fmla="*/ 207000 w 217440"/>
                <a:gd name="textAreaTop" fmla="*/ 10440 h 449280"/>
                <a:gd name="textAreaBottom" fmla="*/ 438840 h 449280"/>
              </a:gdLst>
              <a:ahLst/>
              <a:rect l="textAreaLeft" t="textAreaTop" r="textAreaRight" b="textAreaBottom"/>
              <a:pathLst>
                <a:path w="21600" h="44592">
                  <a:moveTo>
                    <a:pt x="3600" y="0"/>
                  </a:moveTo>
                  <a:arcTo wR="3600" hR="3600" stAng="16200000" swAng="-5400000"/>
                  <a:lnTo>
                    <a:pt x="0" y="40992"/>
                  </a:lnTo>
                  <a:arcTo wR="3600" hR="3600" stAng="10800000" swAng="-5400000"/>
                  <a:lnTo>
                    <a:pt x="18000" y="445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ounded Rectangle 39"/>
            <p:cNvSpPr/>
            <p:nvPr/>
          </p:nvSpPr>
          <p:spPr>
            <a:xfrm>
              <a:off x="1801800" y="1274760"/>
              <a:ext cx="577800" cy="2436840"/>
            </a:xfrm>
            <a:custGeom>
              <a:avLst/>
              <a:gdLst>
                <a:gd name="textAreaLeft" fmla="*/ 28080 w 577800"/>
                <a:gd name="textAreaRight" fmla="*/ 549720 w 577800"/>
                <a:gd name="textAreaTop" fmla="*/ 28080 h 2436840"/>
                <a:gd name="textAreaBottom" fmla="*/ 2408760 h 2436840"/>
              </a:gdLst>
              <a:ahLst/>
              <a:rect l="textAreaLeft" t="textAreaTop" r="textAreaRight" b="textAreaBottom"/>
              <a:pathLst>
                <a:path w="21600" h="91054">
                  <a:moveTo>
                    <a:pt x="3600" y="0"/>
                  </a:moveTo>
                  <a:arcTo wR="3600" hR="3600" stAng="16200000" swAng="-5400000"/>
                  <a:lnTo>
                    <a:pt x="0" y="87454"/>
                  </a:lnTo>
                  <a:arcTo wR="3600" hR="3600" stAng="10800000" swAng="-5400000"/>
                  <a:lnTo>
                    <a:pt x="18000" y="910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ounded Rectangle 40"/>
            <p:cNvSpPr/>
            <p:nvPr/>
          </p:nvSpPr>
          <p:spPr>
            <a:xfrm>
              <a:off x="2379960" y="1787400"/>
              <a:ext cx="217440" cy="1860480"/>
            </a:xfrm>
            <a:custGeom>
              <a:avLst/>
              <a:gdLst>
                <a:gd name="textAreaLeft" fmla="*/ 10440 w 217440"/>
                <a:gd name="textAreaRight" fmla="*/ 207000 w 217440"/>
                <a:gd name="textAreaTop" fmla="*/ 10440 h 1860480"/>
                <a:gd name="textAreaBottom" fmla="*/ 1850040 h 1860480"/>
              </a:gdLst>
              <a:ahLst/>
              <a:rect l="textAreaLeft" t="textAreaTop" r="textAreaRight" b="textAreaBottom"/>
              <a:pathLst>
                <a:path w="21600" h="184546">
                  <a:moveTo>
                    <a:pt x="3600" y="0"/>
                  </a:moveTo>
                  <a:arcTo wR="3600" hR="3600" stAng="16200000" swAng="-5400000"/>
                  <a:lnTo>
                    <a:pt x="0" y="180946"/>
                  </a:lnTo>
                  <a:arcTo wR="3600" hR="3600" stAng="10800000" swAng="-5400000"/>
                  <a:lnTo>
                    <a:pt x="18000" y="1845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lowchart: Decision 41"/>
            <p:cNvSpPr/>
            <p:nvPr/>
          </p:nvSpPr>
          <p:spPr>
            <a:xfrm>
              <a:off x="1728720" y="1403280"/>
              <a:ext cx="144360" cy="217944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rapezoid 42"/>
            <p:cNvSpPr/>
            <p:nvPr/>
          </p:nvSpPr>
          <p:spPr>
            <a:xfrm rot="10800000">
              <a:off x="2090520" y="5762880"/>
              <a:ext cx="144360" cy="257040"/>
            </a:xfrm>
            <a:custGeom>
              <a:avLst/>
              <a:gdLst/>
              <a:ahLst/>
              <a:rect l="l" t="t" r="r" b="b"/>
              <a:pathLst>
                <a:path w="152300" h="305628">
                  <a:moveTo>
                    <a:pt x="0" y="305628"/>
                  </a:moveTo>
                  <a:lnTo>
                    <a:pt x="38075" y="0"/>
                  </a:lnTo>
                  <a:lnTo>
                    <a:pt x="114225" y="0"/>
                  </a:lnTo>
                  <a:lnTo>
                    <a:pt x="152300" y="305628"/>
                  </a:lnTo>
                  <a:lnTo>
                    <a:pt x="0" y="305628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43"/>
            <p:cNvSpPr/>
            <p:nvPr/>
          </p:nvSpPr>
          <p:spPr>
            <a:xfrm rot="16200000">
              <a:off x="1777680" y="2383560"/>
              <a:ext cx="6858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rapezoid 44"/>
            <p:cNvSpPr/>
            <p:nvPr/>
          </p:nvSpPr>
          <p:spPr>
            <a:xfrm rot="10800000">
              <a:off x="2017800" y="4224600"/>
              <a:ext cx="288720" cy="1603440"/>
            </a:xfrm>
            <a:custGeom>
              <a:avLst/>
              <a:gdLst/>
              <a:ahLst/>
              <a:rect l="l" t="t" r="r" b="b"/>
              <a:pathLst>
                <a:path w="304602" h="1905461">
                  <a:moveTo>
                    <a:pt x="0" y="1905461"/>
                  </a:moveTo>
                  <a:lnTo>
                    <a:pt x="59227" y="0"/>
                  </a:lnTo>
                  <a:lnTo>
                    <a:pt x="245375" y="0"/>
                  </a:lnTo>
                  <a:lnTo>
                    <a:pt x="304602" y="1905461"/>
                  </a:lnTo>
                  <a:lnTo>
                    <a:pt x="0" y="1905461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rapezoid 45"/>
          <p:cNvSpPr/>
          <p:nvPr/>
        </p:nvSpPr>
        <p:spPr>
          <a:xfrm rot="10800000">
            <a:off x="2057040" y="5638680"/>
            <a:ext cx="228600" cy="1067040"/>
          </a:xfrm>
          <a:custGeom>
            <a:avLst/>
            <a:gdLst/>
            <a:ahLst/>
            <a:rect l="l" t="t" r="r" b="b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lnTo>
                  <a:pt x="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6"/>
          <p:cNvSpPr/>
          <p:nvPr/>
        </p:nvSpPr>
        <p:spPr>
          <a:xfrm>
            <a:off x="3505320" y="762120"/>
            <a:ext cx="52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Proper Use </a:t>
            </a:r>
            <a:r>
              <a:rPr b="0" lang="en-US" sz="6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8"/>
          <p:cNvGrpSpPr/>
          <p:nvPr/>
        </p:nvGrpSpPr>
        <p:grpSpPr>
          <a:xfrm>
            <a:off x="1295280" y="380880"/>
            <a:ext cx="1435320" cy="5486400"/>
            <a:chOff x="1295280" y="380880"/>
            <a:chExt cx="1435320" cy="5486400"/>
          </a:xfrm>
        </p:grpSpPr>
        <p:sp>
          <p:nvSpPr>
            <p:cNvPr id="187" name="Trapezoid 33"/>
            <p:cNvSpPr/>
            <p:nvPr/>
          </p:nvSpPr>
          <p:spPr>
            <a:xfrm rot="10800000">
              <a:off x="1848960" y="3495240"/>
              <a:ext cx="554040" cy="639720"/>
            </a:xfrm>
            <a:custGeom>
              <a:avLst/>
              <a:gdLst/>
              <a:ahLst/>
              <a:rect l="l" t="t" r="r" b="b"/>
              <a:pathLst>
                <a:path w="609204" h="760298">
                  <a:moveTo>
                    <a:pt x="0" y="760298"/>
                  </a:moveTo>
                  <a:lnTo>
                    <a:pt x="152301" y="0"/>
                  </a:lnTo>
                  <a:lnTo>
                    <a:pt x="456903" y="0"/>
                  </a:lnTo>
                  <a:lnTo>
                    <a:pt x="609204" y="760298"/>
                  </a:lnTo>
                  <a:lnTo>
                    <a:pt x="0" y="760298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Can 34"/>
            <p:cNvSpPr/>
            <p:nvPr/>
          </p:nvSpPr>
          <p:spPr>
            <a:xfrm rot="10800000">
              <a:off x="1848960" y="380880"/>
              <a:ext cx="485640" cy="25704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Can 35"/>
            <p:cNvSpPr/>
            <p:nvPr/>
          </p:nvSpPr>
          <p:spPr>
            <a:xfrm flipV="1">
              <a:off x="1987920" y="608760"/>
              <a:ext cx="183960" cy="609480"/>
            </a:xfrm>
            <a:prstGeom prst="can">
              <a:avLst>
                <a:gd name="adj" fmla="val 6986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Block Arc 36"/>
            <p:cNvSpPr/>
            <p:nvPr/>
          </p:nvSpPr>
          <p:spPr>
            <a:xfrm>
              <a:off x="1295280" y="1122120"/>
              <a:ext cx="623880" cy="512640"/>
            </a:xfrm>
            <a:custGeom>
              <a:avLst/>
              <a:gdLst/>
              <a:ahLst/>
              <a:rect l="l" t="t" r="r" b="b"/>
              <a:pathLst>
                <a:path w="686191" h="609369">
                  <a:moveTo>
                    <a:pt x="282" y="317038"/>
                  </a:moveTo>
                  <a:cubicBezTo>
                    <a:pt x="-6179" y="175635"/>
                    <a:pt x="97849" y="48896"/>
                    <a:pt x="251414" y="11079"/>
                  </a:cubicBezTo>
                  <a:cubicBezTo>
                    <a:pt x="389812" y="-23003"/>
                    <a:pt x="537469" y="23073"/>
                    <a:pt x="621439" y="126544"/>
                  </a:cubicBezTo>
                  <a:lnTo>
                    <a:pt x="522424" y="189914"/>
                  </a:lnTo>
                  <a:cubicBezTo>
                    <a:pt x="467035" y="130243"/>
                    <a:pt x="374096" y="103790"/>
                    <a:pt x="286269" y="122699"/>
                  </a:cubicBezTo>
                  <a:cubicBezTo>
                    <a:pt x="182861" y="144963"/>
                    <a:pt x="112263" y="224214"/>
                    <a:pt x="116895" y="312836"/>
                  </a:cubicBezTo>
                  <a:lnTo>
                    <a:pt x="282" y="317038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Diagonal Stripe 37"/>
            <p:cNvSpPr/>
            <p:nvPr/>
          </p:nvSpPr>
          <p:spPr>
            <a:xfrm rot="13935600">
              <a:off x="2318040" y="1139400"/>
              <a:ext cx="368280" cy="292320"/>
            </a:xfrm>
            <a:custGeom>
              <a:avLst/>
              <a:gdLst/>
              <a:ahLst/>
              <a:rect l="l" t="t" r="r" b="b"/>
              <a:pathLst>
                <a:path w="437690" h="321338">
                  <a:moveTo>
                    <a:pt x="0" y="203513"/>
                  </a:moveTo>
                  <a:lnTo>
                    <a:pt x="277202" y="0"/>
                  </a:lnTo>
                  <a:lnTo>
                    <a:pt x="437690" y="0"/>
                  </a:lnTo>
                  <a:lnTo>
                    <a:pt x="0" y="321338"/>
                  </a:lnTo>
                  <a:lnTo>
                    <a:pt x="0" y="203513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ounded Rectangle 38"/>
            <p:cNvSpPr/>
            <p:nvPr/>
          </p:nvSpPr>
          <p:spPr>
            <a:xfrm flipH="1">
              <a:off x="2264400" y="1314360"/>
              <a:ext cx="208440" cy="449280"/>
            </a:xfrm>
            <a:custGeom>
              <a:avLst/>
              <a:gdLst>
                <a:gd name="textAreaLeft" fmla="*/ 10080 w 208440"/>
                <a:gd name="textAreaRight" fmla="*/ 198360 w 208440"/>
                <a:gd name="textAreaTop" fmla="*/ 10080 h 449280"/>
                <a:gd name="textAreaBottom" fmla="*/ 439200 h 449280"/>
              </a:gdLst>
              <a:ahLst/>
              <a:rect l="textAreaLeft" t="textAreaTop" r="textAreaRight" b="textAreaBottom"/>
              <a:pathLst>
                <a:path w="21600" h="46514">
                  <a:moveTo>
                    <a:pt x="3600" y="0"/>
                  </a:moveTo>
                  <a:arcTo wR="3600" hR="3600" stAng="16200000" swAng="-5400000"/>
                  <a:lnTo>
                    <a:pt x="0" y="42914"/>
                  </a:lnTo>
                  <a:arcTo wR="3600" hR="3600" stAng="10800000" swAng="-5400000"/>
                  <a:lnTo>
                    <a:pt x="18000" y="465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ounded Rectangle 39"/>
            <p:cNvSpPr/>
            <p:nvPr/>
          </p:nvSpPr>
          <p:spPr>
            <a:xfrm>
              <a:off x="1780920" y="1122120"/>
              <a:ext cx="554040" cy="2436840"/>
            </a:xfrm>
            <a:custGeom>
              <a:avLst/>
              <a:gdLst>
                <a:gd name="textAreaLeft" fmla="*/ 27000 w 554040"/>
                <a:gd name="textAreaRight" fmla="*/ 527040 w 554040"/>
                <a:gd name="textAreaTop" fmla="*/ 27000 h 2436840"/>
                <a:gd name="textAreaBottom" fmla="*/ 2409840 h 2436840"/>
              </a:gdLst>
              <a:ahLst/>
              <a:rect l="textAreaLeft" t="textAreaTop" r="textAreaRight" b="textAreaBottom"/>
              <a:pathLst>
                <a:path w="21600" h="94956">
                  <a:moveTo>
                    <a:pt x="3600" y="0"/>
                  </a:moveTo>
                  <a:arcTo wR="3600" hR="3600" stAng="16200000" swAng="-5400000"/>
                  <a:lnTo>
                    <a:pt x="0" y="91356"/>
                  </a:lnTo>
                  <a:arcTo wR="3600" hR="3600" stAng="10800000" swAng="-5400000"/>
                  <a:lnTo>
                    <a:pt x="18000" y="949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Rounded Rectangle 40" descr=""/>
            <p:cNvPicPr/>
            <p:nvPr/>
          </p:nvPicPr>
          <p:blipFill>
            <a:blip r:embed="rId1"/>
            <a:stretch/>
          </p:blipFill>
          <p:spPr>
            <a:xfrm>
              <a:off x="2233440" y="1633680"/>
              <a:ext cx="473400" cy="18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Flowchart: Decision 41"/>
            <p:cNvSpPr/>
            <p:nvPr/>
          </p:nvSpPr>
          <p:spPr>
            <a:xfrm>
              <a:off x="1710720" y="1250640"/>
              <a:ext cx="138240" cy="217944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rapezoid 42"/>
            <p:cNvSpPr/>
            <p:nvPr/>
          </p:nvSpPr>
          <p:spPr>
            <a:xfrm rot="10800000">
              <a:off x="2057760" y="5610240"/>
              <a:ext cx="138240" cy="257040"/>
            </a:xfrm>
            <a:custGeom>
              <a:avLst/>
              <a:gdLst/>
              <a:ahLst/>
              <a:rect l="l" t="t" r="r" b="b"/>
              <a:pathLst>
                <a:path w="152300" h="305628">
                  <a:moveTo>
                    <a:pt x="0" y="305628"/>
                  </a:moveTo>
                  <a:lnTo>
                    <a:pt x="38075" y="0"/>
                  </a:lnTo>
                  <a:lnTo>
                    <a:pt x="114225" y="0"/>
                  </a:lnTo>
                  <a:lnTo>
                    <a:pt x="152300" y="305628"/>
                  </a:lnTo>
                  <a:lnTo>
                    <a:pt x="0" y="305628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43"/>
            <p:cNvSpPr/>
            <p:nvPr/>
          </p:nvSpPr>
          <p:spPr>
            <a:xfrm rot="16200000">
              <a:off x="1750320" y="2230920"/>
              <a:ext cx="6858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rapezoid 44"/>
            <p:cNvSpPr/>
            <p:nvPr/>
          </p:nvSpPr>
          <p:spPr>
            <a:xfrm rot="10800000">
              <a:off x="1987560" y="4071960"/>
              <a:ext cx="276840" cy="1603440"/>
            </a:xfrm>
            <a:custGeom>
              <a:avLst/>
              <a:gdLst/>
              <a:ahLst/>
              <a:rect l="l" t="t" r="r" b="b"/>
              <a:pathLst>
                <a:path w="304602" h="1905461">
                  <a:moveTo>
                    <a:pt x="0" y="1905461"/>
                  </a:moveTo>
                  <a:lnTo>
                    <a:pt x="59227" y="0"/>
                  </a:lnTo>
                  <a:lnTo>
                    <a:pt x="245375" y="0"/>
                  </a:lnTo>
                  <a:lnTo>
                    <a:pt x="304602" y="1905461"/>
                  </a:lnTo>
                  <a:lnTo>
                    <a:pt x="0" y="1905461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rapezoid 45"/>
          <p:cNvSpPr/>
          <p:nvPr/>
        </p:nvSpPr>
        <p:spPr>
          <a:xfrm rot="10800000">
            <a:off x="2057040" y="5638680"/>
            <a:ext cx="228600" cy="1067040"/>
          </a:xfrm>
          <a:custGeom>
            <a:avLst/>
            <a:gdLst/>
            <a:ahLst/>
            <a:rect l="l" t="t" r="r" b="b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lnTo>
                  <a:pt x="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5"/>
          <p:cNvSpPr/>
          <p:nvPr/>
        </p:nvSpPr>
        <p:spPr>
          <a:xfrm>
            <a:off x="4114800" y="1438200"/>
            <a:ext cx="419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 the correct volume on your micropipette by turning the adjustment knob (typically the plunger butt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pipette’s range is 200-100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 and is set to deliver 278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16"/>
          <p:cNvCxnSpPr/>
          <p:nvPr/>
        </p:nvCxnSpPr>
        <p:spPr>
          <a:xfrm flipH="1" flipV="1">
            <a:off x="2361960" y="532800"/>
            <a:ext cx="1753200" cy="11437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2" name="TextBox 18"/>
          <p:cNvSpPr/>
          <p:nvPr/>
        </p:nvSpPr>
        <p:spPr>
          <a:xfrm>
            <a:off x="4267080" y="2286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tting 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1"/>
          <p:cNvSpPr/>
          <p:nvPr/>
        </p:nvSpPr>
        <p:spPr>
          <a:xfrm>
            <a:off x="4419720" y="3276720"/>
            <a:ext cx="838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4:00:31Z</dcterms:created>
  <dc:creator>lawlma</dc:creator>
  <dc:description/>
  <dc:language>en-US</dc:language>
  <cp:lastModifiedBy>m e l o</cp:lastModifiedBy>
  <dcterms:modified xsi:type="dcterms:W3CDTF">2015-02-08T15:57:55Z</dcterms:modified>
  <cp:revision>2784</cp:revision>
  <dc:subject/>
  <dc:title>Slide 1</dc:title>
</cp:coreProperties>
</file>