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0602-1023-4BE3-ABD4-91BD0356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DB21-C2BB-434C-A660-D63E2230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D9A9-E2DA-4F8D-B1DC-83E11865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55D5-8611-44E0-8D0A-1B8EA00D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3EED-EDCB-43A2-9F3E-1803FE2B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FFCF-9C81-4CDB-AA2C-EBA357CB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0051-9792-4659-8834-C449B795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BB66-5792-4C00-A411-132BA957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DEC3-484D-4D48-8DA6-BCD0CECE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E7CD-C7BB-4F7D-9255-1DB4251F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C595-E090-4977-B3B5-C120FB47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1251-8FCB-469A-B420-F98D2645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6FCB-FDC4-459C-8EBE-2EDF6ADC58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ounded Rectangle 24" descr=""/>
          <p:cNvPicPr/>
          <p:nvPr/>
        </p:nvPicPr>
        <p:blipFill>
          <a:blip r:embed="rId2"/>
          <a:stretch/>
        </p:blipFill>
        <p:spPr>
          <a:xfrm>
            <a:off x="2262240" y="1517760"/>
            <a:ext cx="414360" cy="222552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16"/>
          <p:cNvGrpSpPr/>
          <p:nvPr/>
        </p:nvGrpSpPr>
        <p:grpSpPr>
          <a:xfrm>
            <a:off x="1219320" y="228600"/>
            <a:ext cx="1587960" cy="6248520"/>
            <a:chOff x="1219320" y="228600"/>
            <a:chExt cx="1587960" cy="6248520"/>
          </a:xfrm>
        </p:grpSpPr>
        <p:sp>
          <p:nvSpPr>
            <p:cNvPr id="43" name="Trapezoid 12"/>
            <p:cNvSpPr/>
            <p:nvPr/>
          </p:nvSpPr>
          <p:spPr>
            <a:xfrm rot="10800000">
              <a:off x="1828440" y="3657600"/>
              <a:ext cx="609480" cy="761760"/>
            </a:xfrm>
            <a:custGeom>
              <a:avLst/>
              <a:gdLst>
                <a:gd name="textAreaLeft" fmla="*/ 101520 w 609480"/>
                <a:gd name="textAreaRight" fmla="*/ 507960 w 609480"/>
                <a:gd name="textAreaTop" fmla="*/ 12672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609754" h="762000">
                  <a:moveTo>
                    <a:pt x="0" y="762000"/>
                  </a:moveTo>
                  <a:lnTo>
                    <a:pt x="152439" y="0"/>
                  </a:lnTo>
                  <a:lnTo>
                    <a:pt x="457316" y="0"/>
                  </a:lnTo>
                  <a:lnTo>
                    <a:pt x="609754" y="76200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Can 4"/>
            <p:cNvSpPr/>
            <p:nvPr/>
          </p:nvSpPr>
          <p:spPr>
            <a:xfrm rot="10800000">
              <a:off x="1828800" y="228240"/>
              <a:ext cx="533520" cy="30456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Can 5"/>
            <p:cNvSpPr/>
            <p:nvPr/>
          </p:nvSpPr>
          <p:spPr>
            <a:xfrm flipV="1">
              <a:off x="1981440" y="457200"/>
              <a:ext cx="228600" cy="457200"/>
            </a:xfrm>
            <a:prstGeom prst="can">
              <a:avLst>
                <a:gd name="adj" fmla="val 12504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Block Arc 6"/>
            <p:cNvSpPr/>
            <p:nvPr/>
          </p:nvSpPr>
          <p:spPr>
            <a:xfrm>
              <a:off x="1219320" y="838080"/>
              <a:ext cx="685800" cy="609480"/>
            </a:xfrm>
            <a:custGeom>
              <a:avLst/>
              <a:gdLst>
                <a:gd name="textAreaLeft" fmla="*/ 0 w 685800"/>
                <a:gd name="textAreaRight" fmla="*/ 621360 w 685800"/>
                <a:gd name="textAreaTop" fmla="*/ 0 h 609480"/>
                <a:gd name="textAreaBottom" fmla="*/ 317160 h 609480"/>
              </a:gdLst>
              <a:ahLst/>
              <a:rect l="textAreaLeft" t="textAreaTop" r="textAreaRight" b="textAreaBottom"/>
              <a:pathLst>
                <a:path w="685973" h="609600">
                  <a:moveTo>
                    <a:pt x="282" y="317150"/>
                  </a:moveTo>
                  <a:lnTo>
                    <a:pt x="282" y="317150"/>
                  </a:lnTo>
                  <a:arcTo wR="342987" hR="304800" stAng="10676168" swAng="8966678"/>
                  <a:lnTo>
                    <a:pt x="522264" y="190062"/>
                  </a:lnTo>
                  <a:lnTo>
                    <a:pt x="522264" y="190062"/>
                  </a:lnTo>
                  <a:arcTo wR="226260" hR="188074" stAng="-1957164" swAng="-8966667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Diagonal Stripe 7"/>
            <p:cNvSpPr/>
            <p:nvPr/>
          </p:nvSpPr>
          <p:spPr>
            <a:xfrm rot="13935600">
              <a:off x="2327040" y="872640"/>
              <a:ext cx="438120" cy="320400"/>
            </a:xfrm>
            <a:custGeom>
              <a:avLst/>
              <a:gdLst>
                <a:gd name="textAreaLeft" fmla="*/ 0 w 438120"/>
                <a:gd name="textAreaRight" fmla="*/ 357840 w 438120"/>
                <a:gd name="textAreaTop" fmla="*/ 0 h 320400"/>
                <a:gd name="textAreaBottom" fmla="*/ 261720 h 320400"/>
              </a:gdLst>
              <a:ahLst/>
              <a:rect l="textAreaLeft" t="textAreaTop" r="textAreaRight" b="textAreaBottom"/>
              <a:pathLst>
                <a:path w="438150" h="320756">
                  <a:moveTo>
                    <a:pt x="0" y="203144"/>
                  </a:moveTo>
                  <a:lnTo>
                    <a:pt x="277494" y="0"/>
                  </a:lnTo>
                  <a:lnTo>
                    <a:pt x="438150" y="0"/>
                  </a:lnTo>
                  <a:lnTo>
                    <a:pt x="0" y="320756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ounded Rectangle 10"/>
            <p:cNvSpPr/>
            <p:nvPr/>
          </p:nvSpPr>
          <p:spPr>
            <a:xfrm flipH="1">
              <a:off x="2285640" y="1066680"/>
              <a:ext cx="228600" cy="533160"/>
            </a:xfrm>
            <a:custGeom>
              <a:avLst/>
              <a:gdLst>
                <a:gd name="textAreaLeft" fmla="*/ 11160 w 228600"/>
                <a:gd name="textAreaRight" fmla="*/ 217440 w 228600"/>
                <a:gd name="textAreaTop" fmla="*/ 11160 h 533160"/>
                <a:gd name="textAreaBottom" fmla="*/ 522000 h 533160"/>
              </a:gdLst>
              <a:ahLst/>
              <a:rect l="textAreaLeft" t="textAreaTop" r="textAreaRight" b="textAreaBottom"/>
              <a:pathLst>
                <a:path w="21600" h="50332">
                  <a:moveTo>
                    <a:pt x="3600" y="0"/>
                  </a:moveTo>
                  <a:arcTo wR="3600" hR="3600" stAng="16200000" swAng="-5400000"/>
                  <a:lnTo>
                    <a:pt x="0" y="46732"/>
                  </a:lnTo>
                  <a:arcTo wR="3600" hR="3600" stAng="10800000" swAng="-5400000"/>
                  <a:lnTo>
                    <a:pt x="18000" y="503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ounded Rectangle 8"/>
            <p:cNvSpPr/>
            <p:nvPr/>
          </p:nvSpPr>
          <p:spPr>
            <a:xfrm>
              <a:off x="1752840" y="838080"/>
              <a:ext cx="609480" cy="289548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2895480"/>
                <a:gd name="textAreaBottom" fmla="*/ 2865960 h 2895480"/>
              </a:gdLst>
              <a:ahLst/>
              <a:rect l="textAreaLeft" t="textAreaTop" r="textAreaRight" b="textAreaBottom"/>
              <a:pathLst>
                <a:path w="21600" h="102568">
                  <a:moveTo>
                    <a:pt x="3600" y="0"/>
                  </a:moveTo>
                  <a:arcTo wR="3600" hR="3600" stAng="16200000" swAng="-5400000"/>
                  <a:lnTo>
                    <a:pt x="0" y="98968"/>
                  </a:lnTo>
                  <a:arcTo wR="3600" hR="3600" stAng="10800000" swAng="-5400000"/>
                  <a:lnTo>
                    <a:pt x="18000" y="102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lowchart: Decision 11"/>
            <p:cNvSpPr/>
            <p:nvPr/>
          </p:nvSpPr>
          <p:spPr>
            <a:xfrm>
              <a:off x="1676520" y="990360"/>
              <a:ext cx="152280" cy="25909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rapezoid 14"/>
            <p:cNvSpPr/>
            <p:nvPr/>
          </p:nvSpPr>
          <p:spPr>
            <a:xfrm rot="10800000">
              <a:off x="2057040" y="6172560"/>
              <a:ext cx="152280" cy="304560"/>
            </a:xfrm>
            <a:custGeom>
              <a:avLst/>
              <a:gdLst>
                <a:gd name="textAreaLeft" fmla="*/ 25200 w 152280"/>
                <a:gd name="textAreaRight" fmla="*/ 127080 w 152280"/>
                <a:gd name="textAreaTop" fmla="*/ 5076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52439" h="304800">
                  <a:moveTo>
                    <a:pt x="0" y="304800"/>
                  </a:moveTo>
                  <a:lnTo>
                    <a:pt x="38110" y="0"/>
                  </a:lnTo>
                  <a:lnTo>
                    <a:pt x="114329" y="0"/>
                  </a:lnTo>
                  <a:lnTo>
                    <a:pt x="152439" y="304800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Box 15"/>
            <p:cNvSpPr/>
            <p:nvPr/>
          </p:nvSpPr>
          <p:spPr>
            <a:xfrm rot="16200000">
              <a:off x="1708200" y="2025360"/>
              <a:ext cx="7617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rapezoid 13"/>
            <p:cNvSpPr/>
            <p:nvPr/>
          </p:nvSpPr>
          <p:spPr>
            <a:xfrm rot="10800000">
              <a:off x="1981440" y="4343400"/>
              <a:ext cx="304560" cy="1905120"/>
            </a:xfrm>
            <a:custGeom>
              <a:avLst/>
              <a:gdLst>
                <a:gd name="textAreaLeft" fmla="*/ 39240 w 304560"/>
                <a:gd name="textAreaRight" fmla="*/ 265320 w 304560"/>
                <a:gd name="textAreaTop" fmla="*/ 24696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304877" h="1905000">
                  <a:moveTo>
                    <a:pt x="0" y="1905000"/>
                  </a:moveTo>
                  <a:lnTo>
                    <a:pt x="59280" y="0"/>
                  </a:lnTo>
                  <a:lnTo>
                    <a:pt x="245597" y="0"/>
                  </a:lnTo>
                  <a:lnTo>
                    <a:pt x="304877" y="190500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Box 17"/>
          <p:cNvSpPr/>
          <p:nvPr/>
        </p:nvSpPr>
        <p:spPr>
          <a:xfrm>
            <a:off x="3581280" y="1143000"/>
            <a:ext cx="510552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Micropipette Tutori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rom the Office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cience Lab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chnical Assist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C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8"/>
          <p:cNvGrpSpPr/>
          <p:nvPr/>
        </p:nvGrpSpPr>
        <p:grpSpPr>
          <a:xfrm>
            <a:off x="1295280" y="380880"/>
            <a:ext cx="1492200" cy="5486400"/>
            <a:chOff x="1295280" y="380880"/>
            <a:chExt cx="1492200" cy="5486400"/>
          </a:xfrm>
        </p:grpSpPr>
        <p:sp>
          <p:nvSpPr>
            <p:cNvPr id="205" name="Trapezoid 33"/>
            <p:cNvSpPr/>
            <p:nvPr/>
          </p:nvSpPr>
          <p:spPr>
            <a:xfrm rot="10800000">
              <a:off x="1872720" y="3495240"/>
              <a:ext cx="577800" cy="639720"/>
            </a:xfrm>
            <a:custGeom>
              <a:avLst/>
              <a:gdLst>
                <a:gd name="textAreaLeft" fmla="*/ 96120 w 577800"/>
                <a:gd name="textAreaRight" fmla="*/ 481680 w 577800"/>
                <a:gd name="textAreaTop" fmla="*/ 10656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609204" h="760298">
                  <a:moveTo>
                    <a:pt x="0" y="760298"/>
                  </a:moveTo>
                  <a:lnTo>
                    <a:pt x="152301" y="0"/>
                  </a:lnTo>
                  <a:lnTo>
                    <a:pt x="456903" y="0"/>
                  </a:lnTo>
                  <a:lnTo>
                    <a:pt x="609204" y="760298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Can 34"/>
            <p:cNvSpPr/>
            <p:nvPr/>
          </p:nvSpPr>
          <p:spPr>
            <a:xfrm rot="10800000">
              <a:off x="1872720" y="380880"/>
              <a:ext cx="506520" cy="257040"/>
            </a:xfrm>
            <a:prstGeom prst="can">
              <a:avLst>
                <a:gd name="adj" fmla="val 25000"/>
              </a:avLst>
            </a:prstGeom>
            <a:solidFill>
              <a:srgbClr val="00b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Can 35"/>
            <p:cNvSpPr/>
            <p:nvPr/>
          </p:nvSpPr>
          <p:spPr>
            <a:xfrm flipV="1">
              <a:off x="2017800" y="608760"/>
              <a:ext cx="191880" cy="609480"/>
            </a:xfrm>
            <a:prstGeom prst="can">
              <a:avLst>
                <a:gd name="adj" fmla="val 6986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Block Arc 36"/>
            <p:cNvSpPr/>
            <p:nvPr/>
          </p:nvSpPr>
          <p:spPr>
            <a:xfrm>
              <a:off x="1295280" y="1122120"/>
              <a:ext cx="650880" cy="512640"/>
            </a:xfrm>
            <a:custGeom>
              <a:avLst/>
              <a:gdLst>
                <a:gd name="textAreaLeft" fmla="*/ 0 w 650880"/>
                <a:gd name="textAreaRight" fmla="*/ 589680 w 650880"/>
                <a:gd name="textAreaTop" fmla="*/ 0 h 512640"/>
                <a:gd name="textAreaBottom" fmla="*/ 266760 h 512640"/>
              </a:gdLst>
              <a:ahLst/>
              <a:rect l="textAreaLeft" t="textAreaTop" r="textAreaRight" b="textAreaBottom"/>
              <a:pathLst>
                <a:path w="686191" h="609369">
                  <a:moveTo>
                    <a:pt x="282" y="317038"/>
                  </a:moveTo>
                  <a:lnTo>
                    <a:pt x="282" y="317038"/>
                  </a:lnTo>
                  <a:arcTo wR="343096" hR="304685" stAng="10676167" swAng="8966674"/>
                  <a:lnTo>
                    <a:pt x="522424" y="189914"/>
                  </a:lnTo>
                  <a:lnTo>
                    <a:pt x="522424" y="189914"/>
                  </a:lnTo>
                  <a:arcTo wR="226414" hR="188003" stAng="-1957169" swAng="-8966653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Diagonal Stripe 37"/>
            <p:cNvSpPr/>
            <p:nvPr/>
          </p:nvSpPr>
          <p:spPr>
            <a:xfrm rot="13935600">
              <a:off x="2369880" y="1132560"/>
              <a:ext cx="368280" cy="304920"/>
            </a:xfrm>
            <a:custGeom>
              <a:avLst/>
              <a:gdLst>
                <a:gd name="textAreaLeft" fmla="*/ 0 w 368280"/>
                <a:gd name="textAreaRight" fmla="*/ 300960 w 368280"/>
                <a:gd name="textAreaTop" fmla="*/ 0 h 304920"/>
                <a:gd name="textAreaBottom" fmla="*/ 249120 h 304920"/>
              </a:gdLst>
              <a:ahLst/>
              <a:rect l="textAreaLeft" t="textAreaTop" r="textAreaRight" b="textAreaBottom"/>
              <a:pathLst>
                <a:path w="437690" h="321338">
                  <a:moveTo>
                    <a:pt x="0" y="203513"/>
                  </a:moveTo>
                  <a:lnTo>
                    <a:pt x="277202" y="0"/>
                  </a:lnTo>
                  <a:lnTo>
                    <a:pt x="437690" y="0"/>
                  </a:lnTo>
                  <a:lnTo>
                    <a:pt x="0" y="321338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ounded Rectangle 38"/>
            <p:cNvSpPr/>
            <p:nvPr/>
          </p:nvSpPr>
          <p:spPr>
            <a:xfrm flipH="1">
              <a:off x="2306880" y="1314360"/>
              <a:ext cx="217440" cy="449280"/>
            </a:xfrm>
            <a:custGeom>
              <a:avLst/>
              <a:gdLst>
                <a:gd name="textAreaLeft" fmla="*/ 10440 w 217440"/>
                <a:gd name="textAreaRight" fmla="*/ 207000 w 217440"/>
                <a:gd name="textAreaTop" fmla="*/ 10440 h 449280"/>
                <a:gd name="textAreaBottom" fmla="*/ 438840 h 449280"/>
              </a:gdLst>
              <a:ahLst/>
              <a:rect l="textAreaLeft" t="textAreaTop" r="textAreaRight" b="textAreaBottom"/>
              <a:pathLst>
                <a:path w="21600" h="44592">
                  <a:moveTo>
                    <a:pt x="3600" y="0"/>
                  </a:moveTo>
                  <a:arcTo wR="3600" hR="3600" stAng="16200000" swAng="-5400000"/>
                  <a:lnTo>
                    <a:pt x="0" y="40992"/>
                  </a:lnTo>
                  <a:arcTo wR="3600" hR="3600" stAng="10800000" swAng="-5400000"/>
                  <a:lnTo>
                    <a:pt x="18000" y="445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ounded Rectangle 39"/>
            <p:cNvSpPr/>
            <p:nvPr/>
          </p:nvSpPr>
          <p:spPr>
            <a:xfrm>
              <a:off x="1801800" y="1122120"/>
              <a:ext cx="577800" cy="2436840"/>
            </a:xfrm>
            <a:custGeom>
              <a:avLst/>
              <a:gdLst>
                <a:gd name="textAreaLeft" fmla="*/ 28080 w 577800"/>
                <a:gd name="textAreaRight" fmla="*/ 549720 w 577800"/>
                <a:gd name="textAreaTop" fmla="*/ 28080 h 2436840"/>
                <a:gd name="textAreaBottom" fmla="*/ 2408760 h 2436840"/>
              </a:gdLst>
              <a:ahLst/>
              <a:rect l="textAreaLeft" t="textAreaTop" r="textAreaRight" b="textAreaBottom"/>
              <a:pathLst>
                <a:path w="21600" h="91054">
                  <a:moveTo>
                    <a:pt x="3600" y="0"/>
                  </a:moveTo>
                  <a:arcTo wR="3600" hR="3600" stAng="16200000" swAng="-5400000"/>
                  <a:lnTo>
                    <a:pt x="0" y="87454"/>
                  </a:lnTo>
                  <a:arcTo wR="3600" hR="3600" stAng="10800000" swAng="-5400000"/>
                  <a:lnTo>
                    <a:pt x="18000" y="910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Rounded Rectangle 40" descr=""/>
            <p:cNvPicPr/>
            <p:nvPr/>
          </p:nvPicPr>
          <p:blipFill>
            <a:blip r:embed="rId1"/>
            <a:stretch/>
          </p:blipFill>
          <p:spPr>
            <a:xfrm>
              <a:off x="2274120" y="1627560"/>
              <a:ext cx="359640" cy="18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Flowchart: Decision 41"/>
            <p:cNvSpPr/>
            <p:nvPr/>
          </p:nvSpPr>
          <p:spPr>
            <a:xfrm>
              <a:off x="1728720" y="1250640"/>
              <a:ext cx="144360" cy="217944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rapezoid 42"/>
            <p:cNvSpPr/>
            <p:nvPr/>
          </p:nvSpPr>
          <p:spPr>
            <a:xfrm rot="10800000">
              <a:off x="2090520" y="5610240"/>
              <a:ext cx="144360" cy="257040"/>
            </a:xfrm>
            <a:custGeom>
              <a:avLst/>
              <a:gdLst>
                <a:gd name="textAreaLeft" fmla="*/ 23760 w 144360"/>
                <a:gd name="textAreaRight" fmla="*/ 120600 w 144360"/>
                <a:gd name="textAreaTop" fmla="*/ 4284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52300" h="305628">
                  <a:moveTo>
                    <a:pt x="0" y="305628"/>
                  </a:moveTo>
                  <a:lnTo>
                    <a:pt x="38075" y="0"/>
                  </a:lnTo>
                  <a:lnTo>
                    <a:pt x="114225" y="0"/>
                  </a:lnTo>
                  <a:lnTo>
                    <a:pt x="152300" y="305628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Box 43"/>
            <p:cNvSpPr/>
            <p:nvPr/>
          </p:nvSpPr>
          <p:spPr>
            <a:xfrm rot="16200000">
              <a:off x="1777680" y="2230920"/>
              <a:ext cx="6858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auhaus 93"/>
                </a:rPr>
                <a:t>2 7 </a:t>
              </a:r>
              <a:r>
                <a:rPr b="0" lang="en-US" sz="1600" spc="-1" strike="noStrike">
                  <a:solidFill>
                    <a:srgbClr val="ff0000"/>
                  </a:solidFill>
                  <a:latin typeface="Bauhaus 93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rapezoid 44"/>
            <p:cNvSpPr/>
            <p:nvPr/>
          </p:nvSpPr>
          <p:spPr>
            <a:xfrm rot="10800000">
              <a:off x="2017800" y="4071960"/>
              <a:ext cx="288720" cy="1603440"/>
            </a:xfrm>
            <a:custGeom>
              <a:avLst/>
              <a:gdLst>
                <a:gd name="textAreaLeft" fmla="*/ 37440 w 288720"/>
                <a:gd name="textAreaRight" fmla="*/ 251280 w 288720"/>
                <a:gd name="textAreaTop" fmla="*/ 207720 h 1603440"/>
                <a:gd name="textAreaBottom" fmla="*/ 1603800 h 1603440"/>
              </a:gdLst>
              <a:ahLst/>
              <a:rect l="textAreaLeft" t="textAreaTop" r="textAreaRight" b="textAreaBottom"/>
              <a:pathLst>
                <a:path w="304602" h="1905461">
                  <a:moveTo>
                    <a:pt x="0" y="1905461"/>
                  </a:moveTo>
                  <a:lnTo>
                    <a:pt x="59227" y="0"/>
                  </a:lnTo>
                  <a:lnTo>
                    <a:pt x="245375" y="0"/>
                  </a:lnTo>
                  <a:lnTo>
                    <a:pt x="304602" y="1905461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rapezoid 45"/>
          <p:cNvSpPr/>
          <p:nvPr/>
        </p:nvSpPr>
        <p:spPr>
          <a:xfrm rot="10800000">
            <a:off x="2057040" y="5638680"/>
            <a:ext cx="228600" cy="1067040"/>
          </a:xfrm>
          <a:custGeom>
            <a:avLst/>
            <a:gdLst>
              <a:gd name="textAreaLeft" fmla="*/ 62280 w 228600"/>
              <a:gd name="textAreaRight" fmla="*/ 166320 w 228600"/>
              <a:gd name="textAreaTop" fmla="*/ 291600 h 1067040"/>
              <a:gd name="textAreaBottom" fmla="*/ 1067400 h 1067040"/>
            </a:gdLst>
            <a:ahLst/>
            <a:rect l="textAreaLeft" t="textAreaTop" r="textAreaRight" b="textAreaBottom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5"/>
          <p:cNvSpPr/>
          <p:nvPr/>
        </p:nvSpPr>
        <p:spPr>
          <a:xfrm>
            <a:off x="4114800" y="143820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tings can vary between models and manufacturer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pipette’s range is 20-100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 and is set to deliver 27.8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ever you might see the following readings for this exact setting on different pipet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Straight Arrow Connector 16"/>
          <p:cNvCxnSpPr/>
          <p:nvPr/>
        </p:nvCxnSpPr>
        <p:spPr>
          <a:xfrm flipH="1">
            <a:off x="2285640" y="1676520"/>
            <a:ext cx="1829520" cy="4579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0" name="TextBox 18"/>
          <p:cNvSpPr/>
          <p:nvPr/>
        </p:nvSpPr>
        <p:spPr>
          <a:xfrm>
            <a:off x="4267080" y="2286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tting 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1"/>
          <p:cNvSpPr/>
          <p:nvPr/>
        </p:nvSpPr>
        <p:spPr>
          <a:xfrm>
            <a:off x="4267080" y="3809880"/>
            <a:ext cx="838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7 </a:t>
            </a:r>
            <a:r>
              <a:rPr b="0" lang="en-US" sz="1800" spc="-1" strike="noStrike">
                <a:solidFill>
                  <a:srgbClr val="ff0000"/>
                </a:solidFill>
                <a:latin typeface="Bauhaus 93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20"/>
          <p:cNvSpPr/>
          <p:nvPr/>
        </p:nvSpPr>
        <p:spPr>
          <a:xfrm>
            <a:off x="4267080" y="4343400"/>
            <a:ext cx="838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7 .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22"/>
          <p:cNvSpPr/>
          <p:nvPr/>
        </p:nvSpPr>
        <p:spPr>
          <a:xfrm>
            <a:off x="4267080" y="5192640"/>
            <a:ext cx="838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3"/>
          <p:cNvSpPr/>
          <p:nvPr/>
        </p:nvSpPr>
        <p:spPr>
          <a:xfrm>
            <a:off x="5791320" y="3809880"/>
            <a:ext cx="2590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first two make the decimal places obviou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the last one implies the tenths place if you know the r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8"/>
          <p:cNvGrpSpPr/>
          <p:nvPr/>
        </p:nvGrpSpPr>
        <p:grpSpPr>
          <a:xfrm>
            <a:off x="1295280" y="380880"/>
            <a:ext cx="1492200" cy="5486400"/>
            <a:chOff x="1295280" y="380880"/>
            <a:chExt cx="1492200" cy="5486400"/>
          </a:xfrm>
        </p:grpSpPr>
        <p:sp>
          <p:nvSpPr>
            <p:cNvPr id="226" name="Trapezoid 33"/>
            <p:cNvSpPr/>
            <p:nvPr/>
          </p:nvSpPr>
          <p:spPr>
            <a:xfrm rot="10800000">
              <a:off x="1872720" y="3495240"/>
              <a:ext cx="577800" cy="639720"/>
            </a:xfrm>
            <a:custGeom>
              <a:avLst/>
              <a:gdLst>
                <a:gd name="textAreaLeft" fmla="*/ 96120 w 577800"/>
                <a:gd name="textAreaRight" fmla="*/ 481680 w 577800"/>
                <a:gd name="textAreaTop" fmla="*/ 10656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609204" h="760298">
                  <a:moveTo>
                    <a:pt x="0" y="760298"/>
                  </a:moveTo>
                  <a:lnTo>
                    <a:pt x="152301" y="0"/>
                  </a:lnTo>
                  <a:lnTo>
                    <a:pt x="456903" y="0"/>
                  </a:lnTo>
                  <a:lnTo>
                    <a:pt x="609204" y="760298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Can 34"/>
            <p:cNvSpPr/>
            <p:nvPr/>
          </p:nvSpPr>
          <p:spPr>
            <a:xfrm rot="10800000">
              <a:off x="1872720" y="380880"/>
              <a:ext cx="506520" cy="257040"/>
            </a:xfrm>
            <a:prstGeom prst="can">
              <a:avLst>
                <a:gd name="adj" fmla="val 25000"/>
              </a:avLst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Can 35"/>
            <p:cNvSpPr/>
            <p:nvPr/>
          </p:nvSpPr>
          <p:spPr>
            <a:xfrm flipV="1">
              <a:off x="2017800" y="608760"/>
              <a:ext cx="191880" cy="609480"/>
            </a:xfrm>
            <a:prstGeom prst="can">
              <a:avLst>
                <a:gd name="adj" fmla="val 6986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Block Arc 36"/>
            <p:cNvSpPr/>
            <p:nvPr/>
          </p:nvSpPr>
          <p:spPr>
            <a:xfrm>
              <a:off x="1295280" y="1122120"/>
              <a:ext cx="650880" cy="512640"/>
            </a:xfrm>
            <a:custGeom>
              <a:avLst/>
              <a:gdLst>
                <a:gd name="textAreaLeft" fmla="*/ 0 w 650880"/>
                <a:gd name="textAreaRight" fmla="*/ 589680 w 650880"/>
                <a:gd name="textAreaTop" fmla="*/ 0 h 512640"/>
                <a:gd name="textAreaBottom" fmla="*/ 266760 h 512640"/>
              </a:gdLst>
              <a:ahLst/>
              <a:rect l="textAreaLeft" t="textAreaTop" r="textAreaRight" b="textAreaBottom"/>
              <a:pathLst>
                <a:path w="686191" h="609369">
                  <a:moveTo>
                    <a:pt x="282" y="317038"/>
                  </a:moveTo>
                  <a:lnTo>
                    <a:pt x="282" y="317038"/>
                  </a:lnTo>
                  <a:arcTo wR="343096" hR="304685" stAng="10676167" swAng="8966674"/>
                  <a:lnTo>
                    <a:pt x="522424" y="189914"/>
                  </a:lnTo>
                  <a:lnTo>
                    <a:pt x="522424" y="189914"/>
                  </a:lnTo>
                  <a:arcTo wR="226414" hR="188003" stAng="-1957169" swAng="-8966653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Diagonal Stripe 37"/>
            <p:cNvSpPr/>
            <p:nvPr/>
          </p:nvSpPr>
          <p:spPr>
            <a:xfrm rot="13935600">
              <a:off x="2369880" y="1132560"/>
              <a:ext cx="368280" cy="304920"/>
            </a:xfrm>
            <a:custGeom>
              <a:avLst/>
              <a:gdLst>
                <a:gd name="textAreaLeft" fmla="*/ 0 w 368280"/>
                <a:gd name="textAreaRight" fmla="*/ 300960 w 368280"/>
                <a:gd name="textAreaTop" fmla="*/ 0 h 304920"/>
                <a:gd name="textAreaBottom" fmla="*/ 249120 h 304920"/>
              </a:gdLst>
              <a:ahLst/>
              <a:rect l="textAreaLeft" t="textAreaTop" r="textAreaRight" b="textAreaBottom"/>
              <a:pathLst>
                <a:path w="437690" h="321338">
                  <a:moveTo>
                    <a:pt x="0" y="203513"/>
                  </a:moveTo>
                  <a:lnTo>
                    <a:pt x="277202" y="0"/>
                  </a:lnTo>
                  <a:lnTo>
                    <a:pt x="437690" y="0"/>
                  </a:lnTo>
                  <a:lnTo>
                    <a:pt x="0" y="321338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ounded Rectangle 38"/>
            <p:cNvSpPr/>
            <p:nvPr/>
          </p:nvSpPr>
          <p:spPr>
            <a:xfrm flipH="1">
              <a:off x="2306880" y="1314360"/>
              <a:ext cx="217440" cy="449280"/>
            </a:xfrm>
            <a:custGeom>
              <a:avLst/>
              <a:gdLst>
                <a:gd name="textAreaLeft" fmla="*/ 10440 w 217440"/>
                <a:gd name="textAreaRight" fmla="*/ 207000 w 217440"/>
                <a:gd name="textAreaTop" fmla="*/ 10440 h 449280"/>
                <a:gd name="textAreaBottom" fmla="*/ 438840 h 449280"/>
              </a:gdLst>
              <a:ahLst/>
              <a:rect l="textAreaLeft" t="textAreaTop" r="textAreaRight" b="textAreaBottom"/>
              <a:pathLst>
                <a:path w="21600" h="44592">
                  <a:moveTo>
                    <a:pt x="3600" y="0"/>
                  </a:moveTo>
                  <a:arcTo wR="3600" hR="3600" stAng="16200000" swAng="-5400000"/>
                  <a:lnTo>
                    <a:pt x="0" y="40992"/>
                  </a:lnTo>
                  <a:arcTo wR="3600" hR="3600" stAng="10800000" swAng="-5400000"/>
                  <a:lnTo>
                    <a:pt x="18000" y="445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ounded Rectangle 39"/>
            <p:cNvSpPr/>
            <p:nvPr/>
          </p:nvSpPr>
          <p:spPr>
            <a:xfrm>
              <a:off x="1801800" y="1122120"/>
              <a:ext cx="577800" cy="2436840"/>
            </a:xfrm>
            <a:custGeom>
              <a:avLst/>
              <a:gdLst>
                <a:gd name="textAreaLeft" fmla="*/ 28080 w 577800"/>
                <a:gd name="textAreaRight" fmla="*/ 549720 w 577800"/>
                <a:gd name="textAreaTop" fmla="*/ 28080 h 2436840"/>
                <a:gd name="textAreaBottom" fmla="*/ 2408760 h 2436840"/>
              </a:gdLst>
              <a:ahLst/>
              <a:rect l="textAreaLeft" t="textAreaTop" r="textAreaRight" b="textAreaBottom"/>
              <a:pathLst>
                <a:path w="21600" h="91054">
                  <a:moveTo>
                    <a:pt x="3600" y="0"/>
                  </a:moveTo>
                  <a:arcTo wR="3600" hR="3600" stAng="16200000" swAng="-5400000"/>
                  <a:lnTo>
                    <a:pt x="0" y="87454"/>
                  </a:lnTo>
                  <a:arcTo wR="3600" hR="3600" stAng="10800000" swAng="-5400000"/>
                  <a:lnTo>
                    <a:pt x="18000" y="910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Rounded Rectangle 40" descr=""/>
            <p:cNvPicPr/>
            <p:nvPr/>
          </p:nvPicPr>
          <p:blipFill>
            <a:blip r:embed="rId1"/>
            <a:stretch/>
          </p:blipFill>
          <p:spPr>
            <a:xfrm>
              <a:off x="2274120" y="1627560"/>
              <a:ext cx="359640" cy="18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Flowchart: Decision 41"/>
            <p:cNvSpPr/>
            <p:nvPr/>
          </p:nvSpPr>
          <p:spPr>
            <a:xfrm>
              <a:off x="1728720" y="1250640"/>
              <a:ext cx="144360" cy="217944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rapezoid 42"/>
            <p:cNvSpPr/>
            <p:nvPr/>
          </p:nvSpPr>
          <p:spPr>
            <a:xfrm rot="10800000">
              <a:off x="2090520" y="5610240"/>
              <a:ext cx="144360" cy="257040"/>
            </a:xfrm>
            <a:custGeom>
              <a:avLst/>
              <a:gdLst>
                <a:gd name="textAreaLeft" fmla="*/ 23760 w 144360"/>
                <a:gd name="textAreaRight" fmla="*/ 120600 w 144360"/>
                <a:gd name="textAreaTop" fmla="*/ 4284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52300" h="305628">
                  <a:moveTo>
                    <a:pt x="0" y="305628"/>
                  </a:moveTo>
                  <a:lnTo>
                    <a:pt x="38075" y="0"/>
                  </a:lnTo>
                  <a:lnTo>
                    <a:pt x="114225" y="0"/>
                  </a:lnTo>
                  <a:lnTo>
                    <a:pt x="152300" y="305628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43"/>
            <p:cNvSpPr/>
            <p:nvPr/>
          </p:nvSpPr>
          <p:spPr>
            <a:xfrm rot="16200000">
              <a:off x="1899360" y="2109240"/>
              <a:ext cx="685800" cy="58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auhaus 93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Bauhaus 93"/>
                </a:rPr>
                <a:t>2 </a:t>
              </a:r>
              <a:r>
                <a:rPr b="0" lang="en-US" sz="1600" spc="-1" strike="noStrike">
                  <a:solidFill>
                    <a:srgbClr val="ff0000"/>
                  </a:solidFill>
                  <a:latin typeface="Bauhaus 93"/>
                </a:rPr>
                <a:t>7</a:t>
              </a:r>
              <a:r>
                <a:rPr b="0" lang="en-US" sz="1600" spc="-1" strike="noStrike">
                  <a:solidFill>
                    <a:srgbClr val="000000"/>
                  </a:solidFill>
                  <a:latin typeface="Bauhaus 93"/>
                </a:rPr>
                <a:t> </a:t>
              </a:r>
              <a:r>
                <a:rPr b="0" lang="en-US" sz="1600" spc="-1" strike="noStrike">
                  <a:solidFill>
                    <a:srgbClr val="ff0000"/>
                  </a:solidFill>
                  <a:latin typeface="Bauhaus 93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rapezoid 44"/>
            <p:cNvSpPr/>
            <p:nvPr/>
          </p:nvSpPr>
          <p:spPr>
            <a:xfrm rot="10800000">
              <a:off x="2017800" y="4071960"/>
              <a:ext cx="288720" cy="1603440"/>
            </a:xfrm>
            <a:custGeom>
              <a:avLst/>
              <a:gdLst>
                <a:gd name="textAreaLeft" fmla="*/ 37440 w 288720"/>
                <a:gd name="textAreaRight" fmla="*/ 251280 w 288720"/>
                <a:gd name="textAreaTop" fmla="*/ 207720 h 1603440"/>
                <a:gd name="textAreaBottom" fmla="*/ 1603800 h 1603440"/>
              </a:gdLst>
              <a:ahLst/>
              <a:rect l="textAreaLeft" t="textAreaTop" r="textAreaRight" b="textAreaBottom"/>
              <a:pathLst>
                <a:path w="304602" h="1905461">
                  <a:moveTo>
                    <a:pt x="0" y="1905461"/>
                  </a:moveTo>
                  <a:lnTo>
                    <a:pt x="59227" y="0"/>
                  </a:lnTo>
                  <a:lnTo>
                    <a:pt x="245375" y="0"/>
                  </a:lnTo>
                  <a:lnTo>
                    <a:pt x="304602" y="1905461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Trapezoid 45"/>
          <p:cNvSpPr/>
          <p:nvPr/>
        </p:nvSpPr>
        <p:spPr>
          <a:xfrm rot="10800000">
            <a:off x="2057040" y="5638680"/>
            <a:ext cx="228600" cy="1067040"/>
          </a:xfrm>
          <a:custGeom>
            <a:avLst/>
            <a:gdLst>
              <a:gd name="textAreaLeft" fmla="*/ 62280 w 228600"/>
              <a:gd name="textAreaRight" fmla="*/ 166320 w 228600"/>
              <a:gd name="textAreaTop" fmla="*/ 291600 h 1067040"/>
              <a:gd name="textAreaBottom" fmla="*/ 1067400 h 1067040"/>
            </a:gdLst>
            <a:ahLst/>
            <a:rect l="textAreaLeft" t="textAreaTop" r="textAreaRight" b="textAreaBottom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5"/>
          <p:cNvSpPr/>
          <p:nvPr/>
        </p:nvSpPr>
        <p:spPr>
          <a:xfrm>
            <a:off x="4114800" y="143820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tings can vary between models and manufacturer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pipette’s range is 1-10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 and is set to deliver 2.78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ever you might see the following readings for this exact setting on different pipet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Straight Arrow Connector 16"/>
          <p:cNvCxnSpPr/>
          <p:nvPr/>
        </p:nvCxnSpPr>
        <p:spPr>
          <a:xfrm flipH="1" flipV="1">
            <a:off x="2361960" y="685080"/>
            <a:ext cx="1219680" cy="48013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1" name="TextBox 18"/>
          <p:cNvSpPr/>
          <p:nvPr/>
        </p:nvSpPr>
        <p:spPr>
          <a:xfrm>
            <a:off x="4267080" y="2286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tting 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1"/>
          <p:cNvSpPr/>
          <p:nvPr/>
        </p:nvSpPr>
        <p:spPr>
          <a:xfrm>
            <a:off x="4267080" y="3809880"/>
            <a:ext cx="838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</a:t>
            </a:r>
            <a:r>
              <a:rPr b="0" lang="en-US" sz="1800" spc="-1" strike="noStrike">
                <a:solidFill>
                  <a:srgbClr val="ff0000"/>
                </a:solidFill>
                <a:latin typeface="Bauhaus 93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Bauhaus 93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0"/>
          <p:cNvSpPr/>
          <p:nvPr/>
        </p:nvSpPr>
        <p:spPr>
          <a:xfrm>
            <a:off x="4267080" y="4343400"/>
            <a:ext cx="838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.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2"/>
          <p:cNvSpPr/>
          <p:nvPr/>
        </p:nvSpPr>
        <p:spPr>
          <a:xfrm>
            <a:off x="4267080" y="4876920"/>
            <a:ext cx="838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4"/>
          <p:cNvSpPr/>
          <p:nvPr/>
        </p:nvSpPr>
        <p:spPr>
          <a:xfrm>
            <a:off x="3505320" y="556272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companies will change the color of the plunger butt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Can 22"/>
          <p:cNvSpPr/>
          <p:nvPr/>
        </p:nvSpPr>
        <p:spPr>
          <a:xfrm rot="10800000">
            <a:off x="5334120" y="6095520"/>
            <a:ext cx="506160" cy="257400"/>
          </a:xfrm>
          <a:prstGeom prst="can">
            <a:avLst>
              <a:gd name="adj" fmla="val 25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Can 23"/>
          <p:cNvSpPr/>
          <p:nvPr/>
        </p:nvSpPr>
        <p:spPr>
          <a:xfrm rot="10800000">
            <a:off x="6171840" y="6095520"/>
            <a:ext cx="506520" cy="257400"/>
          </a:xfrm>
          <a:prstGeom prst="can">
            <a:avLst>
              <a:gd name="adj" fmla="val 25000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15"/>
          <p:cNvSpPr/>
          <p:nvPr/>
        </p:nvSpPr>
        <p:spPr>
          <a:xfrm>
            <a:off x="4267080" y="2286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ttaching t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rapezoid 16"/>
          <p:cNvSpPr/>
          <p:nvPr/>
        </p:nvSpPr>
        <p:spPr>
          <a:xfrm rot="10800000">
            <a:off x="1828440" y="2819160"/>
            <a:ext cx="289080" cy="1603080"/>
          </a:xfrm>
          <a:custGeom>
            <a:avLst/>
            <a:gdLst>
              <a:gd name="textAreaLeft" fmla="*/ 37440 w 289080"/>
              <a:gd name="textAreaRight" fmla="*/ 251640 w 289080"/>
              <a:gd name="textAreaTop" fmla="*/ 207720 h 1603080"/>
              <a:gd name="textAreaBottom" fmla="*/ 1603440 h 1603080"/>
            </a:gdLst>
            <a:ahLst/>
            <a:rect l="textAreaLeft" t="textAreaTop" r="textAreaRight" b="textAreaBottom"/>
            <a:pathLst>
              <a:path w="288925" h="1603375">
                <a:moveTo>
                  <a:pt x="0" y="1603375"/>
                </a:moveTo>
                <a:lnTo>
                  <a:pt x="56179" y="0"/>
                </a:lnTo>
                <a:lnTo>
                  <a:pt x="232746" y="0"/>
                </a:lnTo>
                <a:lnTo>
                  <a:pt x="288925" y="1603375"/>
                </a:lnTo>
                <a:close/>
              </a:path>
            </a:pathLst>
          </a:custGeom>
          <a:solidFill>
            <a:srgbClr val="e6e0e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9"/>
          <p:cNvSpPr/>
          <p:nvPr/>
        </p:nvSpPr>
        <p:spPr>
          <a:xfrm>
            <a:off x="533520" y="99072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sure to choose the proper size ti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20"/>
          <p:cNvGrpSpPr/>
          <p:nvPr/>
        </p:nvGrpSpPr>
        <p:grpSpPr>
          <a:xfrm>
            <a:off x="3962520" y="2819520"/>
            <a:ext cx="288720" cy="1780920"/>
            <a:chOff x="3962520" y="2819520"/>
            <a:chExt cx="288720" cy="1780920"/>
          </a:xfrm>
        </p:grpSpPr>
        <p:sp>
          <p:nvSpPr>
            <p:cNvPr id="252" name="Trapezoid 21"/>
            <p:cNvSpPr/>
            <p:nvPr/>
          </p:nvSpPr>
          <p:spPr>
            <a:xfrm rot="10800000">
              <a:off x="4038120" y="4343400"/>
              <a:ext cx="144360" cy="257040"/>
            </a:xfrm>
            <a:custGeom>
              <a:avLst/>
              <a:gdLst>
                <a:gd name="textAreaLeft" fmla="*/ 23760 w 144360"/>
                <a:gd name="textAreaRight" fmla="*/ 120600 w 144360"/>
                <a:gd name="textAreaTop" fmla="*/ 4284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44596" h="257074">
                  <a:moveTo>
                    <a:pt x="0" y="257074"/>
                  </a:moveTo>
                  <a:lnTo>
                    <a:pt x="36149" y="0"/>
                  </a:lnTo>
                  <a:lnTo>
                    <a:pt x="108447" y="0"/>
                  </a:lnTo>
                  <a:lnTo>
                    <a:pt x="144596" y="257074"/>
                  </a:lnTo>
                  <a:close/>
                </a:path>
              </a:pathLst>
            </a:custGeom>
            <a:solidFill>
              <a:srgbClr val="c6d9f1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rapezoid 22"/>
            <p:cNvSpPr/>
            <p:nvPr/>
          </p:nvSpPr>
          <p:spPr>
            <a:xfrm rot="10800000">
              <a:off x="3962520" y="2819520"/>
              <a:ext cx="288720" cy="1603440"/>
            </a:xfrm>
            <a:custGeom>
              <a:avLst/>
              <a:gdLst>
                <a:gd name="textAreaLeft" fmla="*/ 37440 w 288720"/>
                <a:gd name="textAreaRight" fmla="*/ 251280 w 288720"/>
                <a:gd name="textAreaTop" fmla="*/ 207720 h 1603440"/>
                <a:gd name="textAreaBottom" fmla="*/ 1603800 h 1603440"/>
              </a:gdLst>
              <a:ahLst/>
              <a:rect l="textAreaLeft" t="textAreaTop" r="textAreaRight" b="textAreaBottom"/>
              <a:pathLst>
                <a:path w="289190" h="1602748">
                  <a:moveTo>
                    <a:pt x="0" y="1602748"/>
                  </a:moveTo>
                  <a:lnTo>
                    <a:pt x="56230" y="0"/>
                  </a:lnTo>
                  <a:lnTo>
                    <a:pt x="232960" y="0"/>
                  </a:lnTo>
                  <a:lnTo>
                    <a:pt x="289190" y="1602748"/>
                  </a:lnTo>
                  <a:close/>
                </a:path>
              </a:pathLst>
            </a:custGeom>
            <a:solidFill>
              <a:srgbClr val="e6e0ec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rapezoid 45"/>
          <p:cNvSpPr/>
          <p:nvPr/>
        </p:nvSpPr>
        <p:spPr>
          <a:xfrm rot="10800000">
            <a:off x="3962520" y="4190760"/>
            <a:ext cx="304560" cy="1066680"/>
          </a:xfrm>
          <a:custGeom>
            <a:avLst/>
            <a:gdLst>
              <a:gd name="textAreaLeft" fmla="*/ 83160 w 304560"/>
              <a:gd name="textAreaRight" fmla="*/ 221400 w 304560"/>
              <a:gd name="textAreaTop" fmla="*/ 291600 h 1066680"/>
              <a:gd name="textAreaBottom" fmla="*/ 1067040 h 1066680"/>
            </a:gdLst>
            <a:ahLst/>
            <a:rect l="textAreaLeft" t="textAreaTop" r="textAreaRight" b="textAreaBottom"/>
            <a:pathLst>
              <a:path w="304800" h="1066800">
                <a:moveTo>
                  <a:pt x="0" y="1066800"/>
                </a:moveTo>
                <a:lnTo>
                  <a:pt x="124968" y="0"/>
                </a:lnTo>
                <a:lnTo>
                  <a:pt x="179832" y="0"/>
                </a:lnTo>
                <a:lnTo>
                  <a:pt x="304800" y="1066800"/>
                </a:lnTo>
                <a:close/>
              </a:path>
            </a:pathLst>
          </a:custGeom>
          <a:solidFill>
            <a:srgbClr val="ddd9c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rapezoid 25"/>
          <p:cNvSpPr/>
          <p:nvPr/>
        </p:nvSpPr>
        <p:spPr>
          <a:xfrm rot="10800000">
            <a:off x="6248520" y="2819160"/>
            <a:ext cx="288720" cy="1603080"/>
          </a:xfrm>
          <a:custGeom>
            <a:avLst/>
            <a:gdLst>
              <a:gd name="textAreaLeft" fmla="*/ 37440 w 288720"/>
              <a:gd name="textAreaRight" fmla="*/ 251280 w 288720"/>
              <a:gd name="textAreaTop" fmla="*/ 207720 h 1603080"/>
              <a:gd name="textAreaBottom" fmla="*/ 1603440 h 1603080"/>
            </a:gdLst>
            <a:ahLst/>
            <a:rect l="textAreaLeft" t="textAreaTop" r="textAreaRight" b="textAreaBottom"/>
            <a:pathLst>
              <a:path w="288925" h="1603375">
                <a:moveTo>
                  <a:pt x="0" y="1603375"/>
                </a:moveTo>
                <a:lnTo>
                  <a:pt x="56179" y="0"/>
                </a:lnTo>
                <a:lnTo>
                  <a:pt x="232746" y="0"/>
                </a:lnTo>
                <a:lnTo>
                  <a:pt x="288925" y="1603375"/>
                </a:lnTo>
                <a:close/>
              </a:path>
            </a:pathLst>
          </a:custGeom>
          <a:solidFill>
            <a:srgbClr val="e6e0e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rapezoid 26"/>
          <p:cNvSpPr/>
          <p:nvPr/>
        </p:nvSpPr>
        <p:spPr>
          <a:xfrm rot="10800000">
            <a:off x="1904760" y="4724280"/>
            <a:ext cx="152280" cy="1067040"/>
          </a:xfrm>
          <a:custGeom>
            <a:avLst/>
            <a:gdLst>
              <a:gd name="textAreaLeft" fmla="*/ 41400 w 152280"/>
              <a:gd name="textAreaRight" fmla="*/ 110880 w 152280"/>
              <a:gd name="textAreaTop" fmla="*/ 291600 h 1067040"/>
              <a:gd name="textAreaBottom" fmla="*/ 1067400 h 1067040"/>
            </a:gdLst>
            <a:ahLst/>
            <a:rect l="textAreaLeft" t="textAreaTop" r="textAreaRight" b="textAreaBottom"/>
            <a:pathLst>
              <a:path w="152400" h="1066800">
                <a:moveTo>
                  <a:pt x="0" y="1066800"/>
                </a:moveTo>
                <a:lnTo>
                  <a:pt x="62484" y="0"/>
                </a:lnTo>
                <a:lnTo>
                  <a:pt x="89916" y="0"/>
                </a:lnTo>
                <a:lnTo>
                  <a:pt x="152400" y="1066800"/>
                </a:lnTo>
                <a:close/>
              </a:path>
            </a:pathLst>
          </a:custGeom>
          <a:solidFill>
            <a:srgbClr val="ddd9c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rapezoid 27"/>
          <p:cNvSpPr/>
          <p:nvPr/>
        </p:nvSpPr>
        <p:spPr>
          <a:xfrm rot="10800000">
            <a:off x="6172200" y="4648320"/>
            <a:ext cx="457200" cy="1752480"/>
          </a:xfrm>
          <a:custGeom>
            <a:avLst/>
            <a:gdLst>
              <a:gd name="textAreaLeft" fmla="*/ 124920 w 457200"/>
              <a:gd name="textAreaRight" fmla="*/ 332280 w 457200"/>
              <a:gd name="textAreaTop" fmla="*/ 478800 h 1752480"/>
              <a:gd name="textAreaBottom" fmla="*/ 1752840 h 1752480"/>
            </a:gdLst>
            <a:ahLst/>
            <a:rect l="textAreaLeft" t="textAreaTop" r="textAreaRight" b="textAreaBottom"/>
            <a:pathLst>
              <a:path w="457200" h="1752600">
                <a:moveTo>
                  <a:pt x="0" y="1752600"/>
                </a:moveTo>
                <a:lnTo>
                  <a:pt x="187452" y="0"/>
                </a:lnTo>
                <a:lnTo>
                  <a:pt x="269748" y="0"/>
                </a:lnTo>
                <a:lnTo>
                  <a:pt x="457200" y="1752600"/>
                </a:lnTo>
                <a:close/>
              </a:path>
            </a:pathLst>
          </a:custGeom>
          <a:solidFill>
            <a:srgbClr val="ddd9c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&quot;No&quot; Symbol 29"/>
          <p:cNvSpPr/>
          <p:nvPr/>
        </p:nvSpPr>
        <p:spPr>
          <a:xfrm>
            <a:off x="5867280" y="4038480"/>
            <a:ext cx="1143000" cy="11430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67400 h 1143000"/>
              <a:gd name="textAreaBottom" fmla="*/ 975600 h 1143000"/>
            </a:gdLst>
            <a:ahLst/>
            <a:rect l="textAreaLeft" t="textAreaTop" r="textAreaRight" b="textAreaBottom"/>
            <a:pathLst>
              <a:path w="1143000" h="1143000">
                <a:moveTo>
                  <a:pt x="0" y="571500"/>
                </a:moveTo>
                <a:lnTo>
                  <a:pt x="0" y="571500"/>
                </a:lnTo>
                <a:arcTo wR="571500" hR="571500" stAng="-10799994" swAng="5400000"/>
                <a:lnTo>
                  <a:pt x="571501" y="1"/>
                </a:lnTo>
                <a:arcTo wR="571500" hR="571500" stAng="-5399994" swAng="5400000"/>
                <a:lnTo>
                  <a:pt x="1143000" y="571502"/>
                </a:lnTo>
                <a:arcTo wR="571500" hR="571500" stAng="0" swAng="5400000"/>
                <a:lnTo>
                  <a:pt x="571500" y="1143002"/>
                </a:lnTo>
                <a:arcTo wR="571500" hR="571500" stAng="5400000" swAng="5400006"/>
                <a:close/>
                <a:moveTo>
                  <a:pt x="939971" y="872734"/>
                </a:moveTo>
                <a:lnTo>
                  <a:pt x="939971" y="872734"/>
                </a:lnTo>
                <a:arcTo wR="475934" hR="475934" stAng="2356005" swAng="-10112015"/>
                <a:close/>
                <a:moveTo>
                  <a:pt x="203029" y="270266"/>
                </a:moveTo>
                <a:lnTo>
                  <a:pt x="203029" y="270266"/>
                </a:lnTo>
                <a:arcTo wR="475934" hR="475934" stAng="-8444000" swAng="-10112015"/>
                <a:close/>
              </a:path>
            </a:pathLst>
          </a:custGeom>
          <a:solidFill>
            <a:srgbClr val="ff0000">
              <a:alpha val="17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miley Face 30"/>
          <p:cNvSpPr/>
          <p:nvPr/>
        </p:nvSpPr>
        <p:spPr>
          <a:xfrm>
            <a:off x="3657600" y="3124080"/>
            <a:ext cx="914400" cy="762120"/>
          </a:xfrm>
          <a:prstGeom prst="smileyFace">
            <a:avLst>
              <a:gd name="adj" fmla="val 9282"/>
            </a:avLst>
          </a:prstGeom>
          <a:solidFill>
            <a:srgbClr val="ffff00">
              <a:alpha val="1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&quot;No&quot; Symbol 31"/>
          <p:cNvSpPr/>
          <p:nvPr/>
        </p:nvSpPr>
        <p:spPr>
          <a:xfrm>
            <a:off x="1447920" y="4038480"/>
            <a:ext cx="1143000" cy="11430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67400 h 1143000"/>
              <a:gd name="textAreaBottom" fmla="*/ 975600 h 1143000"/>
            </a:gdLst>
            <a:ahLst/>
            <a:rect l="textAreaLeft" t="textAreaTop" r="textAreaRight" b="textAreaBottom"/>
            <a:pathLst>
              <a:path w="1143000" h="1143000">
                <a:moveTo>
                  <a:pt x="0" y="571500"/>
                </a:moveTo>
                <a:lnTo>
                  <a:pt x="0" y="571500"/>
                </a:lnTo>
                <a:arcTo wR="571500" hR="571500" stAng="-10799994" swAng="5400000"/>
                <a:lnTo>
                  <a:pt x="571501" y="1"/>
                </a:lnTo>
                <a:arcTo wR="571500" hR="571500" stAng="-5399994" swAng="5400000"/>
                <a:lnTo>
                  <a:pt x="1143000" y="571502"/>
                </a:lnTo>
                <a:arcTo wR="571500" hR="571500" stAng="0" swAng="5400000"/>
                <a:lnTo>
                  <a:pt x="571500" y="1143002"/>
                </a:lnTo>
                <a:arcTo wR="571500" hR="571500" stAng="5400000" swAng="5400006"/>
                <a:close/>
                <a:moveTo>
                  <a:pt x="939971" y="872734"/>
                </a:moveTo>
                <a:lnTo>
                  <a:pt x="939971" y="872734"/>
                </a:lnTo>
                <a:arcTo wR="475934" hR="475934" stAng="2356005" swAng="-10112015"/>
                <a:close/>
                <a:moveTo>
                  <a:pt x="203029" y="270266"/>
                </a:moveTo>
                <a:lnTo>
                  <a:pt x="203029" y="270266"/>
                </a:lnTo>
                <a:arcTo wR="475934" hR="475934" stAng="-8444000" swAng="-10112015"/>
                <a:close/>
              </a:path>
            </a:pathLst>
          </a:custGeom>
          <a:solidFill>
            <a:srgbClr val="ff0000">
              <a:alpha val="17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rapezoid 14"/>
          <p:cNvSpPr/>
          <p:nvPr/>
        </p:nvSpPr>
        <p:spPr>
          <a:xfrm rot="10800000">
            <a:off x="1676160" y="2209320"/>
            <a:ext cx="577800" cy="639720"/>
          </a:xfrm>
          <a:custGeom>
            <a:avLst/>
            <a:gdLst>
              <a:gd name="textAreaLeft" fmla="*/ 96120 w 577800"/>
              <a:gd name="textAreaRight" fmla="*/ 481680 w 577800"/>
              <a:gd name="textAreaTop" fmla="*/ 106560 h 639720"/>
              <a:gd name="textAreaBottom" fmla="*/ 640080 h 639720"/>
            </a:gdLst>
            <a:ahLst/>
            <a:rect l="textAreaLeft" t="textAreaTop" r="textAreaRight" b="textAreaBottom"/>
            <a:pathLst>
              <a:path w="577850" h="639763">
                <a:moveTo>
                  <a:pt x="0" y="639763"/>
                </a:moveTo>
                <a:lnTo>
                  <a:pt x="144463" y="0"/>
                </a:lnTo>
                <a:lnTo>
                  <a:pt x="433388" y="0"/>
                </a:lnTo>
                <a:lnTo>
                  <a:pt x="577850" y="639763"/>
                </a:lnTo>
                <a:close/>
              </a:path>
            </a:pathLst>
          </a:custGeom>
          <a:solidFill>
            <a:srgbClr val="e6e0e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rapezoid 15"/>
          <p:cNvSpPr/>
          <p:nvPr/>
        </p:nvSpPr>
        <p:spPr>
          <a:xfrm rot="10800000">
            <a:off x="3809520" y="2209320"/>
            <a:ext cx="577800" cy="639720"/>
          </a:xfrm>
          <a:custGeom>
            <a:avLst/>
            <a:gdLst>
              <a:gd name="textAreaLeft" fmla="*/ 96120 w 577800"/>
              <a:gd name="textAreaRight" fmla="*/ 481680 w 577800"/>
              <a:gd name="textAreaTop" fmla="*/ 106560 h 639720"/>
              <a:gd name="textAreaBottom" fmla="*/ 640080 h 639720"/>
            </a:gdLst>
            <a:ahLst/>
            <a:rect l="textAreaLeft" t="textAreaTop" r="textAreaRight" b="textAreaBottom"/>
            <a:pathLst>
              <a:path w="577850" h="639763">
                <a:moveTo>
                  <a:pt x="0" y="639763"/>
                </a:moveTo>
                <a:lnTo>
                  <a:pt x="144463" y="0"/>
                </a:lnTo>
                <a:lnTo>
                  <a:pt x="433388" y="0"/>
                </a:lnTo>
                <a:lnTo>
                  <a:pt x="577850" y="639763"/>
                </a:lnTo>
                <a:close/>
              </a:path>
            </a:pathLst>
          </a:custGeom>
          <a:solidFill>
            <a:srgbClr val="e6e0e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rapezoid 17"/>
          <p:cNvSpPr/>
          <p:nvPr/>
        </p:nvSpPr>
        <p:spPr>
          <a:xfrm rot="10800000">
            <a:off x="6095520" y="2209320"/>
            <a:ext cx="577800" cy="639720"/>
          </a:xfrm>
          <a:custGeom>
            <a:avLst/>
            <a:gdLst>
              <a:gd name="textAreaLeft" fmla="*/ 96120 w 577800"/>
              <a:gd name="textAreaRight" fmla="*/ 481680 w 577800"/>
              <a:gd name="textAreaTop" fmla="*/ 106560 h 639720"/>
              <a:gd name="textAreaBottom" fmla="*/ 640080 h 639720"/>
            </a:gdLst>
            <a:ahLst/>
            <a:rect l="textAreaLeft" t="textAreaTop" r="textAreaRight" b="textAreaBottom"/>
            <a:pathLst>
              <a:path w="577850" h="639763">
                <a:moveTo>
                  <a:pt x="0" y="639763"/>
                </a:moveTo>
                <a:lnTo>
                  <a:pt x="144463" y="0"/>
                </a:lnTo>
                <a:lnTo>
                  <a:pt x="433388" y="0"/>
                </a:lnTo>
                <a:lnTo>
                  <a:pt x="577850" y="639763"/>
                </a:lnTo>
                <a:close/>
              </a:path>
            </a:pathLst>
          </a:custGeom>
          <a:solidFill>
            <a:srgbClr val="e6e0e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8"/>
          <p:cNvGrpSpPr/>
          <p:nvPr/>
        </p:nvGrpSpPr>
        <p:grpSpPr>
          <a:xfrm>
            <a:off x="1295280" y="533520"/>
            <a:ext cx="1492200" cy="5486400"/>
            <a:chOff x="1295280" y="533520"/>
            <a:chExt cx="1492200" cy="5486400"/>
          </a:xfrm>
        </p:grpSpPr>
        <p:sp>
          <p:nvSpPr>
            <p:cNvPr id="265" name="Trapezoid 33"/>
            <p:cNvSpPr/>
            <p:nvPr/>
          </p:nvSpPr>
          <p:spPr>
            <a:xfrm rot="10800000">
              <a:off x="1872720" y="3647880"/>
              <a:ext cx="577800" cy="639720"/>
            </a:xfrm>
            <a:custGeom>
              <a:avLst/>
              <a:gdLst>
                <a:gd name="textAreaLeft" fmla="*/ 96120 w 577800"/>
                <a:gd name="textAreaRight" fmla="*/ 481680 w 577800"/>
                <a:gd name="textAreaTop" fmla="*/ 10656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609204" h="760298">
                  <a:moveTo>
                    <a:pt x="0" y="760298"/>
                  </a:moveTo>
                  <a:lnTo>
                    <a:pt x="152301" y="0"/>
                  </a:lnTo>
                  <a:lnTo>
                    <a:pt x="456903" y="0"/>
                  </a:lnTo>
                  <a:lnTo>
                    <a:pt x="609204" y="760298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Can 34"/>
            <p:cNvSpPr/>
            <p:nvPr/>
          </p:nvSpPr>
          <p:spPr>
            <a:xfrm rot="10800000">
              <a:off x="1872720" y="533520"/>
              <a:ext cx="506520" cy="25704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Can 35"/>
            <p:cNvSpPr/>
            <p:nvPr/>
          </p:nvSpPr>
          <p:spPr>
            <a:xfrm flipV="1">
              <a:off x="2017800" y="761400"/>
              <a:ext cx="191880" cy="609480"/>
            </a:xfrm>
            <a:prstGeom prst="can">
              <a:avLst>
                <a:gd name="adj" fmla="val 6986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Block Arc 36"/>
            <p:cNvSpPr/>
            <p:nvPr/>
          </p:nvSpPr>
          <p:spPr>
            <a:xfrm>
              <a:off x="1295280" y="1274760"/>
              <a:ext cx="650880" cy="512640"/>
            </a:xfrm>
            <a:custGeom>
              <a:avLst/>
              <a:gdLst>
                <a:gd name="textAreaLeft" fmla="*/ 0 w 650880"/>
                <a:gd name="textAreaRight" fmla="*/ 589680 w 650880"/>
                <a:gd name="textAreaTop" fmla="*/ 0 h 512640"/>
                <a:gd name="textAreaBottom" fmla="*/ 266760 h 512640"/>
              </a:gdLst>
              <a:ahLst/>
              <a:rect l="textAreaLeft" t="textAreaTop" r="textAreaRight" b="textAreaBottom"/>
              <a:pathLst>
                <a:path w="686191" h="609369">
                  <a:moveTo>
                    <a:pt x="282" y="317038"/>
                  </a:moveTo>
                  <a:lnTo>
                    <a:pt x="282" y="317038"/>
                  </a:lnTo>
                  <a:arcTo wR="343096" hR="304685" stAng="10676167" swAng="8966674"/>
                  <a:lnTo>
                    <a:pt x="522424" y="189914"/>
                  </a:lnTo>
                  <a:lnTo>
                    <a:pt x="522424" y="189914"/>
                  </a:lnTo>
                  <a:arcTo wR="226414" hR="188003" stAng="-1957169" swAng="-8966653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Diagonal Stripe 37"/>
            <p:cNvSpPr/>
            <p:nvPr/>
          </p:nvSpPr>
          <p:spPr>
            <a:xfrm rot="13935600">
              <a:off x="2369880" y="1285200"/>
              <a:ext cx="368280" cy="304920"/>
            </a:xfrm>
            <a:custGeom>
              <a:avLst/>
              <a:gdLst>
                <a:gd name="textAreaLeft" fmla="*/ 0 w 368280"/>
                <a:gd name="textAreaRight" fmla="*/ 300960 w 368280"/>
                <a:gd name="textAreaTop" fmla="*/ 0 h 304920"/>
                <a:gd name="textAreaBottom" fmla="*/ 249120 h 304920"/>
              </a:gdLst>
              <a:ahLst/>
              <a:rect l="textAreaLeft" t="textAreaTop" r="textAreaRight" b="textAreaBottom"/>
              <a:pathLst>
                <a:path w="437690" h="321338">
                  <a:moveTo>
                    <a:pt x="0" y="203513"/>
                  </a:moveTo>
                  <a:lnTo>
                    <a:pt x="277202" y="0"/>
                  </a:lnTo>
                  <a:lnTo>
                    <a:pt x="437690" y="0"/>
                  </a:lnTo>
                  <a:lnTo>
                    <a:pt x="0" y="321338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ounded Rectangle 38"/>
            <p:cNvSpPr/>
            <p:nvPr/>
          </p:nvSpPr>
          <p:spPr>
            <a:xfrm flipH="1">
              <a:off x="2306880" y="1467000"/>
              <a:ext cx="217440" cy="449280"/>
            </a:xfrm>
            <a:custGeom>
              <a:avLst/>
              <a:gdLst>
                <a:gd name="textAreaLeft" fmla="*/ 10440 w 217440"/>
                <a:gd name="textAreaRight" fmla="*/ 207000 w 217440"/>
                <a:gd name="textAreaTop" fmla="*/ 10440 h 449280"/>
                <a:gd name="textAreaBottom" fmla="*/ 438840 h 449280"/>
              </a:gdLst>
              <a:ahLst/>
              <a:rect l="textAreaLeft" t="textAreaTop" r="textAreaRight" b="textAreaBottom"/>
              <a:pathLst>
                <a:path w="21600" h="44592">
                  <a:moveTo>
                    <a:pt x="3600" y="0"/>
                  </a:moveTo>
                  <a:arcTo wR="3600" hR="3600" stAng="16200000" swAng="-5400000"/>
                  <a:lnTo>
                    <a:pt x="0" y="40992"/>
                  </a:lnTo>
                  <a:arcTo wR="3600" hR="3600" stAng="10800000" swAng="-5400000"/>
                  <a:lnTo>
                    <a:pt x="18000" y="445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ounded Rectangle 39"/>
            <p:cNvSpPr/>
            <p:nvPr/>
          </p:nvSpPr>
          <p:spPr>
            <a:xfrm>
              <a:off x="1801800" y="1274760"/>
              <a:ext cx="577800" cy="2436840"/>
            </a:xfrm>
            <a:custGeom>
              <a:avLst/>
              <a:gdLst>
                <a:gd name="textAreaLeft" fmla="*/ 28080 w 577800"/>
                <a:gd name="textAreaRight" fmla="*/ 549720 w 577800"/>
                <a:gd name="textAreaTop" fmla="*/ 28080 h 2436840"/>
                <a:gd name="textAreaBottom" fmla="*/ 2408760 h 2436840"/>
              </a:gdLst>
              <a:ahLst/>
              <a:rect l="textAreaLeft" t="textAreaTop" r="textAreaRight" b="textAreaBottom"/>
              <a:pathLst>
                <a:path w="21600" h="91054">
                  <a:moveTo>
                    <a:pt x="3600" y="0"/>
                  </a:moveTo>
                  <a:arcTo wR="3600" hR="3600" stAng="16200000" swAng="-5400000"/>
                  <a:lnTo>
                    <a:pt x="0" y="87454"/>
                  </a:lnTo>
                  <a:arcTo wR="3600" hR="3600" stAng="10800000" swAng="-5400000"/>
                  <a:lnTo>
                    <a:pt x="18000" y="910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ounded Rectangle 40"/>
            <p:cNvSpPr/>
            <p:nvPr/>
          </p:nvSpPr>
          <p:spPr>
            <a:xfrm>
              <a:off x="2379960" y="1787400"/>
              <a:ext cx="217440" cy="1860480"/>
            </a:xfrm>
            <a:custGeom>
              <a:avLst/>
              <a:gdLst>
                <a:gd name="textAreaLeft" fmla="*/ 10440 w 217440"/>
                <a:gd name="textAreaRight" fmla="*/ 207000 w 217440"/>
                <a:gd name="textAreaTop" fmla="*/ 10440 h 1860480"/>
                <a:gd name="textAreaBottom" fmla="*/ 1850040 h 1860480"/>
              </a:gdLst>
              <a:ahLst/>
              <a:rect l="textAreaLeft" t="textAreaTop" r="textAreaRight" b="textAreaBottom"/>
              <a:pathLst>
                <a:path w="21600" h="184546">
                  <a:moveTo>
                    <a:pt x="3600" y="0"/>
                  </a:moveTo>
                  <a:arcTo wR="3600" hR="3600" stAng="16200000" swAng="-5400000"/>
                  <a:lnTo>
                    <a:pt x="0" y="180946"/>
                  </a:lnTo>
                  <a:arcTo wR="3600" hR="3600" stAng="10800000" swAng="-5400000"/>
                  <a:lnTo>
                    <a:pt x="18000" y="1845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lowchart: Decision 41"/>
            <p:cNvSpPr/>
            <p:nvPr/>
          </p:nvSpPr>
          <p:spPr>
            <a:xfrm>
              <a:off x="1728720" y="1403280"/>
              <a:ext cx="144360" cy="217944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rapezoid 42"/>
            <p:cNvSpPr/>
            <p:nvPr/>
          </p:nvSpPr>
          <p:spPr>
            <a:xfrm rot="10800000">
              <a:off x="2090520" y="5762880"/>
              <a:ext cx="144360" cy="257040"/>
            </a:xfrm>
            <a:custGeom>
              <a:avLst/>
              <a:gdLst>
                <a:gd name="textAreaLeft" fmla="*/ 23760 w 144360"/>
                <a:gd name="textAreaRight" fmla="*/ 120600 w 144360"/>
                <a:gd name="textAreaTop" fmla="*/ 4284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52300" h="305628">
                  <a:moveTo>
                    <a:pt x="0" y="305628"/>
                  </a:moveTo>
                  <a:lnTo>
                    <a:pt x="38075" y="0"/>
                  </a:lnTo>
                  <a:lnTo>
                    <a:pt x="114225" y="0"/>
                  </a:lnTo>
                  <a:lnTo>
                    <a:pt x="152300" y="305628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43"/>
            <p:cNvSpPr/>
            <p:nvPr/>
          </p:nvSpPr>
          <p:spPr>
            <a:xfrm rot="16200000">
              <a:off x="1777680" y="2383560"/>
              <a:ext cx="6858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rapezoid 44"/>
            <p:cNvSpPr/>
            <p:nvPr/>
          </p:nvSpPr>
          <p:spPr>
            <a:xfrm rot="10800000">
              <a:off x="2017800" y="4224600"/>
              <a:ext cx="288720" cy="1603440"/>
            </a:xfrm>
            <a:custGeom>
              <a:avLst/>
              <a:gdLst>
                <a:gd name="textAreaLeft" fmla="*/ 37440 w 288720"/>
                <a:gd name="textAreaRight" fmla="*/ 251280 w 288720"/>
                <a:gd name="textAreaTop" fmla="*/ 207720 h 1603440"/>
                <a:gd name="textAreaBottom" fmla="*/ 1603800 h 1603440"/>
              </a:gdLst>
              <a:ahLst/>
              <a:rect l="textAreaLeft" t="textAreaTop" r="textAreaRight" b="textAreaBottom"/>
              <a:pathLst>
                <a:path w="304602" h="1905461">
                  <a:moveTo>
                    <a:pt x="0" y="1905461"/>
                  </a:moveTo>
                  <a:lnTo>
                    <a:pt x="59227" y="0"/>
                  </a:lnTo>
                  <a:lnTo>
                    <a:pt x="245375" y="0"/>
                  </a:lnTo>
                  <a:lnTo>
                    <a:pt x="304602" y="1905461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rapezoid 45"/>
          <p:cNvSpPr/>
          <p:nvPr/>
        </p:nvSpPr>
        <p:spPr>
          <a:xfrm rot="10800000">
            <a:off x="2057040" y="5562360"/>
            <a:ext cx="228600" cy="1066680"/>
          </a:xfrm>
          <a:custGeom>
            <a:avLst/>
            <a:gdLst>
              <a:gd name="textAreaLeft" fmla="*/ 62280 w 228600"/>
              <a:gd name="textAreaRight" fmla="*/ 166320 w 228600"/>
              <a:gd name="textAreaTop" fmla="*/ 291600 h 1066680"/>
              <a:gd name="textAreaBottom" fmla="*/ 1067040 h 1066680"/>
            </a:gdLst>
            <a:ahLst/>
            <a:rect l="textAreaLeft" t="textAreaTop" r="textAreaRight" b="textAreaBottom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5"/>
          <p:cNvSpPr/>
          <p:nvPr/>
        </p:nvSpPr>
        <p:spPr>
          <a:xfrm>
            <a:off x="4267080" y="2286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ttaching t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rapezoid 16"/>
          <p:cNvSpPr/>
          <p:nvPr/>
        </p:nvSpPr>
        <p:spPr>
          <a:xfrm rot="10800000">
            <a:off x="2514240" y="5562360"/>
            <a:ext cx="228600" cy="1066680"/>
          </a:xfrm>
          <a:custGeom>
            <a:avLst/>
            <a:gdLst>
              <a:gd name="textAreaLeft" fmla="*/ 62280 w 228600"/>
              <a:gd name="textAreaRight" fmla="*/ 166320 w 228600"/>
              <a:gd name="textAreaTop" fmla="*/ 291600 h 1066680"/>
              <a:gd name="textAreaBottom" fmla="*/ 1067040 h 1066680"/>
            </a:gdLst>
            <a:ahLst/>
            <a:rect l="textAreaLeft" t="textAreaTop" r="textAreaRight" b="textAreaBottom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rapezoid 17"/>
          <p:cNvSpPr/>
          <p:nvPr/>
        </p:nvSpPr>
        <p:spPr>
          <a:xfrm rot="10800000">
            <a:off x="2971440" y="5562360"/>
            <a:ext cx="228600" cy="1066680"/>
          </a:xfrm>
          <a:custGeom>
            <a:avLst/>
            <a:gdLst>
              <a:gd name="textAreaLeft" fmla="*/ 62280 w 228600"/>
              <a:gd name="textAreaRight" fmla="*/ 166320 w 228600"/>
              <a:gd name="textAreaTop" fmla="*/ 291600 h 1066680"/>
              <a:gd name="textAreaBottom" fmla="*/ 1067040 h 1066680"/>
            </a:gdLst>
            <a:ahLst/>
            <a:rect l="textAreaLeft" t="textAreaTop" r="textAreaRight" b="textAreaBottom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rapezoid 18"/>
          <p:cNvSpPr/>
          <p:nvPr/>
        </p:nvSpPr>
        <p:spPr>
          <a:xfrm rot="10800000">
            <a:off x="3428640" y="5562360"/>
            <a:ext cx="228600" cy="1066680"/>
          </a:xfrm>
          <a:custGeom>
            <a:avLst/>
            <a:gdLst>
              <a:gd name="textAreaLeft" fmla="*/ 62280 w 228600"/>
              <a:gd name="textAreaRight" fmla="*/ 166320 w 228600"/>
              <a:gd name="textAreaTop" fmla="*/ 291600 h 1066680"/>
              <a:gd name="textAreaBottom" fmla="*/ 1067040 h 1066680"/>
            </a:gdLst>
            <a:ahLst/>
            <a:rect l="textAreaLeft" t="textAreaTop" r="textAreaRight" b="textAreaBottom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9"/>
          <p:cNvSpPr/>
          <p:nvPr/>
        </p:nvSpPr>
        <p:spPr>
          <a:xfrm>
            <a:off x="1752480" y="5715000"/>
            <a:ext cx="3962520" cy="990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0"/>
          <p:cNvSpPr/>
          <p:nvPr/>
        </p:nvSpPr>
        <p:spPr>
          <a:xfrm>
            <a:off x="4114800" y="13716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s the pipette into the tip firmly to create an airtight se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rapezoid 21"/>
          <p:cNvSpPr/>
          <p:nvPr/>
        </p:nvSpPr>
        <p:spPr>
          <a:xfrm rot="10800000">
            <a:off x="3885840" y="5562360"/>
            <a:ext cx="228600" cy="1066680"/>
          </a:xfrm>
          <a:custGeom>
            <a:avLst/>
            <a:gdLst>
              <a:gd name="textAreaLeft" fmla="*/ 62280 w 228600"/>
              <a:gd name="textAreaRight" fmla="*/ 166320 w 228600"/>
              <a:gd name="textAreaTop" fmla="*/ 291600 h 1066680"/>
              <a:gd name="textAreaBottom" fmla="*/ 1067040 h 1066680"/>
            </a:gdLst>
            <a:ahLst/>
            <a:rect l="textAreaLeft" t="textAreaTop" r="textAreaRight" b="textAreaBottom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rapezoid 22"/>
          <p:cNvSpPr/>
          <p:nvPr/>
        </p:nvSpPr>
        <p:spPr>
          <a:xfrm rot="10800000">
            <a:off x="4343040" y="5562360"/>
            <a:ext cx="228600" cy="1066680"/>
          </a:xfrm>
          <a:custGeom>
            <a:avLst/>
            <a:gdLst>
              <a:gd name="textAreaLeft" fmla="*/ 62280 w 228600"/>
              <a:gd name="textAreaRight" fmla="*/ 166320 w 228600"/>
              <a:gd name="textAreaTop" fmla="*/ 291600 h 1066680"/>
              <a:gd name="textAreaBottom" fmla="*/ 1067040 h 1066680"/>
            </a:gdLst>
            <a:ahLst/>
            <a:rect l="textAreaLeft" t="textAreaTop" r="textAreaRight" b="textAreaBottom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rapezoid 23"/>
          <p:cNvSpPr/>
          <p:nvPr/>
        </p:nvSpPr>
        <p:spPr>
          <a:xfrm rot="10800000">
            <a:off x="4800240" y="5562360"/>
            <a:ext cx="228600" cy="1066680"/>
          </a:xfrm>
          <a:custGeom>
            <a:avLst/>
            <a:gdLst>
              <a:gd name="textAreaLeft" fmla="*/ 62280 w 228600"/>
              <a:gd name="textAreaRight" fmla="*/ 166320 w 228600"/>
              <a:gd name="textAreaTop" fmla="*/ 291600 h 1066680"/>
              <a:gd name="textAreaBottom" fmla="*/ 1067040 h 1066680"/>
            </a:gdLst>
            <a:ahLst/>
            <a:rect l="textAreaLeft" t="textAreaTop" r="textAreaRight" b="textAreaBottom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Can 22"/>
          <p:cNvSpPr/>
          <p:nvPr/>
        </p:nvSpPr>
        <p:spPr>
          <a:xfrm rot="10800000">
            <a:off x="1447560" y="1142640"/>
            <a:ext cx="779400" cy="330120"/>
          </a:xfrm>
          <a:prstGeom prst="can">
            <a:avLst>
              <a:gd name="adj" fmla="val 25000"/>
            </a:avLst>
          </a:prstGeom>
          <a:solidFill>
            <a:srgbClr val="f79646">
              <a:alpha val="25000"/>
            </a:srgbClr>
          </a:solidFill>
          <a:ln w="25560">
            <a:solidFill>
              <a:srgbClr val="385d8a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Can 23"/>
          <p:cNvSpPr/>
          <p:nvPr/>
        </p:nvSpPr>
        <p:spPr>
          <a:xfrm flipV="1">
            <a:off x="1676520" y="1371600"/>
            <a:ext cx="295200" cy="784080"/>
          </a:xfrm>
          <a:prstGeom prst="can">
            <a:avLst>
              <a:gd name="adj" fmla="val 9412"/>
            </a:avLst>
          </a:prstGeom>
          <a:solidFill>
            <a:srgbClr val="4f81b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6"/>
          <p:cNvGrpSpPr/>
          <p:nvPr/>
        </p:nvGrpSpPr>
        <p:grpSpPr>
          <a:xfrm>
            <a:off x="569880" y="1650600"/>
            <a:ext cx="2269440" cy="3813480"/>
            <a:chOff x="569880" y="1650600"/>
            <a:chExt cx="2269440" cy="3813480"/>
          </a:xfrm>
        </p:grpSpPr>
        <p:sp>
          <p:nvSpPr>
            <p:cNvPr id="290" name="Can 35"/>
            <p:cNvSpPr/>
            <p:nvPr/>
          </p:nvSpPr>
          <p:spPr>
            <a:xfrm flipV="1">
              <a:off x="1682640" y="1958760"/>
              <a:ext cx="295200" cy="784080"/>
            </a:xfrm>
            <a:prstGeom prst="can">
              <a:avLst>
                <a:gd name="adj" fmla="val 7875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Block Arc 36"/>
            <p:cNvSpPr/>
            <p:nvPr/>
          </p:nvSpPr>
          <p:spPr>
            <a:xfrm>
              <a:off x="569880" y="2327040"/>
              <a:ext cx="1001880" cy="660240"/>
            </a:xfrm>
            <a:custGeom>
              <a:avLst/>
              <a:gdLst>
                <a:gd name="textAreaLeft" fmla="*/ 0 w 1001880"/>
                <a:gd name="textAreaRight" fmla="*/ 889920 w 1001880"/>
                <a:gd name="textAreaTop" fmla="*/ 0 h 660240"/>
                <a:gd name="textAreaBottom" fmla="*/ 345240 h 660240"/>
              </a:gdLst>
              <a:ahLst/>
              <a:rect l="textAreaLeft" t="textAreaTop" r="textAreaRight" b="textAreaBottom"/>
              <a:pathLst>
                <a:path w="650665" h="512844">
                  <a:moveTo>
                    <a:pt x="339" y="268133"/>
                  </a:moveTo>
                  <a:lnTo>
                    <a:pt x="339" y="268133"/>
                  </a:lnTo>
                  <a:arcTo wR="325333" hR="256422" stAng="10676176" swAng="8966655"/>
                  <a:lnTo>
                    <a:pt x="492592" y="149376"/>
                  </a:lnTo>
                  <a:lnTo>
                    <a:pt x="492592" y="149376"/>
                  </a:lnTo>
                  <a:arcTo wR="227133" hR="158223" stAng="-1957158" swAng="-896667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Diagonal Stripe 37"/>
            <p:cNvSpPr/>
            <p:nvPr/>
          </p:nvSpPr>
          <p:spPr>
            <a:xfrm rot="13935600">
              <a:off x="2271600" y="2302920"/>
              <a:ext cx="474480" cy="468360"/>
            </a:xfrm>
            <a:custGeom>
              <a:avLst/>
              <a:gdLst>
                <a:gd name="textAreaLeft" fmla="*/ 0 w 474480"/>
                <a:gd name="textAreaRight" fmla="*/ 387720 w 474480"/>
                <a:gd name="textAreaTop" fmla="*/ 0 h 468360"/>
                <a:gd name="textAreaBottom" fmla="*/ 382680 h 468360"/>
              </a:gdLst>
              <a:ahLst/>
              <a:rect l="textAreaLeft" t="textAreaTop" r="textAreaRight" b="textAreaBottom"/>
              <a:pathLst>
                <a:path w="368606" h="304193">
                  <a:moveTo>
                    <a:pt x="0" y="192655"/>
                  </a:moveTo>
                  <a:lnTo>
                    <a:pt x="233449" y="0"/>
                  </a:lnTo>
                  <a:lnTo>
                    <a:pt x="368606" y="0"/>
                  </a:lnTo>
                  <a:lnTo>
                    <a:pt x="0" y="304193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ounded Rectangle 38"/>
            <p:cNvSpPr/>
            <p:nvPr/>
          </p:nvSpPr>
          <p:spPr>
            <a:xfrm flipH="1">
              <a:off x="2129040" y="2574720"/>
              <a:ext cx="333360" cy="5778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577800"/>
                <a:gd name="textAreaBottom" fmla="*/ 561600 h 577800"/>
              </a:gdLst>
              <a:ahLst/>
              <a:rect l="textAreaLeft" t="textAreaTop" r="textAreaRight" b="textAreaBottom"/>
              <a:pathLst>
                <a:path w="21600" h="37421">
                  <a:moveTo>
                    <a:pt x="3600" y="0"/>
                  </a:moveTo>
                  <a:arcTo wR="3600" hR="3600" stAng="16200000" swAng="-5400000"/>
                  <a:lnTo>
                    <a:pt x="0" y="33821"/>
                  </a:lnTo>
                  <a:arcTo wR="3600" hR="3600" stAng="10800000" swAng="-5400000"/>
                  <a:lnTo>
                    <a:pt x="18000" y="374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ounded Rectangle 39"/>
            <p:cNvSpPr/>
            <p:nvPr/>
          </p:nvSpPr>
          <p:spPr>
            <a:xfrm>
              <a:off x="1349280" y="2327040"/>
              <a:ext cx="890640" cy="3137040"/>
            </a:xfrm>
            <a:custGeom>
              <a:avLst/>
              <a:gdLst>
                <a:gd name="textAreaLeft" fmla="*/ 43200 w 890640"/>
                <a:gd name="textAreaRight" fmla="*/ 847440 w 890640"/>
                <a:gd name="textAreaTop" fmla="*/ 43200 h 3137040"/>
                <a:gd name="textAreaBottom" fmla="*/ 3093840 h 3137040"/>
              </a:gdLst>
              <a:ahLst/>
              <a:rect l="textAreaLeft" t="textAreaTop" r="textAreaRight" b="textAreaBottom"/>
              <a:pathLst>
                <a:path w="21600" h="76058">
                  <a:moveTo>
                    <a:pt x="3600" y="0"/>
                  </a:moveTo>
                  <a:arcTo wR="3600" hR="3600" stAng="16200000" swAng="-5400000"/>
                  <a:lnTo>
                    <a:pt x="0" y="72458"/>
                  </a:lnTo>
                  <a:arcTo wR="3600" hR="3600" stAng="10800000" swAng="-5400000"/>
                  <a:lnTo>
                    <a:pt x="18000" y="760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ounded Rectangle 40"/>
            <p:cNvSpPr/>
            <p:nvPr/>
          </p:nvSpPr>
          <p:spPr>
            <a:xfrm>
              <a:off x="2239920" y="2987640"/>
              <a:ext cx="333360" cy="23940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2394000"/>
                <a:gd name="textAreaBottom" fmla="*/ 2377800 h 2394000"/>
              </a:gdLst>
              <a:ahLst/>
              <a:rect l="textAreaLeft" t="textAreaTop" r="textAreaRight" b="textAreaBottom"/>
              <a:pathLst>
                <a:path w="21600" h="154975">
                  <a:moveTo>
                    <a:pt x="3600" y="0"/>
                  </a:moveTo>
                  <a:arcTo wR="3600" hR="3600" stAng="16200000" swAng="-5400000"/>
                  <a:lnTo>
                    <a:pt x="0" y="151375"/>
                  </a:lnTo>
                  <a:arcTo wR="3600" hR="3600" stAng="10800000" swAng="-5400000"/>
                  <a:lnTo>
                    <a:pt x="18000" y="154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lowchart: Decision 41"/>
            <p:cNvSpPr/>
            <p:nvPr/>
          </p:nvSpPr>
          <p:spPr>
            <a:xfrm>
              <a:off x="1238040" y="2492280"/>
              <a:ext cx="222120" cy="28069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43"/>
            <p:cNvSpPr/>
            <p:nvPr/>
          </p:nvSpPr>
          <p:spPr>
            <a:xfrm rot="16200000">
              <a:off x="1398960" y="3771720"/>
              <a:ext cx="8830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Can 34"/>
            <p:cNvSpPr/>
            <p:nvPr/>
          </p:nvSpPr>
          <p:spPr>
            <a:xfrm rot="10800000">
              <a:off x="1460160" y="1650600"/>
              <a:ext cx="779400" cy="33012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17"/>
          <p:cNvGrpSpPr/>
          <p:nvPr/>
        </p:nvGrpSpPr>
        <p:grpSpPr>
          <a:xfrm>
            <a:off x="4190760" y="2133360"/>
            <a:ext cx="577800" cy="3124440"/>
            <a:chOff x="4190760" y="2133360"/>
            <a:chExt cx="577800" cy="3124440"/>
          </a:xfrm>
        </p:grpSpPr>
        <p:sp>
          <p:nvSpPr>
            <p:cNvPr id="300" name="Trapezoid 33"/>
            <p:cNvSpPr/>
            <p:nvPr/>
          </p:nvSpPr>
          <p:spPr>
            <a:xfrm rot="10800000">
              <a:off x="4190760" y="2133360"/>
              <a:ext cx="577800" cy="641160"/>
            </a:xfrm>
            <a:custGeom>
              <a:avLst/>
              <a:gdLst>
                <a:gd name="textAreaLeft" fmla="*/ 96120 w 577800"/>
                <a:gd name="textAreaRight" fmla="*/ 481680 w 577800"/>
                <a:gd name="textAreaTop" fmla="*/ 106920 h 641160"/>
                <a:gd name="textAreaBottom" fmla="*/ 641160 h 641160"/>
              </a:gdLst>
              <a:ahLst/>
              <a:rect l="textAreaLeft" t="textAreaTop" r="textAreaRight" b="textAreaBottom"/>
              <a:pathLst>
                <a:path w="578380" h="641350">
                  <a:moveTo>
                    <a:pt x="0" y="641350"/>
                  </a:moveTo>
                  <a:lnTo>
                    <a:pt x="144595" y="0"/>
                  </a:lnTo>
                  <a:lnTo>
                    <a:pt x="433785" y="0"/>
                  </a:lnTo>
                  <a:lnTo>
                    <a:pt x="578380" y="64135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rapezoid 42"/>
            <p:cNvSpPr/>
            <p:nvPr/>
          </p:nvSpPr>
          <p:spPr>
            <a:xfrm rot="10800000">
              <a:off x="4419360" y="4191120"/>
              <a:ext cx="144360" cy="257040"/>
            </a:xfrm>
            <a:custGeom>
              <a:avLst/>
              <a:gdLst>
                <a:gd name="textAreaLeft" fmla="*/ 23760 w 144360"/>
                <a:gd name="textAreaRight" fmla="*/ 120600 w 144360"/>
                <a:gd name="textAreaTop" fmla="*/ 4284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44596" h="257175">
                  <a:moveTo>
                    <a:pt x="0" y="257175"/>
                  </a:moveTo>
                  <a:lnTo>
                    <a:pt x="36149" y="0"/>
                  </a:lnTo>
                  <a:lnTo>
                    <a:pt x="108447" y="0"/>
                  </a:lnTo>
                  <a:lnTo>
                    <a:pt x="144596" y="257175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rapezoid 44"/>
            <p:cNvSpPr/>
            <p:nvPr/>
          </p:nvSpPr>
          <p:spPr>
            <a:xfrm rot="10800000">
              <a:off x="4343040" y="2666880"/>
              <a:ext cx="289080" cy="1603440"/>
            </a:xfrm>
            <a:custGeom>
              <a:avLst/>
              <a:gdLst>
                <a:gd name="textAreaLeft" fmla="*/ 37440 w 289080"/>
                <a:gd name="textAreaRight" fmla="*/ 251640 w 289080"/>
                <a:gd name="textAreaTop" fmla="*/ 207720 h 1603440"/>
                <a:gd name="textAreaBottom" fmla="*/ 1603800 h 1603440"/>
              </a:gdLst>
              <a:ahLst/>
              <a:rect l="textAreaLeft" t="textAreaTop" r="textAreaRight" b="textAreaBottom"/>
              <a:pathLst>
                <a:path w="289190" h="1603375">
                  <a:moveTo>
                    <a:pt x="0" y="1603375"/>
                  </a:moveTo>
                  <a:lnTo>
                    <a:pt x="56230" y="0"/>
                  </a:lnTo>
                  <a:lnTo>
                    <a:pt x="232960" y="0"/>
                  </a:lnTo>
                  <a:lnTo>
                    <a:pt x="289190" y="1603375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rapezoid 45"/>
            <p:cNvSpPr/>
            <p:nvPr/>
          </p:nvSpPr>
          <p:spPr>
            <a:xfrm rot="10800000">
              <a:off x="4343040" y="4038840"/>
              <a:ext cx="304920" cy="1218960"/>
            </a:xfrm>
            <a:custGeom>
              <a:avLst/>
              <a:gdLst>
                <a:gd name="textAreaLeft" fmla="*/ 83160 w 304920"/>
                <a:gd name="textAreaRight" fmla="*/ 221760 w 304920"/>
                <a:gd name="textAreaTop" fmla="*/ 33300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305080" h="1219200">
                  <a:moveTo>
                    <a:pt x="0" y="1219200"/>
                  </a:moveTo>
                  <a:lnTo>
                    <a:pt x="125083" y="0"/>
                  </a:lnTo>
                  <a:lnTo>
                    <a:pt x="179997" y="0"/>
                  </a:lnTo>
                  <a:lnTo>
                    <a:pt x="305080" y="1219200"/>
                  </a:lnTo>
                  <a:close/>
                </a:path>
              </a:pathLst>
            </a:cu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TextBox 15"/>
          <p:cNvSpPr/>
          <p:nvPr/>
        </p:nvSpPr>
        <p:spPr>
          <a:xfrm>
            <a:off x="4267080" y="22860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ttaining a S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9"/>
          <p:cNvSpPr/>
          <p:nvPr/>
        </p:nvSpPr>
        <p:spPr>
          <a:xfrm>
            <a:off x="5410080" y="129528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P ONE – press plunger to first stop and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hol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Straight Arrow Connector 21"/>
          <p:cNvCxnSpPr/>
          <p:nvPr/>
        </p:nvCxnSpPr>
        <p:spPr>
          <a:xfrm flipH="1">
            <a:off x="2514240" y="1218960"/>
            <a:ext cx="2160" cy="686520"/>
          </a:xfrm>
          <a:prstGeom prst="straightConnector1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07" name="TextBox 24"/>
          <p:cNvSpPr/>
          <p:nvPr/>
        </p:nvSpPr>
        <p:spPr>
          <a:xfrm>
            <a:off x="2590920" y="17524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Can 22"/>
          <p:cNvSpPr/>
          <p:nvPr/>
        </p:nvSpPr>
        <p:spPr>
          <a:xfrm rot="10800000">
            <a:off x="1429920" y="1142640"/>
            <a:ext cx="779400" cy="330120"/>
          </a:xfrm>
          <a:prstGeom prst="can">
            <a:avLst>
              <a:gd name="adj" fmla="val 25000"/>
            </a:avLst>
          </a:prstGeom>
          <a:solidFill>
            <a:srgbClr val="f79646">
              <a:alpha val="25000"/>
            </a:srgbClr>
          </a:solidFill>
          <a:ln w="25560">
            <a:solidFill>
              <a:srgbClr val="385d8a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an 23"/>
          <p:cNvSpPr/>
          <p:nvPr/>
        </p:nvSpPr>
        <p:spPr>
          <a:xfrm flipV="1">
            <a:off x="1685880" y="1371600"/>
            <a:ext cx="295200" cy="784080"/>
          </a:xfrm>
          <a:prstGeom prst="can">
            <a:avLst>
              <a:gd name="adj" fmla="val 9412"/>
            </a:avLst>
          </a:prstGeom>
          <a:solidFill>
            <a:srgbClr val="4f81b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6"/>
          <p:cNvGrpSpPr/>
          <p:nvPr/>
        </p:nvGrpSpPr>
        <p:grpSpPr>
          <a:xfrm>
            <a:off x="569880" y="1650600"/>
            <a:ext cx="2269440" cy="3813480"/>
            <a:chOff x="569880" y="1650600"/>
            <a:chExt cx="2269440" cy="3813480"/>
          </a:xfrm>
        </p:grpSpPr>
        <p:sp>
          <p:nvSpPr>
            <p:cNvPr id="311" name="Can 35"/>
            <p:cNvSpPr/>
            <p:nvPr/>
          </p:nvSpPr>
          <p:spPr>
            <a:xfrm flipV="1">
              <a:off x="1682640" y="1958760"/>
              <a:ext cx="295200" cy="784080"/>
            </a:xfrm>
            <a:prstGeom prst="can">
              <a:avLst>
                <a:gd name="adj" fmla="val 7875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Block Arc 36"/>
            <p:cNvSpPr/>
            <p:nvPr/>
          </p:nvSpPr>
          <p:spPr>
            <a:xfrm>
              <a:off x="569880" y="2327040"/>
              <a:ext cx="1001880" cy="660240"/>
            </a:xfrm>
            <a:custGeom>
              <a:avLst/>
              <a:gdLst>
                <a:gd name="textAreaLeft" fmla="*/ 0 w 1001880"/>
                <a:gd name="textAreaRight" fmla="*/ 889920 w 1001880"/>
                <a:gd name="textAreaTop" fmla="*/ 0 h 660240"/>
                <a:gd name="textAreaBottom" fmla="*/ 345240 h 660240"/>
              </a:gdLst>
              <a:ahLst/>
              <a:rect l="textAreaLeft" t="textAreaTop" r="textAreaRight" b="textAreaBottom"/>
              <a:pathLst>
                <a:path w="650665" h="512844">
                  <a:moveTo>
                    <a:pt x="339" y="268133"/>
                  </a:moveTo>
                  <a:lnTo>
                    <a:pt x="339" y="268133"/>
                  </a:lnTo>
                  <a:arcTo wR="325333" hR="256422" stAng="10676176" swAng="8966655"/>
                  <a:lnTo>
                    <a:pt x="492592" y="149376"/>
                  </a:lnTo>
                  <a:lnTo>
                    <a:pt x="492592" y="149376"/>
                  </a:lnTo>
                  <a:arcTo wR="227133" hR="158223" stAng="-1957158" swAng="-896667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Diagonal Stripe 37"/>
            <p:cNvSpPr/>
            <p:nvPr/>
          </p:nvSpPr>
          <p:spPr>
            <a:xfrm rot="13935600">
              <a:off x="2271600" y="2302920"/>
              <a:ext cx="474480" cy="468360"/>
            </a:xfrm>
            <a:custGeom>
              <a:avLst/>
              <a:gdLst>
                <a:gd name="textAreaLeft" fmla="*/ 0 w 474480"/>
                <a:gd name="textAreaRight" fmla="*/ 387720 w 474480"/>
                <a:gd name="textAreaTop" fmla="*/ 0 h 468360"/>
                <a:gd name="textAreaBottom" fmla="*/ 382680 h 468360"/>
              </a:gdLst>
              <a:ahLst/>
              <a:rect l="textAreaLeft" t="textAreaTop" r="textAreaRight" b="textAreaBottom"/>
              <a:pathLst>
                <a:path w="368606" h="304193">
                  <a:moveTo>
                    <a:pt x="0" y="192655"/>
                  </a:moveTo>
                  <a:lnTo>
                    <a:pt x="233449" y="0"/>
                  </a:lnTo>
                  <a:lnTo>
                    <a:pt x="368606" y="0"/>
                  </a:lnTo>
                  <a:lnTo>
                    <a:pt x="0" y="304193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ounded Rectangle 38"/>
            <p:cNvSpPr/>
            <p:nvPr/>
          </p:nvSpPr>
          <p:spPr>
            <a:xfrm flipH="1">
              <a:off x="2129040" y="2574720"/>
              <a:ext cx="333360" cy="5778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577800"/>
                <a:gd name="textAreaBottom" fmla="*/ 561600 h 577800"/>
              </a:gdLst>
              <a:ahLst/>
              <a:rect l="textAreaLeft" t="textAreaTop" r="textAreaRight" b="textAreaBottom"/>
              <a:pathLst>
                <a:path w="21600" h="37421">
                  <a:moveTo>
                    <a:pt x="3600" y="0"/>
                  </a:moveTo>
                  <a:arcTo wR="3600" hR="3600" stAng="16200000" swAng="-5400000"/>
                  <a:lnTo>
                    <a:pt x="0" y="33821"/>
                  </a:lnTo>
                  <a:arcTo wR="3600" hR="3600" stAng="10800000" swAng="-5400000"/>
                  <a:lnTo>
                    <a:pt x="18000" y="374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ounded Rectangle 39"/>
            <p:cNvSpPr/>
            <p:nvPr/>
          </p:nvSpPr>
          <p:spPr>
            <a:xfrm>
              <a:off x="1349280" y="2327040"/>
              <a:ext cx="890640" cy="3137040"/>
            </a:xfrm>
            <a:custGeom>
              <a:avLst/>
              <a:gdLst>
                <a:gd name="textAreaLeft" fmla="*/ 43200 w 890640"/>
                <a:gd name="textAreaRight" fmla="*/ 847440 w 890640"/>
                <a:gd name="textAreaTop" fmla="*/ 43200 h 3137040"/>
                <a:gd name="textAreaBottom" fmla="*/ 3093840 h 3137040"/>
              </a:gdLst>
              <a:ahLst/>
              <a:rect l="textAreaLeft" t="textAreaTop" r="textAreaRight" b="textAreaBottom"/>
              <a:pathLst>
                <a:path w="21600" h="76058">
                  <a:moveTo>
                    <a:pt x="3600" y="0"/>
                  </a:moveTo>
                  <a:arcTo wR="3600" hR="3600" stAng="16200000" swAng="-5400000"/>
                  <a:lnTo>
                    <a:pt x="0" y="72458"/>
                  </a:lnTo>
                  <a:arcTo wR="3600" hR="3600" stAng="10800000" swAng="-5400000"/>
                  <a:lnTo>
                    <a:pt x="18000" y="760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ounded Rectangle 40"/>
            <p:cNvSpPr/>
            <p:nvPr/>
          </p:nvSpPr>
          <p:spPr>
            <a:xfrm>
              <a:off x="2239920" y="2987640"/>
              <a:ext cx="333360" cy="23940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2394000"/>
                <a:gd name="textAreaBottom" fmla="*/ 2377800 h 2394000"/>
              </a:gdLst>
              <a:ahLst/>
              <a:rect l="textAreaLeft" t="textAreaTop" r="textAreaRight" b="textAreaBottom"/>
              <a:pathLst>
                <a:path w="21600" h="154975">
                  <a:moveTo>
                    <a:pt x="3600" y="0"/>
                  </a:moveTo>
                  <a:arcTo wR="3600" hR="3600" stAng="16200000" swAng="-5400000"/>
                  <a:lnTo>
                    <a:pt x="0" y="151375"/>
                  </a:lnTo>
                  <a:arcTo wR="3600" hR="3600" stAng="10800000" swAng="-5400000"/>
                  <a:lnTo>
                    <a:pt x="18000" y="154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lowchart: Decision 41"/>
            <p:cNvSpPr/>
            <p:nvPr/>
          </p:nvSpPr>
          <p:spPr>
            <a:xfrm>
              <a:off x="1238040" y="2492280"/>
              <a:ext cx="222120" cy="28069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Box 43"/>
            <p:cNvSpPr/>
            <p:nvPr/>
          </p:nvSpPr>
          <p:spPr>
            <a:xfrm rot="16200000">
              <a:off x="1398960" y="3771720"/>
              <a:ext cx="8830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Can 34"/>
            <p:cNvSpPr/>
            <p:nvPr/>
          </p:nvSpPr>
          <p:spPr>
            <a:xfrm rot="10800000">
              <a:off x="1407600" y="1650600"/>
              <a:ext cx="779400" cy="33012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17"/>
          <p:cNvGrpSpPr/>
          <p:nvPr/>
        </p:nvGrpSpPr>
        <p:grpSpPr>
          <a:xfrm>
            <a:off x="4190760" y="2133360"/>
            <a:ext cx="577800" cy="3124440"/>
            <a:chOff x="4190760" y="2133360"/>
            <a:chExt cx="577800" cy="3124440"/>
          </a:xfrm>
        </p:grpSpPr>
        <p:sp>
          <p:nvSpPr>
            <p:cNvPr id="321" name="Trapezoid 33"/>
            <p:cNvSpPr/>
            <p:nvPr/>
          </p:nvSpPr>
          <p:spPr>
            <a:xfrm rot="10800000">
              <a:off x="4190760" y="2133360"/>
              <a:ext cx="577800" cy="641160"/>
            </a:xfrm>
            <a:custGeom>
              <a:avLst/>
              <a:gdLst>
                <a:gd name="textAreaLeft" fmla="*/ 96120 w 577800"/>
                <a:gd name="textAreaRight" fmla="*/ 481680 w 577800"/>
                <a:gd name="textAreaTop" fmla="*/ 106920 h 641160"/>
                <a:gd name="textAreaBottom" fmla="*/ 641160 h 641160"/>
              </a:gdLst>
              <a:ahLst/>
              <a:rect l="textAreaLeft" t="textAreaTop" r="textAreaRight" b="textAreaBottom"/>
              <a:pathLst>
                <a:path w="578380" h="641350">
                  <a:moveTo>
                    <a:pt x="0" y="641350"/>
                  </a:moveTo>
                  <a:lnTo>
                    <a:pt x="144595" y="0"/>
                  </a:lnTo>
                  <a:lnTo>
                    <a:pt x="433785" y="0"/>
                  </a:lnTo>
                  <a:lnTo>
                    <a:pt x="578380" y="64135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rapezoid 42"/>
            <p:cNvSpPr/>
            <p:nvPr/>
          </p:nvSpPr>
          <p:spPr>
            <a:xfrm rot="10800000">
              <a:off x="4419360" y="4191120"/>
              <a:ext cx="144360" cy="257040"/>
            </a:xfrm>
            <a:custGeom>
              <a:avLst/>
              <a:gdLst>
                <a:gd name="textAreaLeft" fmla="*/ 23760 w 144360"/>
                <a:gd name="textAreaRight" fmla="*/ 120600 w 144360"/>
                <a:gd name="textAreaTop" fmla="*/ 4284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44596" h="257175">
                  <a:moveTo>
                    <a:pt x="0" y="257175"/>
                  </a:moveTo>
                  <a:lnTo>
                    <a:pt x="36149" y="0"/>
                  </a:lnTo>
                  <a:lnTo>
                    <a:pt x="108447" y="0"/>
                  </a:lnTo>
                  <a:lnTo>
                    <a:pt x="144596" y="257175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rapezoid 44"/>
            <p:cNvSpPr/>
            <p:nvPr/>
          </p:nvSpPr>
          <p:spPr>
            <a:xfrm rot="10800000">
              <a:off x="4343040" y="2666880"/>
              <a:ext cx="289080" cy="1603440"/>
            </a:xfrm>
            <a:custGeom>
              <a:avLst/>
              <a:gdLst>
                <a:gd name="textAreaLeft" fmla="*/ 37440 w 289080"/>
                <a:gd name="textAreaRight" fmla="*/ 251640 w 289080"/>
                <a:gd name="textAreaTop" fmla="*/ 207720 h 1603440"/>
                <a:gd name="textAreaBottom" fmla="*/ 1603800 h 1603440"/>
              </a:gdLst>
              <a:ahLst/>
              <a:rect l="textAreaLeft" t="textAreaTop" r="textAreaRight" b="textAreaBottom"/>
              <a:pathLst>
                <a:path w="289190" h="1603375">
                  <a:moveTo>
                    <a:pt x="0" y="1603375"/>
                  </a:moveTo>
                  <a:lnTo>
                    <a:pt x="56230" y="0"/>
                  </a:lnTo>
                  <a:lnTo>
                    <a:pt x="232960" y="0"/>
                  </a:lnTo>
                  <a:lnTo>
                    <a:pt x="289190" y="1603375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rapezoid 45"/>
            <p:cNvSpPr/>
            <p:nvPr/>
          </p:nvSpPr>
          <p:spPr>
            <a:xfrm rot="10800000">
              <a:off x="4343040" y="4038840"/>
              <a:ext cx="304920" cy="1218960"/>
            </a:xfrm>
            <a:custGeom>
              <a:avLst/>
              <a:gdLst>
                <a:gd name="textAreaLeft" fmla="*/ 83160 w 304920"/>
                <a:gd name="textAreaRight" fmla="*/ 221760 w 304920"/>
                <a:gd name="textAreaTop" fmla="*/ 33300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305080" h="1219200">
                  <a:moveTo>
                    <a:pt x="0" y="1219200"/>
                  </a:moveTo>
                  <a:lnTo>
                    <a:pt x="125083" y="0"/>
                  </a:lnTo>
                  <a:lnTo>
                    <a:pt x="179997" y="0"/>
                  </a:lnTo>
                  <a:lnTo>
                    <a:pt x="305080" y="1219200"/>
                  </a:lnTo>
                  <a:close/>
                </a:path>
              </a:pathLst>
            </a:cu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TextBox 15"/>
          <p:cNvSpPr/>
          <p:nvPr/>
        </p:nvSpPr>
        <p:spPr>
          <a:xfrm>
            <a:off x="4267080" y="22860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ttaining a S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9"/>
          <p:cNvSpPr/>
          <p:nvPr/>
        </p:nvSpPr>
        <p:spPr>
          <a:xfrm>
            <a:off x="5410080" y="1295280"/>
            <a:ext cx="327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P TWO – Insert tip into sample only far enough to ensure it stays submerged but not to the bottom where it will get blo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rapezoid 24"/>
          <p:cNvSpPr/>
          <p:nvPr/>
        </p:nvSpPr>
        <p:spPr>
          <a:xfrm rot="10800000">
            <a:off x="3657240" y="4572000"/>
            <a:ext cx="1676520" cy="1295280"/>
          </a:xfrm>
          <a:custGeom>
            <a:avLst/>
            <a:gdLst>
              <a:gd name="textAreaLeft" fmla="*/ 215640 w 1676520"/>
              <a:gd name="textAreaRight" fmla="*/ 1460880 w 1676520"/>
              <a:gd name="textAreaTop" fmla="*/ 166680 h 1295280"/>
              <a:gd name="textAreaBottom" fmla="*/ 1295640 h 1295280"/>
            </a:gdLst>
            <a:ahLst/>
            <a:rect l="textAreaLeft" t="textAreaTop" r="textAreaRight" b="textAreaBottom"/>
            <a:pathLst>
              <a:path w="1676400" h="1295400">
                <a:moveTo>
                  <a:pt x="0" y="1295400"/>
                </a:moveTo>
                <a:lnTo>
                  <a:pt x="323850" y="0"/>
                </a:lnTo>
                <a:lnTo>
                  <a:pt x="1352550" y="0"/>
                </a:lnTo>
                <a:lnTo>
                  <a:pt x="1676400" y="12954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rapezoid 25"/>
          <p:cNvSpPr/>
          <p:nvPr/>
        </p:nvSpPr>
        <p:spPr>
          <a:xfrm rot="10800000">
            <a:off x="3733560" y="4876560"/>
            <a:ext cx="1523880" cy="990360"/>
          </a:xfrm>
          <a:custGeom>
            <a:avLst/>
            <a:gdLst>
              <a:gd name="textAreaLeft" fmla="*/ 164880 w 1523880"/>
              <a:gd name="textAreaRight" fmla="*/ 1359000 w 1523880"/>
              <a:gd name="textAreaTop" fmla="*/ 107280 h 990360"/>
              <a:gd name="textAreaBottom" fmla="*/ 990720 h 990360"/>
            </a:gdLst>
            <a:ahLst/>
            <a:rect l="textAreaLeft" t="textAreaTop" r="textAreaRight" b="textAreaBottom"/>
            <a:pathLst>
              <a:path w="1524000" h="990600">
                <a:moveTo>
                  <a:pt x="0" y="990600"/>
                </a:moveTo>
                <a:lnTo>
                  <a:pt x="247650" y="0"/>
                </a:lnTo>
                <a:lnTo>
                  <a:pt x="1276350" y="0"/>
                </a:lnTo>
                <a:lnTo>
                  <a:pt x="1524000" y="990600"/>
                </a:lnTo>
                <a:close/>
              </a:path>
            </a:pathLst>
          </a:custGeom>
          <a:solidFill>
            <a:srgbClr val="604a7b">
              <a:alpha val="27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6"/>
          <p:cNvSpPr/>
          <p:nvPr/>
        </p:nvSpPr>
        <p:spPr>
          <a:xfrm>
            <a:off x="2438280" y="1676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7"/>
          <p:cNvSpPr/>
          <p:nvPr/>
        </p:nvSpPr>
        <p:spPr>
          <a:xfrm>
            <a:off x="248400" y="6172200"/>
            <a:ext cx="37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 the pipette VERTICAL at all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16"/>
          <p:cNvGrpSpPr/>
          <p:nvPr/>
        </p:nvGrpSpPr>
        <p:grpSpPr>
          <a:xfrm>
            <a:off x="533520" y="1371240"/>
            <a:ext cx="2269440" cy="4092840"/>
            <a:chOff x="533520" y="1371240"/>
            <a:chExt cx="2269440" cy="4092840"/>
          </a:xfrm>
        </p:grpSpPr>
        <p:sp>
          <p:nvSpPr>
            <p:cNvPr id="332" name="Can 34"/>
            <p:cNvSpPr/>
            <p:nvPr/>
          </p:nvSpPr>
          <p:spPr>
            <a:xfrm rot="10800000">
              <a:off x="1371240" y="1371240"/>
              <a:ext cx="779400" cy="33012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Can 35"/>
            <p:cNvSpPr/>
            <p:nvPr/>
          </p:nvSpPr>
          <p:spPr>
            <a:xfrm flipV="1">
              <a:off x="1600200" y="1676160"/>
              <a:ext cx="295200" cy="784080"/>
            </a:xfrm>
            <a:prstGeom prst="can">
              <a:avLst>
                <a:gd name="adj" fmla="val 7875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Block Arc 36"/>
            <p:cNvSpPr/>
            <p:nvPr/>
          </p:nvSpPr>
          <p:spPr>
            <a:xfrm>
              <a:off x="533520" y="2327040"/>
              <a:ext cx="1001880" cy="660240"/>
            </a:xfrm>
            <a:custGeom>
              <a:avLst/>
              <a:gdLst>
                <a:gd name="textAreaLeft" fmla="*/ 0 w 1001880"/>
                <a:gd name="textAreaRight" fmla="*/ 889920 w 1001880"/>
                <a:gd name="textAreaTop" fmla="*/ 0 h 660240"/>
                <a:gd name="textAreaBottom" fmla="*/ 345240 h 660240"/>
              </a:gdLst>
              <a:ahLst/>
              <a:rect l="textAreaLeft" t="textAreaTop" r="textAreaRight" b="textAreaBottom"/>
              <a:pathLst>
                <a:path w="650665" h="512835">
                  <a:moveTo>
                    <a:pt x="340" y="268129"/>
                  </a:moveTo>
                  <a:lnTo>
                    <a:pt x="339" y="268129"/>
                  </a:lnTo>
                  <a:arcTo wR="325333" hR="256418" stAng="10676176" swAng="8966665"/>
                  <a:lnTo>
                    <a:pt x="492591" y="149372"/>
                  </a:lnTo>
                  <a:lnTo>
                    <a:pt x="492591" y="149372"/>
                  </a:lnTo>
                  <a:arcTo wR="227135" hR="158220" stAng="-1957158" swAng="-896667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Diagonal Stripe 37"/>
            <p:cNvSpPr/>
            <p:nvPr/>
          </p:nvSpPr>
          <p:spPr>
            <a:xfrm rot="13935600">
              <a:off x="2235240" y="2302920"/>
              <a:ext cx="474480" cy="468360"/>
            </a:xfrm>
            <a:custGeom>
              <a:avLst/>
              <a:gdLst>
                <a:gd name="textAreaLeft" fmla="*/ 0 w 474480"/>
                <a:gd name="textAreaRight" fmla="*/ 387720 w 474480"/>
                <a:gd name="textAreaTop" fmla="*/ 0 h 468360"/>
                <a:gd name="textAreaBottom" fmla="*/ 382680 h 468360"/>
              </a:gdLst>
              <a:ahLst/>
              <a:rect l="textAreaLeft" t="textAreaTop" r="textAreaRight" b="textAreaBottom"/>
              <a:pathLst>
                <a:path w="368600" h="304194">
                  <a:moveTo>
                    <a:pt x="0" y="192655"/>
                  </a:moveTo>
                  <a:lnTo>
                    <a:pt x="233445" y="0"/>
                  </a:lnTo>
                  <a:lnTo>
                    <a:pt x="368600" y="0"/>
                  </a:lnTo>
                  <a:lnTo>
                    <a:pt x="0" y="304194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ounded Rectangle 38"/>
            <p:cNvSpPr/>
            <p:nvPr/>
          </p:nvSpPr>
          <p:spPr>
            <a:xfrm flipH="1">
              <a:off x="2092680" y="2574720"/>
              <a:ext cx="333360" cy="5778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577800"/>
                <a:gd name="textAreaBottom" fmla="*/ 561600 h 577800"/>
              </a:gdLst>
              <a:ahLst/>
              <a:rect l="textAreaLeft" t="textAreaTop" r="textAreaRight" b="textAreaBottom"/>
              <a:pathLst>
                <a:path w="21600" h="37421">
                  <a:moveTo>
                    <a:pt x="3600" y="0"/>
                  </a:moveTo>
                  <a:arcTo wR="3600" hR="3600" stAng="16200000" swAng="-5400000"/>
                  <a:lnTo>
                    <a:pt x="0" y="33821"/>
                  </a:lnTo>
                  <a:arcTo wR="3600" hR="3600" stAng="10800000" swAng="-5400000"/>
                  <a:lnTo>
                    <a:pt x="18000" y="374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ounded Rectangle 39"/>
            <p:cNvSpPr/>
            <p:nvPr/>
          </p:nvSpPr>
          <p:spPr>
            <a:xfrm>
              <a:off x="1312920" y="2327040"/>
              <a:ext cx="890640" cy="3137040"/>
            </a:xfrm>
            <a:custGeom>
              <a:avLst/>
              <a:gdLst>
                <a:gd name="textAreaLeft" fmla="*/ 43200 w 890640"/>
                <a:gd name="textAreaRight" fmla="*/ 847440 w 890640"/>
                <a:gd name="textAreaTop" fmla="*/ 43200 h 3137040"/>
                <a:gd name="textAreaBottom" fmla="*/ 3093840 h 3137040"/>
              </a:gdLst>
              <a:ahLst/>
              <a:rect l="textAreaLeft" t="textAreaTop" r="textAreaRight" b="textAreaBottom"/>
              <a:pathLst>
                <a:path w="21600" h="76058">
                  <a:moveTo>
                    <a:pt x="3600" y="0"/>
                  </a:moveTo>
                  <a:arcTo wR="3600" hR="3600" stAng="16200000" swAng="-5400000"/>
                  <a:lnTo>
                    <a:pt x="0" y="72458"/>
                  </a:lnTo>
                  <a:arcTo wR="3600" hR="3600" stAng="10800000" swAng="-5400000"/>
                  <a:lnTo>
                    <a:pt x="18000" y="760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ounded Rectangle 40"/>
            <p:cNvSpPr/>
            <p:nvPr/>
          </p:nvSpPr>
          <p:spPr>
            <a:xfrm>
              <a:off x="2203560" y="2987640"/>
              <a:ext cx="333360" cy="23940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2394000"/>
                <a:gd name="textAreaBottom" fmla="*/ 2377800 h 2394000"/>
              </a:gdLst>
              <a:ahLst/>
              <a:rect l="textAreaLeft" t="textAreaTop" r="textAreaRight" b="textAreaBottom"/>
              <a:pathLst>
                <a:path w="21600" h="154975">
                  <a:moveTo>
                    <a:pt x="3600" y="0"/>
                  </a:moveTo>
                  <a:arcTo wR="3600" hR="3600" stAng="16200000" swAng="-5400000"/>
                  <a:lnTo>
                    <a:pt x="0" y="151375"/>
                  </a:lnTo>
                  <a:arcTo wR="3600" hR="3600" stAng="10800000" swAng="-5400000"/>
                  <a:lnTo>
                    <a:pt x="18000" y="154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lowchart: Decision 41"/>
            <p:cNvSpPr/>
            <p:nvPr/>
          </p:nvSpPr>
          <p:spPr>
            <a:xfrm>
              <a:off x="1201680" y="2492280"/>
              <a:ext cx="222120" cy="280656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43"/>
            <p:cNvSpPr/>
            <p:nvPr/>
          </p:nvSpPr>
          <p:spPr>
            <a:xfrm rot="16200000">
              <a:off x="1362600" y="3771720"/>
              <a:ext cx="8830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17"/>
          <p:cNvGrpSpPr/>
          <p:nvPr/>
        </p:nvGrpSpPr>
        <p:grpSpPr>
          <a:xfrm>
            <a:off x="4222440" y="2133360"/>
            <a:ext cx="577800" cy="3124440"/>
            <a:chOff x="4222440" y="2133360"/>
            <a:chExt cx="577800" cy="3124440"/>
          </a:xfrm>
        </p:grpSpPr>
        <p:sp>
          <p:nvSpPr>
            <p:cNvPr id="342" name="Trapezoid 33"/>
            <p:cNvSpPr/>
            <p:nvPr/>
          </p:nvSpPr>
          <p:spPr>
            <a:xfrm rot="10800000">
              <a:off x="4222440" y="2133360"/>
              <a:ext cx="577800" cy="641160"/>
            </a:xfrm>
            <a:custGeom>
              <a:avLst/>
              <a:gdLst>
                <a:gd name="textAreaLeft" fmla="*/ 96120 w 577800"/>
                <a:gd name="textAreaRight" fmla="*/ 481680 w 577800"/>
                <a:gd name="textAreaTop" fmla="*/ 106920 h 641160"/>
                <a:gd name="textAreaBottom" fmla="*/ 641160 h 641160"/>
              </a:gdLst>
              <a:ahLst/>
              <a:rect l="textAreaLeft" t="textAreaTop" r="textAreaRight" b="textAreaBottom"/>
              <a:pathLst>
                <a:path w="578380" h="641350">
                  <a:moveTo>
                    <a:pt x="0" y="641350"/>
                  </a:moveTo>
                  <a:lnTo>
                    <a:pt x="144595" y="0"/>
                  </a:lnTo>
                  <a:lnTo>
                    <a:pt x="433785" y="0"/>
                  </a:lnTo>
                  <a:lnTo>
                    <a:pt x="578380" y="64135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rapezoid 42"/>
            <p:cNvSpPr/>
            <p:nvPr/>
          </p:nvSpPr>
          <p:spPr>
            <a:xfrm rot="10800000">
              <a:off x="4451040" y="4191120"/>
              <a:ext cx="144360" cy="257040"/>
            </a:xfrm>
            <a:custGeom>
              <a:avLst/>
              <a:gdLst>
                <a:gd name="textAreaLeft" fmla="*/ 23760 w 144360"/>
                <a:gd name="textAreaRight" fmla="*/ 120600 w 144360"/>
                <a:gd name="textAreaTop" fmla="*/ 4284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44596" h="257175">
                  <a:moveTo>
                    <a:pt x="0" y="257175"/>
                  </a:moveTo>
                  <a:lnTo>
                    <a:pt x="36149" y="0"/>
                  </a:lnTo>
                  <a:lnTo>
                    <a:pt x="108447" y="0"/>
                  </a:lnTo>
                  <a:lnTo>
                    <a:pt x="144596" y="257175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rapezoid 44"/>
            <p:cNvSpPr/>
            <p:nvPr/>
          </p:nvSpPr>
          <p:spPr>
            <a:xfrm rot="10800000">
              <a:off x="4374720" y="2666880"/>
              <a:ext cx="289080" cy="1603440"/>
            </a:xfrm>
            <a:custGeom>
              <a:avLst/>
              <a:gdLst>
                <a:gd name="textAreaLeft" fmla="*/ 37440 w 289080"/>
                <a:gd name="textAreaRight" fmla="*/ 251640 w 289080"/>
                <a:gd name="textAreaTop" fmla="*/ 207720 h 1603440"/>
                <a:gd name="textAreaBottom" fmla="*/ 1603800 h 1603440"/>
              </a:gdLst>
              <a:ahLst/>
              <a:rect l="textAreaLeft" t="textAreaTop" r="textAreaRight" b="textAreaBottom"/>
              <a:pathLst>
                <a:path w="289190" h="1603375">
                  <a:moveTo>
                    <a:pt x="0" y="1603375"/>
                  </a:moveTo>
                  <a:lnTo>
                    <a:pt x="56230" y="0"/>
                  </a:lnTo>
                  <a:lnTo>
                    <a:pt x="232960" y="0"/>
                  </a:lnTo>
                  <a:lnTo>
                    <a:pt x="289190" y="1603375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rapezoid 45"/>
            <p:cNvSpPr/>
            <p:nvPr/>
          </p:nvSpPr>
          <p:spPr>
            <a:xfrm rot="10800000">
              <a:off x="4374720" y="4038840"/>
              <a:ext cx="304920" cy="1218960"/>
            </a:xfrm>
            <a:custGeom>
              <a:avLst/>
              <a:gdLst>
                <a:gd name="textAreaLeft" fmla="*/ 83160 w 304920"/>
                <a:gd name="textAreaRight" fmla="*/ 221760 w 304920"/>
                <a:gd name="textAreaTop" fmla="*/ 33300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305080" h="1219200">
                  <a:moveTo>
                    <a:pt x="0" y="1219200"/>
                  </a:moveTo>
                  <a:lnTo>
                    <a:pt x="125083" y="0"/>
                  </a:lnTo>
                  <a:lnTo>
                    <a:pt x="179997" y="0"/>
                  </a:lnTo>
                  <a:lnTo>
                    <a:pt x="305080" y="1219200"/>
                  </a:lnTo>
                  <a:close/>
                </a:path>
              </a:pathLst>
            </a:cu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TextBox 15"/>
          <p:cNvSpPr/>
          <p:nvPr/>
        </p:nvSpPr>
        <p:spPr>
          <a:xfrm>
            <a:off x="4267080" y="22860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ttaining a S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9"/>
          <p:cNvSpPr/>
          <p:nvPr/>
        </p:nvSpPr>
        <p:spPr>
          <a:xfrm>
            <a:off x="5410080" y="1295280"/>
            <a:ext cx="32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P THREE – Allow plunger to return to the home position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LOW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o you don’t draw in air bubbles, or splash sample up into tip or the pipette itsel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8" name="Straight Arrow Connector 21"/>
          <p:cNvCxnSpPr/>
          <p:nvPr/>
        </p:nvCxnSpPr>
        <p:spPr>
          <a:xfrm flipH="1" flipV="1">
            <a:off x="2590560" y="1447200"/>
            <a:ext cx="2160" cy="611640"/>
          </a:xfrm>
          <a:prstGeom prst="straightConnector1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49" name="Trapezoid 24"/>
          <p:cNvSpPr/>
          <p:nvPr/>
        </p:nvSpPr>
        <p:spPr>
          <a:xfrm rot="10800000">
            <a:off x="3657240" y="4572000"/>
            <a:ext cx="1676520" cy="1295280"/>
          </a:xfrm>
          <a:custGeom>
            <a:avLst/>
            <a:gdLst>
              <a:gd name="textAreaLeft" fmla="*/ 215640 w 1676520"/>
              <a:gd name="textAreaRight" fmla="*/ 1460880 w 1676520"/>
              <a:gd name="textAreaTop" fmla="*/ 166680 h 1295280"/>
              <a:gd name="textAreaBottom" fmla="*/ 1295640 h 1295280"/>
            </a:gdLst>
            <a:ahLst/>
            <a:rect l="textAreaLeft" t="textAreaTop" r="textAreaRight" b="textAreaBottom"/>
            <a:pathLst>
              <a:path w="1676400" h="1295400">
                <a:moveTo>
                  <a:pt x="0" y="1295400"/>
                </a:moveTo>
                <a:lnTo>
                  <a:pt x="323850" y="0"/>
                </a:lnTo>
                <a:lnTo>
                  <a:pt x="1352550" y="0"/>
                </a:lnTo>
                <a:lnTo>
                  <a:pt x="1676400" y="12954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rapezoid 25"/>
          <p:cNvSpPr/>
          <p:nvPr/>
        </p:nvSpPr>
        <p:spPr>
          <a:xfrm rot="10800000">
            <a:off x="3733560" y="4876560"/>
            <a:ext cx="1523880" cy="990360"/>
          </a:xfrm>
          <a:custGeom>
            <a:avLst/>
            <a:gdLst>
              <a:gd name="textAreaLeft" fmla="*/ 164880 w 1523880"/>
              <a:gd name="textAreaRight" fmla="*/ 1359000 w 1523880"/>
              <a:gd name="textAreaTop" fmla="*/ 107280 h 990360"/>
              <a:gd name="textAreaBottom" fmla="*/ 990720 h 990360"/>
            </a:gdLst>
            <a:ahLst/>
            <a:rect l="textAreaLeft" t="textAreaTop" r="textAreaRight" b="textAreaBottom"/>
            <a:pathLst>
              <a:path w="1524000" h="990600">
                <a:moveTo>
                  <a:pt x="0" y="990600"/>
                </a:moveTo>
                <a:lnTo>
                  <a:pt x="247650" y="0"/>
                </a:lnTo>
                <a:lnTo>
                  <a:pt x="1276350" y="0"/>
                </a:lnTo>
                <a:lnTo>
                  <a:pt x="1524000" y="990600"/>
                </a:lnTo>
                <a:close/>
              </a:path>
            </a:pathLst>
          </a:custGeom>
          <a:solidFill>
            <a:srgbClr val="604a7b">
              <a:alpha val="27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Can 22"/>
          <p:cNvSpPr/>
          <p:nvPr/>
        </p:nvSpPr>
        <p:spPr>
          <a:xfrm rot="10800000">
            <a:off x="1371240" y="1828440"/>
            <a:ext cx="779400" cy="330120"/>
          </a:xfrm>
          <a:prstGeom prst="can">
            <a:avLst>
              <a:gd name="adj" fmla="val 25000"/>
            </a:avLst>
          </a:prstGeom>
          <a:solidFill>
            <a:srgbClr val="f79646">
              <a:alpha val="25000"/>
            </a:srgbClr>
          </a:solidFill>
          <a:ln w="25560">
            <a:solidFill>
              <a:srgbClr val="385d8a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rapezoid 27"/>
          <p:cNvSpPr/>
          <p:nvPr/>
        </p:nvSpPr>
        <p:spPr>
          <a:xfrm rot="10800000">
            <a:off x="4419360" y="4495320"/>
            <a:ext cx="228600" cy="685800"/>
          </a:xfrm>
          <a:custGeom>
            <a:avLst/>
            <a:gdLst>
              <a:gd name="textAreaLeft" fmla="*/ 62280 w 228600"/>
              <a:gd name="textAreaRight" fmla="*/ 166320 w 228600"/>
              <a:gd name="textAreaTop" fmla="*/ 187200 h 685800"/>
              <a:gd name="textAreaBottom" fmla="*/ 686160 h 685800"/>
            </a:gdLst>
            <a:ahLst/>
            <a:rect l="textAreaLeft" t="textAreaTop" r="textAreaRight" b="textAreaBottom"/>
            <a:pathLst>
              <a:path w="228600" h="685800">
                <a:moveTo>
                  <a:pt x="0" y="685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685800"/>
                </a:lnTo>
                <a:close/>
              </a:path>
            </a:pathLst>
          </a:cu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8"/>
          <p:cNvSpPr/>
          <p:nvPr/>
        </p:nvSpPr>
        <p:spPr>
          <a:xfrm>
            <a:off x="259920" y="6172200"/>
            <a:ext cx="48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EEP the pipette VERTICAL at a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17"/>
          <p:cNvGrpSpPr/>
          <p:nvPr/>
        </p:nvGrpSpPr>
        <p:grpSpPr>
          <a:xfrm>
            <a:off x="837720" y="1219320"/>
            <a:ext cx="1860840" cy="4114800"/>
            <a:chOff x="837720" y="1219320"/>
            <a:chExt cx="1860840" cy="4114800"/>
          </a:xfrm>
        </p:grpSpPr>
        <p:sp>
          <p:nvSpPr>
            <p:cNvPr id="355" name="Trapezoid 3"/>
            <p:cNvSpPr/>
            <p:nvPr/>
          </p:nvSpPr>
          <p:spPr>
            <a:xfrm rot="10800000">
              <a:off x="1303200" y="1733040"/>
              <a:ext cx="882720" cy="865080"/>
            </a:xfrm>
            <a:custGeom>
              <a:avLst/>
              <a:gdLst>
                <a:gd name="textAreaLeft" fmla="*/ 146880 w 882720"/>
                <a:gd name="textAreaRight" fmla="*/ 735840 w 882720"/>
                <a:gd name="textAreaTop" fmla="*/ 14400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144598" h="256352">
                  <a:moveTo>
                    <a:pt x="0" y="256352"/>
                  </a:moveTo>
                  <a:lnTo>
                    <a:pt x="36150" y="0"/>
                  </a:lnTo>
                  <a:lnTo>
                    <a:pt x="108449" y="0"/>
                  </a:lnTo>
                  <a:lnTo>
                    <a:pt x="144598" y="256352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rapezoid 5"/>
            <p:cNvSpPr/>
            <p:nvPr/>
          </p:nvSpPr>
          <p:spPr>
            <a:xfrm rot="10800000">
              <a:off x="837720" y="1219320"/>
              <a:ext cx="1860840" cy="4114800"/>
            </a:xfrm>
            <a:custGeom>
              <a:avLst/>
              <a:gdLst>
                <a:gd name="textAreaLeft" fmla="*/ 508680 w 1860840"/>
                <a:gd name="textAreaRight" fmla="*/ 1352160 w 1860840"/>
                <a:gd name="textAreaTop" fmla="*/ 1124640 h 4114800"/>
                <a:gd name="textAreaBottom" fmla="*/ 4115160 h 4114800"/>
              </a:gdLst>
              <a:ahLst/>
              <a:rect l="textAreaLeft" t="textAreaTop" r="textAreaRight" b="textAreaBottom"/>
              <a:pathLst>
                <a:path w="304800" h="1219200">
                  <a:moveTo>
                    <a:pt x="0" y="1219200"/>
                  </a:moveTo>
                  <a:lnTo>
                    <a:pt x="124968" y="0"/>
                  </a:lnTo>
                  <a:lnTo>
                    <a:pt x="179832" y="0"/>
                  </a:lnTo>
                  <a:lnTo>
                    <a:pt x="304800" y="1219200"/>
                  </a:lnTo>
                  <a:close/>
                </a:path>
              </a:pathLst>
            </a:cu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rapezoid 8"/>
          <p:cNvSpPr/>
          <p:nvPr/>
        </p:nvSpPr>
        <p:spPr>
          <a:xfrm rot="10800000">
            <a:off x="1195200" y="2943000"/>
            <a:ext cx="1143000" cy="1857240"/>
          </a:xfrm>
          <a:custGeom>
            <a:avLst/>
            <a:gdLst>
              <a:gd name="textAreaLeft" fmla="*/ 233280 w 1143000"/>
              <a:gd name="textAreaRight" fmla="*/ 909720 w 1143000"/>
              <a:gd name="textAreaTop" fmla="*/ 378720 h 1857240"/>
              <a:gd name="textAreaBottom" fmla="*/ 1857600 h 1857240"/>
            </a:gdLst>
            <a:ahLst/>
            <a:rect l="textAreaLeft" t="textAreaTop" r="textAreaRight" b="textAreaBottom"/>
            <a:pathLst>
              <a:path w="1143000" h="1857375">
                <a:moveTo>
                  <a:pt x="0" y="1857375"/>
                </a:moveTo>
                <a:lnTo>
                  <a:pt x="349872" y="0"/>
                </a:lnTo>
                <a:lnTo>
                  <a:pt x="793128" y="0"/>
                </a:lnTo>
                <a:lnTo>
                  <a:pt x="1143000" y="1857375"/>
                </a:lnTo>
                <a:close/>
              </a:path>
            </a:pathLst>
          </a:cu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9"/>
          <p:cNvSpPr/>
          <p:nvPr/>
        </p:nvSpPr>
        <p:spPr>
          <a:xfrm>
            <a:off x="4267080" y="22860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ttaining a S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17"/>
          <p:cNvGrpSpPr/>
          <p:nvPr/>
        </p:nvGrpSpPr>
        <p:grpSpPr>
          <a:xfrm>
            <a:off x="3580920" y="1219320"/>
            <a:ext cx="1860840" cy="4114800"/>
            <a:chOff x="3580920" y="1219320"/>
            <a:chExt cx="1860840" cy="4114800"/>
          </a:xfrm>
        </p:grpSpPr>
        <p:sp>
          <p:nvSpPr>
            <p:cNvPr id="360" name="Trapezoid 11"/>
            <p:cNvSpPr/>
            <p:nvPr/>
          </p:nvSpPr>
          <p:spPr>
            <a:xfrm rot="10800000">
              <a:off x="4046400" y="1733040"/>
              <a:ext cx="882720" cy="865080"/>
            </a:xfrm>
            <a:custGeom>
              <a:avLst/>
              <a:gdLst>
                <a:gd name="textAreaLeft" fmla="*/ 146880 w 882720"/>
                <a:gd name="textAreaRight" fmla="*/ 735840 w 882720"/>
                <a:gd name="textAreaTop" fmla="*/ 14400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144598" h="256352">
                  <a:moveTo>
                    <a:pt x="0" y="256352"/>
                  </a:moveTo>
                  <a:lnTo>
                    <a:pt x="36150" y="0"/>
                  </a:lnTo>
                  <a:lnTo>
                    <a:pt x="108449" y="0"/>
                  </a:lnTo>
                  <a:lnTo>
                    <a:pt x="144598" y="256352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rapezoid 12"/>
            <p:cNvSpPr/>
            <p:nvPr/>
          </p:nvSpPr>
          <p:spPr>
            <a:xfrm rot="10800000">
              <a:off x="3580920" y="1219320"/>
              <a:ext cx="1860840" cy="4114800"/>
            </a:xfrm>
            <a:custGeom>
              <a:avLst/>
              <a:gdLst>
                <a:gd name="textAreaLeft" fmla="*/ 508680 w 1860840"/>
                <a:gd name="textAreaRight" fmla="*/ 1352160 w 1860840"/>
                <a:gd name="textAreaTop" fmla="*/ 1124640 h 4114800"/>
                <a:gd name="textAreaBottom" fmla="*/ 4115160 h 4114800"/>
              </a:gdLst>
              <a:ahLst/>
              <a:rect l="textAreaLeft" t="textAreaTop" r="textAreaRight" b="textAreaBottom"/>
              <a:pathLst>
                <a:path w="304800" h="1219200">
                  <a:moveTo>
                    <a:pt x="0" y="1219200"/>
                  </a:moveTo>
                  <a:lnTo>
                    <a:pt x="124968" y="0"/>
                  </a:lnTo>
                  <a:lnTo>
                    <a:pt x="179832" y="0"/>
                  </a:lnTo>
                  <a:lnTo>
                    <a:pt x="304800" y="1219200"/>
                  </a:lnTo>
                  <a:close/>
                </a:path>
              </a:pathLst>
            </a:cu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rapezoid 13"/>
          <p:cNvSpPr/>
          <p:nvPr/>
        </p:nvSpPr>
        <p:spPr>
          <a:xfrm rot="10800000">
            <a:off x="3938400" y="2943000"/>
            <a:ext cx="1143000" cy="2314440"/>
          </a:xfrm>
          <a:custGeom>
            <a:avLst/>
            <a:gdLst>
              <a:gd name="textAreaLeft" fmla="*/ 296640 w 1143000"/>
              <a:gd name="textAreaRight" fmla="*/ 846360 w 1143000"/>
              <a:gd name="textAreaTop" fmla="*/ 600480 h 2314440"/>
              <a:gd name="textAreaBottom" fmla="*/ 2314800 h 2314440"/>
            </a:gdLst>
            <a:ahLst/>
            <a:rect l="textAreaLeft" t="textAreaTop" r="textAreaRight" b="textAreaBottom"/>
            <a:pathLst>
              <a:path w="1143000" h="2314575">
                <a:moveTo>
                  <a:pt x="0" y="2314575"/>
                </a:moveTo>
                <a:lnTo>
                  <a:pt x="444878" y="0"/>
                </a:lnTo>
                <a:lnTo>
                  <a:pt x="698122" y="0"/>
                </a:lnTo>
                <a:lnTo>
                  <a:pt x="1143000" y="2314575"/>
                </a:lnTo>
                <a:close/>
              </a:path>
            </a:pathLst>
          </a:cu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17"/>
          <p:cNvGrpSpPr/>
          <p:nvPr/>
        </p:nvGrpSpPr>
        <p:grpSpPr>
          <a:xfrm>
            <a:off x="6248520" y="1219320"/>
            <a:ext cx="1860480" cy="4114800"/>
            <a:chOff x="6248520" y="1219320"/>
            <a:chExt cx="1860480" cy="4114800"/>
          </a:xfrm>
        </p:grpSpPr>
        <p:sp>
          <p:nvSpPr>
            <p:cNvPr id="364" name="Trapezoid 15"/>
            <p:cNvSpPr/>
            <p:nvPr/>
          </p:nvSpPr>
          <p:spPr>
            <a:xfrm rot="10800000">
              <a:off x="6713640" y="1733040"/>
              <a:ext cx="882720" cy="865080"/>
            </a:xfrm>
            <a:custGeom>
              <a:avLst/>
              <a:gdLst>
                <a:gd name="textAreaLeft" fmla="*/ 146880 w 882720"/>
                <a:gd name="textAreaRight" fmla="*/ 735840 w 882720"/>
                <a:gd name="textAreaTop" fmla="*/ 14400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144598" h="256352">
                  <a:moveTo>
                    <a:pt x="0" y="256352"/>
                  </a:moveTo>
                  <a:lnTo>
                    <a:pt x="36150" y="0"/>
                  </a:lnTo>
                  <a:lnTo>
                    <a:pt x="108449" y="0"/>
                  </a:lnTo>
                  <a:lnTo>
                    <a:pt x="144598" y="256352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rapezoid 16"/>
            <p:cNvSpPr/>
            <p:nvPr/>
          </p:nvSpPr>
          <p:spPr>
            <a:xfrm rot="10800000">
              <a:off x="6248520" y="1219320"/>
              <a:ext cx="1860480" cy="4114800"/>
            </a:xfrm>
            <a:custGeom>
              <a:avLst/>
              <a:gdLst>
                <a:gd name="textAreaLeft" fmla="*/ 508320 w 1860480"/>
                <a:gd name="textAreaRight" fmla="*/ 1352160 w 1860480"/>
                <a:gd name="textAreaTop" fmla="*/ 1124640 h 4114800"/>
                <a:gd name="textAreaBottom" fmla="*/ 4115160 h 4114800"/>
              </a:gdLst>
              <a:ahLst/>
              <a:rect l="textAreaLeft" t="textAreaTop" r="textAreaRight" b="textAreaBottom"/>
              <a:pathLst>
                <a:path w="304800" h="1219200">
                  <a:moveTo>
                    <a:pt x="0" y="1219200"/>
                  </a:moveTo>
                  <a:lnTo>
                    <a:pt x="124968" y="0"/>
                  </a:lnTo>
                  <a:lnTo>
                    <a:pt x="179832" y="0"/>
                  </a:lnTo>
                  <a:lnTo>
                    <a:pt x="304800" y="1219200"/>
                  </a:lnTo>
                  <a:close/>
                </a:path>
              </a:pathLst>
            </a:cu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Trapezoid 17"/>
          <p:cNvSpPr/>
          <p:nvPr/>
        </p:nvSpPr>
        <p:spPr>
          <a:xfrm rot="10800000">
            <a:off x="6552720" y="2666520"/>
            <a:ext cx="1219320" cy="762120"/>
          </a:xfrm>
          <a:custGeom>
            <a:avLst/>
            <a:gdLst>
              <a:gd name="textAreaLeft" fmla="*/ 70920 w 1219320"/>
              <a:gd name="textAreaRight" fmla="*/ 1148400 w 1219320"/>
              <a:gd name="textAreaTop" fmla="*/ 44280 h 762120"/>
              <a:gd name="textAreaBottom" fmla="*/ 762480 h 762120"/>
            </a:gdLst>
            <a:ahLst/>
            <a:rect l="textAreaLeft" t="textAreaTop" r="textAreaRight" b="textAreaBottom"/>
            <a:pathLst>
              <a:path w="1219200" h="762000">
                <a:moveTo>
                  <a:pt x="0" y="762000"/>
                </a:moveTo>
                <a:lnTo>
                  <a:pt x="106581" y="0"/>
                </a:lnTo>
                <a:lnTo>
                  <a:pt x="1112619" y="0"/>
                </a:lnTo>
                <a:lnTo>
                  <a:pt x="1219200" y="762000"/>
                </a:lnTo>
                <a:close/>
              </a:path>
            </a:pathLst>
          </a:cu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rapezoid 18"/>
          <p:cNvSpPr/>
          <p:nvPr/>
        </p:nvSpPr>
        <p:spPr>
          <a:xfrm rot="10800000">
            <a:off x="6400440" y="1752480"/>
            <a:ext cx="1523880" cy="609840"/>
          </a:xfrm>
          <a:custGeom>
            <a:avLst/>
            <a:gdLst>
              <a:gd name="textAreaLeft" fmla="*/ 63000 w 1523880"/>
              <a:gd name="textAreaRight" fmla="*/ 1460880 w 1523880"/>
              <a:gd name="textAreaTop" fmla="*/ 25200 h 609840"/>
              <a:gd name="textAreaBottom" fmla="*/ 610200 h 609840"/>
            </a:gdLst>
            <a:ahLst/>
            <a:rect l="textAreaLeft" t="textAreaTop" r="textAreaRight" b="textAreaBottom"/>
            <a:pathLst>
              <a:path w="1524000" h="609600">
                <a:moveTo>
                  <a:pt x="0" y="609600"/>
                </a:moveTo>
                <a:lnTo>
                  <a:pt x="94762" y="0"/>
                </a:lnTo>
                <a:lnTo>
                  <a:pt x="1429238" y="0"/>
                </a:lnTo>
                <a:lnTo>
                  <a:pt x="1524000" y="609600"/>
                </a:lnTo>
                <a:close/>
              </a:path>
            </a:pathLst>
          </a:cu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rapezoid 19"/>
          <p:cNvSpPr/>
          <p:nvPr/>
        </p:nvSpPr>
        <p:spPr>
          <a:xfrm rot="10800000">
            <a:off x="6781320" y="3733560"/>
            <a:ext cx="762120" cy="1523880"/>
          </a:xfrm>
          <a:custGeom>
            <a:avLst/>
            <a:gdLst>
              <a:gd name="textAreaLeft" fmla="*/ 168840 w 762120"/>
              <a:gd name="textAreaRight" fmla="*/ 593280 w 762120"/>
              <a:gd name="textAreaTop" fmla="*/ 337680 h 1523880"/>
              <a:gd name="textAreaBottom" fmla="*/ 1524240 h 1523880"/>
            </a:gdLst>
            <a:ahLst/>
            <a:rect l="textAreaLeft" t="textAreaTop" r="textAreaRight" b="textAreaBottom"/>
            <a:pathLst>
              <a:path w="762000" h="1524000">
                <a:moveTo>
                  <a:pt x="0" y="1524000"/>
                </a:moveTo>
                <a:lnTo>
                  <a:pt x="253403" y="0"/>
                </a:lnTo>
                <a:lnTo>
                  <a:pt x="508597" y="0"/>
                </a:lnTo>
                <a:lnTo>
                  <a:pt x="762000" y="1524000"/>
                </a:lnTo>
                <a:close/>
              </a:path>
            </a:pathLst>
          </a:cu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miley Face 20"/>
          <p:cNvSpPr/>
          <p:nvPr/>
        </p:nvSpPr>
        <p:spPr>
          <a:xfrm>
            <a:off x="4038480" y="1295280"/>
            <a:ext cx="914400" cy="762120"/>
          </a:xfrm>
          <a:prstGeom prst="smileyFace">
            <a:avLst>
              <a:gd name="adj" fmla="val 9282"/>
            </a:avLst>
          </a:prstGeom>
          <a:solidFill>
            <a:srgbClr val="ffff00">
              <a:alpha val="1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&quot;No&quot; Symbol 21"/>
          <p:cNvSpPr/>
          <p:nvPr/>
        </p:nvSpPr>
        <p:spPr>
          <a:xfrm>
            <a:off x="6553080" y="990720"/>
            <a:ext cx="1143000" cy="11430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67400 h 1143000"/>
              <a:gd name="textAreaBottom" fmla="*/ 975600 h 1143000"/>
            </a:gdLst>
            <a:ahLst/>
            <a:rect l="textAreaLeft" t="textAreaTop" r="textAreaRight" b="textAreaBottom"/>
            <a:pathLst>
              <a:path w="1143000" h="1143000">
                <a:moveTo>
                  <a:pt x="0" y="571500"/>
                </a:moveTo>
                <a:lnTo>
                  <a:pt x="0" y="571500"/>
                </a:lnTo>
                <a:arcTo wR="571500" hR="571500" stAng="-10799994" swAng="5400000"/>
                <a:lnTo>
                  <a:pt x="571501" y="1"/>
                </a:lnTo>
                <a:arcTo wR="571500" hR="571500" stAng="-5399994" swAng="5400000"/>
                <a:lnTo>
                  <a:pt x="1143000" y="571502"/>
                </a:lnTo>
                <a:arcTo wR="571500" hR="571500" stAng="0" swAng="5400000"/>
                <a:lnTo>
                  <a:pt x="571500" y="1143002"/>
                </a:lnTo>
                <a:arcTo wR="571500" hR="571500" stAng="5400000" swAng="5400006"/>
                <a:close/>
                <a:moveTo>
                  <a:pt x="939971" y="872734"/>
                </a:moveTo>
                <a:lnTo>
                  <a:pt x="939971" y="872734"/>
                </a:lnTo>
                <a:arcTo wR="475934" hR="475934" stAng="2356005" swAng="-10112015"/>
                <a:close/>
                <a:moveTo>
                  <a:pt x="203029" y="270266"/>
                </a:moveTo>
                <a:lnTo>
                  <a:pt x="203029" y="270266"/>
                </a:lnTo>
                <a:arcTo wR="475934" hR="475934" stAng="-8444000" swAng="-10112015"/>
                <a:close/>
              </a:path>
            </a:pathLst>
          </a:custGeom>
          <a:solidFill>
            <a:srgbClr val="ff0000">
              <a:alpha val="17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&quot;No&quot; Symbol 22"/>
          <p:cNvSpPr/>
          <p:nvPr/>
        </p:nvSpPr>
        <p:spPr>
          <a:xfrm>
            <a:off x="1143000" y="838080"/>
            <a:ext cx="1143000" cy="11430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67400 h 1143000"/>
              <a:gd name="textAreaBottom" fmla="*/ 975600 h 1143000"/>
            </a:gdLst>
            <a:ahLst/>
            <a:rect l="textAreaLeft" t="textAreaTop" r="textAreaRight" b="textAreaBottom"/>
            <a:pathLst>
              <a:path w="1143000" h="1143000">
                <a:moveTo>
                  <a:pt x="0" y="571500"/>
                </a:moveTo>
                <a:lnTo>
                  <a:pt x="0" y="571500"/>
                </a:lnTo>
                <a:arcTo wR="571500" hR="571500" stAng="-10799994" swAng="5400000"/>
                <a:lnTo>
                  <a:pt x="571501" y="1"/>
                </a:lnTo>
                <a:arcTo wR="571500" hR="571500" stAng="-5399994" swAng="5400000"/>
                <a:lnTo>
                  <a:pt x="1143000" y="571502"/>
                </a:lnTo>
                <a:arcTo wR="571500" hR="571500" stAng="0" swAng="5400000"/>
                <a:lnTo>
                  <a:pt x="571500" y="1143002"/>
                </a:lnTo>
                <a:arcTo wR="571500" hR="571500" stAng="5400000" swAng="5400006"/>
                <a:close/>
                <a:moveTo>
                  <a:pt x="939971" y="872734"/>
                </a:moveTo>
                <a:lnTo>
                  <a:pt x="939971" y="872734"/>
                </a:lnTo>
                <a:arcTo wR="475934" hR="475934" stAng="2356005" swAng="-10112015"/>
                <a:close/>
                <a:moveTo>
                  <a:pt x="203029" y="270266"/>
                </a:moveTo>
                <a:lnTo>
                  <a:pt x="203029" y="270266"/>
                </a:lnTo>
                <a:arcTo wR="475934" hR="475934" stAng="-8444000" swAng="-10112015"/>
                <a:close/>
              </a:path>
            </a:pathLst>
          </a:custGeom>
          <a:solidFill>
            <a:srgbClr val="ff0000">
              <a:alpha val="17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3"/>
          <p:cNvSpPr/>
          <p:nvPr/>
        </p:nvSpPr>
        <p:spPr>
          <a:xfrm>
            <a:off x="152280" y="5486400"/>
            <a:ext cx="29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ved tip from sample before the plunger was all the way 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24"/>
          <p:cNvSpPr/>
          <p:nvPr/>
        </p:nvSpPr>
        <p:spPr>
          <a:xfrm>
            <a:off x="5867280" y="5486400"/>
            <a:ext cx="29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kely allowed the plunger to move to home too quick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25"/>
          <p:cNvSpPr/>
          <p:nvPr/>
        </p:nvSpPr>
        <p:spPr>
          <a:xfrm>
            <a:off x="3657600" y="5410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8"/>
          <p:cNvSpPr/>
          <p:nvPr/>
        </p:nvSpPr>
        <p:spPr>
          <a:xfrm>
            <a:off x="3809880" y="4952880"/>
            <a:ext cx="4114800" cy="609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16"/>
          <p:cNvGrpSpPr/>
          <p:nvPr/>
        </p:nvGrpSpPr>
        <p:grpSpPr>
          <a:xfrm>
            <a:off x="533520" y="1371240"/>
            <a:ext cx="2269440" cy="4092840"/>
            <a:chOff x="533520" y="1371240"/>
            <a:chExt cx="2269440" cy="4092840"/>
          </a:xfrm>
        </p:grpSpPr>
        <p:sp>
          <p:nvSpPr>
            <p:cNvPr id="377" name="Can 34"/>
            <p:cNvSpPr/>
            <p:nvPr/>
          </p:nvSpPr>
          <p:spPr>
            <a:xfrm rot="10800000">
              <a:off x="1371240" y="1371240"/>
              <a:ext cx="779400" cy="33012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Can 35"/>
            <p:cNvSpPr/>
            <p:nvPr/>
          </p:nvSpPr>
          <p:spPr>
            <a:xfrm flipV="1">
              <a:off x="1600200" y="1676160"/>
              <a:ext cx="295200" cy="784080"/>
            </a:xfrm>
            <a:prstGeom prst="can">
              <a:avLst>
                <a:gd name="adj" fmla="val 7875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Block Arc 36"/>
            <p:cNvSpPr/>
            <p:nvPr/>
          </p:nvSpPr>
          <p:spPr>
            <a:xfrm>
              <a:off x="533520" y="2327040"/>
              <a:ext cx="1001880" cy="660240"/>
            </a:xfrm>
            <a:custGeom>
              <a:avLst/>
              <a:gdLst>
                <a:gd name="textAreaLeft" fmla="*/ 0 w 1001880"/>
                <a:gd name="textAreaRight" fmla="*/ 889920 w 1001880"/>
                <a:gd name="textAreaTop" fmla="*/ 0 h 660240"/>
                <a:gd name="textAreaBottom" fmla="*/ 345240 h 660240"/>
              </a:gdLst>
              <a:ahLst/>
              <a:rect l="textAreaLeft" t="textAreaTop" r="textAreaRight" b="textAreaBottom"/>
              <a:pathLst>
                <a:path w="650665" h="512835">
                  <a:moveTo>
                    <a:pt x="340" y="268129"/>
                  </a:moveTo>
                  <a:lnTo>
                    <a:pt x="339" y="268129"/>
                  </a:lnTo>
                  <a:arcTo wR="325333" hR="256418" stAng="10676176" swAng="8966665"/>
                  <a:lnTo>
                    <a:pt x="492591" y="149372"/>
                  </a:lnTo>
                  <a:lnTo>
                    <a:pt x="492591" y="149372"/>
                  </a:lnTo>
                  <a:arcTo wR="227135" hR="158220" stAng="-1957158" swAng="-896667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Diagonal Stripe 37"/>
            <p:cNvSpPr/>
            <p:nvPr/>
          </p:nvSpPr>
          <p:spPr>
            <a:xfrm rot="13935600">
              <a:off x="2235240" y="2302920"/>
              <a:ext cx="474480" cy="468360"/>
            </a:xfrm>
            <a:custGeom>
              <a:avLst/>
              <a:gdLst>
                <a:gd name="textAreaLeft" fmla="*/ 0 w 474480"/>
                <a:gd name="textAreaRight" fmla="*/ 387720 w 474480"/>
                <a:gd name="textAreaTop" fmla="*/ 0 h 468360"/>
                <a:gd name="textAreaBottom" fmla="*/ 382680 h 468360"/>
              </a:gdLst>
              <a:ahLst/>
              <a:rect l="textAreaLeft" t="textAreaTop" r="textAreaRight" b="textAreaBottom"/>
              <a:pathLst>
                <a:path w="368600" h="304194">
                  <a:moveTo>
                    <a:pt x="0" y="192655"/>
                  </a:moveTo>
                  <a:lnTo>
                    <a:pt x="233445" y="0"/>
                  </a:lnTo>
                  <a:lnTo>
                    <a:pt x="368600" y="0"/>
                  </a:lnTo>
                  <a:lnTo>
                    <a:pt x="0" y="304194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ounded Rectangle 38"/>
            <p:cNvSpPr/>
            <p:nvPr/>
          </p:nvSpPr>
          <p:spPr>
            <a:xfrm flipH="1">
              <a:off x="2092680" y="2574720"/>
              <a:ext cx="333360" cy="5778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577800"/>
                <a:gd name="textAreaBottom" fmla="*/ 561600 h 577800"/>
              </a:gdLst>
              <a:ahLst/>
              <a:rect l="textAreaLeft" t="textAreaTop" r="textAreaRight" b="textAreaBottom"/>
              <a:pathLst>
                <a:path w="21600" h="37421">
                  <a:moveTo>
                    <a:pt x="3600" y="0"/>
                  </a:moveTo>
                  <a:arcTo wR="3600" hR="3600" stAng="16200000" swAng="-5400000"/>
                  <a:lnTo>
                    <a:pt x="0" y="33821"/>
                  </a:lnTo>
                  <a:arcTo wR="3600" hR="3600" stAng="10800000" swAng="-5400000"/>
                  <a:lnTo>
                    <a:pt x="18000" y="374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ounded Rectangle 39"/>
            <p:cNvSpPr/>
            <p:nvPr/>
          </p:nvSpPr>
          <p:spPr>
            <a:xfrm>
              <a:off x="1312920" y="2327040"/>
              <a:ext cx="890640" cy="3137040"/>
            </a:xfrm>
            <a:custGeom>
              <a:avLst/>
              <a:gdLst>
                <a:gd name="textAreaLeft" fmla="*/ 43200 w 890640"/>
                <a:gd name="textAreaRight" fmla="*/ 847440 w 890640"/>
                <a:gd name="textAreaTop" fmla="*/ 43200 h 3137040"/>
                <a:gd name="textAreaBottom" fmla="*/ 3093840 h 3137040"/>
              </a:gdLst>
              <a:ahLst/>
              <a:rect l="textAreaLeft" t="textAreaTop" r="textAreaRight" b="textAreaBottom"/>
              <a:pathLst>
                <a:path w="21600" h="76058">
                  <a:moveTo>
                    <a:pt x="3600" y="0"/>
                  </a:moveTo>
                  <a:arcTo wR="3600" hR="3600" stAng="16200000" swAng="-5400000"/>
                  <a:lnTo>
                    <a:pt x="0" y="72458"/>
                  </a:lnTo>
                  <a:arcTo wR="3600" hR="3600" stAng="10800000" swAng="-5400000"/>
                  <a:lnTo>
                    <a:pt x="18000" y="760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ounded Rectangle 40"/>
            <p:cNvSpPr/>
            <p:nvPr/>
          </p:nvSpPr>
          <p:spPr>
            <a:xfrm>
              <a:off x="2203560" y="2987640"/>
              <a:ext cx="333360" cy="23940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2394000"/>
                <a:gd name="textAreaBottom" fmla="*/ 2377800 h 2394000"/>
              </a:gdLst>
              <a:ahLst/>
              <a:rect l="textAreaLeft" t="textAreaTop" r="textAreaRight" b="textAreaBottom"/>
              <a:pathLst>
                <a:path w="21600" h="154975">
                  <a:moveTo>
                    <a:pt x="3600" y="0"/>
                  </a:moveTo>
                  <a:arcTo wR="3600" hR="3600" stAng="16200000" swAng="-5400000"/>
                  <a:lnTo>
                    <a:pt x="0" y="151375"/>
                  </a:lnTo>
                  <a:arcTo wR="3600" hR="3600" stAng="10800000" swAng="-5400000"/>
                  <a:lnTo>
                    <a:pt x="18000" y="154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lowchart: Decision 41"/>
            <p:cNvSpPr/>
            <p:nvPr/>
          </p:nvSpPr>
          <p:spPr>
            <a:xfrm>
              <a:off x="1201680" y="2492280"/>
              <a:ext cx="222120" cy="280656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Box 43"/>
            <p:cNvSpPr/>
            <p:nvPr/>
          </p:nvSpPr>
          <p:spPr>
            <a:xfrm rot="16200000">
              <a:off x="1362600" y="3771720"/>
              <a:ext cx="8830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TextBox 15"/>
          <p:cNvSpPr/>
          <p:nvPr/>
        </p:nvSpPr>
        <p:spPr>
          <a:xfrm>
            <a:off x="3733920" y="2286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livering the S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9"/>
          <p:cNvSpPr/>
          <p:nvPr/>
        </p:nvSpPr>
        <p:spPr>
          <a:xfrm>
            <a:off x="5410080" y="1295280"/>
            <a:ext cx="32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P FOUR – insert tip into the area you wish to deliver your sample. (in this case a gel for DNA fingerprinting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ounded Rectangle 29"/>
          <p:cNvSpPr/>
          <p:nvPr/>
        </p:nvSpPr>
        <p:spPr>
          <a:xfrm>
            <a:off x="434340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23"/>
          <p:cNvGrpSpPr/>
          <p:nvPr/>
        </p:nvGrpSpPr>
        <p:grpSpPr>
          <a:xfrm>
            <a:off x="4222440" y="2133360"/>
            <a:ext cx="577800" cy="3124440"/>
            <a:chOff x="4222440" y="2133360"/>
            <a:chExt cx="577800" cy="3124440"/>
          </a:xfrm>
        </p:grpSpPr>
        <p:grpSp>
          <p:nvGrpSpPr>
            <p:cNvPr id="390" name="Group 17"/>
            <p:cNvGrpSpPr/>
            <p:nvPr/>
          </p:nvGrpSpPr>
          <p:grpSpPr>
            <a:xfrm>
              <a:off x="4222440" y="2133360"/>
              <a:ext cx="577800" cy="3124440"/>
              <a:chOff x="4222440" y="2133360"/>
              <a:chExt cx="577800" cy="3124440"/>
            </a:xfrm>
          </p:grpSpPr>
          <p:sp>
            <p:nvSpPr>
              <p:cNvPr id="391" name="Trapezoid 33"/>
              <p:cNvSpPr/>
              <p:nvPr/>
            </p:nvSpPr>
            <p:spPr>
              <a:xfrm rot="10800000">
                <a:off x="4222440" y="2133360"/>
                <a:ext cx="577800" cy="641160"/>
              </a:xfrm>
              <a:custGeom>
                <a:avLst/>
                <a:gdLst>
                  <a:gd name="textAreaLeft" fmla="*/ 96120 w 577800"/>
                  <a:gd name="textAreaRight" fmla="*/ 481680 w 577800"/>
                  <a:gd name="textAreaTop" fmla="*/ 106920 h 641160"/>
                  <a:gd name="textAreaBottom" fmla="*/ 641160 h 641160"/>
                </a:gdLst>
                <a:ahLst/>
                <a:rect l="textAreaLeft" t="textAreaTop" r="textAreaRight" b="textAreaBottom"/>
                <a:pathLst>
                  <a:path w="578380" h="641350">
                    <a:moveTo>
                      <a:pt x="0" y="641350"/>
                    </a:moveTo>
                    <a:lnTo>
                      <a:pt x="144595" y="0"/>
                    </a:lnTo>
                    <a:lnTo>
                      <a:pt x="433785" y="0"/>
                    </a:lnTo>
                    <a:lnTo>
                      <a:pt x="578380" y="641350"/>
                    </a:lnTo>
                    <a:close/>
                  </a:path>
                </a:pathLst>
              </a:custGeom>
              <a:solidFill>
                <a:srgbClr val="e6e0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Trapezoid 42"/>
              <p:cNvSpPr/>
              <p:nvPr/>
            </p:nvSpPr>
            <p:spPr>
              <a:xfrm rot="10800000">
                <a:off x="4451040" y="4191120"/>
                <a:ext cx="144360" cy="257040"/>
              </a:xfrm>
              <a:custGeom>
                <a:avLst/>
                <a:gdLst>
                  <a:gd name="textAreaLeft" fmla="*/ 23760 w 144360"/>
                  <a:gd name="textAreaRight" fmla="*/ 120600 w 144360"/>
                  <a:gd name="textAreaTop" fmla="*/ 4284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144596" h="257175">
                    <a:moveTo>
                      <a:pt x="0" y="257175"/>
                    </a:moveTo>
                    <a:lnTo>
                      <a:pt x="36149" y="0"/>
                    </a:lnTo>
                    <a:lnTo>
                      <a:pt x="108447" y="0"/>
                    </a:lnTo>
                    <a:lnTo>
                      <a:pt x="144596" y="257175"/>
                    </a:lnTo>
                    <a:close/>
                  </a:path>
                </a:pathLst>
              </a:custGeom>
              <a:solidFill>
                <a:srgbClr val="c6d9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Trapezoid 44"/>
              <p:cNvSpPr/>
              <p:nvPr/>
            </p:nvSpPr>
            <p:spPr>
              <a:xfrm rot="10800000">
                <a:off x="4374720" y="2666880"/>
                <a:ext cx="289080" cy="1603440"/>
              </a:xfrm>
              <a:custGeom>
                <a:avLst/>
                <a:gdLst>
                  <a:gd name="textAreaLeft" fmla="*/ 37440 w 289080"/>
                  <a:gd name="textAreaRight" fmla="*/ 251640 w 289080"/>
                  <a:gd name="textAreaTop" fmla="*/ 207720 h 1603440"/>
                  <a:gd name="textAreaBottom" fmla="*/ 1603800 h 1603440"/>
                </a:gdLst>
                <a:ahLst/>
                <a:rect l="textAreaLeft" t="textAreaTop" r="textAreaRight" b="textAreaBottom"/>
                <a:pathLst>
                  <a:path w="289190" h="1603375">
                    <a:moveTo>
                      <a:pt x="0" y="1603375"/>
                    </a:moveTo>
                    <a:lnTo>
                      <a:pt x="56230" y="0"/>
                    </a:lnTo>
                    <a:lnTo>
                      <a:pt x="232960" y="0"/>
                    </a:lnTo>
                    <a:lnTo>
                      <a:pt x="289190" y="1603375"/>
                    </a:lnTo>
                    <a:close/>
                  </a:path>
                </a:pathLst>
              </a:custGeom>
              <a:solidFill>
                <a:srgbClr val="e6e0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rapezoid 45"/>
              <p:cNvSpPr/>
              <p:nvPr/>
            </p:nvSpPr>
            <p:spPr>
              <a:xfrm rot="10800000">
                <a:off x="4374720" y="4038840"/>
                <a:ext cx="304920" cy="1218960"/>
              </a:xfrm>
              <a:custGeom>
                <a:avLst/>
                <a:gdLst>
                  <a:gd name="textAreaLeft" fmla="*/ 83160 w 304920"/>
                  <a:gd name="textAreaRight" fmla="*/ 221760 w 304920"/>
                  <a:gd name="textAreaTop" fmla="*/ 333000 h 1218960"/>
                  <a:gd name="textAreaBottom" fmla="*/ 1219320 h 1218960"/>
                </a:gdLst>
                <a:ahLst/>
                <a:rect l="textAreaLeft" t="textAreaTop" r="textAreaRight" b="textAreaBottom"/>
                <a:pathLst>
                  <a:path w="305080" h="1219200">
                    <a:moveTo>
                      <a:pt x="0" y="1219200"/>
                    </a:moveTo>
                    <a:lnTo>
                      <a:pt x="125083" y="0"/>
                    </a:lnTo>
                    <a:lnTo>
                      <a:pt x="179997" y="0"/>
                    </a:lnTo>
                    <a:lnTo>
                      <a:pt x="305080" y="1219200"/>
                    </a:lnTo>
                    <a:close/>
                  </a:path>
                </a:pathLst>
              </a:custGeom>
              <a:solidFill>
                <a:srgbClr val="ddd9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Trapezoid 27"/>
            <p:cNvSpPr/>
            <p:nvPr/>
          </p:nvSpPr>
          <p:spPr>
            <a:xfrm rot="10800000">
              <a:off x="4419360" y="4495680"/>
              <a:ext cx="228600" cy="685800"/>
            </a:xfrm>
            <a:custGeom>
              <a:avLst/>
              <a:gdLst>
                <a:gd name="textAreaLeft" fmla="*/ 62280 w 228600"/>
                <a:gd name="textAreaRight" fmla="*/ 166320 w 228600"/>
                <a:gd name="textAreaTop" fmla="*/ 18720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28810" h="685800">
                  <a:moveTo>
                    <a:pt x="0" y="685800"/>
                  </a:moveTo>
                  <a:lnTo>
                    <a:pt x="93812" y="0"/>
                  </a:lnTo>
                  <a:lnTo>
                    <a:pt x="134998" y="0"/>
                  </a:lnTo>
                  <a:lnTo>
                    <a:pt x="228810" y="685800"/>
                  </a:lnTo>
                  <a:close/>
                </a:path>
              </a:pathLst>
            </a:cu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Rounded Rectangle 30"/>
          <p:cNvSpPr/>
          <p:nvPr/>
        </p:nvSpPr>
        <p:spPr>
          <a:xfrm>
            <a:off x="4952880" y="487692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ounded Rectangle 31"/>
          <p:cNvSpPr/>
          <p:nvPr/>
        </p:nvSpPr>
        <p:spPr>
          <a:xfrm>
            <a:off x="556272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ounded Rectangle 32"/>
          <p:cNvSpPr/>
          <p:nvPr/>
        </p:nvSpPr>
        <p:spPr>
          <a:xfrm>
            <a:off x="617220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ounded Rectangle 46"/>
          <p:cNvSpPr/>
          <p:nvPr/>
        </p:nvSpPr>
        <p:spPr>
          <a:xfrm>
            <a:off x="6781680" y="487692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8"/>
          <p:cNvSpPr/>
          <p:nvPr/>
        </p:nvSpPr>
        <p:spPr>
          <a:xfrm>
            <a:off x="259920" y="6172200"/>
            <a:ext cx="48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EEP the pipette VERTICAL at a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8"/>
          <p:cNvSpPr/>
          <p:nvPr/>
        </p:nvSpPr>
        <p:spPr>
          <a:xfrm>
            <a:off x="3809880" y="4952880"/>
            <a:ext cx="4114800" cy="609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6"/>
          <p:cNvGrpSpPr/>
          <p:nvPr/>
        </p:nvGrpSpPr>
        <p:grpSpPr>
          <a:xfrm>
            <a:off x="533520" y="1294920"/>
            <a:ext cx="2269440" cy="4169160"/>
            <a:chOff x="533520" y="1294920"/>
            <a:chExt cx="2269440" cy="4169160"/>
          </a:xfrm>
        </p:grpSpPr>
        <p:sp>
          <p:nvSpPr>
            <p:cNvPr id="403" name="Can 34"/>
            <p:cNvSpPr/>
            <p:nvPr/>
          </p:nvSpPr>
          <p:spPr>
            <a:xfrm rot="10800000">
              <a:off x="1371240" y="1294920"/>
              <a:ext cx="779400" cy="33012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Can 35"/>
            <p:cNvSpPr/>
            <p:nvPr/>
          </p:nvSpPr>
          <p:spPr>
            <a:xfrm flipV="1">
              <a:off x="1600200" y="1523160"/>
              <a:ext cx="304560" cy="990360"/>
            </a:xfrm>
            <a:prstGeom prst="can">
              <a:avLst>
                <a:gd name="adj" fmla="val 6435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Block Arc 36"/>
            <p:cNvSpPr/>
            <p:nvPr/>
          </p:nvSpPr>
          <p:spPr>
            <a:xfrm>
              <a:off x="533520" y="2327040"/>
              <a:ext cx="1001880" cy="660240"/>
            </a:xfrm>
            <a:custGeom>
              <a:avLst/>
              <a:gdLst>
                <a:gd name="textAreaLeft" fmla="*/ 0 w 1001880"/>
                <a:gd name="textAreaRight" fmla="*/ 889920 w 1001880"/>
                <a:gd name="textAreaTop" fmla="*/ 0 h 660240"/>
                <a:gd name="textAreaBottom" fmla="*/ 345240 h 660240"/>
              </a:gdLst>
              <a:ahLst/>
              <a:rect l="textAreaLeft" t="textAreaTop" r="textAreaRight" b="textAreaBottom"/>
              <a:pathLst>
                <a:path w="650665" h="512835">
                  <a:moveTo>
                    <a:pt x="340" y="268129"/>
                  </a:moveTo>
                  <a:lnTo>
                    <a:pt x="339" y="268129"/>
                  </a:lnTo>
                  <a:arcTo wR="325333" hR="256418" stAng="10676176" swAng="8966665"/>
                  <a:lnTo>
                    <a:pt x="492591" y="149372"/>
                  </a:lnTo>
                  <a:lnTo>
                    <a:pt x="492591" y="149372"/>
                  </a:lnTo>
                  <a:arcTo wR="227135" hR="158220" stAng="-1957158" swAng="-896667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Diagonal Stripe 37"/>
            <p:cNvSpPr/>
            <p:nvPr/>
          </p:nvSpPr>
          <p:spPr>
            <a:xfrm rot="13935600">
              <a:off x="2235240" y="2302920"/>
              <a:ext cx="474480" cy="468360"/>
            </a:xfrm>
            <a:custGeom>
              <a:avLst/>
              <a:gdLst>
                <a:gd name="textAreaLeft" fmla="*/ 0 w 474480"/>
                <a:gd name="textAreaRight" fmla="*/ 387720 w 474480"/>
                <a:gd name="textAreaTop" fmla="*/ 0 h 468360"/>
                <a:gd name="textAreaBottom" fmla="*/ 382680 h 468360"/>
              </a:gdLst>
              <a:ahLst/>
              <a:rect l="textAreaLeft" t="textAreaTop" r="textAreaRight" b="textAreaBottom"/>
              <a:pathLst>
                <a:path w="368600" h="304194">
                  <a:moveTo>
                    <a:pt x="0" y="192655"/>
                  </a:moveTo>
                  <a:lnTo>
                    <a:pt x="233445" y="0"/>
                  </a:lnTo>
                  <a:lnTo>
                    <a:pt x="368600" y="0"/>
                  </a:lnTo>
                  <a:lnTo>
                    <a:pt x="0" y="304194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ounded Rectangle 38"/>
            <p:cNvSpPr/>
            <p:nvPr/>
          </p:nvSpPr>
          <p:spPr>
            <a:xfrm flipH="1">
              <a:off x="2092680" y="2574720"/>
              <a:ext cx="333360" cy="5778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577800"/>
                <a:gd name="textAreaBottom" fmla="*/ 561600 h 577800"/>
              </a:gdLst>
              <a:ahLst/>
              <a:rect l="textAreaLeft" t="textAreaTop" r="textAreaRight" b="textAreaBottom"/>
              <a:pathLst>
                <a:path w="21600" h="37421">
                  <a:moveTo>
                    <a:pt x="3600" y="0"/>
                  </a:moveTo>
                  <a:arcTo wR="3600" hR="3600" stAng="16200000" swAng="-5400000"/>
                  <a:lnTo>
                    <a:pt x="0" y="33821"/>
                  </a:lnTo>
                  <a:arcTo wR="3600" hR="3600" stAng="10800000" swAng="-5400000"/>
                  <a:lnTo>
                    <a:pt x="18000" y="374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ounded Rectangle 39"/>
            <p:cNvSpPr/>
            <p:nvPr/>
          </p:nvSpPr>
          <p:spPr>
            <a:xfrm>
              <a:off x="1312920" y="2327040"/>
              <a:ext cx="890640" cy="3137040"/>
            </a:xfrm>
            <a:custGeom>
              <a:avLst/>
              <a:gdLst>
                <a:gd name="textAreaLeft" fmla="*/ 43200 w 890640"/>
                <a:gd name="textAreaRight" fmla="*/ 847440 w 890640"/>
                <a:gd name="textAreaTop" fmla="*/ 43200 h 3137040"/>
                <a:gd name="textAreaBottom" fmla="*/ 3093840 h 3137040"/>
              </a:gdLst>
              <a:ahLst/>
              <a:rect l="textAreaLeft" t="textAreaTop" r="textAreaRight" b="textAreaBottom"/>
              <a:pathLst>
                <a:path w="21600" h="76058">
                  <a:moveTo>
                    <a:pt x="3600" y="0"/>
                  </a:moveTo>
                  <a:arcTo wR="3600" hR="3600" stAng="16200000" swAng="-5400000"/>
                  <a:lnTo>
                    <a:pt x="0" y="72458"/>
                  </a:lnTo>
                  <a:arcTo wR="3600" hR="3600" stAng="10800000" swAng="-5400000"/>
                  <a:lnTo>
                    <a:pt x="18000" y="760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ounded Rectangle 40"/>
            <p:cNvSpPr/>
            <p:nvPr/>
          </p:nvSpPr>
          <p:spPr>
            <a:xfrm>
              <a:off x="2203560" y="2987640"/>
              <a:ext cx="333360" cy="23940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2394000"/>
                <a:gd name="textAreaBottom" fmla="*/ 2377800 h 2394000"/>
              </a:gdLst>
              <a:ahLst/>
              <a:rect l="textAreaLeft" t="textAreaTop" r="textAreaRight" b="textAreaBottom"/>
              <a:pathLst>
                <a:path w="21600" h="154975">
                  <a:moveTo>
                    <a:pt x="3600" y="0"/>
                  </a:moveTo>
                  <a:arcTo wR="3600" hR="3600" stAng="16200000" swAng="-5400000"/>
                  <a:lnTo>
                    <a:pt x="0" y="151375"/>
                  </a:lnTo>
                  <a:arcTo wR="3600" hR="3600" stAng="10800000" swAng="-5400000"/>
                  <a:lnTo>
                    <a:pt x="18000" y="154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lowchart: Decision 41"/>
            <p:cNvSpPr/>
            <p:nvPr/>
          </p:nvSpPr>
          <p:spPr>
            <a:xfrm>
              <a:off x="1201680" y="2492280"/>
              <a:ext cx="222120" cy="28069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Box 43"/>
            <p:cNvSpPr/>
            <p:nvPr/>
          </p:nvSpPr>
          <p:spPr>
            <a:xfrm rot="16200000">
              <a:off x="1362600" y="3771720"/>
              <a:ext cx="8830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TextBox 15"/>
          <p:cNvSpPr/>
          <p:nvPr/>
        </p:nvSpPr>
        <p:spPr>
          <a:xfrm>
            <a:off x="3733920" y="2286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livering the S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9"/>
          <p:cNvSpPr/>
          <p:nvPr/>
        </p:nvSpPr>
        <p:spPr>
          <a:xfrm>
            <a:off x="5410080" y="1295280"/>
            <a:ext cx="32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P FIVE – depress the plunger slowly to the first stop, then continue to the second stop, this will evacuate the entire contents of the tip. And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ounded Rectangle 29"/>
          <p:cNvSpPr/>
          <p:nvPr/>
        </p:nvSpPr>
        <p:spPr>
          <a:xfrm>
            <a:off x="434340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17"/>
          <p:cNvGrpSpPr/>
          <p:nvPr/>
        </p:nvGrpSpPr>
        <p:grpSpPr>
          <a:xfrm>
            <a:off x="4222440" y="2133360"/>
            <a:ext cx="577800" cy="3124440"/>
            <a:chOff x="4222440" y="2133360"/>
            <a:chExt cx="577800" cy="3124440"/>
          </a:xfrm>
        </p:grpSpPr>
        <p:sp>
          <p:nvSpPr>
            <p:cNvPr id="416" name="Trapezoid 33"/>
            <p:cNvSpPr/>
            <p:nvPr/>
          </p:nvSpPr>
          <p:spPr>
            <a:xfrm rot="10800000">
              <a:off x="4222440" y="2133360"/>
              <a:ext cx="577800" cy="641160"/>
            </a:xfrm>
            <a:custGeom>
              <a:avLst/>
              <a:gdLst>
                <a:gd name="textAreaLeft" fmla="*/ 96120 w 577800"/>
                <a:gd name="textAreaRight" fmla="*/ 481680 w 577800"/>
                <a:gd name="textAreaTop" fmla="*/ 106920 h 641160"/>
                <a:gd name="textAreaBottom" fmla="*/ 641160 h 641160"/>
              </a:gdLst>
              <a:ahLst/>
              <a:rect l="textAreaLeft" t="textAreaTop" r="textAreaRight" b="textAreaBottom"/>
              <a:pathLst>
                <a:path w="578380" h="641350">
                  <a:moveTo>
                    <a:pt x="0" y="641350"/>
                  </a:moveTo>
                  <a:lnTo>
                    <a:pt x="144595" y="0"/>
                  </a:lnTo>
                  <a:lnTo>
                    <a:pt x="433785" y="0"/>
                  </a:lnTo>
                  <a:lnTo>
                    <a:pt x="578380" y="64135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rapezoid 42"/>
            <p:cNvSpPr/>
            <p:nvPr/>
          </p:nvSpPr>
          <p:spPr>
            <a:xfrm rot="10800000">
              <a:off x="4451040" y="4191120"/>
              <a:ext cx="144360" cy="257040"/>
            </a:xfrm>
            <a:custGeom>
              <a:avLst/>
              <a:gdLst>
                <a:gd name="textAreaLeft" fmla="*/ 23760 w 144360"/>
                <a:gd name="textAreaRight" fmla="*/ 120600 w 144360"/>
                <a:gd name="textAreaTop" fmla="*/ 4284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44596" h="257175">
                  <a:moveTo>
                    <a:pt x="0" y="257175"/>
                  </a:moveTo>
                  <a:lnTo>
                    <a:pt x="36149" y="0"/>
                  </a:lnTo>
                  <a:lnTo>
                    <a:pt x="108447" y="0"/>
                  </a:lnTo>
                  <a:lnTo>
                    <a:pt x="144596" y="257175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rapezoid 44"/>
            <p:cNvSpPr/>
            <p:nvPr/>
          </p:nvSpPr>
          <p:spPr>
            <a:xfrm rot="10800000">
              <a:off x="4374720" y="2666880"/>
              <a:ext cx="289080" cy="1603440"/>
            </a:xfrm>
            <a:custGeom>
              <a:avLst/>
              <a:gdLst>
                <a:gd name="textAreaLeft" fmla="*/ 37440 w 289080"/>
                <a:gd name="textAreaRight" fmla="*/ 251640 w 289080"/>
                <a:gd name="textAreaTop" fmla="*/ 207720 h 1603440"/>
                <a:gd name="textAreaBottom" fmla="*/ 1603800 h 1603440"/>
              </a:gdLst>
              <a:ahLst/>
              <a:rect l="textAreaLeft" t="textAreaTop" r="textAreaRight" b="textAreaBottom"/>
              <a:pathLst>
                <a:path w="289190" h="1603375">
                  <a:moveTo>
                    <a:pt x="0" y="1603375"/>
                  </a:moveTo>
                  <a:lnTo>
                    <a:pt x="56230" y="0"/>
                  </a:lnTo>
                  <a:lnTo>
                    <a:pt x="232960" y="0"/>
                  </a:lnTo>
                  <a:lnTo>
                    <a:pt x="289190" y="1603375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rapezoid 45"/>
            <p:cNvSpPr/>
            <p:nvPr/>
          </p:nvSpPr>
          <p:spPr>
            <a:xfrm rot="10800000">
              <a:off x="4374720" y="4038840"/>
              <a:ext cx="304920" cy="1218960"/>
            </a:xfrm>
            <a:custGeom>
              <a:avLst/>
              <a:gdLst>
                <a:gd name="textAreaLeft" fmla="*/ 83160 w 304920"/>
                <a:gd name="textAreaRight" fmla="*/ 221760 w 304920"/>
                <a:gd name="textAreaTop" fmla="*/ 33300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305080" h="1219200">
                  <a:moveTo>
                    <a:pt x="0" y="1219200"/>
                  </a:moveTo>
                  <a:lnTo>
                    <a:pt x="125083" y="0"/>
                  </a:lnTo>
                  <a:lnTo>
                    <a:pt x="179997" y="0"/>
                  </a:lnTo>
                  <a:lnTo>
                    <a:pt x="305080" y="1219200"/>
                  </a:lnTo>
                  <a:close/>
                </a:path>
              </a:pathLst>
            </a:cu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Rounded Rectangle 30"/>
          <p:cNvSpPr/>
          <p:nvPr/>
        </p:nvSpPr>
        <p:spPr>
          <a:xfrm>
            <a:off x="4952880" y="487692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ounded Rectangle 31"/>
          <p:cNvSpPr/>
          <p:nvPr/>
        </p:nvSpPr>
        <p:spPr>
          <a:xfrm>
            <a:off x="556272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ounded Rectangle 32"/>
          <p:cNvSpPr/>
          <p:nvPr/>
        </p:nvSpPr>
        <p:spPr>
          <a:xfrm>
            <a:off x="617220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ounded Rectangle 46"/>
          <p:cNvSpPr/>
          <p:nvPr/>
        </p:nvSpPr>
        <p:spPr>
          <a:xfrm>
            <a:off x="6781680" y="487692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4" name="Straight Arrow Connector 47"/>
          <p:cNvCxnSpPr/>
          <p:nvPr/>
        </p:nvCxnSpPr>
        <p:spPr>
          <a:xfrm flipH="1">
            <a:off x="2361960" y="1371240"/>
            <a:ext cx="2160" cy="610200"/>
          </a:xfrm>
          <a:prstGeom prst="straightConnector1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25" name="Straight Arrow Connector 49"/>
          <p:cNvCxnSpPr/>
          <p:nvPr/>
        </p:nvCxnSpPr>
        <p:spPr>
          <a:xfrm flipH="1">
            <a:off x="2361960" y="1980720"/>
            <a:ext cx="2160" cy="304200"/>
          </a:xfrm>
          <a:prstGeom prst="straightConnector1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26" name="Can 52"/>
          <p:cNvSpPr/>
          <p:nvPr/>
        </p:nvSpPr>
        <p:spPr>
          <a:xfrm rot="10800000">
            <a:off x="1371240" y="1981080"/>
            <a:ext cx="779400" cy="330480"/>
          </a:xfrm>
          <a:prstGeom prst="can">
            <a:avLst>
              <a:gd name="adj" fmla="val 25000"/>
            </a:avLst>
          </a:prstGeom>
          <a:solidFill>
            <a:srgbClr val="f79646">
              <a:alpha val="25000"/>
            </a:srgbClr>
          </a:solidFill>
          <a:ln w="25560">
            <a:solidFill>
              <a:srgbClr val="385d8a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Can 53"/>
          <p:cNvSpPr/>
          <p:nvPr/>
        </p:nvSpPr>
        <p:spPr>
          <a:xfrm rot="10800000">
            <a:off x="1371240" y="1676160"/>
            <a:ext cx="779400" cy="330120"/>
          </a:xfrm>
          <a:prstGeom prst="can">
            <a:avLst>
              <a:gd name="adj" fmla="val 25000"/>
            </a:avLst>
          </a:prstGeom>
          <a:solidFill>
            <a:srgbClr val="f79646">
              <a:alpha val="25000"/>
            </a:srgbClr>
          </a:solidFill>
          <a:ln w="25560">
            <a:solidFill>
              <a:srgbClr val="385d8a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54"/>
          <p:cNvSpPr/>
          <p:nvPr/>
        </p:nvSpPr>
        <p:spPr>
          <a:xfrm>
            <a:off x="2590920" y="20574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ounded Rectangle 55"/>
          <p:cNvSpPr/>
          <p:nvPr/>
        </p:nvSpPr>
        <p:spPr>
          <a:xfrm>
            <a:off x="4343400" y="5029200"/>
            <a:ext cx="380880" cy="3049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0" name="Straight Arrow Connector 56"/>
          <p:cNvCxnSpPr/>
          <p:nvPr/>
        </p:nvCxnSpPr>
        <p:spPr>
          <a:xfrm flipH="1">
            <a:off x="4494960" y="4648320"/>
            <a:ext cx="2520" cy="303840"/>
          </a:xfrm>
          <a:prstGeom prst="straightConnector1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31" name="Rectangle 28"/>
          <p:cNvSpPr/>
          <p:nvPr/>
        </p:nvSpPr>
        <p:spPr>
          <a:xfrm>
            <a:off x="259920" y="6172200"/>
            <a:ext cx="48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EEP the pipette VERTICAL at a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ounded Rectangle 24" descr=""/>
          <p:cNvPicPr/>
          <p:nvPr/>
        </p:nvPicPr>
        <p:blipFill>
          <a:blip r:embed="rId1"/>
          <a:stretch/>
        </p:blipFill>
        <p:spPr>
          <a:xfrm>
            <a:off x="2262240" y="1517760"/>
            <a:ext cx="414360" cy="222552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16"/>
          <p:cNvGrpSpPr/>
          <p:nvPr/>
        </p:nvGrpSpPr>
        <p:grpSpPr>
          <a:xfrm>
            <a:off x="1219320" y="228600"/>
            <a:ext cx="1587960" cy="6248520"/>
            <a:chOff x="1219320" y="228600"/>
            <a:chExt cx="1587960" cy="6248520"/>
          </a:xfrm>
        </p:grpSpPr>
        <p:sp>
          <p:nvSpPr>
            <p:cNvPr id="57" name="Trapezoid 12"/>
            <p:cNvSpPr/>
            <p:nvPr/>
          </p:nvSpPr>
          <p:spPr>
            <a:xfrm rot="10800000">
              <a:off x="1828440" y="3657600"/>
              <a:ext cx="609480" cy="761760"/>
            </a:xfrm>
            <a:custGeom>
              <a:avLst/>
              <a:gdLst>
                <a:gd name="textAreaLeft" fmla="*/ 101520 w 609480"/>
                <a:gd name="textAreaRight" fmla="*/ 507960 w 609480"/>
                <a:gd name="textAreaTop" fmla="*/ 12672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609754" h="762000">
                  <a:moveTo>
                    <a:pt x="0" y="762000"/>
                  </a:moveTo>
                  <a:lnTo>
                    <a:pt x="152439" y="0"/>
                  </a:lnTo>
                  <a:lnTo>
                    <a:pt x="457316" y="0"/>
                  </a:lnTo>
                  <a:lnTo>
                    <a:pt x="609754" y="76200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Can 4"/>
            <p:cNvSpPr/>
            <p:nvPr/>
          </p:nvSpPr>
          <p:spPr>
            <a:xfrm rot="10800000">
              <a:off x="1828800" y="228240"/>
              <a:ext cx="533520" cy="30456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Can 5"/>
            <p:cNvSpPr/>
            <p:nvPr/>
          </p:nvSpPr>
          <p:spPr>
            <a:xfrm flipV="1">
              <a:off x="1981440" y="457200"/>
              <a:ext cx="228600" cy="457200"/>
            </a:xfrm>
            <a:prstGeom prst="can">
              <a:avLst>
                <a:gd name="adj" fmla="val 12504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Block Arc 6"/>
            <p:cNvSpPr/>
            <p:nvPr/>
          </p:nvSpPr>
          <p:spPr>
            <a:xfrm>
              <a:off x="1219320" y="838080"/>
              <a:ext cx="685800" cy="609480"/>
            </a:xfrm>
            <a:custGeom>
              <a:avLst/>
              <a:gdLst>
                <a:gd name="textAreaLeft" fmla="*/ 0 w 685800"/>
                <a:gd name="textAreaRight" fmla="*/ 621360 w 685800"/>
                <a:gd name="textAreaTop" fmla="*/ 0 h 609480"/>
                <a:gd name="textAreaBottom" fmla="*/ 317160 h 609480"/>
              </a:gdLst>
              <a:ahLst/>
              <a:rect l="textAreaLeft" t="textAreaTop" r="textAreaRight" b="textAreaBottom"/>
              <a:pathLst>
                <a:path w="685973" h="609600">
                  <a:moveTo>
                    <a:pt x="282" y="317150"/>
                  </a:moveTo>
                  <a:lnTo>
                    <a:pt x="282" y="317150"/>
                  </a:lnTo>
                  <a:arcTo wR="342987" hR="304800" stAng="10676168" swAng="8966678"/>
                  <a:lnTo>
                    <a:pt x="522264" y="190062"/>
                  </a:lnTo>
                  <a:lnTo>
                    <a:pt x="522264" y="190062"/>
                  </a:lnTo>
                  <a:arcTo wR="226260" hR="188074" stAng="-1957164" swAng="-8966667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Diagonal Stripe 7"/>
            <p:cNvSpPr/>
            <p:nvPr/>
          </p:nvSpPr>
          <p:spPr>
            <a:xfrm rot="13935600">
              <a:off x="2327040" y="872640"/>
              <a:ext cx="438120" cy="320400"/>
            </a:xfrm>
            <a:custGeom>
              <a:avLst/>
              <a:gdLst>
                <a:gd name="textAreaLeft" fmla="*/ 0 w 438120"/>
                <a:gd name="textAreaRight" fmla="*/ 357840 w 438120"/>
                <a:gd name="textAreaTop" fmla="*/ 0 h 320400"/>
                <a:gd name="textAreaBottom" fmla="*/ 261720 h 320400"/>
              </a:gdLst>
              <a:ahLst/>
              <a:rect l="textAreaLeft" t="textAreaTop" r="textAreaRight" b="textAreaBottom"/>
              <a:pathLst>
                <a:path w="438150" h="320756">
                  <a:moveTo>
                    <a:pt x="0" y="203144"/>
                  </a:moveTo>
                  <a:lnTo>
                    <a:pt x="277494" y="0"/>
                  </a:lnTo>
                  <a:lnTo>
                    <a:pt x="438150" y="0"/>
                  </a:lnTo>
                  <a:lnTo>
                    <a:pt x="0" y="320756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ounded Rectangle 10"/>
            <p:cNvSpPr/>
            <p:nvPr/>
          </p:nvSpPr>
          <p:spPr>
            <a:xfrm flipH="1">
              <a:off x="2285640" y="1066680"/>
              <a:ext cx="228600" cy="533160"/>
            </a:xfrm>
            <a:custGeom>
              <a:avLst/>
              <a:gdLst>
                <a:gd name="textAreaLeft" fmla="*/ 11160 w 228600"/>
                <a:gd name="textAreaRight" fmla="*/ 217440 w 228600"/>
                <a:gd name="textAreaTop" fmla="*/ 11160 h 533160"/>
                <a:gd name="textAreaBottom" fmla="*/ 522000 h 533160"/>
              </a:gdLst>
              <a:ahLst/>
              <a:rect l="textAreaLeft" t="textAreaTop" r="textAreaRight" b="textAreaBottom"/>
              <a:pathLst>
                <a:path w="21600" h="50332">
                  <a:moveTo>
                    <a:pt x="3600" y="0"/>
                  </a:moveTo>
                  <a:arcTo wR="3600" hR="3600" stAng="16200000" swAng="-5400000"/>
                  <a:lnTo>
                    <a:pt x="0" y="46732"/>
                  </a:lnTo>
                  <a:arcTo wR="3600" hR="3600" stAng="10800000" swAng="-5400000"/>
                  <a:lnTo>
                    <a:pt x="18000" y="503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ounded Rectangle 8"/>
            <p:cNvSpPr/>
            <p:nvPr/>
          </p:nvSpPr>
          <p:spPr>
            <a:xfrm>
              <a:off x="1752840" y="838080"/>
              <a:ext cx="609480" cy="289548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2895480"/>
                <a:gd name="textAreaBottom" fmla="*/ 2865960 h 2895480"/>
              </a:gdLst>
              <a:ahLst/>
              <a:rect l="textAreaLeft" t="textAreaTop" r="textAreaRight" b="textAreaBottom"/>
              <a:pathLst>
                <a:path w="21600" h="102568">
                  <a:moveTo>
                    <a:pt x="3600" y="0"/>
                  </a:moveTo>
                  <a:arcTo wR="3600" hR="3600" stAng="16200000" swAng="-5400000"/>
                  <a:lnTo>
                    <a:pt x="0" y="98968"/>
                  </a:lnTo>
                  <a:arcTo wR="3600" hR="3600" stAng="10800000" swAng="-5400000"/>
                  <a:lnTo>
                    <a:pt x="18000" y="102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lowchart: Decision 11"/>
            <p:cNvSpPr/>
            <p:nvPr/>
          </p:nvSpPr>
          <p:spPr>
            <a:xfrm>
              <a:off x="1676520" y="990360"/>
              <a:ext cx="152280" cy="25909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rapezoid 14"/>
            <p:cNvSpPr/>
            <p:nvPr/>
          </p:nvSpPr>
          <p:spPr>
            <a:xfrm rot="10800000">
              <a:off x="2057040" y="6172560"/>
              <a:ext cx="152280" cy="304560"/>
            </a:xfrm>
            <a:custGeom>
              <a:avLst/>
              <a:gdLst>
                <a:gd name="textAreaLeft" fmla="*/ 25200 w 152280"/>
                <a:gd name="textAreaRight" fmla="*/ 127080 w 152280"/>
                <a:gd name="textAreaTop" fmla="*/ 5076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52439" h="304800">
                  <a:moveTo>
                    <a:pt x="0" y="304800"/>
                  </a:moveTo>
                  <a:lnTo>
                    <a:pt x="38110" y="0"/>
                  </a:lnTo>
                  <a:lnTo>
                    <a:pt x="114329" y="0"/>
                  </a:lnTo>
                  <a:lnTo>
                    <a:pt x="152439" y="304800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15"/>
            <p:cNvSpPr/>
            <p:nvPr/>
          </p:nvSpPr>
          <p:spPr>
            <a:xfrm rot="16200000">
              <a:off x="1708200" y="2025360"/>
              <a:ext cx="7617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rapezoid 13"/>
            <p:cNvSpPr/>
            <p:nvPr/>
          </p:nvSpPr>
          <p:spPr>
            <a:xfrm rot="10800000">
              <a:off x="1981440" y="4343400"/>
              <a:ext cx="304560" cy="1905120"/>
            </a:xfrm>
            <a:custGeom>
              <a:avLst/>
              <a:gdLst>
                <a:gd name="textAreaLeft" fmla="*/ 39240 w 304560"/>
                <a:gd name="textAreaRight" fmla="*/ 265320 w 304560"/>
                <a:gd name="textAreaTop" fmla="*/ 24696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304877" h="1905000">
                  <a:moveTo>
                    <a:pt x="0" y="1905000"/>
                  </a:moveTo>
                  <a:lnTo>
                    <a:pt x="59280" y="0"/>
                  </a:lnTo>
                  <a:lnTo>
                    <a:pt x="245597" y="0"/>
                  </a:lnTo>
                  <a:lnTo>
                    <a:pt x="304877" y="190500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Box 17"/>
          <p:cNvSpPr/>
          <p:nvPr/>
        </p:nvSpPr>
        <p:spPr>
          <a:xfrm>
            <a:off x="3657600" y="16002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icropipett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used to accurately transfer small quantities of liqu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this model the desired volume can be adjusted within the range of microliters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Straight Arrow Connector 16"/>
          <p:cNvCxnSpPr/>
          <p:nvPr/>
        </p:nvCxnSpPr>
        <p:spPr>
          <a:xfrm flipH="1" flipV="1">
            <a:off x="2666520" y="2818800"/>
            <a:ext cx="915120" cy="53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8"/>
          <p:cNvSpPr/>
          <p:nvPr/>
        </p:nvSpPr>
        <p:spPr>
          <a:xfrm>
            <a:off x="3809880" y="4952880"/>
            <a:ext cx="4114800" cy="609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16"/>
          <p:cNvGrpSpPr/>
          <p:nvPr/>
        </p:nvGrpSpPr>
        <p:grpSpPr>
          <a:xfrm>
            <a:off x="533520" y="1904760"/>
            <a:ext cx="2269440" cy="3559320"/>
            <a:chOff x="533520" y="1904760"/>
            <a:chExt cx="2269440" cy="3559320"/>
          </a:xfrm>
        </p:grpSpPr>
        <p:sp>
          <p:nvSpPr>
            <p:cNvPr id="434" name="Can 34"/>
            <p:cNvSpPr/>
            <p:nvPr/>
          </p:nvSpPr>
          <p:spPr>
            <a:xfrm rot="10800000">
              <a:off x="1371240" y="1904760"/>
              <a:ext cx="779400" cy="33012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Can 35"/>
            <p:cNvSpPr/>
            <p:nvPr/>
          </p:nvSpPr>
          <p:spPr>
            <a:xfrm flipV="1">
              <a:off x="1600200" y="2133000"/>
              <a:ext cx="304560" cy="990360"/>
            </a:xfrm>
            <a:prstGeom prst="can">
              <a:avLst>
                <a:gd name="adj" fmla="val 6435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Block Arc 36"/>
            <p:cNvSpPr/>
            <p:nvPr/>
          </p:nvSpPr>
          <p:spPr>
            <a:xfrm>
              <a:off x="533520" y="2327400"/>
              <a:ext cx="1001880" cy="660240"/>
            </a:xfrm>
            <a:custGeom>
              <a:avLst/>
              <a:gdLst>
                <a:gd name="textAreaLeft" fmla="*/ 0 w 1001880"/>
                <a:gd name="textAreaRight" fmla="*/ 889920 w 1001880"/>
                <a:gd name="textAreaTop" fmla="*/ 0 h 660240"/>
                <a:gd name="textAreaBottom" fmla="*/ 345240 h 660240"/>
              </a:gdLst>
              <a:ahLst/>
              <a:rect l="textAreaLeft" t="textAreaTop" r="textAreaRight" b="textAreaBottom"/>
              <a:pathLst>
                <a:path w="650665" h="512833">
                  <a:moveTo>
                    <a:pt x="340" y="268128"/>
                  </a:moveTo>
                  <a:lnTo>
                    <a:pt x="339" y="268128"/>
                  </a:lnTo>
                  <a:arcTo wR="325333" hR="256417" stAng="10676176" swAng="8966659"/>
                  <a:lnTo>
                    <a:pt x="492591" y="149371"/>
                  </a:lnTo>
                  <a:lnTo>
                    <a:pt x="492591" y="149371"/>
                  </a:lnTo>
                  <a:arcTo wR="227135" hR="158219" stAng="-1957167" swAng="-896666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Diagonal Stripe 37"/>
            <p:cNvSpPr/>
            <p:nvPr/>
          </p:nvSpPr>
          <p:spPr>
            <a:xfrm rot="13935600">
              <a:off x="2235240" y="2303280"/>
              <a:ext cx="474480" cy="468360"/>
            </a:xfrm>
            <a:custGeom>
              <a:avLst/>
              <a:gdLst>
                <a:gd name="textAreaLeft" fmla="*/ 0 w 474480"/>
                <a:gd name="textAreaRight" fmla="*/ 387720 w 474480"/>
                <a:gd name="textAreaTop" fmla="*/ 0 h 468360"/>
                <a:gd name="textAreaBottom" fmla="*/ 382680 h 468360"/>
              </a:gdLst>
              <a:ahLst/>
              <a:rect l="textAreaLeft" t="textAreaTop" r="textAreaRight" b="textAreaBottom"/>
              <a:pathLst>
                <a:path w="368599" h="304194">
                  <a:moveTo>
                    <a:pt x="0" y="192655"/>
                  </a:moveTo>
                  <a:lnTo>
                    <a:pt x="233445" y="0"/>
                  </a:lnTo>
                  <a:lnTo>
                    <a:pt x="368599" y="0"/>
                  </a:lnTo>
                  <a:lnTo>
                    <a:pt x="0" y="304194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ounded Rectangle 38"/>
            <p:cNvSpPr/>
            <p:nvPr/>
          </p:nvSpPr>
          <p:spPr>
            <a:xfrm flipH="1">
              <a:off x="2092680" y="2574720"/>
              <a:ext cx="333360" cy="5778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577800"/>
                <a:gd name="textAreaBottom" fmla="*/ 561600 h 577800"/>
              </a:gdLst>
              <a:ahLst/>
              <a:rect l="textAreaLeft" t="textAreaTop" r="textAreaRight" b="textAreaBottom"/>
              <a:pathLst>
                <a:path w="21600" h="37421">
                  <a:moveTo>
                    <a:pt x="3600" y="0"/>
                  </a:moveTo>
                  <a:arcTo wR="3600" hR="3600" stAng="16200000" swAng="-5400000"/>
                  <a:lnTo>
                    <a:pt x="0" y="33821"/>
                  </a:lnTo>
                  <a:arcTo wR="3600" hR="3600" stAng="10800000" swAng="-5400000"/>
                  <a:lnTo>
                    <a:pt x="18000" y="374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ounded Rectangle 39"/>
            <p:cNvSpPr/>
            <p:nvPr/>
          </p:nvSpPr>
          <p:spPr>
            <a:xfrm>
              <a:off x="1312920" y="2327400"/>
              <a:ext cx="890640" cy="3136680"/>
            </a:xfrm>
            <a:custGeom>
              <a:avLst/>
              <a:gdLst>
                <a:gd name="textAreaLeft" fmla="*/ 43200 w 890640"/>
                <a:gd name="textAreaRight" fmla="*/ 847440 w 890640"/>
                <a:gd name="textAreaTop" fmla="*/ 43200 h 3136680"/>
                <a:gd name="textAreaBottom" fmla="*/ 3093480 h 3136680"/>
              </a:gdLst>
              <a:ahLst/>
              <a:rect l="textAreaLeft" t="textAreaTop" r="textAreaRight" b="textAreaBottom"/>
              <a:pathLst>
                <a:path w="21600" h="76049">
                  <a:moveTo>
                    <a:pt x="3600" y="0"/>
                  </a:moveTo>
                  <a:arcTo wR="3600" hR="3600" stAng="16200000" swAng="-5400000"/>
                  <a:lnTo>
                    <a:pt x="0" y="72449"/>
                  </a:lnTo>
                  <a:arcTo wR="3600" hR="3600" stAng="10800000" swAng="-5400000"/>
                  <a:lnTo>
                    <a:pt x="18000" y="760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ounded Rectangle 40"/>
            <p:cNvSpPr/>
            <p:nvPr/>
          </p:nvSpPr>
          <p:spPr>
            <a:xfrm>
              <a:off x="2203560" y="2987640"/>
              <a:ext cx="333360" cy="23940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2394000"/>
                <a:gd name="textAreaBottom" fmla="*/ 2377800 h 2394000"/>
              </a:gdLst>
              <a:ahLst/>
              <a:rect l="textAreaLeft" t="textAreaTop" r="textAreaRight" b="textAreaBottom"/>
              <a:pathLst>
                <a:path w="21600" h="154975">
                  <a:moveTo>
                    <a:pt x="3600" y="0"/>
                  </a:moveTo>
                  <a:arcTo wR="3600" hR="3600" stAng="16200000" swAng="-5400000"/>
                  <a:lnTo>
                    <a:pt x="0" y="151375"/>
                  </a:lnTo>
                  <a:arcTo wR="3600" hR="3600" stAng="10800000" swAng="-5400000"/>
                  <a:lnTo>
                    <a:pt x="18000" y="154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lowchart: Decision 41"/>
            <p:cNvSpPr/>
            <p:nvPr/>
          </p:nvSpPr>
          <p:spPr>
            <a:xfrm>
              <a:off x="1201680" y="2492280"/>
              <a:ext cx="222120" cy="280656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Box 43"/>
            <p:cNvSpPr/>
            <p:nvPr/>
          </p:nvSpPr>
          <p:spPr>
            <a:xfrm rot="16200000">
              <a:off x="1362600" y="3772080"/>
              <a:ext cx="8830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TextBox 15"/>
          <p:cNvSpPr/>
          <p:nvPr/>
        </p:nvSpPr>
        <p:spPr>
          <a:xfrm>
            <a:off x="3733920" y="2286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livering the S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19"/>
          <p:cNvSpPr/>
          <p:nvPr/>
        </p:nvSpPr>
        <p:spPr>
          <a:xfrm>
            <a:off x="5410080" y="1295280"/>
            <a:ext cx="32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P SIX  – While still holding the plunger at the second stop. Withdraw the tip from the wel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ounded Rectangle 29"/>
          <p:cNvSpPr/>
          <p:nvPr/>
        </p:nvSpPr>
        <p:spPr>
          <a:xfrm>
            <a:off x="434340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17"/>
          <p:cNvGrpSpPr/>
          <p:nvPr/>
        </p:nvGrpSpPr>
        <p:grpSpPr>
          <a:xfrm>
            <a:off x="4222440" y="1523520"/>
            <a:ext cx="577800" cy="3124440"/>
            <a:chOff x="4222440" y="1523520"/>
            <a:chExt cx="577800" cy="3124440"/>
          </a:xfrm>
        </p:grpSpPr>
        <p:sp>
          <p:nvSpPr>
            <p:cNvPr id="447" name="Trapezoid 33"/>
            <p:cNvSpPr/>
            <p:nvPr/>
          </p:nvSpPr>
          <p:spPr>
            <a:xfrm rot="10800000">
              <a:off x="4222440" y="1523520"/>
              <a:ext cx="577800" cy="641160"/>
            </a:xfrm>
            <a:custGeom>
              <a:avLst/>
              <a:gdLst>
                <a:gd name="textAreaLeft" fmla="*/ 96120 w 577800"/>
                <a:gd name="textAreaRight" fmla="*/ 481680 w 577800"/>
                <a:gd name="textAreaTop" fmla="*/ 106920 h 641160"/>
                <a:gd name="textAreaBottom" fmla="*/ 641160 h 641160"/>
              </a:gdLst>
              <a:ahLst/>
              <a:rect l="textAreaLeft" t="textAreaTop" r="textAreaRight" b="textAreaBottom"/>
              <a:pathLst>
                <a:path w="578380" h="641350">
                  <a:moveTo>
                    <a:pt x="0" y="641350"/>
                  </a:moveTo>
                  <a:lnTo>
                    <a:pt x="144595" y="0"/>
                  </a:lnTo>
                  <a:lnTo>
                    <a:pt x="433785" y="0"/>
                  </a:lnTo>
                  <a:lnTo>
                    <a:pt x="578380" y="64135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rapezoid 42"/>
            <p:cNvSpPr/>
            <p:nvPr/>
          </p:nvSpPr>
          <p:spPr>
            <a:xfrm rot="10800000">
              <a:off x="4451040" y="3581640"/>
              <a:ext cx="144360" cy="257040"/>
            </a:xfrm>
            <a:custGeom>
              <a:avLst/>
              <a:gdLst>
                <a:gd name="textAreaLeft" fmla="*/ 23760 w 144360"/>
                <a:gd name="textAreaRight" fmla="*/ 120600 w 144360"/>
                <a:gd name="textAreaTop" fmla="*/ 4284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44596" h="257175">
                  <a:moveTo>
                    <a:pt x="0" y="257175"/>
                  </a:moveTo>
                  <a:lnTo>
                    <a:pt x="36149" y="0"/>
                  </a:lnTo>
                  <a:lnTo>
                    <a:pt x="108447" y="0"/>
                  </a:lnTo>
                  <a:lnTo>
                    <a:pt x="144596" y="257175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rapezoid 44"/>
            <p:cNvSpPr/>
            <p:nvPr/>
          </p:nvSpPr>
          <p:spPr>
            <a:xfrm rot="10800000">
              <a:off x="4374720" y="2057040"/>
              <a:ext cx="289080" cy="1603440"/>
            </a:xfrm>
            <a:custGeom>
              <a:avLst/>
              <a:gdLst>
                <a:gd name="textAreaLeft" fmla="*/ 37440 w 289080"/>
                <a:gd name="textAreaRight" fmla="*/ 251640 w 289080"/>
                <a:gd name="textAreaTop" fmla="*/ 207720 h 1603440"/>
                <a:gd name="textAreaBottom" fmla="*/ 1603800 h 1603440"/>
              </a:gdLst>
              <a:ahLst/>
              <a:rect l="textAreaLeft" t="textAreaTop" r="textAreaRight" b="textAreaBottom"/>
              <a:pathLst>
                <a:path w="289190" h="1603375">
                  <a:moveTo>
                    <a:pt x="0" y="1603375"/>
                  </a:moveTo>
                  <a:lnTo>
                    <a:pt x="56230" y="0"/>
                  </a:lnTo>
                  <a:lnTo>
                    <a:pt x="232960" y="0"/>
                  </a:lnTo>
                  <a:lnTo>
                    <a:pt x="289190" y="1603375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rapezoid 45"/>
            <p:cNvSpPr/>
            <p:nvPr/>
          </p:nvSpPr>
          <p:spPr>
            <a:xfrm rot="10800000">
              <a:off x="4374720" y="3428640"/>
              <a:ext cx="304920" cy="1219320"/>
            </a:xfrm>
            <a:custGeom>
              <a:avLst/>
              <a:gdLst>
                <a:gd name="textAreaLeft" fmla="*/ 83160 w 304920"/>
                <a:gd name="textAreaRight" fmla="*/ 221760 w 304920"/>
                <a:gd name="textAreaTop" fmla="*/ 33336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305080" h="1219200">
                  <a:moveTo>
                    <a:pt x="0" y="1219200"/>
                  </a:moveTo>
                  <a:lnTo>
                    <a:pt x="125083" y="0"/>
                  </a:lnTo>
                  <a:lnTo>
                    <a:pt x="179997" y="0"/>
                  </a:lnTo>
                  <a:lnTo>
                    <a:pt x="305080" y="1219200"/>
                  </a:lnTo>
                  <a:close/>
                </a:path>
              </a:pathLst>
            </a:cu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Rounded Rectangle 30"/>
          <p:cNvSpPr/>
          <p:nvPr/>
        </p:nvSpPr>
        <p:spPr>
          <a:xfrm>
            <a:off x="4952880" y="487692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ounded Rectangle 31"/>
          <p:cNvSpPr/>
          <p:nvPr/>
        </p:nvSpPr>
        <p:spPr>
          <a:xfrm>
            <a:off x="556272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ounded Rectangle 32"/>
          <p:cNvSpPr/>
          <p:nvPr/>
        </p:nvSpPr>
        <p:spPr>
          <a:xfrm>
            <a:off x="617220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ounded Rectangle 46"/>
          <p:cNvSpPr/>
          <p:nvPr/>
        </p:nvSpPr>
        <p:spPr>
          <a:xfrm>
            <a:off x="6781680" y="487692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54"/>
          <p:cNvSpPr/>
          <p:nvPr/>
        </p:nvSpPr>
        <p:spPr>
          <a:xfrm>
            <a:off x="2362320" y="19810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ounded Rectangle 55"/>
          <p:cNvSpPr/>
          <p:nvPr/>
        </p:nvSpPr>
        <p:spPr>
          <a:xfrm>
            <a:off x="4343400" y="5029200"/>
            <a:ext cx="380880" cy="3049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Straight Arrow Connector 48"/>
          <p:cNvCxnSpPr/>
          <p:nvPr/>
        </p:nvCxnSpPr>
        <p:spPr>
          <a:xfrm flipH="1" flipV="1">
            <a:off x="4114440" y="3885480"/>
            <a:ext cx="2160" cy="686520"/>
          </a:xfrm>
          <a:prstGeom prst="straightConnector1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58" name="Rectangle 28"/>
          <p:cNvSpPr/>
          <p:nvPr/>
        </p:nvSpPr>
        <p:spPr>
          <a:xfrm>
            <a:off x="259920" y="6172200"/>
            <a:ext cx="48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EEP the pipette VERTICAL at a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8"/>
          <p:cNvSpPr/>
          <p:nvPr/>
        </p:nvSpPr>
        <p:spPr>
          <a:xfrm>
            <a:off x="3809880" y="4952880"/>
            <a:ext cx="4114800" cy="609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16"/>
          <p:cNvGrpSpPr/>
          <p:nvPr/>
        </p:nvGrpSpPr>
        <p:grpSpPr>
          <a:xfrm>
            <a:off x="533520" y="1294920"/>
            <a:ext cx="2269440" cy="4169160"/>
            <a:chOff x="533520" y="1294920"/>
            <a:chExt cx="2269440" cy="4169160"/>
          </a:xfrm>
        </p:grpSpPr>
        <p:sp>
          <p:nvSpPr>
            <p:cNvPr id="461" name="Can 34"/>
            <p:cNvSpPr/>
            <p:nvPr/>
          </p:nvSpPr>
          <p:spPr>
            <a:xfrm rot="10800000">
              <a:off x="1371240" y="1294920"/>
              <a:ext cx="779400" cy="33012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Can 35"/>
            <p:cNvSpPr/>
            <p:nvPr/>
          </p:nvSpPr>
          <p:spPr>
            <a:xfrm flipV="1">
              <a:off x="1600200" y="1523160"/>
              <a:ext cx="304560" cy="990360"/>
            </a:xfrm>
            <a:prstGeom prst="can">
              <a:avLst>
                <a:gd name="adj" fmla="val 6435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Block Arc 36"/>
            <p:cNvSpPr/>
            <p:nvPr/>
          </p:nvSpPr>
          <p:spPr>
            <a:xfrm>
              <a:off x="533520" y="2327040"/>
              <a:ext cx="1001880" cy="660240"/>
            </a:xfrm>
            <a:custGeom>
              <a:avLst/>
              <a:gdLst>
                <a:gd name="textAreaLeft" fmla="*/ 0 w 1001880"/>
                <a:gd name="textAreaRight" fmla="*/ 889920 w 1001880"/>
                <a:gd name="textAreaTop" fmla="*/ 0 h 660240"/>
                <a:gd name="textAreaBottom" fmla="*/ 345240 h 660240"/>
              </a:gdLst>
              <a:ahLst/>
              <a:rect l="textAreaLeft" t="textAreaTop" r="textAreaRight" b="textAreaBottom"/>
              <a:pathLst>
                <a:path w="650665" h="512835">
                  <a:moveTo>
                    <a:pt x="340" y="268129"/>
                  </a:moveTo>
                  <a:lnTo>
                    <a:pt x="339" y="268129"/>
                  </a:lnTo>
                  <a:arcTo wR="325333" hR="256418" stAng="10676176" swAng="8966665"/>
                  <a:lnTo>
                    <a:pt x="492591" y="149372"/>
                  </a:lnTo>
                  <a:lnTo>
                    <a:pt x="492591" y="149372"/>
                  </a:lnTo>
                  <a:arcTo wR="227135" hR="158220" stAng="-1957158" swAng="-896667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Diagonal Stripe 37"/>
            <p:cNvSpPr/>
            <p:nvPr/>
          </p:nvSpPr>
          <p:spPr>
            <a:xfrm rot="13935600">
              <a:off x="2235240" y="2302920"/>
              <a:ext cx="474480" cy="468360"/>
            </a:xfrm>
            <a:custGeom>
              <a:avLst/>
              <a:gdLst>
                <a:gd name="textAreaLeft" fmla="*/ 0 w 474480"/>
                <a:gd name="textAreaRight" fmla="*/ 387720 w 474480"/>
                <a:gd name="textAreaTop" fmla="*/ 0 h 468360"/>
                <a:gd name="textAreaBottom" fmla="*/ 382680 h 468360"/>
              </a:gdLst>
              <a:ahLst/>
              <a:rect l="textAreaLeft" t="textAreaTop" r="textAreaRight" b="textAreaBottom"/>
              <a:pathLst>
                <a:path w="368600" h="304194">
                  <a:moveTo>
                    <a:pt x="0" y="192655"/>
                  </a:moveTo>
                  <a:lnTo>
                    <a:pt x="233445" y="0"/>
                  </a:lnTo>
                  <a:lnTo>
                    <a:pt x="368600" y="0"/>
                  </a:lnTo>
                  <a:lnTo>
                    <a:pt x="0" y="304194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ounded Rectangle 38"/>
            <p:cNvSpPr/>
            <p:nvPr/>
          </p:nvSpPr>
          <p:spPr>
            <a:xfrm flipH="1">
              <a:off x="2092680" y="2574720"/>
              <a:ext cx="333360" cy="5778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577800"/>
                <a:gd name="textAreaBottom" fmla="*/ 561600 h 577800"/>
              </a:gdLst>
              <a:ahLst/>
              <a:rect l="textAreaLeft" t="textAreaTop" r="textAreaRight" b="textAreaBottom"/>
              <a:pathLst>
                <a:path w="21600" h="37421">
                  <a:moveTo>
                    <a:pt x="3600" y="0"/>
                  </a:moveTo>
                  <a:arcTo wR="3600" hR="3600" stAng="16200000" swAng="-5400000"/>
                  <a:lnTo>
                    <a:pt x="0" y="33821"/>
                  </a:lnTo>
                  <a:arcTo wR="3600" hR="3600" stAng="10800000" swAng="-5400000"/>
                  <a:lnTo>
                    <a:pt x="18000" y="374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ounded Rectangle 39"/>
            <p:cNvSpPr/>
            <p:nvPr/>
          </p:nvSpPr>
          <p:spPr>
            <a:xfrm>
              <a:off x="1312920" y="2327040"/>
              <a:ext cx="890640" cy="3137040"/>
            </a:xfrm>
            <a:custGeom>
              <a:avLst/>
              <a:gdLst>
                <a:gd name="textAreaLeft" fmla="*/ 43200 w 890640"/>
                <a:gd name="textAreaRight" fmla="*/ 847440 w 890640"/>
                <a:gd name="textAreaTop" fmla="*/ 43200 h 3137040"/>
                <a:gd name="textAreaBottom" fmla="*/ 3093840 h 3137040"/>
              </a:gdLst>
              <a:ahLst/>
              <a:rect l="textAreaLeft" t="textAreaTop" r="textAreaRight" b="textAreaBottom"/>
              <a:pathLst>
                <a:path w="21600" h="76058">
                  <a:moveTo>
                    <a:pt x="3600" y="0"/>
                  </a:moveTo>
                  <a:arcTo wR="3600" hR="3600" stAng="16200000" swAng="-5400000"/>
                  <a:lnTo>
                    <a:pt x="0" y="72458"/>
                  </a:lnTo>
                  <a:arcTo wR="3600" hR="3600" stAng="10800000" swAng="-5400000"/>
                  <a:lnTo>
                    <a:pt x="18000" y="760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ounded Rectangle 40"/>
            <p:cNvSpPr/>
            <p:nvPr/>
          </p:nvSpPr>
          <p:spPr>
            <a:xfrm>
              <a:off x="2203560" y="2987640"/>
              <a:ext cx="333360" cy="23940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2394000"/>
                <a:gd name="textAreaBottom" fmla="*/ 2377800 h 2394000"/>
              </a:gdLst>
              <a:ahLst/>
              <a:rect l="textAreaLeft" t="textAreaTop" r="textAreaRight" b="textAreaBottom"/>
              <a:pathLst>
                <a:path w="21600" h="154975">
                  <a:moveTo>
                    <a:pt x="3600" y="0"/>
                  </a:moveTo>
                  <a:arcTo wR="3600" hR="3600" stAng="16200000" swAng="-5400000"/>
                  <a:lnTo>
                    <a:pt x="0" y="151375"/>
                  </a:lnTo>
                  <a:arcTo wR="3600" hR="3600" stAng="10800000" swAng="-5400000"/>
                  <a:lnTo>
                    <a:pt x="18000" y="154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lowchart: Decision 41"/>
            <p:cNvSpPr/>
            <p:nvPr/>
          </p:nvSpPr>
          <p:spPr>
            <a:xfrm>
              <a:off x="1201680" y="2492280"/>
              <a:ext cx="222120" cy="28069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Box 43"/>
            <p:cNvSpPr/>
            <p:nvPr/>
          </p:nvSpPr>
          <p:spPr>
            <a:xfrm rot="16200000">
              <a:off x="1362600" y="3771720"/>
              <a:ext cx="8830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TextBox 15"/>
          <p:cNvSpPr/>
          <p:nvPr/>
        </p:nvSpPr>
        <p:spPr>
          <a:xfrm>
            <a:off x="3733920" y="2286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livering the S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9"/>
          <p:cNvSpPr/>
          <p:nvPr/>
        </p:nvSpPr>
        <p:spPr>
          <a:xfrm>
            <a:off x="5410080" y="129528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P SEVEN – Allow the plunger to return h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ounded Rectangle 29"/>
          <p:cNvSpPr/>
          <p:nvPr/>
        </p:nvSpPr>
        <p:spPr>
          <a:xfrm>
            <a:off x="434340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17"/>
          <p:cNvGrpSpPr/>
          <p:nvPr/>
        </p:nvGrpSpPr>
        <p:grpSpPr>
          <a:xfrm>
            <a:off x="4222440" y="1523520"/>
            <a:ext cx="577800" cy="3124440"/>
            <a:chOff x="4222440" y="1523520"/>
            <a:chExt cx="577800" cy="3124440"/>
          </a:xfrm>
        </p:grpSpPr>
        <p:sp>
          <p:nvSpPr>
            <p:cNvPr id="474" name="Trapezoid 33"/>
            <p:cNvSpPr/>
            <p:nvPr/>
          </p:nvSpPr>
          <p:spPr>
            <a:xfrm rot="10800000">
              <a:off x="4222440" y="1523520"/>
              <a:ext cx="577800" cy="641160"/>
            </a:xfrm>
            <a:custGeom>
              <a:avLst/>
              <a:gdLst>
                <a:gd name="textAreaLeft" fmla="*/ 96120 w 577800"/>
                <a:gd name="textAreaRight" fmla="*/ 481680 w 577800"/>
                <a:gd name="textAreaTop" fmla="*/ 106920 h 641160"/>
                <a:gd name="textAreaBottom" fmla="*/ 641160 h 641160"/>
              </a:gdLst>
              <a:ahLst/>
              <a:rect l="textAreaLeft" t="textAreaTop" r="textAreaRight" b="textAreaBottom"/>
              <a:pathLst>
                <a:path w="578380" h="641350">
                  <a:moveTo>
                    <a:pt x="0" y="641350"/>
                  </a:moveTo>
                  <a:lnTo>
                    <a:pt x="144595" y="0"/>
                  </a:lnTo>
                  <a:lnTo>
                    <a:pt x="433785" y="0"/>
                  </a:lnTo>
                  <a:lnTo>
                    <a:pt x="578380" y="64135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rapezoid 42"/>
            <p:cNvSpPr/>
            <p:nvPr/>
          </p:nvSpPr>
          <p:spPr>
            <a:xfrm rot="10800000">
              <a:off x="4451040" y="3581640"/>
              <a:ext cx="144360" cy="257040"/>
            </a:xfrm>
            <a:custGeom>
              <a:avLst/>
              <a:gdLst>
                <a:gd name="textAreaLeft" fmla="*/ 23760 w 144360"/>
                <a:gd name="textAreaRight" fmla="*/ 120600 w 144360"/>
                <a:gd name="textAreaTop" fmla="*/ 4284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44596" h="257175">
                  <a:moveTo>
                    <a:pt x="0" y="257175"/>
                  </a:moveTo>
                  <a:lnTo>
                    <a:pt x="36149" y="0"/>
                  </a:lnTo>
                  <a:lnTo>
                    <a:pt x="108447" y="0"/>
                  </a:lnTo>
                  <a:lnTo>
                    <a:pt x="144596" y="257175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rapezoid 44"/>
            <p:cNvSpPr/>
            <p:nvPr/>
          </p:nvSpPr>
          <p:spPr>
            <a:xfrm rot="10800000">
              <a:off x="4374720" y="2057040"/>
              <a:ext cx="289080" cy="1603440"/>
            </a:xfrm>
            <a:custGeom>
              <a:avLst/>
              <a:gdLst>
                <a:gd name="textAreaLeft" fmla="*/ 37440 w 289080"/>
                <a:gd name="textAreaRight" fmla="*/ 251640 w 289080"/>
                <a:gd name="textAreaTop" fmla="*/ 207720 h 1603440"/>
                <a:gd name="textAreaBottom" fmla="*/ 1603800 h 1603440"/>
              </a:gdLst>
              <a:ahLst/>
              <a:rect l="textAreaLeft" t="textAreaTop" r="textAreaRight" b="textAreaBottom"/>
              <a:pathLst>
                <a:path w="289190" h="1603375">
                  <a:moveTo>
                    <a:pt x="0" y="1603375"/>
                  </a:moveTo>
                  <a:lnTo>
                    <a:pt x="56230" y="0"/>
                  </a:lnTo>
                  <a:lnTo>
                    <a:pt x="232960" y="0"/>
                  </a:lnTo>
                  <a:lnTo>
                    <a:pt x="289190" y="1603375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rapezoid 45"/>
            <p:cNvSpPr/>
            <p:nvPr/>
          </p:nvSpPr>
          <p:spPr>
            <a:xfrm rot="10800000">
              <a:off x="4374720" y="3428640"/>
              <a:ext cx="304920" cy="1219320"/>
            </a:xfrm>
            <a:custGeom>
              <a:avLst/>
              <a:gdLst>
                <a:gd name="textAreaLeft" fmla="*/ 83160 w 304920"/>
                <a:gd name="textAreaRight" fmla="*/ 221760 w 304920"/>
                <a:gd name="textAreaTop" fmla="*/ 33336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305080" h="1219200">
                  <a:moveTo>
                    <a:pt x="0" y="1219200"/>
                  </a:moveTo>
                  <a:lnTo>
                    <a:pt x="125083" y="0"/>
                  </a:lnTo>
                  <a:lnTo>
                    <a:pt x="179997" y="0"/>
                  </a:lnTo>
                  <a:lnTo>
                    <a:pt x="305080" y="1219200"/>
                  </a:lnTo>
                  <a:close/>
                </a:path>
              </a:pathLst>
            </a:cu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Rounded Rectangle 30"/>
          <p:cNvSpPr/>
          <p:nvPr/>
        </p:nvSpPr>
        <p:spPr>
          <a:xfrm>
            <a:off x="4952880" y="487692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ounded Rectangle 31"/>
          <p:cNvSpPr/>
          <p:nvPr/>
        </p:nvSpPr>
        <p:spPr>
          <a:xfrm>
            <a:off x="556272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ounded Rectangle 32"/>
          <p:cNvSpPr/>
          <p:nvPr/>
        </p:nvSpPr>
        <p:spPr>
          <a:xfrm>
            <a:off x="617220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ounded Rectangle 46"/>
          <p:cNvSpPr/>
          <p:nvPr/>
        </p:nvSpPr>
        <p:spPr>
          <a:xfrm>
            <a:off x="6781680" y="487692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ounded Rectangle 55"/>
          <p:cNvSpPr/>
          <p:nvPr/>
        </p:nvSpPr>
        <p:spPr>
          <a:xfrm>
            <a:off x="4343400" y="5029200"/>
            <a:ext cx="380880" cy="3049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Can 47"/>
          <p:cNvSpPr/>
          <p:nvPr/>
        </p:nvSpPr>
        <p:spPr>
          <a:xfrm rot="10800000">
            <a:off x="1371240" y="1981080"/>
            <a:ext cx="779400" cy="330480"/>
          </a:xfrm>
          <a:prstGeom prst="can">
            <a:avLst>
              <a:gd name="adj" fmla="val 25000"/>
            </a:avLst>
          </a:prstGeom>
          <a:solidFill>
            <a:srgbClr val="f79646">
              <a:alpha val="25000"/>
            </a:srgbClr>
          </a:solidFill>
          <a:ln w="25560">
            <a:solidFill>
              <a:srgbClr val="385d8a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51"/>
          <p:cNvGrpSpPr/>
          <p:nvPr/>
        </p:nvGrpSpPr>
        <p:grpSpPr>
          <a:xfrm>
            <a:off x="2286000" y="1294920"/>
            <a:ext cx="1800" cy="990720"/>
            <a:chOff x="2286000" y="1294920"/>
            <a:chExt cx="1800" cy="990720"/>
          </a:xfrm>
        </p:grpSpPr>
        <p:cxnSp>
          <p:nvCxnSpPr>
            <p:cNvPr id="485" name="Straight Arrow Connector 49"/>
            <p:cNvCxnSpPr/>
            <p:nvPr/>
          </p:nvCxnSpPr>
          <p:spPr>
            <a:xfrm flipV="1">
              <a:off x="2286000" y="1294920"/>
              <a:ext cx="2160" cy="610560"/>
            </a:xfrm>
            <a:prstGeom prst="straightConnector1">
              <a:avLst/>
            </a:prstGeom>
            <a:ln w="4752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86" name="Straight Arrow Connector 50"/>
            <p:cNvCxnSpPr/>
            <p:nvPr/>
          </p:nvCxnSpPr>
          <p:spPr>
            <a:xfrm flipV="1">
              <a:off x="2286000" y="1979280"/>
              <a:ext cx="2160" cy="306720"/>
            </a:xfrm>
            <a:prstGeom prst="straightConnector1">
              <a:avLst/>
            </a:prstGeom>
            <a:ln w="4752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487" name="Rectangle 28"/>
          <p:cNvSpPr/>
          <p:nvPr/>
        </p:nvSpPr>
        <p:spPr>
          <a:xfrm>
            <a:off x="259920" y="6172200"/>
            <a:ext cx="48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EEP the pipette VERTICAL at a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Group 16"/>
          <p:cNvGrpSpPr/>
          <p:nvPr/>
        </p:nvGrpSpPr>
        <p:grpSpPr>
          <a:xfrm>
            <a:off x="533520" y="1294920"/>
            <a:ext cx="2269440" cy="4169160"/>
            <a:chOff x="533520" y="1294920"/>
            <a:chExt cx="2269440" cy="4169160"/>
          </a:xfrm>
        </p:grpSpPr>
        <p:sp>
          <p:nvSpPr>
            <p:cNvPr id="489" name="Can 34"/>
            <p:cNvSpPr/>
            <p:nvPr/>
          </p:nvSpPr>
          <p:spPr>
            <a:xfrm rot="10800000">
              <a:off x="1371240" y="1294920"/>
              <a:ext cx="779400" cy="33012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Can 35"/>
            <p:cNvSpPr/>
            <p:nvPr/>
          </p:nvSpPr>
          <p:spPr>
            <a:xfrm flipV="1">
              <a:off x="1600200" y="1523160"/>
              <a:ext cx="304560" cy="990360"/>
            </a:xfrm>
            <a:prstGeom prst="can">
              <a:avLst>
                <a:gd name="adj" fmla="val 6435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Block Arc 36"/>
            <p:cNvSpPr/>
            <p:nvPr/>
          </p:nvSpPr>
          <p:spPr>
            <a:xfrm>
              <a:off x="533520" y="2327040"/>
              <a:ext cx="1001880" cy="660240"/>
            </a:xfrm>
            <a:custGeom>
              <a:avLst/>
              <a:gdLst>
                <a:gd name="textAreaLeft" fmla="*/ 0 w 1001880"/>
                <a:gd name="textAreaRight" fmla="*/ 889920 w 1001880"/>
                <a:gd name="textAreaTop" fmla="*/ 0 h 660240"/>
                <a:gd name="textAreaBottom" fmla="*/ 345240 h 660240"/>
              </a:gdLst>
              <a:ahLst/>
              <a:rect l="textAreaLeft" t="textAreaTop" r="textAreaRight" b="textAreaBottom"/>
              <a:pathLst>
                <a:path w="650665" h="512835">
                  <a:moveTo>
                    <a:pt x="340" y="268129"/>
                  </a:moveTo>
                  <a:lnTo>
                    <a:pt x="339" y="268129"/>
                  </a:lnTo>
                  <a:arcTo wR="325333" hR="256418" stAng="10676176" swAng="8966665"/>
                  <a:lnTo>
                    <a:pt x="492591" y="149372"/>
                  </a:lnTo>
                  <a:lnTo>
                    <a:pt x="492591" y="149372"/>
                  </a:lnTo>
                  <a:arcTo wR="227135" hR="158220" stAng="-1957158" swAng="-896667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Diagonal Stripe 37"/>
            <p:cNvSpPr/>
            <p:nvPr/>
          </p:nvSpPr>
          <p:spPr>
            <a:xfrm rot="13935600">
              <a:off x="2235240" y="2302920"/>
              <a:ext cx="474480" cy="468360"/>
            </a:xfrm>
            <a:custGeom>
              <a:avLst/>
              <a:gdLst>
                <a:gd name="textAreaLeft" fmla="*/ 0 w 474480"/>
                <a:gd name="textAreaRight" fmla="*/ 387720 w 474480"/>
                <a:gd name="textAreaTop" fmla="*/ 0 h 468360"/>
                <a:gd name="textAreaBottom" fmla="*/ 382680 h 468360"/>
              </a:gdLst>
              <a:ahLst/>
              <a:rect l="textAreaLeft" t="textAreaTop" r="textAreaRight" b="textAreaBottom"/>
              <a:pathLst>
                <a:path w="368600" h="304194">
                  <a:moveTo>
                    <a:pt x="0" y="192655"/>
                  </a:moveTo>
                  <a:lnTo>
                    <a:pt x="233445" y="0"/>
                  </a:lnTo>
                  <a:lnTo>
                    <a:pt x="368600" y="0"/>
                  </a:lnTo>
                  <a:lnTo>
                    <a:pt x="0" y="304194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ounded Rectangle 38"/>
            <p:cNvSpPr/>
            <p:nvPr/>
          </p:nvSpPr>
          <p:spPr>
            <a:xfrm flipH="1">
              <a:off x="2092680" y="2574720"/>
              <a:ext cx="333360" cy="5778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577800"/>
                <a:gd name="textAreaBottom" fmla="*/ 561600 h 577800"/>
              </a:gdLst>
              <a:ahLst/>
              <a:rect l="textAreaLeft" t="textAreaTop" r="textAreaRight" b="textAreaBottom"/>
              <a:pathLst>
                <a:path w="21600" h="37421">
                  <a:moveTo>
                    <a:pt x="3600" y="0"/>
                  </a:moveTo>
                  <a:arcTo wR="3600" hR="3600" stAng="16200000" swAng="-5400000"/>
                  <a:lnTo>
                    <a:pt x="0" y="33821"/>
                  </a:lnTo>
                  <a:arcTo wR="3600" hR="3600" stAng="10800000" swAng="-5400000"/>
                  <a:lnTo>
                    <a:pt x="18000" y="374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ounded Rectangle 39"/>
            <p:cNvSpPr/>
            <p:nvPr/>
          </p:nvSpPr>
          <p:spPr>
            <a:xfrm>
              <a:off x="1312920" y="2327040"/>
              <a:ext cx="890640" cy="3137040"/>
            </a:xfrm>
            <a:custGeom>
              <a:avLst/>
              <a:gdLst>
                <a:gd name="textAreaLeft" fmla="*/ 43200 w 890640"/>
                <a:gd name="textAreaRight" fmla="*/ 847440 w 890640"/>
                <a:gd name="textAreaTop" fmla="*/ 43200 h 3137040"/>
                <a:gd name="textAreaBottom" fmla="*/ 3093840 h 3137040"/>
              </a:gdLst>
              <a:ahLst/>
              <a:rect l="textAreaLeft" t="textAreaTop" r="textAreaRight" b="textAreaBottom"/>
              <a:pathLst>
                <a:path w="21600" h="76058">
                  <a:moveTo>
                    <a:pt x="3600" y="0"/>
                  </a:moveTo>
                  <a:arcTo wR="3600" hR="3600" stAng="16200000" swAng="-5400000"/>
                  <a:lnTo>
                    <a:pt x="0" y="72458"/>
                  </a:lnTo>
                  <a:arcTo wR="3600" hR="3600" stAng="10800000" swAng="-5400000"/>
                  <a:lnTo>
                    <a:pt x="18000" y="760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ounded Rectangle 40"/>
            <p:cNvSpPr/>
            <p:nvPr/>
          </p:nvSpPr>
          <p:spPr>
            <a:xfrm>
              <a:off x="2203560" y="2987640"/>
              <a:ext cx="333360" cy="23940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2394000"/>
                <a:gd name="textAreaBottom" fmla="*/ 2377800 h 2394000"/>
              </a:gdLst>
              <a:ahLst/>
              <a:rect l="textAreaLeft" t="textAreaTop" r="textAreaRight" b="textAreaBottom"/>
              <a:pathLst>
                <a:path w="21600" h="154975">
                  <a:moveTo>
                    <a:pt x="3600" y="0"/>
                  </a:moveTo>
                  <a:arcTo wR="3600" hR="3600" stAng="16200000" swAng="-5400000"/>
                  <a:lnTo>
                    <a:pt x="0" y="151375"/>
                  </a:lnTo>
                  <a:arcTo wR="3600" hR="3600" stAng="10800000" swAng="-5400000"/>
                  <a:lnTo>
                    <a:pt x="18000" y="154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lowchart: Decision 41"/>
            <p:cNvSpPr/>
            <p:nvPr/>
          </p:nvSpPr>
          <p:spPr>
            <a:xfrm>
              <a:off x="1201680" y="2492280"/>
              <a:ext cx="222120" cy="28069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Box 43"/>
            <p:cNvSpPr/>
            <p:nvPr/>
          </p:nvSpPr>
          <p:spPr>
            <a:xfrm rot="16200000">
              <a:off x="1362600" y="3771720"/>
              <a:ext cx="8830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TextBox 15"/>
          <p:cNvSpPr/>
          <p:nvPr/>
        </p:nvSpPr>
        <p:spPr>
          <a:xfrm>
            <a:off x="3733920" y="2286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scarding the T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19"/>
          <p:cNvSpPr/>
          <p:nvPr/>
        </p:nvSpPr>
        <p:spPr>
          <a:xfrm>
            <a:off x="5410080" y="1295280"/>
            <a:ext cx="32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P EIGHT – Place tip into the opening of the waste container, then depress the tip ejecto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Group 17"/>
          <p:cNvGrpSpPr/>
          <p:nvPr/>
        </p:nvGrpSpPr>
        <p:grpSpPr>
          <a:xfrm>
            <a:off x="4266720" y="990360"/>
            <a:ext cx="577800" cy="3124440"/>
            <a:chOff x="4266720" y="990360"/>
            <a:chExt cx="577800" cy="3124440"/>
          </a:xfrm>
        </p:grpSpPr>
        <p:sp>
          <p:nvSpPr>
            <p:cNvPr id="501" name="Trapezoid 33"/>
            <p:cNvSpPr/>
            <p:nvPr/>
          </p:nvSpPr>
          <p:spPr>
            <a:xfrm rot="10800000">
              <a:off x="4266720" y="990360"/>
              <a:ext cx="577800" cy="641160"/>
            </a:xfrm>
            <a:custGeom>
              <a:avLst/>
              <a:gdLst>
                <a:gd name="textAreaLeft" fmla="*/ 96120 w 577800"/>
                <a:gd name="textAreaRight" fmla="*/ 481680 w 577800"/>
                <a:gd name="textAreaTop" fmla="*/ 106920 h 641160"/>
                <a:gd name="textAreaBottom" fmla="*/ 641160 h 641160"/>
              </a:gdLst>
              <a:ahLst/>
              <a:rect l="textAreaLeft" t="textAreaTop" r="textAreaRight" b="textAreaBottom"/>
              <a:pathLst>
                <a:path w="578380" h="641350">
                  <a:moveTo>
                    <a:pt x="0" y="641350"/>
                  </a:moveTo>
                  <a:lnTo>
                    <a:pt x="144595" y="0"/>
                  </a:lnTo>
                  <a:lnTo>
                    <a:pt x="433785" y="0"/>
                  </a:lnTo>
                  <a:lnTo>
                    <a:pt x="578380" y="64135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rapezoid 42"/>
            <p:cNvSpPr/>
            <p:nvPr/>
          </p:nvSpPr>
          <p:spPr>
            <a:xfrm rot="10800000">
              <a:off x="4495320" y="3048120"/>
              <a:ext cx="144360" cy="257040"/>
            </a:xfrm>
            <a:custGeom>
              <a:avLst/>
              <a:gdLst>
                <a:gd name="textAreaLeft" fmla="*/ 23760 w 144360"/>
                <a:gd name="textAreaRight" fmla="*/ 120600 w 144360"/>
                <a:gd name="textAreaTop" fmla="*/ 4284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44596" h="257175">
                  <a:moveTo>
                    <a:pt x="0" y="257175"/>
                  </a:moveTo>
                  <a:lnTo>
                    <a:pt x="36149" y="0"/>
                  </a:lnTo>
                  <a:lnTo>
                    <a:pt x="108447" y="0"/>
                  </a:lnTo>
                  <a:lnTo>
                    <a:pt x="144596" y="257175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rapezoid 44"/>
            <p:cNvSpPr/>
            <p:nvPr/>
          </p:nvSpPr>
          <p:spPr>
            <a:xfrm rot="10800000">
              <a:off x="4419000" y="1523880"/>
              <a:ext cx="289080" cy="1603440"/>
            </a:xfrm>
            <a:custGeom>
              <a:avLst/>
              <a:gdLst>
                <a:gd name="textAreaLeft" fmla="*/ 37440 w 289080"/>
                <a:gd name="textAreaRight" fmla="*/ 251640 w 289080"/>
                <a:gd name="textAreaTop" fmla="*/ 207720 h 1603440"/>
                <a:gd name="textAreaBottom" fmla="*/ 1603800 h 1603440"/>
              </a:gdLst>
              <a:ahLst/>
              <a:rect l="textAreaLeft" t="textAreaTop" r="textAreaRight" b="textAreaBottom"/>
              <a:pathLst>
                <a:path w="289190" h="1603375">
                  <a:moveTo>
                    <a:pt x="0" y="1603375"/>
                  </a:moveTo>
                  <a:lnTo>
                    <a:pt x="56230" y="0"/>
                  </a:lnTo>
                  <a:lnTo>
                    <a:pt x="232960" y="0"/>
                  </a:lnTo>
                  <a:lnTo>
                    <a:pt x="289190" y="1603375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rapezoid 45"/>
            <p:cNvSpPr/>
            <p:nvPr/>
          </p:nvSpPr>
          <p:spPr>
            <a:xfrm rot="10800000">
              <a:off x="4419000" y="2895840"/>
              <a:ext cx="304920" cy="1218960"/>
            </a:xfrm>
            <a:custGeom>
              <a:avLst/>
              <a:gdLst>
                <a:gd name="textAreaLeft" fmla="*/ 83160 w 304920"/>
                <a:gd name="textAreaRight" fmla="*/ 221760 w 304920"/>
                <a:gd name="textAreaTop" fmla="*/ 33300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305080" h="1219200">
                  <a:moveTo>
                    <a:pt x="0" y="1219200"/>
                  </a:moveTo>
                  <a:lnTo>
                    <a:pt x="125083" y="0"/>
                  </a:lnTo>
                  <a:lnTo>
                    <a:pt x="179997" y="0"/>
                  </a:lnTo>
                  <a:lnTo>
                    <a:pt x="305080" y="1219200"/>
                  </a:lnTo>
                  <a:close/>
                </a:path>
              </a:pathLst>
            </a:cu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Can 48"/>
          <p:cNvSpPr/>
          <p:nvPr/>
        </p:nvSpPr>
        <p:spPr>
          <a:xfrm>
            <a:off x="3429000" y="2666880"/>
            <a:ext cx="2438280" cy="3124440"/>
          </a:xfrm>
          <a:prstGeom prst="can">
            <a:avLst>
              <a:gd name="adj" fmla="val 19513"/>
            </a:avLst>
          </a:prstGeom>
          <a:solidFill>
            <a:srgbClr val="d9d9d9">
              <a:alpha val="27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Straight Arrow Connector 51"/>
          <p:cNvCxnSpPr/>
          <p:nvPr/>
        </p:nvCxnSpPr>
        <p:spPr>
          <a:xfrm flipH="1">
            <a:off x="2590560" y="1981080"/>
            <a:ext cx="2160" cy="532800"/>
          </a:xfrm>
          <a:prstGeom prst="straightConnector1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07" name="TextBox 53"/>
          <p:cNvSpPr/>
          <p:nvPr/>
        </p:nvSpPr>
        <p:spPr>
          <a:xfrm>
            <a:off x="3809880" y="4572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54"/>
          <p:cNvSpPr/>
          <p:nvPr/>
        </p:nvSpPr>
        <p:spPr>
          <a:xfrm>
            <a:off x="2438280" y="1600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p Ej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9" name="Straight Arrow Connector 56"/>
          <p:cNvCxnSpPr/>
          <p:nvPr/>
        </p:nvCxnSpPr>
        <p:spPr>
          <a:xfrm flipH="1">
            <a:off x="4723560" y="3733560"/>
            <a:ext cx="2520" cy="532440"/>
          </a:xfrm>
          <a:prstGeom prst="straightConnector1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10" name="TextBox 19"/>
          <p:cNvSpPr/>
          <p:nvPr/>
        </p:nvSpPr>
        <p:spPr>
          <a:xfrm>
            <a:off x="6324480" y="26352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Be sure to use a new tip each ti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8"/>
          <p:cNvSpPr/>
          <p:nvPr/>
        </p:nvSpPr>
        <p:spPr>
          <a:xfrm>
            <a:off x="259920" y="6172200"/>
            <a:ext cx="48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EEP the pipette VERTICAL at a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Box 15"/>
          <p:cNvSpPr/>
          <p:nvPr/>
        </p:nvSpPr>
        <p:spPr>
          <a:xfrm>
            <a:off x="3733920" y="2286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ngs to AVOID 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24"/>
          <p:cNvGrpSpPr/>
          <p:nvPr/>
        </p:nvGrpSpPr>
        <p:grpSpPr>
          <a:xfrm>
            <a:off x="826560" y="1995480"/>
            <a:ext cx="3763440" cy="1184040"/>
            <a:chOff x="826560" y="1995480"/>
            <a:chExt cx="3763440" cy="1184040"/>
          </a:xfrm>
        </p:grpSpPr>
        <p:sp>
          <p:nvSpPr>
            <p:cNvPr id="514" name="Trapezoid 25"/>
            <p:cNvSpPr/>
            <p:nvPr/>
          </p:nvSpPr>
          <p:spPr>
            <a:xfrm rot="16981200">
              <a:off x="2103120" y="2152440"/>
              <a:ext cx="359640" cy="465480"/>
            </a:xfrm>
            <a:custGeom>
              <a:avLst/>
              <a:gdLst>
                <a:gd name="textAreaLeft" fmla="*/ 59760 w 359640"/>
                <a:gd name="textAreaRight" fmla="*/ 299880 w 359640"/>
                <a:gd name="textAreaTop" fmla="*/ 77400 h 465480"/>
                <a:gd name="textAreaBottom" fmla="*/ 465840 h 465480"/>
              </a:gdLst>
              <a:ahLst/>
              <a:rect l="textAreaLeft" t="textAreaTop" r="textAreaRight" b="textAreaBottom"/>
              <a:pathLst>
                <a:path w="609647" h="762825">
                  <a:moveTo>
                    <a:pt x="0" y="762825"/>
                  </a:moveTo>
                  <a:lnTo>
                    <a:pt x="152412" y="0"/>
                  </a:lnTo>
                  <a:lnTo>
                    <a:pt x="457235" y="0"/>
                  </a:lnTo>
                  <a:lnTo>
                    <a:pt x="609647" y="762825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Can 27"/>
            <p:cNvSpPr/>
            <p:nvPr/>
          </p:nvSpPr>
          <p:spPr>
            <a:xfrm rot="16981200">
              <a:off x="4306320" y="2773440"/>
              <a:ext cx="315000" cy="18576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Can 28"/>
            <p:cNvSpPr/>
            <p:nvPr/>
          </p:nvSpPr>
          <p:spPr>
            <a:xfrm flipV="1" rot="6180600">
              <a:off x="4213440" y="2688480"/>
              <a:ext cx="134640" cy="277920"/>
            </a:xfrm>
            <a:prstGeom prst="can">
              <a:avLst>
                <a:gd name="adj" fmla="val 12527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Block Arc 29"/>
            <p:cNvSpPr/>
            <p:nvPr/>
          </p:nvSpPr>
          <p:spPr>
            <a:xfrm rot="6181200">
              <a:off x="3888720" y="2268720"/>
              <a:ext cx="403920" cy="371880"/>
            </a:xfrm>
            <a:custGeom>
              <a:avLst/>
              <a:gdLst>
                <a:gd name="textAreaLeft" fmla="*/ 0 w 403920"/>
                <a:gd name="textAreaRight" fmla="*/ 366120 w 403920"/>
                <a:gd name="textAreaTop" fmla="*/ 0 h 371880"/>
                <a:gd name="textAreaBottom" fmla="*/ 193320 h 371880"/>
              </a:gdLst>
              <a:ahLst/>
              <a:rect l="textAreaLeft" t="textAreaTop" r="textAreaRight" b="textAreaBottom"/>
              <a:pathLst>
                <a:path w="684848" h="609219">
                  <a:moveTo>
                    <a:pt x="281" y="316939"/>
                  </a:moveTo>
                  <a:lnTo>
                    <a:pt x="281" y="316939"/>
                  </a:lnTo>
                  <a:arcTo wR="342424" hR="304610" stAng="10676176" swAng="8966667"/>
                  <a:lnTo>
                    <a:pt x="521416" y="190054"/>
                  </a:lnTo>
                  <a:lnTo>
                    <a:pt x="521416" y="190054"/>
                  </a:lnTo>
                  <a:arcTo wR="225771" hR="187956" stAng="-1957156" swAng="-8966669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Diagonal Stripe 30"/>
            <p:cNvSpPr/>
            <p:nvPr/>
          </p:nvSpPr>
          <p:spPr>
            <a:xfrm rot="20116800">
              <a:off x="3890160" y="2944080"/>
              <a:ext cx="266760" cy="188280"/>
            </a:xfrm>
            <a:custGeom>
              <a:avLst/>
              <a:gdLst>
                <a:gd name="textAreaLeft" fmla="*/ 0 w 266760"/>
                <a:gd name="textAreaRight" fmla="*/ 217800 w 266760"/>
                <a:gd name="textAreaTop" fmla="*/ 0 h 188280"/>
                <a:gd name="textAreaBottom" fmla="*/ 153720 h 188280"/>
              </a:gdLst>
              <a:ahLst/>
              <a:rect l="textAreaLeft" t="textAreaTop" r="textAreaRight" b="textAreaBottom"/>
              <a:pathLst>
                <a:path w="437388" h="319596">
                  <a:moveTo>
                    <a:pt x="0" y="202410"/>
                  </a:moveTo>
                  <a:lnTo>
                    <a:pt x="277011" y="0"/>
                  </a:lnTo>
                  <a:lnTo>
                    <a:pt x="437388" y="0"/>
                  </a:lnTo>
                  <a:lnTo>
                    <a:pt x="0" y="319596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ounded Rectangle 31"/>
            <p:cNvSpPr/>
            <p:nvPr/>
          </p:nvSpPr>
          <p:spPr>
            <a:xfrm flipH="1" rot="6180600">
              <a:off x="3787560" y="2747880"/>
              <a:ext cx="134640" cy="325800"/>
            </a:xfrm>
            <a:custGeom>
              <a:avLst/>
              <a:gdLst>
                <a:gd name="textAreaLeft" fmla="*/ 6480 w 134640"/>
                <a:gd name="textAreaRight" fmla="*/ 128160 w 134640"/>
                <a:gd name="textAreaTop" fmla="*/ 6480 h 325800"/>
                <a:gd name="textAreaBottom" fmla="*/ 319320 h 325800"/>
              </a:gdLst>
              <a:ahLst/>
              <a:rect l="textAreaLeft" t="textAreaTop" r="textAreaRight" b="textAreaBottom"/>
              <a:pathLst>
                <a:path w="21600" h="52186">
                  <a:moveTo>
                    <a:pt x="3600" y="0"/>
                  </a:moveTo>
                  <a:arcTo wR="3600" hR="3600" stAng="16200000" swAng="-5400000"/>
                  <a:lnTo>
                    <a:pt x="0" y="48586"/>
                  </a:lnTo>
                  <a:arcTo wR="3600" hR="3600" stAng="10800000" swAng="-5400000"/>
                  <a:lnTo>
                    <a:pt x="18000" y="521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ounded Rectangle 32"/>
            <p:cNvSpPr/>
            <p:nvPr/>
          </p:nvSpPr>
          <p:spPr>
            <a:xfrm rot="6181200">
              <a:off x="3165840" y="1705320"/>
              <a:ext cx="359640" cy="1767600"/>
            </a:xfrm>
            <a:custGeom>
              <a:avLst/>
              <a:gdLst>
                <a:gd name="textAreaLeft" fmla="*/ 17280 w 359640"/>
                <a:gd name="textAreaRight" fmla="*/ 342360 w 359640"/>
                <a:gd name="textAreaTop" fmla="*/ 17280 h 1767600"/>
                <a:gd name="textAreaBottom" fmla="*/ 1750320 h 1767600"/>
              </a:gdLst>
              <a:ahLst/>
              <a:rect l="textAreaLeft" t="textAreaTop" r="textAreaRight" b="textAreaBottom"/>
              <a:pathLst>
                <a:path w="21600" h="106078">
                  <a:moveTo>
                    <a:pt x="3600" y="0"/>
                  </a:moveTo>
                  <a:arcTo wR="3600" hR="3600" stAng="16200000" swAng="-5400000"/>
                  <a:lnTo>
                    <a:pt x="0" y="102478"/>
                  </a:lnTo>
                  <a:arcTo wR="3600" hR="3600" stAng="10800000" swAng="-5400000"/>
                  <a:lnTo>
                    <a:pt x="18000" y="10607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ounded Rectangle 46"/>
            <p:cNvSpPr/>
            <p:nvPr/>
          </p:nvSpPr>
          <p:spPr>
            <a:xfrm rot="6181200">
              <a:off x="3053880" y="2113920"/>
              <a:ext cx="134640" cy="1349280"/>
            </a:xfrm>
            <a:custGeom>
              <a:avLst/>
              <a:gdLst>
                <a:gd name="textAreaLeft" fmla="*/ 6480 w 134640"/>
                <a:gd name="textAreaRight" fmla="*/ 128160 w 134640"/>
                <a:gd name="textAreaTop" fmla="*/ 6480 h 1349280"/>
                <a:gd name="textAreaBottom" fmla="*/ 1342800 h 1349280"/>
              </a:gdLst>
              <a:ahLst/>
              <a:rect l="textAreaLeft" t="textAreaTop" r="textAreaRight" b="textAreaBottom"/>
              <a:pathLst>
                <a:path w="21600" h="215942">
                  <a:moveTo>
                    <a:pt x="3600" y="0"/>
                  </a:moveTo>
                  <a:arcTo wR="3600" hR="3600" stAng="16200000" swAng="-5400000"/>
                  <a:lnTo>
                    <a:pt x="0" y="212342"/>
                  </a:lnTo>
                  <a:arcTo wR="3600" hR="3600" stAng="10800000" swAng="-5400000"/>
                  <a:lnTo>
                    <a:pt x="18000" y="2159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lowchart: Decision 47"/>
            <p:cNvSpPr/>
            <p:nvPr/>
          </p:nvSpPr>
          <p:spPr>
            <a:xfrm rot="6181200">
              <a:off x="3332880" y="1615680"/>
              <a:ext cx="90000" cy="158148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rapezoid 49"/>
            <p:cNvSpPr/>
            <p:nvPr/>
          </p:nvSpPr>
          <p:spPr>
            <a:xfrm rot="16981200">
              <a:off x="882000" y="1981080"/>
              <a:ext cx="90000" cy="185760"/>
            </a:xfrm>
            <a:custGeom>
              <a:avLst/>
              <a:gdLst>
                <a:gd name="textAreaLeft" fmla="*/ 14760 w 90000"/>
                <a:gd name="textAreaRight" fmla="*/ 75240 w 90000"/>
                <a:gd name="textAreaTop" fmla="*/ 3096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153084" h="304610">
                  <a:moveTo>
                    <a:pt x="0" y="304610"/>
                  </a:moveTo>
                  <a:lnTo>
                    <a:pt x="38271" y="0"/>
                  </a:lnTo>
                  <a:lnTo>
                    <a:pt x="114813" y="0"/>
                  </a:lnTo>
                  <a:lnTo>
                    <a:pt x="153084" y="304610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50"/>
            <p:cNvSpPr/>
            <p:nvPr/>
          </p:nvSpPr>
          <p:spPr>
            <a:xfrm rot="781200">
              <a:off x="3157560" y="2494800"/>
              <a:ext cx="46512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auhaus 93"/>
                </a:rPr>
                <a:t>27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rapezoid 52"/>
            <p:cNvSpPr/>
            <p:nvPr/>
          </p:nvSpPr>
          <p:spPr>
            <a:xfrm rot="16981200">
              <a:off x="1455120" y="1631520"/>
              <a:ext cx="178920" cy="1163520"/>
            </a:xfrm>
            <a:custGeom>
              <a:avLst/>
              <a:gdLst>
                <a:gd name="textAreaLeft" fmla="*/ 23040 w 178920"/>
                <a:gd name="textAreaRight" fmla="*/ 155880 w 178920"/>
                <a:gd name="textAreaTop" fmla="*/ 15084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303482" h="1905762">
                  <a:moveTo>
                    <a:pt x="0" y="1905762"/>
                  </a:moveTo>
                  <a:lnTo>
                    <a:pt x="59009" y="0"/>
                  </a:lnTo>
                  <a:lnTo>
                    <a:pt x="244473" y="0"/>
                  </a:lnTo>
                  <a:lnTo>
                    <a:pt x="303482" y="1905762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&quot;No&quot; Symbol 55"/>
          <p:cNvSpPr/>
          <p:nvPr/>
        </p:nvSpPr>
        <p:spPr>
          <a:xfrm>
            <a:off x="1954080" y="1712880"/>
            <a:ext cx="2286000" cy="2209680"/>
          </a:xfrm>
          <a:custGeom>
            <a:avLst/>
            <a:gdLst>
              <a:gd name="textAreaLeft" fmla="*/ 334800 w 2286000"/>
              <a:gd name="textAreaRight" fmla="*/ 1951200 w 2286000"/>
              <a:gd name="textAreaTop" fmla="*/ 323640 h 2209680"/>
              <a:gd name="textAreaBottom" fmla="*/ 1886040 h 2209680"/>
            </a:gdLst>
            <a:ahLst/>
            <a:rect l="textAreaLeft" t="textAreaTop" r="textAreaRight" b="textAreaBottom"/>
            <a:pathLst>
              <a:path w="2286000" h="2209800">
                <a:moveTo>
                  <a:pt x="0" y="1104900"/>
                </a:moveTo>
                <a:lnTo>
                  <a:pt x="0" y="1104900"/>
                </a:lnTo>
                <a:arcTo wR="1143000" hR="1104900" stAng="-10799997" swAng="5400003"/>
                <a:lnTo>
                  <a:pt x="1143002" y="1"/>
                </a:lnTo>
                <a:arcTo wR="1143000" hR="1104900" stAng="-5399997" swAng="5400003"/>
                <a:lnTo>
                  <a:pt x="2286001" y="1104903"/>
                </a:lnTo>
                <a:arcTo wR="1143000" hR="1104900" stAng="0" swAng="5400003"/>
                <a:lnTo>
                  <a:pt x="1143000" y="2209803"/>
                </a:lnTo>
                <a:arcTo wR="1143000" hR="1104900" stAng="5400003" swAng="5400000"/>
                <a:close/>
                <a:moveTo>
                  <a:pt x="1885016" y="1699288"/>
                </a:moveTo>
                <a:lnTo>
                  <a:pt x="1885016" y="1699288"/>
                </a:lnTo>
                <a:arcTo wR="966172" hR="928072" stAng="2321775" swAng="-10160077"/>
                <a:close/>
                <a:moveTo>
                  <a:pt x="400984" y="510512"/>
                </a:moveTo>
                <a:lnTo>
                  <a:pt x="400984" y="510512"/>
                </a:lnTo>
                <a:arcTo wR="966172" hR="928072" stAng="-8478228" swAng="-10160079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57"/>
          <p:cNvSpPr/>
          <p:nvPr/>
        </p:nvSpPr>
        <p:spPr>
          <a:xfrm>
            <a:off x="5181480" y="152388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ver use a pipette in anything but a vertical ori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Box 15"/>
          <p:cNvSpPr/>
          <p:nvPr/>
        </p:nvSpPr>
        <p:spPr>
          <a:xfrm>
            <a:off x="3733920" y="2286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ngs to AVOID 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24"/>
          <p:cNvGrpSpPr/>
          <p:nvPr/>
        </p:nvGrpSpPr>
        <p:grpSpPr>
          <a:xfrm>
            <a:off x="3657600" y="1371240"/>
            <a:ext cx="939600" cy="3670560"/>
            <a:chOff x="3657600" y="1371240"/>
            <a:chExt cx="939600" cy="3670560"/>
          </a:xfrm>
        </p:grpSpPr>
        <p:sp>
          <p:nvSpPr>
            <p:cNvPr id="530" name="Trapezoid 25"/>
            <p:cNvSpPr/>
            <p:nvPr/>
          </p:nvSpPr>
          <p:spPr>
            <a:xfrm rot="10800000">
              <a:off x="4017600" y="3462480"/>
              <a:ext cx="358920" cy="465120"/>
            </a:xfrm>
            <a:custGeom>
              <a:avLst/>
              <a:gdLst>
                <a:gd name="textAreaLeft" fmla="*/ 59760 w 358920"/>
                <a:gd name="textAreaRight" fmla="*/ 299160 w 358920"/>
                <a:gd name="textAreaTop" fmla="*/ 7740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608060" h="762889">
                  <a:moveTo>
                    <a:pt x="0" y="762889"/>
                  </a:moveTo>
                  <a:lnTo>
                    <a:pt x="152015" y="0"/>
                  </a:lnTo>
                  <a:lnTo>
                    <a:pt x="456045" y="0"/>
                  </a:lnTo>
                  <a:lnTo>
                    <a:pt x="608060" y="762889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Can 27"/>
            <p:cNvSpPr/>
            <p:nvPr/>
          </p:nvSpPr>
          <p:spPr>
            <a:xfrm rot="10800000">
              <a:off x="4017600" y="1371240"/>
              <a:ext cx="314280" cy="18540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Can 28"/>
            <p:cNvSpPr/>
            <p:nvPr/>
          </p:nvSpPr>
          <p:spPr>
            <a:xfrm flipV="1">
              <a:off x="4106880" y="1510560"/>
              <a:ext cx="135000" cy="277560"/>
            </a:xfrm>
            <a:prstGeom prst="can">
              <a:avLst>
                <a:gd name="adj" fmla="val 12546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Block Arc 29"/>
            <p:cNvSpPr/>
            <p:nvPr/>
          </p:nvSpPr>
          <p:spPr>
            <a:xfrm>
              <a:off x="3657600" y="1742760"/>
              <a:ext cx="405000" cy="371160"/>
            </a:xfrm>
            <a:custGeom>
              <a:avLst/>
              <a:gdLst>
                <a:gd name="textAreaLeft" fmla="*/ 0 w 405000"/>
                <a:gd name="textAreaRight" fmla="*/ 366840 w 405000"/>
                <a:gd name="textAreaTop" fmla="*/ 0 h 371160"/>
                <a:gd name="textAreaBottom" fmla="*/ 192960 h 371160"/>
              </a:gdLst>
              <a:ahLst/>
              <a:rect l="textAreaLeft" t="textAreaTop" r="textAreaRight" b="textAreaBottom"/>
              <a:pathLst>
                <a:path w="686086" h="609270">
                  <a:moveTo>
                    <a:pt x="282" y="316987"/>
                  </a:moveTo>
                  <a:lnTo>
                    <a:pt x="282" y="316987"/>
                  </a:lnTo>
                  <a:arcTo wR="343043" hR="304635" stAng="10676168" swAng="8966677"/>
                  <a:lnTo>
                    <a:pt x="522343" y="189882"/>
                  </a:lnTo>
                  <a:lnTo>
                    <a:pt x="522343" y="189882"/>
                  </a:lnTo>
                  <a:arcTo wR="226380" hR="187972" stAng="-1957159" swAng="-8966667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Diagonal Stripe 30"/>
            <p:cNvSpPr/>
            <p:nvPr/>
          </p:nvSpPr>
          <p:spPr>
            <a:xfrm rot="13935600">
              <a:off x="4307760" y="1767240"/>
              <a:ext cx="266400" cy="189000"/>
            </a:xfrm>
            <a:custGeom>
              <a:avLst/>
              <a:gdLst>
                <a:gd name="textAreaLeft" fmla="*/ 0 w 266400"/>
                <a:gd name="textAreaRight" fmla="*/ 217800 w 266400"/>
                <a:gd name="textAreaTop" fmla="*/ 0 h 189000"/>
                <a:gd name="textAreaBottom" fmla="*/ 154440 h 189000"/>
              </a:gdLst>
              <a:ahLst/>
              <a:rect l="textAreaLeft" t="textAreaTop" r="textAreaRight" b="textAreaBottom"/>
              <a:pathLst>
                <a:path w="437425" h="320174">
                  <a:moveTo>
                    <a:pt x="0" y="202776"/>
                  </a:moveTo>
                  <a:lnTo>
                    <a:pt x="277034" y="0"/>
                  </a:lnTo>
                  <a:lnTo>
                    <a:pt x="437425" y="0"/>
                  </a:lnTo>
                  <a:lnTo>
                    <a:pt x="0" y="320174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ounded Rectangle 31"/>
            <p:cNvSpPr/>
            <p:nvPr/>
          </p:nvSpPr>
          <p:spPr>
            <a:xfrm flipH="1">
              <a:off x="4287960" y="1882800"/>
              <a:ext cx="133200" cy="325440"/>
            </a:xfrm>
            <a:custGeom>
              <a:avLst/>
              <a:gdLst>
                <a:gd name="textAreaLeft" fmla="*/ 6480 w 133200"/>
                <a:gd name="textAreaRight" fmla="*/ 126720 w 133200"/>
                <a:gd name="textAreaTop" fmla="*/ 6480 h 325440"/>
                <a:gd name="textAreaBottom" fmla="*/ 318960 h 325440"/>
              </a:gdLst>
              <a:ahLst/>
              <a:rect l="textAreaLeft" t="textAreaTop" r="textAreaRight" b="textAreaBottom"/>
              <a:pathLst>
                <a:path w="21600" h="52690">
                  <a:moveTo>
                    <a:pt x="3600" y="0"/>
                  </a:moveTo>
                  <a:arcTo wR="3600" hR="3600" stAng="16200000" swAng="-5400000"/>
                  <a:lnTo>
                    <a:pt x="0" y="49090"/>
                  </a:lnTo>
                  <a:arcTo wR="3600" hR="3600" stAng="10800000" swAng="-5400000"/>
                  <a:lnTo>
                    <a:pt x="18000" y="526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ounded Rectangle 32"/>
            <p:cNvSpPr/>
            <p:nvPr/>
          </p:nvSpPr>
          <p:spPr>
            <a:xfrm>
              <a:off x="3971880" y="1742760"/>
              <a:ext cx="360360" cy="1765080"/>
            </a:xfrm>
            <a:custGeom>
              <a:avLst/>
              <a:gdLst>
                <a:gd name="textAreaLeft" fmla="*/ 17280 w 360360"/>
                <a:gd name="textAreaRight" fmla="*/ 343080 w 360360"/>
                <a:gd name="textAreaTop" fmla="*/ 17280 h 1765080"/>
                <a:gd name="textAreaBottom" fmla="*/ 1747800 h 1765080"/>
              </a:gdLst>
              <a:ahLst/>
              <a:rect l="textAreaLeft" t="textAreaTop" r="textAreaRight" b="textAreaBottom"/>
              <a:pathLst>
                <a:path w="21600" h="105715">
                  <a:moveTo>
                    <a:pt x="3600" y="0"/>
                  </a:moveTo>
                  <a:arcTo wR="3600" hR="3600" stAng="16200000" swAng="-5400000"/>
                  <a:lnTo>
                    <a:pt x="0" y="102115"/>
                  </a:lnTo>
                  <a:arcTo wR="3600" hR="3600" stAng="10800000" swAng="-5400000"/>
                  <a:lnTo>
                    <a:pt x="18000" y="1057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ounded Rectangle 46"/>
            <p:cNvSpPr/>
            <p:nvPr/>
          </p:nvSpPr>
          <p:spPr>
            <a:xfrm>
              <a:off x="4332600" y="2114280"/>
              <a:ext cx="135000" cy="1347840"/>
            </a:xfrm>
            <a:custGeom>
              <a:avLst/>
              <a:gdLst>
                <a:gd name="textAreaLeft" fmla="*/ 6480 w 135000"/>
                <a:gd name="textAreaRight" fmla="*/ 128520 w 135000"/>
                <a:gd name="textAreaTop" fmla="*/ 6480 h 1347840"/>
                <a:gd name="textAreaBottom" fmla="*/ 1341360 h 1347840"/>
              </a:gdLst>
              <a:ahLst/>
              <a:rect l="textAreaLeft" t="textAreaTop" r="textAreaRight" b="textAreaBottom"/>
              <a:pathLst>
                <a:path w="21600" h="215138">
                  <a:moveTo>
                    <a:pt x="3600" y="0"/>
                  </a:moveTo>
                  <a:arcTo wR="3600" hR="3600" stAng="16200000" swAng="-5400000"/>
                  <a:lnTo>
                    <a:pt x="0" y="211538"/>
                  </a:lnTo>
                  <a:arcTo wR="3600" hR="3600" stAng="10800000" swAng="-5400000"/>
                  <a:lnTo>
                    <a:pt x="18000" y="2151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lowchart: Decision 47"/>
            <p:cNvSpPr/>
            <p:nvPr/>
          </p:nvSpPr>
          <p:spPr>
            <a:xfrm>
              <a:off x="3927600" y="1836720"/>
              <a:ext cx="90360" cy="15793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Box 50"/>
            <p:cNvSpPr/>
            <p:nvPr/>
          </p:nvSpPr>
          <p:spPr>
            <a:xfrm rot="16200000">
              <a:off x="3939120" y="2456280"/>
              <a:ext cx="46440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auhaus 93"/>
                </a:rPr>
                <a:t>27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rapezoid 52"/>
            <p:cNvSpPr/>
            <p:nvPr/>
          </p:nvSpPr>
          <p:spPr>
            <a:xfrm rot="10800000">
              <a:off x="4106520" y="3879720"/>
              <a:ext cx="181080" cy="1162080"/>
            </a:xfrm>
            <a:custGeom>
              <a:avLst/>
              <a:gdLst>
                <a:gd name="textAreaLeft" fmla="*/ 23400 w 181080"/>
                <a:gd name="textAreaRight" fmla="*/ 157680 w 181080"/>
                <a:gd name="textAreaTop" fmla="*/ 150480 h 1162080"/>
                <a:gd name="textAreaBottom" fmla="*/ 1162440 h 1162080"/>
              </a:gdLst>
              <a:ahLst/>
              <a:rect l="textAreaLeft" t="textAreaTop" r="textAreaRight" b="textAreaBottom"/>
              <a:pathLst>
                <a:path w="306720" h="1905923">
                  <a:moveTo>
                    <a:pt x="0" y="1905923"/>
                  </a:moveTo>
                  <a:lnTo>
                    <a:pt x="59639" y="0"/>
                  </a:lnTo>
                  <a:lnTo>
                    <a:pt x="247081" y="0"/>
                  </a:lnTo>
                  <a:lnTo>
                    <a:pt x="306720" y="1905923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&quot;No&quot; Symbol 55"/>
          <p:cNvSpPr/>
          <p:nvPr/>
        </p:nvSpPr>
        <p:spPr>
          <a:xfrm>
            <a:off x="3048120" y="2057400"/>
            <a:ext cx="2286000" cy="2209680"/>
          </a:xfrm>
          <a:custGeom>
            <a:avLst/>
            <a:gdLst>
              <a:gd name="textAreaLeft" fmla="*/ 334800 w 2286000"/>
              <a:gd name="textAreaRight" fmla="*/ 1951200 w 2286000"/>
              <a:gd name="textAreaTop" fmla="*/ 323640 h 2209680"/>
              <a:gd name="textAreaBottom" fmla="*/ 1886040 h 2209680"/>
            </a:gdLst>
            <a:ahLst/>
            <a:rect l="textAreaLeft" t="textAreaTop" r="textAreaRight" b="textAreaBottom"/>
            <a:pathLst>
              <a:path w="2286000" h="2209800">
                <a:moveTo>
                  <a:pt x="0" y="1104900"/>
                </a:moveTo>
                <a:lnTo>
                  <a:pt x="0" y="1104900"/>
                </a:lnTo>
                <a:arcTo wR="1143000" hR="1104900" stAng="-10799997" swAng="5400003"/>
                <a:lnTo>
                  <a:pt x="1143002" y="1"/>
                </a:lnTo>
                <a:arcTo wR="1143000" hR="1104900" stAng="-5399997" swAng="5400003"/>
                <a:lnTo>
                  <a:pt x="2286001" y="1104903"/>
                </a:lnTo>
                <a:arcTo wR="1143000" hR="1104900" stAng="0" swAng="5400003"/>
                <a:lnTo>
                  <a:pt x="1143000" y="2209803"/>
                </a:lnTo>
                <a:arcTo wR="1143000" hR="1104900" stAng="5400003" swAng="5400000"/>
                <a:close/>
                <a:moveTo>
                  <a:pt x="1885016" y="1699288"/>
                </a:moveTo>
                <a:lnTo>
                  <a:pt x="1885016" y="1699288"/>
                </a:lnTo>
                <a:arcTo wR="966172" hR="928072" stAng="2321775" swAng="-10160077"/>
                <a:close/>
                <a:moveTo>
                  <a:pt x="400984" y="510512"/>
                </a:moveTo>
                <a:lnTo>
                  <a:pt x="400984" y="510512"/>
                </a:lnTo>
                <a:arcTo wR="966172" hR="928072" stAng="-8478228" swAng="-10160079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rapezoid 17"/>
          <p:cNvSpPr/>
          <p:nvPr/>
        </p:nvSpPr>
        <p:spPr>
          <a:xfrm flipV="1">
            <a:off x="3505320" y="5334120"/>
            <a:ext cx="1295280" cy="761760"/>
          </a:xfrm>
          <a:custGeom>
            <a:avLst/>
            <a:gdLst>
              <a:gd name="textAreaLeft" fmla="*/ 126720 w 1295280"/>
              <a:gd name="textAreaRight" fmla="*/ 1168560 w 1295280"/>
              <a:gd name="textAreaTop" fmla="*/ 74520 h 761760"/>
              <a:gd name="textAreaBottom" fmla="*/ 762120 h 761760"/>
            </a:gdLst>
            <a:ahLst/>
            <a:rect l="textAreaLeft" t="textAreaTop" r="textAreaRight" b="textAreaBottom"/>
            <a:pathLst>
              <a:path w="1295400" h="762000">
                <a:moveTo>
                  <a:pt x="0" y="762000"/>
                </a:moveTo>
                <a:lnTo>
                  <a:pt x="190500" y="0"/>
                </a:lnTo>
                <a:lnTo>
                  <a:pt x="1104900" y="0"/>
                </a:lnTo>
                <a:lnTo>
                  <a:pt x="1295400" y="762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18"/>
          <p:cNvSpPr/>
          <p:nvPr/>
        </p:nvSpPr>
        <p:spPr>
          <a:xfrm>
            <a:off x="5181480" y="15238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ver use a pipette without a t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rapezoid 19"/>
          <p:cNvSpPr/>
          <p:nvPr/>
        </p:nvSpPr>
        <p:spPr>
          <a:xfrm flipV="1">
            <a:off x="3429000" y="5181480"/>
            <a:ext cx="1447920" cy="914400"/>
          </a:xfrm>
          <a:custGeom>
            <a:avLst/>
            <a:gdLst>
              <a:gd name="textAreaLeft" fmla="*/ 152280 w 1447920"/>
              <a:gd name="textAreaRight" fmla="*/ 1295640 w 1447920"/>
              <a:gd name="textAreaTop" fmla="*/ 96120 h 914400"/>
              <a:gd name="textAreaBottom" fmla="*/ 914760 h 914400"/>
            </a:gdLst>
            <a:ahLst/>
            <a:rect l="textAreaLeft" t="textAreaTop" r="textAreaRight" b="textAreaBottom"/>
            <a:pathLst>
              <a:path w="1447800" h="914400">
                <a:moveTo>
                  <a:pt x="0" y="914400"/>
                </a:moveTo>
                <a:lnTo>
                  <a:pt x="228600" y="0"/>
                </a:lnTo>
                <a:lnTo>
                  <a:pt x="1219200" y="0"/>
                </a:lnTo>
                <a:lnTo>
                  <a:pt x="1447800" y="9144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Box 1"/>
          <p:cNvSpPr/>
          <p:nvPr/>
        </p:nvSpPr>
        <p:spPr>
          <a:xfrm>
            <a:off x="457200" y="129528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b050"/>
                </a:solidFill>
                <a:latin typeface="Arial"/>
              </a:rPr>
              <a:t>HAPPY PIPETT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Can 18"/>
          <p:cNvSpPr/>
          <p:nvPr/>
        </p:nvSpPr>
        <p:spPr>
          <a:xfrm rot="10800000">
            <a:off x="1523880" y="227880"/>
            <a:ext cx="1067040" cy="546120"/>
          </a:xfrm>
          <a:prstGeom prst="can">
            <a:avLst>
              <a:gd name="adj" fmla="val 32435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Block Arc 20"/>
          <p:cNvSpPr/>
          <p:nvPr/>
        </p:nvSpPr>
        <p:spPr>
          <a:xfrm>
            <a:off x="609480" y="1268280"/>
            <a:ext cx="1676520" cy="1246320"/>
          </a:xfrm>
          <a:custGeom>
            <a:avLst/>
            <a:gdLst>
              <a:gd name="textAreaLeft" fmla="*/ 0 w 1676520"/>
              <a:gd name="textAreaRight" fmla="*/ 1473480 w 1676520"/>
              <a:gd name="textAreaTop" fmla="*/ 0 h 1246320"/>
              <a:gd name="textAreaBottom" fmla="*/ 653400 h 1246320"/>
            </a:gdLst>
            <a:ahLst/>
            <a:rect l="textAreaLeft" t="textAreaTop" r="textAreaRight" b="textAreaBottom"/>
            <a:pathLst>
              <a:path w="1676400" h="1246187">
                <a:moveTo>
                  <a:pt x="983" y="653263"/>
                </a:moveTo>
                <a:lnTo>
                  <a:pt x="983" y="653263"/>
                </a:lnTo>
                <a:arcTo wR="838200" hR="623094" stAng="10676171" swAng="8966671"/>
                <a:lnTo>
                  <a:pt x="1262576" y="351492"/>
                </a:lnTo>
                <a:lnTo>
                  <a:pt x="1262576" y="351492"/>
                </a:lnTo>
                <a:arcTo wR="599580" hR="384474" stAng="-1957162" swAng="-8966664"/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Diagonal Stripe 21"/>
          <p:cNvSpPr/>
          <p:nvPr/>
        </p:nvSpPr>
        <p:spPr>
          <a:xfrm rot="13935600">
            <a:off x="2311200" y="907200"/>
            <a:ext cx="1092240" cy="984600"/>
          </a:xfrm>
          <a:custGeom>
            <a:avLst/>
            <a:gdLst>
              <a:gd name="textAreaLeft" fmla="*/ 0 w 1092240"/>
              <a:gd name="textAreaRight" fmla="*/ 892080 w 1092240"/>
              <a:gd name="textAreaTop" fmla="*/ 0 h 984600"/>
              <a:gd name="textAreaBottom" fmla="*/ 804240 h 984600"/>
            </a:gdLst>
            <a:ahLst/>
            <a:rect l="textAreaLeft" t="textAreaTop" r="textAreaRight" b="textAreaBottom"/>
            <a:pathLst>
              <a:path w="1092200" h="984250">
                <a:moveTo>
                  <a:pt x="0" y="623355"/>
                </a:moveTo>
                <a:lnTo>
                  <a:pt x="691723" y="0"/>
                </a:lnTo>
                <a:lnTo>
                  <a:pt x="1092200" y="0"/>
                </a:lnTo>
                <a:lnTo>
                  <a:pt x="0" y="984250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ounded Rectangle 22"/>
          <p:cNvSpPr/>
          <p:nvPr/>
        </p:nvSpPr>
        <p:spPr>
          <a:xfrm flipH="1">
            <a:off x="2438280" y="1600200"/>
            <a:ext cx="457200" cy="9558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955800"/>
              <a:gd name="textAreaBottom" fmla="*/ 933480 h 955800"/>
            </a:gdLst>
            <a:ahLst/>
            <a:rect l="textAreaLeft" t="textAreaTop" r="textAreaRight" b="textAreaBottom"/>
            <a:pathLst>
              <a:path w="21600" h="45137">
                <a:moveTo>
                  <a:pt x="3600" y="0"/>
                </a:moveTo>
                <a:arcTo wR="3600" hR="3600" stAng="16200000" swAng="-5400000"/>
                <a:lnTo>
                  <a:pt x="0" y="41537"/>
                </a:lnTo>
                <a:arcTo wR="3600" hR="3600" stAng="10800000" swAng="-5400000"/>
                <a:lnTo>
                  <a:pt x="18000" y="451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ounded Rectangle 23"/>
          <p:cNvSpPr/>
          <p:nvPr/>
        </p:nvSpPr>
        <p:spPr>
          <a:xfrm>
            <a:off x="1447920" y="1295280"/>
            <a:ext cx="1218960" cy="519300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5193000"/>
              <a:gd name="textAreaBottom" fmla="*/ 5133600 h 5193000"/>
            </a:gdLst>
            <a:ahLst/>
            <a:rect l="textAreaLeft" t="textAreaTop" r="textAreaRight" b="textAreaBottom"/>
            <a:pathLst>
              <a:path w="21600" h="91999">
                <a:moveTo>
                  <a:pt x="3600" y="0"/>
                </a:moveTo>
                <a:arcTo wR="3600" hR="3600" stAng="16200000" swAng="-5400000"/>
                <a:lnTo>
                  <a:pt x="0" y="88399"/>
                </a:lnTo>
                <a:arcTo wR="3600" hR="3600" stAng="10800000" swAng="-5400000"/>
                <a:lnTo>
                  <a:pt x="18000" y="919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ounded Rectangle 24"/>
          <p:cNvSpPr/>
          <p:nvPr/>
        </p:nvSpPr>
        <p:spPr>
          <a:xfrm>
            <a:off x="2514600" y="2438280"/>
            <a:ext cx="457200" cy="39625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962520"/>
              <a:gd name="textAreaBottom" fmla="*/ 3940200 h 3962520"/>
            </a:gdLst>
            <a:ahLst/>
            <a:rect l="textAreaLeft" t="textAreaTop" r="textAreaRight" b="textAreaBottom"/>
            <a:pathLst>
              <a:path w="21600" h="187075">
                <a:moveTo>
                  <a:pt x="3600" y="0"/>
                </a:moveTo>
                <a:arcTo wR="3600" hR="3600" stAng="16200000" swAng="-5400000"/>
                <a:lnTo>
                  <a:pt x="0" y="183475"/>
                </a:lnTo>
                <a:arcTo wR="3600" hR="3600" stAng="10800000" swAng="-5400000"/>
                <a:lnTo>
                  <a:pt x="18000" y="1870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lowchart: Decision 25"/>
          <p:cNvSpPr/>
          <p:nvPr/>
        </p:nvSpPr>
        <p:spPr>
          <a:xfrm>
            <a:off x="1295280" y="1447920"/>
            <a:ext cx="304920" cy="4645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27"/>
          <p:cNvSpPr/>
          <p:nvPr/>
        </p:nvSpPr>
        <p:spPr>
          <a:xfrm rot="16200000">
            <a:off x="1285200" y="2708640"/>
            <a:ext cx="1366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Can 29"/>
          <p:cNvSpPr/>
          <p:nvPr/>
        </p:nvSpPr>
        <p:spPr>
          <a:xfrm flipV="1">
            <a:off x="1523880" y="1370880"/>
            <a:ext cx="1067040" cy="3962520"/>
          </a:xfrm>
          <a:prstGeom prst="can">
            <a:avLst>
              <a:gd name="adj" fmla="val 313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Can 19"/>
          <p:cNvSpPr/>
          <p:nvPr/>
        </p:nvSpPr>
        <p:spPr>
          <a:xfrm flipV="1">
            <a:off x="1828800" y="609480"/>
            <a:ext cx="457200" cy="2322720"/>
          </a:xfrm>
          <a:prstGeom prst="can">
            <a:avLst>
              <a:gd name="adj" fmla="val 4921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Can 30"/>
          <p:cNvSpPr/>
          <p:nvPr/>
        </p:nvSpPr>
        <p:spPr>
          <a:xfrm rot="10800000">
            <a:off x="1523880" y="2819520"/>
            <a:ext cx="1067040" cy="272880"/>
          </a:xfrm>
          <a:prstGeom prst="can">
            <a:avLst>
              <a:gd name="adj" fmla="val 35666"/>
            </a:avLst>
          </a:prstGeom>
          <a:solidFill>
            <a:srgbClr val="ddd9c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16"/>
          <p:cNvGrpSpPr/>
          <p:nvPr/>
        </p:nvGrpSpPr>
        <p:grpSpPr>
          <a:xfrm>
            <a:off x="3809880" y="457200"/>
            <a:ext cx="1587960" cy="6248520"/>
            <a:chOff x="3809880" y="457200"/>
            <a:chExt cx="1587960" cy="6248520"/>
          </a:xfrm>
        </p:grpSpPr>
        <p:sp>
          <p:nvSpPr>
            <p:cNvPr id="558" name="Trapezoid 12"/>
            <p:cNvSpPr/>
            <p:nvPr/>
          </p:nvSpPr>
          <p:spPr>
            <a:xfrm rot="10800000">
              <a:off x="4419000" y="3886200"/>
              <a:ext cx="609480" cy="761760"/>
            </a:xfrm>
            <a:custGeom>
              <a:avLst/>
              <a:gdLst>
                <a:gd name="textAreaLeft" fmla="*/ 101520 w 609480"/>
                <a:gd name="textAreaRight" fmla="*/ 507960 w 609480"/>
                <a:gd name="textAreaTop" fmla="*/ 12672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609754" h="762000">
                  <a:moveTo>
                    <a:pt x="0" y="762000"/>
                  </a:moveTo>
                  <a:lnTo>
                    <a:pt x="152439" y="0"/>
                  </a:lnTo>
                  <a:lnTo>
                    <a:pt x="457316" y="0"/>
                  </a:lnTo>
                  <a:lnTo>
                    <a:pt x="609754" y="76200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Can 4"/>
            <p:cNvSpPr/>
            <p:nvPr/>
          </p:nvSpPr>
          <p:spPr>
            <a:xfrm rot="10800000">
              <a:off x="4419360" y="457200"/>
              <a:ext cx="533520" cy="30456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Can 5"/>
            <p:cNvSpPr/>
            <p:nvPr/>
          </p:nvSpPr>
          <p:spPr>
            <a:xfrm flipV="1">
              <a:off x="4572000" y="685800"/>
              <a:ext cx="228600" cy="457200"/>
            </a:xfrm>
            <a:prstGeom prst="can">
              <a:avLst>
                <a:gd name="adj" fmla="val 12504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Block Arc 6"/>
            <p:cNvSpPr/>
            <p:nvPr/>
          </p:nvSpPr>
          <p:spPr>
            <a:xfrm>
              <a:off x="3809880" y="1066680"/>
              <a:ext cx="685800" cy="609480"/>
            </a:xfrm>
            <a:custGeom>
              <a:avLst/>
              <a:gdLst>
                <a:gd name="textAreaLeft" fmla="*/ 0 w 685800"/>
                <a:gd name="textAreaRight" fmla="*/ 621360 w 685800"/>
                <a:gd name="textAreaTop" fmla="*/ 0 h 609480"/>
                <a:gd name="textAreaBottom" fmla="*/ 317160 h 609480"/>
              </a:gdLst>
              <a:ahLst/>
              <a:rect l="textAreaLeft" t="textAreaTop" r="textAreaRight" b="textAreaBottom"/>
              <a:pathLst>
                <a:path w="685973" h="609600">
                  <a:moveTo>
                    <a:pt x="282" y="317150"/>
                  </a:moveTo>
                  <a:lnTo>
                    <a:pt x="282" y="317150"/>
                  </a:lnTo>
                  <a:arcTo wR="342987" hR="304800" stAng="10676168" swAng="8966678"/>
                  <a:lnTo>
                    <a:pt x="522264" y="190062"/>
                  </a:lnTo>
                  <a:lnTo>
                    <a:pt x="522264" y="190062"/>
                  </a:lnTo>
                  <a:arcTo wR="226260" hR="188074" stAng="-1957164" swAng="-8966667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Diagonal Stripe 7"/>
            <p:cNvSpPr/>
            <p:nvPr/>
          </p:nvSpPr>
          <p:spPr>
            <a:xfrm rot="13935600">
              <a:off x="4917600" y="1101240"/>
              <a:ext cx="438120" cy="320400"/>
            </a:xfrm>
            <a:custGeom>
              <a:avLst/>
              <a:gdLst>
                <a:gd name="textAreaLeft" fmla="*/ 0 w 438120"/>
                <a:gd name="textAreaRight" fmla="*/ 357840 w 438120"/>
                <a:gd name="textAreaTop" fmla="*/ 0 h 320400"/>
                <a:gd name="textAreaBottom" fmla="*/ 261720 h 320400"/>
              </a:gdLst>
              <a:ahLst/>
              <a:rect l="textAreaLeft" t="textAreaTop" r="textAreaRight" b="textAreaBottom"/>
              <a:pathLst>
                <a:path w="438150" h="320756">
                  <a:moveTo>
                    <a:pt x="0" y="203144"/>
                  </a:moveTo>
                  <a:lnTo>
                    <a:pt x="277494" y="0"/>
                  </a:lnTo>
                  <a:lnTo>
                    <a:pt x="438150" y="0"/>
                  </a:lnTo>
                  <a:lnTo>
                    <a:pt x="0" y="320756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ounded Rectangle 10"/>
            <p:cNvSpPr/>
            <p:nvPr/>
          </p:nvSpPr>
          <p:spPr>
            <a:xfrm flipH="1">
              <a:off x="4876200" y="1295280"/>
              <a:ext cx="228600" cy="533160"/>
            </a:xfrm>
            <a:custGeom>
              <a:avLst/>
              <a:gdLst>
                <a:gd name="textAreaLeft" fmla="*/ 11160 w 228600"/>
                <a:gd name="textAreaRight" fmla="*/ 217440 w 228600"/>
                <a:gd name="textAreaTop" fmla="*/ 11160 h 533160"/>
                <a:gd name="textAreaBottom" fmla="*/ 522000 h 533160"/>
              </a:gdLst>
              <a:ahLst/>
              <a:rect l="textAreaLeft" t="textAreaTop" r="textAreaRight" b="textAreaBottom"/>
              <a:pathLst>
                <a:path w="21600" h="50332">
                  <a:moveTo>
                    <a:pt x="3600" y="0"/>
                  </a:moveTo>
                  <a:arcTo wR="3600" hR="3600" stAng="16200000" swAng="-5400000"/>
                  <a:lnTo>
                    <a:pt x="0" y="46732"/>
                  </a:lnTo>
                  <a:arcTo wR="3600" hR="3600" stAng="10800000" swAng="-5400000"/>
                  <a:lnTo>
                    <a:pt x="18000" y="503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ounded Rectangle 8"/>
            <p:cNvSpPr/>
            <p:nvPr/>
          </p:nvSpPr>
          <p:spPr>
            <a:xfrm>
              <a:off x="4343400" y="1066680"/>
              <a:ext cx="609480" cy="289548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2895480"/>
                <a:gd name="textAreaBottom" fmla="*/ 2865960 h 2895480"/>
              </a:gdLst>
              <a:ahLst/>
              <a:rect l="textAreaLeft" t="textAreaTop" r="textAreaRight" b="textAreaBottom"/>
              <a:pathLst>
                <a:path w="21600" h="102568">
                  <a:moveTo>
                    <a:pt x="3600" y="0"/>
                  </a:moveTo>
                  <a:arcTo wR="3600" hR="3600" stAng="16200000" swAng="-5400000"/>
                  <a:lnTo>
                    <a:pt x="0" y="98968"/>
                  </a:lnTo>
                  <a:arcTo wR="3600" hR="3600" stAng="10800000" swAng="-5400000"/>
                  <a:lnTo>
                    <a:pt x="18000" y="102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ounded Rectangle 9"/>
            <p:cNvSpPr/>
            <p:nvPr/>
          </p:nvSpPr>
          <p:spPr>
            <a:xfrm>
              <a:off x="4952880" y="1676160"/>
              <a:ext cx="228600" cy="2209680"/>
            </a:xfrm>
            <a:custGeom>
              <a:avLst/>
              <a:gdLst>
                <a:gd name="textAreaLeft" fmla="*/ 11160 w 228600"/>
                <a:gd name="textAreaRight" fmla="*/ 217440 w 228600"/>
                <a:gd name="textAreaTop" fmla="*/ 11160 h 2209680"/>
                <a:gd name="textAreaBottom" fmla="*/ 2198520 h 2209680"/>
              </a:gdLst>
              <a:ahLst/>
              <a:rect l="textAreaLeft" t="textAreaTop" r="textAreaRight" b="textAreaBottom"/>
              <a:pathLst>
                <a:path w="21600" h="208494">
                  <a:moveTo>
                    <a:pt x="3600" y="0"/>
                  </a:moveTo>
                  <a:arcTo wR="3600" hR="3600" stAng="16200000" swAng="-5400000"/>
                  <a:lnTo>
                    <a:pt x="0" y="204894"/>
                  </a:lnTo>
                  <a:arcTo wR="3600" hR="3600" stAng="10800000" swAng="-5400000"/>
                  <a:lnTo>
                    <a:pt x="18000" y="2084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lowchart: Decision 11"/>
            <p:cNvSpPr/>
            <p:nvPr/>
          </p:nvSpPr>
          <p:spPr>
            <a:xfrm>
              <a:off x="4267080" y="1218960"/>
              <a:ext cx="152280" cy="25909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rapezoid 14"/>
            <p:cNvSpPr/>
            <p:nvPr/>
          </p:nvSpPr>
          <p:spPr>
            <a:xfrm rot="10800000">
              <a:off x="4647600" y="6401160"/>
              <a:ext cx="152280" cy="304560"/>
            </a:xfrm>
            <a:custGeom>
              <a:avLst/>
              <a:gdLst>
                <a:gd name="textAreaLeft" fmla="*/ 25200 w 152280"/>
                <a:gd name="textAreaRight" fmla="*/ 127080 w 152280"/>
                <a:gd name="textAreaTop" fmla="*/ 5076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52439" h="304800">
                  <a:moveTo>
                    <a:pt x="0" y="304800"/>
                  </a:moveTo>
                  <a:lnTo>
                    <a:pt x="38110" y="0"/>
                  </a:lnTo>
                  <a:lnTo>
                    <a:pt x="114329" y="0"/>
                  </a:lnTo>
                  <a:lnTo>
                    <a:pt x="152439" y="304800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Box 15"/>
            <p:cNvSpPr/>
            <p:nvPr/>
          </p:nvSpPr>
          <p:spPr>
            <a:xfrm rot="16200000">
              <a:off x="4298760" y="2253960"/>
              <a:ext cx="7617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rapezoid 13"/>
            <p:cNvSpPr/>
            <p:nvPr/>
          </p:nvSpPr>
          <p:spPr>
            <a:xfrm rot="10800000">
              <a:off x="4572000" y="4572000"/>
              <a:ext cx="304560" cy="1905120"/>
            </a:xfrm>
            <a:custGeom>
              <a:avLst/>
              <a:gdLst>
                <a:gd name="textAreaLeft" fmla="*/ 39240 w 304560"/>
                <a:gd name="textAreaRight" fmla="*/ 265320 w 304560"/>
                <a:gd name="textAreaTop" fmla="*/ 24696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304877" h="1905000">
                  <a:moveTo>
                    <a:pt x="0" y="1905000"/>
                  </a:moveTo>
                  <a:lnTo>
                    <a:pt x="59280" y="0"/>
                  </a:lnTo>
                  <a:lnTo>
                    <a:pt x="245597" y="0"/>
                  </a:lnTo>
                  <a:lnTo>
                    <a:pt x="304877" y="190500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Rounded Rectangle 24" descr=""/>
          <p:cNvPicPr/>
          <p:nvPr/>
        </p:nvPicPr>
        <p:blipFill>
          <a:blip r:embed="rId1"/>
          <a:stretch/>
        </p:blipFill>
        <p:spPr>
          <a:xfrm>
            <a:off x="2262240" y="1517760"/>
            <a:ext cx="414360" cy="222552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16"/>
          <p:cNvGrpSpPr/>
          <p:nvPr/>
        </p:nvGrpSpPr>
        <p:grpSpPr>
          <a:xfrm>
            <a:off x="1219320" y="228600"/>
            <a:ext cx="1587960" cy="6248520"/>
            <a:chOff x="1219320" y="228600"/>
            <a:chExt cx="1587960" cy="6248520"/>
          </a:xfrm>
        </p:grpSpPr>
        <p:sp>
          <p:nvSpPr>
            <p:cNvPr id="72" name="Trapezoid 12"/>
            <p:cNvSpPr/>
            <p:nvPr/>
          </p:nvSpPr>
          <p:spPr>
            <a:xfrm rot="10800000">
              <a:off x="1828440" y="3657600"/>
              <a:ext cx="609480" cy="761760"/>
            </a:xfrm>
            <a:custGeom>
              <a:avLst/>
              <a:gdLst>
                <a:gd name="textAreaLeft" fmla="*/ 101520 w 609480"/>
                <a:gd name="textAreaRight" fmla="*/ 507960 w 609480"/>
                <a:gd name="textAreaTop" fmla="*/ 12672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609754" h="762000">
                  <a:moveTo>
                    <a:pt x="0" y="762000"/>
                  </a:moveTo>
                  <a:lnTo>
                    <a:pt x="152439" y="0"/>
                  </a:lnTo>
                  <a:lnTo>
                    <a:pt x="457316" y="0"/>
                  </a:lnTo>
                  <a:lnTo>
                    <a:pt x="609754" y="76200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Can 4"/>
            <p:cNvSpPr/>
            <p:nvPr/>
          </p:nvSpPr>
          <p:spPr>
            <a:xfrm rot="10800000">
              <a:off x="1828800" y="228240"/>
              <a:ext cx="533520" cy="30456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Can 5"/>
            <p:cNvSpPr/>
            <p:nvPr/>
          </p:nvSpPr>
          <p:spPr>
            <a:xfrm flipV="1">
              <a:off x="1981440" y="457200"/>
              <a:ext cx="228600" cy="457200"/>
            </a:xfrm>
            <a:prstGeom prst="can">
              <a:avLst>
                <a:gd name="adj" fmla="val 12504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Block Arc 6"/>
            <p:cNvSpPr/>
            <p:nvPr/>
          </p:nvSpPr>
          <p:spPr>
            <a:xfrm>
              <a:off x="1219320" y="838080"/>
              <a:ext cx="685800" cy="609480"/>
            </a:xfrm>
            <a:custGeom>
              <a:avLst/>
              <a:gdLst>
                <a:gd name="textAreaLeft" fmla="*/ 0 w 685800"/>
                <a:gd name="textAreaRight" fmla="*/ 621360 w 685800"/>
                <a:gd name="textAreaTop" fmla="*/ 0 h 609480"/>
                <a:gd name="textAreaBottom" fmla="*/ 317160 h 609480"/>
              </a:gdLst>
              <a:ahLst/>
              <a:rect l="textAreaLeft" t="textAreaTop" r="textAreaRight" b="textAreaBottom"/>
              <a:pathLst>
                <a:path w="685973" h="609600">
                  <a:moveTo>
                    <a:pt x="282" y="317150"/>
                  </a:moveTo>
                  <a:lnTo>
                    <a:pt x="282" y="317150"/>
                  </a:lnTo>
                  <a:arcTo wR="342987" hR="304800" stAng="10676168" swAng="8966678"/>
                  <a:lnTo>
                    <a:pt x="522264" y="190062"/>
                  </a:lnTo>
                  <a:lnTo>
                    <a:pt x="522264" y="190062"/>
                  </a:lnTo>
                  <a:arcTo wR="226260" hR="188074" stAng="-1957164" swAng="-8966667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Diagonal Stripe 7"/>
            <p:cNvSpPr/>
            <p:nvPr/>
          </p:nvSpPr>
          <p:spPr>
            <a:xfrm rot="13935600">
              <a:off x="2327040" y="872640"/>
              <a:ext cx="438120" cy="320400"/>
            </a:xfrm>
            <a:custGeom>
              <a:avLst/>
              <a:gdLst>
                <a:gd name="textAreaLeft" fmla="*/ 0 w 438120"/>
                <a:gd name="textAreaRight" fmla="*/ 357840 w 438120"/>
                <a:gd name="textAreaTop" fmla="*/ 0 h 320400"/>
                <a:gd name="textAreaBottom" fmla="*/ 261720 h 320400"/>
              </a:gdLst>
              <a:ahLst/>
              <a:rect l="textAreaLeft" t="textAreaTop" r="textAreaRight" b="textAreaBottom"/>
              <a:pathLst>
                <a:path w="438150" h="320756">
                  <a:moveTo>
                    <a:pt x="0" y="203144"/>
                  </a:moveTo>
                  <a:lnTo>
                    <a:pt x="277494" y="0"/>
                  </a:lnTo>
                  <a:lnTo>
                    <a:pt x="438150" y="0"/>
                  </a:lnTo>
                  <a:lnTo>
                    <a:pt x="0" y="320756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ounded Rectangle 10"/>
            <p:cNvSpPr/>
            <p:nvPr/>
          </p:nvSpPr>
          <p:spPr>
            <a:xfrm flipH="1">
              <a:off x="2285640" y="1066680"/>
              <a:ext cx="228600" cy="533160"/>
            </a:xfrm>
            <a:custGeom>
              <a:avLst/>
              <a:gdLst>
                <a:gd name="textAreaLeft" fmla="*/ 11160 w 228600"/>
                <a:gd name="textAreaRight" fmla="*/ 217440 w 228600"/>
                <a:gd name="textAreaTop" fmla="*/ 11160 h 533160"/>
                <a:gd name="textAreaBottom" fmla="*/ 522000 h 533160"/>
              </a:gdLst>
              <a:ahLst/>
              <a:rect l="textAreaLeft" t="textAreaTop" r="textAreaRight" b="textAreaBottom"/>
              <a:pathLst>
                <a:path w="21600" h="50332">
                  <a:moveTo>
                    <a:pt x="3600" y="0"/>
                  </a:moveTo>
                  <a:arcTo wR="3600" hR="3600" stAng="16200000" swAng="-5400000"/>
                  <a:lnTo>
                    <a:pt x="0" y="46732"/>
                  </a:lnTo>
                  <a:arcTo wR="3600" hR="3600" stAng="10800000" swAng="-5400000"/>
                  <a:lnTo>
                    <a:pt x="18000" y="503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ounded Rectangle 8"/>
            <p:cNvSpPr/>
            <p:nvPr/>
          </p:nvSpPr>
          <p:spPr>
            <a:xfrm>
              <a:off x="1752840" y="838080"/>
              <a:ext cx="609480" cy="289548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2895480"/>
                <a:gd name="textAreaBottom" fmla="*/ 2865960 h 2895480"/>
              </a:gdLst>
              <a:ahLst/>
              <a:rect l="textAreaLeft" t="textAreaTop" r="textAreaRight" b="textAreaBottom"/>
              <a:pathLst>
                <a:path w="21600" h="102568">
                  <a:moveTo>
                    <a:pt x="3600" y="0"/>
                  </a:moveTo>
                  <a:arcTo wR="3600" hR="3600" stAng="16200000" swAng="-5400000"/>
                  <a:lnTo>
                    <a:pt x="0" y="98968"/>
                  </a:lnTo>
                  <a:arcTo wR="3600" hR="3600" stAng="10800000" swAng="-5400000"/>
                  <a:lnTo>
                    <a:pt x="18000" y="102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lowchart: Decision 11"/>
            <p:cNvSpPr/>
            <p:nvPr/>
          </p:nvSpPr>
          <p:spPr>
            <a:xfrm>
              <a:off x="1676520" y="990360"/>
              <a:ext cx="152280" cy="25909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rapezoid 14"/>
            <p:cNvSpPr/>
            <p:nvPr/>
          </p:nvSpPr>
          <p:spPr>
            <a:xfrm rot="10800000">
              <a:off x="2057040" y="6172560"/>
              <a:ext cx="152280" cy="304560"/>
            </a:xfrm>
            <a:custGeom>
              <a:avLst/>
              <a:gdLst>
                <a:gd name="textAreaLeft" fmla="*/ 25200 w 152280"/>
                <a:gd name="textAreaRight" fmla="*/ 127080 w 152280"/>
                <a:gd name="textAreaTop" fmla="*/ 5076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52439" h="304800">
                  <a:moveTo>
                    <a:pt x="0" y="304800"/>
                  </a:moveTo>
                  <a:lnTo>
                    <a:pt x="38110" y="0"/>
                  </a:lnTo>
                  <a:lnTo>
                    <a:pt x="114329" y="0"/>
                  </a:lnTo>
                  <a:lnTo>
                    <a:pt x="152439" y="304800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rapezoid 13"/>
            <p:cNvSpPr/>
            <p:nvPr/>
          </p:nvSpPr>
          <p:spPr>
            <a:xfrm rot="10800000">
              <a:off x="1981440" y="4343400"/>
              <a:ext cx="304560" cy="1905120"/>
            </a:xfrm>
            <a:custGeom>
              <a:avLst/>
              <a:gdLst>
                <a:gd name="textAreaLeft" fmla="*/ 39240 w 304560"/>
                <a:gd name="textAreaRight" fmla="*/ 265320 w 304560"/>
                <a:gd name="textAreaTop" fmla="*/ 24696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304877" h="1905000">
                  <a:moveTo>
                    <a:pt x="0" y="1905000"/>
                  </a:moveTo>
                  <a:lnTo>
                    <a:pt x="59280" y="0"/>
                  </a:lnTo>
                  <a:lnTo>
                    <a:pt x="245597" y="0"/>
                  </a:lnTo>
                  <a:lnTo>
                    <a:pt x="304877" y="190500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Box 17"/>
          <p:cNvSpPr/>
          <p:nvPr/>
        </p:nvSpPr>
        <p:spPr>
          <a:xfrm>
            <a:off x="3657600" y="160020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Micropipettes have preset volumes and cannot be adju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pipette will only deliver 200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7"/>
          <p:cNvSpPr/>
          <p:nvPr/>
        </p:nvSpPr>
        <p:spPr>
          <a:xfrm>
            <a:off x="3733920" y="9144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does it wor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works much like a syringe that would deliver an inje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ide there is a spring loaded piston that moves up and dow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an 18"/>
          <p:cNvSpPr/>
          <p:nvPr/>
        </p:nvSpPr>
        <p:spPr>
          <a:xfrm rot="10800000">
            <a:off x="1523880" y="227880"/>
            <a:ext cx="1067040" cy="546120"/>
          </a:xfrm>
          <a:prstGeom prst="can">
            <a:avLst>
              <a:gd name="adj" fmla="val 32435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Block Arc 20"/>
          <p:cNvSpPr/>
          <p:nvPr/>
        </p:nvSpPr>
        <p:spPr>
          <a:xfrm>
            <a:off x="609480" y="1268280"/>
            <a:ext cx="1676520" cy="1246320"/>
          </a:xfrm>
          <a:custGeom>
            <a:avLst/>
            <a:gdLst>
              <a:gd name="textAreaLeft" fmla="*/ 0 w 1676520"/>
              <a:gd name="textAreaRight" fmla="*/ 1473480 w 1676520"/>
              <a:gd name="textAreaTop" fmla="*/ 0 h 1246320"/>
              <a:gd name="textAreaBottom" fmla="*/ 653400 h 1246320"/>
            </a:gdLst>
            <a:ahLst/>
            <a:rect l="textAreaLeft" t="textAreaTop" r="textAreaRight" b="textAreaBottom"/>
            <a:pathLst>
              <a:path w="1676400" h="1246187">
                <a:moveTo>
                  <a:pt x="983" y="653263"/>
                </a:moveTo>
                <a:lnTo>
                  <a:pt x="983" y="653263"/>
                </a:lnTo>
                <a:arcTo wR="838200" hR="623094" stAng="10676171" swAng="8966671"/>
                <a:lnTo>
                  <a:pt x="1262576" y="351492"/>
                </a:lnTo>
                <a:lnTo>
                  <a:pt x="1262576" y="351492"/>
                </a:lnTo>
                <a:arcTo wR="599580" hR="384474" stAng="-1957162" swAng="-8966664"/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Diagonal Stripe 21"/>
          <p:cNvSpPr/>
          <p:nvPr/>
        </p:nvSpPr>
        <p:spPr>
          <a:xfrm rot="13935600">
            <a:off x="2311200" y="907200"/>
            <a:ext cx="1092240" cy="984600"/>
          </a:xfrm>
          <a:custGeom>
            <a:avLst/>
            <a:gdLst>
              <a:gd name="textAreaLeft" fmla="*/ 0 w 1092240"/>
              <a:gd name="textAreaRight" fmla="*/ 892080 w 1092240"/>
              <a:gd name="textAreaTop" fmla="*/ 0 h 984600"/>
              <a:gd name="textAreaBottom" fmla="*/ 804240 h 984600"/>
            </a:gdLst>
            <a:ahLst/>
            <a:rect l="textAreaLeft" t="textAreaTop" r="textAreaRight" b="textAreaBottom"/>
            <a:pathLst>
              <a:path w="1092200" h="984250">
                <a:moveTo>
                  <a:pt x="0" y="623355"/>
                </a:moveTo>
                <a:lnTo>
                  <a:pt x="691723" y="0"/>
                </a:lnTo>
                <a:lnTo>
                  <a:pt x="1092200" y="0"/>
                </a:lnTo>
                <a:lnTo>
                  <a:pt x="0" y="984250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22"/>
          <p:cNvSpPr/>
          <p:nvPr/>
        </p:nvSpPr>
        <p:spPr>
          <a:xfrm flipH="1">
            <a:off x="2438280" y="1600200"/>
            <a:ext cx="457200" cy="9558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955800"/>
              <a:gd name="textAreaBottom" fmla="*/ 933480 h 955800"/>
            </a:gdLst>
            <a:ahLst/>
            <a:rect l="textAreaLeft" t="textAreaTop" r="textAreaRight" b="textAreaBottom"/>
            <a:pathLst>
              <a:path w="21600" h="45137">
                <a:moveTo>
                  <a:pt x="3600" y="0"/>
                </a:moveTo>
                <a:arcTo wR="3600" hR="3600" stAng="16200000" swAng="-5400000"/>
                <a:lnTo>
                  <a:pt x="0" y="41537"/>
                </a:lnTo>
                <a:arcTo wR="3600" hR="3600" stAng="10800000" swAng="-5400000"/>
                <a:lnTo>
                  <a:pt x="18000" y="451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23"/>
          <p:cNvSpPr/>
          <p:nvPr/>
        </p:nvSpPr>
        <p:spPr>
          <a:xfrm>
            <a:off x="1447920" y="1295280"/>
            <a:ext cx="1218960" cy="519300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5193000"/>
              <a:gd name="textAreaBottom" fmla="*/ 5133600 h 5193000"/>
            </a:gdLst>
            <a:ahLst/>
            <a:rect l="textAreaLeft" t="textAreaTop" r="textAreaRight" b="textAreaBottom"/>
            <a:pathLst>
              <a:path w="21600" h="91999">
                <a:moveTo>
                  <a:pt x="3600" y="0"/>
                </a:moveTo>
                <a:arcTo wR="3600" hR="3600" stAng="16200000" swAng="-5400000"/>
                <a:lnTo>
                  <a:pt x="0" y="88399"/>
                </a:lnTo>
                <a:arcTo wR="3600" hR="3600" stAng="10800000" swAng="-5400000"/>
                <a:lnTo>
                  <a:pt x="18000" y="919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24"/>
          <p:cNvSpPr/>
          <p:nvPr/>
        </p:nvSpPr>
        <p:spPr>
          <a:xfrm>
            <a:off x="2514600" y="2438280"/>
            <a:ext cx="457200" cy="39625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962520"/>
              <a:gd name="textAreaBottom" fmla="*/ 3940200 h 3962520"/>
            </a:gdLst>
            <a:ahLst/>
            <a:rect l="textAreaLeft" t="textAreaTop" r="textAreaRight" b="textAreaBottom"/>
            <a:pathLst>
              <a:path w="21600" h="187075">
                <a:moveTo>
                  <a:pt x="3600" y="0"/>
                </a:moveTo>
                <a:arcTo wR="3600" hR="3600" stAng="16200000" swAng="-5400000"/>
                <a:lnTo>
                  <a:pt x="0" y="183475"/>
                </a:lnTo>
                <a:arcTo wR="3600" hR="3600" stAng="10800000" swAng="-5400000"/>
                <a:lnTo>
                  <a:pt x="18000" y="1870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lowchart: Decision 25"/>
          <p:cNvSpPr/>
          <p:nvPr/>
        </p:nvSpPr>
        <p:spPr>
          <a:xfrm>
            <a:off x="1295280" y="1447920"/>
            <a:ext cx="304920" cy="4645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7"/>
          <p:cNvSpPr/>
          <p:nvPr/>
        </p:nvSpPr>
        <p:spPr>
          <a:xfrm rot="16200000">
            <a:off x="1285200" y="2708640"/>
            <a:ext cx="1366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an 29"/>
          <p:cNvSpPr/>
          <p:nvPr/>
        </p:nvSpPr>
        <p:spPr>
          <a:xfrm flipV="1">
            <a:off x="1523880" y="1370880"/>
            <a:ext cx="1067040" cy="3962520"/>
          </a:xfrm>
          <a:prstGeom prst="can">
            <a:avLst>
              <a:gd name="adj" fmla="val 313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an 19"/>
          <p:cNvSpPr/>
          <p:nvPr/>
        </p:nvSpPr>
        <p:spPr>
          <a:xfrm flipV="1">
            <a:off x="1828800" y="609480"/>
            <a:ext cx="457200" cy="2322720"/>
          </a:xfrm>
          <a:prstGeom prst="can">
            <a:avLst>
              <a:gd name="adj" fmla="val 4921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an 30"/>
          <p:cNvSpPr/>
          <p:nvPr/>
        </p:nvSpPr>
        <p:spPr>
          <a:xfrm rot="10800000">
            <a:off x="1523880" y="2819520"/>
            <a:ext cx="1067040" cy="272880"/>
          </a:xfrm>
          <a:prstGeom prst="can">
            <a:avLst>
              <a:gd name="adj" fmla="val 35666"/>
            </a:avLst>
          </a:prstGeom>
          <a:solidFill>
            <a:srgbClr val="ddd9c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6400800" y="3192480"/>
            <a:ext cx="2743200" cy="366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96" name="Straight Arrow Connector 15"/>
          <p:cNvCxnSpPr/>
          <p:nvPr/>
        </p:nvCxnSpPr>
        <p:spPr>
          <a:xfrm flipH="1" flipV="1">
            <a:off x="2133000" y="2056680"/>
            <a:ext cx="1600920" cy="153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7"/>
          <p:cNvSpPr/>
          <p:nvPr/>
        </p:nvSpPr>
        <p:spPr>
          <a:xfrm>
            <a:off x="4572000" y="4572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lunger has two sto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at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First Sto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piston moves through the volume that is set on the pipette. (In this case 278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an 18"/>
          <p:cNvSpPr/>
          <p:nvPr/>
        </p:nvSpPr>
        <p:spPr>
          <a:xfrm rot="10800000">
            <a:off x="1523880" y="75600"/>
            <a:ext cx="1067040" cy="546120"/>
          </a:xfrm>
          <a:prstGeom prst="can">
            <a:avLst>
              <a:gd name="adj" fmla="val 32435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Block Arc 20"/>
          <p:cNvSpPr/>
          <p:nvPr/>
        </p:nvSpPr>
        <p:spPr>
          <a:xfrm>
            <a:off x="609480" y="1639800"/>
            <a:ext cx="1676520" cy="1244520"/>
          </a:xfrm>
          <a:custGeom>
            <a:avLst/>
            <a:gdLst>
              <a:gd name="textAreaLeft" fmla="*/ 0 w 1676520"/>
              <a:gd name="textAreaRight" fmla="*/ 1473480 w 1676520"/>
              <a:gd name="textAreaTop" fmla="*/ 0 h 1244520"/>
              <a:gd name="textAreaBottom" fmla="*/ 652320 h 1244520"/>
            </a:gdLst>
            <a:ahLst/>
            <a:rect l="textAreaLeft" t="textAreaTop" r="textAreaRight" b="textAreaBottom"/>
            <a:pathLst>
              <a:path w="1676400" h="1244600">
                <a:moveTo>
                  <a:pt x="986" y="652470"/>
                </a:moveTo>
                <a:lnTo>
                  <a:pt x="986" y="652470"/>
                </a:lnTo>
                <a:arcTo wR="838200" hR="622300" stAng="10676170" swAng="8966672"/>
                <a:lnTo>
                  <a:pt x="1262413" y="350802"/>
                </a:lnTo>
                <a:lnTo>
                  <a:pt x="1262413" y="350802"/>
                </a:lnTo>
                <a:arcTo wR="599884" hR="383984" stAng="-1957164" swAng="-8966663"/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iagonal Stripe 21"/>
          <p:cNvSpPr/>
          <p:nvPr/>
        </p:nvSpPr>
        <p:spPr>
          <a:xfrm rot="13935600">
            <a:off x="2311200" y="1288440"/>
            <a:ext cx="1092240" cy="984600"/>
          </a:xfrm>
          <a:custGeom>
            <a:avLst/>
            <a:gdLst>
              <a:gd name="textAreaLeft" fmla="*/ 0 w 1092240"/>
              <a:gd name="textAreaRight" fmla="*/ 892080 w 1092240"/>
              <a:gd name="textAreaTop" fmla="*/ 0 h 984600"/>
              <a:gd name="textAreaBottom" fmla="*/ 804240 h 984600"/>
            </a:gdLst>
            <a:ahLst/>
            <a:rect l="textAreaLeft" t="textAreaTop" r="textAreaRight" b="textAreaBottom"/>
            <a:pathLst>
              <a:path w="1092200" h="984250">
                <a:moveTo>
                  <a:pt x="0" y="623355"/>
                </a:moveTo>
                <a:lnTo>
                  <a:pt x="691723" y="0"/>
                </a:lnTo>
                <a:lnTo>
                  <a:pt x="1092200" y="0"/>
                </a:lnTo>
                <a:lnTo>
                  <a:pt x="0" y="984250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22"/>
          <p:cNvSpPr/>
          <p:nvPr/>
        </p:nvSpPr>
        <p:spPr>
          <a:xfrm flipH="1">
            <a:off x="2438280" y="1969920"/>
            <a:ext cx="457200" cy="9576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957600"/>
              <a:gd name="textAreaBottom" fmla="*/ 935280 h 957600"/>
            </a:gdLst>
            <a:ahLst/>
            <a:rect l="textAreaLeft" t="textAreaTop" r="textAreaRight" b="textAreaBottom"/>
            <a:pathLst>
              <a:path w="21600" h="45222">
                <a:moveTo>
                  <a:pt x="3600" y="0"/>
                </a:moveTo>
                <a:arcTo wR="3600" hR="3600" stAng="16200000" swAng="-5400000"/>
                <a:lnTo>
                  <a:pt x="0" y="41622"/>
                </a:lnTo>
                <a:arcTo wR="3600" hR="3600" stAng="10800000" swAng="-5400000"/>
                <a:lnTo>
                  <a:pt x="18000" y="452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23"/>
          <p:cNvSpPr/>
          <p:nvPr/>
        </p:nvSpPr>
        <p:spPr>
          <a:xfrm>
            <a:off x="1447920" y="1665360"/>
            <a:ext cx="1218960" cy="519264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5192640"/>
              <a:gd name="textAreaBottom" fmla="*/ 5133240 h 5192640"/>
            </a:gdLst>
            <a:ahLst/>
            <a:rect l="textAreaLeft" t="textAreaTop" r="textAreaRight" b="textAreaBottom"/>
            <a:pathLst>
              <a:path w="21600" h="91993">
                <a:moveTo>
                  <a:pt x="3600" y="0"/>
                </a:moveTo>
                <a:arcTo wR="3600" hR="3600" stAng="16200000" swAng="-5400000"/>
                <a:lnTo>
                  <a:pt x="0" y="88393"/>
                </a:lnTo>
                <a:arcTo wR="3600" hR="3600" stAng="10800000" swAng="-5400000"/>
                <a:lnTo>
                  <a:pt x="18000" y="919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24"/>
          <p:cNvSpPr/>
          <p:nvPr/>
        </p:nvSpPr>
        <p:spPr>
          <a:xfrm>
            <a:off x="2514600" y="2808360"/>
            <a:ext cx="457200" cy="396216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962160"/>
              <a:gd name="textAreaBottom" fmla="*/ 3939840 h 3962160"/>
            </a:gdLst>
            <a:ahLst/>
            <a:rect l="textAreaLeft" t="textAreaTop" r="textAreaRight" b="textAreaBottom"/>
            <a:pathLst>
              <a:path w="21600" h="187058">
                <a:moveTo>
                  <a:pt x="3600" y="0"/>
                </a:moveTo>
                <a:arcTo wR="3600" hR="3600" stAng="16200000" swAng="-5400000"/>
                <a:lnTo>
                  <a:pt x="0" y="183458"/>
                </a:lnTo>
                <a:arcTo wR="3600" hR="3600" stAng="10800000" swAng="-5400000"/>
                <a:lnTo>
                  <a:pt x="18000" y="1870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lowchart: Decision 25"/>
          <p:cNvSpPr/>
          <p:nvPr/>
        </p:nvSpPr>
        <p:spPr>
          <a:xfrm>
            <a:off x="1295280" y="1817640"/>
            <a:ext cx="304920" cy="464652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7"/>
          <p:cNvSpPr/>
          <p:nvPr/>
        </p:nvSpPr>
        <p:spPr>
          <a:xfrm rot="16200000">
            <a:off x="1285200" y="3078720"/>
            <a:ext cx="1366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an 29"/>
          <p:cNvSpPr/>
          <p:nvPr/>
        </p:nvSpPr>
        <p:spPr>
          <a:xfrm flipV="1">
            <a:off x="1523880" y="1740600"/>
            <a:ext cx="1067040" cy="3962520"/>
          </a:xfrm>
          <a:prstGeom prst="can">
            <a:avLst>
              <a:gd name="adj" fmla="val 313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an 19"/>
          <p:cNvSpPr/>
          <p:nvPr/>
        </p:nvSpPr>
        <p:spPr>
          <a:xfrm flipV="1">
            <a:off x="1828800" y="457200"/>
            <a:ext cx="457200" cy="2819520"/>
          </a:xfrm>
          <a:prstGeom prst="can">
            <a:avLst>
              <a:gd name="adj" fmla="val 4055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n 30"/>
          <p:cNvSpPr/>
          <p:nvPr/>
        </p:nvSpPr>
        <p:spPr>
          <a:xfrm rot="10800000">
            <a:off x="1523880" y="3188880"/>
            <a:ext cx="1067040" cy="274680"/>
          </a:xfrm>
          <a:prstGeom prst="can">
            <a:avLst>
              <a:gd name="adj" fmla="val 35666"/>
            </a:avLst>
          </a:prstGeom>
          <a:solidFill>
            <a:srgbClr val="ddd9c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ight Brace 13"/>
          <p:cNvSpPr/>
          <p:nvPr/>
        </p:nvSpPr>
        <p:spPr>
          <a:xfrm flipV="1">
            <a:off x="2590920" y="227520"/>
            <a:ext cx="609480" cy="685800"/>
          </a:xfrm>
          <a:custGeom>
            <a:avLst/>
            <a:gdLst>
              <a:gd name="textAreaLeft" fmla="*/ 0 w 609480"/>
              <a:gd name="textAreaRight" fmla="*/ 219960 w 60948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31"/>
                  <a:pt x="10800" y="7061"/>
                </a:cubicBezTo>
                <a:lnTo>
                  <a:pt x="10800" y="3278"/>
                </a:lnTo>
                <a:cubicBezTo>
                  <a:pt x="10800" y="6809"/>
                  <a:pt x="16200" y="10339"/>
                  <a:pt x="21600" y="10339"/>
                </a:cubicBezTo>
                <a:cubicBezTo>
                  <a:pt x="16200" y="10339"/>
                  <a:pt x="10800" y="13870"/>
                  <a:pt x="10800" y="17400"/>
                </a:cubicBezTo>
                <a:lnTo>
                  <a:pt x="10800" y="14539"/>
                </a:lnTo>
                <a:cubicBezTo>
                  <a:pt x="10800" y="1807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4"/>
          <p:cNvSpPr/>
          <p:nvPr/>
        </p:nvSpPr>
        <p:spPr>
          <a:xfrm rot="16200000">
            <a:off x="1479240" y="5226120"/>
            <a:ext cx="10670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Straight Arrow Connector 31"/>
          <p:cNvCxnSpPr/>
          <p:nvPr/>
        </p:nvCxnSpPr>
        <p:spPr>
          <a:xfrm flipH="1" flipV="1">
            <a:off x="3276360" y="608760"/>
            <a:ext cx="1219680" cy="3819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112" name="Group 37"/>
          <p:cNvGrpSpPr/>
          <p:nvPr/>
        </p:nvGrpSpPr>
        <p:grpSpPr>
          <a:xfrm>
            <a:off x="1523880" y="685440"/>
            <a:ext cx="1067040" cy="3321360"/>
            <a:chOff x="1523880" y="685440"/>
            <a:chExt cx="1067040" cy="3321360"/>
          </a:xfrm>
        </p:grpSpPr>
        <p:sp>
          <p:nvSpPr>
            <p:cNvPr id="113" name="Can 16"/>
            <p:cNvSpPr/>
            <p:nvPr/>
          </p:nvSpPr>
          <p:spPr>
            <a:xfrm rot="10800000">
              <a:off x="1523880" y="685080"/>
              <a:ext cx="1067040" cy="546120"/>
            </a:xfrm>
            <a:prstGeom prst="can">
              <a:avLst>
                <a:gd name="adj" fmla="val 32435"/>
              </a:avLst>
            </a:prstGeom>
            <a:solidFill>
              <a:srgbClr val="f79646">
                <a:alpha val="25000"/>
              </a:srgbClr>
            </a:solidFill>
            <a:ln w="25560">
              <a:solidFill>
                <a:srgbClr val="385d8a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Can 34"/>
            <p:cNvSpPr/>
            <p:nvPr/>
          </p:nvSpPr>
          <p:spPr>
            <a:xfrm flipV="1">
              <a:off x="1828800" y="1066680"/>
              <a:ext cx="457200" cy="2819520"/>
            </a:xfrm>
            <a:prstGeom prst="can">
              <a:avLst>
                <a:gd name="adj" fmla="val 4055"/>
              </a:avLst>
            </a:prstGeom>
            <a:solidFill>
              <a:srgbClr val="558ed5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Can 35"/>
            <p:cNvSpPr/>
            <p:nvPr/>
          </p:nvSpPr>
          <p:spPr>
            <a:xfrm rot="10800000">
              <a:off x="1523880" y="3733920"/>
              <a:ext cx="1067040" cy="272880"/>
            </a:xfrm>
            <a:prstGeom prst="can">
              <a:avLst>
                <a:gd name="adj" fmla="val 35666"/>
              </a:avLst>
            </a:prstGeom>
            <a:solidFill>
              <a:srgbClr val="bfbfbf">
                <a:alpha val="2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ight Brace 38"/>
          <p:cNvSpPr/>
          <p:nvPr/>
        </p:nvSpPr>
        <p:spPr>
          <a:xfrm flipV="1">
            <a:off x="2590920" y="3276000"/>
            <a:ext cx="609480" cy="685800"/>
          </a:xfrm>
          <a:custGeom>
            <a:avLst/>
            <a:gdLst>
              <a:gd name="textAreaLeft" fmla="*/ 0 w 609480"/>
              <a:gd name="textAreaRight" fmla="*/ 219960 w 60948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31"/>
                  <a:pt x="10800" y="7061"/>
                </a:cubicBezTo>
                <a:lnTo>
                  <a:pt x="10800" y="3278"/>
                </a:lnTo>
                <a:cubicBezTo>
                  <a:pt x="10800" y="6809"/>
                  <a:pt x="16200" y="10339"/>
                  <a:pt x="21600" y="10339"/>
                </a:cubicBezTo>
                <a:cubicBezTo>
                  <a:pt x="16200" y="10339"/>
                  <a:pt x="10800" y="13870"/>
                  <a:pt x="10800" y="17400"/>
                </a:cubicBezTo>
                <a:lnTo>
                  <a:pt x="10800" y="14539"/>
                </a:lnTo>
                <a:cubicBezTo>
                  <a:pt x="10800" y="1807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9"/>
          <p:cNvSpPr/>
          <p:nvPr/>
        </p:nvSpPr>
        <p:spPr>
          <a:xfrm>
            <a:off x="3205800" y="342900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78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Can 43"/>
          <p:cNvSpPr/>
          <p:nvPr/>
        </p:nvSpPr>
        <p:spPr>
          <a:xfrm flipV="1">
            <a:off x="1828800" y="380880"/>
            <a:ext cx="457200" cy="2322720"/>
          </a:xfrm>
          <a:prstGeom prst="can">
            <a:avLst>
              <a:gd name="adj" fmla="val 4921"/>
            </a:avLst>
          </a:prstGeom>
          <a:solidFill>
            <a:srgbClr val="4f81bd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7"/>
          <p:cNvSpPr/>
          <p:nvPr/>
        </p:nvSpPr>
        <p:spPr>
          <a:xfrm>
            <a:off x="4419720" y="762120"/>
            <a:ext cx="3809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The second stop is extra travel used for certain circumstances like evacuating the tip, or drawing up more than the volume indicated on the pipet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an 18"/>
          <p:cNvSpPr/>
          <p:nvPr/>
        </p:nvSpPr>
        <p:spPr>
          <a:xfrm rot="10800000">
            <a:off x="1523880" y="685080"/>
            <a:ext cx="1067040" cy="546120"/>
          </a:xfrm>
          <a:prstGeom prst="can">
            <a:avLst>
              <a:gd name="adj" fmla="val 32435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Block Arc 20"/>
          <p:cNvSpPr/>
          <p:nvPr/>
        </p:nvSpPr>
        <p:spPr>
          <a:xfrm>
            <a:off x="609480" y="1639800"/>
            <a:ext cx="1676520" cy="1244520"/>
          </a:xfrm>
          <a:custGeom>
            <a:avLst/>
            <a:gdLst>
              <a:gd name="textAreaLeft" fmla="*/ 0 w 1676520"/>
              <a:gd name="textAreaRight" fmla="*/ 1473480 w 1676520"/>
              <a:gd name="textAreaTop" fmla="*/ 0 h 1244520"/>
              <a:gd name="textAreaBottom" fmla="*/ 652320 h 1244520"/>
            </a:gdLst>
            <a:ahLst/>
            <a:rect l="textAreaLeft" t="textAreaTop" r="textAreaRight" b="textAreaBottom"/>
            <a:pathLst>
              <a:path w="1676400" h="1244600">
                <a:moveTo>
                  <a:pt x="986" y="652470"/>
                </a:moveTo>
                <a:lnTo>
                  <a:pt x="986" y="652470"/>
                </a:lnTo>
                <a:arcTo wR="838200" hR="622300" stAng="10676170" swAng="8966672"/>
                <a:lnTo>
                  <a:pt x="1262413" y="350802"/>
                </a:lnTo>
                <a:lnTo>
                  <a:pt x="1262413" y="350802"/>
                </a:lnTo>
                <a:arcTo wR="599884" hR="383984" stAng="-1957164" swAng="-8966663"/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iagonal Stripe 21"/>
          <p:cNvSpPr/>
          <p:nvPr/>
        </p:nvSpPr>
        <p:spPr>
          <a:xfrm rot="13935600">
            <a:off x="2311200" y="1288440"/>
            <a:ext cx="1092240" cy="984600"/>
          </a:xfrm>
          <a:custGeom>
            <a:avLst/>
            <a:gdLst>
              <a:gd name="textAreaLeft" fmla="*/ 0 w 1092240"/>
              <a:gd name="textAreaRight" fmla="*/ 892080 w 1092240"/>
              <a:gd name="textAreaTop" fmla="*/ 0 h 984600"/>
              <a:gd name="textAreaBottom" fmla="*/ 804240 h 984600"/>
            </a:gdLst>
            <a:ahLst/>
            <a:rect l="textAreaLeft" t="textAreaTop" r="textAreaRight" b="textAreaBottom"/>
            <a:pathLst>
              <a:path w="1092200" h="984250">
                <a:moveTo>
                  <a:pt x="0" y="623355"/>
                </a:moveTo>
                <a:lnTo>
                  <a:pt x="691723" y="0"/>
                </a:lnTo>
                <a:lnTo>
                  <a:pt x="1092200" y="0"/>
                </a:lnTo>
                <a:lnTo>
                  <a:pt x="0" y="984250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ounded Rectangle 22"/>
          <p:cNvSpPr/>
          <p:nvPr/>
        </p:nvSpPr>
        <p:spPr>
          <a:xfrm flipH="1">
            <a:off x="2438280" y="1969920"/>
            <a:ext cx="457200" cy="9576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957600"/>
              <a:gd name="textAreaBottom" fmla="*/ 935280 h 957600"/>
            </a:gdLst>
            <a:ahLst/>
            <a:rect l="textAreaLeft" t="textAreaTop" r="textAreaRight" b="textAreaBottom"/>
            <a:pathLst>
              <a:path w="21600" h="45222">
                <a:moveTo>
                  <a:pt x="3600" y="0"/>
                </a:moveTo>
                <a:arcTo wR="3600" hR="3600" stAng="16200000" swAng="-5400000"/>
                <a:lnTo>
                  <a:pt x="0" y="41622"/>
                </a:lnTo>
                <a:arcTo wR="3600" hR="3600" stAng="10800000" swAng="-5400000"/>
                <a:lnTo>
                  <a:pt x="18000" y="452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ounded Rectangle 23"/>
          <p:cNvSpPr/>
          <p:nvPr/>
        </p:nvSpPr>
        <p:spPr>
          <a:xfrm>
            <a:off x="1447920" y="1665360"/>
            <a:ext cx="1218960" cy="519264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5192640"/>
              <a:gd name="textAreaBottom" fmla="*/ 5133240 h 5192640"/>
            </a:gdLst>
            <a:ahLst/>
            <a:rect l="textAreaLeft" t="textAreaTop" r="textAreaRight" b="textAreaBottom"/>
            <a:pathLst>
              <a:path w="21600" h="91993">
                <a:moveTo>
                  <a:pt x="3600" y="0"/>
                </a:moveTo>
                <a:arcTo wR="3600" hR="3600" stAng="16200000" swAng="-5400000"/>
                <a:lnTo>
                  <a:pt x="0" y="88393"/>
                </a:lnTo>
                <a:arcTo wR="3600" hR="3600" stAng="10800000" swAng="-5400000"/>
                <a:lnTo>
                  <a:pt x="18000" y="919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ounded Rectangle 24"/>
          <p:cNvSpPr/>
          <p:nvPr/>
        </p:nvSpPr>
        <p:spPr>
          <a:xfrm>
            <a:off x="2514600" y="2808360"/>
            <a:ext cx="457200" cy="396216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962160"/>
              <a:gd name="textAreaBottom" fmla="*/ 3939840 h 3962160"/>
            </a:gdLst>
            <a:ahLst/>
            <a:rect l="textAreaLeft" t="textAreaTop" r="textAreaRight" b="textAreaBottom"/>
            <a:pathLst>
              <a:path w="21600" h="187058">
                <a:moveTo>
                  <a:pt x="3600" y="0"/>
                </a:moveTo>
                <a:arcTo wR="3600" hR="3600" stAng="16200000" swAng="-5400000"/>
                <a:lnTo>
                  <a:pt x="0" y="183458"/>
                </a:lnTo>
                <a:arcTo wR="3600" hR="3600" stAng="10800000" swAng="-5400000"/>
                <a:lnTo>
                  <a:pt x="18000" y="1870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lowchart: Decision 25"/>
          <p:cNvSpPr/>
          <p:nvPr/>
        </p:nvSpPr>
        <p:spPr>
          <a:xfrm>
            <a:off x="1295280" y="1817640"/>
            <a:ext cx="304920" cy="464652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7"/>
          <p:cNvSpPr/>
          <p:nvPr/>
        </p:nvSpPr>
        <p:spPr>
          <a:xfrm rot="16200000">
            <a:off x="1285200" y="3078720"/>
            <a:ext cx="1366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an 29"/>
          <p:cNvSpPr/>
          <p:nvPr/>
        </p:nvSpPr>
        <p:spPr>
          <a:xfrm flipV="1">
            <a:off x="1523880" y="1740600"/>
            <a:ext cx="1067040" cy="3962520"/>
          </a:xfrm>
          <a:prstGeom prst="can">
            <a:avLst>
              <a:gd name="adj" fmla="val 313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an 19"/>
          <p:cNvSpPr/>
          <p:nvPr/>
        </p:nvSpPr>
        <p:spPr>
          <a:xfrm flipV="1">
            <a:off x="1828800" y="1066680"/>
            <a:ext cx="457200" cy="2819520"/>
          </a:xfrm>
          <a:prstGeom prst="can">
            <a:avLst>
              <a:gd name="adj" fmla="val 4055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an 30"/>
          <p:cNvSpPr/>
          <p:nvPr/>
        </p:nvSpPr>
        <p:spPr>
          <a:xfrm rot="10800000">
            <a:off x="1523880" y="3798360"/>
            <a:ext cx="1067040" cy="274680"/>
          </a:xfrm>
          <a:prstGeom prst="can">
            <a:avLst>
              <a:gd name="adj" fmla="val 35666"/>
            </a:avLst>
          </a:prstGeom>
          <a:solidFill>
            <a:srgbClr val="ddd9c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4"/>
          <p:cNvSpPr/>
          <p:nvPr/>
        </p:nvSpPr>
        <p:spPr>
          <a:xfrm rot="16200000">
            <a:off x="1479240" y="5226120"/>
            <a:ext cx="10670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ight Brace 15"/>
          <p:cNvSpPr/>
          <p:nvPr/>
        </p:nvSpPr>
        <p:spPr>
          <a:xfrm flipV="1">
            <a:off x="2590920" y="838080"/>
            <a:ext cx="685800" cy="457200"/>
          </a:xfrm>
          <a:custGeom>
            <a:avLst/>
            <a:gdLst>
              <a:gd name="textAreaLeft" fmla="*/ 0 w 685800"/>
              <a:gd name="textAreaRight" fmla="*/ 247680 w 685800"/>
              <a:gd name="textAreaTop" fmla="*/ 52560 h 457200"/>
              <a:gd name="textAreaBottom" fmla="*/ 40464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972"/>
                  <a:pt x="10800" y="7944"/>
                </a:cubicBezTo>
                <a:lnTo>
                  <a:pt x="10800" y="2395"/>
                </a:lnTo>
                <a:cubicBezTo>
                  <a:pt x="10800" y="6367"/>
                  <a:pt x="16200" y="10339"/>
                  <a:pt x="21600" y="10339"/>
                </a:cubicBezTo>
                <a:cubicBezTo>
                  <a:pt x="16200" y="10339"/>
                  <a:pt x="10800" y="14311"/>
                  <a:pt x="10800" y="18283"/>
                </a:cubicBezTo>
                <a:lnTo>
                  <a:pt x="10800" y="13656"/>
                </a:lnTo>
                <a:cubicBezTo>
                  <a:pt x="10800" y="17628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Arrow Connector 32"/>
          <p:cNvCxnSpPr/>
          <p:nvPr/>
        </p:nvCxnSpPr>
        <p:spPr>
          <a:xfrm flipH="1">
            <a:off x="3276000" y="989640"/>
            <a:ext cx="1143720" cy="766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134" name="Group 28"/>
          <p:cNvGrpSpPr/>
          <p:nvPr/>
        </p:nvGrpSpPr>
        <p:grpSpPr>
          <a:xfrm>
            <a:off x="1523880" y="1142640"/>
            <a:ext cx="1067040" cy="3321360"/>
            <a:chOff x="1523880" y="1142640"/>
            <a:chExt cx="1067040" cy="3321360"/>
          </a:xfrm>
        </p:grpSpPr>
        <p:sp>
          <p:nvSpPr>
            <p:cNvPr id="135" name="Can 33"/>
            <p:cNvSpPr/>
            <p:nvPr/>
          </p:nvSpPr>
          <p:spPr>
            <a:xfrm rot="10800000">
              <a:off x="1523880" y="1142640"/>
              <a:ext cx="1067040" cy="546120"/>
            </a:xfrm>
            <a:prstGeom prst="can">
              <a:avLst>
                <a:gd name="adj" fmla="val 32435"/>
              </a:avLst>
            </a:prstGeom>
            <a:solidFill>
              <a:srgbClr val="f79646">
                <a:alpha val="25000"/>
              </a:srgbClr>
            </a:solidFill>
            <a:ln w="25560">
              <a:solidFill>
                <a:srgbClr val="385d8a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Can 34"/>
            <p:cNvSpPr/>
            <p:nvPr/>
          </p:nvSpPr>
          <p:spPr>
            <a:xfrm flipV="1">
              <a:off x="1828800" y="1523880"/>
              <a:ext cx="457200" cy="2819520"/>
            </a:xfrm>
            <a:prstGeom prst="can">
              <a:avLst>
                <a:gd name="adj" fmla="val 4055"/>
              </a:avLst>
            </a:prstGeom>
            <a:solidFill>
              <a:srgbClr val="558ed5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Can 35"/>
            <p:cNvSpPr/>
            <p:nvPr/>
          </p:nvSpPr>
          <p:spPr>
            <a:xfrm rot="10800000">
              <a:off x="1523880" y="4191120"/>
              <a:ext cx="1067040" cy="272880"/>
            </a:xfrm>
            <a:prstGeom prst="can">
              <a:avLst>
                <a:gd name="adj" fmla="val 35666"/>
              </a:avLst>
            </a:prstGeom>
            <a:solidFill>
              <a:srgbClr val="bfbfbf">
                <a:alpha val="2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ight Brace 36"/>
          <p:cNvSpPr/>
          <p:nvPr/>
        </p:nvSpPr>
        <p:spPr>
          <a:xfrm flipV="1">
            <a:off x="2590920" y="3276000"/>
            <a:ext cx="609480" cy="685800"/>
          </a:xfrm>
          <a:custGeom>
            <a:avLst/>
            <a:gdLst>
              <a:gd name="textAreaLeft" fmla="*/ 0 w 609480"/>
              <a:gd name="textAreaRight" fmla="*/ 219960 w 60948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31"/>
                  <a:pt x="10800" y="7061"/>
                </a:cubicBezTo>
                <a:lnTo>
                  <a:pt x="10800" y="3278"/>
                </a:lnTo>
                <a:cubicBezTo>
                  <a:pt x="10800" y="6809"/>
                  <a:pt x="16200" y="10339"/>
                  <a:pt x="21600" y="10339"/>
                </a:cubicBezTo>
                <a:cubicBezTo>
                  <a:pt x="16200" y="10339"/>
                  <a:pt x="10800" y="13870"/>
                  <a:pt x="10800" y="17400"/>
                </a:cubicBezTo>
                <a:lnTo>
                  <a:pt x="10800" y="14539"/>
                </a:lnTo>
                <a:cubicBezTo>
                  <a:pt x="10800" y="1807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7"/>
          <p:cNvSpPr/>
          <p:nvPr/>
        </p:nvSpPr>
        <p:spPr>
          <a:xfrm>
            <a:off x="3205800" y="342900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78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ight Brace 38"/>
          <p:cNvSpPr/>
          <p:nvPr/>
        </p:nvSpPr>
        <p:spPr>
          <a:xfrm flipV="1">
            <a:off x="2590920" y="3962520"/>
            <a:ext cx="685800" cy="380880"/>
          </a:xfrm>
          <a:custGeom>
            <a:avLst/>
            <a:gdLst>
              <a:gd name="textAreaLeft" fmla="*/ 0 w 685800"/>
              <a:gd name="textAreaRight" fmla="*/ 247680 w 685800"/>
              <a:gd name="textAreaTop" fmla="*/ 43560 h 380880"/>
              <a:gd name="textAreaBottom" fmla="*/ 3373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972"/>
                  <a:pt x="10800" y="7944"/>
                </a:cubicBezTo>
                <a:lnTo>
                  <a:pt x="10800" y="2395"/>
                </a:lnTo>
                <a:cubicBezTo>
                  <a:pt x="10800" y="6367"/>
                  <a:pt x="16200" y="10339"/>
                  <a:pt x="21600" y="10339"/>
                </a:cubicBezTo>
                <a:cubicBezTo>
                  <a:pt x="16200" y="10339"/>
                  <a:pt x="10800" y="14311"/>
                  <a:pt x="10800" y="18283"/>
                </a:cubicBezTo>
                <a:lnTo>
                  <a:pt x="10800" y="13656"/>
                </a:lnTo>
                <a:cubicBezTo>
                  <a:pt x="10800" y="17628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9"/>
          <p:cNvSpPr/>
          <p:nvPr/>
        </p:nvSpPr>
        <p:spPr>
          <a:xfrm>
            <a:off x="4658760" y="3962520"/>
            <a:ext cx="20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Extra volume (?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ight Brace 41"/>
          <p:cNvSpPr/>
          <p:nvPr/>
        </p:nvSpPr>
        <p:spPr>
          <a:xfrm flipV="1">
            <a:off x="2590920" y="151200"/>
            <a:ext cx="609480" cy="685800"/>
          </a:xfrm>
          <a:custGeom>
            <a:avLst/>
            <a:gdLst>
              <a:gd name="textAreaLeft" fmla="*/ 0 w 609480"/>
              <a:gd name="textAreaRight" fmla="*/ 219960 w 60948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31"/>
                  <a:pt x="10800" y="7061"/>
                </a:cubicBezTo>
                <a:lnTo>
                  <a:pt x="10800" y="3278"/>
                </a:lnTo>
                <a:cubicBezTo>
                  <a:pt x="10800" y="6809"/>
                  <a:pt x="16200" y="10339"/>
                  <a:pt x="21600" y="10339"/>
                </a:cubicBezTo>
                <a:cubicBezTo>
                  <a:pt x="16200" y="10339"/>
                  <a:pt x="10800" y="13870"/>
                  <a:pt x="10800" y="17400"/>
                </a:cubicBezTo>
                <a:lnTo>
                  <a:pt x="10800" y="14539"/>
                </a:lnTo>
                <a:cubicBezTo>
                  <a:pt x="10800" y="1807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an 42"/>
          <p:cNvSpPr/>
          <p:nvPr/>
        </p:nvSpPr>
        <p:spPr>
          <a:xfrm rot="10800000">
            <a:off x="1523880" y="-360"/>
            <a:ext cx="1067040" cy="546120"/>
          </a:xfrm>
          <a:prstGeom prst="can">
            <a:avLst>
              <a:gd name="adj" fmla="val 32435"/>
            </a:avLst>
          </a:prstGeom>
          <a:solidFill>
            <a:srgbClr val="f79646">
              <a:alpha val="27000"/>
            </a:srgbClr>
          </a:solidFill>
          <a:ln w="25560">
            <a:solidFill>
              <a:srgbClr val="385d8a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an 44"/>
          <p:cNvSpPr/>
          <p:nvPr/>
        </p:nvSpPr>
        <p:spPr>
          <a:xfrm rot="10800000">
            <a:off x="1523880" y="3123720"/>
            <a:ext cx="1067040" cy="273240"/>
          </a:xfrm>
          <a:prstGeom prst="can">
            <a:avLst>
              <a:gd name="adj" fmla="val 35666"/>
            </a:avLst>
          </a:prstGeom>
          <a:solidFill>
            <a:srgbClr val="ddd9c3">
              <a:alpha val="24000"/>
            </a:srgbClr>
          </a:solidFill>
          <a:ln w="25560">
            <a:solidFill>
              <a:srgbClr val="000000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Straight Arrow Connector 45"/>
          <p:cNvCxnSpPr/>
          <p:nvPr/>
        </p:nvCxnSpPr>
        <p:spPr>
          <a:xfrm flipH="1" flipV="1">
            <a:off x="3351960" y="4190760"/>
            <a:ext cx="12200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Can 43"/>
          <p:cNvSpPr/>
          <p:nvPr/>
        </p:nvSpPr>
        <p:spPr>
          <a:xfrm flipV="1">
            <a:off x="1828800" y="380880"/>
            <a:ext cx="457200" cy="2322720"/>
          </a:xfrm>
          <a:prstGeom prst="can">
            <a:avLst>
              <a:gd name="adj" fmla="val 4921"/>
            </a:avLst>
          </a:prstGeom>
          <a:solidFill>
            <a:srgbClr val="4f81bd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7"/>
          <p:cNvSpPr/>
          <p:nvPr/>
        </p:nvSpPr>
        <p:spPr>
          <a:xfrm>
            <a:off x="4419720" y="7621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Find all three posi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Block Arc 20"/>
          <p:cNvSpPr/>
          <p:nvPr/>
        </p:nvSpPr>
        <p:spPr>
          <a:xfrm>
            <a:off x="609480" y="1639800"/>
            <a:ext cx="1676520" cy="1244520"/>
          </a:xfrm>
          <a:custGeom>
            <a:avLst/>
            <a:gdLst>
              <a:gd name="textAreaLeft" fmla="*/ 0 w 1676520"/>
              <a:gd name="textAreaRight" fmla="*/ 1473480 w 1676520"/>
              <a:gd name="textAreaTop" fmla="*/ 0 h 1244520"/>
              <a:gd name="textAreaBottom" fmla="*/ 652320 h 1244520"/>
            </a:gdLst>
            <a:ahLst/>
            <a:rect l="textAreaLeft" t="textAreaTop" r="textAreaRight" b="textAreaBottom"/>
            <a:pathLst>
              <a:path w="1676400" h="1244600">
                <a:moveTo>
                  <a:pt x="986" y="652470"/>
                </a:moveTo>
                <a:lnTo>
                  <a:pt x="986" y="652470"/>
                </a:lnTo>
                <a:arcTo wR="838200" hR="622300" stAng="10676170" swAng="8966672"/>
                <a:lnTo>
                  <a:pt x="1262413" y="350802"/>
                </a:lnTo>
                <a:lnTo>
                  <a:pt x="1262413" y="350802"/>
                </a:lnTo>
                <a:arcTo wR="599884" hR="383984" stAng="-1957164" swAng="-8966663"/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Diagonal Stripe 21"/>
          <p:cNvSpPr/>
          <p:nvPr/>
        </p:nvSpPr>
        <p:spPr>
          <a:xfrm rot="13935600">
            <a:off x="2311200" y="1288440"/>
            <a:ext cx="1092240" cy="984600"/>
          </a:xfrm>
          <a:custGeom>
            <a:avLst/>
            <a:gdLst>
              <a:gd name="textAreaLeft" fmla="*/ 0 w 1092240"/>
              <a:gd name="textAreaRight" fmla="*/ 892080 w 1092240"/>
              <a:gd name="textAreaTop" fmla="*/ 0 h 984600"/>
              <a:gd name="textAreaBottom" fmla="*/ 804240 h 984600"/>
            </a:gdLst>
            <a:ahLst/>
            <a:rect l="textAreaLeft" t="textAreaTop" r="textAreaRight" b="textAreaBottom"/>
            <a:pathLst>
              <a:path w="1092200" h="984250">
                <a:moveTo>
                  <a:pt x="0" y="623355"/>
                </a:moveTo>
                <a:lnTo>
                  <a:pt x="691723" y="0"/>
                </a:lnTo>
                <a:lnTo>
                  <a:pt x="1092200" y="0"/>
                </a:lnTo>
                <a:lnTo>
                  <a:pt x="0" y="984250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22"/>
          <p:cNvSpPr/>
          <p:nvPr/>
        </p:nvSpPr>
        <p:spPr>
          <a:xfrm flipH="1">
            <a:off x="2438280" y="1969920"/>
            <a:ext cx="457200" cy="9576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957600"/>
              <a:gd name="textAreaBottom" fmla="*/ 935280 h 957600"/>
            </a:gdLst>
            <a:ahLst/>
            <a:rect l="textAreaLeft" t="textAreaTop" r="textAreaRight" b="textAreaBottom"/>
            <a:pathLst>
              <a:path w="21600" h="45222">
                <a:moveTo>
                  <a:pt x="3600" y="0"/>
                </a:moveTo>
                <a:arcTo wR="3600" hR="3600" stAng="16200000" swAng="-5400000"/>
                <a:lnTo>
                  <a:pt x="0" y="41622"/>
                </a:lnTo>
                <a:arcTo wR="3600" hR="3600" stAng="10800000" swAng="-5400000"/>
                <a:lnTo>
                  <a:pt x="18000" y="452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ounded Rectangle 23"/>
          <p:cNvSpPr/>
          <p:nvPr/>
        </p:nvSpPr>
        <p:spPr>
          <a:xfrm>
            <a:off x="1447920" y="1665360"/>
            <a:ext cx="1218960" cy="519264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5192640"/>
              <a:gd name="textAreaBottom" fmla="*/ 5133240 h 5192640"/>
            </a:gdLst>
            <a:ahLst/>
            <a:rect l="textAreaLeft" t="textAreaTop" r="textAreaRight" b="textAreaBottom"/>
            <a:pathLst>
              <a:path w="21600" h="91993">
                <a:moveTo>
                  <a:pt x="3600" y="0"/>
                </a:moveTo>
                <a:arcTo wR="3600" hR="3600" stAng="16200000" swAng="-5400000"/>
                <a:lnTo>
                  <a:pt x="0" y="88393"/>
                </a:lnTo>
                <a:arcTo wR="3600" hR="3600" stAng="10800000" swAng="-5400000"/>
                <a:lnTo>
                  <a:pt x="18000" y="919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ounded Rectangle 24"/>
          <p:cNvSpPr/>
          <p:nvPr/>
        </p:nvSpPr>
        <p:spPr>
          <a:xfrm>
            <a:off x="2514600" y="2808360"/>
            <a:ext cx="457200" cy="396216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962160"/>
              <a:gd name="textAreaBottom" fmla="*/ 3939840 h 3962160"/>
            </a:gdLst>
            <a:ahLst/>
            <a:rect l="textAreaLeft" t="textAreaTop" r="textAreaRight" b="textAreaBottom"/>
            <a:pathLst>
              <a:path w="21600" h="187058">
                <a:moveTo>
                  <a:pt x="3600" y="0"/>
                </a:moveTo>
                <a:arcTo wR="3600" hR="3600" stAng="16200000" swAng="-5400000"/>
                <a:lnTo>
                  <a:pt x="0" y="183458"/>
                </a:lnTo>
                <a:arcTo wR="3600" hR="3600" stAng="10800000" swAng="-5400000"/>
                <a:lnTo>
                  <a:pt x="18000" y="1870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lowchart: Decision 25"/>
          <p:cNvSpPr/>
          <p:nvPr/>
        </p:nvSpPr>
        <p:spPr>
          <a:xfrm>
            <a:off x="1295280" y="1817640"/>
            <a:ext cx="304920" cy="464652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7"/>
          <p:cNvSpPr/>
          <p:nvPr/>
        </p:nvSpPr>
        <p:spPr>
          <a:xfrm rot="16200000">
            <a:off x="1285200" y="3078720"/>
            <a:ext cx="1366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an 29"/>
          <p:cNvSpPr/>
          <p:nvPr/>
        </p:nvSpPr>
        <p:spPr>
          <a:xfrm flipV="1">
            <a:off x="1523880" y="1740600"/>
            <a:ext cx="1067040" cy="3962520"/>
          </a:xfrm>
          <a:prstGeom prst="can">
            <a:avLst>
              <a:gd name="adj" fmla="val 313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an 19"/>
          <p:cNvSpPr/>
          <p:nvPr/>
        </p:nvSpPr>
        <p:spPr>
          <a:xfrm flipV="1">
            <a:off x="1828800" y="1066680"/>
            <a:ext cx="457200" cy="2819520"/>
          </a:xfrm>
          <a:prstGeom prst="can">
            <a:avLst>
              <a:gd name="adj" fmla="val 4055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4"/>
          <p:cNvSpPr/>
          <p:nvPr/>
        </p:nvSpPr>
        <p:spPr>
          <a:xfrm rot="16200000">
            <a:off x="1479240" y="5226120"/>
            <a:ext cx="10670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ight Brace 15"/>
          <p:cNvSpPr/>
          <p:nvPr/>
        </p:nvSpPr>
        <p:spPr>
          <a:xfrm flipV="1">
            <a:off x="2590920" y="228240"/>
            <a:ext cx="685800" cy="1295280"/>
          </a:xfrm>
          <a:custGeom>
            <a:avLst/>
            <a:gdLst>
              <a:gd name="textAreaLeft" fmla="*/ 0 w 685800"/>
              <a:gd name="textAreaRight" fmla="*/ 247680 w 685800"/>
              <a:gd name="textAreaTop" fmla="*/ 78840 h 1295280"/>
              <a:gd name="textAreaBottom" fmla="*/ 12164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03"/>
                  <a:pt x="10800" y="4206"/>
                </a:cubicBezTo>
                <a:lnTo>
                  <a:pt x="10800" y="6133"/>
                </a:lnTo>
                <a:cubicBezTo>
                  <a:pt x="10800" y="8236"/>
                  <a:pt x="16200" y="10339"/>
                  <a:pt x="21600" y="10339"/>
                </a:cubicBezTo>
                <a:cubicBezTo>
                  <a:pt x="16200" y="10339"/>
                  <a:pt x="10800" y="12442"/>
                  <a:pt x="10800" y="14545"/>
                </a:cubicBezTo>
                <a:lnTo>
                  <a:pt x="10800" y="17394"/>
                </a:lnTo>
                <a:cubicBezTo>
                  <a:pt x="10800" y="19497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Straight Arrow Connector 32"/>
          <p:cNvCxnSpPr/>
          <p:nvPr/>
        </p:nvCxnSpPr>
        <p:spPr>
          <a:xfrm flipH="1" flipV="1">
            <a:off x="3352320" y="914400"/>
            <a:ext cx="1067760" cy="766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160" name="Group 28"/>
          <p:cNvGrpSpPr/>
          <p:nvPr/>
        </p:nvGrpSpPr>
        <p:grpSpPr>
          <a:xfrm>
            <a:off x="1523880" y="1142640"/>
            <a:ext cx="1067040" cy="3321360"/>
            <a:chOff x="1523880" y="1142640"/>
            <a:chExt cx="1067040" cy="3321360"/>
          </a:xfrm>
        </p:grpSpPr>
        <p:sp>
          <p:nvSpPr>
            <p:cNvPr id="161" name="Can 33"/>
            <p:cNvSpPr/>
            <p:nvPr/>
          </p:nvSpPr>
          <p:spPr>
            <a:xfrm rot="10800000">
              <a:off x="1523880" y="1142640"/>
              <a:ext cx="1067040" cy="546120"/>
            </a:xfrm>
            <a:prstGeom prst="can">
              <a:avLst>
                <a:gd name="adj" fmla="val 32435"/>
              </a:avLst>
            </a:prstGeom>
            <a:solidFill>
              <a:srgbClr val="f79646">
                <a:alpha val="25000"/>
              </a:srgbClr>
            </a:solidFill>
            <a:ln w="25560">
              <a:solidFill>
                <a:srgbClr val="385d8a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Can 34"/>
            <p:cNvSpPr/>
            <p:nvPr/>
          </p:nvSpPr>
          <p:spPr>
            <a:xfrm flipV="1">
              <a:off x="1828800" y="1523880"/>
              <a:ext cx="457200" cy="2819520"/>
            </a:xfrm>
            <a:prstGeom prst="can">
              <a:avLst>
                <a:gd name="adj" fmla="val 4055"/>
              </a:avLst>
            </a:prstGeom>
            <a:solidFill>
              <a:srgbClr val="558ed5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Can 35"/>
            <p:cNvSpPr/>
            <p:nvPr/>
          </p:nvSpPr>
          <p:spPr>
            <a:xfrm rot="10800000">
              <a:off x="1523880" y="4191120"/>
              <a:ext cx="1067040" cy="272880"/>
            </a:xfrm>
            <a:prstGeom prst="can">
              <a:avLst>
                <a:gd name="adj" fmla="val 35666"/>
              </a:avLst>
            </a:prstGeom>
            <a:solidFill>
              <a:srgbClr val="bfbfbf">
                <a:alpha val="25000"/>
              </a:srgbClr>
            </a:solidFill>
            <a:ln w="25560">
              <a:solidFill>
                <a:srgbClr val="0000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Can 42"/>
          <p:cNvSpPr/>
          <p:nvPr/>
        </p:nvSpPr>
        <p:spPr>
          <a:xfrm rot="10800000">
            <a:off x="1523880" y="-360"/>
            <a:ext cx="1067040" cy="546120"/>
          </a:xfrm>
          <a:prstGeom prst="can">
            <a:avLst>
              <a:gd name="adj" fmla="val 32435"/>
            </a:avLst>
          </a:prstGeom>
          <a:solidFill>
            <a:srgbClr val="f79646">
              <a:alpha val="27000"/>
            </a:srgbClr>
          </a:solidFill>
          <a:ln w="25560">
            <a:solidFill>
              <a:srgbClr val="385d8a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an 44"/>
          <p:cNvSpPr/>
          <p:nvPr/>
        </p:nvSpPr>
        <p:spPr>
          <a:xfrm rot="10800000">
            <a:off x="1523880" y="3123720"/>
            <a:ext cx="1067040" cy="273240"/>
          </a:xfrm>
          <a:prstGeom prst="can">
            <a:avLst>
              <a:gd name="adj" fmla="val 35666"/>
            </a:avLst>
          </a:prstGeom>
          <a:solidFill>
            <a:srgbClr val="ddd9c3">
              <a:alpha val="24000"/>
            </a:srgbClr>
          </a:solidFill>
          <a:ln w="25560">
            <a:solidFill>
              <a:srgbClr val="000000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an 40"/>
          <p:cNvSpPr/>
          <p:nvPr/>
        </p:nvSpPr>
        <p:spPr>
          <a:xfrm rot="10800000">
            <a:off x="1523880" y="608760"/>
            <a:ext cx="1067040" cy="546120"/>
          </a:xfrm>
          <a:prstGeom prst="can">
            <a:avLst>
              <a:gd name="adj" fmla="val 32435"/>
            </a:avLst>
          </a:prstGeom>
          <a:solidFill>
            <a:srgbClr val="f79646">
              <a:alpha val="27000"/>
            </a:srgbClr>
          </a:solidFill>
          <a:ln w="25560">
            <a:solidFill>
              <a:srgbClr val="385d8a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an 47"/>
          <p:cNvSpPr/>
          <p:nvPr/>
        </p:nvSpPr>
        <p:spPr>
          <a:xfrm rot="10800000">
            <a:off x="1523880" y="3733920"/>
            <a:ext cx="1067040" cy="272880"/>
          </a:xfrm>
          <a:prstGeom prst="can">
            <a:avLst>
              <a:gd name="adj" fmla="val 35666"/>
            </a:avLst>
          </a:prstGeom>
          <a:solidFill>
            <a:srgbClr val="bfbfbf">
              <a:alpha val="25000"/>
            </a:srgbClr>
          </a:solid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Straight Arrow Connector 48"/>
          <p:cNvCxnSpPr>
            <a:endCxn id="165" idx="2"/>
          </p:cNvCxnSpPr>
          <p:nvPr/>
        </p:nvCxnSpPr>
        <p:spPr>
          <a:xfrm flipH="1">
            <a:off x="2590560" y="1522800"/>
            <a:ext cx="2210400" cy="17377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9" name="Straight Arrow Connector 49"/>
          <p:cNvCxnSpPr>
            <a:endCxn id="167" idx="2"/>
          </p:cNvCxnSpPr>
          <p:nvPr/>
        </p:nvCxnSpPr>
        <p:spPr>
          <a:xfrm flipH="1">
            <a:off x="2590560" y="1600200"/>
            <a:ext cx="2134080" cy="2270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0" name="Straight Arrow Connector 50"/>
          <p:cNvCxnSpPr>
            <a:endCxn id="163" idx="2"/>
          </p:cNvCxnSpPr>
          <p:nvPr/>
        </p:nvCxnSpPr>
        <p:spPr>
          <a:xfrm flipH="1">
            <a:off x="2590560" y="1523880"/>
            <a:ext cx="2210400" cy="28044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8"/>
          <p:cNvGrpSpPr/>
          <p:nvPr/>
        </p:nvGrpSpPr>
        <p:grpSpPr>
          <a:xfrm>
            <a:off x="1295280" y="533520"/>
            <a:ext cx="1492200" cy="5486400"/>
            <a:chOff x="1295280" y="533520"/>
            <a:chExt cx="1492200" cy="5486400"/>
          </a:xfrm>
        </p:grpSpPr>
        <p:sp>
          <p:nvSpPr>
            <p:cNvPr id="172" name="Trapezoid 33"/>
            <p:cNvSpPr/>
            <p:nvPr/>
          </p:nvSpPr>
          <p:spPr>
            <a:xfrm rot="10800000">
              <a:off x="1872720" y="3647880"/>
              <a:ext cx="577800" cy="639720"/>
            </a:xfrm>
            <a:custGeom>
              <a:avLst/>
              <a:gdLst>
                <a:gd name="textAreaLeft" fmla="*/ 96120 w 577800"/>
                <a:gd name="textAreaRight" fmla="*/ 481680 w 577800"/>
                <a:gd name="textAreaTop" fmla="*/ 10656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609204" h="760298">
                  <a:moveTo>
                    <a:pt x="0" y="760298"/>
                  </a:moveTo>
                  <a:lnTo>
                    <a:pt x="152301" y="0"/>
                  </a:lnTo>
                  <a:lnTo>
                    <a:pt x="456903" y="0"/>
                  </a:lnTo>
                  <a:lnTo>
                    <a:pt x="609204" y="760298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Can 34"/>
            <p:cNvSpPr/>
            <p:nvPr/>
          </p:nvSpPr>
          <p:spPr>
            <a:xfrm rot="10800000">
              <a:off x="1872720" y="533520"/>
              <a:ext cx="506520" cy="25704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Can 35"/>
            <p:cNvSpPr/>
            <p:nvPr/>
          </p:nvSpPr>
          <p:spPr>
            <a:xfrm flipV="1">
              <a:off x="2017800" y="761400"/>
              <a:ext cx="191880" cy="609480"/>
            </a:xfrm>
            <a:prstGeom prst="can">
              <a:avLst>
                <a:gd name="adj" fmla="val 6986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Block Arc 36"/>
            <p:cNvSpPr/>
            <p:nvPr/>
          </p:nvSpPr>
          <p:spPr>
            <a:xfrm>
              <a:off x="1295280" y="1274760"/>
              <a:ext cx="650880" cy="512640"/>
            </a:xfrm>
            <a:custGeom>
              <a:avLst/>
              <a:gdLst>
                <a:gd name="textAreaLeft" fmla="*/ 0 w 650880"/>
                <a:gd name="textAreaRight" fmla="*/ 589680 w 650880"/>
                <a:gd name="textAreaTop" fmla="*/ 0 h 512640"/>
                <a:gd name="textAreaBottom" fmla="*/ 266760 h 512640"/>
              </a:gdLst>
              <a:ahLst/>
              <a:rect l="textAreaLeft" t="textAreaTop" r="textAreaRight" b="textAreaBottom"/>
              <a:pathLst>
                <a:path w="686191" h="609369">
                  <a:moveTo>
                    <a:pt x="282" y="317038"/>
                  </a:moveTo>
                  <a:lnTo>
                    <a:pt x="282" y="317038"/>
                  </a:lnTo>
                  <a:arcTo wR="343096" hR="304685" stAng="10676167" swAng="8966674"/>
                  <a:lnTo>
                    <a:pt x="522424" y="189914"/>
                  </a:lnTo>
                  <a:lnTo>
                    <a:pt x="522424" y="189914"/>
                  </a:lnTo>
                  <a:arcTo wR="226414" hR="188003" stAng="-1957169" swAng="-8966653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Diagonal Stripe 37"/>
            <p:cNvSpPr/>
            <p:nvPr/>
          </p:nvSpPr>
          <p:spPr>
            <a:xfrm rot="13935600">
              <a:off x="2369880" y="1285200"/>
              <a:ext cx="368280" cy="304920"/>
            </a:xfrm>
            <a:custGeom>
              <a:avLst/>
              <a:gdLst>
                <a:gd name="textAreaLeft" fmla="*/ 0 w 368280"/>
                <a:gd name="textAreaRight" fmla="*/ 300960 w 368280"/>
                <a:gd name="textAreaTop" fmla="*/ 0 h 304920"/>
                <a:gd name="textAreaBottom" fmla="*/ 249120 h 304920"/>
              </a:gdLst>
              <a:ahLst/>
              <a:rect l="textAreaLeft" t="textAreaTop" r="textAreaRight" b="textAreaBottom"/>
              <a:pathLst>
                <a:path w="437690" h="321338">
                  <a:moveTo>
                    <a:pt x="0" y="203513"/>
                  </a:moveTo>
                  <a:lnTo>
                    <a:pt x="277202" y="0"/>
                  </a:lnTo>
                  <a:lnTo>
                    <a:pt x="437690" y="0"/>
                  </a:lnTo>
                  <a:lnTo>
                    <a:pt x="0" y="321338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ounded Rectangle 38"/>
            <p:cNvSpPr/>
            <p:nvPr/>
          </p:nvSpPr>
          <p:spPr>
            <a:xfrm flipH="1">
              <a:off x="2306880" y="1467000"/>
              <a:ext cx="217440" cy="449280"/>
            </a:xfrm>
            <a:custGeom>
              <a:avLst/>
              <a:gdLst>
                <a:gd name="textAreaLeft" fmla="*/ 10440 w 217440"/>
                <a:gd name="textAreaRight" fmla="*/ 207000 w 217440"/>
                <a:gd name="textAreaTop" fmla="*/ 10440 h 449280"/>
                <a:gd name="textAreaBottom" fmla="*/ 438840 h 449280"/>
              </a:gdLst>
              <a:ahLst/>
              <a:rect l="textAreaLeft" t="textAreaTop" r="textAreaRight" b="textAreaBottom"/>
              <a:pathLst>
                <a:path w="21600" h="44592">
                  <a:moveTo>
                    <a:pt x="3600" y="0"/>
                  </a:moveTo>
                  <a:arcTo wR="3600" hR="3600" stAng="16200000" swAng="-5400000"/>
                  <a:lnTo>
                    <a:pt x="0" y="40992"/>
                  </a:lnTo>
                  <a:arcTo wR="3600" hR="3600" stAng="10800000" swAng="-5400000"/>
                  <a:lnTo>
                    <a:pt x="18000" y="445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ounded Rectangle 39"/>
            <p:cNvSpPr/>
            <p:nvPr/>
          </p:nvSpPr>
          <p:spPr>
            <a:xfrm>
              <a:off x="1801800" y="1274760"/>
              <a:ext cx="577800" cy="2436840"/>
            </a:xfrm>
            <a:custGeom>
              <a:avLst/>
              <a:gdLst>
                <a:gd name="textAreaLeft" fmla="*/ 28080 w 577800"/>
                <a:gd name="textAreaRight" fmla="*/ 549720 w 577800"/>
                <a:gd name="textAreaTop" fmla="*/ 28080 h 2436840"/>
                <a:gd name="textAreaBottom" fmla="*/ 2408760 h 2436840"/>
              </a:gdLst>
              <a:ahLst/>
              <a:rect l="textAreaLeft" t="textAreaTop" r="textAreaRight" b="textAreaBottom"/>
              <a:pathLst>
                <a:path w="21600" h="91054">
                  <a:moveTo>
                    <a:pt x="3600" y="0"/>
                  </a:moveTo>
                  <a:arcTo wR="3600" hR="3600" stAng="16200000" swAng="-5400000"/>
                  <a:lnTo>
                    <a:pt x="0" y="87454"/>
                  </a:lnTo>
                  <a:arcTo wR="3600" hR="3600" stAng="10800000" swAng="-5400000"/>
                  <a:lnTo>
                    <a:pt x="18000" y="910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ounded Rectangle 40"/>
            <p:cNvSpPr/>
            <p:nvPr/>
          </p:nvSpPr>
          <p:spPr>
            <a:xfrm>
              <a:off x="2379960" y="1787400"/>
              <a:ext cx="217440" cy="1860480"/>
            </a:xfrm>
            <a:custGeom>
              <a:avLst/>
              <a:gdLst>
                <a:gd name="textAreaLeft" fmla="*/ 10440 w 217440"/>
                <a:gd name="textAreaRight" fmla="*/ 207000 w 217440"/>
                <a:gd name="textAreaTop" fmla="*/ 10440 h 1860480"/>
                <a:gd name="textAreaBottom" fmla="*/ 1850040 h 1860480"/>
              </a:gdLst>
              <a:ahLst/>
              <a:rect l="textAreaLeft" t="textAreaTop" r="textAreaRight" b="textAreaBottom"/>
              <a:pathLst>
                <a:path w="21600" h="184546">
                  <a:moveTo>
                    <a:pt x="3600" y="0"/>
                  </a:moveTo>
                  <a:arcTo wR="3600" hR="3600" stAng="16200000" swAng="-5400000"/>
                  <a:lnTo>
                    <a:pt x="0" y="180946"/>
                  </a:lnTo>
                  <a:arcTo wR="3600" hR="3600" stAng="10800000" swAng="-5400000"/>
                  <a:lnTo>
                    <a:pt x="18000" y="1845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lowchart: Decision 41"/>
            <p:cNvSpPr/>
            <p:nvPr/>
          </p:nvSpPr>
          <p:spPr>
            <a:xfrm>
              <a:off x="1728720" y="1403280"/>
              <a:ext cx="144360" cy="217944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rapezoid 42"/>
            <p:cNvSpPr/>
            <p:nvPr/>
          </p:nvSpPr>
          <p:spPr>
            <a:xfrm rot="10800000">
              <a:off x="2090520" y="5762880"/>
              <a:ext cx="144360" cy="257040"/>
            </a:xfrm>
            <a:custGeom>
              <a:avLst/>
              <a:gdLst>
                <a:gd name="textAreaLeft" fmla="*/ 23760 w 144360"/>
                <a:gd name="textAreaRight" fmla="*/ 120600 w 144360"/>
                <a:gd name="textAreaTop" fmla="*/ 4284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52300" h="305628">
                  <a:moveTo>
                    <a:pt x="0" y="305628"/>
                  </a:moveTo>
                  <a:lnTo>
                    <a:pt x="38075" y="0"/>
                  </a:lnTo>
                  <a:lnTo>
                    <a:pt x="114225" y="0"/>
                  </a:lnTo>
                  <a:lnTo>
                    <a:pt x="152300" y="305628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43"/>
            <p:cNvSpPr/>
            <p:nvPr/>
          </p:nvSpPr>
          <p:spPr>
            <a:xfrm rot="16200000">
              <a:off x="1777680" y="2383560"/>
              <a:ext cx="6858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rapezoid 44"/>
            <p:cNvSpPr/>
            <p:nvPr/>
          </p:nvSpPr>
          <p:spPr>
            <a:xfrm rot="10800000">
              <a:off x="2017800" y="4224600"/>
              <a:ext cx="288720" cy="1603440"/>
            </a:xfrm>
            <a:custGeom>
              <a:avLst/>
              <a:gdLst>
                <a:gd name="textAreaLeft" fmla="*/ 37440 w 288720"/>
                <a:gd name="textAreaRight" fmla="*/ 251280 w 288720"/>
                <a:gd name="textAreaTop" fmla="*/ 207720 h 1603440"/>
                <a:gd name="textAreaBottom" fmla="*/ 1603800 h 1603440"/>
              </a:gdLst>
              <a:ahLst/>
              <a:rect l="textAreaLeft" t="textAreaTop" r="textAreaRight" b="textAreaBottom"/>
              <a:pathLst>
                <a:path w="304602" h="1905461">
                  <a:moveTo>
                    <a:pt x="0" y="1905461"/>
                  </a:moveTo>
                  <a:lnTo>
                    <a:pt x="59227" y="0"/>
                  </a:lnTo>
                  <a:lnTo>
                    <a:pt x="245375" y="0"/>
                  </a:lnTo>
                  <a:lnTo>
                    <a:pt x="304602" y="1905461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rapezoid 45"/>
          <p:cNvSpPr/>
          <p:nvPr/>
        </p:nvSpPr>
        <p:spPr>
          <a:xfrm rot="10800000">
            <a:off x="2057040" y="5638680"/>
            <a:ext cx="228600" cy="1067040"/>
          </a:xfrm>
          <a:custGeom>
            <a:avLst/>
            <a:gdLst>
              <a:gd name="textAreaLeft" fmla="*/ 62280 w 228600"/>
              <a:gd name="textAreaRight" fmla="*/ 166320 w 228600"/>
              <a:gd name="textAreaTop" fmla="*/ 291600 h 1067040"/>
              <a:gd name="textAreaBottom" fmla="*/ 1067400 h 1067040"/>
            </a:gdLst>
            <a:ahLst/>
            <a:rect l="textAreaLeft" t="textAreaTop" r="textAreaRight" b="textAreaBottom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6"/>
          <p:cNvSpPr/>
          <p:nvPr/>
        </p:nvSpPr>
        <p:spPr>
          <a:xfrm>
            <a:off x="3505320" y="762120"/>
            <a:ext cx="525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Proper Use </a:t>
            </a:r>
            <a:r>
              <a:rPr b="0" lang="en-US" sz="6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8"/>
          <p:cNvGrpSpPr/>
          <p:nvPr/>
        </p:nvGrpSpPr>
        <p:grpSpPr>
          <a:xfrm>
            <a:off x="1295280" y="380880"/>
            <a:ext cx="1492200" cy="5486400"/>
            <a:chOff x="1295280" y="380880"/>
            <a:chExt cx="1492200" cy="5486400"/>
          </a:xfrm>
        </p:grpSpPr>
        <p:sp>
          <p:nvSpPr>
            <p:cNvPr id="187" name="Trapezoid 33"/>
            <p:cNvSpPr/>
            <p:nvPr/>
          </p:nvSpPr>
          <p:spPr>
            <a:xfrm rot="10800000">
              <a:off x="1872720" y="3495240"/>
              <a:ext cx="577800" cy="639720"/>
            </a:xfrm>
            <a:custGeom>
              <a:avLst/>
              <a:gdLst>
                <a:gd name="textAreaLeft" fmla="*/ 96120 w 577800"/>
                <a:gd name="textAreaRight" fmla="*/ 481680 w 577800"/>
                <a:gd name="textAreaTop" fmla="*/ 10656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609204" h="760298">
                  <a:moveTo>
                    <a:pt x="0" y="760298"/>
                  </a:moveTo>
                  <a:lnTo>
                    <a:pt x="152301" y="0"/>
                  </a:lnTo>
                  <a:lnTo>
                    <a:pt x="456903" y="0"/>
                  </a:lnTo>
                  <a:lnTo>
                    <a:pt x="609204" y="760298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Can 34"/>
            <p:cNvSpPr/>
            <p:nvPr/>
          </p:nvSpPr>
          <p:spPr>
            <a:xfrm rot="10800000">
              <a:off x="1872720" y="380880"/>
              <a:ext cx="506520" cy="25704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Can 35"/>
            <p:cNvSpPr/>
            <p:nvPr/>
          </p:nvSpPr>
          <p:spPr>
            <a:xfrm flipV="1">
              <a:off x="2017800" y="608760"/>
              <a:ext cx="191880" cy="609480"/>
            </a:xfrm>
            <a:prstGeom prst="can">
              <a:avLst>
                <a:gd name="adj" fmla="val 6986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Block Arc 36"/>
            <p:cNvSpPr/>
            <p:nvPr/>
          </p:nvSpPr>
          <p:spPr>
            <a:xfrm>
              <a:off x="1295280" y="1122120"/>
              <a:ext cx="650880" cy="512640"/>
            </a:xfrm>
            <a:custGeom>
              <a:avLst/>
              <a:gdLst>
                <a:gd name="textAreaLeft" fmla="*/ 0 w 650880"/>
                <a:gd name="textAreaRight" fmla="*/ 589680 w 650880"/>
                <a:gd name="textAreaTop" fmla="*/ 0 h 512640"/>
                <a:gd name="textAreaBottom" fmla="*/ 266760 h 512640"/>
              </a:gdLst>
              <a:ahLst/>
              <a:rect l="textAreaLeft" t="textAreaTop" r="textAreaRight" b="textAreaBottom"/>
              <a:pathLst>
                <a:path w="686191" h="609369">
                  <a:moveTo>
                    <a:pt x="282" y="317038"/>
                  </a:moveTo>
                  <a:lnTo>
                    <a:pt x="282" y="317038"/>
                  </a:lnTo>
                  <a:arcTo wR="343096" hR="304685" stAng="10676167" swAng="8966674"/>
                  <a:lnTo>
                    <a:pt x="522424" y="189914"/>
                  </a:lnTo>
                  <a:lnTo>
                    <a:pt x="522424" y="189914"/>
                  </a:lnTo>
                  <a:arcTo wR="226414" hR="188003" stAng="-1957169" swAng="-8966653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Diagonal Stripe 37"/>
            <p:cNvSpPr/>
            <p:nvPr/>
          </p:nvSpPr>
          <p:spPr>
            <a:xfrm rot="13935600">
              <a:off x="2369880" y="1132560"/>
              <a:ext cx="368280" cy="304920"/>
            </a:xfrm>
            <a:custGeom>
              <a:avLst/>
              <a:gdLst>
                <a:gd name="textAreaLeft" fmla="*/ 0 w 368280"/>
                <a:gd name="textAreaRight" fmla="*/ 300960 w 368280"/>
                <a:gd name="textAreaTop" fmla="*/ 0 h 304920"/>
                <a:gd name="textAreaBottom" fmla="*/ 249120 h 304920"/>
              </a:gdLst>
              <a:ahLst/>
              <a:rect l="textAreaLeft" t="textAreaTop" r="textAreaRight" b="textAreaBottom"/>
              <a:pathLst>
                <a:path w="437690" h="321338">
                  <a:moveTo>
                    <a:pt x="0" y="203513"/>
                  </a:moveTo>
                  <a:lnTo>
                    <a:pt x="277202" y="0"/>
                  </a:lnTo>
                  <a:lnTo>
                    <a:pt x="437690" y="0"/>
                  </a:lnTo>
                  <a:lnTo>
                    <a:pt x="0" y="321338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ounded Rectangle 38"/>
            <p:cNvSpPr/>
            <p:nvPr/>
          </p:nvSpPr>
          <p:spPr>
            <a:xfrm flipH="1">
              <a:off x="2306880" y="1314360"/>
              <a:ext cx="217440" cy="449280"/>
            </a:xfrm>
            <a:custGeom>
              <a:avLst/>
              <a:gdLst>
                <a:gd name="textAreaLeft" fmla="*/ 10440 w 217440"/>
                <a:gd name="textAreaRight" fmla="*/ 207000 w 217440"/>
                <a:gd name="textAreaTop" fmla="*/ 10440 h 449280"/>
                <a:gd name="textAreaBottom" fmla="*/ 438840 h 449280"/>
              </a:gdLst>
              <a:ahLst/>
              <a:rect l="textAreaLeft" t="textAreaTop" r="textAreaRight" b="textAreaBottom"/>
              <a:pathLst>
                <a:path w="21600" h="44592">
                  <a:moveTo>
                    <a:pt x="3600" y="0"/>
                  </a:moveTo>
                  <a:arcTo wR="3600" hR="3600" stAng="16200000" swAng="-5400000"/>
                  <a:lnTo>
                    <a:pt x="0" y="40992"/>
                  </a:lnTo>
                  <a:arcTo wR="3600" hR="3600" stAng="10800000" swAng="-5400000"/>
                  <a:lnTo>
                    <a:pt x="18000" y="445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ounded Rectangle 39"/>
            <p:cNvSpPr/>
            <p:nvPr/>
          </p:nvSpPr>
          <p:spPr>
            <a:xfrm>
              <a:off x="1801800" y="1122120"/>
              <a:ext cx="577800" cy="2436840"/>
            </a:xfrm>
            <a:custGeom>
              <a:avLst/>
              <a:gdLst>
                <a:gd name="textAreaLeft" fmla="*/ 28080 w 577800"/>
                <a:gd name="textAreaRight" fmla="*/ 549720 w 577800"/>
                <a:gd name="textAreaTop" fmla="*/ 28080 h 2436840"/>
                <a:gd name="textAreaBottom" fmla="*/ 2408760 h 2436840"/>
              </a:gdLst>
              <a:ahLst/>
              <a:rect l="textAreaLeft" t="textAreaTop" r="textAreaRight" b="textAreaBottom"/>
              <a:pathLst>
                <a:path w="21600" h="91054">
                  <a:moveTo>
                    <a:pt x="3600" y="0"/>
                  </a:moveTo>
                  <a:arcTo wR="3600" hR="3600" stAng="16200000" swAng="-5400000"/>
                  <a:lnTo>
                    <a:pt x="0" y="87454"/>
                  </a:lnTo>
                  <a:arcTo wR="3600" hR="3600" stAng="10800000" swAng="-5400000"/>
                  <a:lnTo>
                    <a:pt x="18000" y="910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Rounded Rectangle 40" descr=""/>
            <p:cNvPicPr/>
            <p:nvPr/>
          </p:nvPicPr>
          <p:blipFill>
            <a:blip r:embed="rId1"/>
            <a:stretch/>
          </p:blipFill>
          <p:spPr>
            <a:xfrm>
              <a:off x="2274120" y="1627560"/>
              <a:ext cx="359640" cy="18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Flowchart: Decision 41"/>
            <p:cNvSpPr/>
            <p:nvPr/>
          </p:nvSpPr>
          <p:spPr>
            <a:xfrm>
              <a:off x="1728720" y="1250640"/>
              <a:ext cx="144360" cy="217944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rapezoid 42"/>
            <p:cNvSpPr/>
            <p:nvPr/>
          </p:nvSpPr>
          <p:spPr>
            <a:xfrm rot="10800000">
              <a:off x="2090520" y="5610240"/>
              <a:ext cx="144360" cy="257040"/>
            </a:xfrm>
            <a:custGeom>
              <a:avLst/>
              <a:gdLst>
                <a:gd name="textAreaLeft" fmla="*/ 23760 w 144360"/>
                <a:gd name="textAreaRight" fmla="*/ 120600 w 144360"/>
                <a:gd name="textAreaTop" fmla="*/ 4284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52300" h="305628">
                  <a:moveTo>
                    <a:pt x="0" y="305628"/>
                  </a:moveTo>
                  <a:lnTo>
                    <a:pt x="38075" y="0"/>
                  </a:lnTo>
                  <a:lnTo>
                    <a:pt x="114225" y="0"/>
                  </a:lnTo>
                  <a:lnTo>
                    <a:pt x="152300" y="305628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43"/>
            <p:cNvSpPr/>
            <p:nvPr/>
          </p:nvSpPr>
          <p:spPr>
            <a:xfrm rot="16200000">
              <a:off x="1777680" y="2230920"/>
              <a:ext cx="6858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rapezoid 44"/>
            <p:cNvSpPr/>
            <p:nvPr/>
          </p:nvSpPr>
          <p:spPr>
            <a:xfrm rot="10800000">
              <a:off x="2017800" y="4071960"/>
              <a:ext cx="288720" cy="1603440"/>
            </a:xfrm>
            <a:custGeom>
              <a:avLst/>
              <a:gdLst>
                <a:gd name="textAreaLeft" fmla="*/ 37440 w 288720"/>
                <a:gd name="textAreaRight" fmla="*/ 251280 w 288720"/>
                <a:gd name="textAreaTop" fmla="*/ 207720 h 1603440"/>
                <a:gd name="textAreaBottom" fmla="*/ 1603800 h 1603440"/>
              </a:gdLst>
              <a:ahLst/>
              <a:rect l="textAreaLeft" t="textAreaTop" r="textAreaRight" b="textAreaBottom"/>
              <a:pathLst>
                <a:path w="304602" h="1905461">
                  <a:moveTo>
                    <a:pt x="0" y="1905461"/>
                  </a:moveTo>
                  <a:lnTo>
                    <a:pt x="59227" y="0"/>
                  </a:lnTo>
                  <a:lnTo>
                    <a:pt x="245375" y="0"/>
                  </a:lnTo>
                  <a:lnTo>
                    <a:pt x="304602" y="1905461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rapezoid 45"/>
          <p:cNvSpPr/>
          <p:nvPr/>
        </p:nvSpPr>
        <p:spPr>
          <a:xfrm rot="10800000">
            <a:off x="2057040" y="5638680"/>
            <a:ext cx="228600" cy="1067040"/>
          </a:xfrm>
          <a:custGeom>
            <a:avLst/>
            <a:gdLst>
              <a:gd name="textAreaLeft" fmla="*/ 62280 w 228600"/>
              <a:gd name="textAreaRight" fmla="*/ 166320 w 228600"/>
              <a:gd name="textAreaTop" fmla="*/ 291600 h 1067040"/>
              <a:gd name="textAreaBottom" fmla="*/ 1067400 h 1067040"/>
            </a:gdLst>
            <a:ahLst/>
            <a:rect l="textAreaLeft" t="textAreaTop" r="textAreaRight" b="textAreaBottom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5"/>
          <p:cNvSpPr/>
          <p:nvPr/>
        </p:nvSpPr>
        <p:spPr>
          <a:xfrm>
            <a:off x="4114800" y="1438200"/>
            <a:ext cx="419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 the correct volume on your micropipette by turning the adjustment knob (typically the plunger butt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pipette’s range is 200-1000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 and is set to deliver 278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Straight Arrow Connector 16"/>
          <p:cNvCxnSpPr/>
          <p:nvPr/>
        </p:nvCxnSpPr>
        <p:spPr>
          <a:xfrm flipH="1" flipV="1">
            <a:off x="2361960" y="532800"/>
            <a:ext cx="1753200" cy="11437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2" name="TextBox 18"/>
          <p:cNvSpPr/>
          <p:nvPr/>
        </p:nvSpPr>
        <p:spPr>
          <a:xfrm>
            <a:off x="4267080" y="2286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tting 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1"/>
          <p:cNvSpPr/>
          <p:nvPr/>
        </p:nvSpPr>
        <p:spPr>
          <a:xfrm>
            <a:off x="4419720" y="3276720"/>
            <a:ext cx="838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4:00:31Z</dcterms:created>
  <dc:creator>lawlma</dc:creator>
  <dc:description/>
  <dc:language>en-US</dc:language>
  <cp:lastModifiedBy>Miss</cp:lastModifiedBy>
  <dcterms:modified xsi:type="dcterms:W3CDTF">2017-11-26T13:13:41Z</dcterms:modified>
  <cp:revision>2784</cp:revision>
  <dc:subject/>
  <dc:title>Slide 1</dc:title>
</cp:coreProperties>
</file>