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0.png" ContentType="image/png"/>
  <Override PartName="/ppt/media/image30.wmf" ContentType="image/x-wmf"/>
  <Override PartName="/ppt/media/image27.png" ContentType="image/png"/>
  <Override PartName="/ppt/media/image5.jpeg" ContentType="image/jpeg"/>
  <Override PartName="/ppt/media/image35.png" ContentType="image/png"/>
  <Override PartName="/ppt/media/image8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move the slide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3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3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8941-BF59-4C7A-B425-F5485C461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633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llback pla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used if the project can not be completed as originally planne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ingency pla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put in place to allow for fluctuations that will allow the project to finish as originally plann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ingency reserv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excess amounts of time, dollars, and resources etc. used if necessary in order for the project to finish as originally plann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2166-1CFC-4328-9067-717176B71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F1E-5578-43A2-AB0D-26898EEF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061-EC74-4E4B-BE80-28A22D5C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DFBF3-4C04-4743-9E44-0BCD0035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84E96-06ED-49A3-BF1A-BCD203E2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F44D9-C35F-4546-A175-9A525569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A33FE-C5B0-4021-8328-05E05ACF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88BB8-8E20-4C11-BD6C-417C3A7F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C0A48-57D9-4C85-A781-F8C7B696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FA53F-F4D0-4160-BEBF-92A89782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AF2CA-CF35-46E8-AB8F-7C7EA088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1D132-4206-44DC-AE4F-6E07FCB1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36EBE-A3AF-4345-AB9D-111E3DB8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048-C97E-4F07-AA49-17502C8E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C2C20-0628-4499-9373-B5ED8B0A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76198-192E-4F3A-BA36-22E743EB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8A5EC-DF62-498D-8FC2-7CEAC7B6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BB975-B583-455D-B8F6-D06E02BC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64106-6B95-42F6-8EBA-24AB0071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F15D9-9811-465C-AF9B-E1E93AFA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CE1D0-718D-4E7F-878D-29DBD0AF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9F053-9E40-4303-867C-6875714B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00270-16A9-4B82-B0B7-041FBA72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BA2B9-9EFB-41F4-87C5-B9AFD18B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202-97C4-46C6-9F02-5EDEBB64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D1E1D-09A1-4B7E-9566-01C64E65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0461C-17DD-433F-9BAD-A05A1A4D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7E212-61BE-40BC-B447-3406A326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D388C-088D-44FB-A61B-6A150900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B0B0D-A3BC-4007-894A-9D6DDD6A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307EE-5380-42F5-87F9-5E411C03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78244-552C-4CD0-A7F3-B1385116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105B2-8980-4897-9C32-7E6E5269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08BDD-F186-46B0-BB4B-98C78A86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46582-6184-4921-8117-FE556794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A452-9AFE-4118-9E2E-09E46A73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369FE-9E24-4D65-8297-B4EC166C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7066D-117A-4CAE-A178-8749CF79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71C8A-1FFA-4D1D-B19C-AB9B0B02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02F3-B442-4534-A1C9-A5EBB612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8E17-C75F-4AC3-BCDB-A8DB8629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8091-FEE2-47AE-99CA-AB63A1A3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6CCE-0528-4BA4-8881-5FDA64FF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B261-CC3F-4760-B6C9-A897287F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6E86-DD14-465C-BDD4-E9FBF7A6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365-0C10-447A-B952-DADC7D39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FCE0-8F31-4F50-987A-4F421E73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9B45-ADB3-4E17-89D6-FF8F3A3E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3B07-DA1B-4B61-98A0-2EB22E7D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2145-DE46-440E-9E04-10648733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3E83-FD9B-4EE1-BC9A-6BA46D36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8095F-1F98-4B85-BD2D-99F95EE3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95442-6986-45DE-A8AC-FCAC0FAC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615C0-3E6F-46C6-81EA-D6191DD9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1819C-B436-4C67-9B5F-A8CC427E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F2864-E9AE-4EE6-AC53-E87DFAB9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D8D-0155-44E0-A3BB-68B7F19D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172BE-079A-401C-801E-D3CEEE0A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9F8D9-2359-48C3-A7C1-763CD7B2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CA7C3-D5D9-44A7-B58A-C0EDD5B5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831BE-891E-4403-B8F7-F5578A03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7BACF-D0E3-49A0-BE7E-161E01EE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5F43F-4CC0-41E1-B330-249C0FE8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4AE34-5C7C-481C-9CEF-CAA69173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1CDE0-9728-44B9-A69B-DF3CD902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A220A-F32B-401E-8C3C-78486101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583D3-FC5B-4312-8C64-E56E3EA6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C46-752B-4E55-BAAB-4289FC4F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93E2B-65B3-4BFA-8C1E-FB177728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D7FC6-0A62-422E-893D-7B0560C4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2BAE2-76EB-440F-9B00-65E2E6AA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8E7CF-E328-462E-8952-84D7D894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347C9-A393-498A-A097-ECF833EB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01DEC-07CC-4816-99EB-2D799402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5A56B-88B7-4DF1-B6A6-951E3A97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1EF4E-995D-41C6-9A07-BD9123B6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8A559-A432-4683-9A24-A739DD33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78CE4-9554-46F4-A3C6-62981D9F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160-833C-4773-8896-DECC292B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2433F-DA16-4D3A-B44D-D01DA48A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9452F-4B46-46FD-82C5-6AC28509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68C77-3574-4B15-9F35-BA6C03E6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68D52-BB78-4D49-AA87-24620A23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F58D3-2D3E-4510-8F4B-9A749F0A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A1470-6BF2-4762-A856-39B9AC58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B72E8-CBAE-4A2E-BD88-28BAB5E1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461FF-DA20-4D06-B531-82DB4118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CBE9F-DA6B-41B4-9F1B-F8EBDDCC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27A66-5ACC-4CB8-A079-BBA60796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DA76-055F-4064-8AD0-3FC9A852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CE057-1AC2-4C18-92A9-6A8EB282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0F50F-7D50-4897-AF4B-BF2BE756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37F6D-CB3A-419B-854B-2E952046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A72FD-A45B-405F-9054-3FE0EEC9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0C451-AF3B-4BFF-B8B8-CDA78941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0D3CE-7A42-4862-8D63-5001AA27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82579-1E6B-4B63-A13B-DDFE00E1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D77EB-0D83-4D3B-829A-93BC0504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CBBE1-27F3-4FBF-AD46-9EA6FD87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5652A-0A4A-4EBC-B967-0E08E4BA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3F47-B5F4-433A-835D-FD2AED98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31564-2599-44FF-856B-9B803606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E5CDF-5F72-4614-92C5-7AFDBE0D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D1503-D51E-4D55-864F-46B4BB4A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B340D-80F5-427D-B1C4-9B80E554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23E59-9551-4217-ACD1-D7884127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197F4-4580-4FF6-AFDE-6EF6B772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B1FAD-5999-415F-8646-DC2336F3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E77BE-6A35-4D90-AD8D-B5F4F6DF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80140-307F-4FBD-8F8A-87BB6B10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0167C-00FF-47BF-BB28-01CBE450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29E-3768-47FB-95A1-83C9C2AB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2175B-0422-4354-946C-C80FEEE5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1CEEF-FC2E-4E97-9A28-DD4AE682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86B54-C7B8-4FA1-A41A-2888EBD2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7065E-EC27-4409-BF9A-E2F09BAC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3CEB8-F284-4D70-A689-44E84269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555F6-5918-4A32-8A9E-20C247C7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9E2A3-D7BB-45C4-BE86-AEBF7513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88B3F-76F3-4394-9C19-A33C9463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241A3-A1E3-4EC1-8822-8E109C74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E10D0-B17C-4148-9548-1B683967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AAD-6DF9-41B4-B489-F4E618CD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A367B-D046-4AC1-AD01-BF01CC4B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AF8E4-9ED6-4CE6-B984-8B9BDE27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FB359-31E0-446D-8146-41CD9A9F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C0507-746D-4FA7-BA03-A8CFE2E5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E3D10-4162-4773-9EBE-3DF4FFA5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A1312-261C-4F8C-903C-15BB3F6C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9CEE4-3C9A-497E-AF14-4C4ED9CE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1DD53-2245-4456-8238-FB22229F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6B868-56A3-45E7-8089-49B986C6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62339-A92B-482C-9C8F-687DE0EE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97EA44E8-7B63-48AE-B34A-1A4B3C3D5F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8580-F222-44A3-86CD-74EC6130796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05C6-02B6-41B0-B360-274CE45B13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A59D-7B86-47C6-8A6F-ED058F877AB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B116-8914-4FB4-9D89-8ECDAC1F6E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6D9C-EE71-4DC2-B458-72522AFABCF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e8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8ee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864E-A536-4C9D-82E8-6AFAD76F73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7A59-FBC7-4DF0-BD34-09D20155B77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C0C0-C1D1-4D3A-BBA6-93D1753096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78AF-653C-42A1-808B-8998845A010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35C6-5A8A-411B-8258-BDAA2B8AA9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C145-4B8F-4C70-8C76-750604A582D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174F-9D11-4FAD-B5C4-C57C3776C7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7EAD-E080-42C7-BAB4-C7EA9E0C630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8F77CD6D-D0C3-4193-9A3F-2BE9B3F6E2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3C4D-21D3-4CF7-B8EC-3C5C98ACEA6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5C9B-104C-4E08-84B6-49E200167D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E8EF-7D20-41AA-BBEA-EBD58CD28F9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FB2E-B11C-49D6-AB38-45903DB374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1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4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05D4-4434-49FE-ADF2-D942DDDDAC2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DB19-CAA5-4CFE-B0E4-8FE0C1CD9A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Title 1" descr=""/>
          <p:cNvPicPr/>
          <p:nvPr/>
        </p:nvPicPr>
        <p:blipFill>
          <a:blip r:embed="rId1"/>
          <a:stretch/>
        </p:blipFill>
        <p:spPr>
          <a:xfrm>
            <a:off x="23760" y="1670040"/>
            <a:ext cx="8821800" cy="27003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8 - </a:t>
            </a:r>
            <a:fld id="{14706CA3-05A6-4D3B-AB85-FD7ABC7A37E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nalog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s information from past similar projects or the experience of team members to look for ris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vious projects must be up to date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Delphi Techniq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ing this technique the participants are unknown to each other so ideas can be generated without fear of ridicu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rainstorm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a non-structured or semi-structured method of eliciting ideas from a group with the goal of generating a complete list of ide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D17EEF3A-75CF-4A97-B8DA-BA18305A10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st-it no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uring a short time interval such as five minutes, have each participant write down on post-it notes as many ideas as they can think of putting one idea per post-i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articipants then hand their notes to the moderators who stick them on a chalk or white board. duplicate ideas are stuck on top of each other to reduce the number of entries. A list of ideas is then quickly generated and the team discusses the merits of ea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deas which have close to zero probability of occurring or zero impact to the project are removed from the boar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C54C1345-D04F-48CF-8B7F-89A0ADDA60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ideas that remain must then be rated for likelihood and impact. A large matrix is drawn on the board similar to the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probability and impact matrix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Figure 8-2). The post-it notes can then be moved around inside the matrix until the team agrees on each place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ally, generate the start of the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risk register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figure 8-1) from the remaining post-it no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4FF1C88C-02AE-4BB5-B37F-44BBD178F4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376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roject leader and other key members of the team with interview skills, conduct personal one-on-one discussions with key stakehold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crucial aspect to successful interviewing is to make sure the stakeholders feel comfortable sharing ideas with the interview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uccess of this technique is heavily dependent on the skills of the interview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D0D632EA-0C3D-40CD-B34B-995EA336F3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B6266EA1-0233-4041-9F59-F7B2B23B0A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85345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07BF26DC-AC27-4B0D-8D38-C3F6C5D88E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66666"/>
              </a:solidFill>
              <a:latin typeface="Calibri"/>
              <a:ea typeface="Times New Roman"/>
            </a:endParaRPr>
          </a:p>
        </p:txBody>
      </p:sp>
      <p:pic>
        <p:nvPicPr>
          <p:cNvPr id="563" name="Picture 2" descr="https://media.licdn.com/mpr/mpr/shrinknp_800_800/AAEAAQAAAAAAAAMmAAAAJDdjMzkxY2MyLTM0NzItNDA3Yy04MDAyLTU4ZmUxZTVjMTM5Ng.jpg"/>
          <p:cNvPicPr/>
          <p:nvPr/>
        </p:nvPicPr>
        <p:blipFill>
          <a:blip r:embed="rId1"/>
          <a:stretch/>
        </p:blipFill>
        <p:spPr>
          <a:xfrm>
            <a:off x="990720" y="9907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90CF499A-E152-411E-8C9D-8C90417D71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66666"/>
              </a:solidFill>
              <a:latin typeface="Calibri"/>
              <a:ea typeface="Times New Roman"/>
            </a:endParaRPr>
          </a:p>
        </p:txBody>
      </p:sp>
      <p:pic>
        <p:nvPicPr>
          <p:cNvPr id="568" name="Picture 2" descr="http://businessoflaw.lexisnexis.co.uk/wp-content/uploads/sites/24/2013/01/risk-register1.gif"/>
          <p:cNvPicPr/>
          <p:nvPr/>
        </p:nvPicPr>
        <p:blipFill>
          <a:blip r:embed="rId1"/>
          <a:stretch/>
        </p:blipFill>
        <p:spPr>
          <a:xfrm>
            <a:off x="2209680" y="2438280"/>
            <a:ext cx="54295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bjective methods for qualifying each risk for impact and probability of occurre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s usually involves a method which can be done quickly in a short period of time with little resourc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isk qualitative tools and techniques inclu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nterviews with Subject Matter Experts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bability/Impact matrix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DEC845F5-05D5-4899-B31F-88011CBE19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robability and impact matrix aids the project team in prioritizing which risks need more attention based on either thei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probabilit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f occurring or the size of th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impac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the project or bot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173B79A5-B3D7-487C-98B4-7AB1695A80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91C18B4E-6705-411D-951C-5B675875A3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d2d2d2"/>
              </a:solidFill>
              <a:latin typeface="Calibri"/>
              <a:ea typeface="Times New Roman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581976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fine and recognize ris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fine the contents of a risk management pl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duct a risk identification and prioritization proce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fine the correct risk response strategy for the organiz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1E7C7C79-44DE-4F27-AE30-AA64EF3244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655BA9CF-CE6F-4786-A9B4-C92BEB7533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d2d2d2"/>
              </a:solidFill>
              <a:latin typeface="Calibri"/>
              <a:ea typeface="Times New Roman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219320" y="0"/>
            <a:ext cx="640080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FDEE508B-7378-4156-85E2-B407D2468D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7979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lumns represent the degree of impact to the project’s scope, time, cost, and quality go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example using a five level scale: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zero to low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act,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low to mediu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mediu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medium to hig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high impac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The scores are determined by subject matter experts and historical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ext step determine the probability that a risk will materialize again using expert judgment and historical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417B8FA3-9D7B-4DE5-95A9-5134D7F9D8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Title 1" descr=""/>
          <p:cNvPicPr/>
          <p:nvPr/>
        </p:nvPicPr>
        <p:blipFill>
          <a:blip r:embed="rId1"/>
          <a:stretch/>
        </p:blipFill>
        <p:spPr>
          <a:xfrm>
            <a:off x="201600" y="-648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5F2A9857-C0F0-4DA9-A305-99CE25EEE7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" descr=""/>
          <p:cNvPicPr/>
          <p:nvPr/>
        </p:nvPicPr>
        <p:blipFill>
          <a:blip r:embed="rId2"/>
          <a:stretch/>
        </p:blipFill>
        <p:spPr>
          <a:xfrm>
            <a:off x="939960" y="1600200"/>
            <a:ext cx="732456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ch like qualitative risk analysis, quantitative risk analysis attempts to estimate the impact a risk may have on a project as well as the proba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key difference between the two is that quantitative analysis is based o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mathematic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statistic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echniques to model the behavior of a particular ris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CF485C25-5708-48E9-9EEB-F1BDAB8B86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ision trees with expected monetary value analy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mulation (Monte Carl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7BDDF17E-7F8C-45DB-A0DD-BCE6E83A3A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identifying and quantifying risk, you must decide how to respond to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1080" indent="-25272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 main strateg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1840" indent="-3474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sk avoida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liminating a specific threat or risk, usually by eliminating its ca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1840" indent="-3474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sk accepta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ccepting the consequences should a risk occur without trying to control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1840" indent="-3474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sk transfere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shifting the consequence of a risk and responsibility for its management to a third party internal or external to the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1840" indent="-3474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sk mitig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reducing the impact of a risk event by reducing the probability of its occur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080" indent="-25272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BE9D2F80-90DD-4092-9A72-80850E632E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Title 1" descr=""/>
          <p:cNvPicPr/>
          <p:nvPr/>
        </p:nvPicPr>
        <p:blipFill>
          <a:blip r:embed="rId1"/>
          <a:stretch/>
        </p:blipFill>
        <p:spPr>
          <a:xfrm>
            <a:off x="201600" y="262080"/>
            <a:ext cx="8491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final step after the risk response has been chosen; update the risk register with the mitigation strategy: fallback plans, contingency plans, and contingency reserve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3328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allback pla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3328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ntingency plans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3328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ntingency reserv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tingency plans use the contingency reserves to meet project objectiv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888394F9-F3D2-4D29-AFC5-8820D17648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Title 1" descr=""/>
          <p:cNvPicPr/>
          <p:nvPr/>
        </p:nvPicPr>
        <p:blipFill>
          <a:blip r:embed="rId1"/>
          <a:stretch/>
        </p:blipFill>
        <p:spPr>
          <a:xfrm>
            <a:off x="201600" y="225360"/>
            <a:ext cx="84916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00"/>
              </a:spcBef>
              <a:buClr>
                <a:srgbClr val="ff388c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ild/choose the risk management plan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buClr>
                <a:srgbClr val="ff388c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ntify ris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buClr>
                <a:srgbClr val="ff388c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isk assess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buClr>
                <a:srgbClr val="ff388c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plete the risk regis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buClr>
                <a:srgbClr val="ff388c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plete the risk management plan (budget, schedule of activities, any specific tools need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38FCB847-F4F1-4332-BA5F-5535AF76C0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very IT project regardless of size, complexity, location, or organization contains some measure of ris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id the project team in assessing the impact a negative event will have on the project and how likely (generally expressed as a percentage or qualitative term) is the event to occu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The PM’s objective: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s not the removal of all risk, this simply can’t be done, but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to identify and manage risks to the benefit of the pro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isks on a project can be a good thing if managed appropriate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main objective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risk management are to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increase the probability and impact of positive outcome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decrease the probability and impact of negative outcom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8E0C67F2-6D67-4CF1-949E-71C02F3B32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Title 1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61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risis managemen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 opposite of good risk management – organizations find themselves trying to figure out what to do about a problem after it has occurred instead of planning for issues in adv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E02902D2-F3AA-4E7E-B744-623852B52B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Title 1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61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Function of the {likelihood, and impact}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 event if it occurs will have a negative impact on one or more of: project scope, time, cost, quality, or resour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D0302B77-830E-4971-879A-093541EFF6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3200" indent="-22860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sk management planning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ciding how to approach and plan the risk management activities for the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3200" indent="-22860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sk identificatio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determining which risks are likely to affect a project and documenting their characteris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3200" indent="-22860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Qualitative risk analysi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aracterizing and analyzing risks and prioritizing their effects on project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3200" indent="-22860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Quantitative risk analy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measuring the probability and consequences of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3200" indent="-22860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sk response planning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aking steps to enhance opportunities and reduce threats to meeting project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E71AC8EA-5A3A-455A-8929-24A288683C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Title 1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58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main deliverable of risk management planning is th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risk management pla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risk management plan is created early in the planning phase of the project and updated throughout the life of the projec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A7090F22-16E9-4506-A845-1452042B9B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first step is to identify as many risks as possible for the upcoming project with the knowledge that you can never see them al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isk identification is not a one time process; but should be a continuous process of team members and stakeholders looking for new issues that may affect the success of the project  Broad Organizational Catego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nalog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rainstorm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nterview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lphi Techniqu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WOT Analysi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3C8AA020-CFEF-44C0-96B9-78CF6DBDF7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ople (human resourc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chnology (chang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Quality and performance issu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ustom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end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und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tical Issues or Legal Issu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rket For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6FB9CDF6-296B-409B-A157-1A5740BFC7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ma</dc:creator>
  <dc:description/>
  <dc:language>en-US</dc:language>
  <cp:lastModifiedBy>User</cp:lastModifiedBy>
  <cp:lastPrinted>2014-11-11T22:40:48Z</cp:lastPrinted>
  <dcterms:modified xsi:type="dcterms:W3CDTF">2016-03-27T04:13:08Z</dcterms:modified>
  <cp:revision>30</cp:revision>
  <dc:subject/>
  <dc:title>Chapter One</dc:title>
</cp:coreProperties>
</file>