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0.png" ContentType="image/png"/>
  <Override PartName="/ppt/media/image30.wmf" ContentType="image/x-wmf"/>
  <Override PartName="/ppt/media/image27.png" ContentType="image/png"/>
  <Override PartName="/ppt/media/image5.jpeg" ContentType="image/jpeg"/>
  <Override PartName="/ppt/media/image35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move the slide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F58C-DF30-4332-8F84-FBE577D1A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33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llback pla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used if the project can not be completed as originally planne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ingency pla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put in place to allow for fluctuations that will allow the project to finish as originally plann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ingency reserv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excess amounts of time, dollars, and resources etc. used if necessary in order for the project to finish as originally plann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A5FF-5C86-435F-9397-631740471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810-C33F-4D09-9D0F-B0C08D16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F29-1411-48E9-9EBB-5227E85B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1AD31-B3E1-4C58-97F0-80A15F8B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6582A-47B3-4C4B-8ED6-2691B5BA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58F03-A44C-4197-A845-7BC955BA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A8CB1-57DF-45A0-BC80-1E495E8F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B8F5F-778A-49B1-9DBC-E2EBCCDF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034E1-434B-4AA2-A4DE-75773FF0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C3253-90EE-43C2-8C87-B7322F48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2E883-19B3-4826-930E-47540F44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8F920-B2F7-47B0-95B9-036EB309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B3A38-445E-48FE-A795-7F472D02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2C0-C0F3-46F3-987A-2A1D042E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DEA06-3179-4900-A436-761D6606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EDB35-CC38-40A5-B88A-774FA63D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C1826-D6CF-44D7-ACE1-7BA63490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C5FA1-674D-47BC-96BE-72B23647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E8A02-87DC-4116-ACC1-5B4B04AE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8B853-0EB0-4DC7-A5B7-6119B27C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32958-EB8F-4D04-BE28-4E92FE13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7FFE5-1ECE-4731-9563-1EB6210B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748FD-3DC5-4287-845A-F4F30A76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06EA9-B5D5-4103-99A5-B857EEFA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65A-3864-4D76-B132-5D583F55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22E09-17CC-46F9-86F2-7793C07B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9662B-59E4-4C61-A9F0-25F560B2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135AA-883A-4121-ABAD-758352F5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B9ABE-5409-491C-8896-5B2BA816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A58F2-C9EB-471C-9D7B-17B14089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E69E8-37E8-48B4-A32E-23844E0B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A8E4C-9812-45C3-A246-1F62645A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39BEE-2F84-414E-9348-2581E610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94B0A-3E65-4C24-B9BF-24DC2295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4C356-C863-4E29-82C1-27F02610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3F8B-7F02-460C-84F3-52F51DB2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C1DD9-6A7B-49C8-9E07-5763D89C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7F0D2-7A2C-4D22-9C91-F5D8AC17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4E253-C1E8-4A89-9E05-E4F4F897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B476-6570-4FCA-A668-C897093B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9889-C15E-4EF8-8A27-2D64A226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27BC-BC9D-4744-BC93-3A657ACC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CF17-3B35-4EAD-99F1-7ADBEDC5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550B-800D-4915-B545-02E72027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41E0-0184-435D-A2FC-D80B96F1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4EA2-7A2C-4394-8BAD-0AD811D1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502B-D787-436B-AA18-045158C6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F249-FA53-4430-96AD-FF373D86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B34F-63BC-467F-9449-85CB2A09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CD5F-824D-4838-A198-7316D614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F62C-A4E0-4E8F-89AC-F58B6DAA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60917-838C-41C3-9377-7E678DB2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B25A7-03A7-41DD-A6E2-34DAA5A7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72B44-5082-47E3-8A23-24C6990D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9B892-B565-42F0-873E-21B3F0DA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43CD4-6A82-4B88-AB16-15302BF3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C5E3-EA50-4B21-A2FB-175CDA95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7D9B5-15FB-46A5-87AF-441EE080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5660-3326-4499-BB45-0FB02692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AC066-9AC1-4B4C-88C5-5C34172A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D1140-154D-467C-8588-1AC50F1B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0B27-097A-49EF-ACDF-3126F2FD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30EB3-806C-4BBB-B52D-FF59AED5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27C09-FE09-42AB-B2F6-C6E18F2F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40A70-ED38-48CC-9F8F-3D48F567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8FFA8-4947-4157-80C9-33708841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61DBE-9E4E-4E1C-839B-1BBC00A2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393-F196-42E1-B4F9-2362B8C7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11CB2-3101-4075-BA59-BDC051FD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E1E53-4D74-4BA2-B71E-853661CD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2246D-F85C-478C-BAB2-C8CBEB1D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C46AA-83A0-4A5B-B3AA-D370862C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33DAC-E07C-4632-9488-2CA62E7F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D7497-375E-4487-A40C-312449DF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E8EC-162F-41AC-91D3-81501E0A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F14D6-0BF0-4555-BB10-461820FA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D95E0-E78F-4D52-992C-91DFCAC9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20613-19CE-4E40-9ADF-5AA225B3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5A2B-6FCD-4708-8755-536CE382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BF7B6-27D6-45A7-AC0B-E258BA45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979FC-8203-42DC-B68B-38E94E3B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C6939-1028-4CFB-A194-7CB3A7E1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C8488-80CE-4242-9E23-055B8CCE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472FE-0416-4B8F-8416-E583506C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6C184-E3E7-4817-8870-EF56870B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45176-61E6-4649-8E25-43D698E1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6789B-2A69-490B-AB5D-52E21B4C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3FA48-D69C-4C00-9DA8-44CF3987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7B6BB-3DD8-4AE2-8E90-C6530D7D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003E-47EF-4CA8-BDDB-A6A4B285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A8F3A-A514-4F47-988B-F915187B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F1B4A-2704-4C33-9124-1FACA4FC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A60B3-63B7-4321-8516-1B2904E8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C8237-765D-48C6-9873-FFADA7C2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5C179-40AA-4B41-8043-214CCFF2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56CE1-4A46-4851-A044-4EB8FC82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DCD22-D80A-44D9-9C94-D63B4E9D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DA019-BDA4-4CF9-B451-30269843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7A789-7920-442C-BAA5-B96BA06A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84EC7-A1FD-44C1-A5E7-02697152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CDF-7512-4E45-8093-9F05C365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C7FED-56ED-47D4-A3B2-BEC06A04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168D6-5B27-429A-8F40-A6911641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3255D-073B-4264-87E0-50923A1A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3CAF9-DB90-4059-8FF4-80A90847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7E6D0-EEA1-4C3B-AFD2-37E20A58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98AE1-C406-4457-B27E-93CABDEC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A9CF2-F8E2-4626-8E47-C04849E4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0ADEF-15AD-4552-B621-86BF0F39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F9F6C-0FB9-4A31-A9F6-A4D77F81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57306-E3FA-4119-869A-6EE6F6D0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66B-6106-4867-9C31-28DC69DA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8DE01-F5BC-4965-BD0A-B38DE46F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BB064-A9BD-4D81-B677-D062EB6A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AC29D-BCC4-40A9-A605-420139B8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AF265-01E4-4875-B7DA-2BF7BC3B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424C9-E641-439D-8040-A76F56BA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0E72E-8884-41D4-B9CF-76F43883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867ED-F938-4C0D-AB06-DDDCBB18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48C39-F76D-4414-82D0-0665AECB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385ED-B213-4099-B9EE-AA570067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40ACC-0807-4AA3-B472-EDA18F9B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E43-BB40-446A-B7D0-99D439A1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BB975-F0A7-4A8D-B827-70203F14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A5EA3-FD32-47E8-8A95-954E0B0D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B21A6-CECE-4A92-924B-7FF96E86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B5492-9BA3-4EED-B3EF-CCB1F321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F3812-3A94-40A5-BB5E-9D13DC4C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F44D0-1419-440C-B181-C44B020F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E75E8-BE23-4415-9198-CF9B26A4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476D3-D80D-4001-814A-144F09E5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BA5F3-E955-4A31-B26B-8791DD8C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7F982-A436-42B9-8197-49949A7D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04CD0670-D3FF-4DBA-828E-0F41948005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8640-DE3C-44FB-A63D-9249B28B524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7078-F11E-4D68-86F9-8DD6F619F0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0F91-2800-4FA0-810D-C6A915C416C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8B70-6CC1-495B-B01E-7562C49189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818F-82A5-454D-9321-68D7C54077D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8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8ee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7B17-4D14-4B40-8349-8C282DE315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99F9-80F4-4054-B57A-D8C28192814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D4B2-0D29-4558-A8F0-7B294AF172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5D71-E140-45B7-93EE-5CD9B3B844F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CDC7-F108-4A76-9DEF-14EA6933B1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940E-B873-4A24-BF3F-FE5F421147C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3387-9954-480E-8229-837B227CF8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C7BA-D076-467E-A74B-AF9743F0ABE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C5AAB3F6-72D2-4BD6-B034-9B1AD72DE4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436D-DA38-41A1-902F-3F1F4043F4A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D870-C22A-4737-A56B-A9BACE7985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5298-1F66-445A-9784-4B72DA6D4D8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737D-BB8A-47D2-8F12-CD1C44BC7A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FBD9-4B54-4561-8C2E-B9CF18AAC5A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E5E9-AE6F-4758-B268-1035635A4A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Title 1" descr=""/>
          <p:cNvPicPr/>
          <p:nvPr/>
        </p:nvPicPr>
        <p:blipFill>
          <a:blip r:embed="rId1"/>
          <a:stretch/>
        </p:blipFill>
        <p:spPr>
          <a:xfrm>
            <a:off x="23760" y="1670040"/>
            <a:ext cx="8821800" cy="27003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8 - </a:t>
            </a:r>
            <a:fld id="{22DE4EF6-E7B7-4703-A1FE-331A3F6DFD4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nalog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s information from past similar projects or the experience of team members to look for ri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vious projects must be up to date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Delphi Techniq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ing this technique the participants are unknown to each other so ideas can be generated without fear of ridicu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rainstorm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a non-structured or semi-structured method of eliciting ideas from a group with the goal of generating a complete list of ide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47EA1D71-A4FA-4358-B1BD-213BEACB84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st-it no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uring a short time interval such as five minutes, have each participant write down on post-it notes as many ideas as they can think of putting one idea per post-i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articipants then hand their notes to the moderators who stick them on a chalk or white board. duplicate ideas are stuck on top of each other to reduce the number of entries. A list of ideas is then quickly generated and the team discusses the merits of ea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deas which have close to zero probability of occurring or zero impact to the project are removed from the boar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C9DCC949-D4E4-48C0-87D9-83E2D3CCB4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ideas that remain must then be rated for likelihood and impact. A large matrix is drawn on the board similar to the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probability and impact matrix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Figure 8-2). The post-it notes can then be moved around inside the matrix until the team agrees on each plac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ally, generate the start of the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risk register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figure 8-1) from the remaining post-it no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5576255E-A9A6-470F-B846-8A6DC8FA72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376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oject leader and other key members of the team with interview skills, conduct personal one-on-one discussions with key stakehold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crucial aspect to successful interviewing is to make sure the stakeholders feel comfortable sharing ideas with the interview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uccess of this technique is heavily dependent on the skills of the interview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76214F77-5BCA-4A51-B8CB-3E36DFD8D0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D58686C8-8DAF-49A7-BCF7-5CC036BE4B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8534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B1D82EC4-5D82-4C6A-ACD1-08D8406E83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66666"/>
              </a:solidFill>
              <a:latin typeface="Calibri"/>
              <a:ea typeface="Times New Roman"/>
            </a:endParaRPr>
          </a:p>
        </p:txBody>
      </p:sp>
      <p:pic>
        <p:nvPicPr>
          <p:cNvPr id="563" name="Picture 2" descr="https://media.licdn.com/mpr/mpr/shrinknp_800_800/AAEAAQAAAAAAAAMmAAAAJDdjMzkxY2MyLTM0NzItNDA3Yy04MDAyLTU4ZmUxZTVjMTM5Ng.jpg"/>
          <p:cNvPicPr/>
          <p:nvPr/>
        </p:nvPicPr>
        <p:blipFill>
          <a:blip r:embed="rId1"/>
          <a:stretch/>
        </p:blipFill>
        <p:spPr>
          <a:xfrm>
            <a:off x="990720" y="9907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8614368C-3875-48EF-9B46-5022ED53D3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66666"/>
              </a:solidFill>
              <a:latin typeface="Calibri"/>
              <a:ea typeface="Times New Roman"/>
            </a:endParaRPr>
          </a:p>
        </p:txBody>
      </p:sp>
      <p:pic>
        <p:nvPicPr>
          <p:cNvPr id="568" name="Picture 2" descr="http://businessoflaw.lexisnexis.co.uk/wp-content/uploads/sites/24/2013/01/risk-register1.gif"/>
          <p:cNvPicPr/>
          <p:nvPr/>
        </p:nvPicPr>
        <p:blipFill>
          <a:blip r:embed="rId1"/>
          <a:stretch/>
        </p:blipFill>
        <p:spPr>
          <a:xfrm>
            <a:off x="2209680" y="2438280"/>
            <a:ext cx="542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bjective methods for qualifying each risk for impact and probability of occurre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usually involves a method which can be done quickly in a short period of time with little resourc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isk qualitative tools and techniques inclu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terviews with Subject Matter Expert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bability/Impact matrix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3AE505A6-93AC-44A4-B21C-D172803525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obability and impact matrix aids the project team in prioritizing which risks need more attention based on either thei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probabilit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f occurring or the size of th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impac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the project or bo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B198A1E2-34E9-423E-A3B3-65278ECC9A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AB53B314-1316-45A9-A427-90111F6FF4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d2d2d2"/>
              </a:solidFill>
              <a:latin typeface="Calibri"/>
              <a:ea typeface="Times New Roman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581976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fine and recognize ris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fine the contents of a risk management pl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duct a risk identification and prioritization proc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fine the correct risk response strategy for the organiz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C310F118-3DC6-4107-98C3-2246E16E3B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B7E2A286-FFAA-48A8-81FB-7FE9DF0051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d2d2d2"/>
              </a:solidFill>
              <a:latin typeface="Calibri"/>
              <a:ea typeface="Times New Roman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219320" y="0"/>
            <a:ext cx="640080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E865BDCF-5ED4-4605-9A0A-83BE43D398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7979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lumns represent the degree of impact to the project’s scope, time, cost, and quality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example using a five level scale: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zero to low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act,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low to medi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edi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edium to hig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high impac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The scores are determined by subject matter experts and historical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ext step determine the probability that a risk will materialize again using expert judgment and historical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F79E1297-28F8-4F9E-B5E5-74D4205B73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Title 1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470D120B-4679-42B2-AE93-0951E30157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" descr=""/>
          <p:cNvPicPr/>
          <p:nvPr/>
        </p:nvPicPr>
        <p:blipFill>
          <a:blip r:embed="rId2"/>
          <a:stretch/>
        </p:blipFill>
        <p:spPr>
          <a:xfrm>
            <a:off x="939960" y="1600200"/>
            <a:ext cx="73245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ch like qualitative risk analysis, quantitative risk analysis attempts to estimate the impact a risk may have on a project as well as the proba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key difference between the two is that quantitative analysis is based o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mathematic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statistic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echniques to model the behavior of a particular ris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7C641AB5-44DE-485B-B873-AF4C0C1910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ision trees with expected monetary value analy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mulation (Monte Carl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49BAA77B-1895-4D11-A46E-2053F28D2C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identifying and quantifying risk, you must decide how to respond to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1080" indent="-25272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 main strateg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1840" indent="-3474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 avoida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liminating a specific threat or risk, usually by eliminating its ca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1840" indent="-3474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 accepta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ccepting the consequences should a risk occur without trying to control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1840" indent="-3474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 transfer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shifting the consequence of a risk and responsibility for its management to a third party internal or external to the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1840" indent="-3474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 mitig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ducing the impact of a risk event by reducing the probability of its occur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080" indent="-25272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24A9A847-734A-4628-80C0-A85730CB35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Title 1" descr=""/>
          <p:cNvPicPr/>
          <p:nvPr/>
        </p:nvPicPr>
        <p:blipFill>
          <a:blip r:embed="rId1"/>
          <a:stretch/>
        </p:blipFill>
        <p:spPr>
          <a:xfrm>
            <a:off x="201600" y="262080"/>
            <a:ext cx="8491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final step after the risk response has been chosen; update the risk register with the mitigation strategy: fallback plans, contingency plans, and contingency reserve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3328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allback pla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3328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ntingency plan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3328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ntingency reserv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tingency plans use the contingency reserves to meet project objectiv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B54E59ED-1A5C-422F-84E3-FA9553029A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201600" y="225360"/>
            <a:ext cx="84916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ild/choose the risk management plan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y ris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isk assess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lete the risk regis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lete the risk management plan (budget, schedule of activities, any specific tools need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C6BFF58B-74E6-403E-A8B9-AC9C852B32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very IT project regardless of size, complexity, location, or organization contains some measure of ris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id the project team in assessing the impact a negative event will have on the project and how likely (generally expressed as a percentage or qualitative term) is the event to occu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he PM’s objective: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s not the removal of all risk, this simply can’t be done, but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o identify and manage risks to the benefit of the pro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isks on a project can be a good thing if managed appropriate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main objective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risk management are to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increase the probability and impact of positive outcome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decrease the probability and impact of negative outcom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74C5224C-5894-4069-881A-89DFE87924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Title 1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risis managemen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opposite of good risk management – organizations find themselves trying to figure out what to do about a problem after it has occurred instead of planning for issues in adv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B422348C-DA2D-4B9F-BC82-78480F4AFD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Title 1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Function of the {likelihood, and impact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 event if it occurs will have a negative impact on one or more of: project scope, time, cost, quality, or resour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882453BF-68EC-4B57-BA99-FC1BCEE319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 management planning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iding how to approach and plan the risk management activities for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 identifica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determining which risks are likely to affect a project and documenting their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ualitative risk analysi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aracterizing and analyzing risks and prioritizing their effects on project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uantitative risk analy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measuring the probability and consequences of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 response planning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aking steps to enhance opportunities and reduce threats to meeting project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2D624838-92B3-44B3-B67F-17F0EFB9DE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58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ain deliverable of risk management planning is th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risk management pla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risk management plan is created early in the planning phase of the project and updated throughout the life of the proje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F80A5B19-2947-4015-92B7-8770BFB548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first step is to identify as many risks as possible for the upcoming project with the knowledge that you can never see them a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isk identification is not a one time process; but should be a continuous process of team members and stakeholders looking for new issues that may affect the success of the project  Broad Organizational Catego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nalog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rainstorm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lphi Techniq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C0A7D558-F6E7-4F72-8899-4459736DC6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(human resourc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chnology (chang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uality and performance issu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ustom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end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und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tical Issues or Legal Issu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rket For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C42E8ED0-3539-492D-B01D-F3CE6F5343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ma</dc:creator>
  <dc:description/>
  <dc:language>en-US</dc:language>
  <cp:lastModifiedBy>User</cp:lastModifiedBy>
  <cp:lastPrinted>2014-11-11T22:40:48Z</cp:lastPrinted>
  <dcterms:modified xsi:type="dcterms:W3CDTF">2016-03-27T04:13:08Z</dcterms:modified>
  <cp:revision>30</cp:revision>
  <dc:subject/>
  <dc:title>Chapter One</dc:title>
</cp:coreProperties>
</file>