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174-0836-470C-A247-08A8B03FC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lback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used if the project can not be completed as originally plann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ut in place to allow for fluctuations that will allow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reser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excess amounts of time, dollars, and resources etc. used if necessary in order for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627F-DA7A-4865-A1B2-43513FCDE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C23-98EF-44DF-995C-96A1F9BF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E0A-E1C9-435F-B348-95A61A11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29FBF-820D-4F19-A3AD-7561BAD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8FC75-8E6F-4421-88EE-7E29D01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11802-7155-437B-8976-8779B09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79AF1-5F19-4D47-8379-EF75551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27189-F066-4A49-B000-945D090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87A8A-728E-487C-A5A6-9AEA85E3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08CC4-3C85-4FFA-B551-6CCE83A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239FD-A21F-4E89-8ADE-F2101A3F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E13C6-5149-439D-92EE-89306E73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02B8B-8D1B-4300-91A5-2A74EB01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349-9B43-40FE-A2AC-420FF194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8CA78-9591-4D25-BC91-999F20AF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3CA97-256F-41C0-A3F6-E95B012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B64AE-A139-48A5-B8E4-EA886BF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06603-DF60-4020-ACB3-C45F3A9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46BAF-3F6A-4F3A-8AC6-D6C8AC7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3DF6F-D3F1-4065-8716-20D8CD75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E725D-DAC5-4ACF-BD83-C2CC54B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EF742-C664-40C3-B26C-A450770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E889E-1CC4-4ECD-AF40-2B44B41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1022D-105B-41BB-98A2-A992C241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A2D-B76B-4177-9773-29A789D1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B776A-4D5B-4C2C-98F6-E927A4FE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831D8-2BC2-47AB-8288-2916ED63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6C508-9F4C-4E0A-A67B-E2E3569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58820-7D88-40CB-B24E-2C55585D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2EB9-891D-482C-BD47-ABDA07FB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F5C12-B246-4EC4-BD6B-D53A4BCE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EE51D-B4A3-47F4-A8ED-D25986B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79CB6-30B0-48A0-82C1-CAABB85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FC1F4-E4DD-4F8C-BB30-5920349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0E41-AD7B-4B6F-A6ED-2225B41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121B-2CC4-45E5-B98C-4664464A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BC07E-FB66-466F-9E86-C326FD0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EDC6-0ADE-4D55-8FEF-36E6F47E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D5B35-448E-467C-82E9-9DEBEACC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9151-B5AB-4FE1-A0FC-D4D0DB6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5283-398F-4F75-B0C5-0CBE097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4FA9-99A9-448C-89BD-BF4CA93D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D4BD-E21B-47BA-83E3-5D46D48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297D-B438-4238-9CD0-5F4F4F65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A18C-1ED3-4779-8222-1F15CBD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686-38E6-4B79-A50D-71DB8BBF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96E8-77AE-4E20-A58A-A2B6D98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DE56-A38C-494C-A5FF-EEF836B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0D23-FAA5-4874-97F7-14CFD81B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CBBD-9408-42B4-98C2-36AA5E49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E57A-933B-4E0B-B054-C0C4CE12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1C86-BE46-4927-9B16-CB1FAEE6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CF92-A4F6-4FC2-BD18-074C0CF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AD94-C33D-4FE8-8EF0-D363415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89FC-A9F1-4FAF-B52C-F888FC7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7098-A1E2-424C-9790-D32A190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D35-3632-4841-AABD-EB4B6BA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7BEF-9D6C-4741-A19C-2D9607CD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0A73-1F21-4148-AE8C-C445CC0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FE03-C7B7-4CF4-8BD9-E8B1ED8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5ECA-8D1C-4256-9683-C079CAD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32F3-C919-4FF7-88F2-704483FF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B341-5750-4E1B-90F9-6A1B53AD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E1B5-7DF6-4883-9424-4EF8A2B9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97F5-4F82-48CF-93C2-5D2482DD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E67B-DFAC-41F9-800E-61A9B9D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1A66-2ABA-4E29-909F-11854910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F31-D116-49AC-9AA6-C2102475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24B6-C22A-4B69-94BF-558499F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9B5E-34A6-4163-9E48-97E86CF8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3DDA-FDA0-4820-ABB6-3B989BB0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B6B0-D87E-426D-8E11-5CE66070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95861-03C9-4A45-BFDA-7A8D210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5285-0215-40F6-8B78-9A8FACC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5798-011F-4AF7-8F83-F743214E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2F3D-3385-4B1E-8E17-49646CB2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82B3-FBFE-45F9-BE13-4C433E33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C5DA7-433B-4B51-BCEA-164CCE37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02F-3C9C-4FBA-B8F7-91F48CEF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6234-6D4E-46F3-BD8F-D3D0E20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2883-FFDA-4769-B4E8-C46F30AC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5948-1695-422F-B977-E25B7E40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59E8-CA63-4BE8-A403-DAC9B8C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ED45-83CC-4100-AB5F-FD214F0E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081B-60B4-431D-9BD3-51844EE7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BAF5-4619-43D9-98AD-7FBA697B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3881-E1AE-4785-B539-C5F52F9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7B5E-2E11-4034-8B60-F88198B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4792-422C-4DB3-9BB0-F6B2CA7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73B-2399-4F58-AE8D-4B5BA19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1159-E542-426A-BD08-EA366242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A064-ECA3-45A4-80DA-3C633D47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02EB-2B2A-4B3F-9089-93D9356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54A7-99CC-4DF7-AA98-C6908C8A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E250-9801-4A10-8543-2448673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3B120-BA2D-4919-9055-6120065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667F6-360F-44B8-B72F-941AB451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A6E5-AC2A-4C15-A92E-A2EC85A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C0C3-51E7-4182-997A-2213368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0F2C-006A-4D26-9B92-0908764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D63-3215-4DE9-982A-26A07D63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4E01-A615-4EE7-B185-B3EF8D8B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D57EC-3390-4E37-9873-962D01C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774A-B1A6-4700-B3E9-1F4C1157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6D75-6F1D-4A2A-BF84-D183C521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E716-7EC8-49D3-BF2C-2E2E274C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49261-2E7D-4ADC-99F8-BCF9E58A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223B-B3A2-48E1-AC95-1554572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4EE5-7443-4803-8BD1-23B48F8E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D6F0-FE42-4303-AC3E-AC0131F6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0B84-66E9-48FD-B835-90468693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B6A-4948-45E8-873C-7948A58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2E3F-C4CD-43AC-B385-54378539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74341-C08F-4E63-9084-992E0E5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E4B5-7077-4F41-8D9F-4948B67A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6FA68-2926-4608-B735-19DAEDCC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EC15-DAF1-4C4B-883D-87AB89C1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88C78-40B1-461B-B133-98E30ECB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FF8F1-FA8E-4800-A77F-DC8A3C69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F6CCA-55E9-4C31-9994-4A25C7C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635F-3BF7-426B-BB40-8D1B616D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564FE-0824-4135-A06C-E86DE5B6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03C-E57C-4996-9519-5CDB262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64E60-ABDB-47B5-B701-0EA6376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4DBA-3EF6-4F39-A1FB-2E93412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57F50-E171-4F4A-AE73-6844881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377B-0DEA-483C-AC02-5162B04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B0E0E-C7F2-47F0-B55C-F4858D7A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5DB9-FF42-42B7-8D03-4374E517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BFF9C-879B-4B4E-B2AB-94A0D828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C22BD-1B55-4470-A058-9A76D987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C3904-B037-4C44-843F-CDA9BBBC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91347-027D-48DC-9628-B9B2687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AC57A246-4F98-462E-A70A-A4FEC879C1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35C0-B0FE-4024-9474-E2D10810906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3050-C239-4A49-ACA1-1CE977E96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573B-2C51-4947-A2B2-97320EF9FB9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1541-8B6B-4154-A035-5B8D507AC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4EA-8B21-4387-9FBF-DFBFC928C4B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8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8ee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7631-115B-43DF-8090-331649C4A2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214-BEF6-474F-BDEB-A89E2388000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0688-CB46-4CE4-8725-5F97B724D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175-F419-4381-9FA7-C22B16E6317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46ED-FB20-4485-AECF-F8A019B9FB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107A-556D-48E9-8788-45B33D12B07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C95-4993-42C5-A704-7E627B4991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8B4-3BFB-450B-9989-F7C8511E0F7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671FBAD6-62BD-4DE5-BF6A-F4624C658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198-DE59-4A28-AE3D-F3BB5B455B3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5A20-6FFB-4B7C-A151-4DE94EEEEC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A88A-5986-49B8-9FC0-993F2E1D2DB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9064-3620-4EEE-BAB7-A9A82CF5D6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28E-8513-47F9-A106-8C05D7C3381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8D3-7243-4407-9DB5-3770ECAAD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le 1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8808840" cy="268740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8 - </a:t>
            </a:r>
            <a:fld id="{4377EAE8-87FD-4249-93F6-C758DB6ADB6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information from past similar projects or the experience of team members to look for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vious projects must be up to dat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this technique the participants are unknown to each other so ideas can be generated without fear of ridicu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rainstorm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a non-structured or semi-structured method of eliciting ideas from a group with the goal of generating a complete list of ide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D4A2409-BB90-4C4E-8DBF-9D3EBFA8D2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ost-it 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During a short time interval such as five minutes, have each participant write down on post-it notes as many ideas as they can think of putting one idea per post-i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Participants then hand their notes to the moderators who stick them on a chalk or white board. duplicate ideas are stuck on top of each other to reduce the number of entries. A list of ideas is then quickly generated and the team discusses the merits of ea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Ideas which have close to zero probability of occurring or zero impact to the project are removed from the boar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F7C1F3F-19B9-43B9-AD67-6FF8195B1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ideas that remain must then be rated for likelihood and impact. A large matrix is drawn on the board similar to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bability and impact matrix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Figure 8-2). The post-it notes can then be moved around inside the matrix until the team agrees on each plac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inally, generate the start of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isk regist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figure 8-1) from the remaining post-it n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9C9C992-C674-49EE-A22F-B586A82628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376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ject leader and other key members of the team with interview skills, conduct personal one-on-one discussions with key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crucial aspect to successful interviewing is to make sure the stakeholders feel comfortable sharing ideas with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success of this technique is heavily dependent on the skills of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6D8B8A1D-6B0C-4687-AAFD-18C698A152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758FD714-A8CE-43CA-95E3-74EFDA7D64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534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FEF24F9-79AC-47CC-B613-5691A7612A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3" name="Picture 2" descr="https://media.licdn.com/mpr/mpr/shrinknp_800_800/AAEAAQAAAAAAAAMmAAAAJDdjMzkxY2MyLTM0NzItNDA3Yy04MDAyLTU4ZmUxZTVjMTM5Ng.jpg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2DFBAEE2-EA07-4246-9BEC-334C7084B5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8" name="Picture 2" descr="http://businessoflaw.lexisnexis.co.uk/wp-content/uploads/sites/24/2013/01/risk-register1.gif"/>
          <p:cNvPicPr/>
          <p:nvPr/>
        </p:nvPicPr>
        <p:blipFill>
          <a:blip r:embed="rId1"/>
          <a:stretch/>
        </p:blipFill>
        <p:spPr>
          <a:xfrm>
            <a:off x="2209680" y="2438280"/>
            <a:ext cx="542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bjective methods for qualifying each risk for impact and probability of occur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is usually involves a method which can be done quickly in a short period of time with little resourc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isk qualitative tools and techniques inclu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Interviews with Subject Matter Expert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Probability/Impact matri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008B4268-FA30-4DD8-9B4B-910F606AB9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bability and impact matrix aids the project team in prioritizing which risks need more attention based on either thei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babil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f occurring or the size of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mpac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project or bo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D45B47E-0CF4-4537-90B6-0639809BE0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D9820CA-18AA-4239-A440-E2EE907D30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8197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fine and recognize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fine the contents of a risk management pl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duct a risk identification and prioritization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fine the correct risk response strategy for the organiz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6C9780D-14E7-42AE-8E02-46B6FCD457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7FA1312-B605-4067-93A5-2FD1994F60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0E844BB7-611E-4338-B59A-64D7E88DE2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7979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lumns represent the degree of impact to the project’s scope, time, cost, and quality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xample using a five level scale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zero to low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ow to 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 to hig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high imp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The scores are determined by subject matter experts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ext step determine the probability that a risk will materialize again using expert judgment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88DC3FEB-5F1B-4294-B678-48B4142530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Title 1" descr=""/>
          <p:cNvPicPr/>
          <p:nvPr/>
        </p:nvPicPr>
        <p:blipFill>
          <a:blip r:embed="rId1"/>
          <a:stretch/>
        </p:blipFill>
        <p:spPr>
          <a:xfrm>
            <a:off x="208080" y="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079CF6B-E667-451F-8F73-19AA2ED0F5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939960" y="1600200"/>
            <a:ext cx="7324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uch like qualitative risk analysis, quantitative risk analysis attempts to estimate the impact a risk may have on a project as well as the prob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key difference between the two is that quantitative analysis is based o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athema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tatis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echniques to model the behavior of a particular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85D2004C-E4F7-4403-9D01-27ACB029F3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cision trees with expected monetary value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imulation (Monte Carl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FCE7CC0-582A-4B7C-9386-C98EB473C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itle 1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fter identifying and quantifying risk, you must decide how to respond to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ur main strateg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avoid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eliminating a specific threat or risk, usually by eliminating its c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accep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accepting the consequences should a risk occur without trying to control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transfer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 shifting the consequence of a risk and responsibility for its management to a third party internal or external to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mitig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reducing the impact of a risk event by reducing the probability of its occur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CCABCE0-31D1-4581-8469-60C3F58039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Title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78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final step after the risk response has been chosen; update the risk register with the mitigation strategy: fallback plans, contingency plans, and contingency reserv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Fallback pl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Contingency plan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Contingency reser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tingency plans use the contingency reserves to meet project objecti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219EEB97-D77A-4B37-89D8-DC00FEB4E9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8478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uild/choose the risk management plan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dentify ris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isk assess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mplete the risk regi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mplete the risk management plan (budget, schedule of activities, any specific tools need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B846418-DC9B-479A-9622-B8882B418E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IT project regardless of size, complexity, location, or organization contains some measure of ris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id the project team in assessing the impact a negative event will have on the project and how likely (generally expressed as a percentage or qualitative term) is the event to occ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he PM’s objective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not the removal of all risk, this simply can’t be done, but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o identify and manage risks to the benefit of the pro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isks on a project can be a good thing if managed appropri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ain objectiv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risk management are to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ncrease the probability and impact of positive outcom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crease the probability and impact of negative outco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82E0BFB-A57F-4E95-BD13-ACE52DB2FB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84488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risis managem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s the opposite of good risk management – organizations find themselves trying to figure out what to do about a problem after it has occurred instead of planning for issue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E218491-A482-4493-9466-40E7E8BD32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84488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Function of the {likelihood, and impact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 event if it occurs will have a negative impact on one or more of: project scope, time, cost, quality, or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2F2AFD2-594B-4110-8703-492AA1B511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management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deciding how to approach and plan the risk management activities for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identific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determining which risks are likely to affect a project and documenting thei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litative risk analysi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haracterizing and analyzing risks and prioritizing their effects on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ntitative risk analy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measuring the probability and consequences of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response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aking steps to enhance opportunities and reduce threats to meeting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6B9F909-F27D-4D10-A964-BC84644D4E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589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main deliverable of risk management planning is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isk management pl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isk management plan is created early in the planning phase of the project and updated throughout the life of the pro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3E09AFBB-C7EA-4840-868A-B48A6E97B3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rst step is to identify as many risks as possible for the upcoming project with the knowledge that you can never see them 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identification is not a one time process; but should be a continuous process of team members and stakeholders looking for new issues that may affect the success of the project  Broad Organizational Categ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ainstorm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7D6A9D6-14B2-44BA-A27E-901303E605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eople (human resour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echnology (chang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Quality and performance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ustom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Vend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un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olitical Issues or Legal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rket Fo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67CA7EC-94D1-4629-8FC8-79EEC6A996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ma</dc:creator>
  <dc:description/>
  <dc:language>en-US</dc:language>
  <cp:lastModifiedBy>maram</cp:lastModifiedBy>
  <cp:lastPrinted>2014-11-11T22:40:48Z</cp:lastPrinted>
  <dcterms:modified xsi:type="dcterms:W3CDTF">2017-02-10T17:06:11Z</dcterms:modified>
  <cp:revision>30</cp:revision>
  <dc:subject/>
  <dc:title>Chapter One</dc:title>
</cp:coreProperties>
</file>