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C401-28A3-4AB1-9880-BA4E522C3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llback pla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used if the project can not be completed as originally planne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gency pla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put in place to allow for fluctuations that will allow the project to finish as originally plann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ingency reser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excess amounts of time, dollars, and resources etc. used if necessary in order for the project to finish as originally plann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0692-61C6-4B82-AE5B-FDDC233C6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2E9-7538-4371-8F32-A0A551F9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3CA-715C-4CAE-AAF0-952D8B71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0B2FE-0F8C-42F1-A881-AAA189E4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4AAAD-CDFE-42EA-9D2B-F30DF587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8282F-A074-452F-A989-4B06ED43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134CF-FC2D-4400-B097-236E2D35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07BBC-6F7C-408F-8EA2-3402FDE8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874CC-8AE6-4900-88AD-2A9A361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5EE38-53EE-4F39-8376-48922612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B88F7-02F2-4E00-8AAE-67DF0C8F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38313-C29C-4786-90C6-C1F451F1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0655C-A46E-4386-95F6-44197A15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825-E644-484F-9BA1-88D09AC8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CB766-1BE5-4FF6-9FB9-364145E1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DB665-49BF-4D9E-A089-C05A731B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0C261-E028-48DB-80B8-9A48E42B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32705-2744-42AB-81DD-BD20A322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AA694-8C74-488A-BE22-A0DC575D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8672D-4BD7-4E36-A8DC-727D34DD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82E29-12EA-4B31-A170-31A078F9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CB295-D845-45E8-B8B5-CB4899E9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37984-872F-4E5C-85A8-0B753FCF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B84C2-BF05-43C7-A736-1534BEA1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C86-BF95-4C7B-893B-7915CBC0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DB183-17A4-4C8B-A2C0-2AA0AD96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386D2-5D62-4A0A-93D6-AA45B745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80F45-C1CC-40B8-A5F6-C3541562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52164-3E07-4CE1-AE2A-7DF2E6DD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D0A2D-D777-45C4-9B61-E5E9269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701A2-5A05-41E5-93E0-45140416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2FB54-B1F4-4588-AF80-3EC080D5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E2A89-DFCD-49CA-8085-DA56E4C8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518C1-93AA-49E8-87A1-24440835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9BC87-BE41-446D-8364-F784AA65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8C7E-C582-4915-950F-C4F0561A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39836-F9B6-4EED-AA71-EF22B39F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6CD89-E901-4734-A502-22AA2E05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88248-9713-4254-9454-BDF7D85D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BA4D-D986-49F0-8623-C4ED82B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FFDC-BEE0-4433-8AB7-0C4EE388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3143-7BD9-4507-94E1-1267A0EA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D77C-B28D-4A9D-A3FF-7DC9C765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7630-A56A-4EB6-AE29-2F4E047A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A91C-A0C3-42AD-A80D-0B61DE23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3CE-9002-4BB6-8F67-02483432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99D9-BDE7-4E7A-8835-C1F1312F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FAA1-67F5-484D-B648-6494A39D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A3DE-DFE2-4A9F-8190-1258E59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3DEF-18AA-44BC-B794-A6E9571C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CB52-30A4-441B-BF47-2D729C16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301E8-A2CD-4557-BE6F-CC26D318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F75E0-AB22-4572-B89F-22AC62F7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8A16-B648-404E-BEB4-8FC6BBDB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CCEAC-61AC-40FD-B93A-F1414A15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FDAFB-0D81-400B-BB9E-149260B2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554-0A2C-41F4-90D3-44AD8DB1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0354D-BBC9-4DEF-8694-4C32C526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5CE78-4A19-4348-B886-09E4605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82715-8586-4FA6-AEB5-1E478D4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6D02D-FBF6-4C23-8306-0D977A43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D0C7-F370-4E18-8EF4-E4582E2F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3AF5-A0B1-4AC3-99E4-DDB38D8C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4F452-36E2-4F91-9DB9-5FED8166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4309D-8400-4FC3-9946-2F372556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A289-0830-400A-B6A3-B9D5C3A3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CB30B-7EA3-42FD-BD24-7F6551FF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339-A3EF-4E17-9D5D-18B8C8A9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9A3E-89AE-40B2-BF49-FB9AC2E1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7D8C2-2615-41EF-A045-A84C1C3F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0F050-77E4-42E5-BDA1-FA63E65B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6E4B7-E5A7-49A3-98D0-5EEBDD5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1838A-5783-4A18-84CB-12FDB25B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380A-1388-432E-AD5E-3D5D0937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1B58B-43FD-4919-B01F-30F4115B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4F63-4967-48CC-AC11-7A390B49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FE5E6-214B-4BD4-B940-13F2319F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0CF1-10EE-4F84-A75D-5E4252F1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F43-30B0-4A6E-8409-DDCC5EAF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34637-E41A-4D37-ADF2-C766E33B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B091A-C31A-4BF4-82C9-87F8B0F0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2F6F7-98A1-4ACC-A878-B929431E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A386-FEA0-4BB1-9B07-E35D1ABF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98E91-D94D-48A3-A302-14328497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AF69-79C1-46E4-A4D0-75551B76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22A23-A9D3-4028-A44F-CFE360B7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3AEDA-FFA0-4D26-9F6A-E0361D3A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EB978-52CE-4DA0-B79A-79778D5F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D9D6B-C065-4383-8368-362E734C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539-E34C-45DA-A685-929A2B6E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28208-AD7E-46C5-A366-282A548A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C33BD-1EFD-49F3-9913-44375091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515A9-744F-44FF-A510-F325BCA8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AB228-596A-4ED0-A91C-9F623159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2303F-71BB-46A7-9A90-00FF6D6A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52E0-9175-462C-A390-098856A7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0F971-8A54-4BEB-9EA5-21E0DD2B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3382C-1492-43CC-B5E4-D67B9587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0E44-042D-4433-B021-7BA0F1D2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59256-C48F-49C5-B885-F033765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1F0-4E21-472D-B36C-2B501989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E5EF2-7DE5-4E30-B7F8-DDDB2982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2179-A08D-401E-B1E0-1AAD6D88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B545E-855E-4461-831A-6186289B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5C8D-0713-4CFA-BCEE-635F42AC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72794-4D19-4E01-91F5-A7A767B3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C952-278F-4C9A-8094-CF1EC533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7DB0D-F318-4050-8263-77F27C98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99E5A-7C50-4D7F-9B76-D70D6A8C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6F2B8-839A-4DC4-949B-9889FE54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2F1D6-5135-4ECC-94CB-E4CB638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AD6-BF42-488D-9D12-DB8852FE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745A-6E78-45A5-836A-5313F484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8B389-1D1B-47BA-B999-802C8E2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ED1FF-15C4-4374-8AD9-760A9642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54995-F8B2-4390-921A-CA78FD94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19728-CD5B-4323-B0F9-8512C5E3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67F39-2153-48C2-881A-E3D73539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A27FB-2EF3-4E5A-AE64-40BF0C10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7CEC3-1E5F-4CBB-9A75-5DB9F557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7BBC7-5216-463E-8F06-877F5F1F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8EDA6-8ADB-4906-98E3-95325115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81B-43A7-4BA9-B1B0-69F2049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97AE7-0592-4919-BB6A-80F52077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BB9F-2829-4DFD-B2BB-C41FB1EA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3048C-D59B-4EAA-A28D-55B25D9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F66B1-60A6-4E78-A71C-107E71C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0253F-0B05-4775-883B-D5AC17B1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423A0-13ED-4771-989D-315B5C03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DEB63-7831-44B0-930D-07F4D4CE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EF26A-8D83-4CA5-8718-5DCE3D79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4F0F9-8035-4A96-BA07-3293C8A6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D11E3-259D-4DF3-A0D0-0BA472E3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B8388B0B-99FD-4B2A-B0F8-1C6452551A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7A9D-80D3-4038-BE05-300F78777F1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7999-6364-4E40-BD2E-0293983AF1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464A-53EC-4C1D-A08F-DB8996A015A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29D0-6325-4838-8B4F-CF906E9F32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7FC4-1D6C-4FF3-A3AB-E03AE5A060F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8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8ee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25F4-ED7C-47DB-8C0E-19CB01B150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0886-8555-4660-8B04-AD0E8697161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6950-4B91-4A0F-9D3F-89E2C42A8D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FB2B-26E8-4BC1-BD02-F99E051614B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D8E6-D1BB-47F4-ABB6-56865A78A2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6099-7BA5-43C5-966D-58D1BD1174E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183B-E391-42B6-89A6-CB472E30DF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6AC9-6BB6-4B06-9F83-2BE7B4F117B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- </a:t>
            </a:r>
            <a:fld id="{082DE619-9C2E-4337-8E48-2C6DB06DC4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49CE-0E60-4D1A-A293-2E06B907DC7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29A0-ADA3-4697-B483-B2FFAA3F33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C05E-0A1A-40BE-9624-185BAADFC72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DF30-FBCF-4D10-B76E-4B57D967C3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1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4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FA91-3CE4-4B3C-882E-B65F4F19487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D7D1-320D-48FF-BE79-51026A67CB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Title 1" descr=""/>
          <p:cNvPicPr/>
          <p:nvPr/>
        </p:nvPicPr>
        <p:blipFill>
          <a:blip r:embed="rId1"/>
          <a:stretch/>
        </p:blipFill>
        <p:spPr>
          <a:xfrm>
            <a:off x="30240" y="1676520"/>
            <a:ext cx="8808840" cy="268740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8 - </a:t>
            </a:r>
            <a:fld id="{9B6A926C-41EF-43E9-8EA2-B622A647651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nalog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s information from past similar projects or the experience of team members to look for ri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vious projects must be up to date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lphi Techniq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this technique the participants are unknown to each other so ideas can be generated without fear of ridicu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rainstorm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a non-structured or semi-structured method of eliciting ideas from a group with the goal of generating a complete list of idea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C2E0D31F-775B-45A5-9FAA-E639C4B102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Post-it no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During a short time interval such as five minutes, have each participant write down on post-it notes as many ideas as they can think of putting one idea per post-i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Participants then hand their notes to the moderators who stick them on a chalk or white board. duplicate ideas are stuck on top of each other to reduce the number of entries. A list of ideas is then quickly generated and the team discusses the merits of ea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Ideas which have close to zero probability of occurring or zero impact to the project are removed from the boar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D2D90476-A019-4823-B86C-DA397BE2BB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ideas that remain must then be rated for likelihood and impact. A large matrix is drawn on the board similar to the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bability and impact matrix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Figure 8-2). The post-it notes can then be moved around inside the matrix until the team agrees on each plac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inally, generate the start of the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isk regist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figure 8-1) from the remaining post-it no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F1F7B59D-51E4-4A14-8365-4457EAA568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376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ject leader and other key members of the team with interview skills, conduct personal one-on-one discussions with key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crucial aspect to successful interviewing is to make sure the stakeholders feel comfortable sharing ideas with the interview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success of this technique is heavily dependent on the skills of the interview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F888DFDC-1C0B-45F5-BFA6-1AAB668A4C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0892584F-429C-4DEE-85F3-3D3AF8EC7B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8534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A94D68A5-2D9B-43A2-B162-A0BDF2E3D5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66666"/>
              </a:solidFill>
              <a:latin typeface="Calibri"/>
              <a:ea typeface="Times New Roman"/>
            </a:endParaRPr>
          </a:p>
        </p:txBody>
      </p:sp>
      <p:pic>
        <p:nvPicPr>
          <p:cNvPr id="563" name="Picture 2" descr="https://media.licdn.com/mpr/mpr/shrinknp_800_800/AAEAAQAAAAAAAAMmAAAAJDdjMzkxY2MyLTM0NzItNDA3Yy04MDAyLTU4ZmUxZTVjMTM5Ng.jpg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5BF8D028-C658-4759-9B85-79C2936750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66666"/>
              </a:solidFill>
              <a:latin typeface="Calibri"/>
              <a:ea typeface="Times New Roman"/>
            </a:endParaRPr>
          </a:p>
        </p:txBody>
      </p:sp>
      <p:pic>
        <p:nvPicPr>
          <p:cNvPr id="568" name="Picture 2" descr="http://businessoflaw.lexisnexis.co.uk/wp-content/uploads/sites/24/2013/01/risk-register1.gif"/>
          <p:cNvPicPr/>
          <p:nvPr/>
        </p:nvPicPr>
        <p:blipFill>
          <a:blip r:embed="rId1"/>
          <a:stretch/>
        </p:blipFill>
        <p:spPr>
          <a:xfrm>
            <a:off x="2209680" y="2438280"/>
            <a:ext cx="542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ubjective methods for qualifying each risk for impact and probability of occurre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is usually involves a method which can be done quickly in a short period of time with little resourc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Risk qualitative tools and techniques inclu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Interviews with Subject Matter Expert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286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Probability/Impact matrix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11A1B18B-CCD0-4018-904E-0CAAD3255F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bability and impact matrix aids the project team in prioritizing which risks need more attention based on either thei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babilit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of occurring or the size of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mpac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project or bo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EA577E7B-8532-430C-9766-18CF972AF9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9159ACA9-22D6-4478-A272-72AB0F0546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d2d2d2"/>
              </a:solidFill>
              <a:latin typeface="Calibri"/>
              <a:ea typeface="Times New Roman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58197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efine and recognize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efine the contents of a risk management pla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nduct a risk identification and prioritization proc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efine the correct risk response strategy for the organiz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DDC50108-938A-4972-B3CD-64128B038B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5EBEF3AF-2182-43CA-84F6-8A90F767ED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d2d2d2"/>
              </a:solidFill>
              <a:latin typeface="Calibri"/>
              <a:ea typeface="Times New Roman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219320" y="0"/>
            <a:ext cx="64008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5CBE6DB9-F014-4782-90A9-774E5463E4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7979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lumns represent the degree of impact to the project’s scope, time, cost, and quality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example using a five level scale: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zero to low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act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low to medi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edium to hig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high impa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The scores are determined by subject matter experts and historical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ext step determine the probability that a risk will materialize again using expert judgment and historical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95CB8F53-79AA-4862-99F0-29ECD8A156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Title 1" descr=""/>
          <p:cNvPicPr/>
          <p:nvPr/>
        </p:nvPicPr>
        <p:blipFill>
          <a:blip r:embed="rId1"/>
          <a:stretch/>
        </p:blipFill>
        <p:spPr>
          <a:xfrm>
            <a:off x="208080" y="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2F8D7909-2296-4B29-A269-4B1B9736DE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"/>
          <p:cNvPicPr/>
          <p:nvPr/>
        </p:nvPicPr>
        <p:blipFill>
          <a:blip r:embed="rId2"/>
          <a:stretch/>
        </p:blipFill>
        <p:spPr>
          <a:xfrm>
            <a:off x="939960" y="1600200"/>
            <a:ext cx="73245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uch like qualitative risk analysis, quantitative risk analysis attempts to estimate the impact a risk may have on a project as well as the proba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key difference between the two is that quantitative analysis is based o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athemat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tatist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echniques to model the behavior of a particular ri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9EE4A305-1BC4-47F9-B62E-323E90F8B4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ecision trees with expected monetary value analy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imulation (Monte Carl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A4A8365D-B12B-45BA-A4CA-B91139C37B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Title 1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fter identifying and quantifying risk, you must decide how to respond to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ur main strateg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510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avoid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eliminating a specific threat or risk, usually by eliminating its c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510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accept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accepting the consequences should a risk occur without trying to control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510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transfer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 shifting the consequence of a risk and responsibility for its management to a third party internal or external to the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51000"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mitig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reducing the impact of a risk event by reducing the probability of its occur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 rtl="1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547833E0-E6E5-48B7-9724-318874DBB9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Title 1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78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final step after the risk response has been chosen; update the risk register with the mitigation strategy: fallback plans, contingency plans, and contingency reserv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Fallback pla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Contingency plan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328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Contingency reserv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ntingency plans use the contingency reserves to meet project objectiv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18D23475-78BF-4DFB-965E-8EC7421B11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Title 1" descr=""/>
          <p:cNvPicPr/>
          <p:nvPr/>
        </p:nvPicPr>
        <p:blipFill>
          <a:blip r:embed="rId1"/>
          <a:stretch/>
        </p:blipFill>
        <p:spPr>
          <a:xfrm>
            <a:off x="208080" y="231840"/>
            <a:ext cx="8478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uild/choose the risk management plan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Identify ris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Risk assess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mplete the risk regis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buClr>
                <a:srgbClr val="ff388c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mplete the risk management plan (budget, schedule of activities, any specific tools need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3C1DF28A-A7BC-47AA-A5BD-33C93108D4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very IT project regardless of size, complexity, location, or organization contains some measure of ris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id the project team in assessing the impact a negative event will have on the project and how likely (generally expressed as a percentage or qualitative term) is the event to occu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he PM’s objective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not the removal of all risk, this simply can’t be done, but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o identify and manage risks to the benefit of the pro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isks on a project can be a good thing if managed appropri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ain objectiv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risk management are to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increase the probability and impact of positive outcom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decrease the probability and impact of negative outco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13DF3E10-2FBB-4EAE-8780-D7E4492B93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Title 1" descr=""/>
          <p:cNvPicPr/>
          <p:nvPr/>
        </p:nvPicPr>
        <p:blipFill>
          <a:blip r:embed="rId1"/>
          <a:stretch/>
        </p:blipFill>
        <p:spPr>
          <a:xfrm>
            <a:off x="237960" y="128520"/>
            <a:ext cx="84488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risis manageme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s the opposite of good risk management – organizations find themselves trying to figure out what to do about a problem after it has occurred instead of planning for issue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65FB4B92-5186-4B76-B267-28E0602DAA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237960" y="128520"/>
            <a:ext cx="844884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 Function of the {likelihood, and impact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 event if it occurs will have a negative impact on one or more of: project scope, time, cost, quality, or re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AED3130B-F54C-493F-95DA-66625F5C1C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management plann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deciding how to approach and plan the risk management activities for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identific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determining which risks are likely to affect a project and documenting their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Qualitative risk analysi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haracterizing and analyzing risks and prioritizing their effects on project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Quantitative risk analy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measuring the probability and consequences of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3200" indent="-228600"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 response plann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aking steps to enhance opportunities and reduce threats to meeting project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B7DB4490-047B-476C-989B-8BC3346923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589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main deliverable of risk management planning is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isk management pl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isk management plan is created early in the planning phase of the project and updated throughout the life of the proj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4698135A-DB03-4AAC-8F33-D56A95C9B6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first step is to identify as many risks as possible for the upcoming project with the knowledge that you can never see them a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isk identification is not a one time process; but should be a continuous process of team members and stakeholders looking for new issues that may affect the success of the project  Broad Organizational Catego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nalog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rainstorm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lphi Techniqu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21400">
              <a:lnSpc>
                <a:spcPct val="9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WOT Analysi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23A47E08-3BD8-4C88-96F7-72F86864E4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People (human resourc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echnology (chang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Quality and performance iss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ustom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Vend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anag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un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Political Issues or Legal Iss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arket Fo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- </a:t>
            </a:r>
            <a:fld id="{0EE290BA-AFBE-4968-AFF6-C5987594D4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Title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ma</dc:creator>
  <dc:description/>
  <dc:language>en-US</dc:language>
  <cp:lastModifiedBy>maram</cp:lastModifiedBy>
  <cp:lastPrinted>2014-11-11T22:40:48Z</cp:lastPrinted>
  <dcterms:modified xsi:type="dcterms:W3CDTF">2017-02-10T17:06:11Z</dcterms:modified>
  <cp:revision>30</cp:revision>
  <dc:subject/>
  <dc:title>Chapter One</dc:title>
</cp:coreProperties>
</file>