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5" name="PlaceHolder 1"/>
          <p:cNvSpPr>
            <a:spLocks noGrp="1"/>
          </p:cNvSpPr>
          <p:nvPr>
            <p:ph type="hdr"/>
          </p:nvPr>
        </p:nvSpPr>
        <p:spPr>
          <a:xfrm>
            <a:off x="-360" y="0"/>
            <a:ext cx="304308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979800" y="0"/>
            <a:ext cx="304344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85480" y="698040"/>
            <a:ext cx="4653000" cy="34894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844120"/>
            <a:ext cx="304308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979800" y="8844120"/>
            <a:ext cx="304344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B9428D-2B47-44FB-A26F-1DB05CE88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5840" y="698400"/>
            <a:ext cx="4653000" cy="3489480"/>
          </a:xfrm>
          <a:prstGeom prst="rect">
            <a:avLst/>
          </a:prstGeom>
          <a:ln w="0">
            <a:noFill/>
          </a:ln>
        </p:spPr>
      </p:sp>
      <p:sp>
        <p:nvSpPr>
          <p:cNvPr id="167" name="PlaceHolder 2"/>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variability in cell types and expression of abnormal clone, the clinical manefestations are highly variable. PNH is named for its most dramatic manifestation—intermmitent nocturnal hemolysis and morning hemoglobinuria, although this is a bit of a misnomer since it is not always paroxysmal (intermittent) and hemoglobinuria may occur at any time throughout the day. In fact, nocturnal hematuria only occurs in about 25-50% of pts. This is the first of the classic triad of symptoms in PNH. It also typically involves all blood cell lines since it is derived from a hematopoetic stem cell, which leads to neutropenia and thrombocytopenia as well. These processes then lead to PNHs most morbid manifestation: central venous thrombosis (mainly liver/renal/cerebra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5840" y="698400"/>
            <a:ext cx="4653000" cy="3489480"/>
          </a:xfrm>
          <a:prstGeom prst="rect">
            <a:avLst/>
          </a:prstGeom>
          <a:ln w="0">
            <a:noFill/>
          </a:ln>
        </p:spPr>
      </p:sp>
      <p:sp>
        <p:nvSpPr>
          <p:cNvPr id="169" name="PlaceHolder 2"/>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molytic anemia is present to some degree in all cases of PNH and depends upon 3 factors: the proportion of sensitive RBCs (which can range anywhere from 1 to &gt;90%), the ratio of PNH cell types, and the degree of complement activation (which is eleveted in times of stress or immune attack). Other than anemia, these pts can also have varying degrees of iron deficiency, ATN/ARF during acute massive episodes of hemolysis, CRF over time. They can also exhibit dysphagia and impotence thought secondary to  the adsorption of NO by free hemoglobin which leads to smooth muscle contrac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5840" y="698400"/>
            <a:ext cx="4653000" cy="3489480"/>
          </a:xfrm>
          <a:prstGeom prst="rect">
            <a:avLst/>
          </a:prstGeom>
          <a:ln w="0">
            <a:noFill/>
          </a:ln>
        </p:spPr>
      </p:sp>
      <p:sp>
        <p:nvSpPr>
          <p:cNvPr id="171" name="PlaceHolder 2"/>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Transfusions are indicated for severe or acute exacerbations of anemia. While they are effective by immediately improving oxygen-carrying capacity, they also suppress erythropoiesis over time and decrease formation of complement-sensitive cells in acute situations. An actual increase in PNH-cell hemolysis may occur during or after a transfusion secondary to complement activation from foreign leukocytes, simulating an acute hemolytic reaction. This prompted the customary use of saline-washed PRBCs to prevent this problem, however the practice has been deemed no longer necessary by a group who reviewed 38 yrs of PNH transfusion data given the rarity of such reactions and the waste of red cells, time, and money washing involves. Pts with a hx of febrile transfusion reactions, demonstrable leukocyte Ab, or a hx of hemolysis with unwashed cells should receive leukocyte-depleted PRBCs. Otherwise, it is best to use group-specific, fresh red cel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3000" cy="3489480"/>
          </a:xfrm>
          <a:prstGeom prst="rect">
            <a:avLst/>
          </a:prstGeom>
          <a:ln w="0">
            <a:noFill/>
          </a:ln>
        </p:spPr>
      </p:sp>
      <p:sp>
        <p:nvSpPr>
          <p:cNvPr id="157" name="PlaceHolder 2"/>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H is a uncommon acquired hematopoetic stem cell disease with an incidence of approx 1-10 per million.  Although it can affect either sex, any age, and any ethnic background, it seems to have a higher prevalence in Asians presenting more frequently in the 3</a:t>
            </a:r>
            <a:r>
              <a:rPr b="0" lang="en-US" sz="1200" spc="-1" strike="noStrike" baseline="30000">
                <a:solidFill>
                  <a:srgbClr val="000000"/>
                </a:solidFill>
                <a:latin typeface="Arial"/>
              </a:rPr>
              <a:t>rd</a:t>
            </a:r>
            <a:r>
              <a:rPr b="0" lang="en-US" sz="1200" spc="-1" strike="noStrike">
                <a:solidFill>
                  <a:srgbClr val="000000"/>
                </a:solidFill>
                <a:latin typeface="Arial"/>
              </a:rPr>
              <a:t> decade. The characteristic hemolysis is related to lysis by complement attack which is attributed to a lack of cell surface proteins that normally prevent this from happen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3000" cy="3489480"/>
          </a:xfrm>
          <a:prstGeom prst="rect">
            <a:avLst/>
          </a:prstGeom>
          <a:ln w="0">
            <a:noFill/>
          </a:ln>
        </p:spPr>
      </p:sp>
      <p:sp>
        <p:nvSpPr>
          <p:cNvPr id="159" name="PlaceHolder 2"/>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escribed in 1866 by an English MD named Gull who identified the nocturnal and paroxysmal nature of “intermittent hematuria” in a young leather worker, by the way Gull is probably most famous for being a suspect for “Jack the Ripper”. Better known for first describing PNH is Strubing, a nose and throat internist who was later known for his work on laryngospasm, in 1882 …Although multiple case reports had been described in the literature up to this point, it was actually named PNH in 1925 by Enneking ….Further understanding of the mechanism of hemolysis was discovered by Ham who developed the acid serum test used for diagnosis today. He also demonstrated that only a portion of PNH RBCs are abnormally sensitive to co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3000" cy="3489480"/>
          </a:xfrm>
          <a:prstGeom prst="rect">
            <a:avLst/>
          </a:prstGeom>
          <a:ln w="0">
            <a:noFill/>
          </a:ln>
        </p:spPr>
      </p:sp>
      <p:sp>
        <p:nvSpPr>
          <p:cNvPr id="161" name="PlaceHolder 2"/>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anchoring cell membrane proteins is not clear. Thought that perhaps the anchoring allows extra mobility of the protein along the cell membrane, or perhaps more importantly that the protein may be easily released from the membrane for transfer between cells. The underlying defect in GPI biosynthesis occurs at an early stage: specifically the addition of N-acetylglucosamine to the Phospoinositol moiety. Although the enzyme mediating this step has not been identified, the gene responsible has been found and is called PIG-A. This defect has been confirmed in over 100 pts with PNH, although the type of mutation differs among pts. Approx 30 GPI anchored proteins are known to exist in humans, and to date 20 have been shown to be lacking in PNH pts.  These proteins all vary greatly in function and manifestations of PNH largely lie in results of dysfunction of complement medi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5840" y="698400"/>
            <a:ext cx="4653000" cy="3489480"/>
          </a:xfrm>
          <a:prstGeom prst="rect">
            <a:avLst/>
          </a:prstGeom>
          <a:ln w="0">
            <a:noFill/>
          </a:ln>
        </p:spPr>
      </p:sp>
      <p:sp>
        <p:nvSpPr>
          <p:cNvPr id="163" name="PlaceHolder 2"/>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main missing complement regulating proteins that contribute to cell lysis: CD59, also known as membrane attack inhibitor or protectin, which is the dominant protein in preventing lysis. Homologous restriction factor and CD55. These are found on all blood cell types and accounts for the anemia/neutropenia/thrombocytopenia. Thrombosis may also be related to the lack of CD59 on platelets. C9 complexes on the platelet surface are associated with the generation of thrombin, leading to thrombosis. The lack of CD59 allows more C9 complexes to form and more thrombin to be generated. Another factor in increased tendency for thrombosis is the absence of CD87, or urokinase-type plasminogen activator receptor on leukocyte surfaces. This receptor normally binds urokinase, which activates plasminogen to plasmin and mediates thrombolysis. Without this protein, there is less breakdown of clo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5840" y="698400"/>
            <a:ext cx="4653000" cy="3489480"/>
          </a:xfrm>
          <a:prstGeom prst="rect">
            <a:avLst/>
          </a:prstGeom>
          <a:ln w="0">
            <a:noFill/>
          </a:ln>
        </p:spPr>
      </p:sp>
      <p:sp>
        <p:nvSpPr>
          <p:cNvPr id="165" name="PlaceHolder 2"/>
          <p:cNvSpPr>
            <a:spLocks noGrp="1"/>
          </p:cNvSpPr>
          <p:nvPr>
            <p:ph type="body"/>
          </p:nvPr>
        </p:nvSpPr>
        <p:spPr>
          <a:xfrm>
            <a:off x="936360" y="44208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generally 3 hematopoetic cell types found in pts with PNH: type 1 represents nml or near nml cells, type 2 have an intermediate sensitivity to lysis requiring 1/10-1/15</a:t>
            </a:r>
            <a:r>
              <a:rPr b="0" lang="en-US" sz="1200" spc="-1" strike="noStrike" baseline="30000">
                <a:solidFill>
                  <a:srgbClr val="000000"/>
                </a:solidFill>
                <a:latin typeface="Arial"/>
              </a:rPr>
              <a:t>th</a:t>
            </a:r>
            <a:r>
              <a:rPr b="0" lang="en-US" sz="1200" spc="-1" strike="noStrike">
                <a:solidFill>
                  <a:srgbClr val="000000"/>
                </a:solidFill>
                <a:latin typeface="Arial"/>
              </a:rPr>
              <a:t> amount complement, and type 3 are very sensitive to lysis requiring only 1/25</a:t>
            </a:r>
            <a:r>
              <a:rPr b="0" lang="en-US" sz="1200" spc="-1" strike="noStrike" baseline="30000">
                <a:solidFill>
                  <a:srgbClr val="000000"/>
                </a:solidFill>
                <a:latin typeface="Arial"/>
              </a:rPr>
              <a:t>th</a:t>
            </a:r>
            <a:r>
              <a:rPr b="0" lang="en-US" sz="1200" spc="-1" strike="noStrike">
                <a:solidFill>
                  <a:srgbClr val="000000"/>
                </a:solidFill>
                <a:latin typeface="Arial"/>
              </a:rPr>
              <a:t> the amount of complement needed to lyse. Both type 2 and 3 cells show an increased affinity for C3 in the complement cascade leading to an excess number of MAC. In addition, type 3 cells have also been shown to have an increased hemolytic sensitivity to MAC (ie greater lysis of cells is observed for a given conc of MAC). These 3 cell types can exist in any proportion in a pt. Most of the pathology of PNH can be accounted for by a normal amount of complement activation on or near cells that are very sensitive to its eff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61354-EE1E-43E8-8F2D-327589AE9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8A633-8AE2-4ECC-9DC6-287A42FC2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5B30D-6713-497A-9D92-B6651D3E0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EA3B1-FB9B-4370-913C-15DF0341E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F9FE4-0EC3-4402-A515-B18C60A6A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D9CD6-99B6-4BBC-BBF1-C8D7C59EA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2D3E5-9C77-402D-8D7A-6D5C0F0CF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9468A-BAB9-447F-A383-C107A7DF5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1D775-C74B-4380-9877-EB96B2222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1B538-0F1A-4049-B2D0-62EAFA24A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C9C9A-131B-4E79-92FC-CFCB15206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74B71-985A-432F-AAD7-436FBF18D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99603-C396-4C8E-AA36-2BF13CF37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56DE7-0C49-4D6B-9B3F-C8515CB27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0D1E9-1337-4291-9332-2920B3124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3A36EF-724E-4B4E-ACF5-B637273CC6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EF42F-E460-42E3-AB00-8A515584D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9B72A-B205-46D8-AC38-332DB785C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5BA44-020D-4B80-92ED-D965F2888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5D55E-123F-40DE-87C9-423D3464F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2CA34-039F-405D-9436-DED843742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793DA-1157-48C6-8685-6CEB147F1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B1FD-B49F-40C2-90B7-D93AEE90B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BEDC6-8BCE-492A-AAD4-353678F64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87E2-E3CE-422D-8A11-A9D9D679DD6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B8B3-0ADE-49D4-9F8B-5DDD0CEF9BC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knoble.com/family/images/Humor/Doctor_F.gif"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family.org.au/bioethics/images/stemcells250x351.jpg&amp;imgrefurl=http://www.family.org.au/bioethics/cloning/&amp;h=351&amp;w=250&amp;sz=19&amp;tbnid=I7s2c_lTOjgJ:&amp;tbnh=115&amp;tbnw=82&amp;start=28&amp;prev=/images%3Fq%3Dstem%2Bcell%26start%3D20%26hl%3Den%26lr%3D%26sa%3DN"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4475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Paroxysmal Nocturnal Hemoglobinuria</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vantGarde Bk BT"/>
              </a:rPr>
              <a:t>          </a:t>
            </a: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Clinical features</a:t>
            </a:r>
            <a:endParaRPr b="1" lang="en-US" sz="3600" spc="-1" strike="noStrike">
              <a:solidFill>
                <a:srgbClr val="006666"/>
              </a:solidFill>
              <a:latin typeface="Arial"/>
            </a:endParaRPr>
          </a:p>
        </p:txBody>
      </p:sp>
      <p:sp>
        <p:nvSpPr>
          <p:cNvPr id="132" name="PlaceHolder 2"/>
          <p:cNvSpPr>
            <a:spLocks noGrp="1"/>
          </p:cNvSpPr>
          <p:nvPr>
            <p:ph/>
          </p:nvPr>
        </p:nvSpPr>
        <p:spPr>
          <a:xfrm>
            <a:off x="761760" y="2666880"/>
            <a:ext cx="800100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ighly vari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assic Triad</a:t>
            </a:r>
            <a:r>
              <a:rPr b="0" lang="en-US" sz="2800" spc="-1" strike="noStrike" u="sng">
                <a:solidFill>
                  <a:srgbClr val="666699"/>
                </a:solidFill>
                <a:uFillTx/>
                <a:latin typeface="Arial"/>
                <a:hlinkClick r:id="rId1"/>
              </a:rPr>
              <a:t> </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molytic Anemi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one Marrow failure (thrombocytopenia/neutropeni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enous Thrombosis </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hronic course with acute exacerba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xacerbations often associated with infection</a:t>
            </a:r>
            <a:endParaRPr b="0" lang="en-US" sz="24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Hemolytic Anemia</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esent to some degree in all case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gree of hemolysis depends on:</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portion of sensitive RBC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ll type (PNH I-III)</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plement activation (ie infection, allergies, transfusion reaction, etc)</a:t>
            </a:r>
            <a:endParaRPr b="0" lang="en-US" sz="1800" spc="-1" strike="noStrike">
              <a:solidFill>
                <a:srgbClr val="003366"/>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ther effects of hemolysis:</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ron deficiency</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N/ARF during episodes of massive hemolysis</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RF</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ophageal spasm (achalasia-like sx)</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mpotence</a:t>
            </a:r>
            <a:endParaRPr b="0" lang="en-US" sz="16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Bone Marrow Failure</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 severe: aplastic anemi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 commonly: active BM producing defective cel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3 – thrombocytopenia/granulocytopenia</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7" name="" descr=""/>
          <p:cNvPicPr/>
          <p:nvPr/>
        </p:nvPicPr>
        <p:blipFill>
          <a:blip r:embed="rId1"/>
          <a:stretch/>
        </p:blipFill>
        <p:spPr>
          <a:xfrm>
            <a:off x="1905120" y="3824280"/>
            <a:ext cx="5333760" cy="2828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Venous Thromboses—the sinister            sign</a:t>
            </a:r>
            <a:endParaRPr b="1" lang="en-US" sz="3600" spc="-1" strike="noStrike">
              <a:solidFill>
                <a:srgbClr val="006666"/>
              </a:solidFill>
              <a:latin typeface="Arial"/>
            </a:endParaRPr>
          </a:p>
        </p:txBody>
      </p:sp>
      <p:sp>
        <p:nvSpPr>
          <p:cNvPr id="13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0% incidence in Europe and US (lower in Asians)</a:t>
            </a:r>
            <a:endParaRPr b="0" lang="en-US" sz="16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ainly central thromboses:</a:t>
            </a:r>
            <a:r>
              <a:rPr b="1" lang="en-US" sz="1800" spc="-1" strike="noStrike">
                <a:solidFill>
                  <a:srgbClr val="003366"/>
                </a:solidFill>
                <a:latin typeface="Arial"/>
              </a:rPr>
              <a:t> </a:t>
            </a:r>
            <a:endParaRPr b="0" lang="en-US" sz="18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Liver (Budd-Chiari)</a:t>
            </a:r>
            <a:endParaRPr b="0" lang="en-US" sz="1400" spc="-1" strike="noStrike">
              <a:solidFill>
                <a:srgbClr val="003366"/>
              </a:solidFill>
              <a:latin typeface="Arial"/>
            </a:endParaRPr>
          </a:p>
          <a:p>
            <a:pPr lvl="2" marL="1143000" indent="-228600">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epatic veins can thrombose in acute crisis or insidiously</a:t>
            </a:r>
            <a:endParaRPr b="0" lang="en-US" sz="1400" spc="-1" strike="noStrike">
              <a:solidFill>
                <a:srgbClr val="003366"/>
              </a:solidFill>
              <a:latin typeface="Arial"/>
            </a:endParaRPr>
          </a:p>
          <a:p>
            <a:pPr lvl="2" marL="1143000" indent="-228600">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ends to persist with periodic exacerbations/remissions</a:t>
            </a:r>
            <a:endParaRPr b="0" lang="en-US" sz="1400" spc="-1" strike="noStrike">
              <a:solidFill>
                <a:srgbClr val="003366"/>
              </a:solidFill>
              <a:latin typeface="Arial"/>
            </a:endParaRPr>
          </a:p>
          <a:p>
            <a:pPr lvl="2" marL="1143000" indent="-228600">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sually ultimately fatal</a:t>
            </a:r>
            <a:endParaRPr b="0" lang="en-US" sz="14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erebral Veins/Sinuses</a:t>
            </a:r>
            <a:endParaRPr b="0" lang="en-US" sz="1400" spc="-1" strike="noStrike">
              <a:solidFill>
                <a:srgbClr val="003366"/>
              </a:solidFill>
              <a:latin typeface="Arial"/>
            </a:endParaRPr>
          </a:p>
          <a:p>
            <a:pPr lvl="2" marL="1143000" indent="-228600">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Less common</a:t>
            </a:r>
            <a:endParaRPr b="0" lang="en-US" sz="1400" spc="-1" strike="noStrike">
              <a:solidFill>
                <a:srgbClr val="003366"/>
              </a:solidFill>
              <a:latin typeface="Arial"/>
            </a:endParaRPr>
          </a:p>
          <a:p>
            <a:pPr lvl="2" marL="1143000" indent="-228600">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lso tends to persist—Poor prognosis</a:t>
            </a:r>
            <a:endParaRPr b="0" lang="en-US" sz="1400" spc="-1" strike="noStrike">
              <a:solidFill>
                <a:srgbClr val="003366"/>
              </a:solidFill>
              <a:latin typeface="Arial"/>
            </a:endParaRPr>
          </a:p>
          <a:p>
            <a:pPr lvl="1" marL="743040" indent="-28584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bdominal Veins</a:t>
            </a:r>
            <a:endParaRPr b="0" lang="en-US" sz="1400" spc="-1" strike="noStrike">
              <a:solidFill>
                <a:srgbClr val="003366"/>
              </a:solidFill>
              <a:latin typeface="Arial"/>
            </a:endParaRPr>
          </a:p>
          <a:p>
            <a:pPr lvl="2" marL="1143000" indent="-228600">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Renal/Spleen/Stomach/Intestinal</a:t>
            </a:r>
            <a:endParaRPr b="0" lang="en-US" sz="14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LE DVT more common than in general population, but death by PE rare</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rterial thrombosis also rare</a:t>
            </a:r>
            <a:endParaRPr b="0" lang="en-US" sz="16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Diagnosis</a:t>
            </a:r>
            <a:endParaRPr b="1" lang="en-US" sz="3600" spc="-1" strike="noStrike">
              <a:solidFill>
                <a:srgbClr val="006666"/>
              </a:solidFill>
              <a:latin typeface="Arial"/>
            </a:endParaRPr>
          </a:p>
        </p:txBody>
      </p:sp>
      <p:sp>
        <p:nvSpPr>
          <p:cNvPr id="14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9000"/>
          </a:bodyPr>
          <a:p>
            <a:pPr marL="339480" indent="-3394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m test (acidified-serum lysis</a:t>
            </a:r>
            <a:r>
              <a:rPr b="0" lang="en-US" sz="2800" spc="-1" strike="noStrike">
                <a:solidFill>
                  <a:srgbClr val="003366"/>
                </a:solidFill>
                <a:latin typeface="Arial"/>
              </a:rPr>
              <a:t> </a:t>
            </a:r>
            <a:r>
              <a:rPr b="0" lang="en-US" sz="2000" spc="-1" strike="noStrike">
                <a:solidFill>
                  <a:srgbClr val="003366"/>
                </a:solidFill>
                <a:latin typeface="Arial"/>
              </a:rPr>
              <a:t>test)</a:t>
            </a:r>
            <a:endParaRPr b="0" lang="en-US" sz="20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old standard from 1939 until advent of flow cytometry</a:t>
            </a:r>
            <a:endParaRPr b="0" lang="en-US" sz="18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tivation of complement by low pH; PNH cells lyse</a:t>
            </a:r>
            <a:endParaRPr b="0" lang="en-US" sz="18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igh specificity </a:t>
            </a:r>
            <a:endParaRPr b="0" lang="en-US" sz="18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nnot detect varying degrees of RBC sensitivity</a:t>
            </a:r>
            <a:endParaRPr b="0" lang="en-US" sz="1800" spc="-1" strike="noStrike">
              <a:solidFill>
                <a:srgbClr val="003366"/>
              </a:solidFill>
              <a:latin typeface="Arial"/>
            </a:endParaRPr>
          </a:p>
          <a:p>
            <a:pPr marL="339480" indent="-3394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low Cytometry</a:t>
            </a:r>
            <a:endParaRPr b="0" lang="en-US" sz="20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creased level of sensitivity: allows detection of 0.1% GPI-deficient clones</a:t>
            </a:r>
            <a:endParaRPr b="0" lang="en-US" sz="18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s monoclonal Ab to missing proteins (CD55/CD59) and fluorescence of labeled cells to detect certain cell populations</a:t>
            </a:r>
            <a:endParaRPr b="0" lang="en-US" sz="1800" spc="-1" strike="noStrike">
              <a:solidFill>
                <a:srgbClr val="003366"/>
              </a:solidFill>
              <a:latin typeface="Arial"/>
            </a:endParaRPr>
          </a:p>
          <a:p>
            <a:pPr lvl="1" marL="735480" indent="-28296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y screen RBCs, Platelets, and Lymphocyte components</a:t>
            </a:r>
            <a:endParaRPr b="0" lang="en-US" sz="1800" spc="-1" strike="noStrike">
              <a:solidFill>
                <a:srgbClr val="003366"/>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42" name="" descr=""/>
          <p:cNvPicPr/>
          <p:nvPr/>
        </p:nvPicPr>
        <p:blipFill>
          <a:blip r:embed="rId1"/>
          <a:stretch/>
        </p:blipFill>
        <p:spPr>
          <a:xfrm>
            <a:off x="5410080" y="838080"/>
            <a:ext cx="2286000" cy="800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Course and Prognosis</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fe span estimates 10-15y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ox 25% will survive &gt; 25 y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ontaneous recovery in ~15% w/o long-term sequelae</a:t>
            </a:r>
            <a:endParaRPr b="0" lang="en-US" sz="2800" spc="-1" strike="noStrike">
              <a:solidFill>
                <a:srgbClr val="003366"/>
              </a:solidFill>
              <a:latin typeface="Arial"/>
            </a:endParaRPr>
          </a:p>
        </p:txBody>
      </p:sp>
      <p:sp>
        <p:nvSpPr>
          <p:cNvPr id="145" name=""/>
          <p:cNvSpPr/>
          <p:nvPr/>
        </p:nvSpPr>
        <p:spPr>
          <a:xfrm>
            <a:off x="16020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Course and Prognosis</a:t>
            </a:r>
            <a:endParaRPr b="1" lang="en-US" sz="3600" spc="-1" strike="noStrike">
              <a:solidFill>
                <a:srgbClr val="006666"/>
              </a:solidFill>
              <a:latin typeface="Arial"/>
            </a:endParaRPr>
          </a:p>
        </p:txBody>
      </p:sp>
      <p:sp>
        <p:nvSpPr>
          <p:cNvPr id="14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st common causes of death: </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equences of thrombosis (~33%) </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ects of BM failure (~10%)</a:t>
            </a:r>
            <a:endParaRPr b="0" lang="en-US" sz="1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y be preceded by or lead to the development of aplastic anemia (AA)</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cidence from various studies of 25-58%</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uch less risk of thrombosis—less PNH cells overall</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ssible “natural gene therapy” producing cells which escape destruction in the setting of AA</a:t>
            </a:r>
            <a:endParaRPr b="0" lang="en-US" sz="1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5% progress to acute leukemia</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ikely more related to predisposition in pts with AA, not PNH itself</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Treatment</a:t>
            </a:r>
            <a:endParaRPr b="1" lang="en-US" sz="3600" spc="-1" strike="noStrike">
              <a:solidFill>
                <a:srgbClr val="006666"/>
              </a:solidFill>
              <a:latin typeface="Arial"/>
            </a:endParaRPr>
          </a:p>
        </p:txBody>
      </p:sp>
      <p:sp>
        <p:nvSpPr>
          <p:cNvPr id="149" name="PlaceHolder 2"/>
          <p:cNvSpPr>
            <a:spLocks noGrp="1"/>
          </p:cNvSpPr>
          <p:nvPr>
            <p:ph/>
          </p:nvPr>
        </p:nvSpPr>
        <p:spPr>
          <a:xfrm>
            <a:off x="761760" y="2819520"/>
            <a:ext cx="8001000" cy="320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3 aspect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at anemia</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at and prevent thrombose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dification of hematopoiesi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inly focused on control of complications rather than interrupting disease process</a:t>
            </a:r>
            <a:endParaRPr b="0" lang="en-US" sz="2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Treating Cytopenias</a:t>
            </a:r>
            <a:endParaRPr b="1" lang="en-US" sz="3600" spc="-1" strike="noStrike">
              <a:solidFill>
                <a:srgbClr val="006666"/>
              </a:solidFill>
              <a:latin typeface="Arial"/>
            </a:endParaRPr>
          </a:p>
        </p:txBody>
      </p:sp>
      <p:sp>
        <p:nvSpPr>
          <p:cNvPr id="15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BC/Platelet Transfusions</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places destroyed cell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so suppresses erythropoiesis when done on chronic basi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pecial transfusion considerations only if necessary</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pogen/FeSO</a:t>
            </a:r>
            <a:r>
              <a:rPr b="0" lang="en-US" sz="2000" spc="-1" strike="noStrike" baseline="30000">
                <a:solidFill>
                  <a:srgbClr val="003366"/>
                </a:solidFill>
                <a:latin typeface="Arial"/>
              </a:rPr>
              <a:t>4</a:t>
            </a:r>
            <a:r>
              <a:rPr b="0" lang="en-US" sz="2000" spc="-1" strike="noStrike">
                <a:solidFill>
                  <a:srgbClr val="003366"/>
                </a:solidFill>
                <a:latin typeface="Arial"/>
              </a:rPr>
              <a:t>/Folate</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pensive, but shown to decrease need for high dose steroids and less transfusions</a:t>
            </a:r>
            <a:endParaRPr b="0" lang="en-US" sz="1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lucocorticoids</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known MOA</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ful in 50% pt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ought to be related to direct prevention of hemolysis</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3-1 mg/kg/day</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Treatment and Prevention of Clots</a:t>
            </a:r>
            <a:endParaRPr b="1" lang="en-US" sz="3600" spc="-1" strike="noStrike">
              <a:solidFill>
                <a:srgbClr val="006666"/>
              </a:solidFill>
              <a:latin typeface="Arial"/>
            </a:endParaRPr>
          </a:p>
        </p:txBody>
      </p:sp>
      <p:sp>
        <p:nvSpPr>
          <p:cNvPr id="15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ven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phylactic anticoagulation for pts w/o contraindication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atme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V/Oral anticoagulan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rombolytics: </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PA/Streptokinase/Urokinase</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vantGarde Bk BT"/>
              </a:rPr>
              <a:t>Paroxysmal Nocturnal Hemoglobinuria</a:t>
            </a:r>
            <a:endParaRPr b="1" lang="en-US" sz="3200" spc="-1" strike="noStrike">
              <a:solidFill>
                <a:srgbClr val="006666"/>
              </a:solidFill>
              <a:latin typeface="Arial"/>
            </a:endParaRPr>
          </a:p>
        </p:txBody>
      </p:sp>
      <p:sp>
        <p:nvSpPr>
          <p:cNvPr id="104"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re acquired hematopoetic stem cell disorde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0 per mill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st frequent in 3</a:t>
            </a:r>
            <a:r>
              <a:rPr b="0" lang="en-US" sz="2000" spc="-1" strike="noStrike" baseline="30000">
                <a:solidFill>
                  <a:srgbClr val="003366"/>
                </a:solidFill>
                <a:latin typeface="Arial"/>
              </a:rPr>
              <a:t>rd</a:t>
            </a:r>
            <a:r>
              <a:rPr b="0" lang="en-US" sz="2000" spc="-1" strike="noStrike">
                <a:solidFill>
                  <a:srgbClr val="003366"/>
                </a:solidFill>
                <a:latin typeface="Arial"/>
              </a:rPr>
              <a:t> decad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ian ancestry</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BCs susceptible to complement-mediated lysi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ated to lack of cell surface proteins that prevent complement attack</a:t>
            </a:r>
            <a:endParaRPr b="0" lang="en-US" sz="20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Modifying Hematopoiesis</a:t>
            </a:r>
            <a:endParaRPr b="1" lang="en-US" sz="3600" spc="-1" strike="noStrike">
              <a:solidFill>
                <a:srgbClr val="006666"/>
              </a:solidFill>
              <a:latin typeface="Arial"/>
            </a:endParaRPr>
          </a:p>
        </p:txBody>
      </p:sp>
      <p:sp>
        <p:nvSpPr>
          <p:cNvPr id="15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mmunosuppresants</a:t>
            </a:r>
            <a:endParaRPr b="0" lang="en-US" sz="20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etter response in pts with hypoplastic marrow than hemolysis</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ixed results: antithymocyte globulin response rates 0-63%; cyclosporin not effective</a:t>
            </a:r>
            <a:endParaRPr b="0" lang="en-US" sz="1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ne Marrow Transpla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rrently most curative and optimal Tx</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gh risk of morbidity/mortality (10-2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isk:benefit considering pts with lesser sx</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controlled studies for ethical reason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Gene therapy</a:t>
            </a:r>
            <a:endParaRPr b="0" lang="en-US" sz="20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866</a:t>
            </a:r>
            <a:r>
              <a:rPr b="0" lang="en-US" sz="2000" spc="-1" strike="noStrike">
                <a:solidFill>
                  <a:srgbClr val="003366"/>
                </a:solidFill>
                <a:latin typeface="Arial"/>
              </a:rPr>
              <a:t>—first case report by Gull describing nocturnal hematuri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882—</a:t>
            </a:r>
            <a:r>
              <a:rPr b="0" lang="en-US" sz="2000" spc="-1" strike="noStrike">
                <a:solidFill>
                  <a:srgbClr val="003366"/>
                </a:solidFill>
                <a:latin typeface="Arial"/>
              </a:rPr>
              <a:t>Strubing recognized PNH as a definite syndrom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925</a:t>
            </a:r>
            <a:r>
              <a:rPr b="0" lang="en-US" sz="2000" spc="-1" strike="noStrike">
                <a:solidFill>
                  <a:srgbClr val="003366"/>
                </a:solidFill>
                <a:latin typeface="Arial"/>
              </a:rPr>
              <a:t>—Enneking coined the name “Paroxysmal Nocturnal Hemoglobinuri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930s</a:t>
            </a:r>
            <a:r>
              <a:rPr b="0" lang="en-US" sz="2000" spc="-1" strike="noStrike">
                <a:solidFill>
                  <a:srgbClr val="003366"/>
                </a:solidFill>
                <a:latin typeface="Arial"/>
              </a:rPr>
              <a:t>—Ham identified the role of complement and developed the serum test which is still used for diagnosi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980s—</a:t>
            </a:r>
            <a:r>
              <a:rPr b="0" lang="en-US" sz="2000" spc="-1" strike="noStrike">
                <a:solidFill>
                  <a:srgbClr val="003366"/>
                </a:solidFill>
                <a:latin typeface="Arial"/>
              </a:rPr>
              <a:t>PNH blood cells found to lack cell surface protein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990s—</a:t>
            </a:r>
            <a:r>
              <a:rPr b="0" lang="en-US" sz="2000" spc="-1" strike="noStrike">
                <a:solidFill>
                  <a:srgbClr val="003366"/>
                </a:solidFill>
                <a:latin typeface="Arial"/>
              </a:rPr>
              <a:t>Somatic mutation identified as </a:t>
            </a:r>
            <a:r>
              <a:rPr b="0" i="1" lang="en-US" sz="2000" spc="-1" strike="noStrike">
                <a:solidFill>
                  <a:srgbClr val="003366"/>
                </a:solidFill>
                <a:latin typeface="Arial"/>
              </a:rPr>
              <a:t>PIG-A</a:t>
            </a:r>
            <a:r>
              <a:rPr b="0" lang="en-US" sz="2000" spc="-1" strike="noStrike">
                <a:solidFill>
                  <a:srgbClr val="003366"/>
                </a:solidFill>
                <a:latin typeface="Arial"/>
              </a:rPr>
              <a:t> gene</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6" name="PlaceHolder 2"/>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History of PNH</a:t>
            </a:r>
            <a:endParaRPr b="1" lang="en-US" sz="3600" spc="-1" strike="noStrike">
              <a:solidFill>
                <a:srgbClr val="006666"/>
              </a:solidFill>
              <a:latin typeface="Arial"/>
            </a:endParaRPr>
          </a:p>
        </p:txBody>
      </p:sp>
      <p:grpSp>
        <p:nvGrpSpPr>
          <p:cNvPr id="107" name=""/>
          <p:cNvGrpSpPr/>
          <p:nvPr/>
        </p:nvGrpSpPr>
        <p:grpSpPr>
          <a:xfrm>
            <a:off x="2514600" y="2035080"/>
            <a:ext cx="4116240" cy="2789280"/>
            <a:chOff x="2514600" y="2035080"/>
            <a:chExt cx="4116240" cy="2789280"/>
          </a:xfrm>
        </p:grpSpPr>
        <p:sp>
          <p:nvSpPr>
            <p:cNvPr id="108" name=""/>
            <p:cNvSpPr/>
            <p:nvPr/>
          </p:nvSpPr>
          <p:spPr>
            <a:xfrm>
              <a:off x="2514600" y="2035080"/>
              <a:ext cx="4116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grpSp>
          <p:nvGrpSpPr>
            <p:cNvPr id="109" name=""/>
            <p:cNvGrpSpPr/>
            <p:nvPr/>
          </p:nvGrpSpPr>
          <p:grpSpPr>
            <a:xfrm>
              <a:off x="2514600" y="2035080"/>
              <a:ext cx="2955960" cy="2789280"/>
              <a:chOff x="2514600" y="2035080"/>
              <a:chExt cx="2955960" cy="2789280"/>
            </a:xfrm>
          </p:grpSpPr>
          <p:sp>
            <p:nvSpPr>
              <p:cNvPr id="110" name=""/>
              <p:cNvSpPr/>
              <p:nvPr/>
            </p:nvSpPr>
            <p:spPr>
              <a:xfrm>
                <a:off x="2514600" y="2035080"/>
                <a:ext cx="2955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grpSp>
            <p:nvGrpSpPr>
              <p:cNvPr id="111" name=""/>
              <p:cNvGrpSpPr/>
              <p:nvPr/>
            </p:nvGrpSpPr>
            <p:grpSpPr>
              <a:xfrm>
                <a:off x="2514600" y="2035080"/>
                <a:ext cx="1428840" cy="2789280"/>
                <a:chOff x="2514600" y="2035080"/>
                <a:chExt cx="1428840" cy="2789280"/>
              </a:xfrm>
            </p:grpSpPr>
            <p:sp>
              <p:nvSpPr>
                <p:cNvPr id="112" name=""/>
                <p:cNvSpPr/>
                <p:nvPr/>
              </p:nvSpPr>
              <p:spPr>
                <a:xfrm>
                  <a:off x="2514600" y="2035080"/>
                  <a:ext cx="1428840" cy="259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5400" spc="-1" strike="noStrike">
                      <a:solidFill>
                        <a:srgbClr val="000000"/>
                      </a:solidFill>
                      <a:latin typeface="Verdana"/>
                    </a:rPr>
                    <a:t> </a:t>
                  </a:r>
                  <a:r>
                    <a:rPr b="0" lang="en-US" sz="1000" spc="-1" strike="noStrike">
                      <a:solidFill>
                        <a:srgbClr val="000000"/>
                      </a:solidFill>
                      <a:latin typeface="Verdana"/>
                    </a:rPr>
                    <a:t>                                     </a:t>
                  </a:r>
                  <a:endParaRPr b="0" lang="en-US" sz="1000" spc="-1" strike="noStrike">
                    <a:solidFill>
                      <a:srgbClr val="003366"/>
                    </a:solidFill>
                    <a:latin typeface="Arial"/>
                  </a:endParaRPr>
                </a:p>
              </p:txBody>
            </p:sp>
            <p:sp>
              <p:nvSpPr>
                <p:cNvPr id="113" name=""/>
                <p:cNvSpPr/>
                <p:nvPr/>
              </p:nvSpPr>
              <p:spPr>
                <a:xfrm>
                  <a:off x="2514600" y="4626000"/>
                  <a:ext cx="1428840" cy="19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44444"/>
                      </a:solidFill>
                      <a:latin typeface="Verdana"/>
                    </a:rPr>
                    <a:t>Jack the Ripper</a:t>
                  </a:r>
                  <a:endParaRPr b="0" lang="en-US" sz="700" spc="-1" strike="noStrike">
                    <a:solidFill>
                      <a:srgbClr val="003366"/>
                    </a:solidFill>
                    <a:latin typeface="Arial"/>
                  </a:endParaRPr>
                </a:p>
              </p:txBody>
            </p:sp>
          </p:gr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4" name=""/>
          <p:cNvSpPr txBox="1"/>
          <p:nvPr/>
        </p:nvSpPr>
        <p:spPr>
          <a:xfrm>
            <a:off x="2936520" y="6526800"/>
            <a:ext cx="2895480" cy="3070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b"/>
                </a:solidFill>
                <a:latin typeface="Times New Roman"/>
              </a:rPr>
              <a:t>&lt;footer&gt;</a:t>
            </a:r>
            <a:endParaRPr b="0" lang="en-US" sz="1400" spc="-1" strike="noStrike">
              <a:solidFill>
                <a:srgbClr val="ffffff"/>
              </a:solidFill>
              <a:latin typeface="Times New Roman"/>
            </a:endParaRPr>
          </a:p>
        </p:txBody>
      </p:sp>
      <p:sp>
        <p:nvSpPr>
          <p:cNvPr id="115" name=""/>
          <p:cNvSpPr txBox="1"/>
          <p:nvPr/>
        </p:nvSpPr>
        <p:spPr>
          <a:xfrm>
            <a:off x="7010280" y="6550560"/>
            <a:ext cx="1905120" cy="307080"/>
          </a:xfrm>
          <a:prstGeom prst="rect">
            <a:avLst/>
          </a:prstGeom>
          <a:noFill/>
          <a:ln w="0">
            <a:noFill/>
          </a:ln>
        </p:spPr>
        <p:txBody>
          <a:bodyPr lIns="90000" rIns="90000" tIns="46800" bIns="46800" anchor="b">
            <a:noAutofit/>
          </a:bodyPr>
          <a:p>
            <a:pPr marL="216000" indent="-216000" algn="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eb"/>
                </a:solidFill>
                <a:latin typeface="Times New Roman"/>
              </a:rPr>
              <a:t>&lt;date/time&gt;</a:t>
            </a:r>
            <a:endParaRPr b="0" lang="en-US" sz="1400" spc="-1" strike="noStrike">
              <a:solidFill>
                <a:srgbClr val="ffffff"/>
              </a:solidFill>
              <a:latin typeface="Times New Roman"/>
            </a:endParaRPr>
          </a:p>
        </p:txBody>
      </p:sp>
      <p:sp>
        <p:nvSpPr>
          <p:cNvPr id="116" name=""/>
          <p:cNvSpPr/>
          <p:nvPr/>
        </p:nvSpPr>
        <p:spPr>
          <a:xfrm>
            <a:off x="1863720" y="13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pic>
        <p:nvPicPr>
          <p:cNvPr id="117" name="" descr=""/>
          <p:cNvPicPr/>
          <p:nvPr/>
        </p:nvPicPr>
        <p:blipFill>
          <a:blip r:embed="rId1"/>
          <a:srcRect l="1690" t="1391" r="1690" b="20833"/>
          <a:stretch/>
        </p:blipFill>
        <p:spPr>
          <a:xfrm>
            <a:off x="0" y="152280"/>
            <a:ext cx="9144000" cy="6705720"/>
          </a:xfrm>
          <a:prstGeom prst="rect">
            <a:avLst/>
          </a:prstGeom>
          <a:ln w="25560">
            <a:solidFill>
              <a:srgbClr val="ff0000"/>
            </a:solidFill>
            <a:miter/>
          </a:ln>
        </p:spPr>
      </p:pic>
      <p:sp>
        <p:nvSpPr>
          <p:cNvPr id="118" name=""/>
          <p:cNvSpPr/>
          <p:nvPr/>
        </p:nvSpPr>
        <p:spPr>
          <a:xfrm>
            <a:off x="1863720" y="1382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vantGarde Bk BT"/>
              </a:rPr>
              <a:t>Pathophysiology of PNH</a:t>
            </a:r>
            <a:endParaRPr b="1" lang="en-US" sz="3200" spc="-1" strike="noStrike">
              <a:solidFill>
                <a:srgbClr val="006666"/>
              </a:solidFill>
              <a:latin typeface="Arial"/>
            </a:endParaRPr>
          </a:p>
        </p:txBody>
      </p:sp>
      <p:sp>
        <p:nvSpPr>
          <p:cNvPr id="120" name="PlaceHolder 2"/>
          <p:cNvSpPr>
            <a:spLocks noGrp="1"/>
          </p:cNvSpPr>
          <p:nvPr>
            <p:ph/>
          </p:nvPr>
        </p:nvSpPr>
        <p:spPr>
          <a:xfrm>
            <a:off x="761760" y="2743200"/>
            <a:ext cx="8001000" cy="37339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tachment of cell surface protein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nsmembrane hydrophobic sequen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chor embedded within the membrane </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at the protein attaches to</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mon variable in all missing cell surface proteins is Glycophosphatidylinositol (GPI) ancho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GPI anchor</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clear purpos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ective biosynthesis at early step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ded by the </a:t>
            </a:r>
            <a:r>
              <a:rPr b="0" i="1" lang="en-US" sz="2000" spc="-1" strike="noStrike">
                <a:solidFill>
                  <a:srgbClr val="003366"/>
                </a:solidFill>
                <a:latin typeface="Arial"/>
              </a:rPr>
              <a:t>PIG-A</a:t>
            </a:r>
            <a:r>
              <a:rPr b="0" lang="en-US" sz="2000" spc="-1" strike="noStrike">
                <a:solidFill>
                  <a:srgbClr val="003366"/>
                </a:solidFill>
                <a:latin typeface="Arial"/>
              </a:rPr>
              <a:t> gen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pprox 30 GPI-anchored proteins; 20 shown to be deficient in PNH</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ry greatly in function (enzymes, receptors, and complement mediators)</a:t>
            </a:r>
            <a:endParaRPr b="0" lang="en-US" sz="2000" spc="-1" strike="noStrike">
              <a:solidFill>
                <a:srgbClr val="003366"/>
              </a:solidFill>
              <a:latin typeface="Arial"/>
            </a:endParaRPr>
          </a:p>
        </p:txBody>
      </p:sp>
      <p:pic>
        <p:nvPicPr>
          <p:cNvPr id="123" name="" descr=""/>
          <p:cNvPicPr/>
          <p:nvPr/>
        </p:nvPicPr>
        <p:blipFill>
          <a:blip r:embed="rId1"/>
          <a:stretch/>
        </p:blipFill>
        <p:spPr>
          <a:xfrm>
            <a:off x="4419720" y="2286000"/>
            <a:ext cx="4724280" cy="4572000"/>
          </a:xfrm>
          <a:prstGeom prst="rect">
            <a:avLst/>
          </a:prstGeom>
          <a:ln w="25560">
            <a:solidFill>
              <a:srgbClr val="003366"/>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24" name="" descr=""/>
          <p:cNvPicPr/>
          <p:nvPr/>
        </p:nvPicPr>
        <p:blipFill>
          <a:blip r:embed="rId1"/>
          <a:srcRect l="3373" t="2766" r="3373" b="22978"/>
          <a:stretch/>
        </p:blipFill>
        <p:spPr>
          <a:xfrm>
            <a:off x="0" y="0"/>
            <a:ext cx="9144000" cy="6858000"/>
          </a:xfrm>
          <a:prstGeom prst="rect">
            <a:avLst/>
          </a:prstGeom>
          <a:ln w="25560">
            <a:solidFill>
              <a:srgbClr val="ff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Missing proteins of importance</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lement regulating proteins:</a:t>
            </a:r>
            <a:endParaRPr b="0" lang="en-US" sz="2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D59</a:t>
            </a:r>
            <a:r>
              <a:rPr b="0" lang="en-US" sz="1800" spc="-1" strike="noStrike">
                <a:solidFill>
                  <a:srgbClr val="003366"/>
                </a:solidFill>
                <a:latin typeface="Arial"/>
              </a:rPr>
              <a:t> (aka MAC inhibitor/protectin)</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Homologous restriction factor</a:t>
            </a:r>
            <a:r>
              <a:rPr b="0" lang="en-US" sz="1800" spc="-1" strike="noStrike">
                <a:solidFill>
                  <a:srgbClr val="003366"/>
                </a:solidFill>
                <a:latin typeface="Arial"/>
              </a:rPr>
              <a:t> (HRF)</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D55</a:t>
            </a:r>
            <a:r>
              <a:rPr b="0" lang="en-US" sz="1800" spc="-1" strike="noStrike">
                <a:solidFill>
                  <a:srgbClr val="003366"/>
                </a:solidFill>
                <a:latin typeface="Arial"/>
              </a:rPr>
              <a:t> (aka decay accelerating factor)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rombosis regulating protein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D87</a:t>
            </a:r>
            <a:r>
              <a:rPr b="0" lang="en-US" sz="1800" spc="-1" strike="noStrike">
                <a:solidFill>
                  <a:srgbClr val="003366"/>
                </a:solidFill>
                <a:latin typeface="Arial"/>
              </a:rPr>
              <a:t> (aka urokinase-type plasminogen activator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receptor)</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7" name="" descr=""/>
          <p:cNvPicPr/>
          <p:nvPr/>
        </p:nvPicPr>
        <p:blipFill>
          <a:blip r:embed="rId1"/>
          <a:srcRect l="6957" t="10147" r="0" b="0"/>
          <a:stretch/>
        </p:blipFill>
        <p:spPr>
          <a:xfrm>
            <a:off x="6629400" y="2438280"/>
            <a:ext cx="2068560" cy="4038840"/>
          </a:xfrm>
          <a:prstGeom prst="rect">
            <a:avLst/>
          </a:prstGeom>
          <a:ln w="12600">
            <a:solidFill>
              <a:srgbClr val="003366"/>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vantGarde Bk BT"/>
              </a:rPr>
              <a:t>PNH Cell Types</a:t>
            </a:r>
            <a:endParaRPr b="1" lang="en-US" sz="3600" spc="-1" strike="noStrike">
              <a:solidFill>
                <a:srgbClr val="006666"/>
              </a:solidFill>
              <a:latin typeface="Arial"/>
            </a:endParaRPr>
          </a:p>
        </p:txBody>
      </p:sp>
      <p:sp>
        <p:nvSpPr>
          <p:cNvPr id="129" name="PlaceHolder 2"/>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Type I</a:t>
            </a:r>
            <a:r>
              <a:rPr b="0" lang="en-US" sz="2000" spc="-1" strike="noStrike">
                <a:solidFill>
                  <a:srgbClr val="003366"/>
                </a:solidFill>
                <a:latin typeface="Arial"/>
              </a:rPr>
              <a:t>: almost normal cell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Type II</a:t>
            </a:r>
            <a:r>
              <a:rPr b="0" lang="en-US" sz="2000" spc="-1" strike="noStrike">
                <a:solidFill>
                  <a:srgbClr val="003366"/>
                </a:solidFill>
                <a:latin typeface="Arial"/>
              </a:rPr>
              <a:t>: intermediat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Type III</a:t>
            </a:r>
            <a:r>
              <a:rPr b="0" lang="en-US" sz="2000" spc="-1" strike="noStrike">
                <a:solidFill>
                  <a:srgbClr val="003366"/>
                </a:solidFill>
                <a:latin typeface="Arial"/>
              </a:rPr>
              <a:t>: very sensitive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ype II/III cells bind increased C3—excessive number of MAC are forme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n exist in any combination in pts with PNH </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0" name="" descr="">
            <a:hlinkClick r:id="rId1"/>
          </p:cNvPr>
          <p:cNvPicPr/>
          <p:nvPr/>
        </p:nvPicPr>
        <p:blipFill>
          <a:blip r:embed="rId2"/>
          <a:stretch/>
        </p:blipFill>
        <p:spPr>
          <a:xfrm>
            <a:off x="1447920" y="2514600"/>
            <a:ext cx="2660400" cy="3733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6T18:13:22Z</dcterms:created>
  <dc:creator>Liz</dc:creator>
  <dc:description/>
  <dc:language>en-US</dc:language>
  <cp:lastModifiedBy>Dr.abdel-hamid</cp:lastModifiedBy>
  <dcterms:modified xsi:type="dcterms:W3CDTF">2006-10-19T05:02:29Z</dcterms:modified>
  <cp:revision>36</cp:revision>
  <dc:subject/>
  <dc:title>Anesthetic Considerations of Paroxysmal Nocturnal Hematuria</dc:title>
</cp:coreProperties>
</file>