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777A-E8C3-4D2A-937C-D613B1A49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9457-4D3F-4748-B2DD-0D50D8CBF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BCE6-C187-4E3F-A15F-55B3FFC11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95C1-84CC-49F5-82D1-6CBDF52D9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4A8B-B0DA-4003-83B8-91439D3AC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4D03-C79A-45BD-AC89-A775DFC08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0E7D-CD8E-46D7-ACD5-805AF69E4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CFAF-0E17-4BAE-86B2-3CB8FC602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DB7F-E5D2-4388-AE79-AFAFF071D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A331-8A95-45EE-BE69-9AFC5557E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7772-6B93-414E-8EC6-073FA636A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BF09-9C7C-40CD-B931-4A2B2852A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500BA-E3F6-47E2-BDFD-46357A036690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00120"/>
            <a:ext cx="7772400" cy="21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Comparative Constructions II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98989"/>
                </a:solidFill>
                <a:latin typeface="Calibri"/>
              </a:rPr>
              <a:t>10. Conjun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142920" y="356760"/>
            <a:ext cx="885816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Combine each pair of sentences by using a suitable coordinato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e is prett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e is clever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yet, for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follow the rul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will be fined.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and, or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arah wanted to buy a new ba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e started to save money. ( so, for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have never visited Asi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have never visited Africa.   ( either, neither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Combine each pair of sentences by using suitable correlative coordinator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spoke to the secretar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spoke to the director. ( both …and, whether…or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not play violi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not play piano. ( either …or, neither … nor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can have some coffe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can have some tea.  (either …or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أكمل الجمل التالية بحرف عطف مناسب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أنت ..........محمد  صديقان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أذهبت إلى المدرسة .......تغيبت 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حترم العلماء ........الجهلاء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صليت ركعتين ....ثلاث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حضر الضيوف..... تناولنا العشاء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صام الرجل عن الطعام ..... مغيب الشمس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Calibri"/>
              </a:rPr>
              <a:t>حددي معنى حرف العطف في الجمل التالية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دخلت البصرة فالكوفة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نحترمكم حتى الأطفال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قرأت نحوا لا أدبا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شرب ماء أو لبنا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جاءني رجل أو امرأة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أكلت السمكة حتى رأسها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"أأنتم أشد خلقا أم السماء بناها"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لماء طاهر أو طهور أو نجس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onjunc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junctions are words that link words, phrases and clauses. There are two classes of conjunctions: coordinators and subordinato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ordinators link units of equal syntactic status. However, subordinators link units of unequal syntactic statu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oordin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re are 7 simple coordinators in English: for, and, nor, but, or, yet, and so.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ANBO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1523880" y="2976480"/>
          <a:ext cx="6096240" cy="2595600"/>
        </p:xfrm>
        <a:graphic>
          <a:graphicData uri="http://schemas.openxmlformats.org/drawingml/2006/table">
            <a:tbl>
              <a:tblPr/>
              <a:tblGrid>
                <a:gridCol w="1220760"/>
                <a:gridCol w="48754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nects a reason to a resul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nects equal similar ide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nects two negative senten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nects equal different idea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nects two equal choi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nects equal contrasting ide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nects a result to a reaso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oordin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14200" y="1285560"/>
            <a:ext cx="878688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am a little hungry,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 didn’t eat breakfast this morn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ohn likes to fish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hu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e doesn’t eat meat,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o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does she drink milk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like to eat fish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u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not to catch the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 you prefer coffe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e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sunny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ye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ol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didn’t eat breakfast this morning,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o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 am a little hungr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oordin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13840" y="1213920"/>
            <a:ext cx="864396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rrelative coordinators are always in pairs. They connect grammatically equal elements. There are 5 correlative coordinators in English: both .. And, not only … but also, either … or, neither … nor, whether … o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Both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San Francisco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and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Sydney have beautiful harbo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Japanese food is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not only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delicious to eat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but also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beautiful to look a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Bring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either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a raincoat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or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an umbrell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The old man can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neither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read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nor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writ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Ali can’t decide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whether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to join the med school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or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to study engineerin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حروف العط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هي حروف تعطف ما بعدها على ما قبلها، وهي: الواو والفاء و ثم و أو وحتى وأم المتصلة ولكن ولا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الواو: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تفيد الجمع والمصاحبة والمعية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زارني محمد وخالد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وإذ يرفع إبراهيم القواعد من البيت وإسماعيل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57200" y="428400"/>
            <a:ext cx="822960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لفاء: تفيد الترتيب والتعقيب والتسبب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شربت الماء فالقهوة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وصلت الطائرة فنزل منها الركاب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سها المصلي فسجد للسهو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ثم: تفيد الترتيب والتراخي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كنت طفلا ثم صبيا ثم غلاما ثم شابا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حتى: تفيد التدريج والغاية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ركبت كل الوسائل حتى الطائرة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صمد الجيش في المعركة حتى آخر رجل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57200" y="35676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أم المتصلة وتكون مسبوقة بهمزة استفهام وتسمى همزة التعيين. تفيد العطف للتعيين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أتحب التفاح أم البرتقال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أيهمك رضا الله أم رضا الناس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أو: تفيد التخيير و الإباحة و الشك و التشكيك والتقسي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لتحق بالجامعة أو المعهد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شرب قهوة أو شايا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لبثنا يوما أو بعض يو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وإنا وإياكم لعلى هدى أو في ضلال مبين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لفعل ماض أو مضارع أو أمر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13840" y="285840"/>
            <a:ext cx="847260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لكن: تختلف عن (لكن) التي تفيد الاستدراك. وتأتي بعد نفي أونهي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ما أكلت عنبا لكن أكلت تفاحا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لا تصاحب الأشرار لكن الأخيار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أنا لا أكره الناس لكن أحتقر المغتابين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لا: عكس لكن، تأتي بعد الإثبات أو الأمر أو النداء.وتكون إقرارا لما قبلها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يفوز الشجاع لا الجبان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هذه قصة لا مقال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يا محمد لا علي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شتر كتابا لا ملابس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8T14:16:25Z</dcterms:created>
  <dc:creator>ABS</dc:creator>
  <dc:description/>
  <dc:language>en-US</dc:language>
  <cp:lastModifiedBy>CMAlaptop</cp:lastModifiedBy>
  <dcterms:modified xsi:type="dcterms:W3CDTF">2017-01-29T14:53:04Z</dcterms:modified>
  <cp:revision>38</cp:revision>
  <dc:subject/>
  <dc:title>Comparative Constructions II</dc:title>
</cp:coreProperties>
</file>