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3D5-8142-4FB8-8920-8B0DC58E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CE3-19A9-45B9-A656-B15E5D1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FAF-3B0C-49A8-A9D6-5CA86A74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6C5-6451-4028-A56A-0334627D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100F-1077-487E-8066-B71FCC4A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13AF-48D3-4501-B2F2-496A3DE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F2D1-7CEF-4310-92BD-86EDF64C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FB49-E0E8-48BC-AC40-668AFC7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4D2-4443-49F2-B800-04357B8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0E38-DB9A-4707-AEE6-F3B4E05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A09-4A1C-4F5D-9FB6-CF59228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72E-BB64-456C-AECD-7B8311B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E0D5-B67E-46F9-A2E8-4308487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CFC-B7A1-4916-A75B-72673819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3D5A-BAC7-43F8-9239-92873E9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DFF3-BBE9-467E-8E0D-4E002CFB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9F68-6104-45B9-9BF4-03E1F8D3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67A2C-CD6E-4E58-8AC5-D5DF76F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569ED-BF28-4E1F-BC88-FCDF193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E05A3-160D-4B26-B276-FD55A22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6E0FD-9CB2-4B32-A571-5B6D4110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18437-BFEF-44EE-BD7F-0C25B11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F03-245E-48E1-8830-2F73231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F7F9A-F2C5-4A82-AB5C-B32800D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5E9EB-1C4E-4FF7-91D3-80F6521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36889-00B6-4370-AC52-B94E6A8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FBE6E-282C-4FFD-B0A3-8C860EB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10D1A-2F2E-4FB2-9997-58DC31B8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BAD18-268C-47C0-898E-70909C33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2A046-BD9A-444B-B776-2E738937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6328-1478-40A3-AC6B-399049C1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0679-A450-41FA-80B1-10E7A68B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71C4-5553-408B-B184-63929AC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A86-0DD1-492C-ABA7-2BF684A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9865-B832-4716-89B2-C878B1B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EC78-68F5-45D2-A858-146FC772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C9D0-9DF9-4ECF-A068-50F66C4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FF2F-7C95-455D-B8CE-D64FFDB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55EB-5400-4771-B622-E4A2A38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0421-3526-4E7A-8FBC-2CAB36D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84CD-D052-4FF2-9431-D66A58B0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DDF9-11BE-43A8-89B2-92C0BEFF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98C2-20F7-44A3-B2F8-F9F7A3C0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082-0158-49E0-BAFA-E3630050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572-FD2E-42C1-9603-7087D22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F04-E5ED-4C8B-BF4D-7E58D36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E8F-FA14-4A09-94DD-C9CA225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522-3468-45A5-B864-5A2720C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14C-3D3D-4AE5-96E1-5752B330BCE2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C96-26A7-4049-ACCE-85FB49FAFC69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FB84-5836-498E-9EC8-06B1452F23DD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3E9-C052-4805-B101-79DC31C5B094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mparative Construction 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unctuation: Pract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dd commas where necessary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il, which is lighter than water, rises to the surf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dame de Stael was an attractive, gracious lad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Ni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word with many meanings, and some of them are contradictor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loset contained worn clothes, old shoes, and dirty ha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surviving this ordeal, the trapper felt reliev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rk Twain's early novels, I believe, stand the test of 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ember 7,   1941, will never be forgotte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eld was safe enough, wasn't i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the editor of the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tlantic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8 Arlington Street, Boston, Massachusetts 021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357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 replied, "I have no idea what you mean."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 good washing and grooming, the pup looked like a new do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ause of their opposition to institutions that force creatures to live in captivity, some people refuse to go to the zo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sts, which were once popular, have been out of vogue for several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write each group of words so that it contains the punctuation listed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mes said that he d missed the train got lost and been arrested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2 commas, 1 apostroph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he bell rang our teacher stood up and said Stop writin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2 commas, quotation mark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of all this can be dangerou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n on the other hand did not agre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ra asked What time does the teacher usually get her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quotation marks, 1 question mark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pany produces 3 456 234 cars every yea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students finally stopped talking the teacher decided to give them a quiz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visited Los Angles California Paris France and Cairo Egypt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3 commas, 2 semi-colon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357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ce class finishes at 10 30 we will be able to catch the 10 50 bus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(1 comma, 2 colons, 1 period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usually don t do homework on Wednesday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 grades on this exam were low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X ray showed that Saras arm was broken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hyphen, 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nce, M. &amp; Emmerson, P. (2003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Intermediate language practice: English grammar and vocabula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Oxford, UK: Macmil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2:05:41Z</dcterms:created>
  <dc:creator>Fawaz</dc:creator>
  <dc:description/>
  <dc:language>en-US</dc:language>
  <cp:lastModifiedBy>CMAlaptop</cp:lastModifiedBy>
  <dcterms:modified xsi:type="dcterms:W3CDTF">2017-01-29T14:06:52Z</dcterms:modified>
  <cp:revision>14</cp:revision>
  <dc:subject/>
  <dc:title>Comparative Construction II</dc:title>
</cp:coreProperties>
</file>