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05A7-2652-4DE6-917A-9C478B891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2DA7-829F-47F2-BEC0-CE6E6DDD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9ACA-184E-42F4-AEAC-FE1277121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7CA9-8986-41AD-B647-9C0FB8E66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1E71-4E1C-4B15-BD67-F6EEC8F66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409A-BBBC-4215-97A1-AAB00335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1BAA-37C7-4384-A8BA-301893FA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F8BA-D6DE-4B91-82E2-4A1D78AC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3E37-E339-41C3-87D6-B75E354D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75BA-A625-4A2F-A0DC-F9CB8C9E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A96F-B9E9-482A-90DA-C809E1BD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1FB6-1DBE-4D0A-9F10-AC0F2EFC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5D39-BD02-461D-8531-E9CDCCB1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26FF-59A0-4C67-B969-7F757172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5D02-3F3D-4C53-AB35-CDCBBF1D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8708-CEA6-43C8-9846-67C7DCA81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7DA5-A49A-4A26-8ED8-E5A8ED58A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CF82C-64A4-418C-9EAD-3FDBF7974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1644B-4DCF-4989-9895-AB11D830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5F849-4270-4E1F-9631-68F62240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F96E5-0FDB-44FD-9E76-F5A44FB8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B4E9B-CB17-4EEC-ADCE-165A7F13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0495-B3E8-439D-B912-72173552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94E09-585B-4A33-82A8-4C2191EB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FCA61-4054-4C87-BA6E-37AAB785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75854-AD2A-4C8E-B3AA-D1AD757E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D936A-91C4-4162-8BA8-03262997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3567A-790B-40A6-BABB-68BE51BC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28AB6-C0C2-4357-A66F-414A10E9A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8B958-1C63-44C3-9956-4CDD6AA4F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E4366-5448-41F4-800C-6507A2F45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06978-4FE8-4E8F-BBBA-90B5859A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57B8D-ECBA-442E-A3E8-AE0D7EA4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A26C-53D4-4F12-9ABC-38580B3B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2984C-6CAE-4288-A920-9808A74B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263A0-AB73-43DB-A4BB-01415983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78EDD-A8DA-4D07-854C-CE85E472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4B1F3-DCC2-4217-9DE1-6F77EDA9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B4487-FC32-48A5-B96A-0AFD41EA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257EE-978E-4CEA-A6AE-083FFDFC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8E028-C781-4079-AF94-452FEE0E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8DED3-40CD-4ADF-8576-6AF2E341F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CCCB7-1455-442D-87CE-74ACB0A8F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9D4F-2462-4A8F-9E92-74AA273C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48C5-4DF2-4DB3-BEEF-4666EDE6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C2C3-2BA6-4336-B944-1002FD3B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A795-AA94-4169-B3E4-F35FB4ED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669A-3C13-492C-B209-0C9F83EF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2440" y="6066000"/>
            <a:ext cx="7935840" cy="547560"/>
            <a:chOff x="622440" y="6066000"/>
            <a:chExt cx="7935840" cy="54756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2440" y="6066000"/>
              <a:ext cx="79358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68520"/>
              <a:ext cx="7921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 algn="r" rtl="1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 algn="r" rtl="1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242852"/>
                </a:solidFill>
                <a:latin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242852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42852"/>
                </a:solidFill>
                <a:latin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19F3-AAC8-44A5-937B-46D722DCDBF0}" type="slidenum">
              <a:rPr b="0" lang="ar-SA" sz="1400" spc="-1" strike="noStrike">
                <a:solidFill>
                  <a:srgbClr val="242852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15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57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59" name="Rectangle 16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60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62" name="Freeform 17"/>
          <p:cNvGrpSpPr/>
          <p:nvPr/>
        </p:nvGrpSpPr>
        <p:grpSpPr>
          <a:xfrm>
            <a:off x="884160" y="5614920"/>
            <a:ext cx="7394760" cy="547920"/>
            <a:chOff x="884160" y="5614920"/>
            <a:chExt cx="7394760" cy="547920"/>
          </a:xfrm>
        </p:grpSpPr>
        <p:pic>
          <p:nvPicPr>
            <p:cNvPr id="63" name="Freeform 17" descr=""/>
            <p:cNvPicPr/>
            <p:nvPr/>
          </p:nvPicPr>
          <p:blipFill>
            <a:blip r:embed="rId5"/>
            <a:stretch/>
          </p:blipFill>
          <p:spPr>
            <a:xfrm>
              <a:off x="884160" y="5614920"/>
              <a:ext cx="739476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720" y="5617800"/>
              <a:ext cx="73818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65" name="Rectangle 18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 algn="r" rtl="1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 algn="r" rtl="1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242852"/>
                </a:solidFill>
                <a:latin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242852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42852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ADD5-C9BB-4F32-AC70-C264D95A535A}" type="slidenum">
              <a:rPr b="0" lang="ar-SA" sz="1400" spc="-1" strike="noStrike">
                <a:solidFill>
                  <a:srgbClr val="242852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15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12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14" name="Rectangle 16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15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17" name="Freeform 17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118" name="Freeform 17" descr=""/>
            <p:cNvPicPr/>
            <p:nvPr/>
          </p:nvPicPr>
          <p:blipFill>
            <a:blip r:embed="rId5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20" name="Rectangle 1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Rectangle 19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Rectangle 20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Rectangle 21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 algn="r" rtl="1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 algn="r" rtl="1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242852"/>
                </a:solidFill>
                <a:latin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242852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42852"/>
                </a:solidFill>
                <a:latin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AB47-3232-47BA-86F5-897D50A0E137}" type="slidenum">
              <a:rPr b="0" lang="ar-SA" sz="1400" spc="-1" strike="noStrike">
                <a:solidFill>
                  <a:srgbClr val="242852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15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69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71" name="Rectangle 16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72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74" name="Freeform 17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175" name="Freeform 17" descr=""/>
            <p:cNvPicPr/>
            <p:nvPr/>
          </p:nvPicPr>
          <p:blipFill>
            <a:blip r:embed="rId5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77" name="Rectangle 18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Rectangle 19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Rectangle 20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Rectangle 21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 algn="r" rtl="1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 algn="r" rtl="1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242852"/>
                </a:solidFill>
                <a:latin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242852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42852"/>
                </a:solidFill>
                <a:latin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6AC4-BEAB-4E99-9DFF-56477FE9A16E}" type="slidenum">
              <a:rPr b="0" lang="ar-SA" sz="1400" spc="-1" strike="noStrike">
                <a:solidFill>
                  <a:srgbClr val="242852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26920" y="1795320"/>
            <a:ext cx="5722920" cy="182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Comparative Constructions II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727280" y="3736800"/>
            <a:ext cx="571176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Franklin Gothic Book"/>
              </a:rPr>
              <a:t>Number - </a:t>
            </a:r>
            <a:r>
              <a:rPr b="0" lang="ar-SA" sz="2400" spc="-1" strike="noStrike">
                <a:solidFill>
                  <a:srgbClr val="242852"/>
                </a:solidFill>
                <a:latin typeface="Franklin Gothic Book"/>
              </a:rPr>
              <a:t>العدد والمعدود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Franklin Gothic Book"/>
              </a:rPr>
              <a:t>Practic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Constantia"/>
              </a:rPr>
              <a:t>. اكتبي الأرقام التالية بالحروف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463400" y="2276280"/>
            <a:ext cx="619596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زاد تعداد الشعب الإنجليزي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20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 مليون نسمةً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 في ا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لقرن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19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، إلا أنه لم يعان من آثار الانفجار السكاني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شاهدتُ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الحلقة الـ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15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 والأخيرة من المسلسل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زرت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20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 مدرسةً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تحتوي المجموعة الشمسية على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9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 كواكبٍ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قرأ أحمد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10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 قصصٍ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 أثناء العطلة الصيفية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Constantia"/>
              </a:rPr>
              <a:t>. أدخلي ألـ التعريف على الأعداد التالية واكتبيها بالحروف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قرأتُ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20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 كتاباً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قرأتُ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21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 قصةً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أحضرتُ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17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 نسخةً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سيحضر محمد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5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 حقائب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onstantia"/>
              </a:rPr>
              <a:t>. ضعي علامة صح أمام العبارات الصحيحة وعلامة خطأ أمام العبارات الخاطئة مع تصحيح الخطأ فيما يلي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476000" y="21337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الطابق السابع عشر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الأحد العشرة دولة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70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 كتاباً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36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 جنيهات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303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 مليون سهم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ar-SA" sz="3000" spc="-1" strike="noStrike">
                <a:solidFill>
                  <a:srgbClr val="000000"/>
                </a:solidFill>
                <a:latin typeface="Constantia"/>
              </a:rPr>
              <a:t>. ترجمي الجمل التالية من اللغة الإنجليزية إلى اللغة العربية: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he prepared dinner for the three children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20480" indent="-420480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20480" indent="-420480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e students will read twenty-seven articles during the semester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20480" indent="-420480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20480" indent="-420480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e classroom is on the thirteenth floor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20480" indent="-420480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20480" indent="-420480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ara is ten years old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e bag costs one hundred riyals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ere are fifteen seats in the classroom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I have seven blue pens at home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ty people went to the zoo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في أساسيات اللغة العربية لعبد العزيز نبوي - القاهرة: الدار المصرية اللبنانية،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17:00:08Z</dcterms:created>
  <dc:creator>Fawaz</dc:creator>
  <dc:description/>
  <dc:language>en-US</dc:language>
  <cp:lastModifiedBy>CMAlaptop</cp:lastModifiedBy>
  <dcterms:modified xsi:type="dcterms:W3CDTF">2017-01-25T17:31:58Z</dcterms:modified>
  <cp:revision>28</cp:revision>
  <dc:subject/>
  <dc:title>Comparative Constructions II</dc:title>
</cp:coreProperties>
</file>