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B1E5-36E3-4932-94C2-9E76F1617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79B-9261-49F4-85B2-E9C97F18135A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958-747D-4611-9C7B-0B85BD06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ECD-C0E2-4BEC-981E-6AE66D5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7AF-D068-45C2-881B-D05E04D6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87A-9CE6-4214-8D2B-EA74956C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4781-1014-4319-A273-D91F2F8A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C98-24E6-4537-A9E2-CC2C1B2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FF6C-8EE3-436C-A755-6B6E85E0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84A3-01F9-4CD6-B88C-86C17C42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A70-E915-4BBD-A3A9-D8CF9EF6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BEFE-19D0-498D-A14B-DEAEC914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D3C-4908-42E7-ACE1-9E1B9A8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CA2-540B-4210-BF4A-D12F876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49B-444D-44F9-811D-7FA705C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CD0D-0E37-4662-9652-4D5291D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8944-E6D8-43EC-8772-AA557BA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2D6F-2A7C-4691-A56F-C0C998F2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E46C-9D5E-498A-AE07-04904E69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377A-5780-4293-BB95-27AC5E0C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5605-A9F5-421F-B573-8C45E42E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5CD4-97DC-4A4E-83DA-C6B91233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47F3-E94D-421D-AEF3-25C40D40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B6ED-2A58-40DC-ACC3-67A74174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385-94DF-47DE-9392-7A16502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B58D-4FA3-4C25-BAAC-9B96A7B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0D4E-0D8C-4DFB-9B26-F121115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818A-9D20-40F8-A799-C80750F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5AF2-5885-4ED0-BAB8-C0A154A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A19F-A42B-4F0F-BFC1-E0FF828B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B6AD-7310-4DA9-98EF-1F072894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193D-67F6-4CDC-BCBF-BC047632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35FE-DC08-454D-A423-F5FAC54C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1CCF-CA97-428A-AB50-F63A034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646AD-B3FF-40DB-89E4-2EDD2E9A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0C1-348A-43DF-B343-1AEB184D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E6C2-9A58-4845-8F1A-D530E73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196D-674D-4911-810E-CEDE73E1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91C6-0D31-4ADD-A98C-F3D9E135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172B5-07FE-4220-8955-38D7215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3440-3BFB-4178-A01E-6E16499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690B-47FC-45E8-A7BF-A21817F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D6F2-C6C4-4A9E-B60A-9B9B1674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5DE0-88DA-4DEE-92D4-26E5FED1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8FC9D-2B1A-4405-ADE2-2450D36F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DB36-1852-44FC-BF81-F32CB94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23E-BA9E-4DA7-944A-512B68DD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C707-6DD2-4777-95D1-4058184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341C-3F56-47A1-90E5-5C42C5B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E132-C4F6-4DE3-A114-46BFE24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D1536-4955-4772-8667-C93F074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4625-E1EB-4D9B-BDCC-9E890635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8B6E-B84C-4EB0-BD3E-C253E56C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DFA2-3680-4609-8D4F-5D7D7CB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D394-6F99-4ECA-86C0-B6D96C7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22FB2-D1ED-4712-9C22-AE8062A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71C6-551F-4407-B6D1-207C3111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49A-9139-44C3-AC95-B38696A6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8EC1-C5CB-4B73-BC06-85779B98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DAD-EF50-46DF-9D9E-0030BAC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C65-D6E4-4A0B-A7E1-A38B093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251-8D89-4C15-A500-049D49A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DE8-9B04-4A31-A6A1-51094B6F39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835-F674-42AE-8932-913467E764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099A-72A0-4643-B9B8-502CF3D169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6889-EC40-4AF8-8CCA-12333A5008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F7A8-2936-4456-841E-0C94EDAE13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5 – Comparative &amp; Superlative adjectiv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ستخدم اسم التفضيل للمقارنة بين اثنين (أو أكثر) اشتركا في صفة، و زاد أحدهما على الآخر في هذه الصف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طول - أقصر - أنشط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عرب حسب موقعه في الجمل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شتق اسم التفضيل على وزن «أفعل» للمذكر و «فُعلى» للمؤنث من فعل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اض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ثلاث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ثب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تام (الأفعال الناقصة : كان وأخواتها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بني للمعلوم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ليس الوصف منه على وزن «افعل» و «فعلاء» أحمر حمراء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قابل للتفاو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d2533c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في حال اختلّ أحد الشروط السابق ذكرها، لا يُصاغ اسم التفضيل من الفعل بشكل مباشر. إنما يُصاغ من المصدر مع كلمة مناسبة على وزن «أفعل»، مثل: أشد - أكثر - أقل - أدن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كون المصدر في هذه الحالة، تمييز منصو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كثر ازدحاماً - أشد حمرةً - أقل دحرجة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ناك ثلاثة أفعال تٌحذف منها الألف عادة في صيغة التفضيل، هي: خير وشر وحب. مثلاً: خير منه أو شر منه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وحب شيئ إلى الإنسان ما منعا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صدق خير من الكذ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لال خير الناس وابن الأخير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Arial"/>
                <a:cs typeface="Arial"/>
              </a:rPr>
              <a:t>حالات 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جرد من أل ومن الإضا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 ← يجب إفراده وتذكيره - المفضل إليه مسبوق بحرف الجر من (ويجوز حذفه إذا كان مفهوماً من الجملة). مثال: أحمد أطول من أخيه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نكر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إفراده وتذكيره. مثال: الكتاب أفضل صديقٍ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عرفاً بأل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أن يُطابق المفضل في التذكير والتأنيث والعدد - لا يُذكر المفضل عليه بعده. أمثلة: محمد هو الأصغر سناً - مها هي الصغرى سناً - الأختان الفضليان - النساء الفضليات – الشباب الأفضلون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معر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وز فيه: أن يطابق المفضل كالمعرف بألـ أو أن يكون مفرداً مذكراً كالمجرد من ألـ ومن الإضافة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cs typeface="Arial"/>
              </a:rPr>
              <a:t>يمتنع مجيء (من) والمفضل عليه بعده. أمثلة: محمد أفضل الرجال - فاطمة فضلى النساء أو فاطمة أفضل النس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في أساسيات اللغة العربية لعبد العزيز نبوي - القاهرة: الدار المصرية اللبنانية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المبسط في شرح قواعد اللغة العربية لمحمد حسين سلامة - القاهرة: دار الفكر العربي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0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esl.fis.edu/grammar/rules/comp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nglishclub.com/vocabulary/irregular-adjectives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j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v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khayma.com/medhatfoda/naho%202th/2thn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drmosad.com/index7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267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parative adjectives are used to compare two thing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wo common structures used to compare ar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 (e.g., She is as smart as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 (e.g., She is smarter than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does not chang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changes depending on the number of syllables it ha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lder – hotter – tall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ppier – prettier – luckier – easi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careful – more crowded – more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perlative adjectives are used to talk about one thing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used to describe something as being the most of, e.g., the best, the worst, the most beautiful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oldest – the hottest – the tall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happiest – the prettiest – the luckiest – the easi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areful – the most crowded – the most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djectives that Follow both Ru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disyllabic adjectives follow two rules (i.e., they take -er and -est OR more/the most). For examp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v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en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riend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impl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rrow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jectives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196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od – better – the be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a greater degre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e.g. That's the furthest for my mind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can be used adverbially to mean in add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distance (e.g. My house is farther from school than yours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elder – the e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when referring to someone in the fami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older – the o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general u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y – more – the mo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/Superlative Adverb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 / –est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ster – the fast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rder – the hard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ther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/ 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quickly – the most quic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verb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ll – better – the b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ly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(Distance)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e.g. She lives the farthest from school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(Degree)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(e.g. My son went the furthest of all the children in his education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CMAlaptop</cp:lastModifiedBy>
  <cp:lastPrinted>2013-03-29T19:17:46Z</cp:lastPrinted>
  <dcterms:modified xsi:type="dcterms:W3CDTF">2017-01-29T14:46:28Z</dcterms:modified>
  <cp:revision>42</cp:revision>
  <dc:subject/>
  <dc:title>Comparative Constructions II</dc:title>
</cp:coreProperties>
</file>