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378-7E61-4279-BC1E-39848CF3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9A8-335A-4B80-AAD9-1262FA59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3BC-356E-4065-8F44-0316E781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22E-A99B-46C1-850A-23782C57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94AB-DBDA-4A5B-9821-8E4558CC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E104-B4B4-45FE-87F8-317DA290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E08-5E1C-4521-81F4-9CFB71B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5862-0E8A-4B5E-AB3E-74F7834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18C3-BC26-47CD-B4D4-CFE5017D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E321-2034-44D6-9477-6991B33E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FCB4-6035-4240-9425-A5CD4F5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B92-5EBC-4CAC-83FE-247F0B4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01D4-F06F-49A0-A782-9079242C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5993-FFC6-483A-AA13-5E53796A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6202-A9FC-4531-B177-445852D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F3B7-CBED-4653-B376-612A4226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0D1F-4F9A-4475-8DD7-923E2143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BEA5-A51E-4337-80C9-EA13E7EC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BE8F-AE54-4969-AAEA-4B9983CB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BDB8-C328-4D1E-8E0F-13554F29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69A3-CBD0-43BD-98A4-8E05E589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BF77-4FC9-440E-9835-0198AF96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BAC-93D6-45F4-8954-248B25EA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2B87-8AEB-456D-818B-6E77B4E5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03AB-DF7D-4E5F-BCF1-DFDB8C8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E1BB-07F1-4D51-BEDE-DC936D0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5D85-CB3B-4775-8E49-B03E4A7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CE6E-D8F4-4D4A-A3DC-E09083D3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0CD6A-1DE3-4657-88CA-52B4BF33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8EB0-327F-468F-B484-1DE1A6C3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D0CBF-8771-4012-8DF1-128A5A4A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9068-EC62-45B3-A130-0E4C50C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E32F-40A2-46E3-83E4-05CA2680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877-2C07-440A-B599-D01B2F93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0EA5-24FD-4DA9-B67A-C62677F2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9335-224F-41A6-88AE-CAC20117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167A-453C-4FCF-816F-45121350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D736-6940-4F6E-91AB-FBF5C4D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5677-CD3F-4F1D-9AF4-84145D1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ACDE-1AE0-4F6A-97AF-179F458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EAAE-C65A-423F-914D-F411789C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45CD-A2AA-47CB-A240-D2CBC81D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FC57-2EAE-4953-935D-A3BB36E5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53FE2-9C8A-454F-A4D6-2C75977A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55C-6B43-48AB-BC17-8427E8A9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1B4E-1609-45EB-8B7A-7D673D09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A522D-2E0D-45F1-B648-08BCC57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4066-7084-46FB-BE7D-9BC6B7AA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C0042-77E2-4FBA-B631-E88D0D9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ED00-F585-4D6E-AFF8-54CD7D25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DC572-03FF-428F-8B76-70B819C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E1E5-D8D6-4C58-B0FB-BEFB9EC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8772-967D-4FAB-93A8-2BA4440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A4B9-A6ED-49F3-A35E-BE677A4C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FC98-C60A-4176-B7B2-DD5C78C6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090-C818-4A09-9F18-4C3A9AA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0C04-11C5-43BB-9037-0DA1D0B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BBC-BEFE-4234-91F1-32A659B3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266-8521-47F6-9CA9-50B6DD1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1CB-D11C-4278-BD79-DEC7728C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0A66-06EB-4CE3-8095-C7315F12ED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000-78A2-495D-B17F-DA9A748C65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B26-C1E4-4EEF-A627-BF15EA2360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5797-B23A-458D-BAE6-92EB02A97A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ACA9-4129-40EA-BCFF-137D76DC88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5 – Comparative &amp; Superlative - Practic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 the comparative and superlative forms for each of the following adjective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i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us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o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pula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les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llig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ci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ill in the blanks using the correct form of adjective (comparative or superlative)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y house is _________ (big) than your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is is _________ (interesting) book I have ever rea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holiday by the see is _________ (good) than a holiday in the mountain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o is _________ (rich) woman in the world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was _________ (clever) thief of al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Tower of London is one of _________ (famous) sights in Lond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ill in the blanks using the correct form of adverb (comparative or superlative)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 speak English _________ (fluent) now than I did last yea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ld you write _________ (clear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lanes can fly _________ (high) than bird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had an accident last year. Now, he drives _________ (careful) than befo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worked _________ (hard) than ever befo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im runs _________ (fast) out of all the members of our team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he greeted me _________ (polite) of al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-write the following sentences using the form of the adverb that is provided. Make any necessary changes.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159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rgo lives the nearest to Grandma. (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enneth arrived late to the award ceremony. (compar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am did better on the activity than Tony. (superl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anine arrived late. (compar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أكمل الجمل التالية باسم تفضيل مناسب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شتاء ……… ليلاً من الصيف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علماء …… من غيرهم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ربِيع…… أزهاراً من الشت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أرض ……… حجماً من الشمس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نلت الدرجة ……… في اختبار الشهر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نساء ……… يحترمهن الناس 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Arial"/>
                <a:cs typeface="Arial"/>
              </a:rPr>
              <a:t>حددي اسم التفضيل وحالته في كل من الجمل التالية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جندي العربي أشجع جندي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يد العليا خير من اليد السفل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أفضل الخلال حفظ اللسان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ذان المعلمان أعظم المعلمين خبر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ذا العامل هو الأفضل في العمل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go4u.com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capocci.pbworks.com/w/page/21386570/Irregular%20Comparative%20and%20Superlative%20Adverb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-zone.com/spelling/comp5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khayma.com/medhatfoda/naho%202th/2thn5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CMAlaptop</cp:lastModifiedBy>
  <cp:lastPrinted>2013-03-29T19:17:46Z</cp:lastPrinted>
  <dcterms:modified xsi:type="dcterms:W3CDTF">2017-01-29T14:48:10Z</dcterms:modified>
  <cp:revision>41</cp:revision>
  <dc:subject/>
  <dc:title>Comparative Constructions II</dc:title>
</cp:coreProperties>
</file>