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E2B-C31F-4E7A-9710-2557A07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5B1-2D14-4961-9687-66576F9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E39-2157-472F-A2CC-6DE3542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742-F89A-418B-A356-C38C300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5197-972F-4C82-9E40-E7C5607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76DA-FDAB-44E5-9627-5DEF408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3589-5F0F-4175-8DDD-1E04140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485-F4B6-4584-953A-E195A68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9EBB-8D5B-427C-94FD-4E5D0F9F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372-A3BB-4BBD-A683-E3E3A8C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853-DFBB-4573-B783-D34EFEB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A61-0B15-445F-8710-328BCB5C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38D4-7AC0-4C56-99F9-7D84748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2B4-F5F1-407F-A1A1-BBC909B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D89D-3DC6-4C9B-9296-31AC7A6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2405-E88E-4698-866C-71441E5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05E-3B89-4166-A4D9-46FA0D8B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28BFC-E3FB-4978-9834-382745F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F4CDE-A67B-48DB-B3CF-F4163FE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586DA-2242-4ED1-9195-0662885F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9CAC-2282-44DB-BA98-6079BA3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02982-4CEC-4E85-8BBC-FF2AB2E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055-20E5-495E-9936-AFCAFF5F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8F21-6A2A-4C88-AA34-4931CDC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D8F71-14DA-433E-BB44-5B4E3F9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A5188-825E-40FF-AC19-FF8214E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AA1E3-3559-4A3F-9199-4C1C66A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86FD5-0B44-443B-95B2-F3658FB9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BF540-6706-44F5-AAB4-9BBF40FF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2F227-336D-4A06-BBDA-D0E8C805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66D8-B344-4579-9154-3204AC5A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9C1E-6EF8-476A-A5F0-8A9DE53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C9D9-EC00-439A-B310-3B369F7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42E-7B3B-4757-B584-FA00B4F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3A8E-A652-4B56-9429-92F6E04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0581-8CD4-4B51-9F7E-41165B1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E1F0-5F69-4EC9-B278-85561D8E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3AC5-928A-432C-A515-4F1DAA3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AAB1-A227-420D-BACC-D4D80A7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3692-DD41-4162-8373-9E99048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A455-CD08-4342-91B1-556BF2FF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152C-C8AF-4244-96FF-2A6C0B03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20E2-6D08-4C8B-9F27-75663E41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826-DE16-452B-8372-CA667E9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EE1-065B-42E7-A143-3074CF1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DF5-AC82-4B0A-80EA-65A89E8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668-A31A-472F-B64E-21BDA26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848-3998-4E40-83FF-4532990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4457-D3B9-4E57-8789-B232991E95F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3ED-9D31-4050-A577-784F56C27130}" type="slidenum">
              <a: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5B6B-D2A9-487C-8E57-B8C6128B638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12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E31-6522-4660-961B-0E3B5F39ED94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linkingverb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548a"/>
                </a:solidFill>
                <a:latin typeface="Century Gothic"/>
              </a:rPr>
              <a:t>Comparative</a:t>
            </a:r>
            <a:r>
              <a:rPr b="1" lang="en-US" sz="3200" spc="-1" strike="noStrike">
                <a:solidFill>
                  <a:srgbClr val="53548a"/>
                </a:solidFill>
                <a:latin typeface="Century Gothic"/>
              </a:rPr>
              <a:t> Constructions II</a:t>
            </a:r>
            <a:endParaRPr b="0" lang="en-US" sz="32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Century Gothic"/>
              </a:rPr>
              <a:t>#7 - Nominal Sentences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3548a"/>
                </a:solidFill>
                <a:latin typeface="Century Gothic"/>
              </a:rPr>
              <a:t>كان و أخواتها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أمسى السحاب منقشع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ظل الجو صحو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ليس الشديد بالصرعة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ارتد الأعمى بصير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بات المريض متوجع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ما زال فضلك عامر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عسى الله أن يفرج كربتك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857160"/>
            <a:ext cx="70246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3548a"/>
                </a:solidFill>
                <a:latin typeface="Century Gothic"/>
              </a:rPr>
              <a:t>إن و أخواتها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09160" y="1785600"/>
            <a:ext cx="69627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تدخل على الجملة الاسمية فتنصب الأول ويسمى اسمها وترفع الثاني ويسمى خبرها، ومنها: إن - أن- كأن- ليت- لكن-لعل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علمت أن الصديقين مخلصان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إن مع العسر يسر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لعل الإصابة طفيفة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كأن الفتاة قمر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محمد غني لكن أخاه فقير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ليت المال ينفق لإسعاد البشرية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Azar, B. S. (1999). 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424456"/>
                </a:solidFill>
                <a:latin typeface="Century Gothic"/>
              </a:rPr>
              <a:t>rd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 ed.)</a:t>
            </a: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. New York: Longma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http://www.wisegeek.com/what-is-a-nominal-sentence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afbd"/>
                </a:solidFill>
                <a:uFillTx/>
                <a:latin typeface="Century Gothic"/>
                <a:hlinkClick r:id="rId1"/>
              </a:rPr>
              <a:t>http://www.chompchomp.com/terms/linkingverb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Century Gothic"/>
              </a:rPr>
              <a:t>Nominal Sentences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Nominal sentences are sentences that have a linking verb (or copula) between the subject and the compliment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Verb to be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Stative verbs: become , seem , appear , get, turn, grow, feel, look, smell, taste, soun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42560" y="1197000"/>
            <a:ext cx="67770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Translate the following sentences into Arabic: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She is a student at the schoo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y seem upset because of what happen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He appears to be interested in the conversatio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ood smells delicious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ruit looks fresh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sandwich tastes awfu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It sounds like they did not enjoy the trip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children feel happy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weather became col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room got quiet when the teacher enter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We grew tired as we were climbing the mountain.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42920" y="1785960"/>
            <a:ext cx="702936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Gothic"/>
              </a:rPr>
              <a:t>Hajj is the fifth pillar of Islam.</a:t>
            </a: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Gothic"/>
              </a:rPr>
              <a:t>Rome is the capital of Italy.</a:t>
            </a: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Gothic"/>
              </a:rPr>
              <a:t>Oranges are a rich source of vitamin C.</a:t>
            </a: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Gothic"/>
              </a:rPr>
              <a:t>Arabic is a beautiful language.</a:t>
            </a: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Gothic"/>
              </a:rPr>
              <a:t>The weather turns hot in July.</a:t>
            </a: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499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3548a"/>
                </a:solidFill>
                <a:latin typeface="Century Gothic"/>
              </a:rPr>
              <a:t>الجملة الاسمية</a:t>
            </a:r>
            <a:endParaRPr b="0" lang="en-US" sz="4400" spc="-1" strike="noStrike">
              <a:solidFill>
                <a:srgbClr val="53548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714240" y="1357200"/>
            <a:ext cx="778680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تتكون الجملة الاسمية من مبتدأ وخبر، والمبتدأ غالبا اسم علم يسبق الخبر إلا في حالات معينة، وحكم المبتدأ والخبر الرفع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عدل أساس الحكم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تلميذان مهذبان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هذا كتاب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ذين حضروا ناجحون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ذهب لا يصدأ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جنة تحت أقدام الأمهات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رحمن علم القران.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550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24456"/>
                </a:solidFill>
                <a:latin typeface="Century Gothic"/>
              </a:rPr>
              <a:t>الحديقة ثمارها ناضجة </a:t>
            </a:r>
            <a:endParaRPr b="0" lang="en-US" sz="22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42560" y="1785960"/>
            <a:ext cx="677700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يتقدم الخبر إذا كان المبتدأ نكرة أو أن يكون الخبر له صدارة الكلام كأسماء الاستفهام أو أن يكون جارا ومجرورا,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أين الكتاب؟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عندي كتاب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في الفصل طلاب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00080"/>
            <a:ext cx="70246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3548a"/>
                </a:solidFill>
                <a:latin typeface="Century Gothic"/>
              </a:rPr>
              <a:t>كان و أخواتها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28800" y="1999800"/>
            <a:ext cx="721512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كان وأخواتها أفعال ناقصة، ومنها: كان- أصبح- ما زال –صار- ظل- ليس -مادام -بات -أصبح -أمسى -مابرح -ماانفك - مافتئ - كاد – أوشك – أضحى - ارتد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تدخل كان على الجملة الاسمية فترفع المبتدأ ويسمى اسمها وتنصب الخبر ويسمى خبرها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السماء صافية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24456"/>
                </a:solidFill>
                <a:latin typeface="Century Gothic"/>
              </a:rPr>
              <a:t>كانت السماء صافية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14:47Z</dcterms:created>
  <dc:creator>Fawaz</dc:creator>
  <dc:description/>
  <dc:language>en-US</dc:language>
  <cp:lastModifiedBy>CMAlaptop</cp:lastModifiedBy>
  <dcterms:modified xsi:type="dcterms:W3CDTF">2017-01-29T14:56:31Z</dcterms:modified>
  <cp:revision>41</cp:revision>
  <dc:subject/>
  <dc:title>Comparative Constructions II</dc:title>
</cp:coreProperties>
</file>