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7630-4B39-4B3B-A0BA-CF91BB879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45D-4C2C-4585-9238-C851FB24B65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670-015D-47D9-BC5A-1E9620B2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AD1-AB51-4A47-BA86-E8CC67DD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BE3-64FD-4B49-8F82-5065DAD6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666-08EB-4874-B313-F4E10901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20B1-FD83-4817-8D36-FFA5B389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013B-524B-44AD-8DBE-89917C7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F1F-392A-40B6-97AD-5241C204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18DD-96C5-416F-9783-156CC188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F6FA-A5EE-45A8-A9A7-84456305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8820-F8B9-4357-AED8-AD2816E1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7D7-E5D8-4E80-8D48-3B969E3A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D8B-501A-4628-9E84-884E9BD6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0448-9928-40E4-A315-6D55C559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A35C-CF27-4D98-8E36-75FD48B7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49B5-E3C7-4D66-B0B1-AD0623F8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E982-867F-4A07-AEF0-B580338C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BF95-7978-425A-A5EA-08BC9096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E651-18B3-4EB5-80A2-EDC8A511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A25A-74F5-4E10-8F4E-B4FBC17C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2F78-8625-4D60-8020-DC4A66F5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ECF5-6721-4FC8-8CFF-E77B916D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0171-A2BA-43CF-9A47-06A226D3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66D-8A74-4B51-8AE9-CA18E4E5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50F9-DF49-4D6F-8ED9-6F2C3019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BF28-1E7B-408B-B27B-F5D987CA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12EF-DE38-4802-9FB8-B14D53C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3E737-A82A-43ED-9F59-F3A1B84D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8154-0D5F-4D26-94BD-072D3EB6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282C-3AB8-4B55-9E33-1E86848B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90A85-A7F6-4A77-9413-F91ACFFF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E6D1-69EA-43B8-A1DC-483FD0F0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C130-2035-4FAB-966B-386539A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56CBB-5667-47AE-94B7-478D82E8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2D1-C027-4D67-AB01-83C7872C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96D10-4FA7-49E0-94A4-79161B0C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DC76E-3151-4A0A-87D1-16E9EE53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7A515-54B8-4205-907D-9AE199CF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9E122-0E3E-4C5B-BFA6-493E474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433F-BC4C-42DF-B31F-97675528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2A500-DC1E-4BBA-AFA0-21AFB1C8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7DF84-8E31-4AC9-845E-B5548999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6126-ED87-4470-93FB-E507AFD3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F9885-1635-4D9D-B8EF-FDEC3237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79BA-C612-45BB-B97F-A4637E33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030-1598-4999-AE70-607CF613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C9159-063C-44AD-A106-D1CFAAB4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6D9B-13FF-420B-819C-EEF7FCF1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08ECF-CE80-41EA-9045-AA994078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87BB-8FC4-4CCA-8D3B-3788F236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29FEA-18D9-40B6-94B1-4E5B69D4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9EB59-3371-4562-A1D3-19BDACE6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1772E-D62F-4D87-9DFD-D5B73DC2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60E68-52EF-498F-A685-600B303C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4B3AE-7C1A-4826-848C-BB017CAA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A30B-A8D2-421D-B7B4-1DE100B5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E7D-3177-4901-81C4-0765A7A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D3A40-BEF6-406F-B947-BD4B96EE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F6B9DB-C720-46D9-B87D-6AE306CE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79976-D27D-4E17-91F0-AAA8E1C1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87822-23DF-42F3-9716-6ED70223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F6AFA-74FD-49E4-96A4-A9753AB1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88CE6-7054-401E-A019-FE81E043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9ABE1-6EB9-4B91-8E8B-EEA1011B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92522-978A-44CE-AEC7-0805D799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36D98-836E-47E8-A112-143C1BE6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EA330-D339-4B2E-89F1-44AA9073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62F-F1BB-4FBF-BAC3-A1E14A7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9072E-8901-4E39-89A9-5F7D984F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2FAC1-4DB9-47A0-BF07-296D63E6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763C2-FF62-4F91-9B2B-E7885A50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0A322-19F3-4322-93BB-78D9F567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633F-D87A-4967-818C-CE2E3964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2B292-67D2-4575-A388-892393FA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6E9D9-66D5-434A-92BB-9814C59B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C097-F97C-4DF3-A022-AF5C8C40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CD21F-C3C0-41A3-BD19-15675E5D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BAC12-9896-4ADA-9FFC-77CA34AF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AEC-357A-4C44-B79D-D7ED2E7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0FE6D-377F-4F06-8768-568DE933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36F5B-8AB6-4FFF-A1B6-4E109FA7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611B9-F970-445E-B728-48832D9D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F16F8-C417-4E8F-8BF2-C650E5D7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06AE2-4463-410C-AF09-DD8F4202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FE1-D44C-4F1C-B084-3205635C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E58-EB92-4EB6-8279-8A3EF1C39C06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FC36-B8F6-4792-B8BB-10A9DEFFE7E5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AF40-0F59-47F3-94C1-FB6B8419116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17CD-2D5A-4646-9131-70DEF1BBE71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B50D-2B9C-4B3B-9949-A7FB6EADE5FB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5D90-6378-43A8-87B6-65A8D08DCAA0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077D-A2DD-4B18-9269-FD4536AB2408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#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DVERB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OMPARATIVE CONSTRUCTIONS II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اسما الزمان والمكان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سماء الزمان والمكان تدل على زمن حدوث الفعل أو مكان حدوث الفعل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ُشتق من الفعل الثلاثي على وزن مفَعل أو مفعِل. مثل: مأوى - مدرسة - مغرب - موعد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ُشتق من غير الثلاثي على وزن المضارع مع إبدال حرف المضارعة ميماً مضمومة وفتح ما قبل الآخر. مثل: مجتمع - منتهى - متفتح - ملتقى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ظرفا الزمان والمكان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ظرفا الزمان والمكان يستخدمان للدلالة على زمن وقوع الفعل أو مكان وقوع الفعل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مثلة على ظرفي الزمان والمكان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داً - عشاءً - صباحاً - مساءً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حتَ - فوقَ - بين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منذ - الآن - حيث - إذ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ADVERBS OF FREQUENCY IN ARABIC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دائم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بد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ften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الب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ometim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حيان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ldo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ea typeface="Tahoma"/>
              </a:rPr>
              <a:t> 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قلّما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Rare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نادر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FERENC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halil, A. (1999). </a:t>
            </a:r>
            <a:r>
              <a:rPr b="0" i="1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 contrastive grammar of English and Arabic.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Jordon: Jordon Book Centr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: In English, there are three types of adverbs with regards to form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mple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just - down - always - well - ye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ompound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somehow - therefore - downstair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erivational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jective + -ly: slowly - quick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ise: clockwise - money-wi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ays: sideway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ard(s): backward(s) - forward(s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refix (a) + noun: away - apart - abroad - aside - ashor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e + adjective: below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I: Adverbs can perform a number of different func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remodifiers of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jectives: very good, quite righ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verbs: very heavi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ostmodifier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II: Some forms may be used as adverbs or adjective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ard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worke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work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ard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fas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ca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car run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fas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IV: Some adjectives have two forms of adverbs (different meaning)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This is a </a:t>
            </a:r>
            <a:r>
              <a:rPr b="1" i="1" lang="en-US" sz="2200" spc="-1" strike="noStrike">
                <a:solidFill>
                  <a:srgbClr val="564b3c"/>
                </a:solidFill>
                <a:latin typeface="Century Gothic"/>
              </a:rPr>
              <a:t>high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ceiling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Jump as </a:t>
            </a:r>
            <a:r>
              <a:rPr b="1" i="1" lang="en-US" sz="2200" spc="-1" strike="noStrike">
                <a:solidFill>
                  <a:srgbClr val="564b3c"/>
                </a:solidFill>
                <a:latin typeface="Century Gothic"/>
              </a:rPr>
              <a:t>high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as you can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They think </a:t>
            </a:r>
            <a:r>
              <a:rPr b="1" i="1" lang="en-US" sz="2200" spc="-1" strike="noStrike">
                <a:solidFill>
                  <a:srgbClr val="564b3c"/>
                </a:solidFill>
                <a:latin typeface="Century Gothic"/>
              </a:rPr>
              <a:t>highly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of you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Clear - clearly / direct - directly / slow – slowly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Stand clear of the entrance - Write or speak clearly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He went direct/directly to the office - The street leads directly home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Go slow with the experiment or you’ll make a mistake / The computer is working slow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: Adverbs may occur in different positions in sentence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iti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he fell on the floo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edi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lef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n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John left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I: Types of adverb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ime: recently, now, tomorrow, late, afterwards, so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ce: here, there, upstairs, between, outside, abov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anner: quickly, well,  happily, fas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requency: always, usually, generally, seldom, never, onc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egree: pretty, so, very, almost, rather, quit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II: Adverbs of frequency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y may b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Definite: once – daily- weekly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Indefinite: usually - rarely - often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osi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entence-medially: They are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late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entence-Finally: They visit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daily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ome of them occur sentence-initially: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i="1" lang="en-US" sz="2000" spc="-1" strike="noStrike">
                <a:solidFill>
                  <a:srgbClr val="564b3c"/>
                </a:solidFill>
                <a:latin typeface="Century Gothic"/>
              </a:rPr>
              <a:t> have I said such a thing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/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Generally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, they do not stay long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precede the main verb: She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eats apples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follow the copula BE: She is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late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occur between the auxiliary and main verb: They will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help us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في اللغة العربية</a:t>
            </a:r>
            <a:r>
              <a:rPr b="0" lang="ar-SA" sz="3500" spc="-1" strike="noStrike">
                <a:solidFill>
                  <a:srgbClr val="6b7d72"/>
                </a:solidFill>
                <a:latin typeface="Book Antiqua"/>
                <a:ea typeface="Times New Roman"/>
              </a:rPr>
              <a:t> </a:t>
            </a:r>
            <a:r>
              <a:rPr b="0" lang="ar-SA" sz="3500" spc="-1" strike="noStrike">
                <a:solidFill>
                  <a:srgbClr val="6b7d72"/>
                </a:solidFill>
                <a:latin typeface="Book Antiqua"/>
                <a:ea typeface="Times New Roman"/>
              </a:rPr>
              <a:t>...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في اللغة العربية، تُستخدم أسماء الزمان والمكان وأظرف الزمان والمكان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قد تأتي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بهمة، مثل: يوماً - أبداً - ساعةً - شتاءً - فوق - أمام - ميلاً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ختصّة، مثل: يومَ (يوم الاختبار) - سبعاً (أي بمعنى سبع مرات) – البيت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- </a:t>
            </a: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المدرسة-الحديقة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كما قد تكون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عربة، مثل: يوم - البيت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بنية، مثل: منذ - الآن - أمس - حيث -هنا - لدن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CMAlaptop</cp:lastModifiedBy>
  <dcterms:modified xsi:type="dcterms:W3CDTF">2017-01-29T15:14:21Z</dcterms:modified>
  <cp:revision>23</cp:revision>
  <dc:subject/>
  <dc:title>Comparative Constructions II</dc:title>
</cp:coreProperties>
</file>