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905-6A1B-4104-8135-A72743A7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012-2D17-4294-9842-2BD7248D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CAC-2042-4917-8740-67E18672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A95-FA92-47E0-8897-7424BB22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E7E0-E1A8-40A7-8F3A-8514DF36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D5F8-FF79-4A98-807E-920E0C53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6A29-8889-4AE9-91A8-919380E9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69F0-6531-4B21-8F37-860E46F8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6E94-9614-45D3-8416-1BEAB431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B226-88E0-4C9B-AB91-B61F6157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29B5-A1A8-4EF6-90A9-0B258359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172-D94B-46C9-BA3A-5C8E1FDD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5129-EB94-4F47-ADA6-F2A78ED8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CA9F-E1FB-4175-A2E7-B81D17AD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7BFB-C268-4F40-AE09-6CB91ACE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504B-D5DA-4478-8E50-88679DA8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F94E-ED26-4FB6-9394-D9D3A99C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143AF-CD5C-469E-A379-A0848CFF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DF5CA-7BCC-4872-9F4A-CF1D477F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83FF3-FEFE-4AE7-AED0-09495D4D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83B78-8941-417B-96D3-4AB72BC3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AEB00-3FC7-4E3B-B9BE-48B8608E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1DD-227F-46B7-8CC1-739B4C9F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9B304-8B12-4380-9475-5A8D8B7B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9C4AB-E6F2-4CD3-9CC1-0F48FB55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64667-26C6-4CDE-BABB-02FE9AF9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E955D-9BBE-411E-93F0-AB557F0D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4969C-6646-48FF-B429-872392D5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21DA-DC5B-4C2A-B8EE-DF683C54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5188A-F50C-4A1A-A9B4-629DB62B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861D6-0932-44A4-AEFF-DCA777B9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1CF8E-A581-4A47-913B-BF98371D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E03DC-156F-4FB9-BC67-FEF1E615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564-8A1C-4119-B010-A9CE9F2D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D7527-4676-4B80-BFEF-AC5B07B6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9047-5A1E-4065-B0B1-9AF6B6FB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BA991-DD43-4A59-9713-E826F01F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5E22C-DAD1-4160-8703-F615F1AC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0939B-491A-428B-A275-C81034CC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E5218-2457-4029-8F26-8BECC748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B090B-60DF-4935-8DB1-D53EDFC8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0CA5B-1835-45BE-97EB-D89FB694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AE853-7B8F-434E-9495-4EB6A81C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623F2-DE37-4302-90DE-30614915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E1D-0218-469D-B940-EFDFFF7F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B0508-0406-4287-BEFA-495120ED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4FE02-4106-43F8-AB4E-182FC489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D10F7-292D-4868-91ED-7EAA13B6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45C62-ACA0-4D6E-B2A1-D5149F0E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72692-FEFE-449E-8F55-A8E8F6EE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A703D-A5FF-4C0F-BBA1-42FF505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F1A19-54CB-46E5-AEB6-6CE263FB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B845F-0FDC-41B2-9A87-1DF3A98B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87E4C-5110-4A7E-ADB9-A083440C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7AF11-1FC0-4207-B77D-5F91CAD4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81F-5ADB-4992-8476-82ADEE32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356EE-9B49-4A1F-A087-97F34332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72F-8BF8-4F74-A5FF-FE6800F6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0C5-81D3-47E8-B2B7-BEA7F0D8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E6B-4E21-458F-819D-E28A4EAD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D1BF-6CB3-4040-A12E-4AF7F70C76E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2A47-5CAA-4382-9144-9A19CA19079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A4F9-2DC6-454C-870C-88A9B2061A7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0005-FF79-4D2D-9C2C-12FA6491CB4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45D5-3999-4093-9538-7F5ABBB67D5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earnenglish.britishcouncil.org/english-grammar/adverbials" TargetMode="External"/><Relationship Id="rId2" Type="http://schemas.openxmlformats.org/officeDocument/2006/relationships/hyperlink" Target="http://learnenglish.britishcouncil.org/english-grammar/adverbials" TargetMode="External"/><Relationship Id="rId3" Type="http://schemas.openxmlformats.org/officeDocument/2006/relationships/hyperlink" Target="http://www.uncp.edu/home/canada/work/caneng/adverb.htm" TargetMode="External"/><Relationship Id="rId4" Type="http://schemas.openxmlformats.org/officeDocument/2006/relationships/hyperlink" Target="http://www.uncp.edu/home/canada/work/caneng/adverb.htm" TargetMode="External"/><Relationship Id="rId5" Type="http://schemas.openxmlformats.org/officeDocument/2006/relationships/hyperlink" Target="http://www.chompchomp.com/terms/subordinateclause.htm" TargetMode="External"/><Relationship Id="rId6" Type="http://schemas.openxmlformats.org/officeDocument/2006/relationships/hyperlink" Target="http://www.chompchomp.com/terms/subordinateclause.htm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Arial"/>
              </a:rPr>
              <a:t>COMPARATIVE CONSTRUCTIONS II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76e"/>
                </a:solidFill>
                <a:latin typeface="Arial"/>
              </a:rPr>
              <a:t>#9</a:t>
            </a:r>
            <a:r>
              <a:rPr b="1" lang="en-US" sz="3200" spc="-1" strike="noStrike">
                <a:solidFill>
                  <a:srgbClr val="57576e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57576e"/>
                </a:solidFill>
                <a:latin typeface="Arial"/>
              </a:rPr>
              <a:t>Adverbial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zar, B. S. (1999).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Understanding and using English grammar (3</a:t>
            </a:r>
            <a:r>
              <a:rPr b="0" i="1" lang="en-US" sz="2400" spc="-1" strike="noStrike" baseline="30000">
                <a:solidFill>
                  <a:srgbClr val="292934"/>
                </a:solidFill>
                <a:latin typeface="Arial"/>
              </a:rPr>
              <a:t>rd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ed.).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ew York: Longma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Khalil, A. M. (1999).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 contrastive grammar of English and Arabic.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Jordan Book Centre Company Limit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learnenglish.britishcouncil.org/english-grammar/adverbia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uncp.edu/home/canada/work/caneng/adverb.ht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ww.chompchomp.com/terms/subordinateclause.ht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englishclub.com/vocabular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youtube.com/watch?v=_Zx2oSG8Lyc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Adverb vs. Adverbial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dverbs: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a word that modifies a verb.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Many - but not all - adverbs end in -ly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explain manner, frequency, place, or time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Examples: well, carefully, suddenly, always, hardly, never, backwards, forwards, now, tomorrow, today, then, etc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dverbials: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any structure that describes a verb regardless of its form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are used to give more information about the verb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are used to modify or describe verbs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answer the questions: when, how, why, where, etc.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can be placed in different locations (most of the time)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can be: adverbs, infinitive phrases, prepositional phrases, noun clauses or subordinate clauses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Common Types of Adverbial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verbial prepositional phrase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phrase that begins with a preposition. She sat in a dark corne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verbial infinitive phrase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phrase that begins with an infinitive (to + base form of the verb). Ali plays to win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verbial subordinate clause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dependent clause that starts with a subordinate conjunction. The most common subordinate conjunctions are: before, after, when, while, because, so, until/till, although, if, since, by the time, as, once, as soon as, and wherea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13840" y="57168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djunctive adverbials: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provide important information about the sentence. They show place, time, manner, reason/cause. Mainly, they are integrated in the sentence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You can cut the apple with a knife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I go to school by bus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An adjunct can be a single word, a phrase, or an entire clause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92934"/>
                </a:solidFill>
                <a:uFillTx/>
                <a:latin typeface="Arial"/>
              </a:rPr>
              <a:t>Single word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She will leave </a:t>
            </a: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tomorrow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92934"/>
                </a:solidFill>
                <a:uFillTx/>
                <a:latin typeface="Arial"/>
              </a:rPr>
              <a:t>Phras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She will leave </a:t>
            </a: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in the morning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92934"/>
                </a:solidFill>
                <a:uFillTx/>
                <a:latin typeface="Arial"/>
              </a:rPr>
              <a:t>Claus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She will leave </a:t>
            </a: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fter she has had breakfast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13840" y="57168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onjunctive adverbial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ords that link sentences together. For example, therefore, first, second, third, however, in addition, furthermore, additionally, thus, etc. They are peripheral to the sentence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anada is a rich country. However, not all Canadians are rich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ranges are rich of vitamin C. Furthermore, they are good for your ski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13840" y="57168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isjunctive adverbial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ords that make comments or change the tone of the whole sentence. For example: unfortunately, basically, briefly, eventually, clearly, actually, etc. They are peripheral to the sentence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riously, do you intend to retire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ersonally, I don’t believe in ghost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bviously, no one wanted her to attend the party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Practic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derline the adverbial in each sentence and identify its form. What question does each adverbial answer and its type (adjunctive, conjunctive or disjunctive)?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y friend works at the grocery store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went to the pool to swim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 went to sleep after midnight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Jack went outside for some fresh air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fter the show, we went skating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he left with a smile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he saw the cat on the porch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y friend and I decided to take a walk this morning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e will meet me here at 4 o'clock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eth cried because her cat died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dog barked all night while I was trying to sleep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oy laughed loudly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14200" y="713880"/>
            <a:ext cx="8715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1.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According to Jim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, Bob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often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solves the problems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quickly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2. The huge stone,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in my opinion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, can be moved but only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somewhat   slowly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3.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As a consequence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, the rustlers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reluctantly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started moving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east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4.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When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292934"/>
                </a:solidFill>
                <a:latin typeface="Arial"/>
              </a:rPr>
              <a:t>the answer comes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, it comes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quite quickly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5. The danger,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I think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, is that the whole building may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totally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collapse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at any time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                     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09:46:59Z</dcterms:created>
  <dc:creator>Fawaz</dc:creator>
  <dc:description/>
  <dc:language>en-US</dc:language>
  <cp:lastModifiedBy>CMAlaptop</cp:lastModifiedBy>
  <cp:lastPrinted>2013-03-08T17:46:01Z</cp:lastPrinted>
  <dcterms:modified xsi:type="dcterms:W3CDTF">2017-01-29T15:04:22Z</dcterms:modified>
  <cp:revision>58</cp:revision>
  <dc:subject/>
  <dc:title>Comparative Constructions II</dc:title>
</cp:coreProperties>
</file>