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DBEE-62D9-4D03-93B2-858F2171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066-4C5C-4D99-B9E6-E7C8F9B7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0CA-0748-461A-AAF9-26F62220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732-F9BE-4C0B-8E0B-9BCDDD81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39D2-98DA-449C-B071-3A4813DA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9535-7EA5-4C2B-A516-DD8212B2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491D-CCA3-462F-89E1-015B40FC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FABE-5CD5-4332-B196-898B4FB9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6DC5-6B41-429D-BF84-28DEB2BA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6A5E-F765-4A67-A0A4-D7054735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664C-9197-4667-8BE7-40FB5217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D35-A86F-4A59-94D6-31DDF921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3572-D192-4AE5-9BC5-43D58195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8F5A-203A-419E-BEB0-E70F09D0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4EFF-C64A-4E76-AE85-4CCB621F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2988-4BC9-46B7-9E7D-F29D44B2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4EA7-F7F0-4EC1-86F4-3BC3E927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26C1D-9389-452A-B874-2E44EE8E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21790-1A60-4DB6-948D-EB2DC884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42B03-3BFD-4FE6-A54D-A407DEA1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2834-7421-4763-A501-E7A1D047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8FEF-6DD9-4B1A-BBB2-DF26C452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868-5836-409E-9694-CACBFE72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3ED9-F17F-419E-BD53-19B14BE4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260A3-2969-4B07-AF13-64026A2E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D8318-E9D4-4A45-926D-E73BBA43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1614-9604-427D-B3A4-C5E26CD6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F9BC-9539-44EC-9D78-83EE018D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A5E3-F685-42D5-AE01-B23AE54B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A9F1-19C9-48A3-A0A2-B960D10C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68358-9E36-49A0-93A3-0012790B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9E860-4815-4051-A4B7-11DCF4CB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50AC6-A0E9-47C2-95A9-E5884AEB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ACD-4120-4B36-8852-B6CA24CD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A2843-843A-4708-9CC6-2F8FFD7A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02169-C5EB-4BDE-8377-62C8E3A4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17492-F300-45C3-BB7C-0FB79981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3E29-5A6A-4A68-98FA-776B0EBC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836B-338F-4BB8-ADB4-991C8B89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D3D3-E810-476E-9238-CC344D2E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C1954-8CC6-4487-A1F2-60D19DF6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AD06B-3927-42CF-8610-6866CD37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254A5-EFA9-4C39-914D-C2EB3DCD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7436F-EA42-4DA1-B19D-AAE62EF7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2F4-C47B-4AF7-83D8-86F045F3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CB73D-E4F9-4903-B604-2B92DFE4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0CD45-336E-4758-930C-529D3DBF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F7A99-1631-4366-8811-64A3EE0D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E6E5A-59F2-40D1-8FCF-0E7A16A4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7E740-9301-4089-9E83-87FDF99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30EED-C8B7-410A-8908-11EBF74E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9CD0E-A4D6-40CF-8E52-00B88CE8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F328-D4C4-453F-A4F4-F5F4440B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4B769-161E-4760-A83F-5B966C8D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7EFCD-C729-41AD-91B4-F73780FA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70F-DA09-46F9-96A0-21096EE1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2FFC0-F4A8-4676-BC87-7FE29727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A07-783A-43AA-AB92-73A3BE70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F9B-72D5-4252-915D-E35DFC48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B81-708B-4E56-91AA-D96CCA4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5D27-61FD-4ADF-B866-99432BEE03F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474F-3721-4354-BCE9-24A4B08FE8B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FAC8-4AC7-4CC3-94FC-1833CAC57AD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1843-2E5F-4EC3-B229-41ADE37B59A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79F9-EF93-4619-8634-4735A2D6A4E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go4u.com/" TargetMode="External"/><Relationship Id="rId2" Type="http://schemas.openxmlformats.org/officeDocument/2006/relationships/hyperlink" Target="http://www.drmosad.com/index14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# 4 - Relative Clau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omparative Constructions I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Arabic vs. Englis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520" y="14479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lative clause in both English and Arabic occurs after the noun/pronoun it modif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English, relative clauses may modify a definite or an indefinite noun. 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boy who plays football is sick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boy who plays football is sick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Arabic, relative clauses modify definite nouns only. 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رأيت الولد الذي فا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رأيت ولداً الذي فاز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Arabic, the relative pronoun agrees with the noun it modifies in number, gender, and cas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ducing 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520" y="9907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lative clauses with the pronouns who, which, and that as subject pronouns can be reduced into participial phras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How to reduce relative clauses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 Relative clauses with verbs in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activ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voice, eliminate the connecting word (relative pronoun), and use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present participl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the main verb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 told you about the gir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who liv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next doo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 told you about the gir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liv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next doo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 wom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who was hurry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to catch the bu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ripped and fel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 wom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hurry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to catch the bu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ripped and fel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ny studen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who stud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at this univers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re from foreign countri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ny studen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study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at this university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from foreign countri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ducing 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How to reduce relative clauses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relative clauses with verbs in the passive voice, eliminate the connecting word (relative pronoun) and (is, was, were, are), and use the past participle of the main verb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nly research paper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that are hand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by Wednesday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ll be accepte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nly research paper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hand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by Wednesda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ill be accepte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languag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tha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are spoke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Switzerland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erman, French, and Italia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languag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spoke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Switzerland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erman, French, and Italia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idea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whic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a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present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that book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ood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idea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present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that book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oo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ow to translate participial phra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o translate participial phrases into Arabic, we use ( </a:t>
            </a: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سم الفاعل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or ( </a:t>
            </a: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سم المفعول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 told you about the gir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liv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next doo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قيمة بجوارنا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ny studen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study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at this university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from foreign countri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دارسون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nly research paper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hand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by Wednesda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ill be accepte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سلم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m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murder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in the park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as a doctor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قتول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idea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present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that book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oo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عروض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zar, B. S. (1999).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Understanding and using English grammar (3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Perpetua"/>
              </a:rPr>
              <a:t>rd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 ed.)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New York: Pearson Educatio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mdallah, R. W. &amp; Tushyeh, H. Y. (1998). A contrastive analysis of English and Arabic in relativization.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Papers and Studies in Contrastive Linguistics, 34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41-152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ego4u.c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www.drmosad.com/index14.ht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Relative clauses are subordinate clauses that function as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adjectives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Perpetua"/>
              </a:rPr>
              <a:t>modifying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 noun or a noun phrase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Relative clauses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Contain a subject and a verb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Begin with a relative pronoun or relative adverb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unction as adjective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 have not read the magazin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Perpetua"/>
              </a:rPr>
              <a:t>that is lying on the tabl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o passed the ex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take the next leve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Restrictive vs. Non-Restrictive Relative Claus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can be restrictive or non-restric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trictive 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68240" indent="-45252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strictive relative clauses provide essential informa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68240" indent="-45252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are not set off by comm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68240" indent="-45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you know the gir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is talking to Sara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68240" indent="-45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boo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I read yesterday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interest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68240" indent="-45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fess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teaches my biology clas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won a Nobel priz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68240" indent="-45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strictive vs. Non-Restrictive 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n-Restrictive 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provide additional infor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are set off by comm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i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is an engineer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likes to organize thing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i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ich is the capital of Franc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is a beautiful cit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fessor Jon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teaches my biology clas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won a Nobel priz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ative Pronou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 (subject or object - peop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told you about the wom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wom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I told you about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ch (subject or object - animals and thing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you see the c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ich is hiding under the tabl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our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ich I passed with 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was difficul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se (possession for people, animals, or thing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met the bo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se mother is the famous surge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returned the boo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se cover was tor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o the librar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ative Pronou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m (object pronoun - peop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was invited by the teacher whom I met by chanc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at (subject or object pronoun - people, animals, or things, in restrictive relative claus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bought the tab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we eat on everyda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you see the c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is hiding under the tabl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told you about the wom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wom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I told you about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Subject vs. Object Relative Pronou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relative pronoun is followed by a verb, it is a subject pronoun. In this case, the relative pronoun must be used. For example: I ate the appl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which is lying on the tabl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relative pronoun is not followed by a verb (i.e., by a noun or a pronoun), it is an object pronoun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 restrictive relative clauses, it may be omitte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ate the appl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which Sara put on the tabl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ate the appl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ara put on the tabl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lative Adverb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metimes relative adverbs may be used instead of relative pronoun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65120" indent="-1940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n (in/on which - tim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65120" indent="-194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ay was an unforgettable day.+ We met them on the da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65120" indent="-194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ay when we met them was an unforgettable da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65120" indent="-1940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(in/at which - plac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65120" indent="-194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library is more than 30 years old.+ We study at the librar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65120" indent="-194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library where we study is more than 30 years ol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65120" indent="-1940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y (for which - reas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65120" indent="-194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reason is to graduate.+ We study for a reas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65120" indent="-194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reason why we study is to gradu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In Arabic 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in Arabic are called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جملة الصل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pronouns introduce the relative clause, such 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ذي - التي - اللذان - اللتان - الذين- اللاتي - اللائي - من - ما - ذا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جملة الصلة تُعرب على حسب موقعها من الجمل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عادة ما يكون هناك ضمير في جملة الصلة يربط بينها وبين ما تعود عليه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CMAlaptop</cp:lastModifiedBy>
  <dcterms:modified xsi:type="dcterms:W3CDTF">2017-01-29T15:17:52Z</dcterms:modified>
  <cp:revision>35</cp:revision>
  <dc:subject/>
  <dc:title>Comparative Constructions II</dc:title>
</cp:coreProperties>
</file>