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45F3-4FD9-4C99-94E0-61775F17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7182-8C9B-4227-A9FB-2D5B9D8A6240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D82F-584E-4455-99E7-1002FDB64092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1F89-9361-45E7-92DE-D00C9105B453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43D4-60ED-4EF4-B2FD-132574012922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56A0-A59D-4853-8877-0DEF2411A7F9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7658-60DC-491E-B027-6354C84D7B45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962B-C586-41A6-8273-434096E24C8F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936A-2628-4690-9814-61C507ABFB47}" type="slidenum">
              <a:rPr b="0" lang="en-US" sz="12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B23-78FF-4148-93E5-C2848C2A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109-BB1A-4255-A31D-8C2945AE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154-7856-484D-B8C8-62289F10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A73-35CD-4957-B213-A63295D2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807E-00A1-41AC-A012-46D83CE2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E141-7A1D-489F-9E06-B4D63355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02C8-3F0C-4E3B-B13A-0828D1EF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1C22-3079-4961-ADD6-92E4FCB1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5C1A-3B27-4189-BF1C-E24E5580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F774-5F93-4625-ACBB-ADBFB91C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371C-2610-42F1-994A-65C7EEF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205-6E5B-4DF3-80A6-B1291D10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E106-C576-45A9-801C-7DF204FE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1A57-A010-4CFC-9B6B-E233F04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53FE-8644-4021-B2A4-AC4B8219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3C6B-1C09-468B-A843-2FA88169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8764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7000" y="155052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8764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067000" y="3923280"/>
            <a:ext cx="208584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FFCC-B6D5-46FA-B354-67E1B7D9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D2D-C598-4184-BFED-66743A22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3B2-C36F-443C-BE40-687CF53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A3D-7461-4D37-A1BA-78BB49E9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64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C1D-1997-4943-A6B9-ECDCDCA4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BA0-04D8-4834-B803-BA96C943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05720" y="392328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11C-0205-48EA-96D5-49F735C0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05720" y="1550520"/>
            <a:ext cx="316152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23280"/>
            <a:ext cx="6478560" cy="216648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5DB-29A5-40AB-AFED-52EB45FB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 flipH="1" rot="8842200">
            <a:off x="7446960" y="123120"/>
            <a:ext cx="1357200" cy="1622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"/>
          <p:cNvPicPr/>
          <p:nvPr/>
        </p:nvPicPr>
        <p:blipFill>
          <a:blip r:embed="rId3"/>
          <a:stretch/>
        </p:blipFill>
        <p:spPr>
          <a:xfrm rot="11970600">
            <a:off x="7524000" y="1762200"/>
            <a:ext cx="1359000" cy="1620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"/>
          <p:cNvPicPr/>
          <p:nvPr/>
        </p:nvPicPr>
        <p:blipFill>
          <a:blip r:embed="rId4"/>
          <a:stretch/>
        </p:blipFill>
        <p:spPr>
          <a:xfrm flipH="1" rot="9587400">
            <a:off x="7351200" y="3561480"/>
            <a:ext cx="1357560" cy="16225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5"/>
          <a:stretch/>
        </p:blipFill>
        <p:spPr>
          <a:xfrm rot="13374000">
            <a:off x="7502040" y="5157360"/>
            <a:ext cx="14144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76080" indent="-2599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40040" indent="-20772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455840" indent="-20772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872000" indent="-20772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872000" indent="-20772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02A4-098F-4DBE-B905-090B8F14F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 flipH="1" rot="7633800">
            <a:off x="4264920" y="4238640"/>
            <a:ext cx="2386080" cy="28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 rot="12549600">
            <a:off x="6479640" y="4010760"/>
            <a:ext cx="2381400" cy="284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4"/>
          <a:stretch/>
        </p:blipFill>
        <p:spPr>
          <a:xfrm flipH="1" rot="9259800">
            <a:off x="684000" y="-360"/>
            <a:ext cx="2381040" cy="284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 rot="12639600">
            <a:off x="3023640" y="-360"/>
            <a:ext cx="2425680" cy="2894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1" marL="698400" indent="-268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3" marL="1504080" indent="-214560">
              <a:spcBef>
                <a:spcPts val="799"/>
              </a:spcBef>
              <a:buClr>
                <a:srgbClr val="f7735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4" marL="1933920" indent="-214560">
              <a:spcBef>
                <a:spcPts val="799"/>
              </a:spcBef>
              <a:buClr>
                <a:srgbClr val="f77352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5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lvl="6" marL="1933920" indent="-214560">
              <a:spcBef>
                <a:spcPts val="799"/>
              </a:spcBef>
              <a:buClr>
                <a:srgbClr val="3300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E40B-0041-4EA2-B1E8-52B25B862EB8}" type="slidenum">
              <a:rPr b="0" lang="en-US" sz="1400" spc="-1" strike="noStrike">
                <a:solidFill>
                  <a:srgbClr val="33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1640" y="280800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cd"/>
                </a:solidFill>
                <a:latin typeface="Comic Sans MS"/>
              </a:rPr>
              <a:t>Pediatric Assessment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0896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635280" y="1268280"/>
            <a:ext cx="1224000" cy="5589720"/>
          </a:xfrm>
          <a:prstGeom prst="rect">
            <a:avLst/>
          </a:prstGeom>
          <a:solidFill>
            <a:srgbClr val="ffd00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6696000" y="1268280"/>
            <a:ext cx="1224000" cy="5589720"/>
          </a:xfrm>
          <a:prstGeom prst="rect">
            <a:avLst/>
          </a:prstGeom>
          <a:solidFill>
            <a:srgbClr val="ffd009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27160" y="398520"/>
            <a:ext cx="748476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Fat :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30-54 % of kcal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CHO: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30 – 60% of kcal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&lt; 10% of total kcal can lead to ketosis 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Water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Fluid req: 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1</a:t>
            </a:r>
            <a:r>
              <a:rPr b="0" lang="en-US" sz="2400" spc="-1" strike="noStrike" baseline="30000">
                <a:solidFill>
                  <a:srgbClr val="3300cc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10 kg      100ml /kg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11-20 kg      1000ml +50 ml /kg (for each kg above   .                 10)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&gt;20 kg 1500 ml + 20 ml /kg (for each kg  .                  above 20)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Vitamin and minerals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c000"/>
                </a:solidFill>
                <a:latin typeface="Tahoma"/>
              </a:rPr>
              <a:t>.</a:t>
            </a:r>
            <a:br>
              <a:rPr sz="2800"/>
            </a:b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Content Placeholder 2"/>
          <p:cNvSpPr/>
          <p:nvPr/>
        </p:nvSpPr>
        <p:spPr>
          <a:xfrm>
            <a:off x="-357120" y="1201680"/>
            <a:ext cx="7667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Definition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Weigh loss or lack of weight gain in a child due to chronic illness, a restricted diet, poor appetite , and some socio-environmental issue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Defined as height or weight less than the third to fifth percentile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066680" y="690480"/>
            <a:ext cx="478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739c"/>
                </a:solidFill>
                <a:latin typeface="Comic Sans MS"/>
              </a:rPr>
              <a:t>Failure to thrife 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ntent Placeholder 2"/>
          <p:cNvSpPr/>
          <p:nvPr/>
        </p:nvSpPr>
        <p:spPr>
          <a:xfrm>
            <a:off x="-284040" y="763560"/>
            <a:ext cx="7894440" cy="64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Classification: 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Non-organic FTT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Results from various environmental and psychosocial factor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ssociated with abnormal interactions between the caregiver and the infant or child. This can result in an inadequate provision of food or inadequate intake of food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Occurs usually in younger than 2 years old 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Organic FTT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occurs when there is an underlying medical cause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ontent Placeholder 2"/>
          <p:cNvSpPr/>
          <p:nvPr/>
        </p:nvSpPr>
        <p:spPr>
          <a:xfrm>
            <a:off x="0" y="690480"/>
            <a:ext cx="82296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Assessment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77352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History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Prenatal history 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Smoking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lcohol consumption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Use of medication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ny illness during the pregnancy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Dietary history 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Determine whether a child is receiving enough energy intake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ontent Placeholder 2"/>
          <p:cNvSpPr/>
          <p:nvPr/>
        </p:nvSpPr>
        <p:spPr>
          <a:xfrm>
            <a:off x="0" y="1019160"/>
            <a:ext cx="760248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Comic Sans MS"/>
              </a:rPr>
              <a:t>How formula is prepared: </a:t>
            </a:r>
            <a:endParaRPr b="0" lang="en-US" sz="30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Improperly prepared formula can result in FTT and serious electrolyte imbalances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Solid foods intake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a careful history of the type of food, meal frequency, and volume per feeding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00cc"/>
                </a:solidFill>
                <a:latin typeface="Tahoma"/>
              </a:rPr>
              <a:t>- If history is difficult to obtain, a food diary of up to 3 days may be requested from the parents. </a:t>
            </a: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Content Placeholder 2"/>
          <p:cNvSpPr/>
          <p:nvPr/>
        </p:nvSpPr>
        <p:spPr>
          <a:xfrm>
            <a:off x="336600" y="727200"/>
            <a:ext cx="822960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Comic Sans MS"/>
              </a:rPr>
              <a:t>Current medical condition: </a:t>
            </a:r>
            <a:endParaRPr b="0" lang="en-US" sz="3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fections ,chronic conditions, such as cerebral palsy (CP), , seizures .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000"/>
                </a:solidFill>
                <a:latin typeface="Comic Sans MS"/>
              </a:rPr>
              <a:t>Physical: </a:t>
            </a:r>
            <a:endParaRPr b="0" lang="en-US" sz="31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Head circumference, height, and weight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Vital signs.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Physical examination may show the following: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Edema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Wasting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Rash or skin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Hair color and texture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Mental status changes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cc"/>
                </a:solidFill>
                <a:latin typeface="Tahoma"/>
              </a:rPr>
              <a:t>- Signs of vitamin deficiency </a:t>
            </a: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28600" y="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565"/>
                </a:solidFill>
                <a:latin typeface="Comic Sans MS"/>
              </a:rPr>
              <a:t>Diet Management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Comic Sans MS"/>
              </a:rPr>
              <a:t>Goal: 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to provide adequate energy intake for catch-up growth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182232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6144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d719b"/>
                </a:solidFill>
                <a:latin typeface="Comic Sans MS"/>
              </a:rPr>
              <a:t>Assessment of infant and children</a:t>
            </a:r>
            <a:endParaRPr b="0" lang="en-US" sz="34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57120" y="1530360"/>
            <a:ext cx="7858080" cy="4541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b4b"/>
                </a:solidFill>
                <a:latin typeface="Comic Sans MS"/>
              </a:rPr>
              <a:t>Anthropometric :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Comic Sans MS"/>
              </a:rPr>
              <a:t>Wt / Age :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Wt / Age &lt; 5</a:t>
            </a:r>
            <a:r>
              <a:rPr b="0" lang="en-US" sz="24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% indicate acute state of malnutrition  ( wasting ) .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cute nutritional status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=    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         Actual wt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x100   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                                  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50</a:t>
            </a:r>
            <a:r>
              <a:rPr b="0" lang="en-US" sz="20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percentile wt/ht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chronic nutritional status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=  </a:t>
            </a:r>
            <a:r>
              <a:rPr b="0" lang="en-US" sz="2000" spc="-1" strike="noStrike" u="sng">
                <a:solidFill>
                  <a:srgbClr val="3300cc"/>
                </a:solidFill>
                <a:uFillTx/>
                <a:latin typeface="Tahoma"/>
              </a:rPr>
              <a:t>       Actual Ht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x 100   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50</a:t>
            </a:r>
            <a:r>
              <a:rPr b="0" lang="en-US" sz="20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percentile Ht/age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ontent Placeholder 2"/>
          <p:cNvSpPr/>
          <p:nvPr/>
        </p:nvSpPr>
        <p:spPr>
          <a:xfrm>
            <a:off x="0" y="836640"/>
            <a:ext cx="7383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Adjust/concentrate infant formula to meet specific nutrient needs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eg :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crease up to 30 kcal/oz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20 kcal/oz formulas + high-calorie food   fortifiers, which can be lipids, protein, or carbohydrates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Supplements for older children may include adding cheese, sour cream, butter, margarine, or peanut butter to meals. Also, high-energy shakes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( Pedia Sure, Boost).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360" y="800280"/>
            <a:ext cx="7164360" cy="51465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Multivitamin and mineral supplements, including iron and zinc, usually are recommended .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ube feeding indicated for cases of severe malnutrition.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continuous nighttime tube feeding may be used to increase their energy intake :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201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In younger children, using 24 or 27 kcal/oz, or adding calorie fortifiers.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 In toddlers, 30 kcal/oz </a:t>
            </a:r>
            <a:endParaRPr b="0" lang="en-US" sz="2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34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7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01640" y="-36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Case study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72960" y="156636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Sara is 3.5 years old Saudi female , her vital sign is normal 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 =9 kg , Ht = 92 c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diet Rx : DFA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 /age is &lt; 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  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Ht/age is on 10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65280" y="836280"/>
            <a:ext cx="6478560" cy="532908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Wt/ht is &lt; 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IWt/age =15 kg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IHt/age =97 c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% Wt /age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(9 /15) x100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60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BMI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= [9/(0.92) X (0.92)  ]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= 10.6 kg/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BMI /Age 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&lt;5</a:t>
            </a:r>
            <a:r>
              <a:rPr b="0" lang="en-US" sz="3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 %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550520"/>
            <a:ext cx="6478560" cy="4542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380880" y="36828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5"/>
          <p:cNvSpPr/>
          <p:nvPr/>
        </p:nvSpPr>
        <p:spPr>
          <a:xfrm>
            <a:off x="2303640" y="6237360"/>
            <a:ext cx="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6" name="Straight Connector 7"/>
          <p:cNvSpPr/>
          <p:nvPr/>
        </p:nvSpPr>
        <p:spPr>
          <a:xfrm>
            <a:off x="1835280" y="6200640"/>
            <a:ext cx="468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7" name="Straight Connector 12"/>
          <p:cNvSpPr/>
          <p:nvPr/>
        </p:nvSpPr>
        <p:spPr>
          <a:xfrm flipV="1">
            <a:off x="2303640" y="4473360"/>
            <a:ext cx="0" cy="172692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38" name="Straight Connector 14"/>
          <p:cNvSpPr/>
          <p:nvPr/>
        </p:nvSpPr>
        <p:spPr>
          <a:xfrm flipH="1">
            <a:off x="1726920" y="4473720"/>
            <a:ext cx="576360" cy="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50520"/>
            <a:ext cx="6478560" cy="4542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380880" y="36828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142" name="Straight Connector 5"/>
          <p:cNvSpPr/>
          <p:nvPr/>
        </p:nvSpPr>
        <p:spPr>
          <a:xfrm>
            <a:off x="2303640" y="6237360"/>
            <a:ext cx="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3" name="Straight Connector 7"/>
          <p:cNvSpPr/>
          <p:nvPr/>
        </p:nvSpPr>
        <p:spPr>
          <a:xfrm>
            <a:off x="1835280" y="5913360"/>
            <a:ext cx="468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4" name="Straight Connector 12"/>
          <p:cNvSpPr/>
          <p:nvPr/>
        </p:nvSpPr>
        <p:spPr>
          <a:xfrm flipV="1">
            <a:off x="2303640" y="4220640"/>
            <a:ext cx="0" cy="197964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5" name="Straight Connector 14"/>
          <p:cNvSpPr/>
          <p:nvPr/>
        </p:nvSpPr>
        <p:spPr>
          <a:xfrm flipH="1">
            <a:off x="1726920" y="4257720"/>
            <a:ext cx="576360" cy="0"/>
          </a:xfrm>
          <a:prstGeom prst="line">
            <a:avLst/>
          </a:prstGeom>
          <a:ln w="38160">
            <a:solidFill>
              <a:srgbClr val="2a0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6" name="Straight Connector 10"/>
          <p:cNvSpPr/>
          <p:nvPr/>
        </p:nvSpPr>
        <p:spPr>
          <a:xfrm>
            <a:off x="2303640" y="5877000"/>
            <a:ext cx="0" cy="2523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148" name="Straight Connector 3"/>
          <p:cNvSpPr/>
          <p:nvPr/>
        </p:nvSpPr>
        <p:spPr>
          <a:xfrm flipV="1">
            <a:off x="1908000" y="5732640"/>
            <a:ext cx="0" cy="28872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49" name="Straight Connector 5"/>
          <p:cNvSpPr/>
          <p:nvPr/>
        </p:nvSpPr>
        <p:spPr>
          <a:xfrm>
            <a:off x="1368360" y="5769000"/>
            <a:ext cx="53964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304920" y="-27000"/>
            <a:ext cx="8458200" cy="662940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5"/>
          <p:cNvSpPr/>
          <p:nvPr/>
        </p:nvSpPr>
        <p:spPr>
          <a:xfrm flipV="1">
            <a:off x="3527280" y="5265720"/>
            <a:ext cx="0" cy="61128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52" name="Straight Connector 7"/>
          <p:cNvSpPr/>
          <p:nvPr/>
        </p:nvSpPr>
        <p:spPr>
          <a:xfrm>
            <a:off x="1440000" y="5265720"/>
            <a:ext cx="2087280" cy="0"/>
          </a:xfrm>
          <a:prstGeom prst="line">
            <a:avLst/>
          </a:prstGeom>
          <a:ln w="9360">
            <a:solidFill>
              <a:srgbClr val="33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63520" y="0"/>
            <a:ext cx="69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-360" y="1092240"/>
            <a:ext cx="8296200" cy="454176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Acute malnutritional status = (9/13.4) x100 =67.16 %   stage 3 (severe acute malnutrition)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hronic malnutrition status= (92/97) x100= 94.8% stage 0  (mild chronic malnutrition)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0" y="1550520"/>
            <a:ext cx="789480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t need catch up growth.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Energy = 98 x15 /9  =163 x9   = 1470 kcal /day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= 1.6 x15 /9 = 24 gm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478560" cy="1143000"/>
          </a:xfrm>
          <a:prstGeom prst="rect">
            <a:avLst/>
          </a:prstGeom>
          <a:noFill/>
          <a:ln w="0">
            <a:noFill/>
          </a:ln>
        </p:spPr>
        <p:txBody>
          <a:bodyPr lIns="37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cd"/>
                </a:solidFill>
                <a:latin typeface="Tahoma"/>
              </a:rPr>
              <a:t>Nutritional requirment:</a:t>
            </a:r>
            <a:endParaRPr b="0" lang="en-US" sz="3600" spc="-1" strike="noStrike">
              <a:solidFill>
                <a:srgbClr val="3300cd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Energy 163 kcal /kg         =1470 kcal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2.7 gm / kg          =24 gm /day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Protein 6.5 %  = 24 gm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Cho 53.5 % =197 gm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cc"/>
                </a:solidFill>
                <a:latin typeface="Tahoma"/>
              </a:rPr>
              <a:t>Fat 40 % = 65 gm </a:t>
            </a: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735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1550520"/>
            <a:ext cx="6478560" cy="4542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3300cc"/>
              </a:solidFill>
              <a:latin typeface="Tahoma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cc"/>
                </a:solidFill>
                <a:latin typeface="Tahoma"/>
              </a:rPr>
              <a:t>Thank you</a:t>
            </a:r>
            <a:endParaRPr b="0" lang="en-US" sz="8000" spc="-1" strike="noStrike">
              <a:solidFill>
                <a:srgbClr val="33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909360"/>
            <a:ext cx="7470720" cy="5694120"/>
          </a:xfrm>
          <a:prstGeom prst="rect">
            <a:avLst/>
          </a:prstGeom>
          <a:noFill/>
          <a:ln w="0">
            <a:noFill/>
          </a:ln>
        </p:spPr>
        <p:txBody>
          <a:bodyPr lIns="558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739c"/>
                </a:solidFill>
                <a:latin typeface="Comic Sans MS"/>
              </a:rPr>
              <a:t>Recent wt change may indicate acute nutrition issues . In children , the following looses are consider significant :</a:t>
            </a: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wt change </a:t>
            </a:r>
            <a:r>
              <a:rPr b="0" lang="en-US" sz="2200" spc="-1" strike="noStrike">
                <a:solidFill>
                  <a:srgbClr val="ce739c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[ (actual wt –usual wt) /usual wt] 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usual body wt =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(actual wt /usual wt ) 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e739c"/>
                </a:solidFill>
                <a:latin typeface="Tahoma"/>
              </a:rPr>
              <a:t>% Ideal body wt (IBW) =  </a:t>
            </a:r>
            <a:r>
              <a:rPr b="1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    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actual </a:t>
            </a:r>
            <a:r>
              <a:rPr b="0" lang="en-US" sz="2200" spc="-1" strike="noStrike" u="sng">
                <a:solidFill>
                  <a:srgbClr val="3300cc"/>
                </a:solidFill>
                <a:uFillTx/>
                <a:latin typeface="Tahoma"/>
              </a:rPr>
              <a:t>wt      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x100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                                  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IBW at 50</a:t>
            </a:r>
            <a:r>
              <a:rPr b="0" lang="en-US" sz="2200" spc="-1" strike="noStrike" baseline="30000">
                <a:solidFill>
                  <a:srgbClr val="3300cc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ar-SA" sz="2200" spc="-1" strike="noStrike">
                <a:solidFill>
                  <a:srgbClr val="3300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00cc"/>
                </a:solidFill>
                <a:latin typeface="Tahoma"/>
              </a:rPr>
              <a:t>percentile for age</a:t>
            </a: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00cc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31640" y="2600280"/>
          <a:ext cx="6882120" cy="1285920"/>
        </p:xfrm>
        <a:graphic>
          <a:graphicData uri="http://schemas.openxmlformats.org/drawingml/2006/table">
            <a:tbl>
              <a:tblPr/>
              <a:tblGrid>
                <a:gridCol w="1721160"/>
                <a:gridCol w="1719000"/>
                <a:gridCol w="1720800"/>
                <a:gridCol w="172116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eek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month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e4b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2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7.5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00cc"/>
                          </a:solidFill>
                          <a:latin typeface="Tahoma"/>
                        </a:rPr>
                        <a:t>10%</a:t>
                      </a:r>
                      <a:endParaRPr b="0" lang="en-US" sz="1800" spc="-1" strike="noStrike">
                        <a:solidFill>
                          <a:srgbClr val="3300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Content Placeholder 2"/>
          <p:cNvSpPr/>
          <p:nvPr/>
        </p:nvSpPr>
        <p:spPr>
          <a:xfrm>
            <a:off x="0" y="909720"/>
            <a:ext cx="774864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Ht /Age 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Ht / Age &lt;5th % indicate chronic state of malnutrition (stunting)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Wt /Ht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The wt of child at specific stature regardless of age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773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BMI 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For children of age 2-20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BMI =WT /HT2 X10000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7c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a00"/>
                </a:solidFill>
                <a:latin typeface="Tahoma"/>
              </a:rPr>
              <a:t>Head circumference </a:t>
            </a:r>
            <a:r>
              <a:rPr b="1" lang="en-US" sz="2000" spc="-1" strike="noStrike">
                <a:solidFill>
                  <a:srgbClr val="f7ca00"/>
                </a:solidFill>
                <a:latin typeface="Tahoma"/>
              </a:rPr>
              <a:t>( birth – 3 years ) </a:t>
            </a:r>
            <a:r>
              <a:rPr b="1" lang="en-US" sz="2800" spc="-1" strike="noStrike">
                <a:solidFill>
                  <a:srgbClr val="f7ca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Less sensitive indicator for nutritional status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252360"/>
            <a:ext cx="89154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36600" y="690480"/>
            <a:ext cx="71564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b4b"/>
                </a:solidFill>
                <a:latin typeface="Comic Sans MS"/>
              </a:rPr>
              <a:t>-Biochemical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Albumin, Hemoglobin, cholesterol, TG, Serum glucose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Cholesterol: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Children how should be tested at age 2 years or older :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t least on parent how has been found to have high blood cholesterol &gt; 240 mg / dl or greater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cc"/>
                </a:solidFill>
                <a:latin typeface="Tahoma"/>
              </a:rPr>
              <a:t>- A family history of early heart disease &lt; 55 years in a parent or grandparent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701640" y="1347840"/>
            <a:ext cx="615636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b4b"/>
                </a:solidFill>
                <a:latin typeface="Comic Sans MS"/>
              </a:rPr>
              <a:t>-Clinical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APGAR score diagnosis or history of chronic or acute condition :</a:t>
            </a: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Activity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P  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Pulse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G 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Response to stimuli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Appearance 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3300cc"/>
                </a:solidFill>
                <a:latin typeface="Times New Roman"/>
              </a:rPr>
              <a:t>      Respiratory statues immediately at the time of birth .</a:t>
            </a:r>
            <a:endParaRPr b="0" lang="en-US" sz="2400" spc="-1" strike="noStrike">
              <a:solidFill>
                <a:srgbClr val="33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2308320" y="544680"/>
            <a:ext cx="45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e739c"/>
                </a:solidFill>
                <a:latin typeface="Comic Sans MS"/>
              </a:rPr>
              <a:t>Nutrient need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74920" y="1311120"/>
            <a:ext cx="39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b4b"/>
                </a:solidFill>
                <a:latin typeface="Comic Sans MS"/>
              </a:rPr>
              <a:t>Energy and protein:</a:t>
            </a:r>
            <a:endParaRPr b="0" lang="en-US" sz="3200" spc="-1" strike="noStrike">
              <a:solidFill>
                <a:srgbClr val="3300cc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1932120"/>
            <a:ext cx="91440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12:45:36Z</dcterms:created>
  <dc:creator>Presentation Magazine</dc:creator>
  <dc:description/>
  <dc:language>en-US</dc:language>
  <cp:lastModifiedBy>Leena</cp:lastModifiedBy>
  <dcterms:modified xsi:type="dcterms:W3CDTF">2012-02-06T03:57:41Z</dcterms:modified>
  <cp:revision>59</cp:revision>
  <dc:subject/>
  <dc:title>Hands Template</dc:title>
</cp:coreProperties>
</file>