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7B73-70F2-4F30-9351-5BE13ED15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443F-9ADF-4E02-94EB-E96FC51C58F2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2015-9181-4E0F-B5A8-2901966DF15F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533D-82B0-4E4B-9E07-BE5C23418D17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4FFF-D12F-433A-8352-3B6D5628922E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32C0-E7F1-4107-A70E-C58250646CA5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E4EF-D291-4ED8-9CC8-B482CC4642F1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288A-3E18-487B-A2C9-DC3DCEF1CFDE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9994-762C-4B9C-990E-8D6E9B9A7276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A07-B94D-45E1-AD83-DD5DE7B2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F34-B360-46E0-8A52-86399AED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0EE-9D84-4BDC-AA87-5521610E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52F-FDE9-4FE5-B1E7-4A24D3FC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8C78-5498-4A79-ADB8-A01B46DA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DB46-D835-4F3D-81F6-B6315B08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A631-9DA5-4030-9102-C91D699C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4F0C-76C1-48DE-8A14-F3C9630C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826D-9AB8-4A65-8E97-E0258FC8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B4B3-2350-4AFE-A5C3-E0DEDAEF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2CDB-FE5C-4FA3-9A1F-21DB2ABC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BCB-1893-4FDF-A7BB-DE42C9FC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619D-E9D4-45D1-91E7-4D51407B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BF18-DFE8-40A5-8BFC-2307EF5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4B51-E79F-4CD3-99D0-8FC8F90D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A11E-0497-48F9-A4AC-496B0D7F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96AF-643C-4C10-97B9-AF8CD591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25B-BCEB-4D6E-961D-BB1CFF76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CE1-E7BE-4F02-9C8E-5F4879AF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345-B571-4082-86BE-F6C33B5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640-F28D-4A62-A1F1-29922205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604-2E39-464A-BBF1-4C09CFCA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A8C-F64A-41A1-A44B-81B9159C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0B6-0F4E-4719-B049-6AC65D20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 flipH="1" rot="8842200">
            <a:off x="7446960" y="123120"/>
            <a:ext cx="1357200" cy="1622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 rot="11970600">
            <a:off x="7524000" y="1762200"/>
            <a:ext cx="1359000" cy="1620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"/>
          <p:cNvPicPr/>
          <p:nvPr/>
        </p:nvPicPr>
        <p:blipFill>
          <a:blip r:embed="rId4"/>
          <a:stretch/>
        </p:blipFill>
        <p:spPr>
          <a:xfrm flipH="1" rot="9587400">
            <a:off x="7351200" y="3561480"/>
            <a:ext cx="1357560" cy="1622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5"/>
          <a:stretch/>
        </p:blipFill>
        <p:spPr>
          <a:xfrm rot="13374000">
            <a:off x="7502040" y="5157360"/>
            <a:ext cx="1414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40040" indent="-2077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455840" indent="-2077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872000" indent="-20772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3C80-F6B4-4996-89B2-739B522B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 flipH="1" rot="7633800">
            <a:off x="4264920" y="4238640"/>
            <a:ext cx="238608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 rot="12549600">
            <a:off x="6479640" y="4010760"/>
            <a:ext cx="2381400" cy="284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 flipH="1" rot="9259800">
            <a:off x="684000" y="-360"/>
            <a:ext cx="238104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 rot="12639600">
            <a:off x="3023640" y="-360"/>
            <a:ext cx="2425680" cy="2894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B99C-37A6-4DC0-81D6-5465160EB1F0}" type="slidenum">
              <a:rPr b="0" lang="en-US" sz="14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1640" y="280800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d"/>
                </a:solidFill>
                <a:latin typeface="Comic Sans MS"/>
              </a:rPr>
              <a:t>Pediatric Assessmen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089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635280" y="1268280"/>
            <a:ext cx="1224000" cy="5589720"/>
          </a:xfrm>
          <a:prstGeom prst="rect">
            <a:avLst/>
          </a:prstGeom>
          <a:solidFill>
            <a:srgbClr val="ffd00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696000" y="1268280"/>
            <a:ext cx="1224000" cy="5589720"/>
          </a:xfrm>
          <a:prstGeom prst="rect">
            <a:avLst/>
          </a:prstGeom>
          <a:solidFill>
            <a:srgbClr val="ffd00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27160" y="398520"/>
            <a:ext cx="748476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Fat :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30-54 % of kcal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CHO: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30 – 60% of kcal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&lt; 10% of total kcal can lead to ketosis 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Water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Fluid req: 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3300c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10 kg      100ml /kg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11-20 kg      1000ml +50 ml /kg (for each kg above   .                 10)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&gt;20 kg 1500 ml + 20 ml /kg (for each kg  .                  above 20)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Vitamin and minerals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000"/>
                </a:solidFill>
                <a:latin typeface="Tahoma"/>
              </a:rPr>
              <a:t>.</a:t>
            </a:r>
            <a:br>
              <a:rPr sz="2800"/>
            </a:b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ontent Placeholder 2"/>
          <p:cNvSpPr/>
          <p:nvPr/>
        </p:nvSpPr>
        <p:spPr>
          <a:xfrm>
            <a:off x="-357120" y="1201680"/>
            <a:ext cx="766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Definition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Weigh loss or lack of weight gain in a child due to chronic illness, a restricted diet, poor appetite , and some socio-environmental issue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Defined as height or weight less than the third to fifth percentile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066680" y="690480"/>
            <a:ext cx="47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739c"/>
                </a:solidFill>
                <a:latin typeface="Comic Sans MS"/>
              </a:rPr>
              <a:t>Failure to thrife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-284040" y="763560"/>
            <a:ext cx="7894440" cy="64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Classification: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Non-organic FTT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Results from various environmental and psychosocial factor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ssociated with abnormal interactions between the caregiver and the infant or child. This can result in an inadequate provision of food or inadequate intake of food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Occurs usually in younger than 2 years old 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Organic FTT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occurs when there is an underlying medical cause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tent Placeholder 2"/>
          <p:cNvSpPr/>
          <p:nvPr/>
        </p:nvSpPr>
        <p:spPr>
          <a:xfrm>
            <a:off x="0" y="690480"/>
            <a:ext cx="82296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Assessment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7735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History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Prenatal history 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Smoking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lcohol consumption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Use of medication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ny illness during the pregnancy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Dietary history 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Determine whether a child is receiving enough energy intake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0" y="1019160"/>
            <a:ext cx="760248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How formula is prepared: </a:t>
            </a:r>
            <a:endParaRPr b="0" lang="en-US" sz="3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Improperly prepared formula can result in FTT and serious electrolyte imbalances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olid foods intake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a careful history of the type of food, meal frequency, and volume per feeding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If history is difficult to obtain, a food diary of up to 3 days may be requested from the parents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336600" y="727200"/>
            <a:ext cx="82296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Comic Sans MS"/>
              </a:rPr>
              <a:t>Current medical condition: </a:t>
            </a:r>
            <a:endParaRPr b="0" lang="en-US" sz="3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fections ,chronic conditions, such as cerebral palsy (CP), , seizures .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Comic Sans MS"/>
              </a:rPr>
              <a:t>Physical: </a:t>
            </a:r>
            <a:endParaRPr b="0" lang="en-US" sz="3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Head circumference, height, and weight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Vital signs.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Physical examination may show the following: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Edema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Wasting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Rash or skin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Hair color and texture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Mental status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Signs of vitamin deficiency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28600" y="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Diet Management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Goal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to provide adequate energy intake for catch-up growth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182232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d719b"/>
                </a:solidFill>
                <a:latin typeface="Comic Sans MS"/>
              </a:rPr>
              <a:t>Assessment of infant and children</a:t>
            </a:r>
            <a:endParaRPr b="0" lang="en-US" sz="34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57120" y="1530360"/>
            <a:ext cx="7858080" cy="4541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b4b"/>
                </a:solidFill>
                <a:latin typeface="Comic Sans MS"/>
              </a:rPr>
              <a:t>Anthropometric :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Comic Sans MS"/>
              </a:rPr>
              <a:t>Wt / Age :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Wt / Age &lt; 5</a:t>
            </a:r>
            <a:r>
              <a:rPr b="0" lang="en-US" sz="24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% indicate acute state of malnutrition  ( wasting ) .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cute nutritional status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=    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         Actual wt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x100   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                                  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50</a:t>
            </a:r>
            <a:r>
              <a:rPr b="0" lang="en-US" sz="20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percentile wt/ht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chronic nutritional status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=  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      Actual Ht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x 100   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50</a:t>
            </a:r>
            <a:r>
              <a:rPr b="0" lang="en-US" sz="20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percentile Ht/age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ontent Placeholder 2"/>
          <p:cNvSpPr/>
          <p:nvPr/>
        </p:nvSpPr>
        <p:spPr>
          <a:xfrm>
            <a:off x="0" y="836640"/>
            <a:ext cx="7383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Adjust/concentrate infant formula to meet specific nutrient needs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eg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crease up to 30 kcal/oz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20 kcal/oz formulas + high-calorie food   fortifiers, which can be lipids, protein, or carbohydrate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Supplements for older children may include adding cheese, sour cream, butter, margarine, or peanut butter to meals. Also, high-energy shake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( Pedia Sure, Boost)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360" y="800280"/>
            <a:ext cx="7164360" cy="51465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Multivitamin and mineral supplements, including iron and zinc, usually are recommended .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ube feeding indicated for cases of severe malnutrition.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continuous nighttime tube feeding may be used to increase their energy intake :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2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 younger children, using 24 or 27 kcal/oz, or adding calorie fortifiers.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 In toddlers, 30 kcal/oz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7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1640" y="-36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ase study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2960" y="156636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ara is 3.5 years old Saudi female , her vital sign is normal 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 =9 kg , Ht = 92 c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diet Rx : DFA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 /age is &lt; 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  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Ht/age is on 10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65280" y="836280"/>
            <a:ext cx="6478560" cy="532908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/ht is &lt; 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IWt/age =15 kg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IHt/age =97 c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% Wt /age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(9 /15) x100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60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BMI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= [9/(0.92) X (0.92)  ]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 10.6 kg/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BMI /Age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&lt;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550520"/>
            <a:ext cx="6478560" cy="454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380880" y="36828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5"/>
          <p:cNvSpPr/>
          <p:nvPr/>
        </p:nvSpPr>
        <p:spPr>
          <a:xfrm>
            <a:off x="2303640" y="6237360"/>
            <a:ext cx="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6" name="Straight Connector 7"/>
          <p:cNvSpPr/>
          <p:nvPr/>
        </p:nvSpPr>
        <p:spPr>
          <a:xfrm>
            <a:off x="1835280" y="6200640"/>
            <a:ext cx="468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7" name="Straight Connector 12"/>
          <p:cNvSpPr/>
          <p:nvPr/>
        </p:nvSpPr>
        <p:spPr>
          <a:xfrm flipV="1">
            <a:off x="2303640" y="4473360"/>
            <a:ext cx="0" cy="172692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8" name="Straight Connector 14"/>
          <p:cNvSpPr/>
          <p:nvPr/>
        </p:nvSpPr>
        <p:spPr>
          <a:xfrm flipH="1">
            <a:off x="1726920" y="4473720"/>
            <a:ext cx="576360" cy="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50520"/>
            <a:ext cx="6478560" cy="454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80880" y="36828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142" name="Straight Connector 5"/>
          <p:cNvSpPr/>
          <p:nvPr/>
        </p:nvSpPr>
        <p:spPr>
          <a:xfrm>
            <a:off x="2303640" y="6237360"/>
            <a:ext cx="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3" name="Straight Connector 7"/>
          <p:cNvSpPr/>
          <p:nvPr/>
        </p:nvSpPr>
        <p:spPr>
          <a:xfrm>
            <a:off x="1835280" y="5913360"/>
            <a:ext cx="468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4" name="Straight Connector 12"/>
          <p:cNvSpPr/>
          <p:nvPr/>
        </p:nvSpPr>
        <p:spPr>
          <a:xfrm flipV="1">
            <a:off x="2303640" y="4220640"/>
            <a:ext cx="0" cy="197964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5" name="Straight Connector 14"/>
          <p:cNvSpPr/>
          <p:nvPr/>
        </p:nvSpPr>
        <p:spPr>
          <a:xfrm flipH="1">
            <a:off x="1726920" y="4257720"/>
            <a:ext cx="576360" cy="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6" name="Straight Connector 10"/>
          <p:cNvSpPr/>
          <p:nvPr/>
        </p:nvSpPr>
        <p:spPr>
          <a:xfrm>
            <a:off x="2303640" y="5877000"/>
            <a:ext cx="0" cy="2523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148" name="Straight Connector 3"/>
          <p:cNvSpPr/>
          <p:nvPr/>
        </p:nvSpPr>
        <p:spPr>
          <a:xfrm flipV="1">
            <a:off x="1908000" y="5732640"/>
            <a:ext cx="0" cy="28872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9" name="Straight Connector 5"/>
          <p:cNvSpPr/>
          <p:nvPr/>
        </p:nvSpPr>
        <p:spPr>
          <a:xfrm>
            <a:off x="1368360" y="5769000"/>
            <a:ext cx="53964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04920" y="-27000"/>
            <a:ext cx="8458200" cy="662940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5"/>
          <p:cNvSpPr/>
          <p:nvPr/>
        </p:nvSpPr>
        <p:spPr>
          <a:xfrm flipV="1">
            <a:off x="3527280" y="5265720"/>
            <a:ext cx="0" cy="61128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2" name="Straight Connector 7"/>
          <p:cNvSpPr/>
          <p:nvPr/>
        </p:nvSpPr>
        <p:spPr>
          <a:xfrm>
            <a:off x="1440000" y="5265720"/>
            <a:ext cx="208728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3520" y="0"/>
            <a:ext cx="69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-360" y="1092240"/>
            <a:ext cx="8296200" cy="4541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Acute malnutritional status = (9/13.4) x100 =67.16 %   stage 3 (severe acute malnutrition)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hronic malnutrition status= (92/97) x100= 94.8% stage 0  (mild chronic malnutrition)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1550520"/>
            <a:ext cx="789480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t need catch up growth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Energy = 98 x15 /9  =163 x9   = 1470 kcal /day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= 1.6 x15 /9 = 24 gm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Nutritional requirment: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Energy 163 kcal /kg         =1470 kcal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2.7 gm / kg          =24 gm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6.5 %  = 24 gm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ho 53.5 % =197 gm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at 40 % = 65 g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cc"/>
                </a:solidFill>
                <a:latin typeface="Tahoma"/>
              </a:rPr>
              <a:t>Thank you</a:t>
            </a:r>
            <a:endParaRPr b="0" lang="en-US" sz="8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909360"/>
            <a:ext cx="7470720" cy="5694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739c"/>
                </a:solidFill>
                <a:latin typeface="Comic Sans MS"/>
              </a:rPr>
              <a:t>Recent wt change may indicate acute nutrition issues . In children , the following looses are consider significant :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wt change </a:t>
            </a:r>
            <a:r>
              <a:rPr b="0" lang="en-US" sz="2200" spc="-1" strike="noStrike">
                <a:solidFill>
                  <a:srgbClr val="ce739c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[ (actual wt –usual wt) /usual wt] 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usual body wt =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(actual wt /usual wt ) 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Ideal body wt (IBW) =  </a:t>
            </a:r>
            <a:r>
              <a:rPr b="1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    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actual </a:t>
            </a:r>
            <a:r>
              <a:rPr b="0" lang="en-US" sz="2200" spc="-1" strike="noStrike" u="sng">
                <a:solidFill>
                  <a:srgbClr val="3300cc"/>
                </a:solidFill>
                <a:uFillTx/>
                <a:latin typeface="Tahoma"/>
              </a:rPr>
              <a:t>wt      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                                  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IBW at 50</a:t>
            </a:r>
            <a:r>
              <a:rPr b="0" lang="en-US" sz="2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ar-SA" sz="2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percentile for age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31640" y="2600280"/>
          <a:ext cx="6882120" cy="1285920"/>
        </p:xfrm>
        <a:graphic>
          <a:graphicData uri="http://schemas.openxmlformats.org/drawingml/2006/table">
            <a:tbl>
              <a:tblPr/>
              <a:tblGrid>
                <a:gridCol w="1721160"/>
                <a:gridCol w="1719000"/>
                <a:gridCol w="1720800"/>
                <a:gridCol w="17211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e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2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7.5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10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ontent Placeholder 2"/>
          <p:cNvSpPr/>
          <p:nvPr/>
        </p:nvSpPr>
        <p:spPr>
          <a:xfrm>
            <a:off x="0" y="909720"/>
            <a:ext cx="774864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Ht /Age 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Ht / Age &lt;5th % indicate chronic state of malnutrition (stunting)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Wt /Ht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he wt of child at specific stature regardless of age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BMI 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For children of age 2-20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BMI =WT /HT2 X10000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7c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Head circumference </a:t>
            </a:r>
            <a:r>
              <a:rPr b="1" lang="en-US" sz="2000" spc="-1" strike="noStrike">
                <a:solidFill>
                  <a:srgbClr val="f7ca00"/>
                </a:solidFill>
                <a:latin typeface="Tahoma"/>
              </a:rPr>
              <a:t>( birth – 3 years ) </a:t>
            </a:r>
            <a:r>
              <a:rPr b="1" lang="en-US" sz="2800" spc="-1" strike="noStrike">
                <a:solidFill>
                  <a:srgbClr val="f7ca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Less sensitive indicator for nutritional status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252360"/>
            <a:ext cx="89154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36600" y="690480"/>
            <a:ext cx="71564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b4b"/>
                </a:solidFill>
                <a:latin typeface="Comic Sans MS"/>
              </a:rPr>
              <a:t>-Biochemical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lbumin, Hemoglobin, cholesterol, TG, Serum glucose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Cholesterol: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Children how should be tested at age 2 years or older :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t least on parent how has been found to have high blood cholesterol &gt; 240 mg / dl or greater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 family history of early heart disease &lt; 55 years in a parent or grandparent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01640" y="1347840"/>
            <a:ext cx="61563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b4b"/>
                </a:solidFill>
                <a:latin typeface="Comic Sans MS"/>
              </a:rPr>
              <a:t>-Clinical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APGAR score diagnosis or history of chronic or acute condition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Activity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P  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Pulse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G 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Response to stimuli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Appearance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Respiratory statues immediately at the time of birth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308320" y="544680"/>
            <a:ext cx="45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739c"/>
                </a:solidFill>
                <a:latin typeface="Comic Sans MS"/>
              </a:rPr>
              <a:t>Nutrient need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74920" y="1311120"/>
            <a:ext cx="39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b4b"/>
                </a:solidFill>
                <a:latin typeface="Comic Sans MS"/>
              </a:rPr>
              <a:t>Energy and protein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932120"/>
            <a:ext cx="914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2:45:36Z</dcterms:created>
  <dc:creator>Presentation Magazine</dc:creator>
  <dc:description/>
  <dc:language>en-US</dc:language>
  <cp:lastModifiedBy>Leena</cp:lastModifiedBy>
  <dcterms:modified xsi:type="dcterms:W3CDTF">2012-02-06T03:57:41Z</dcterms:modified>
  <cp:revision>59</cp:revision>
  <dc:subject/>
  <dc:title>Hands Template</dc:title>
</cp:coreProperties>
</file>