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7142-F456-4031-A838-115C700C2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01A4-0DDF-4050-86DA-F9A374E0C8C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4851-C318-4846-BBCC-1B5901F681A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50E-62CE-4471-8782-9212CEE9F24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4411-FCA5-4470-A378-C81BE1ED8F5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4436-AFBF-4621-BDE4-FBBE0ABD7EC8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EF15-9D67-4CDA-B672-B698B69E75BC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5D8-84C5-4767-BE6A-64D7F7650944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E228-BD62-4906-85CF-FE052425566E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8BB-F993-40BB-A37A-B6B504CD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22C-7D4B-4743-B528-FB619FAB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D0FA-5935-461D-A25B-1BA61328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BF48-C28D-4B35-9740-2CFE26C4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3AC6-FAE2-40CF-B411-8F5A1F43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660D-A09C-4A1F-B326-E0DA599A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D128-D0C5-44C3-8250-4762DFF6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0480-D625-44AF-9392-BCD7248E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C20-8C88-4440-882A-42E7F820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6003-517F-4FBF-A472-F1CBB3F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354B-D736-4D4B-BD33-932FEE29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1CC-F7EB-4F0A-9D78-07F99CA6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380A-4263-4390-B20B-B4CFE3E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3A5C-EC1A-4DD1-8CFE-FA30369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E4AD-0C8A-497A-99EA-5A9D5D0A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641-F210-4B73-8A11-FEBA17B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017-EDBD-41B7-9540-34749746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EB0F-EA4A-4AA0-AEDE-DBBE55FE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B78-FE51-4978-8520-10D26FFF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EED-E873-43A0-BFC3-03A001DF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DF6-B965-4D92-A9C4-41B56A2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126-454B-4CF6-8F62-7342815E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4A8-3997-4F3F-B989-DCCC8BC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426-A241-4CF8-B070-700C2183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5A99-7DFC-4D8B-8A73-2D281DD7E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B41-F3DF-465D-9A77-BD27AC1CADF3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1640" y="280800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d"/>
                </a:solidFill>
                <a:latin typeface="Comic Sans MS"/>
              </a:rPr>
              <a:t>Pediatric Assessmen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63528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69600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27160" y="398520"/>
            <a:ext cx="748476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Fat :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-54 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: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 – 60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lt; 10% of total kcal can lead to ketosis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Water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luid req: 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10 kg      100ml /kg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1-20 kg      1000ml +50 ml /kg (for each kg above   .                 10)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gt;20 kg 1500 ml + 20 ml /kg (for each kg  .                  above 20)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Vitamin and minerals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Tahoma"/>
              </a:rPr>
              <a:t>.</a:t>
            </a:r>
            <a:br>
              <a:rPr sz="2800"/>
            </a:b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ntent Placeholder 2"/>
          <p:cNvSpPr/>
          <p:nvPr/>
        </p:nvSpPr>
        <p:spPr>
          <a:xfrm>
            <a:off x="-357120" y="120168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efinition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eigh loss or lack of weight gain in a child due to chronic illness, a restricted diet, poor appetite , and some socio-environmental issu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fined as height or weight less than the third to fifth percentil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66680" y="69048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Failure to thrife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-284040" y="763560"/>
            <a:ext cx="789444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Classification: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Non-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Results from various environmental and psychosocial factor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ssociated with abnormal interactions between the caregiver and the infant or child. This can result in an inadequate provision of food or inadequate intake of food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usually in younger than 2 years old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when there is an underlying medical caus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0" y="69048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Assessment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7735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History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renatal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moking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cohol consumption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Use of medication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ny illness during the pregnancy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Dietary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termine whether a child is receiving enough energy intak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0" y="1019160"/>
            <a:ext cx="76024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How formula is prepared: </a:t>
            </a:r>
            <a:endParaRPr b="0" lang="en-US" sz="3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mproperly prepared formula can result in FTT and serious electrolyte imbalance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olid foods intake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a careful history of the type of food, meal frequency, and volume per feeding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f history is difficult to obtain, a food diary of up to 3 days may be requested from the parent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336600" y="727200"/>
            <a:ext cx="82296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Current medical condition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fections ,chronic conditions, such as cerebral palsy (CP), , seizures .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Physical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ead circumference, height, and weight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Vital signs.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Physical examination may show the following: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Edema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Wasting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Rash or skin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air color and texture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Mental status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Signs of vitamin deficiency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28600" y="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iet Management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Goal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to provide adequate energy intake for catch-up growth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d719b"/>
                </a:solidFill>
                <a:latin typeface="Comic Sans MS"/>
              </a:rPr>
              <a:t>Assessment of infant and children</a:t>
            </a:r>
            <a:endParaRPr b="0" lang="en-US" sz="34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57120" y="1530360"/>
            <a:ext cx="785808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b4b"/>
                </a:solidFill>
                <a:latin typeface="Comic Sans MS"/>
              </a:rPr>
              <a:t>Anthropometric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Comic Sans MS"/>
              </a:rPr>
              <a:t>Wt / Age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t / Age &lt; 5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% indicate acute state of malnutrition  ( wasting ) 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cute nutritional status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   Actual wt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x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wt/ht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hronic nutritional status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Actual Ht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x 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Ht/age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ntent Placeholder 2"/>
          <p:cNvSpPr/>
          <p:nvPr/>
        </p:nvSpPr>
        <p:spPr>
          <a:xfrm>
            <a:off x="0" y="836640"/>
            <a:ext cx="7383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just/concentrate infant formula to meet specific nutrient needs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g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crease up to 30 kcal/oz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20 kcal/oz formulas + high-calorie food   fortifiers, which can be lipids, protein, or carbohydrat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upplements for older children may include adding cheese, sour cream, butter, margarine, or peanut butter to meals. Also, high-energy shak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( Pedia Sure, Boost)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800280"/>
            <a:ext cx="7164360" cy="51465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Multivitamin and mineral supplements, including iron and zinc, usually are recommended 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ube feeding indicated for cases of severe malnutrition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ontinuous nighttime tube feeding may be used to increase their energy intake :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2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 younger children, using 24 or 27 kcal/oz, or adding calorie fortifiers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 In toddlers, 30 kcal/oz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ase study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2960" y="156636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ara is 3.5 years old Saudi female , her vital sign is normal 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=9 kg , Ht = 92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diet Rx : DFA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/age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t/age is on 10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65280" y="836280"/>
            <a:ext cx="6478560" cy="53290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/ht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Wt/age =15 kg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Ht/age =97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% Wt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(9 /15) x100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60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= [9/(0.92) X (0.92)  ]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 10.6 kg/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&lt;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Straight Connector 7"/>
          <p:cNvSpPr/>
          <p:nvPr/>
        </p:nvSpPr>
        <p:spPr>
          <a:xfrm>
            <a:off x="1835280" y="620064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7" name="Straight Connector 12"/>
          <p:cNvSpPr/>
          <p:nvPr/>
        </p:nvSpPr>
        <p:spPr>
          <a:xfrm flipV="1">
            <a:off x="2303640" y="4473360"/>
            <a:ext cx="0" cy="172692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>
            <a:off x="1726920" y="4473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1835280" y="591336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2303640" y="4220640"/>
            <a:ext cx="0" cy="197964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 flipH="1">
            <a:off x="1726920" y="4257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2303640" y="5877000"/>
            <a:ext cx="0" cy="252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3"/>
          <p:cNvSpPr/>
          <p:nvPr/>
        </p:nvSpPr>
        <p:spPr>
          <a:xfrm flipV="1">
            <a:off x="1908000" y="5732640"/>
            <a:ext cx="0" cy="28872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9" name="Straight Connector 5"/>
          <p:cNvSpPr/>
          <p:nvPr/>
        </p:nvSpPr>
        <p:spPr>
          <a:xfrm>
            <a:off x="1368360" y="5769000"/>
            <a:ext cx="53964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04920" y="-270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5"/>
          <p:cNvSpPr/>
          <p:nvPr/>
        </p:nvSpPr>
        <p:spPr>
          <a:xfrm flipV="1">
            <a:off x="3527280" y="5265720"/>
            <a:ext cx="0" cy="61128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1440000" y="5265720"/>
            <a:ext cx="208728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352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1092240"/>
            <a:ext cx="829620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Acute malnutritional status = (9/13.4) x100 =67.16 %   stage 3 (severe acute malnutrition)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ronic malnutrition status= (92/97) x100= 94.8% stage 0  (mild chronic malnutrition)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550520"/>
            <a:ext cx="789480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t need catch up growth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= 98 x15 /9  =163 x9   = 1470 kcal /day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= 1.6 x15 /9 = 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Nutritional requirment: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163 kcal /kg         =1470 kcal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2.7 gm / kg          =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6.5 %  = 24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o 53.5 % =197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at 40 % = 65 g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cc"/>
                </a:solidFill>
                <a:latin typeface="Tahoma"/>
              </a:rPr>
              <a:t>Thank you</a:t>
            </a: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09360"/>
            <a:ext cx="7470720" cy="5694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739c"/>
                </a:solidFill>
                <a:latin typeface="Comic Sans MS"/>
              </a:rPr>
              <a:t>Recent wt change may indicate acute nutrition issues . In children , the following looses are consider significant :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wt change </a:t>
            </a:r>
            <a:r>
              <a:rPr b="0" lang="en-US" sz="2200" spc="-1" strike="noStrike">
                <a:solidFill>
                  <a:srgbClr val="ce739c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[ (actual wt –usual wt) /usual wt]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usual body wt 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(actual wt /usual wt )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Ideal body wt (IBW) = 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    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actual </a:t>
            </a:r>
            <a:r>
              <a:rPr b="0" lang="en-US" sz="2200" spc="-1" strike="noStrike" u="sng">
                <a:solidFill>
                  <a:srgbClr val="3300cc"/>
                </a:solidFill>
                <a:uFillTx/>
                <a:latin typeface="Tahoma"/>
              </a:rPr>
              <a:t>wt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                           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IBW at 50</a:t>
            </a:r>
            <a:r>
              <a:rPr b="0" lang="en-US" sz="2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ar-SA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percentile for age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1640" y="2600280"/>
          <a:ext cx="6882120" cy="1285920"/>
        </p:xfrm>
        <a:graphic>
          <a:graphicData uri="http://schemas.openxmlformats.org/drawingml/2006/table">
            <a:tbl>
              <a:tblPr/>
              <a:tblGrid>
                <a:gridCol w="1721160"/>
                <a:gridCol w="1719000"/>
                <a:gridCol w="1720800"/>
                <a:gridCol w="17211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e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2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7.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10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ntent Placeholder 2"/>
          <p:cNvSpPr/>
          <p:nvPr/>
        </p:nvSpPr>
        <p:spPr>
          <a:xfrm>
            <a:off x="0" y="909720"/>
            <a:ext cx="774864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t /Age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Ht / Age &lt;5th % indicate chronic state of malnutrition (stunting)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Wt /Ht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e wt of child at specific stature regardless of ag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BMI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or children of age 2-2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BMI =WT /HT2 X1000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7c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ead circumference </a:t>
            </a:r>
            <a:r>
              <a:rPr b="1" lang="en-US" sz="2000" spc="-1" strike="noStrike">
                <a:solidFill>
                  <a:srgbClr val="f7ca00"/>
                </a:solidFill>
                <a:latin typeface="Tahoma"/>
              </a:rPr>
              <a:t>( birth – 3 years ) </a:t>
            </a:r>
            <a:r>
              <a:rPr b="1" lang="en-US" sz="2800" spc="-1" strike="noStrike">
                <a:solidFill>
                  <a:srgbClr val="f7c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Less sensitive indicator for nutritional status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52360"/>
            <a:ext cx="89154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36600" y="690480"/>
            <a:ext cx="71564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b4b"/>
                </a:solidFill>
                <a:latin typeface="Comic Sans MS"/>
              </a:rPr>
              <a:t>-Biochemical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bumin, Hemoglobin, cholesterol, TG, Serum glucos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olesterol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ildren how should be tested at age 2 years or older 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t least on parent how has been found to have high blood cholesterol &gt; 240 mg / dl or greater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 family history of early heart disease &lt; 55 years in a parent or grandparent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01640" y="1347840"/>
            <a:ext cx="6156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b4b"/>
                </a:solidFill>
                <a:latin typeface="Comic Sans MS"/>
              </a:rPr>
              <a:t>-Clinical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PGAR score diagnosis or history of chronic or acute condition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ctivity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 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Pulse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G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Response to stimuli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ppearance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Respiratory statues immediately at the time of birth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308320" y="544680"/>
            <a:ext cx="45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Nutrient need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4920" y="131112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b4b"/>
                </a:solidFill>
                <a:latin typeface="Comic Sans MS"/>
              </a:rPr>
              <a:t>Energy and protein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Leena</cp:lastModifiedBy>
  <dcterms:modified xsi:type="dcterms:W3CDTF">2012-02-06T03:57:41Z</dcterms:modified>
  <cp:revision>59</cp:revision>
  <dc:subject/>
  <dc:title>Hands Template</dc:title>
</cp:coreProperties>
</file>