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d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4133-D84E-418A-9866-35A77F57F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8796-734B-4A78-9D91-E19E2ABCB651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337E-A574-4C6E-8BD4-61D9B90B374D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E027-EB39-4411-A379-8200315822F2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54A7-0D59-46A4-A903-1A75FC2EAF94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917C-B399-4F74-88E2-99C1ED7ADF53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0A9A-2FF5-4A4E-8B77-96035C6C4083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8E06-9CF3-415D-B44A-948E2D417D75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D12C-E26B-4592-8DFD-090FE0A3BAE7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58F5-43AE-4216-8044-1A7E5F4E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2328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D168-B99A-4060-AF0A-D1DD6C3C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00572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0F30-7D66-417B-84A8-2FF47E0F1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8764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670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8764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0670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25BE-5028-4E8F-8BC9-4805DA757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C661-5065-4235-A221-5F467F33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4C6D-2798-4FCD-9EB0-2423A27C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77D9-FBCC-481E-9F45-C8A1187F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06A4-E462-4D05-96C6-8AF41890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C0F2-C598-4A64-88D0-509C3BA5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64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A428-FF4B-423D-A9FC-D9E780E2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6179-7A5E-4A23-B5EC-57E9D302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8FFA-8191-4404-8660-82249FF7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00572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3968-33F8-48DD-B8EA-E64A92E6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724D-76CE-4E61-BACC-38F7E518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392328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ACF2-2CFA-4F3E-B382-DE5CA902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00572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36B9-DC56-4276-9669-CB23643E1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8764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670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8764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0670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F89E-EA94-4008-A01F-50D6B7BB3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154E-9809-4B7B-A70C-B4DFBABB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7666-2267-44ED-8862-2C547CFC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8196-3286-4F7C-AED2-A83039DD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64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9E8A-35C8-4930-B96E-33F53739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B267-9E7A-437A-BF2B-3819998C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0572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3D3E-1F95-4A02-9070-8277CEAB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2DDD-E49F-4507-B386-D6DF7719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tretch/>
        </p:blipFill>
        <p:spPr>
          <a:xfrm flipH="1" rot="8842200">
            <a:off x="7446960" y="123120"/>
            <a:ext cx="1357200" cy="1622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"/>
          <p:cNvPicPr/>
          <p:nvPr/>
        </p:nvPicPr>
        <p:blipFill>
          <a:blip r:embed="rId3"/>
          <a:stretch/>
        </p:blipFill>
        <p:spPr>
          <a:xfrm rot="11970600">
            <a:off x="7524000" y="1762200"/>
            <a:ext cx="1359000" cy="16203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7" descr=""/>
          <p:cNvPicPr/>
          <p:nvPr/>
        </p:nvPicPr>
        <p:blipFill>
          <a:blip r:embed="rId4"/>
          <a:stretch/>
        </p:blipFill>
        <p:spPr>
          <a:xfrm flipH="1" rot="9587400">
            <a:off x="7351200" y="3561480"/>
            <a:ext cx="1357560" cy="16225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"/>
          <p:cNvPicPr/>
          <p:nvPr/>
        </p:nvPicPr>
        <p:blipFill>
          <a:blip r:embed="rId5"/>
          <a:stretch/>
        </p:blipFill>
        <p:spPr>
          <a:xfrm rot="13374000">
            <a:off x="7502040" y="5157360"/>
            <a:ext cx="14144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d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1" marL="676080" indent="-259920">
              <a:spcBef>
                <a:spcPts val="799"/>
              </a:spcBef>
              <a:buClr>
                <a:srgbClr val="f7735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2" marL="1040040" indent="-20772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3" marL="1455840" indent="-207720">
              <a:spcBef>
                <a:spcPts val="799"/>
              </a:spcBef>
              <a:buClr>
                <a:srgbClr val="f7735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4" marL="1872000" indent="-207720">
              <a:spcBef>
                <a:spcPts val="799"/>
              </a:spcBef>
              <a:buClr>
                <a:srgbClr val="f77352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5" marL="1872000" indent="-207720">
              <a:spcBef>
                <a:spcPts val="799"/>
              </a:spcBef>
              <a:buClr>
                <a:srgbClr val="3300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6" marL="1872000" indent="-207720">
              <a:spcBef>
                <a:spcPts val="799"/>
              </a:spcBef>
              <a:buClr>
                <a:srgbClr val="3300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EC64-D22A-45B5-B5CE-47204985D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"/>
          <p:cNvPicPr/>
          <p:nvPr/>
        </p:nvPicPr>
        <p:blipFill>
          <a:blip r:embed="rId2"/>
          <a:stretch/>
        </p:blipFill>
        <p:spPr>
          <a:xfrm flipH="1" rot="7633800">
            <a:off x="4264920" y="4238640"/>
            <a:ext cx="2386080" cy="2852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3"/>
          <a:stretch/>
        </p:blipFill>
        <p:spPr>
          <a:xfrm rot="12549600">
            <a:off x="6479640" y="4010760"/>
            <a:ext cx="2381400" cy="2846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4"/>
          <a:stretch/>
        </p:blipFill>
        <p:spPr>
          <a:xfrm flipH="1" rot="9259800">
            <a:off x="684000" y="-360"/>
            <a:ext cx="2381040" cy="2846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5"/>
          <a:stretch/>
        </p:blipFill>
        <p:spPr>
          <a:xfrm rot="12639600">
            <a:off x="3023640" y="-360"/>
            <a:ext cx="2425680" cy="2894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d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1" marL="698400" indent="-268560">
              <a:spcBef>
                <a:spcPts val="799"/>
              </a:spcBef>
              <a:buClr>
                <a:srgbClr val="f7735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3" marL="1504080" indent="-214560">
              <a:spcBef>
                <a:spcPts val="799"/>
              </a:spcBef>
              <a:buClr>
                <a:srgbClr val="f7735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4" marL="1933920" indent="-214560">
              <a:spcBef>
                <a:spcPts val="799"/>
              </a:spcBef>
              <a:buClr>
                <a:srgbClr val="f77352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5" marL="1933920" indent="-214560">
              <a:spcBef>
                <a:spcPts val="799"/>
              </a:spcBef>
              <a:buClr>
                <a:srgbClr val="3300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6" marL="1933920" indent="-214560">
              <a:spcBef>
                <a:spcPts val="799"/>
              </a:spcBef>
              <a:buClr>
                <a:srgbClr val="3300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AFE1-611E-439F-BC2C-0B71BA47F051}" type="slidenum">
              <a:rPr b="0" lang="en-US" sz="14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01640" y="2808000"/>
            <a:ext cx="7772400" cy="112068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cd"/>
                </a:solidFill>
                <a:latin typeface="Comic Sans MS"/>
              </a:rPr>
              <a:t>Pediatric Assessment</a:t>
            </a: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0896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"/>
          <p:cNvSpPr/>
          <p:nvPr/>
        </p:nvSpPr>
        <p:spPr>
          <a:xfrm>
            <a:off x="3635280" y="1268280"/>
            <a:ext cx="1224000" cy="5589720"/>
          </a:xfrm>
          <a:prstGeom prst="rect">
            <a:avLst/>
          </a:prstGeom>
          <a:solidFill>
            <a:srgbClr val="ffd009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6696000" y="1268280"/>
            <a:ext cx="1224000" cy="5589720"/>
          </a:xfrm>
          <a:prstGeom prst="rect">
            <a:avLst/>
          </a:prstGeom>
          <a:solidFill>
            <a:srgbClr val="ffd009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227160" y="398520"/>
            <a:ext cx="7484760" cy="66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Fat : 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30-54 % of kcal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CHO: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30 – 60% of kcal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&lt; 10% of total kcal can lead to ketosis 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Water :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Fluid req: 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1</a:t>
            </a:r>
            <a:r>
              <a:rPr b="0" lang="en-US" sz="2400" spc="-1" strike="noStrike" baseline="30000">
                <a:solidFill>
                  <a:srgbClr val="3300cc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10 kg      100ml /kg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11-20 kg      1000ml +50 ml /kg (for each kg above   .                 10)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&gt;20 kg 1500 ml + 20 ml /kg (for each kg  .                  above 20)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Vitamin and minerals: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000"/>
                </a:solidFill>
                <a:latin typeface="Tahoma"/>
              </a:rPr>
              <a:t>.</a:t>
            </a:r>
            <a:br>
              <a:rPr sz="2800"/>
            </a:br>
            <a:endParaRPr b="0" lang="en-US" sz="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600" spc="-1" strike="noStrike">
              <a:solidFill>
                <a:srgbClr val="3300cd"/>
              </a:solidFill>
              <a:latin typeface="Tahoma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Content Placeholder 2"/>
          <p:cNvSpPr/>
          <p:nvPr/>
        </p:nvSpPr>
        <p:spPr>
          <a:xfrm>
            <a:off x="-357120" y="1201680"/>
            <a:ext cx="7667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565"/>
                </a:solidFill>
                <a:latin typeface="Comic Sans MS"/>
              </a:rPr>
              <a:t>Definition: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Weigh loss or lack of weight gain in a child due to chronic illness, a restricted diet, poor appetite , and some socio-environmental issues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Defined as height or weight less than the third to fifth percentiles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1066680" y="690480"/>
            <a:ext cx="478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739c"/>
                </a:solidFill>
                <a:latin typeface="Comic Sans MS"/>
              </a:rPr>
              <a:t>Failure to thrife 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Content Placeholder 2"/>
          <p:cNvSpPr/>
          <p:nvPr/>
        </p:nvSpPr>
        <p:spPr>
          <a:xfrm>
            <a:off x="-284040" y="763560"/>
            <a:ext cx="7894440" cy="64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565"/>
                </a:solidFill>
                <a:latin typeface="Comic Sans MS"/>
              </a:rPr>
              <a:t>Classification: 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ahoma"/>
              </a:rPr>
              <a:t>Non-organic FTT :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Results from various environmental and psychosocial factors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Associated with abnormal interactions between the caregiver and the infant or child. This can result in an inadequate provision of food or inadequate intake of food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Occurs usually in younger than 2 years old 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ahoma"/>
              </a:rPr>
              <a:t>Organic FTT :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occurs when there is an underlying medical cause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Content Placeholder 2"/>
          <p:cNvSpPr/>
          <p:nvPr/>
        </p:nvSpPr>
        <p:spPr>
          <a:xfrm>
            <a:off x="0" y="690480"/>
            <a:ext cx="822960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6565"/>
                </a:solidFill>
                <a:latin typeface="Comic Sans MS"/>
              </a:rPr>
              <a:t>Assessment: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7735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omic Sans MS"/>
              </a:rPr>
              <a:t>History: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ahoma"/>
              </a:rPr>
              <a:t>Prenatal history :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Smoking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Alcohol consumption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Use of medications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Any illness during the pregnancy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Dietary history :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Determine whether a child is receiving enough energy intake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Content Placeholder 2"/>
          <p:cNvSpPr/>
          <p:nvPr/>
        </p:nvSpPr>
        <p:spPr>
          <a:xfrm>
            <a:off x="0" y="1019160"/>
            <a:ext cx="7602480" cy="49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Comic Sans MS"/>
              </a:rPr>
              <a:t>How formula is prepared: </a:t>
            </a:r>
            <a:endParaRPr b="0" lang="en-US" sz="30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cc"/>
                </a:solidFill>
                <a:latin typeface="Tahoma"/>
              </a:rPr>
              <a:t>- Improperly prepared formula can result in FTT and serious electrolyte imbalances. </a:t>
            </a:r>
            <a:endParaRPr b="0" lang="en-US" sz="26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Tahoma"/>
              </a:rPr>
              <a:t>Solid foods intake: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cc"/>
                </a:solidFill>
                <a:latin typeface="Tahoma"/>
              </a:rPr>
              <a:t>- a careful history of the type of food, meal frequency, and volume per feeding. </a:t>
            </a:r>
            <a:endParaRPr b="0" lang="en-US" sz="26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cc"/>
                </a:solidFill>
                <a:latin typeface="Tahoma"/>
              </a:rPr>
              <a:t>- If history is difficult to obtain, a food diary of up to 3 days may be requested from the parents. </a:t>
            </a:r>
            <a:endParaRPr b="0" lang="en-US" sz="26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Content Placeholder 2"/>
          <p:cNvSpPr/>
          <p:nvPr/>
        </p:nvSpPr>
        <p:spPr>
          <a:xfrm>
            <a:off x="336600" y="727200"/>
            <a:ext cx="822960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c000"/>
                </a:solidFill>
                <a:latin typeface="Comic Sans MS"/>
              </a:rPr>
              <a:t>Current medical condition: </a:t>
            </a:r>
            <a:endParaRPr b="0" lang="en-US" sz="31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Infections ,chronic conditions, such as cerebral palsy (CP), , seizures .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c000"/>
                </a:solidFill>
                <a:latin typeface="Comic Sans MS"/>
              </a:rPr>
              <a:t>Physical: </a:t>
            </a:r>
            <a:endParaRPr b="0" lang="en-US" sz="31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cc"/>
                </a:solidFill>
                <a:latin typeface="Tahoma"/>
              </a:rPr>
              <a:t>- Head circumference, height, and weight </a:t>
            </a: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cc"/>
                </a:solidFill>
                <a:latin typeface="Tahoma"/>
              </a:rPr>
              <a:t>- Vital signs. </a:t>
            </a: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cc"/>
                </a:solidFill>
                <a:latin typeface="Tahoma"/>
              </a:rPr>
              <a:t>- Physical examination may show the following: </a:t>
            </a: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624"/>
              </a:spcBef>
              <a:buClr>
                <a:srgbClr val="f7735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cc"/>
                </a:solidFill>
                <a:latin typeface="Tahoma"/>
              </a:rPr>
              <a:t>- Edema </a:t>
            </a: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624"/>
              </a:spcBef>
              <a:buClr>
                <a:srgbClr val="f7735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cc"/>
                </a:solidFill>
                <a:latin typeface="Tahoma"/>
              </a:rPr>
              <a:t>- Wasting </a:t>
            </a: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624"/>
              </a:spcBef>
              <a:buClr>
                <a:srgbClr val="f7735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cc"/>
                </a:solidFill>
                <a:latin typeface="Tahoma"/>
              </a:rPr>
              <a:t>- Rash or skin changes </a:t>
            </a: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624"/>
              </a:spcBef>
              <a:buClr>
                <a:srgbClr val="f7735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cc"/>
                </a:solidFill>
                <a:latin typeface="Tahoma"/>
              </a:rPr>
              <a:t>- Hair color and texture changes </a:t>
            </a: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624"/>
              </a:spcBef>
              <a:buClr>
                <a:srgbClr val="f7735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cc"/>
                </a:solidFill>
                <a:latin typeface="Tahoma"/>
              </a:rPr>
              <a:t>- Mental status changes </a:t>
            </a: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624"/>
              </a:spcBef>
              <a:buClr>
                <a:srgbClr val="f7735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cc"/>
                </a:solidFill>
                <a:latin typeface="Tahoma"/>
              </a:rPr>
              <a:t>- Signs of vitamin deficiency </a:t>
            </a: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228600" y="0"/>
            <a:ext cx="8686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565"/>
                </a:solidFill>
                <a:latin typeface="Comic Sans MS"/>
              </a:rPr>
              <a:t>Diet Management :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Comic Sans MS"/>
              </a:rPr>
              <a:t>Goal: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to provide adequate energy intake for catch-up growth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1822320"/>
            <a:ext cx="914400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6144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d719b"/>
                </a:solidFill>
                <a:latin typeface="Comic Sans MS"/>
              </a:rPr>
              <a:t>Assessment of infant and children</a:t>
            </a:r>
            <a:endParaRPr b="0" lang="en-US" sz="34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57120" y="1530360"/>
            <a:ext cx="7858080" cy="454176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77352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4b4b"/>
                </a:solidFill>
                <a:latin typeface="Comic Sans MS"/>
              </a:rPr>
              <a:t>Anthropometric :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00cc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ca00"/>
                </a:solidFill>
                <a:latin typeface="Comic Sans MS"/>
              </a:rPr>
              <a:t>Wt / Age :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Wt / Age &lt; 5</a:t>
            </a:r>
            <a:r>
              <a:rPr b="0" lang="en-US" sz="2400" spc="-1" strike="noStrike" baseline="30000">
                <a:solidFill>
                  <a:srgbClr val="3300c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% indicate acute state of malnutrition  ( wasting ) .</a:t>
            </a:r>
            <a:endParaRPr b="0" lang="en-US" sz="2400" spc="-1" strike="noStrike">
              <a:solidFill>
                <a:srgbClr val="3300cc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Acute nutritional status </a:t>
            </a: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=    </a:t>
            </a:r>
            <a:r>
              <a:rPr b="0" lang="en-US" sz="2000" spc="-1" strike="noStrike" u="sng">
                <a:solidFill>
                  <a:srgbClr val="3300cc"/>
                </a:solidFill>
                <a:uFillTx/>
                <a:latin typeface="Tahoma"/>
              </a:rPr>
              <a:t>          Actual wt        </a:t>
            </a: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 x100    </a:t>
            </a:r>
            <a:endParaRPr b="0" lang="en-US" sz="2000" spc="-1" strike="noStrike">
              <a:solidFill>
                <a:srgbClr val="3300cc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                                               </a:t>
            </a: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50</a:t>
            </a:r>
            <a:r>
              <a:rPr b="0" lang="en-US" sz="2000" spc="-1" strike="noStrike" baseline="30000">
                <a:solidFill>
                  <a:srgbClr val="3300cc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 percentile wt/ht</a:t>
            </a:r>
            <a:r>
              <a:rPr b="0" lang="en-US" sz="2000" spc="-1" strike="noStrike" u="sng">
                <a:solidFill>
                  <a:srgbClr val="3300cc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3300cc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chronic nutritional status</a:t>
            </a: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=  </a:t>
            </a:r>
            <a:r>
              <a:rPr b="0" lang="en-US" sz="2000" spc="-1" strike="noStrike" u="sng">
                <a:solidFill>
                  <a:srgbClr val="3300cc"/>
                </a:solidFill>
                <a:uFillTx/>
                <a:latin typeface="Tahoma"/>
              </a:rPr>
              <a:t>       Actual Ht            </a:t>
            </a: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x 100    </a:t>
            </a:r>
            <a:endParaRPr b="0" lang="en-US" sz="2000" spc="-1" strike="noStrike">
              <a:solidFill>
                <a:srgbClr val="3300cc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50</a:t>
            </a:r>
            <a:r>
              <a:rPr b="0" lang="en-US" sz="2000" spc="-1" strike="noStrike" baseline="30000">
                <a:solidFill>
                  <a:srgbClr val="3300cc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 percentile Ht/age</a:t>
            </a:r>
            <a:endParaRPr b="0" lang="en-US" sz="2000" spc="-1" strike="noStrike">
              <a:solidFill>
                <a:srgbClr val="3300cc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3300cc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Content Placeholder 2"/>
          <p:cNvSpPr/>
          <p:nvPr/>
        </p:nvSpPr>
        <p:spPr>
          <a:xfrm>
            <a:off x="0" y="836640"/>
            <a:ext cx="7383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Adjust/concentrate infant formula to meet specific nutrient needs: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eg :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Increase up to 30 kcal/oz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20 kcal/oz formulas + high-calorie food   fortifiers, which can be lipids, protein, or carbohydrates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Supplements for older children may include adding cheese, sour cream, butter, margarine, or peanut butter to meals. Also, high-energy shakes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( Pedia Sure, Boost)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-360" y="800280"/>
            <a:ext cx="7164360" cy="514656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Multivitamin and mineral supplements, including iron and zinc, usually are recommended . </a:t>
            </a:r>
            <a:endParaRPr b="0" lang="en-US" sz="24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Tube feeding indicated for cases of severe malnutrition.</a:t>
            </a:r>
            <a:endParaRPr b="0" lang="en-US" sz="24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continuous nighttime tube feeding may be used to increase their energy intake : </a:t>
            </a:r>
            <a:endParaRPr b="0" lang="en-US" sz="24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2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00c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In younger children, using 24 or 27 kcal/oz, or adding calorie fortifiers. </a:t>
            </a:r>
            <a:endParaRPr b="0" lang="en-US" sz="2400" spc="-1" strike="noStrike">
              <a:solidFill>
                <a:srgbClr val="3300c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 In toddlers, 30 kcal/oz </a:t>
            </a:r>
            <a:endParaRPr b="0" lang="en-US" sz="24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7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8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01640" y="-36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ahoma"/>
              </a:rPr>
              <a:t>Case study</a:t>
            </a: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72960" y="156636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Sara is 3.5 years old Saudi female , her vital sign is normal .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Wt =9 kg , Ht = 92 cm 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diet Rx : DFA.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Wt /age is &lt; 5</a:t>
            </a:r>
            <a:r>
              <a:rPr b="0" lang="en-US" sz="3200" spc="-1" strike="noStrike" baseline="30000">
                <a:solidFill>
                  <a:srgbClr val="3300cc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 %   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Ht/age is on 10</a:t>
            </a:r>
            <a:r>
              <a:rPr b="0" lang="en-US" sz="3200" spc="-1" strike="noStrike" baseline="30000">
                <a:solidFill>
                  <a:srgbClr val="3300cc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 %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65280" y="836280"/>
            <a:ext cx="6478560" cy="532908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Wt/ht is &lt; 5</a:t>
            </a:r>
            <a:r>
              <a:rPr b="0" lang="en-US" sz="3200" spc="-1" strike="noStrike" baseline="30000">
                <a:solidFill>
                  <a:srgbClr val="3300cc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 % 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IWt/age =15 kg 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IHt/age =97 cm 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% Wt /age 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=(9 /15) x100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=60 %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BMI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 = [9/(0.92) X (0.92)  ] 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= 10.6 kg/m 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BMI /Age 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&lt;5</a:t>
            </a:r>
            <a:r>
              <a:rPr b="0" lang="en-US" sz="3200" spc="-1" strike="noStrike" baseline="30000">
                <a:solidFill>
                  <a:srgbClr val="3300cc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 %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1550520"/>
            <a:ext cx="6478560" cy="4542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380880" y="368280"/>
            <a:ext cx="8382240" cy="6324480"/>
          </a:xfrm>
          <a:prstGeom prst="rect">
            <a:avLst/>
          </a:prstGeom>
          <a:ln w="0">
            <a:noFill/>
          </a:ln>
        </p:spPr>
      </p:pic>
      <p:sp>
        <p:nvSpPr>
          <p:cNvPr id="135" name="Straight Connector 5"/>
          <p:cNvSpPr/>
          <p:nvPr/>
        </p:nvSpPr>
        <p:spPr>
          <a:xfrm>
            <a:off x="2303640" y="6237360"/>
            <a:ext cx="0" cy="0"/>
          </a:xfrm>
          <a:prstGeom prst="line">
            <a:avLst/>
          </a:prstGeom>
          <a:ln w="9360">
            <a:solidFill>
              <a:srgbClr val="33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36" name="Straight Connector 7"/>
          <p:cNvSpPr/>
          <p:nvPr/>
        </p:nvSpPr>
        <p:spPr>
          <a:xfrm>
            <a:off x="1835280" y="6200640"/>
            <a:ext cx="46836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37" name="Straight Connector 12"/>
          <p:cNvSpPr/>
          <p:nvPr/>
        </p:nvSpPr>
        <p:spPr>
          <a:xfrm flipV="1">
            <a:off x="2303640" y="4473360"/>
            <a:ext cx="0" cy="1726920"/>
          </a:xfrm>
          <a:prstGeom prst="line">
            <a:avLst/>
          </a:prstGeom>
          <a:ln w="38160">
            <a:solidFill>
              <a:srgbClr val="2a00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38" name="Straight Connector 14"/>
          <p:cNvSpPr/>
          <p:nvPr/>
        </p:nvSpPr>
        <p:spPr>
          <a:xfrm flipH="1">
            <a:off x="1726920" y="4473720"/>
            <a:ext cx="576360" cy="0"/>
          </a:xfrm>
          <a:prstGeom prst="line">
            <a:avLst/>
          </a:prstGeom>
          <a:ln w="38160">
            <a:solidFill>
              <a:srgbClr val="2a00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5800" y="1550520"/>
            <a:ext cx="6478560" cy="4542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380880" y="368280"/>
            <a:ext cx="8382240" cy="6324480"/>
          </a:xfrm>
          <a:prstGeom prst="rect">
            <a:avLst/>
          </a:prstGeom>
          <a:ln w="0">
            <a:noFill/>
          </a:ln>
        </p:spPr>
      </p:pic>
      <p:sp>
        <p:nvSpPr>
          <p:cNvPr id="142" name="Straight Connector 5"/>
          <p:cNvSpPr/>
          <p:nvPr/>
        </p:nvSpPr>
        <p:spPr>
          <a:xfrm>
            <a:off x="2303640" y="6237360"/>
            <a:ext cx="0" cy="0"/>
          </a:xfrm>
          <a:prstGeom prst="line">
            <a:avLst/>
          </a:prstGeom>
          <a:ln w="9360">
            <a:solidFill>
              <a:srgbClr val="33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43" name="Straight Connector 7"/>
          <p:cNvSpPr/>
          <p:nvPr/>
        </p:nvSpPr>
        <p:spPr>
          <a:xfrm>
            <a:off x="1835280" y="5913360"/>
            <a:ext cx="46836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44" name="Straight Connector 12"/>
          <p:cNvSpPr/>
          <p:nvPr/>
        </p:nvSpPr>
        <p:spPr>
          <a:xfrm flipV="1">
            <a:off x="2303640" y="4220640"/>
            <a:ext cx="0" cy="1979640"/>
          </a:xfrm>
          <a:prstGeom prst="line">
            <a:avLst/>
          </a:prstGeom>
          <a:ln w="38160">
            <a:solidFill>
              <a:srgbClr val="2a00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45" name="Straight Connector 14"/>
          <p:cNvSpPr/>
          <p:nvPr/>
        </p:nvSpPr>
        <p:spPr>
          <a:xfrm flipH="1">
            <a:off x="1726920" y="4257720"/>
            <a:ext cx="576360" cy="0"/>
          </a:xfrm>
          <a:prstGeom prst="line">
            <a:avLst/>
          </a:prstGeom>
          <a:ln w="38160">
            <a:solidFill>
              <a:srgbClr val="2a00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46" name="Straight Connector 10"/>
          <p:cNvSpPr/>
          <p:nvPr/>
        </p:nvSpPr>
        <p:spPr>
          <a:xfrm>
            <a:off x="2303640" y="5877000"/>
            <a:ext cx="0" cy="2523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00800"/>
          </a:xfrm>
          <a:prstGeom prst="rect">
            <a:avLst/>
          </a:prstGeom>
          <a:ln w="0">
            <a:noFill/>
          </a:ln>
        </p:spPr>
      </p:pic>
      <p:sp>
        <p:nvSpPr>
          <p:cNvPr id="148" name="Straight Connector 3"/>
          <p:cNvSpPr/>
          <p:nvPr/>
        </p:nvSpPr>
        <p:spPr>
          <a:xfrm flipV="1">
            <a:off x="1908000" y="5732640"/>
            <a:ext cx="0" cy="288720"/>
          </a:xfrm>
          <a:prstGeom prst="line">
            <a:avLst/>
          </a:prstGeom>
          <a:ln w="9360">
            <a:solidFill>
              <a:srgbClr val="33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49" name="Straight Connector 5"/>
          <p:cNvSpPr/>
          <p:nvPr/>
        </p:nvSpPr>
        <p:spPr>
          <a:xfrm>
            <a:off x="1368360" y="5769000"/>
            <a:ext cx="539640" cy="0"/>
          </a:xfrm>
          <a:prstGeom prst="line">
            <a:avLst/>
          </a:prstGeom>
          <a:ln w="9360">
            <a:solidFill>
              <a:srgbClr val="33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304920" y="-27000"/>
            <a:ext cx="8458200" cy="6629400"/>
          </a:xfrm>
          <a:prstGeom prst="rect">
            <a:avLst/>
          </a:prstGeom>
          <a:ln w="0">
            <a:noFill/>
          </a:ln>
        </p:spPr>
      </p:pic>
      <p:sp>
        <p:nvSpPr>
          <p:cNvPr id="151" name="Straight Connector 5"/>
          <p:cNvSpPr/>
          <p:nvPr/>
        </p:nvSpPr>
        <p:spPr>
          <a:xfrm flipV="1">
            <a:off x="3527280" y="5265720"/>
            <a:ext cx="0" cy="611280"/>
          </a:xfrm>
          <a:prstGeom prst="line">
            <a:avLst/>
          </a:prstGeom>
          <a:ln w="9360">
            <a:solidFill>
              <a:srgbClr val="33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52" name="Straight Connector 7"/>
          <p:cNvSpPr/>
          <p:nvPr/>
        </p:nvSpPr>
        <p:spPr>
          <a:xfrm>
            <a:off x="1440000" y="5265720"/>
            <a:ext cx="2087280" cy="0"/>
          </a:xfrm>
          <a:prstGeom prst="line">
            <a:avLst/>
          </a:prstGeom>
          <a:ln w="9360">
            <a:solidFill>
              <a:srgbClr val="33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63520" y="0"/>
            <a:ext cx="697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-360" y="1092240"/>
            <a:ext cx="8296200" cy="454176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Acute malnutritional status = (9/13.4) x100 =67.16 %   stage 3 (severe acute malnutrition).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Chronic malnutrition status= (92/97) x100= 94.8% stage 0  (mild chronic malnutrition)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0" y="1550520"/>
            <a:ext cx="7894800" cy="454212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Pt need catch up growth.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Energy = 98 x15 /9  =163 x9   = 1470 kcal /day 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Protein = 1.6 x15 /9 = 24 gm /day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d"/>
                </a:solidFill>
                <a:latin typeface="Tahoma"/>
              </a:rPr>
              <a:t>Nutritional requirment:</a:t>
            </a: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Energy 163 kcal /kg         =1470 kcal /day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Protein 2.7 gm / kg          =24 gm /day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Protein 6.5 %  = 24 gm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Cho 53.5 % =197 gm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Fat 40 % = 65 gm 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00cc"/>
                </a:solidFill>
                <a:latin typeface="Tahoma"/>
              </a:rPr>
              <a:t>Thank you</a:t>
            </a:r>
            <a:endParaRPr b="0" lang="en-US" sz="80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0" y="909360"/>
            <a:ext cx="7470720" cy="569412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739c"/>
                </a:solidFill>
                <a:latin typeface="Comic Sans MS"/>
              </a:rPr>
              <a:t>Recent wt change may indicate acute nutrition issues . In children , the following looses are consider significant :</a:t>
            </a:r>
            <a:endParaRPr b="0" lang="en-US" sz="28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e739c"/>
                </a:solidFill>
                <a:latin typeface="Tahoma"/>
              </a:rPr>
              <a:t>% wt change </a:t>
            </a:r>
            <a:r>
              <a:rPr b="0" lang="en-US" sz="2200" spc="-1" strike="noStrike">
                <a:solidFill>
                  <a:srgbClr val="ce739c"/>
                </a:solidFill>
                <a:latin typeface="Tahoma"/>
              </a:rPr>
              <a:t>= </a:t>
            </a:r>
            <a:r>
              <a:rPr b="0" lang="en-US" sz="2200" spc="-1" strike="noStrike">
                <a:solidFill>
                  <a:srgbClr val="3300cc"/>
                </a:solidFill>
                <a:latin typeface="Tahoma"/>
              </a:rPr>
              <a:t>[ (actual wt –usual wt) /usual wt] x100</a:t>
            </a:r>
            <a:endParaRPr b="0" lang="en-US" sz="22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e739c"/>
                </a:solidFill>
                <a:latin typeface="Tahoma"/>
              </a:rPr>
              <a:t>% usual body wt = </a:t>
            </a:r>
            <a:r>
              <a:rPr b="0" lang="en-US" sz="2200" spc="-1" strike="noStrike">
                <a:solidFill>
                  <a:srgbClr val="3300cc"/>
                </a:solidFill>
                <a:latin typeface="Tahoma"/>
              </a:rPr>
              <a:t>(actual wt /usual wt ) x100</a:t>
            </a:r>
            <a:endParaRPr b="0" lang="en-US" sz="22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e739c"/>
                </a:solidFill>
                <a:latin typeface="Tahoma"/>
              </a:rPr>
              <a:t>% Ideal body wt (IBW) =  </a:t>
            </a:r>
            <a:r>
              <a:rPr b="1" lang="en-US" sz="2200" spc="-1" strike="noStrike" u="sng">
                <a:solidFill>
                  <a:srgbClr val="002060"/>
                </a:solidFill>
                <a:uFillTx/>
                <a:latin typeface="Tahoma"/>
              </a:rPr>
              <a:t>     </a:t>
            </a:r>
            <a:r>
              <a:rPr b="0" lang="en-US" sz="2200" spc="-1" strike="noStrike" u="sng">
                <a:solidFill>
                  <a:srgbClr val="002060"/>
                </a:solidFill>
                <a:uFillTx/>
                <a:latin typeface="Tahoma"/>
              </a:rPr>
              <a:t>actual </a:t>
            </a:r>
            <a:r>
              <a:rPr b="0" lang="en-US" sz="2200" spc="-1" strike="noStrike" u="sng">
                <a:solidFill>
                  <a:srgbClr val="3300cc"/>
                </a:solidFill>
                <a:uFillTx/>
                <a:latin typeface="Tahoma"/>
              </a:rPr>
              <a:t>wt       </a:t>
            </a:r>
            <a:r>
              <a:rPr b="0" lang="en-US" sz="2200" spc="-1" strike="noStrike">
                <a:solidFill>
                  <a:srgbClr val="3300cc"/>
                </a:solidFill>
                <a:latin typeface="Tahoma"/>
              </a:rPr>
              <a:t>x100</a:t>
            </a:r>
            <a:endParaRPr b="0" lang="en-US" sz="22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cc"/>
                </a:solidFill>
                <a:latin typeface="Tahoma"/>
              </a:rPr>
              <a:t>                                   </a:t>
            </a:r>
            <a:r>
              <a:rPr b="0" lang="en-US" sz="2200" spc="-1" strike="noStrike">
                <a:solidFill>
                  <a:srgbClr val="3300cc"/>
                </a:solidFill>
                <a:latin typeface="Tahoma"/>
              </a:rPr>
              <a:t>IBW at 50</a:t>
            </a:r>
            <a:r>
              <a:rPr b="0" lang="en-US" sz="2200" spc="-1" strike="noStrike" baseline="30000">
                <a:solidFill>
                  <a:srgbClr val="3300cc"/>
                </a:solidFill>
                <a:latin typeface="Tahoma"/>
              </a:rPr>
              <a:t>th</a:t>
            </a:r>
            <a:r>
              <a:rPr b="0" lang="en-US" sz="22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ar-SA" sz="22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00cc"/>
                </a:solidFill>
                <a:latin typeface="Tahoma"/>
              </a:rPr>
              <a:t>percentile for age</a:t>
            </a:r>
            <a:endParaRPr b="0" lang="en-US" sz="22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cc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31640" y="2600280"/>
          <a:ext cx="6882120" cy="1285920"/>
        </p:xfrm>
        <a:graphic>
          <a:graphicData uri="http://schemas.openxmlformats.org/drawingml/2006/table">
            <a:tbl>
              <a:tblPr/>
              <a:tblGrid>
                <a:gridCol w="1721160"/>
                <a:gridCol w="1719000"/>
                <a:gridCol w="1720800"/>
                <a:gridCol w="1721160"/>
              </a:tblGrid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eek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33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e4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month</a:t>
                      </a:r>
                      <a:endParaRPr b="0" lang="en-US" sz="1800" spc="-1" strike="noStrike">
                        <a:solidFill>
                          <a:srgbClr val="33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e4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month</a:t>
                      </a:r>
                      <a:endParaRPr b="0" lang="en-US" sz="1800" spc="-1" strike="noStrike">
                        <a:solidFill>
                          <a:srgbClr val="33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e4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month</a:t>
                      </a:r>
                      <a:endParaRPr b="0" lang="en-US" sz="1800" spc="-1" strike="noStrike">
                        <a:solidFill>
                          <a:srgbClr val="33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e4b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00cc"/>
                          </a:solidFill>
                          <a:latin typeface="Tahoma"/>
                        </a:rPr>
                        <a:t>2%</a:t>
                      </a:r>
                      <a:endParaRPr b="0" lang="en-US" sz="1800" spc="-1" strike="noStrike">
                        <a:solidFill>
                          <a:srgbClr val="33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00cc"/>
                          </a:solidFill>
                          <a:latin typeface="Tahoma"/>
                        </a:rPr>
                        <a:t>5%</a:t>
                      </a:r>
                      <a:endParaRPr b="0" lang="en-US" sz="1800" spc="-1" strike="noStrike">
                        <a:solidFill>
                          <a:srgbClr val="33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00cc"/>
                          </a:solidFill>
                          <a:latin typeface="Tahoma"/>
                        </a:rPr>
                        <a:t>7.5%</a:t>
                      </a:r>
                      <a:endParaRPr b="0" lang="en-US" sz="1800" spc="-1" strike="noStrike">
                        <a:solidFill>
                          <a:srgbClr val="33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00cc"/>
                          </a:solidFill>
                          <a:latin typeface="Tahoma"/>
                        </a:rPr>
                        <a:t>10%</a:t>
                      </a:r>
                      <a:endParaRPr b="0" lang="en-US" sz="1800" spc="-1" strike="noStrike">
                        <a:solidFill>
                          <a:srgbClr val="33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Content Placeholder 2"/>
          <p:cNvSpPr/>
          <p:nvPr/>
        </p:nvSpPr>
        <p:spPr>
          <a:xfrm>
            <a:off x="0" y="909720"/>
            <a:ext cx="7748640" cy="56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73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ca00"/>
                </a:solidFill>
                <a:latin typeface="Tahoma"/>
              </a:rPr>
              <a:t>Ht /Age :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Ht / Age &lt;5th % indicate chronic state of malnutrition (stunting) .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73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ca00"/>
                </a:solidFill>
                <a:latin typeface="Tahoma"/>
              </a:rPr>
              <a:t>Wt /Ht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The wt of child at specific stature regardless of age.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73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ca00"/>
                </a:solidFill>
                <a:latin typeface="Tahoma"/>
              </a:rPr>
              <a:t>BMI :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For children of age 2-20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BMI =WT /HT2 X10000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7c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ca00"/>
                </a:solidFill>
                <a:latin typeface="Tahoma"/>
              </a:rPr>
              <a:t>Head circumference </a:t>
            </a:r>
            <a:r>
              <a:rPr b="1" lang="en-US" sz="2000" spc="-1" strike="noStrike">
                <a:solidFill>
                  <a:srgbClr val="f7ca00"/>
                </a:solidFill>
                <a:latin typeface="Tahoma"/>
              </a:rPr>
              <a:t>( birth – 3 years ) </a:t>
            </a:r>
            <a:r>
              <a:rPr b="1" lang="en-US" sz="2800" spc="-1" strike="noStrike">
                <a:solidFill>
                  <a:srgbClr val="f7ca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Less sensitive indicator for nutritional status.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252360"/>
            <a:ext cx="891540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336600" y="690480"/>
            <a:ext cx="715644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4b4b"/>
                </a:solidFill>
                <a:latin typeface="Comic Sans MS"/>
              </a:rPr>
              <a:t>-Biochemical: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Albumin, Hemoglobin, cholesterol, TG, Serum glucose.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ahoma"/>
              </a:rPr>
              <a:t>Cholesterol: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ahoma"/>
              </a:rPr>
              <a:t>Children how should be tested at age 2 years or older :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At least on parent how has been found to have high blood cholesterol &gt; 240 mg / dl or greater .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A family history of early heart disease &lt; 55 years in a parent or grandparent .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701640" y="1347840"/>
            <a:ext cx="615636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4b4b"/>
                </a:solidFill>
                <a:latin typeface="Comic Sans MS"/>
              </a:rPr>
              <a:t>-Clinical :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APGAR score diagnosis or history of chronic or acute condition :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3300cc"/>
                </a:solidFill>
                <a:latin typeface="Times New Roman"/>
              </a:rPr>
              <a:t>      Activity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P   </a:t>
            </a:r>
            <a:r>
              <a:rPr b="0" lang="en-US" sz="2400" spc="-1" strike="noStrike">
                <a:solidFill>
                  <a:srgbClr val="3300cc"/>
                </a:solidFill>
                <a:latin typeface="Times New Roman"/>
              </a:rPr>
              <a:t>    Pulse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G  </a:t>
            </a:r>
            <a:r>
              <a:rPr b="0" lang="en-US" sz="2400" spc="-1" strike="noStrike">
                <a:solidFill>
                  <a:srgbClr val="3300cc"/>
                </a:solidFill>
                <a:latin typeface="Times New Roman"/>
              </a:rPr>
              <a:t>    Response to stimuli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3300cc"/>
                </a:solidFill>
                <a:latin typeface="Times New Roman"/>
              </a:rPr>
              <a:t>      Appearance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3300cc"/>
                </a:solidFill>
                <a:latin typeface="Times New Roman"/>
              </a:rPr>
              <a:t>      Respiratory statues immediately at the time of birth .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2308320" y="544680"/>
            <a:ext cx="45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739c"/>
                </a:solidFill>
                <a:latin typeface="Comic Sans MS"/>
              </a:rPr>
              <a:t>Nutrient need: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74920" y="1311120"/>
            <a:ext cx="39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4b4b"/>
                </a:solidFill>
                <a:latin typeface="Comic Sans MS"/>
              </a:rPr>
              <a:t>Energy and protein: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1932120"/>
            <a:ext cx="914400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12:45:36Z</dcterms:created>
  <dc:creator>Presentation Magazine</dc:creator>
  <dc:description/>
  <dc:language>en-US</dc:language>
  <cp:lastModifiedBy>Leena</cp:lastModifiedBy>
  <dcterms:modified xsi:type="dcterms:W3CDTF">2012-02-06T03:57:41Z</dcterms:modified>
  <cp:revision>59</cp:revision>
  <dc:subject/>
  <dc:title>Hands Template</dc:title>
</cp:coreProperties>
</file>