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A31-07BF-49F0-966E-4CAE0942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EC7-DCD8-402F-B737-5984753B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9CF-8EC0-4346-AFAC-5443A926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82B-6882-4D65-94C3-4616211E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511D-3992-4B91-8847-6C84AD4D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C005-0E8B-4586-9592-030BBEEB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A9C4-76FE-4724-851D-233CDBE5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58E7-4807-443F-A077-D8E27036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B70A-AFD6-4E8A-93C3-D67CFD0C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60CF-95EB-4C86-BD95-405B5FF0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FEAB-936F-4AC4-820A-9D5BF604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969-AC48-4E5A-9C35-536B5B40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F4CB-E09F-4206-8DB7-632D1EB4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844E-BA41-4272-A39F-BCD813DB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AFC7-D4CD-44AB-B069-93284209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0978-D1FA-4D27-A4EB-DDED8538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A902-EFC1-4587-A92A-FAE48115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A87-7CD8-4A5B-8651-AD93F9B7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8DD-98B5-493C-AEE7-739AAB71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355-CDC4-46D1-A975-CC4F34BD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775-E6C0-4CAF-8059-B032C8F3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410-8E7E-436D-96C7-13B5FB9E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C71-86E9-4E8E-885D-BDA740FE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0DC-3CE9-43E2-9604-ED0C5492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1D21-A2B3-4467-81B2-51E293B925C0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9BAA-31A4-4B46-A870-C6B84195488C}" type="slidenum">
              <a:rPr b="0" lang="en-GB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06472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Comic Sans MS"/>
              </a:rPr>
              <a:t>Inferential Statistics 4: Nearest Neighbour Analysis</a:t>
            </a:r>
            <a:endParaRPr b="0" lang="en-US" sz="4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dvanced Higher Geograph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835280" y="5300640"/>
            <a:ext cx="70452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llie Bray – Knox Academy, East Loth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sagtlogo"/>
          <p:cNvPicPr/>
          <p:nvPr/>
        </p:nvPicPr>
        <p:blipFill>
          <a:blip r:embed="rId1"/>
          <a:stretch/>
        </p:blipFill>
        <p:spPr>
          <a:xfrm>
            <a:off x="409680" y="5110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ttlements often appear on the map as dots. Dot distributions are commonly used in geography, yet their patterns are difficult to describ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ne way in which patterns can be measured objectively is by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nearest neighbour analysi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can be used to identify a tendency towards clustering or dispersion for shop, industries, settlements, et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earest neighbour analysis gives a index that enables one region to be compared with anoth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Formula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0" y="1413000"/>
            <a:ext cx="91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 good one to sit down for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324000" y="2997360"/>
            <a:ext cx="8820000" cy="3778560"/>
            <a:chOff x="324000" y="2997360"/>
            <a:chExt cx="8820000" cy="3778560"/>
          </a:xfrm>
        </p:grpSpPr>
        <p:sp>
          <p:nvSpPr>
            <p:cNvPr id="220" name="Text Box 9"/>
            <p:cNvSpPr/>
            <p:nvPr/>
          </p:nvSpPr>
          <p:spPr>
            <a:xfrm>
              <a:off x="2916360" y="2997360"/>
              <a:ext cx="32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GB" sz="3200" spc="-1" strike="noStrike" baseline="-25000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 = 2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Ď √(n/a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324000" y="4292640"/>
              <a:ext cx="5111640" cy="1618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mic Sans MS"/>
                </a:rPr>
                <a:t>Rn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is the nearest neighbour index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mic Sans MS"/>
                </a:rPr>
                <a:t>D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= the average distance between each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point and its nearest neighbou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 = the number of points under stu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mic Sans MS"/>
                </a:rPr>
                <a:t>A </a:t>
              </a: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= the size of the area under stu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5"/>
            <p:cNvSpPr/>
            <p:nvPr/>
          </p:nvSpPr>
          <p:spPr>
            <a:xfrm>
              <a:off x="5651640" y="4365720"/>
              <a:ext cx="3492360" cy="241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Ď =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∑d / 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Where d is the distance between each point and its nearest neighbou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WordArt 16"/>
            <p:cNvSpPr txBox="1"/>
            <p:nvPr/>
          </p:nvSpPr>
          <p:spPr>
            <a:xfrm>
              <a:off x="5508720" y="3789360"/>
              <a:ext cx="1685880" cy="87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note tha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formula produced by the nearest neighbour analysis produces a figure expressed as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(the nearest neighbour index) which measures the extent to which the pattern is clustered, random or regula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lustered: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 0 All the dots are close to the same poin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andom: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= 1.0 There is no patter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gular: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= 2.15 There is a perfectly uniform pattern where each dot is equidistant from its neighbour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Comic Sans MS"/>
              </a:rPr>
              <a:t>How to undertake a nearest neighbour analysis</a:t>
            </a:r>
            <a:endParaRPr b="0" lang="en-US" sz="40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781000"/>
            <a:ext cx="91440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sure the straight line distance between each point and its nearest neighbou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tal all of the distances measured above (∑d/n).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is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Ď in the formul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culate the total area of your study are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t your calculations into the formula to calculate (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95280" y="1628640"/>
            <a:ext cx="842472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rea of the study must have a minimum of 30 points (settlements, shops, plant speci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0" y="0"/>
            <a:ext cx="370836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d the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1773360"/>
            <a:ext cx="84564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ing the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number, refer to the diagram below to determine how regular or clustered the pattern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WordArt 6"/>
          <p:cNvSpPr txBox="1"/>
          <p:nvPr/>
        </p:nvSpPr>
        <p:spPr>
          <a:xfrm>
            <a:off x="0" y="5711760"/>
            <a:ext cx="91440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ow look for geographical factors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o explain your findings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1" name="Picture 9" descr="rank size rule"/>
          <p:cNvPicPr/>
          <p:nvPr/>
        </p:nvPicPr>
        <p:blipFill>
          <a:blip r:embed="rId7"/>
          <a:stretch/>
        </p:blipFill>
        <p:spPr>
          <a:xfrm>
            <a:off x="2700360" y="2781360"/>
            <a:ext cx="6191280" cy="28353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0"/>
          <p:cNvSpPr/>
          <p:nvPr/>
        </p:nvSpPr>
        <p:spPr>
          <a:xfrm>
            <a:off x="179280" y="4941720"/>
            <a:ext cx="2376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rning and Teaching Scotland. From Geographical Measurements and Techniques: Statistical Awareness,  June 2000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18:30:30Z</dcterms:created>
  <dc:creator>LT Scotland</dc:creator>
  <dc:description/>
  <dc:language>en-US</dc:language>
  <cp:lastModifiedBy>ANBARAH BELAL</cp:lastModifiedBy>
  <dcterms:modified xsi:type="dcterms:W3CDTF">2014-04-21T02:58:04Z</dcterms:modified>
  <cp:revision>17</cp:revision>
  <dc:subject/>
  <dc:title>Inferential Statistics 4: Nearest Neighbour Analysis</dc:title>
</cp:coreProperties>
</file>