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56E-89E9-417F-AF9F-6024567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CED-8AEE-4897-97C6-CDB3503E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274-B741-4372-A6D8-8F0FF7BA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FA-71DB-4905-8BDA-996F566C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B815-4A93-47B8-8320-A34688E1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5ACE-0929-41D9-B289-51AFFFF2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D921-9C2D-4682-BC33-94F895F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1E07-1AF2-4E7E-9404-BF7AF03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387-13CC-491A-A61B-E076120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1DD1-C8B4-429D-8368-563677C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C15-4A92-4B32-A63B-A417B46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B0E-01F0-45C1-A5AE-C64AE96E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036-CA89-436A-8560-7BAD672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B48-B1E8-45E0-927A-31DD6BD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BCC8-2305-40E8-AAAC-37424D6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9F3F-2726-43FE-A35F-2435DF82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3F9C-AF22-4FE1-BE3B-D3B3C491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091-9F7A-419B-B85A-82F51C5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FA9-1DBE-41F1-A9B5-4C7EBAE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DBD-25A2-426B-8397-1112001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6DE-50C3-47E6-B2DA-54F2817C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25F-7A5D-4AF8-9E3F-E78C416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229-FFD1-4EEE-961F-D5C4EBA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152-A9C7-4066-BAC9-1999E77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8D9F-B4EF-4342-B436-7C18F0D505F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6CA3-CF19-4E49-B752-34850F8AED04}" type="slidenum">
              <a:rPr b="0" lang="en-GB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064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Comic Sans MS"/>
              </a:rPr>
              <a:t>Inferential Statistics 4: Nearest Neighbour Analysis</a:t>
            </a:r>
            <a:endParaRPr b="0" lang="en-US" sz="4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dvanced Higher Geograph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835280" y="5300640"/>
            <a:ext cx="70452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llie Bray – Knox Academy, East Loth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sagtlogo"/>
          <p:cNvPicPr/>
          <p:nvPr/>
        </p:nvPicPr>
        <p:blipFill>
          <a:blip r:embed="rId1"/>
          <a:stretch/>
        </p:blipFill>
        <p:spPr>
          <a:xfrm>
            <a:off x="409680" y="511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ttlements often appear on the map as dots. Dot distributions are commonly used in geography, yet their patterns are difficult to describ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way in which patterns can be measured objectively is by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nearest neighbour analys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can be used to identify a tendency towards clustering or dispersion for shop, industries, settlement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earest neighbour analysis gives a index that enables one region to be compared with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Formula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good one to sit down for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324000" y="2997360"/>
            <a:ext cx="8820000" cy="3778560"/>
            <a:chOff x="324000" y="2997360"/>
            <a:chExt cx="8820000" cy="3778560"/>
          </a:xfrm>
        </p:grpSpPr>
        <p:sp>
          <p:nvSpPr>
            <p:cNvPr id="220" name="Text Box 9"/>
            <p:cNvSpPr/>
            <p:nvPr/>
          </p:nvSpPr>
          <p:spPr>
            <a:xfrm>
              <a:off x="2916360" y="2997360"/>
              <a:ext cx="32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GB" sz="3200" spc="-1" strike="noStrike" baseline="-25000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 = 2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Ď √(n/a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24000" y="4292640"/>
              <a:ext cx="5111640" cy="1618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Rn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is the nearest neighbour index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D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= the average distance between each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int and its nearest neighbou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= the number of points under stu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A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= the size of the area under stu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5651640" y="4365720"/>
              <a:ext cx="3492360" cy="241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Ď =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∑d / 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Where d is the distance between each point and its nearest neighb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WordArt 16"/>
            <p:cNvSpPr txBox="1"/>
            <p:nvPr/>
          </p:nvSpPr>
          <p:spPr>
            <a:xfrm>
              <a:off x="5508720" y="3789360"/>
              <a:ext cx="168588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note tha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formula produced by the nearest neighbour analysis produces a figure expressed as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(the nearest neighbour index) which measures the extent to which the pattern is clustered, random or regul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lustered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0 All the dots are close to the same poin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andom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= 1.0 There is no patter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gular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= 2.15 There is a perfectly uniform pattern where each dot is equidistant from its neighbour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Comic Sans MS"/>
              </a:rPr>
              <a:t>How to undertake a nearest neighbour analysis</a:t>
            </a:r>
            <a:endParaRPr b="0" lang="en-US" sz="40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sure the straight line distance between each point and its nearest neighbou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tal all of the distances measured above (∑d/n).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Ď in the formul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ulate the total area of your study are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t your calculations into the formula to calculate (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95280" y="1628640"/>
            <a:ext cx="842472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rea of the study must have a minimum of 30 points (settlements, shops, plant speci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0" y="0"/>
            <a:ext cx="3708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d th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1773360"/>
            <a:ext cx="84564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ing the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number, refer to the diagram below to determine how regular or clustered the patter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0" y="5711760"/>
            <a:ext cx="91440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w look for geographical factor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 explain your finding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9" descr="rank size rule"/>
          <p:cNvPicPr/>
          <p:nvPr/>
        </p:nvPicPr>
        <p:blipFill>
          <a:blip r:embed="rId7"/>
          <a:stretch/>
        </p:blipFill>
        <p:spPr>
          <a:xfrm>
            <a:off x="2700360" y="2781360"/>
            <a:ext cx="6191280" cy="2835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"/>
          <p:cNvSpPr/>
          <p:nvPr/>
        </p:nvSpPr>
        <p:spPr>
          <a:xfrm>
            <a:off x="179280" y="4941720"/>
            <a:ext cx="237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rning and Teaching Scotland. From Geographical Measurements and Techniques: Statistical Awareness,  June 2000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8:30:30Z</dcterms:created>
  <dc:creator>LT Scotland</dc:creator>
  <dc:description/>
  <dc:language>en-US</dc:language>
  <cp:lastModifiedBy>ANBARAH BELAL</cp:lastModifiedBy>
  <dcterms:modified xsi:type="dcterms:W3CDTF">2014-04-21T02:58:04Z</dcterms:modified>
  <cp:revision>17</cp:revision>
  <dc:subject/>
  <dc:title>Inferential Statistics 4: Nearest Neighbour Analysis</dc:title>
</cp:coreProperties>
</file>