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7280" y="-360"/>
            <a:ext cx="2970360" cy="46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5080" y="688680"/>
            <a:ext cx="4595760" cy="344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38080" y="4343400"/>
            <a:ext cx="5029200" cy="4145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728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045CA4-4B26-43C1-B483-5026128F0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38080" y="4343400"/>
            <a:ext cx="5029200" cy="4145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DNA chain with the nucleotide sequence shown written in the 5'→3' direction. A 3'→5'-phosphodiester bond is shown highlighted in the blue box, and the deoxyribose:phosphate backbone is shaded in yellow. B. The DNA chain written in a more stylized form, emphasizing the deoxyribose–phosphate backbone. C. A simpler representation of the nucleotide sequence. D. The simplest (and most common) representation, with the abbreviations for the bases written in the conventional 5'→3' dir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764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F7101B-F7AD-4134-9552-89887685BD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38080" y="4343400"/>
            <a:ext cx="5029200" cy="4145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complementary DNA sequences. T = thymine; A = adenine; C = cytosine; G = guan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764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6CF3A2-475A-4F07-90B2-B89ADD1577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38080" y="4343400"/>
            <a:ext cx="5029200" cy="4145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double helix, illustrating some of its major structural featu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764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A26775-51D7-4EA4-9026-D169CC225E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38080" y="4343400"/>
            <a:ext cx="5029200" cy="4145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 of human DNA, illustrating the structure of nucleosomes. H = hist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764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BAB7BA-E62C-400F-908E-55A1F9A109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38080" y="4343400"/>
            <a:ext cx="5029200" cy="4145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al organization of eukaryotic DNA. [Note: A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paction is seen from 1 to 4.] H = hist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764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B341E8-F745-43C0-83FE-79316633F0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4343400"/>
            <a:ext cx="5029200" cy="4145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ukaryotic cell cycle. [Note: Cells can leave the cell cycle and enter a reversible quiescent state called 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764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9D3A7B-81B6-41C9-9AF2-5086A9CEFF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38080" y="4343400"/>
            <a:ext cx="5029200" cy="4145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ies of eukaryotic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polymeras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*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'→5' exonucleas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764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628E44-1C52-420E-9500-6405CE7459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21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92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97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21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92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0200" y="1599840"/>
            <a:ext cx="85248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216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4920" y="234612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97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216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4920" y="4271400"/>
            <a:ext cx="277344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0200" y="1599840"/>
            <a:ext cx="85248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3720" y="427140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3720" y="2346120"/>
            <a:ext cx="420336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9760" y="4271400"/>
            <a:ext cx="86137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6004080" y="6089760"/>
            <a:ext cx="2820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3" name="Picture 10" descr="All Slide"/>
          <p:cNvPicPr/>
          <p:nvPr/>
        </p:nvPicPr>
        <p:blipFill>
          <a:blip r:embed="rId2"/>
          <a:stretch/>
        </p:blipFill>
        <p:spPr>
          <a:xfrm>
            <a:off x="0" y="0"/>
            <a:ext cx="9144000" cy="11444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1"/>
          <p:cNvSpPr/>
          <p:nvPr/>
        </p:nvSpPr>
        <p:spPr>
          <a:xfrm>
            <a:off x="303120" y="6581880"/>
            <a:ext cx="88408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48512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0" y="6581880"/>
            <a:ext cx="91440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4 Wolters Kluwer Health | Lippincott Williams &amp; Wilkins</a:t>
            </a:r>
            <a:endParaRPr b="1" lang="en-US" sz="10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9"/>
          <p:cNvSpPr/>
          <p:nvPr/>
        </p:nvSpPr>
        <p:spPr>
          <a:xfrm>
            <a:off x="1219320" y="2666880"/>
            <a:ext cx="6705360" cy="3505320"/>
          </a:xfrm>
          <a:prstGeom prst="rect">
            <a:avLst/>
          </a:prstGeom>
          <a:noFill/>
          <a:ln w="19080">
            <a:solidFill>
              <a:srgbClr val="1974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43" name="Picture 22" descr="Master slide"/>
          <p:cNvPicPr/>
          <p:nvPr/>
        </p:nvPicPr>
        <p:blipFill>
          <a:blip r:embed="rId2"/>
          <a:stretch/>
        </p:blipFill>
        <p:spPr>
          <a:xfrm>
            <a:off x="0" y="0"/>
            <a:ext cx="9144000" cy="20001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4"/>
          <p:cNvSpPr/>
          <p:nvPr/>
        </p:nvSpPr>
        <p:spPr>
          <a:xfrm>
            <a:off x="0" y="6581880"/>
            <a:ext cx="91440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4 Wolters Kluwer Health | Lippincott Williams &amp; Wilkins</a:t>
            </a:r>
            <a:endParaRPr b="1" lang="en-US" sz="10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0200" y="1599840"/>
            <a:ext cx="852480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9760" y="2346120"/>
            <a:ext cx="8613720" cy="36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840" y="1250640"/>
            <a:ext cx="852516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OVERVIEW (continued)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91" name="Picture 2" descr="D:\Arun-Backup\project\Ferrier\Image_Bank\image_bank\images\jpg\figure_29.2.jpg"/>
          <p:cNvPicPr/>
          <p:nvPr/>
        </p:nvPicPr>
        <p:blipFill>
          <a:blip r:embed="rId1"/>
          <a:stretch/>
        </p:blipFill>
        <p:spPr>
          <a:xfrm>
            <a:off x="866880" y="2289240"/>
            <a:ext cx="7439040" cy="423684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 flipH="1">
            <a:off x="538200" y="1812960"/>
            <a:ext cx="22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Figure 29.2</a:t>
            </a:r>
            <a:endParaRPr b="1" lang="en-US" sz="2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0200" y="1221840"/>
            <a:ext cx="852480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STRUCTURE OF DNA (continued)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94" name="Picture 2" descr="D:\Arun-Backup\project\Ferrier\Image_Bank\image_bank\images\jpg\figure_29.4.jpg"/>
          <p:cNvPicPr/>
          <p:nvPr/>
        </p:nvPicPr>
        <p:blipFill>
          <a:blip r:embed="rId1"/>
          <a:stretch/>
        </p:blipFill>
        <p:spPr>
          <a:xfrm>
            <a:off x="2986200" y="1838160"/>
            <a:ext cx="5495760" cy="4581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 flipH="1">
            <a:off x="538200" y="2049480"/>
            <a:ext cx="2233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Figure 29.4</a:t>
            </a:r>
            <a:endParaRPr b="1" lang="en-US" sz="2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4520" y="1309320"/>
            <a:ext cx="852480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STRUCTURE OF DNA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97" name="Picture 2" descr="D:\Arun-Backup\project\Ferrier\Image_Bank\image_bank\images\jpg\figure_29.3.jpg"/>
          <p:cNvPicPr/>
          <p:nvPr/>
        </p:nvPicPr>
        <p:blipFill>
          <a:blip r:embed="rId1"/>
          <a:stretch/>
        </p:blipFill>
        <p:spPr>
          <a:xfrm>
            <a:off x="3517920" y="1755720"/>
            <a:ext cx="2536920" cy="472608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 flipH="1">
            <a:off x="538200" y="1954080"/>
            <a:ext cx="2233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Figure 29.3</a:t>
            </a:r>
            <a:endParaRPr b="1" lang="en-US" sz="2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8840" y="1195200"/>
            <a:ext cx="8524800" cy="71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ORGANIZATION OF EUKARYOTIC DNA (continued)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100" name="Picture 2" descr="D:\Arun-Backup\project\Ferrier\Image_Bank\image_bank\images\jpg\figure_29.26.jpg"/>
          <p:cNvPicPr/>
          <p:nvPr/>
        </p:nvPicPr>
        <p:blipFill>
          <a:blip r:embed="rId1"/>
          <a:stretch/>
        </p:blipFill>
        <p:spPr>
          <a:xfrm>
            <a:off x="3513240" y="1884240"/>
            <a:ext cx="3517920" cy="45309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 flipH="1">
            <a:off x="538200" y="2378160"/>
            <a:ext cx="2440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Figure 29.26</a:t>
            </a:r>
            <a:endParaRPr b="1" lang="en-US" sz="22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-1425600" y="41148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7680" y="1165320"/>
            <a:ext cx="852480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ORGANIZATION OF EUKARYOTIC DNA (continued)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104" name="Picture 2" descr="D:\Arun-Backup\project\Ferrier\Image_Bank\image_bank\images\jpg\figure_29.27.jpg"/>
          <p:cNvPicPr/>
          <p:nvPr/>
        </p:nvPicPr>
        <p:blipFill>
          <a:blip r:embed="rId1"/>
          <a:stretch/>
        </p:blipFill>
        <p:spPr>
          <a:xfrm>
            <a:off x="1096920" y="2535120"/>
            <a:ext cx="6864480" cy="40039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 flipH="1">
            <a:off x="538200" y="2049480"/>
            <a:ext cx="2440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Figure 29.27</a:t>
            </a:r>
            <a:endParaRPr b="1" lang="en-US" sz="2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0200" y="1253880"/>
            <a:ext cx="852480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EUKARYOTIC DNA REPLICATION (continued)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107" name="Picture 2" descr="D:\Arun-Backup\project\Ferrier\Image_Bank\image_bank\images\jpg\figure_29.22.jpg"/>
          <p:cNvPicPr/>
          <p:nvPr/>
        </p:nvPicPr>
        <p:blipFill>
          <a:blip r:embed="rId1"/>
          <a:stretch/>
        </p:blipFill>
        <p:spPr>
          <a:xfrm>
            <a:off x="3168720" y="1895400"/>
            <a:ext cx="5013360" cy="4560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 flipH="1">
            <a:off x="538200" y="2127240"/>
            <a:ext cx="2440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Figure 29.22</a:t>
            </a:r>
            <a:endParaRPr b="1" lang="en-US" sz="2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520" y="1255320"/>
            <a:ext cx="852480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6ec4"/>
                </a:solidFill>
                <a:latin typeface="Verdana"/>
              </a:rPr>
              <a:t>EUKARYOTIC DNA REPLICATION (continued)</a:t>
            </a:r>
            <a:endParaRPr b="1" lang="en-US" sz="2600" spc="-1" strike="noStrike">
              <a:solidFill>
                <a:srgbClr val="186ec4"/>
              </a:solidFill>
              <a:latin typeface="Verdana"/>
            </a:endParaRPr>
          </a:p>
        </p:txBody>
      </p:sp>
      <p:pic>
        <p:nvPicPr>
          <p:cNvPr id="110" name="Picture 2" descr="D:\Arun-Backup\project\Ferrier\Image_Bank\image_bank\images\jpg\figure_29.23.jpg"/>
          <p:cNvPicPr/>
          <p:nvPr/>
        </p:nvPicPr>
        <p:blipFill>
          <a:blip r:embed="rId1"/>
          <a:stretch/>
        </p:blipFill>
        <p:spPr>
          <a:xfrm>
            <a:off x="3325680" y="1828800"/>
            <a:ext cx="4640400" cy="45464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 flipH="1">
            <a:off x="538200" y="1986120"/>
            <a:ext cx="2440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Figure 29.23</a:t>
            </a:r>
            <a:endParaRPr b="1" lang="en-US" sz="22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9:07:27Z</dcterms:created>
  <dc:creator>Dale Gray</dc:creator>
  <dc:description/>
  <dc:language>en-US</dc:language>
  <cp:lastModifiedBy>Khalid Akkour</cp:lastModifiedBy>
  <cp:lastPrinted>2001-01-03T19:47:24Z</cp:lastPrinted>
  <dcterms:modified xsi:type="dcterms:W3CDTF">2016-09-26T05:10:32Z</dcterms:modified>
  <cp:revision>1505</cp:revision>
  <dc:subject/>
  <dc:title>LWW PPT Slide Template Master</dc:title>
</cp:coreProperties>
</file>