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8868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1E5235-5AE5-4CD6-82AC-E967E348A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NA chain with the nucleotide sequence shown written in the 5'→3' direction. A 3'→5'-phosphodiester bond is shown highlighted in the blue box, and the deoxyribose:phosphate backbone is shaded in yellow. B. The DNA chain written in a more stylized form, emphasizing the deoxyribose–phosphate backbone. C. A simpler representation of the nucleotide sequence. D. The simplest (and most common) representation, with the abbreviations for the bases written in the conventional 5'→3' dir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175BE9-D474-4B2D-866B-F3DFE6E59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plementary DNA sequences. T = thymine; A = adenine; C = cytosine; G = guan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8FBA36-AFA1-452A-9B7E-F5BFE658A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double helix, illustrating some of its major structural feat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056CE3-C351-403D-8AC9-BE946425D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human DNA, illustrating the structure of nucleosomes. H = hist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28CF0A-E0D0-49EC-A449-01E38883E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organization of eukaryotic DNA. [Note: A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action is seen from 1 to 4.] H = hist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0CBADE-2600-4C72-962C-13837060B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ukaryotic cell cycle. [Note: Cells can leave the cell cycle and enter a reversible quiescent state called 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785372-1EC5-4537-81D5-3E1B5BF172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of eukaryotic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olymer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'→5' exonucle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7FA08D-12D9-460C-870B-1FA30B0EC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0200" y="1599840"/>
            <a:ext cx="8524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0200" y="1599840"/>
            <a:ext cx="8524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6004080" y="6089760"/>
            <a:ext cx="2820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3" name="Picture 10" descr="All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303120" y="6581880"/>
            <a:ext cx="8840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48512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581880"/>
            <a:ext cx="9144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 Wolters Kluwer Health | Lippincott Williams &amp; Wilkins</a:t>
            </a:r>
            <a:endParaRPr b="1" lang="en-US" sz="10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9"/>
          <p:cNvSpPr/>
          <p:nvPr/>
        </p:nvSpPr>
        <p:spPr>
          <a:xfrm>
            <a:off x="1219320" y="2666880"/>
            <a:ext cx="6705360" cy="3505320"/>
          </a:xfrm>
          <a:prstGeom prst="rect">
            <a:avLst/>
          </a:prstGeom>
          <a:noFill/>
          <a:ln w="19080">
            <a:solidFill>
              <a:srgbClr val="1974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3" name="Picture 22" descr="Master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4"/>
          <p:cNvSpPr/>
          <p:nvPr/>
        </p:nvSpPr>
        <p:spPr>
          <a:xfrm>
            <a:off x="0" y="6581880"/>
            <a:ext cx="9144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 Wolters Kluwer Health | Lippincott Williams &amp; Wilkins</a:t>
            </a:r>
            <a:endParaRPr b="1" lang="en-US" sz="10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250640"/>
            <a:ext cx="852516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VERVIEW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1" name="Picture 2" descr="D:\Arun-Backup\project\Ferrier\Image_Bank\image_bank\images\jpg\figure_29.2.jpg"/>
          <p:cNvPicPr/>
          <p:nvPr/>
        </p:nvPicPr>
        <p:blipFill>
          <a:blip r:embed="rId1"/>
          <a:stretch/>
        </p:blipFill>
        <p:spPr>
          <a:xfrm>
            <a:off x="866880" y="2289240"/>
            <a:ext cx="7439040" cy="423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 flipH="1">
            <a:off x="538200" y="1812960"/>
            <a:ext cx="22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0200" y="1221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STRUCTURE OF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4" name="Picture 2" descr="D:\Arun-Backup\project\Ferrier\Image_Bank\image_bank\images\jpg\figure_29.4.jpg"/>
          <p:cNvPicPr/>
          <p:nvPr/>
        </p:nvPicPr>
        <p:blipFill>
          <a:blip r:embed="rId1"/>
          <a:stretch/>
        </p:blipFill>
        <p:spPr>
          <a:xfrm>
            <a:off x="2986200" y="1838160"/>
            <a:ext cx="5495760" cy="4581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 flipH="1">
            <a:off x="538200" y="2049480"/>
            <a:ext cx="22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4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4520" y="130932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STRUCTURE OF DNA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7" name="Picture 2" descr="D:\Arun-Backup\project\Ferrier\Image_Bank\image_bank\images\jpg\figure_29.3.jpg"/>
          <p:cNvPicPr/>
          <p:nvPr/>
        </p:nvPicPr>
        <p:blipFill>
          <a:blip r:embed="rId1"/>
          <a:stretch/>
        </p:blipFill>
        <p:spPr>
          <a:xfrm>
            <a:off x="3517920" y="1755720"/>
            <a:ext cx="2536920" cy="4726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 flipH="1">
            <a:off x="538200" y="1954080"/>
            <a:ext cx="22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3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8840" y="1195200"/>
            <a:ext cx="85248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RGANIZATION OF EUKARYOTIC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0" name="Picture 2" descr="D:\Arun-Backup\project\Ferrier\Image_Bank\image_bank\images\jpg\figure_29.26.jpg"/>
          <p:cNvPicPr/>
          <p:nvPr/>
        </p:nvPicPr>
        <p:blipFill>
          <a:blip r:embed="rId1"/>
          <a:stretch/>
        </p:blipFill>
        <p:spPr>
          <a:xfrm>
            <a:off x="3513240" y="1884240"/>
            <a:ext cx="3517920" cy="4530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 flipH="1">
            <a:off x="538200" y="237816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6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-1425600" y="4114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1165320"/>
            <a:ext cx="85248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RGANIZATION OF EUKARYOTIC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4" name="Picture 2" descr="D:\Arun-Backup\project\Ferrier\Image_Bank\image_bank\images\jpg\figure_29.27.jpg"/>
          <p:cNvPicPr/>
          <p:nvPr/>
        </p:nvPicPr>
        <p:blipFill>
          <a:blip r:embed="rId1"/>
          <a:stretch/>
        </p:blipFill>
        <p:spPr>
          <a:xfrm>
            <a:off x="1096920" y="2535120"/>
            <a:ext cx="6864480" cy="4003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 flipH="1">
            <a:off x="538200" y="204948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7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0200" y="125388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EUKARYOTIC DNA REPLICATION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7" name="Picture 2" descr="D:\Arun-Backup\project\Ferrier\Image_Bank\image_bank\images\jpg\figure_29.22.jpg"/>
          <p:cNvPicPr/>
          <p:nvPr/>
        </p:nvPicPr>
        <p:blipFill>
          <a:blip r:embed="rId1"/>
          <a:stretch/>
        </p:blipFill>
        <p:spPr>
          <a:xfrm>
            <a:off x="3168720" y="1895400"/>
            <a:ext cx="5013360" cy="456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 flipH="1">
            <a:off x="538200" y="212724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2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520" y="125532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EUKARYOTIC DNA REPLICATION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10" name="Picture 2" descr="D:\Arun-Backup\project\Ferrier\Image_Bank\image_bank\images\jpg\figure_29.23.jpg"/>
          <p:cNvPicPr/>
          <p:nvPr/>
        </p:nvPicPr>
        <p:blipFill>
          <a:blip r:embed="rId1"/>
          <a:stretch/>
        </p:blipFill>
        <p:spPr>
          <a:xfrm>
            <a:off x="3325680" y="1828800"/>
            <a:ext cx="4640400" cy="45464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 flipH="1">
            <a:off x="538200" y="198612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3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9:07:27Z</dcterms:created>
  <dc:creator>Dale Gray</dc:creator>
  <dc:description/>
  <dc:language>en-US</dc:language>
  <cp:lastModifiedBy>Khalid Akkour</cp:lastModifiedBy>
  <cp:lastPrinted>2001-01-03T19:47:24Z</cp:lastPrinted>
  <dcterms:modified xsi:type="dcterms:W3CDTF">2016-09-26T05:10:32Z</dcterms:modified>
  <cp:revision>1505</cp:revision>
  <dc:subject/>
  <dc:title>LWW PPT Slide Template Master</dc:title>
</cp:coreProperties>
</file>