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5EFB4-83B0-42C3-8DD0-37BF14C73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7A3AD-03EC-4503-97EA-D50C34AD7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E698A-B2FF-4A46-9BA3-75EC5A653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6E1E3-F266-4F4E-96E9-0E3BED78A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DD7438-3ED7-44E5-8F75-A40699CE6A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9E6F0-F2C9-4B55-BB7A-DE869FB8C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E133E-B21B-4EAC-B40C-D6EB20957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4F0EC-6E93-41EE-BFC9-D8588B4CC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0CEF6-3E89-4A53-91CF-C983D6645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AEBC9-9C87-460E-9F6E-2CD839F98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1630B-B060-48B5-A133-619CF9F15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7E1C6-6E1D-4F69-9D50-955556803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08E92-7CB3-4849-94D1-C0CD13D0D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3395A-5F16-4F80-969F-7EB48FE08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3BF51-1814-4110-A78C-3AB1F9098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DCC107-DD5E-4844-BE57-371907321E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1C3C1-4FE8-43AD-B5D0-BC379714FE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1BC2B14-43CB-41DA-A27E-6B2E243632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248BAA7-43D1-433E-933A-0DCF063C10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5A90D74-230B-49A3-8814-FB9C02BF1A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6BB0FEF-CCB2-460C-90FE-E3517F6E19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D791BC6-FC0D-4A77-B7EA-99D91A48BC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69604-3B28-4CCE-A5A6-A4ED61489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0FEE96D-F317-49DA-8B36-E56058C168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09AC966-69B5-47D1-83DD-5F087C284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E3B0FE1-3157-469D-8F78-55C3682765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C82E25E-B839-4076-BA03-C7D0C9BF86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02EA61A-DCA0-4E92-8DE9-895B922BDF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12483FE-E945-428E-AC81-E8822E9687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5D91E3C-D5E7-4207-BC65-697868A128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179BC1-EDCA-42B1-8951-75D2CD8AFE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8B6FE0-A159-4B1A-A106-EFBCAB518E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6E0D43-003E-44C7-A6DE-8D4D77634B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812A4-07B4-4C38-98D1-8827383F8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8B8928-B288-45B4-94BB-E4F53ABBA6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85ECCF-73BA-49EF-BC12-6F51229692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F68E77-4DF1-459A-A3B2-3C1A73123E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84692B-DF27-406D-9F2D-98AA00B884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8CD899-195E-4231-B292-7E79D99ED8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282DA8-B5E6-4704-B2EF-AA7F7A065F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853758-3353-4367-A409-D28B2EDDD7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9A84A8-9265-4F55-8C3D-6D4555DE3D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BDEF49-42A6-47C8-B9EF-8FDC1D5288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B477CCB-0F0A-4BDC-AB56-EC6B209204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754A7-877B-4A89-9DCD-03B116AD2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577AFBE-E093-43EE-80EA-6169D070AF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36E0AB3-73E8-45EA-A392-4AF16107DC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6ECD33B-A6E1-4B6D-8A4D-49CBABFD27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4EFF1FB-9949-452D-859E-297FEFD9B2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5335B52-7381-4F12-9F0D-821D9F8143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50B5D29-1E42-4AA2-9103-76F6F3918A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85507CD-6C3E-4BC1-B99B-1F3B5408A2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252FB59-FF58-4FB7-ADAB-EC7D4E13F1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6B63269-6B68-481C-A187-43532BC619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5B7A94D-92EF-41CD-9380-53148D6CDD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1307F-4F04-4A17-A156-844696C75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A4041F5-7721-462E-AC78-966C9BA2BB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27DE5AA-878F-4F5E-BBEB-80457959C2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E28DCED-DFC5-4017-A25A-F5AC7467A2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398B451-AD19-4DBD-AFC7-A01CB5DED6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E238FA7-9E1A-4367-8811-8B37694B19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9586272-D755-40C3-BA13-560A5B53D6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FF2E5B6-1F5F-4D01-9602-603C38CA45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49DE72E-888D-4483-864C-3D6BD1C958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0538B18-2E4F-40CB-8316-809FF4B076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C6FED8D-9D90-48CE-A1F7-AD92FAD571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4487B-9E55-42E1-AD01-35B6E6146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C5DA24A-A216-4A8E-AA8D-1211A08E31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BAECE1F-9C17-4469-AD49-114F1D739A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A890C80-08DE-440B-BA8B-EBF36D7D99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EE6141B-9DD9-43B4-9C22-E212FE5C7F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1822813-D951-4D9E-B46B-23892A1C15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4CB09DA-9010-47AE-9A68-35ECA7F9BF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A2C1340-B138-4BCA-91F9-545D6FAA78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D9B80A9-9A72-49F6-A2FB-E041802B14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30AAC86-682B-4239-BB48-565415E12F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E2F8284-28E7-441D-ACF8-B2AE07C3AD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4F0F9-A57B-4FFD-9647-5AC064D8C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409C78B-FF9C-4780-99B0-376A9D64D8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D6AD3DD-F290-40F6-B446-56D186FD49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0DE5B55-2847-41CF-8B09-2C9462E3E0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3412085-C197-48E7-8FEF-79349C2041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3870E8C-8F0D-45B6-BF4E-998A15F78F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23901-BEA0-4F07-9265-954631FBE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5A34-3A4C-478D-AE92-05EEA1EF71B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ستطيل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مستطيل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مستطيل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مستطيل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رابط مستقيم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رابط مستقيم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رابط مستقيم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رابط مستقيم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رابط مستقيم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مستطيل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شكل بيضاوي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شكل بيضاوي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شكل بيضاوي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شكل بيضاوي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C1AC-E60E-4EC2-BF21-70DDCC4E662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5EAFE-8780-48EC-BC88-DD6426ACAAE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مستطيل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رابط مستقيم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رابط مستقيم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رابط مستقيم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رابط مستقيم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مستطيل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شكل بيضاوي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شكل بيضاوي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شكل بيضاوي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شكل بيضاوي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شكل بيضاوي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رابط مستقيم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662BC-2704-4284-8C0A-98687B4F1D9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DE5DD-4F7D-4B78-A5DA-968F506A644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رابط مستقيم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رابط مستقيم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رابط مستقيم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رابط مستقيم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شكل بيضاوي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C0742-27D4-4064-89AE-B0C54EFFA09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رابط مستقيم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شكل بيضاوي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رابط مستقيم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رابط مستقيم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رابط مستقيم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رابط مستقيم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2D6D-E9D4-4503-8318-3715D2E80D6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60" y="209160"/>
            <a:ext cx="8697960" cy="6675480"/>
          </a:xfrm>
          <a:prstGeom prst="rect">
            <a:avLst/>
          </a:prstGeom>
          <a:noFill/>
          <a:ln w="0">
            <a:noFill/>
          </a:ln>
        </p:spPr>
        <p:txBody>
          <a:bodyPr anchor="ctr">
            <a:normAutofit/>
          </a:bodyPr>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ct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Arial"/>
                <a:cs typeface="Times New Roman"/>
              </a:rPr>
              <a:t>معنى الصحة النفسية</a:t>
            </a: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f0"/>
                </a:solidFill>
                <a:uFillTx/>
                <a:latin typeface="Arial"/>
                <a:cs typeface="Times New Roman"/>
              </a:rPr>
              <a:t>المفهوم السلبي للصحة النفسية :</a:t>
            </a: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  هي السلامة من أعراض المرض النفسي أو العقلي .</a:t>
            </a: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   هذا المفهوم يلقى قبولا في ميادين الطب النفسي .</a:t>
            </a: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f0"/>
                </a:solidFill>
                <a:uFillTx/>
                <a:latin typeface="Arial"/>
                <a:cs typeface="Times New Roman"/>
              </a:rPr>
              <a:t>المرض النفسي :</a:t>
            </a: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هو اضطراب وظيفي في الشخصية نفسي المنشأ يبدو في صورة أعراض نفسية وجسمية مختلفة، يؤثر في سلوك الشخص فيعوق توافقه النفسي ويعوقه عن ممارسة حياته السوية في المجتمع الذي يعيش فيه .</a:t>
            </a: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900000" y="475920"/>
            <a:ext cx="8229600" cy="63324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1" lang="ar-SA" sz="3600" spc="-1" strike="noStrike">
                <a:solidFill>
                  <a:srgbClr val="000080"/>
                </a:solidFill>
                <a:latin typeface="Arial"/>
                <a:ea typeface="Times New Roman"/>
              </a:rPr>
              <a:t> </a:t>
            </a:r>
            <a:r>
              <a:rPr b="1" lang="ar-SA" sz="2400" spc="-1" strike="noStrike">
                <a:solidFill>
                  <a:srgbClr val="00b0f0"/>
                </a:solidFill>
                <a:latin typeface="Arial"/>
                <a:cs typeface="Times New Roman"/>
              </a:rPr>
              <a:t>المفهوم الإيجابي للصحة النفسية :</a:t>
            </a:r>
            <a:endParaRPr b="0" lang="en-US" sz="2400" spc="-1" strike="noStrike">
              <a:solidFill>
                <a:srgbClr val="575f6d"/>
              </a:solidFill>
              <a:latin typeface="Century Schoolbook"/>
            </a:endParaRPr>
          </a:p>
        </p:txBody>
      </p:sp>
      <p:sp>
        <p:nvSpPr>
          <p:cNvPr id="353" name=""/>
          <p:cNvSpPr txBox="1"/>
          <p:nvPr/>
        </p:nvSpPr>
        <p:spPr>
          <a:xfrm>
            <a:off x="250560" y="-476280"/>
            <a:ext cx="8281800" cy="6309720"/>
          </a:xfrm>
          <a:prstGeom prst="rect">
            <a:avLst/>
          </a:prstGeom>
          <a:noFill/>
          <a:ln w="0">
            <a:noFill/>
          </a:ln>
        </p:spPr>
        <p:txBody>
          <a:bodyPr anchor="ctr">
            <a:normAutofit/>
          </a:bodyPr>
          <a:p>
            <a:pPr algn="r" rtl="1">
              <a:buClr>
                <a:srgbClr val="00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buClr>
                <a:srgbClr val="00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buClr>
                <a:srgbClr val="00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buClr>
                <a:srgbClr val="00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تعرفها منظمة الصحة العالمية للصحة ( </a:t>
            </a:r>
            <a:r>
              <a:rPr b="1" lang="en-US" sz="2400" spc="-1" strike="noStrike">
                <a:solidFill>
                  <a:srgbClr val="000000"/>
                </a:solidFill>
                <a:latin typeface="Century Schoolbook"/>
              </a:rPr>
              <a:t>WHO</a:t>
            </a:r>
            <a:r>
              <a:rPr b="1" lang="ar-SA" sz="2400" spc="-1" strike="noStrike">
                <a:solidFill>
                  <a:srgbClr val="000000"/>
                </a:solidFill>
                <a:latin typeface="Century Schoolbook"/>
              </a:rPr>
              <a:t> ) بأنها حالة من الراحة الجسمية والنفسية و الاجتماعية و ليست عدم و جود المرض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buClr>
                <a:srgbClr val="00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a:t>
            </a:r>
            <a:r>
              <a:rPr b="1" lang="ar-SA" sz="2400" spc="-1" strike="noStrike">
                <a:solidFill>
                  <a:srgbClr val="000000"/>
                </a:solidFill>
                <a:latin typeface="Arial"/>
                <a:cs typeface="Times New Roman"/>
              </a:rPr>
              <a:t>حالة دائما نسبيا يكون الفرد فيها متوافقا نفسيا مع نفسه وبيئته ،ويكون قادرا على تحقيق ذاته واستغلال قدراته وإمكاناته إلى أقصى حد ممكن ،ويكون قادرا على مواجهة مطالب الحياة ، وتكون شخصيته متكاملة سوية ويكون سلوكه عاديا ،ويكون حسن الخلق بحيث يعيش في سلامة وسلام </a:t>
            </a:r>
            <a:r>
              <a:rPr b="0" lang="ar-SA" sz="2400" spc="-1" strike="noStrike">
                <a:solidFill>
                  <a:srgbClr val="008000"/>
                </a:solidFill>
                <a:latin typeface="Arial"/>
                <a:ea typeface="Times New Roman"/>
              </a:rPr>
              <a:t>.</a:t>
            </a:r>
            <a:endParaRPr b="0" lang="en-US" sz="2400" spc="-1" strike="noStrike">
              <a:solidFill>
                <a:srgbClr val="000000"/>
              </a:solidFill>
              <a:latin typeface="Century Schoolbook"/>
            </a:endParaRPr>
          </a:p>
          <a:p>
            <a:pPr algn="r" rtl="1">
              <a:lnSpc>
                <a:spcPct val="100000"/>
              </a:lnSpc>
              <a:buClr>
                <a:srgbClr val="008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00000"/>
              </a:lnSpc>
              <a:buClr>
                <a:srgbClr val="008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00000"/>
              </a:lnSpc>
              <a:buClr>
                <a:srgbClr val="008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68360" y="549000"/>
            <a:ext cx="8229600" cy="5619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r>
              <a:rPr b="1" lang="ar-SA" sz="3200" spc="-1" strike="noStrike">
                <a:solidFill>
                  <a:srgbClr val="00b0f0"/>
                </a:solidFill>
                <a:latin typeface="Century Schoolbook"/>
              </a:rPr>
              <a:t>علم الصحة النفسية </a:t>
            </a:r>
            <a:endParaRPr b="0" lang="en-US" sz="3200" spc="-1" strike="noStrike">
              <a:solidFill>
                <a:srgbClr val="575f6d"/>
              </a:solidFill>
              <a:latin typeface="Century Schoolbook"/>
            </a:endParaRPr>
          </a:p>
        </p:txBody>
      </p:sp>
      <p:sp>
        <p:nvSpPr>
          <p:cNvPr id="355" name=""/>
          <p:cNvSpPr txBox="1"/>
          <p:nvPr/>
        </p:nvSpPr>
        <p:spPr>
          <a:xfrm>
            <a:off x="0" y="1052640"/>
            <a:ext cx="8686800" cy="6238800"/>
          </a:xfrm>
          <a:prstGeom prst="rect">
            <a:avLst/>
          </a:prstGeom>
          <a:noFill/>
          <a:ln w="0">
            <a:noFill/>
          </a:ln>
        </p:spPr>
        <p:txBody>
          <a:bodyPr anchor="t">
            <a:normAutofit fontScale="98000"/>
          </a:bodyPr>
          <a:p>
            <a:pPr marL="267120" indent="-2671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هو الدراسة العلمية للصحة النفسية و عملية التوافق النفسي , وما يؤدي إليها وما يحققها , و ما يعوقها , وما يحدث من مشكلات واضطرابات و أمراض نفسية , و دراسة أسبابها و تشخيصها و علاجها و الوقاية منها .. </a:t>
            </a:r>
            <a:endParaRPr b="0" lang="en-US" sz="2400" spc="-1" strike="noStrike">
              <a:solidFill>
                <a:srgbClr val="000000"/>
              </a:solidFill>
              <a:latin typeface="Century Schoolbook"/>
            </a:endParaRPr>
          </a:p>
          <a:p>
            <a:pPr marL="267120" indent="-267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علم الصحة النفسية  له شقان ” : ( نظري علمي – تطبيقي عملي ).</a:t>
            </a:r>
            <a:endParaRPr b="0" lang="en-US" sz="2400" spc="-1" strike="noStrike">
              <a:solidFill>
                <a:srgbClr val="000000"/>
              </a:solidFill>
              <a:latin typeface="Century Schoolbook"/>
            </a:endParaRPr>
          </a:p>
          <a:p>
            <a:pPr marL="267120" indent="-267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1</a:t>
            </a:r>
            <a:r>
              <a:rPr b="1" lang="ar-SA" sz="2400" spc="-1" strike="noStrike">
                <a:solidFill>
                  <a:srgbClr val="000000"/>
                </a:solidFill>
                <a:latin typeface="Century Schoolbook"/>
              </a:rPr>
              <a:t>- نظري علمي يتناول بالدراسة النظرية و البحوث العلمية الشخصية و الدوافع و الحاجات و أسباب الإمراض النفسية و أعراضها و حيل الدفاع النفسي و التوافق  وتعليم الناس  وتصحيح المفاهيم الخاطئة , وإعداد وتدريب الأخصائيين  والقيام بالبحوث العلمية.</a:t>
            </a:r>
            <a:endParaRPr b="0" lang="en-US" sz="2400" spc="-1" strike="noStrike">
              <a:solidFill>
                <a:srgbClr val="000000"/>
              </a:solidFill>
              <a:latin typeface="Century Schoolbook"/>
            </a:endParaRPr>
          </a:p>
          <a:p>
            <a:pPr marL="267120" indent="-267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2</a:t>
            </a:r>
            <a:r>
              <a:rPr b="1" lang="ar-SA" sz="2400" spc="-1" strike="noStrike">
                <a:solidFill>
                  <a:srgbClr val="000000"/>
                </a:solidFill>
                <a:latin typeface="Century Schoolbook"/>
              </a:rPr>
              <a:t>- تطبيقي عملي يقوم بتطبيق النظريات العلمية و نتائج الدراسات و البحوث للوقاية من المرض النفسي و تشخيص و علاج الأمراض النفسية </a:t>
            </a:r>
            <a:endParaRPr b="0" lang="en-US" sz="2400" spc="-1" strike="noStrike">
              <a:solidFill>
                <a:srgbClr val="000000"/>
              </a:solidFill>
              <a:latin typeface="Century Schoolbook"/>
            </a:endParaRPr>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404280"/>
            <a:ext cx="8229600" cy="7779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75f6d"/>
                </a:solidFill>
                <a:latin typeface="Century Schoolbook"/>
              </a:rPr>
              <a:t>:</a:t>
            </a:r>
            <a:br>
              <a:rPr sz="3600"/>
            </a:br>
            <a:r>
              <a:rPr b="1" lang="ar-SA" sz="3600" spc="-1" strike="noStrike">
                <a:solidFill>
                  <a:srgbClr val="00b0f0"/>
                </a:solidFill>
                <a:latin typeface="Century Schoolbook"/>
              </a:rPr>
              <a:t> مناهج الصحة النفسية </a:t>
            </a:r>
            <a:endParaRPr b="0" lang="en-US" sz="3600" spc="-1" strike="noStrike">
              <a:solidFill>
                <a:srgbClr val="575f6d"/>
              </a:solidFill>
              <a:latin typeface="Century Schoolbook"/>
            </a:endParaRPr>
          </a:p>
        </p:txBody>
      </p:sp>
      <p:sp>
        <p:nvSpPr>
          <p:cNvPr id="357" name=""/>
          <p:cNvSpPr txBox="1"/>
          <p:nvPr/>
        </p:nvSpPr>
        <p:spPr>
          <a:xfrm>
            <a:off x="1042920" y="1412640"/>
            <a:ext cx="7467840" cy="5205240"/>
          </a:xfrm>
          <a:prstGeom prst="rect">
            <a:avLst/>
          </a:prstGeom>
          <a:noFill/>
          <a:ln w="0">
            <a:noFill/>
          </a:ln>
        </p:spPr>
        <p:txBody>
          <a:bodyPr anchor="t">
            <a:normAutofit fontScale="93000"/>
          </a:bodyPr>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entury Schoolbook"/>
              </a:rPr>
              <a:t>هناك  ثلاثة مناهج في الصحة النفسية </a:t>
            </a:r>
            <a:r>
              <a:rPr b="0" lang="ar-SA" sz="2400" spc="-1" strike="noStrike" u="sng">
                <a:solidFill>
                  <a:srgbClr val="000000"/>
                </a:solidFill>
                <a:uFillTx/>
                <a:latin typeface="Century Schoolbook"/>
              </a:rPr>
              <a:t>:</a:t>
            </a:r>
            <a:endParaRPr b="0" lang="en-US" sz="2400" spc="-1" strike="noStrike">
              <a:solidFill>
                <a:srgbClr val="000000"/>
              </a:solidFill>
              <a:latin typeface="Century Schoolbook"/>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Century Schoolbook"/>
              </a:rPr>
              <a:t>1</a:t>
            </a:r>
            <a:r>
              <a:rPr b="1" lang="ar-SA" sz="2400" spc="-1" strike="noStrike">
                <a:solidFill>
                  <a:srgbClr val="00b0f0"/>
                </a:solidFill>
                <a:latin typeface="Century Schoolbook"/>
              </a:rPr>
              <a:t>-  المنهج الإنمائي(الإنشائي) :</a:t>
            </a:r>
            <a:endParaRPr b="0" lang="en-US" sz="24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تضمن زيادة السعادة  والكفاية والتوافق لدى الأسوياء والعاديين من خلال  رحله نموهم حتى يتحقق الوصول بهم  إلى اعلي مستوى ممكن من الصحة النفسية .</a:t>
            </a:r>
            <a:endParaRPr b="0" lang="en-US" sz="2400" spc="-1" strike="noStrike">
              <a:solidFill>
                <a:srgbClr val="000000"/>
              </a:solidFill>
              <a:latin typeface="Century Schoolbook"/>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ويتحقق ذلك عن طريق  دراسة الإمكانات والقدرات وتوجيهها التوجيه السليم (نفسياً وتربوياً ومهنياُ) ومن خلال رعاية مظاهر النمو جسمياً وعقلياً واجتماعيا وانفعاليا بما يضمن أتاحه الفرص امام المواطنين للنمو السوي تحقيقا للنضج  والتوافق والصحة النفسية .</a:t>
            </a:r>
            <a:endParaRPr b="0" lang="en-US" sz="24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1115640" y="475920"/>
            <a:ext cx="7467480" cy="5473800"/>
          </a:xfrm>
          <a:prstGeom prst="rect">
            <a:avLst/>
          </a:prstGeom>
          <a:noFill/>
          <a:ln w="0">
            <a:noFill/>
          </a:ln>
        </p:spPr>
        <p:txBody>
          <a:bodyPr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Century Schoolbook"/>
              </a:rPr>
              <a:t>2</a:t>
            </a:r>
            <a:r>
              <a:rPr b="1" lang="ar-SA" sz="2400" spc="-1" strike="noStrike">
                <a:solidFill>
                  <a:srgbClr val="00b0f0"/>
                </a:solidFill>
                <a:latin typeface="Century Schoolbook"/>
              </a:rPr>
              <a:t>- المنهج الوقائي (التحصين النفسي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تضمن الوقاية من الوقوع في الاضطرابات والمشكلات والأمراض النفسية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هتم بالأسوياء قبل اهتمامه بالمرضى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عمل على الوقاية من الأمراض النفسية بالتعريف بأسبابها وإزالتها أولا بأول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هيئ الظروف التي تحقق الصحة النفسية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تضمن الإجراءات الوقائية الخاصة بالنمو النفسي السوي ونمو المهارات الأساسية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هتم بالتنشئة الاجتماعية السليمة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7200" y="476280"/>
            <a:ext cx="8362800" cy="5997600"/>
          </a:xfrm>
          <a:prstGeom prst="rect">
            <a:avLst/>
          </a:prstGeom>
          <a:noFill/>
          <a:ln w="0">
            <a:noFill/>
          </a:ln>
        </p:spPr>
        <p:txBody>
          <a:bodyPr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وللمنهج الوقائي ثلاث مستويات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توى الأول : إجراءات وقاية لمنع حدوث المرض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توى الثاني : محاولة تشخيصه في مراحله الأولى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توى الثالث : محاولة تقليل أثر أزمان المرض وإعاقته للفرد </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Century Schoolbook"/>
              </a:rPr>
              <a:t>3</a:t>
            </a:r>
            <a:r>
              <a:rPr b="0" lang="ar-SA" sz="2400" spc="-1" strike="noStrike">
                <a:solidFill>
                  <a:srgbClr val="00b0f0"/>
                </a:solidFill>
                <a:latin typeface="Century Schoolbook"/>
              </a:rPr>
              <a:t>- </a:t>
            </a:r>
            <a:r>
              <a:rPr b="1" lang="ar-SA" sz="2400" spc="-1" strike="noStrike">
                <a:solidFill>
                  <a:srgbClr val="00b0f0"/>
                </a:solidFill>
                <a:latin typeface="Century Schoolbook"/>
              </a:rPr>
              <a:t>المنهج العلاجي:</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ويتضمن علاج المشكلات  والاضطرابات والأمراض النفسية  حتى العودة إلى حاله التوافق  والصحة النفسية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ويهتم هذا المنهج بأسباب المرض النفسي وإعراضه  وتشخيصه وطرق علاجه ,وتوفير المعالجين والعيادات والمستشفيات النفسية.</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1T02:11:47Z</dcterms:created>
  <dc:creator>Fahdah</dc:creator>
  <dc:description/>
  <dc:language>en-US</dc:language>
  <cp:lastModifiedBy>D G L</cp:lastModifiedBy>
  <dcterms:modified xsi:type="dcterms:W3CDTF">2013-02-09T23:21:44Z</dcterms:modified>
  <cp:revision>16</cp:revision>
  <dc:subject/>
  <dc:title>الشريحة 1</dc:title>
</cp:coreProperties>
</file>