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15640" y="30225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15640" y="5379120"/>
            <a:ext cx="125600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51360" y="49147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1564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51360" y="5379120"/>
            <a:ext cx="61290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6256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709480" y="49147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21564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46256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709480" y="5379120"/>
            <a:ext cx="404424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910080" indent="-5371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328040" indent="-5371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745640" indent="-53676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163600" indent="-53676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581560" indent="-5371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581560" indent="-537120">
              <a:spcBef>
                <a:spcPts val="104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581560" indent="-537120">
              <a:spcBef>
                <a:spcPts val="104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1269720" y="2158560"/>
            <a:ext cx="504180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517680" indent="-3938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851040" indent="-3942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184760" indent="-3942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17760" indent="-3938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851120" indent="-3938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851120" indent="-3938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851120" indent="-3938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35040" y="4838760"/>
            <a:ext cx="5867280" cy="491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75c223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75c223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7772040" y="2158560"/>
            <a:ext cx="396252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7000"/>
          </a:bodyPr>
          <a:p>
            <a:pPr marL="462600" indent="-3517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760320" indent="-3520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058040" indent="-3520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355760" indent="-3517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653840" indent="-3517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653840" indent="-3517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653840" indent="-3517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67752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08648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49544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044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31336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31336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31336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ec8636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ec8636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158560"/>
            <a:ext cx="1046484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3656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8116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62576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07000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51460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51460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51460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1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2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3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4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5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6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67752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08648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49544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044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31336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31336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31336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2158560"/>
            <a:ext cx="5041800" cy="690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517680" indent="-3938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851040" indent="-3942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184760" indent="-3942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17760" indent="-3938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851120" indent="-3938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851120" indent="-3938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851120" indent="-3938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269720" y="2285640"/>
            <a:ext cx="10464840" cy="746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9048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113508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57968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202392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246852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246852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246852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10261440" y="241200"/>
            <a:ext cx="2526840" cy="9283680"/>
            <a:chOff x="10261440" y="241200"/>
            <a:chExt cx="2526840" cy="9283680"/>
          </a:xfrm>
        </p:grpSpPr>
        <p:grpSp>
          <p:nvGrpSpPr>
            <p:cNvPr id="490" name=""/>
            <p:cNvGrpSpPr/>
            <p:nvPr/>
          </p:nvGrpSpPr>
          <p:grpSpPr>
            <a:xfrm>
              <a:off x="10261440" y="2730240"/>
              <a:ext cx="2526840" cy="6794640"/>
              <a:chOff x="10261440" y="2730240"/>
              <a:chExt cx="2526840" cy="6794640"/>
            </a:xfrm>
          </p:grpSpPr>
          <p:sp>
            <p:nvSpPr>
              <p:cNvPr id="491" name=""/>
              <p:cNvSpPr/>
              <p:nvPr/>
            </p:nvSpPr>
            <p:spPr>
              <a:xfrm>
                <a:off x="10261440" y="2730240"/>
                <a:ext cx="2515680" cy="6794640"/>
              </a:xfrm>
              <a:prstGeom prst="rect">
                <a:avLst/>
              </a:prstGeom>
              <a:solidFill>
                <a:srgbClr val="edb600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727272"/>
                  </a:solidFill>
                  <a:latin typeface="Futura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0261440" y="5771880"/>
                <a:ext cx="2526840" cy="71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300" spc="-1" strike="noStrike">
                    <a:solidFill>
                      <a:srgbClr val="ffffff"/>
                    </a:solidFill>
                    <a:latin typeface="Futura"/>
                    <a:ea typeface="Futura"/>
                  </a:rPr>
                  <a:t> </a:t>
                </a:r>
                <a:endParaRPr b="0" lang="en-US" sz="4300" spc="-1" strike="noStrike">
                  <a:solidFill>
                    <a:srgbClr val="727272"/>
                  </a:solidFill>
                  <a:latin typeface="Futura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10261440" y="241200"/>
              <a:ext cx="2516040" cy="2502000"/>
            </a:xfrm>
            <a:prstGeom prst="rect">
              <a:avLst/>
            </a:prstGeom>
            <a:solidFill>
              <a:srgbClr val="48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27272"/>
                </a:solidFill>
                <a:latin typeface="Futura"/>
              </a:endParaRPr>
            </a:p>
          </p:txBody>
        </p:sp>
      </p:grpSp>
      <p:pic>
        <p:nvPicPr>
          <p:cNvPr id="494" name="" descr=""/>
          <p:cNvPicPr/>
          <p:nvPr/>
        </p:nvPicPr>
        <p:blipFill>
          <a:blip r:embed="rId1"/>
          <a:srcRect l="867" t="0" r="915" b="0"/>
          <a:stretch/>
        </p:blipFill>
        <p:spPr>
          <a:xfrm>
            <a:off x="228600" y="2743200"/>
            <a:ext cx="10032840" cy="6781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Futura"/>
              </a:rPr>
              <a:t> 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Futura"/>
              </a:rPr>
              <a:t>Practical-7 B</a:t>
            </a:r>
            <a:br>
              <a:rPr sz="3500"/>
            </a:br>
            <a:r>
              <a:rPr b="0" lang="en-US" sz="36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       H &amp; E Stain with Ehrlich's Hematoxylin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6" name=""/>
          <p:cNvSpPr/>
          <p:nvPr/>
        </p:nvSpPr>
        <p:spPr>
          <a:xfrm>
            <a:off x="10491840" y="8388360"/>
            <a:ext cx="19558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Futura"/>
                <a:ea typeface="Futura"/>
              </a:rPr>
              <a:t>by:</a:t>
            </a:r>
            <a:endParaRPr b="0" lang="en-US" sz="1800" spc="-1" strike="noStrike">
              <a:solidFill>
                <a:srgbClr val="727272"/>
              </a:solidFill>
              <a:latin typeface="Futu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Futura"/>
                <a:ea typeface="Futura"/>
              </a:rPr>
              <a:t>Khadija Rashed</a:t>
            </a:r>
            <a:endParaRPr b="0" lang="en-US" sz="1800" spc="-1" strike="noStrike">
              <a:solidFill>
                <a:srgbClr val="727272"/>
              </a:solidFill>
              <a:latin typeface="Futur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236520" y="2716200"/>
            <a:ext cx="10009080" cy="67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1861640" y="216000"/>
            <a:ext cx="1041480" cy="9321840"/>
          </a:xfrm>
          <a:prstGeom prst="rect">
            <a:avLst/>
          </a:prstGeom>
          <a:solidFill>
            <a:srgbClr val="ed7c26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2197080"/>
            <a:ext cx="10515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88840" indent="-571320">
              <a:lnSpc>
                <a:spcPct val="100000"/>
              </a:lnSpc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198e"/>
                </a:solidFill>
                <a:latin typeface="Lucida Grande"/>
                <a:ea typeface="Lucida Grande"/>
              </a:rPr>
              <a:t>It is a general purpose stain or micro-anatomical stain.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marL="888840" indent="-57132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SzPct val="56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It is 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considered a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Arial Bold"/>
                <a:ea typeface="Arial Bold"/>
              </a:rPr>
              <a:t> 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Arial"/>
                <a:ea typeface="Arial"/>
              </a:rPr>
              <a:t>Regressive </a:t>
            </a:r>
            <a:r>
              <a:rPr b="0" lang="en-US" sz="2400" spc="-1" strike="noStrike">
                <a:solidFill>
                  <a:srgbClr val="4d4d4d"/>
                </a:solidFill>
                <a:latin typeface="Arial Bold"/>
                <a:ea typeface="Arial Bold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Arial"/>
              </a:rPr>
              <a:t>stain.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marL="888840" indent="-571320">
              <a:lnSpc>
                <a:spcPct val="100000"/>
              </a:lnSpc>
              <a:buClr>
                <a:srgbClr val="000000"/>
              </a:buClr>
              <a:buSzPct val="56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marL="888840" indent="-571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marL="888840" indent="-571320">
              <a:lnSpc>
                <a:spcPct val="100000"/>
              </a:lnSpc>
              <a:buClr>
                <a:srgbClr val="000000"/>
              </a:buClr>
              <a:buSzPct val="56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44fe"/>
                </a:solidFill>
                <a:uFillTx/>
                <a:latin typeface="American Typewriter"/>
                <a:ea typeface="American Typewriter"/>
              </a:rPr>
              <a:t>Stain Solutions: 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marL="888840" indent="-571320">
              <a:lnSpc>
                <a:spcPct val="100000"/>
              </a:lnSpc>
              <a:buClr>
                <a:srgbClr val="000000"/>
              </a:buClr>
              <a:buSzPct val="56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93fe"/>
                </a:solidFill>
                <a:latin typeface="American Typewriter"/>
                <a:ea typeface="American Typewriter"/>
              </a:rPr>
              <a:t>Ehrlich's Hematoxylin 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  <a:p>
            <a:pPr marL="888840" indent="-571320">
              <a:lnSpc>
                <a:spcPct val="100000"/>
              </a:lnSpc>
              <a:buClr>
                <a:srgbClr val="000000"/>
              </a:buClr>
              <a:buSzPct val="56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578d"/>
                </a:solidFill>
                <a:latin typeface="American Typewriter"/>
                <a:ea typeface="American Typewriter"/>
              </a:rPr>
              <a:t>Eosin Solutions </a:t>
            </a:r>
            <a:endParaRPr b="0" lang="en-US" sz="24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merican Typewriter"/>
                <a:ea typeface="American Typewriter"/>
              </a:rPr>
              <a:t>ERHLICH`S HAEMATOXYLIN &amp;EOSIN METHOD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507960" y="2451240"/>
          <a:ext cx="12077640" cy="6637320"/>
        </p:xfrm>
        <a:graphic>
          <a:graphicData uri="http://schemas.openxmlformats.org/drawingml/2006/table">
            <a:tbl>
              <a:tblPr/>
              <a:tblGrid>
                <a:gridCol w="3706920"/>
                <a:gridCol w="4035240"/>
                <a:gridCol w="4335480"/>
              </a:tblGrid>
              <a:tr h="34452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PROCEDURE: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. Dip slide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Xylene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3mins.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2. Dip Slide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00% alcohol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2min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3. Dip slide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95% alcohol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min.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4. Dip slide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70% alcohol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min.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5. Rinse  section 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Water 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6. Apply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Ehrlich`s  haematoxylin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20mins.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7. Rinse in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Tap water again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9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2mins.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8. Differentiate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% acid alcohol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9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 to 2dips 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9. Blue in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Ammonia water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8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min.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0. Wash in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Tap water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1. Apply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Eosin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3mins.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2.  Apply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70% alcohol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7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30seconds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3.  Apply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95% alcohol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7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0seconds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4. Dehydrate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00% alcohol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0seconds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5. Dehydrate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7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00% alcohol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5seconds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6. Clear in 2 changes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8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Xylene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  <a:p>
                      <a:pPr marL="68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Xylene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2mins.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  <a:p>
                      <a:pPr marL="158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2mins.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17. Mount in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4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Grande"/>
                          <a:ea typeface="Lucida Grande"/>
                        </a:rPr>
                        <a:t>DPX-cover slip ping</a:t>
                      </a:r>
                      <a:endParaRPr b="0" lang="en-US" sz="18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84280" y="1422360"/>
            <a:ext cx="9105840" cy="27432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241880" y="5143680"/>
            <a:ext cx="7785000" cy="2552400"/>
            <a:chOff x="4241880" y="5143680"/>
            <a:chExt cx="7785000" cy="2552400"/>
          </a:xfrm>
        </p:grpSpPr>
        <p:sp>
          <p:nvSpPr>
            <p:cNvPr id="504" name=""/>
            <p:cNvSpPr/>
            <p:nvPr/>
          </p:nvSpPr>
          <p:spPr>
            <a:xfrm>
              <a:off x="4241880" y="5143680"/>
              <a:ext cx="7785000" cy="25524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27272"/>
                </a:solidFill>
                <a:latin typeface="Futura"/>
              </a:endParaRPr>
            </a:p>
          </p:txBody>
        </p:sp>
        <p:pic>
          <p:nvPicPr>
            <p:cNvPr id="505" name="" descr=""/>
            <p:cNvPicPr/>
            <p:nvPr/>
          </p:nvPicPr>
          <p:blipFill>
            <a:blip r:embed="rId1"/>
            <a:stretch/>
          </p:blipFill>
          <p:spPr>
            <a:xfrm>
              <a:off x="4241880" y="5143680"/>
              <a:ext cx="7785000" cy="2552400"/>
            </a:xfrm>
            <a:prstGeom prst="rect">
              <a:avLst/>
            </a:prstGeom>
            <a:ln cap="sq" w="88920">
              <a:solidFill>
                <a:srgbClr val="7030a0"/>
              </a:solidFill>
              <a:miter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</p:pic>
      </p:grpSp>
      <p:grpSp>
        <p:nvGrpSpPr>
          <p:cNvPr id="506" name=""/>
          <p:cNvGrpSpPr/>
          <p:nvPr/>
        </p:nvGrpSpPr>
        <p:grpSpPr>
          <a:xfrm>
            <a:off x="1587600" y="1828800"/>
            <a:ext cx="7099200" cy="1815840"/>
            <a:chOff x="1587600" y="1828800"/>
            <a:chExt cx="7099200" cy="1815840"/>
          </a:xfrm>
        </p:grpSpPr>
        <p:grpSp>
          <p:nvGrpSpPr>
            <p:cNvPr id="507" name=""/>
            <p:cNvGrpSpPr/>
            <p:nvPr/>
          </p:nvGrpSpPr>
          <p:grpSpPr>
            <a:xfrm>
              <a:off x="1638360" y="1881360"/>
              <a:ext cx="6997680" cy="1710720"/>
              <a:chOff x="1638360" y="1881360"/>
              <a:chExt cx="6997680" cy="1710720"/>
            </a:xfrm>
          </p:grpSpPr>
          <p:sp>
            <p:nvSpPr>
              <p:cNvPr id="508" name=""/>
              <p:cNvSpPr/>
              <p:nvPr/>
            </p:nvSpPr>
            <p:spPr>
              <a:xfrm>
                <a:off x="1638360" y="1881360"/>
                <a:ext cx="6997680" cy="1710720"/>
              </a:xfrm>
              <a:prstGeom prst="rect">
                <a:avLst/>
              </a:prstGeom>
              <a:solidFill>
                <a:srgbClr val="fff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727272"/>
                  </a:solidFill>
                  <a:latin typeface="Futura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38360" y="2084400"/>
                <a:ext cx="6997680" cy="12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727272"/>
                    </a:solidFill>
                    <a:uFillTx/>
                    <a:latin typeface="Lucida Grande"/>
                    <a:ea typeface="Lucida Grande"/>
                  </a:rPr>
                  <a:t>RESULT</a:t>
                </a:r>
                <a:r>
                  <a:rPr b="0" lang="en-US" sz="1800" spc="-1" strike="noStrike" u="sng">
                    <a:solidFill>
                      <a:srgbClr val="727272"/>
                    </a:solidFill>
                    <a:uFillTx/>
                    <a:latin typeface="Times New Roman Bold"/>
                    <a:ea typeface="Times New Roman Bold"/>
                  </a:rPr>
                  <a:t>:</a:t>
                </a:r>
                <a:r>
                  <a:rPr b="0" lang="en-US" sz="1800" spc="-1" strike="noStrike">
                    <a:solidFill>
                      <a:srgbClr val="727272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800" spc="-1" strike="noStrike">
                  <a:solidFill>
                    <a:srgbClr val="727272"/>
                  </a:solidFill>
                  <a:latin typeface="Futur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27272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727272"/>
                    </a:solidFill>
                    <a:latin typeface="Lucida Grande"/>
                    <a:ea typeface="Lucida Grande"/>
                  </a:rPr>
                  <a:t>Cell Nuclei</a:t>
                </a:r>
                <a:r>
                  <a:rPr b="0" lang="en-US" sz="1800" spc="-1" strike="noStrike">
                    <a:solidFill>
                      <a:srgbClr val="727272"/>
                    </a:solidFill>
                    <a:latin typeface="Lucida Grande"/>
                    <a:ea typeface="Lucida Grande"/>
                  </a:rPr>
                  <a:t> ________________________</a:t>
                </a:r>
                <a:r>
                  <a:rPr b="1" lang="en-US" sz="1800" spc="-1" strike="noStrike">
                    <a:solidFill>
                      <a:srgbClr val="0a59b2"/>
                    </a:solidFill>
                    <a:latin typeface="Lucida Grande"/>
                    <a:ea typeface="Lucida Grande"/>
                  </a:rPr>
                  <a:t>blue</a:t>
                </a:r>
                <a:endParaRPr b="0" lang="en-US" sz="1800" spc="-1" strike="noStrike">
                  <a:solidFill>
                    <a:srgbClr val="727272"/>
                  </a:solidFill>
                  <a:latin typeface="Futur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727272"/>
                    </a:solidFill>
                    <a:latin typeface="Lucida Grande"/>
                    <a:ea typeface="Lucida Grande"/>
                  </a:rPr>
                  <a:t> </a:t>
                </a:r>
                <a:r>
                  <a:rPr b="1" lang="en-US" sz="1800" spc="-1" strike="noStrike">
                    <a:solidFill>
                      <a:srgbClr val="727272"/>
                    </a:solidFill>
                    <a:latin typeface="Lucida Grande"/>
                    <a:ea typeface="Lucida Grande"/>
                  </a:rPr>
                  <a:t>RBCs ____________________________</a:t>
                </a:r>
                <a:r>
                  <a:rPr b="1" lang="en-US" sz="1800" spc="-1" strike="noStrike">
                    <a:solidFill>
                      <a:srgbClr val="fb0007"/>
                    </a:solidFill>
                    <a:latin typeface="Lucida Grande"/>
                    <a:ea typeface="Lucida Grande"/>
                  </a:rPr>
                  <a:t>red</a:t>
                </a:r>
                <a:endParaRPr b="0" lang="en-US" sz="1800" spc="-1" strike="noStrike">
                  <a:solidFill>
                    <a:srgbClr val="727272"/>
                  </a:solidFill>
                  <a:latin typeface="Futur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727272"/>
                    </a:solidFill>
                    <a:latin typeface="Lucida Grande"/>
                    <a:ea typeface="Lucida Grande"/>
                  </a:rPr>
                  <a:t>  </a:t>
                </a:r>
                <a:r>
                  <a:rPr b="1" lang="en-US" sz="1800" spc="-1" strike="noStrike">
                    <a:solidFill>
                      <a:srgbClr val="727272"/>
                    </a:solidFill>
                    <a:latin typeface="Lucida Grande"/>
                    <a:ea typeface="Lucida Grande"/>
                  </a:rPr>
                  <a:t>Connective tissue &amp; cell cytoplasm</a:t>
                </a:r>
                <a:r>
                  <a:rPr b="0" lang="en-US" sz="1800" spc="-1" strike="noStrike">
                    <a:solidFill>
                      <a:srgbClr val="727272"/>
                    </a:solidFill>
                    <a:latin typeface="Times New Roman Bold"/>
                    <a:ea typeface="Times New Roman Bold"/>
                  </a:rPr>
                  <a:t>___ </a:t>
                </a:r>
                <a:r>
                  <a:rPr b="1" lang="en-US" sz="1800" spc="-1" strike="noStrike">
                    <a:solidFill>
                      <a:srgbClr val="fb0007"/>
                    </a:solidFill>
                    <a:latin typeface="Lucida Grande"/>
                    <a:ea typeface="Lucida Grande"/>
                  </a:rPr>
                  <a:t>shade of pink</a:t>
                </a:r>
                <a:endParaRPr b="0" lang="en-US" sz="1800" spc="-1" strike="noStrike">
                  <a:solidFill>
                    <a:srgbClr val="727272"/>
                  </a:solidFill>
                  <a:latin typeface="Futura"/>
                </a:endParaRPr>
              </a:p>
            </p:txBody>
          </p:sp>
        </p:grpSp>
        <p:pic>
          <p:nvPicPr>
            <p:cNvPr id="510" name="" descr=""/>
            <p:cNvPicPr/>
            <p:nvPr/>
          </p:nvPicPr>
          <p:blipFill>
            <a:blip r:embed="rId2"/>
            <a:stretch/>
          </p:blipFill>
          <p:spPr>
            <a:xfrm>
              <a:off x="1587600" y="1828800"/>
              <a:ext cx="7099200" cy="1815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