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FAF-9A55-4A89-A854-5736685B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02E-B587-4C44-8202-E323B8D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52C-F30D-4CD4-BC03-B6D3BF9D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A90-95B7-4616-A8F7-67BB85F5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D000-1115-4EDE-8D7E-D4744EB4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D62D-E21A-4FC2-AD6C-F519D61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F38-13FD-43E7-B4F5-48E4A7DD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9D44-CCFC-4FCE-8F35-09D12A46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B9B-E7B3-45A7-8787-6BD8382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87AC-1362-45C1-B915-11296C52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68D5-B2C5-4E81-AB77-7508838A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55B-A18E-4F4E-99A6-E7A3234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956-FF5B-4ABF-AFD6-0C8059D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527-394F-4DE4-A509-01015B8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923-13B4-4859-8BF8-C4DF1CAC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C798-AD24-48D3-9320-41F14782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3CAD-A838-4C5D-9DCD-67AB4479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37F-8A58-4727-9B6C-E8C3FCBA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13D-633B-499A-8134-1DF5FCA4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736-98D4-4D06-B547-961FE20F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A32-31F9-4C3E-AC3F-35DD6D5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EC4-28B4-447C-BB14-F5686EC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042-2CF8-4FF8-9B47-A8107DD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E0E-1093-4223-AA0C-4DF834C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76AA-750B-41BE-AD0F-128FC5F49BD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D14-998E-4BF3-980A-F75EA46915A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02560" cy="31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Comic Sans MS"/>
              </a:rPr>
              <a:t>Nutrition through life cycle</a:t>
            </a:r>
            <a:endParaRPr b="0" lang="en-US" sz="6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omic Sans MS"/>
              </a:rPr>
              <a:t>CHS 2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ff00"/>
                </a:solidFill>
                <a:latin typeface="Chiller"/>
              </a:rPr>
              <a:t>Practical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918680" y="571356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hiller"/>
              </a:rPr>
              <a:t>Mrs. Sara AL-Mosharru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utri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study of foods ,their nutrients and other chemical constituents ,and the effects of food constituents on heal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utri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substances in foods that are used by the body for growth and health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404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Principles of human Nutri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d is a basic need of human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d provide energy (calories) ,nutrients, and other substances needed for growth and healt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or nutrition can result from both inadequate and excessive levels of nutrient intak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lnutrition can result from poor diets and from diseases states, gentic factors, or combination of these caus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groups of people are at higher risk of becoming inadequately nourished than other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or nutrition can influence the development of certain chronic diseas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quacy and balance are key characteristics of a healthy die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Life cycle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-Pregn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Lac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Infant(0-1 yea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-Toddler(from 1-3 year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Childho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Adolsc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-adultho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Elderl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ank you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46:57Z</dcterms:created>
  <dc:creator>User</dc:creator>
  <dc:description/>
  <dc:language>en-US</dc:language>
  <cp:lastModifiedBy>OMG</cp:lastModifiedBy>
  <cp:lastPrinted>2011-09-17T11:57:03Z</cp:lastPrinted>
  <dcterms:modified xsi:type="dcterms:W3CDTF">2011-09-17T12:05:49Z</dcterms:modified>
  <cp:revision>9</cp:revision>
  <dc:subject/>
  <dc:title>Nutrition through life cycle</dc:title>
</cp:coreProperties>
</file>