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75463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8EE-E93F-4A09-8E7E-76955454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1A6-B9E7-4C0D-B957-BB03A1C7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5979-AEE6-48F2-B577-72D0E267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6D6-BFB5-4095-A44F-84CAB650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5EF4-A483-444F-BA7D-89C32B21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57EA-F8D5-47FD-B072-2816EB6E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8ADB-0F7C-4D8B-A6BB-4E6F18EE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3667-1832-4B1A-9D81-4601B115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F747-99CB-4DEF-9D5F-7DD62D89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47EC-EFC8-4AE6-896E-7CCBE949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EC03-82D0-4ACD-8CE2-C8A1B40C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E079-CC26-4DAF-8DF1-6E16E982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CB35-1444-4315-BF51-D84BB7CB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8AC3-3BF2-4AAF-A8BF-97C36D45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B23F-1BDD-4C6A-B37E-EA25E41A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7306-FC96-4DEA-9588-5AB42088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189A-7FB3-4794-917D-9D9560CD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354-7DF7-4132-9D8F-5FFE782D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1B93-4699-47A4-B3C0-5F8729C9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C6B5-D999-4FB2-83AB-B5D1EF8E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62F4-224F-4002-9546-3AE67D35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6006-3684-4B05-8499-401C41E4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6177-6BBB-47DB-90EC-68096122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5EDE-1A48-4D14-9219-5DC734C9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F843-3DD3-4E41-A855-3FBDBCE15E6C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AC78-91FE-476E-AB5C-8E27FD37567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-316080"/>
            <a:ext cx="7702560" cy="312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0000"/>
                </a:solidFill>
                <a:latin typeface="Comic Sans MS"/>
              </a:rPr>
              <a:t>Nutrition through life cycle</a:t>
            </a:r>
            <a:endParaRPr b="0" lang="en-US" sz="65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Comic Sans MS"/>
              </a:rPr>
              <a:t>CHS 26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 rtl="1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ff00"/>
                </a:solidFill>
                <a:latin typeface="Chiller"/>
              </a:rPr>
              <a:t>Practical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918680" y="571356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hiller"/>
              </a:rPr>
              <a:t>Mrs. Sara AL-Mosharru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Nutri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study of foods ,their nutrients and other chemical constituents ,and the effects of food constituents on heal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utrien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mical substances in foods that are used by the body for growth and health</a:t>
            </a: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84360" y="40464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Comic Sans MS"/>
              </a:rPr>
              <a:t>Introduction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Principles of human Nutrition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od is a basic need of human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r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od provide energy (calories) ,nutrients, and other substances needed for growth and health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r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or nutrition can result from both inadequate and excessive levels of nutrient intak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lnutrition can result from poor diets and from diseases states, gentic factors, or combination of these cause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 algn="r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me groups of people are at higher risk of becoming inadequately nourished than other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or nutrition can influence the development of certain chronic disease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equacy and balance are key characteristics of a healthy die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Comic Sans MS"/>
              </a:rPr>
              <a:t>Life cycle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-Pregna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-Lact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-Infant(0-1 year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-Toddler(from 1-3 year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-Childhoo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-Adolsc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-adulthoo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-Elderly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hank you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5:46:57Z</dcterms:created>
  <dc:creator>User</dc:creator>
  <dc:description/>
  <dc:language>en-US</dc:language>
  <cp:lastModifiedBy>OMG</cp:lastModifiedBy>
  <cp:lastPrinted>2011-09-17T11:57:03Z</cp:lastPrinted>
  <dcterms:modified xsi:type="dcterms:W3CDTF">2011-09-17T12:05:49Z</dcterms:modified>
  <cp:revision>9</cp:revision>
  <dc:subject/>
  <dc:title>Nutrition through life cycle</dc:title>
</cp:coreProperties>
</file>