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points.wav" ContentType="audio/x-wav"/>
  <Override PartName="/ppt/media/image11.png" ContentType="image/png"/>
  <Override PartName="/ppt/media/image6.png" ContentType="image/png"/>
  <Override PartName="/ppt/media/image10.png" ContentType="image/png"/>
  <Override PartName="/ppt/media/TextToSpeech13.wav" ContentType="audio/x-wav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TextToSpeech12.wav" ContentType="audio/x-wav"/>
  <Override PartName="/ppt/media/TextToSpeech11.wav" ContentType="audio/x-wav"/>
  <Override PartName="/ppt/media/try.wav" ContentType="audio/x-wav"/>
  <Override PartName="/ppt/media/TextToSpeech10.wav" ContentType="audio/x-wav"/>
  <Override PartName="/ppt/media/TextToSpeech9.wav" ContentType="audio/x-wav"/>
  <Override PartName="/ppt/media/TextToSpeech3.wav" ContentType="audio/x-wav"/>
  <Override PartName="/ppt/media/image18.png" ContentType="image/png"/>
  <Override PartName="/ppt/media/TextToSpeech7.wav" ContentType="audio/x-wav"/>
  <Override PartName="/ppt/media/image17.png" ContentType="image/png"/>
  <Override PartName="/ppt/media/image16.png" ContentType="image/png"/>
  <Override PartName="/ppt/media/TextToSpeech5.wav" ContentType="audio/x-wav"/>
  <Override PartName="/ppt/media/image15.png" ContentType="image/png"/>
  <Override PartName="/ppt/media/image14.png" ContentType="image/png"/>
  <Override PartName="/ppt/media/TextToSpeech4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9D5-B493-4B24-AF5A-C935B135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FA3-E0E2-4BB7-A2C2-BB0002A2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CC8-BCD5-43D9-8840-B93ACA91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83E-5F76-4832-97DE-1E83AB5B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F936-D2CD-4931-BCC6-65EE46EB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7331-28AB-4884-BB38-27C0C20B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BDCF-B8D4-4777-913A-D4906AAB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5D03-EB22-40B1-9960-11298369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389F-5AF0-4A41-B06C-8102C789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0B74-5673-4DC5-991F-DC0ADA3D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8966-5A17-44FA-B727-CA67874B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CD7-33FB-49A0-A77C-06FDCC98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3761-4C87-4ED6-A4B7-2A864798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47A0-64BC-416D-BA58-6AE32C96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40AC-ED4B-4D5A-B253-2BDA4917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B228-6B7E-46B0-8950-CD27882C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D305-5DED-434E-B650-D828A5A2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D2A5-0508-452A-88B0-1B926A0A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26D2-6F39-4C16-8957-C8937961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4E0D-86B5-4864-B4AF-64DE7716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409C-8959-4BBC-A6FE-B4CA9C77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294C9-6764-441E-B045-A902CA4D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571-29E5-4A62-B314-22A089D6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5AF6A-1527-4E25-B20C-D29E40D5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B922-E0C8-4A3B-8A0A-E51E5237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1CC8-03A4-4355-9494-4E8550E0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F1C8F-938A-49E8-862A-A0D094DF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222A-3FA6-4EE4-A72C-4759126E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7BA0-DA16-441D-AFCB-6AA7C253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3069-9F08-44AF-A397-3670AA42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E0701-AB70-4237-BA65-E1FB93D6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21AF2-5763-4366-A9BB-E6240F3B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D3D8C-37C7-4B9A-AF7F-DDE36A52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0CF-A2D3-4CD6-9021-68453925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53D96-C8B3-4D41-BD2A-D21E6633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EB2C0-C169-49E5-B9B8-00E90B25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081CD-3C3E-421B-BEE4-C0CACDA6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4A0D-DF4B-4010-BBF1-8F635B45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5CA7-4278-4955-8E2F-3DA9349C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10E3-2FD0-485F-8DE9-01051942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BC5E-9AEE-41C9-AE8D-8633565A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B5E4F-67CE-4505-BE62-94813FCA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26A0-770B-4FDB-BA01-1D6ECC2E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BDD-887D-49B3-A8B1-2A7B79D7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CC6-9F7B-4DAB-B1EA-1F061264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585-6614-420E-8BC7-4CE0133D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1B6-3BBD-4AD5-A01D-35C1A07B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998-B540-48C7-9C0E-782B1AF8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0905-893F-4960-B54D-868B3874DD12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kjb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bebe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EE95-3CA5-4742-858B-F1F323A81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jbvjb"/>
          <p:cNvPicPr/>
          <p:nvPr/>
        </p:nvPicPr>
        <p:blipFill>
          <a:blip r:embed="rId2"/>
          <a:srcRect l="1665" t="41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3D22-D1B9-4870-BBF7-CCBDE242703C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jbvjb"/>
          <p:cNvPicPr/>
          <p:nvPr/>
        </p:nvPicPr>
        <p:blipFill>
          <a:blip r:embed="rId2"/>
          <a:srcRect l="1665" t="41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BD16-2080-4B46-86E8-CEEB20E07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3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5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7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9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10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11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12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13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ângulo 3" descr=""/>
          <p:cNvPicPr/>
          <p:nvPr/>
        </p:nvPicPr>
        <p:blipFill>
          <a:blip r:embed="rId1"/>
          <a:stretch/>
        </p:blipFill>
        <p:spPr>
          <a:xfrm>
            <a:off x="633240" y="1749600"/>
            <a:ext cx="7517160" cy="2120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t1.gstatic.com/images?q=tbn:ANd9GcT0vZPd9Zs0h_YDVcBoXl-ac_GC1ceHSlk_BMZMFB379mnUh5M&amp;t=1&amp;usg=__ZugD8Z8Mu8s_41Ocvr9HxJc2VO8="/>
          <p:cNvPicPr/>
          <p:nvPr/>
        </p:nvPicPr>
        <p:blipFill>
          <a:blip r:embed="rId2"/>
          <a:stretch/>
        </p:blipFill>
        <p:spPr>
          <a:xfrm>
            <a:off x="3429000" y="714240"/>
            <a:ext cx="2000160" cy="92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http://www.helpkidzlearn.com/images/menu_navigation/play_run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072120" y="4500720"/>
            <a:ext cx="196236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70" name="Estrela de 5 pontas 38"/>
          <p:cNvGrpSpPr/>
          <p:nvPr/>
        </p:nvGrpSpPr>
        <p:grpSpPr>
          <a:xfrm>
            <a:off x="5797440" y="822240"/>
            <a:ext cx="474840" cy="463680"/>
            <a:chOff x="5797440" y="822240"/>
            <a:chExt cx="474840" cy="463680"/>
          </a:xfrm>
        </p:grpSpPr>
        <p:pic>
          <p:nvPicPr>
            <p:cNvPr id="171" name="Estrela de 5 pontas 38" descr=""/>
            <p:cNvPicPr/>
            <p:nvPr/>
          </p:nvPicPr>
          <p:blipFill>
            <a:blip r:embed="rId4"/>
            <a:stretch/>
          </p:blipFill>
          <p:spPr>
            <a:xfrm>
              <a:off x="5797440" y="822240"/>
              <a:ext cx="474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969160" y="993600"/>
              <a:ext cx="1346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Estrela de 5 pontas 39"/>
          <p:cNvGrpSpPr/>
          <p:nvPr/>
        </p:nvGrpSpPr>
        <p:grpSpPr>
          <a:xfrm>
            <a:off x="6510240" y="603360"/>
            <a:ext cx="476280" cy="469800"/>
            <a:chOff x="6510240" y="603360"/>
            <a:chExt cx="476280" cy="469800"/>
          </a:xfrm>
        </p:grpSpPr>
        <p:pic>
          <p:nvPicPr>
            <p:cNvPr id="174" name="Estrela de 5 pontas 39" descr=""/>
            <p:cNvPicPr/>
            <p:nvPr/>
          </p:nvPicPr>
          <p:blipFill>
            <a:blip r:embed="rId5"/>
            <a:stretch/>
          </p:blipFill>
          <p:spPr>
            <a:xfrm>
              <a:off x="6510240" y="603360"/>
              <a:ext cx="4762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683400" y="779400"/>
              <a:ext cx="1350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Estrela de 5 pontas 40"/>
          <p:cNvGrpSpPr/>
          <p:nvPr/>
        </p:nvGrpSpPr>
        <p:grpSpPr>
          <a:xfrm>
            <a:off x="7223040" y="249120"/>
            <a:ext cx="476280" cy="463680"/>
            <a:chOff x="7223040" y="249120"/>
            <a:chExt cx="476280" cy="463680"/>
          </a:xfrm>
        </p:grpSpPr>
        <p:pic>
          <p:nvPicPr>
            <p:cNvPr id="177" name="Estrela de 5 pontas 40" descr=""/>
            <p:cNvPicPr/>
            <p:nvPr/>
          </p:nvPicPr>
          <p:blipFill>
            <a:blip r:embed="rId6"/>
            <a:stretch/>
          </p:blipFill>
          <p:spPr>
            <a:xfrm>
              <a:off x="7223040" y="249120"/>
              <a:ext cx="4762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397640" y="422280"/>
              <a:ext cx="1350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Estrela de 5 pontas 41"/>
          <p:cNvGrpSpPr/>
          <p:nvPr/>
        </p:nvGrpSpPr>
        <p:grpSpPr>
          <a:xfrm>
            <a:off x="1079640" y="324000"/>
            <a:ext cx="474480" cy="461880"/>
            <a:chOff x="1079640" y="324000"/>
            <a:chExt cx="474480" cy="461880"/>
          </a:xfrm>
        </p:grpSpPr>
        <p:pic>
          <p:nvPicPr>
            <p:cNvPr id="180" name="Estrela de 5 pontas 41" descr=""/>
            <p:cNvPicPr/>
            <p:nvPr/>
          </p:nvPicPr>
          <p:blipFill>
            <a:blip r:embed="rId7"/>
            <a:stretch/>
          </p:blipFill>
          <p:spPr>
            <a:xfrm>
              <a:off x="1079640" y="324000"/>
              <a:ext cx="4744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54240" y="493560"/>
              <a:ext cx="13500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Estrela de 5 pontas 42"/>
          <p:cNvGrpSpPr/>
          <p:nvPr/>
        </p:nvGrpSpPr>
        <p:grpSpPr>
          <a:xfrm>
            <a:off x="1798560" y="603360"/>
            <a:ext cx="468360" cy="469800"/>
            <a:chOff x="1798560" y="603360"/>
            <a:chExt cx="468360" cy="469800"/>
          </a:xfrm>
        </p:grpSpPr>
        <p:pic>
          <p:nvPicPr>
            <p:cNvPr id="183" name="Estrela de 5 pontas 42" descr=""/>
            <p:cNvPicPr/>
            <p:nvPr/>
          </p:nvPicPr>
          <p:blipFill>
            <a:blip r:embed="rId8"/>
            <a:stretch/>
          </p:blipFill>
          <p:spPr>
            <a:xfrm>
              <a:off x="1798560" y="603360"/>
              <a:ext cx="4683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968480" y="779400"/>
              <a:ext cx="1350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Estrela de 5 pontas 43"/>
          <p:cNvGrpSpPr/>
          <p:nvPr/>
        </p:nvGrpSpPr>
        <p:grpSpPr>
          <a:xfrm>
            <a:off x="2584440" y="822240"/>
            <a:ext cx="469800" cy="463680"/>
            <a:chOff x="2584440" y="822240"/>
            <a:chExt cx="469800" cy="463680"/>
          </a:xfrm>
        </p:grpSpPr>
        <p:pic>
          <p:nvPicPr>
            <p:cNvPr id="186" name="Estrela de 5 pontas 43" descr=""/>
            <p:cNvPicPr/>
            <p:nvPr/>
          </p:nvPicPr>
          <p:blipFill>
            <a:blip r:embed="rId9"/>
            <a:stretch/>
          </p:blipFill>
          <p:spPr>
            <a:xfrm>
              <a:off x="2584440" y="822240"/>
              <a:ext cx="4698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54360" y="993600"/>
              <a:ext cx="13500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1499760" y="2142720"/>
            <a:ext cx="714600" cy="428760"/>
          </a:xfrm>
          <a:prstGeom prst="rect">
            <a:avLst/>
          </a:prstGeom>
          <a:ln w="0">
            <a:noFill/>
          </a:ln>
        </p:spPr>
      </p:pic>
      <p:grpSp>
        <p:nvGrpSpPr>
          <p:cNvPr id="190" name="Rectangle 2"/>
          <p:cNvGrpSpPr/>
          <p:nvPr/>
        </p:nvGrpSpPr>
        <p:grpSpPr>
          <a:xfrm>
            <a:off x="7072200" y="3214800"/>
            <a:ext cx="469800" cy="2388960"/>
            <a:chOff x="7072200" y="3214800"/>
            <a:chExt cx="469800" cy="2388960"/>
          </a:xfrm>
        </p:grpSpPr>
        <p:pic>
          <p:nvPicPr>
            <p:cNvPr id="191" name="Rectangle 2" descr=""/>
            <p:cNvPicPr/>
            <p:nvPr/>
          </p:nvPicPr>
          <p:blipFill>
            <a:blip r:embed="rId2"/>
            <a:stretch/>
          </p:blipFill>
          <p:spPr>
            <a:xfrm>
              <a:off x="7072200" y="321480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9"/>
            <p:cNvSpPr/>
            <p:nvPr/>
          </p:nvSpPr>
          <p:spPr>
            <a:xfrm>
              <a:off x="7097400" y="324144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Rectangle 3"/>
          <p:cNvGrpSpPr/>
          <p:nvPr/>
        </p:nvGrpSpPr>
        <p:grpSpPr>
          <a:xfrm>
            <a:off x="7072200" y="3201840"/>
            <a:ext cx="469800" cy="2401920"/>
            <a:chOff x="7072200" y="3201840"/>
            <a:chExt cx="469800" cy="2401920"/>
          </a:xfrm>
        </p:grpSpPr>
        <p:pic>
          <p:nvPicPr>
            <p:cNvPr id="194" name="Rectangle 3" descr=""/>
            <p:cNvPicPr/>
            <p:nvPr/>
          </p:nvPicPr>
          <p:blipFill>
            <a:blip r:embed="rId3"/>
            <a:stretch/>
          </p:blipFill>
          <p:spPr>
            <a:xfrm>
              <a:off x="7072200" y="320184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7097400" y="322704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Line 4"/>
          <p:cNvSpPr/>
          <p:nvPr/>
        </p:nvSpPr>
        <p:spPr>
          <a:xfrm flipH="1">
            <a:off x="7661160" y="3298680"/>
            <a:ext cx="504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7666200" y="3298680"/>
            <a:ext cx="21564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7661160" y="554184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6715080" y="28576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AutoShape 11"/>
          <p:cNvGrpSpPr/>
          <p:nvPr/>
        </p:nvGrpSpPr>
        <p:grpSpPr>
          <a:xfrm>
            <a:off x="6737400" y="2263680"/>
            <a:ext cx="1487520" cy="542880"/>
            <a:chOff x="6737400" y="2263680"/>
            <a:chExt cx="1487520" cy="542880"/>
          </a:xfrm>
        </p:grpSpPr>
        <p:pic>
          <p:nvPicPr>
            <p:cNvPr id="201" name="AutoShape 11" descr=""/>
            <p:cNvPicPr/>
            <p:nvPr/>
          </p:nvPicPr>
          <p:blipFill>
            <a:blip r:embed="rId4"/>
            <a:stretch/>
          </p:blipFill>
          <p:spPr>
            <a:xfrm>
              <a:off x="6737400" y="2263680"/>
              <a:ext cx="14875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19"/>
            <p:cNvSpPr/>
            <p:nvPr/>
          </p:nvSpPr>
          <p:spPr>
            <a:xfrm>
              <a:off x="6799320" y="2298600"/>
              <a:ext cx="13701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3"/>
          <p:cNvSpPr/>
          <p:nvPr/>
        </p:nvSpPr>
        <p:spPr>
          <a:xfrm>
            <a:off x="7880400" y="32986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7880400" y="53704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MSj03883630000[1].wav" descr=""/>
          <p:cNvPicPr/>
          <p:nvPr/>
        </p:nvPicPr>
        <p:blipFill>
          <a:blip r:embed="rId5"/>
          <a:stretch/>
        </p:blipFill>
        <p:spPr>
          <a:xfrm>
            <a:off x="7808760" y="4227480"/>
            <a:ext cx="357480" cy="3808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2"/>
          <p:cNvSpPr/>
          <p:nvPr/>
        </p:nvSpPr>
        <p:spPr>
          <a:xfrm>
            <a:off x="1714680" y="414324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1785960" y="335772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571760" y="414324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 li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1571760" y="3357720"/>
            <a:ext cx="4143240" cy="4597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211" name="Rectângulo 32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ixaDeTexto 33"/>
          <p:cNvSpPr/>
          <p:nvPr/>
        </p:nvSpPr>
        <p:spPr>
          <a:xfrm>
            <a:off x="2357280" y="200016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--- ?--- my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" dur="1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60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3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215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216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219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226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2"/>
          <p:cNvSpPr/>
          <p:nvPr/>
        </p:nvSpPr>
        <p:spPr>
          <a:xfrm>
            <a:off x="2357280" y="3571920"/>
            <a:ext cx="36054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428920" y="428616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5"/>
          <p:cNvSpPr/>
          <p:nvPr/>
        </p:nvSpPr>
        <p:spPr>
          <a:xfrm>
            <a:off x="2214720" y="357192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2214720" y="428616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236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ixaDeTexto 25"/>
          <p:cNvSpPr/>
          <p:nvPr/>
        </p:nvSpPr>
        <p:spPr>
          <a:xfrm>
            <a:off x="1785960" y="20001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 usually -- ?--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3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6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1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609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5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240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241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244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251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2"/>
          <p:cNvSpPr/>
          <p:nvPr/>
        </p:nvSpPr>
        <p:spPr>
          <a:xfrm>
            <a:off x="2357280" y="3571920"/>
            <a:ext cx="36054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2428920" y="428616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2214720" y="357192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7"/>
          <p:cNvSpPr/>
          <p:nvPr/>
        </p:nvSpPr>
        <p:spPr>
          <a:xfrm>
            <a:off x="2214720" y="428616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261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aixaDeTexto 25"/>
          <p:cNvSpPr/>
          <p:nvPr/>
        </p:nvSpPr>
        <p:spPr>
          <a:xfrm>
            <a:off x="1785960" y="2000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t the moment the kids - ? – in the garden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0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2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3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" dur="1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4609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7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265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266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269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276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2"/>
          <p:cNvSpPr/>
          <p:nvPr/>
        </p:nvSpPr>
        <p:spPr>
          <a:xfrm>
            <a:off x="2428920" y="457200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3"/>
          <p:cNvSpPr/>
          <p:nvPr/>
        </p:nvSpPr>
        <p:spPr>
          <a:xfrm>
            <a:off x="2571840" y="392904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5"/>
          <p:cNvSpPr/>
          <p:nvPr/>
        </p:nvSpPr>
        <p:spPr>
          <a:xfrm>
            <a:off x="2286000" y="457200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2286000" y="392904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286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aixaDeTexto 25"/>
          <p:cNvSpPr/>
          <p:nvPr/>
        </p:nvSpPr>
        <p:spPr>
          <a:xfrm>
            <a:off x="1785960" y="2000160"/>
            <a:ext cx="64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--? – her bedroom while we are preparing something to eat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47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9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0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" dur="1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4609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9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3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290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291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294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301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2"/>
          <p:cNvSpPr/>
          <p:nvPr/>
        </p:nvSpPr>
        <p:spPr>
          <a:xfrm>
            <a:off x="2428920" y="457200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3"/>
          <p:cNvSpPr/>
          <p:nvPr/>
        </p:nvSpPr>
        <p:spPr>
          <a:xfrm>
            <a:off x="2571840" y="392904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2286000" y="457200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286000" y="392904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311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ixaDeTexto 25"/>
          <p:cNvSpPr/>
          <p:nvPr/>
        </p:nvSpPr>
        <p:spPr>
          <a:xfrm>
            <a:off x="1785960" y="2000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 always --?– the 9 o´clock t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94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5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6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97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" dur="1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4609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0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315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316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319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326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2"/>
          <p:cNvSpPr/>
          <p:nvPr/>
        </p:nvSpPr>
        <p:spPr>
          <a:xfrm>
            <a:off x="2428920" y="392904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3"/>
          <p:cNvSpPr/>
          <p:nvPr/>
        </p:nvSpPr>
        <p:spPr>
          <a:xfrm>
            <a:off x="2571840" y="457200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2286000" y="392904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2286000" y="457200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336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ixaDeTexto 25"/>
          <p:cNvSpPr/>
          <p:nvPr/>
        </p:nvSpPr>
        <p:spPr>
          <a:xfrm>
            <a:off x="1785960" y="2000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usually wears jeans but now she --?– a blue ski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41" dur="3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2" dur="3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3" dur="3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44" dur="3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3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" dur="1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4609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1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340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341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344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351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32"/>
          <p:cNvSpPr/>
          <p:nvPr/>
        </p:nvSpPr>
        <p:spPr>
          <a:xfrm>
            <a:off x="2428920" y="392904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3"/>
          <p:cNvSpPr/>
          <p:nvPr/>
        </p:nvSpPr>
        <p:spPr>
          <a:xfrm>
            <a:off x="2571840" y="457200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5"/>
          <p:cNvSpPr/>
          <p:nvPr/>
        </p:nvSpPr>
        <p:spPr>
          <a:xfrm>
            <a:off x="2286000" y="392904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286000" y="457200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361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aixaDeTexto 25"/>
          <p:cNvSpPr/>
          <p:nvPr/>
        </p:nvSpPr>
        <p:spPr>
          <a:xfrm>
            <a:off x="1785960" y="2000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 –- ? – on holidays with our family once a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88" dur="3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9" dur="3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0" dur="3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1" dur="3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" dur="1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4609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366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369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376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32"/>
          <p:cNvSpPr/>
          <p:nvPr/>
        </p:nvSpPr>
        <p:spPr>
          <a:xfrm>
            <a:off x="2428920" y="392904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3"/>
          <p:cNvSpPr/>
          <p:nvPr/>
        </p:nvSpPr>
        <p:spPr>
          <a:xfrm>
            <a:off x="2571840" y="457200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5"/>
          <p:cNvSpPr/>
          <p:nvPr/>
        </p:nvSpPr>
        <p:spPr>
          <a:xfrm>
            <a:off x="2286000" y="392904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2357280" y="4572000"/>
            <a:ext cx="414360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386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aixaDeTexto 25"/>
          <p:cNvSpPr/>
          <p:nvPr/>
        </p:nvSpPr>
        <p:spPr>
          <a:xfrm>
            <a:off x="1785960" y="2000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rst we --?– then we have 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35" dur="3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6" dur="3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7" dur="3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8" dur="3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1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4609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3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7:33:06Z</dcterms:created>
  <dc:creator>vanda</dc:creator>
  <dc:description/>
  <dc:language>en-US</dc:language>
  <cp:lastModifiedBy>win8</cp:lastModifiedBy>
  <dcterms:modified xsi:type="dcterms:W3CDTF">2014-10-17T10:12:32Z</dcterms:modified>
  <cp:revision>10</cp:revision>
  <dc:subject/>
  <dc:title>Diapositivo 1</dc:title>
</cp:coreProperties>
</file>