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22DD-B180-4A13-A35E-8C6C4D99C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AB8B-F588-43E6-89AB-AB92A2F43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3277-9A9E-46EC-A1F7-781ED645F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108B-1E07-4827-B2D2-9EF417BEB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D8ECC-350D-4847-94AD-5F92D4168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1D1B5-AEED-4A5F-A456-334962D01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AB70A-D466-40D0-8651-40CEED3D2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C35C4-5270-4B12-9F51-C20050AB9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9599A-C5FF-43B6-BE55-ADA75F24C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469EE-41C9-455A-B507-CD0F290EE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4A4C2-B7F3-4302-840D-61BB08ED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73A4-AAEC-4C67-8EFE-2CD6DB48A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084E8-745C-4FE9-9098-BD28AF5F8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EF347-3040-4365-ABCF-AFECE89FC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5E456-9B8A-4206-BF83-F136F7485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29B37-811A-45C2-85A0-A3026D806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6970F-3065-403A-A136-68653E387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902B-8146-4EB3-839F-68831E3E2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A72F-A05B-4861-82B9-88E24DD63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D8CD-E9A5-4C06-AE15-A1DDDA215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C5C7-157D-4D70-9037-A884767AF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4236-66D7-46FE-A677-07BB09DD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ED97-EF8B-41E7-AB33-6AAADEF23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2C99-872F-4EAD-A522-81D95799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bfbf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bfbfa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bfbfa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bfbfab"/>
                        </a:solidFill>
                        <a:ln w="9360">
                          <a:solidFill>
                            <a:srgbClr val="bfbfab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bfbfa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B93EB-4AE7-45E4-AA9F-C58FCA22336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3366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bfbf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bfbfa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bfbfa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bfbfab"/>
                        </a:solidFill>
                        <a:ln w="9360">
                          <a:solidFill>
                            <a:srgbClr val="bfbfab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bfbfa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EE65B-D16F-4F42-9EF6-A60AC28F329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336600"/>
              </a:buClr>
              <a:buSzPct val="6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COMMUNICATION SKILLS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724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eps To Successful Present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s To Successful Present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ep 2: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ick your primary points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ick points that are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ost relevant to the audience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ost important for the audience to remember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tinent to your objective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You want them to remember at least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s To Successful Present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ep 2: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ick your primary points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You can arrange primary points in one of these ways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hronologically, by date or in order of occurrence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patially or geographically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By priority, building form least to most important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s To Successful Present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ep 3: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supporting material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ch as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alogies, comparisons, or contrac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otation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istical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ults of surveys, tests, or researc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i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udiovisual aids, including graphs, charts, models, props, photos, and illustration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s To Successful Present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ep 3: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elect supporting material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at is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uited to the subject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nsistent with your objective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ppropriate to the audience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nough to establish the primary points.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s To Successful Present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ep 3: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lect supporting material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ed on four criteria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 clearly illustrates the primary point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 supports your objectiv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You can communicate it concisely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sum of all your material is doable within the time allotted to you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s To Successful Present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ep 4: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transition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one sentence, you restate the point you are leaving and introduce the point you are going to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y add a sense of sequence to your presentatio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 average, people listen for only three seconds out of every 10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ulate your voice when you say 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s To Successful Present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ep 5: recap and clos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is the “final” that should alway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ess upon the audience a significant poi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d on a positive no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clude the presentation decisivel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are many ways to close a presentatio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rhetorical question.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quot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riking statisti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humorous anecdot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moving stor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statement that echoes your obje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s To Successful Present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ep 5: recap and clos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ement related to your objective do one 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flect. Reiterate the objective and ask the audience to reflect on what they’ve hear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. Instruct the audience to do something by way of applying what they’ve hear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cide. Ask the audience to make a decision; approve your proposal, fund your project, buy your produc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s To Successful Present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ep 6: Open and Preview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n with one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elling quot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riking statistic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hetorical questio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umorous anecdot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gaging story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isual ai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bjectiv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539640" y="765000"/>
          <a:ext cx="8075880" cy="5832720"/>
        </p:xfrm>
        <a:graphic>
          <a:graphicData uri="http://schemas.openxmlformats.org/drawingml/2006/table">
            <a:tbl>
              <a:tblPr/>
              <a:tblGrid>
                <a:gridCol w="2305080"/>
                <a:gridCol w="3672000"/>
                <a:gridCol w="209880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gin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d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en &amp; Previe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mary point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pporting mate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transitio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mary point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pporting mate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transitio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mary point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pporting mate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transitio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cap &amp; Clo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8" name=""/>
          <p:cNvSpPr/>
          <p:nvPr/>
        </p:nvSpPr>
        <p:spPr>
          <a:xfrm>
            <a:off x="2556000" y="1844640"/>
            <a:ext cx="20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572000" y="1844640"/>
            <a:ext cx="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643280" y="6093000"/>
            <a:ext cx="2089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s To Successful Present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very presentation you do is a chance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o convey your credibility and competence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o inform and inspire people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o persuade others to accept and act on your ideas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o gain visibility to advance in your career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s To Successful Present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reate enhancement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y Visual aids according to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size of the audienc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setting and lighting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Your budge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ess to equip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w much lead time for preparatio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ength and nature of the presentatio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reate enhancement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isual aids should be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ear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lorful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ictorial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On occasion, surprising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y using handouts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rganiz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ean &amp; readabl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able of content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ubject &amp; page number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signpost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s To Successful Present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Prepare a presentation in three stages: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onsider the audience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ompose the content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reate enhancements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s To Successful Present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ider the audienc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your message matter – to them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do they already know about this subject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more do they need to know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their interests and concern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will speak to them and illuminate their understanding of this topic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s To Successful Present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nsider the audience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ake your message matter – to them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will motivate them to act on my message as I want them to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will give them an experience of value in exchange for the time and attention they’re going to give me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s To Successful Present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answers to these questions help you determine the content of your presentation and how to communicate i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evel of language to us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terminology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eferenc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supporting materials to include or exclud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s To Successful Present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ose the content of a presentation in six step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bjectiv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imary point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upporting material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i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ap and clos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ning and preview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s To Successful Present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ep 1: Establish your objectiv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you intend to accomplish by the end of your presentatio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do you want the audience to do as a result of listening to you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I’ve  finished this presentation, this audience will …………………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ailor the basic format to the specific situatio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s To Successful Present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ep 2: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ick your primary points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 well-organized presentation follows a logical sequence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imary points are the main categories under which you group the material you are going to present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ink “1-2-3 P’s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3T07:50:51Z</dcterms:created>
  <dc:creator>user</dc:creator>
  <dc:description/>
  <dc:language>en-US</dc:language>
  <cp:lastModifiedBy>user</cp:lastModifiedBy>
  <dcterms:modified xsi:type="dcterms:W3CDTF">2006-09-27T07:49:36Z</dcterms:modified>
  <cp:revision>5</cp:revision>
  <dc:subject/>
  <dc:title>COMMUNICATION SKILLS</dc:title>
</cp:coreProperties>
</file>