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7C6A-8B27-486F-AADA-5A707304F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B608-FE94-4A44-B642-A0EF0967F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914D-2FC4-4016-8D06-8F0764813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12B7-9571-4B54-A3A8-EB54CED46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5696B-0C35-408D-9BB5-7B1498EEC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CB7BD-6F7B-41D9-BD1E-36EBC2934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2E0B1-FB43-4E1D-813D-25110A969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4DB0E-04E8-4040-A5C9-CD4CFC56C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CC4BF-3FA1-45F5-BF2C-EE4A27EED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0C493-9FFC-4501-8E4A-B14B3F521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F122A-BABB-4D9A-B1EB-598485F1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9E89-C455-461D-956D-967B18E80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4B3C7-42E3-4110-AA08-C693BD8C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3D71E-D420-47F3-9384-C8330927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F596A-DA32-46DF-B3F4-9C8C54C75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3D16A-D194-4F10-B44C-E2E5A9837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065FC-7C6F-4777-9000-0E72A1F26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DA3B-0440-41C3-9634-6B375B763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B1F6-21BB-434A-927D-C1D756AA2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E614-FEA6-4DF0-961D-896F0C9CC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2EEF-FDB2-441C-B65A-0E02B51C4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1000-D57D-481D-9DD4-7AE3812B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A1F7-44B2-4411-BCFA-D2E86AC2A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C8BE-1CEF-4594-9DF0-0BB314E4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bfbf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bfbfa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bfbfa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fbfab"/>
                        </a:solidFill>
                        <a:ln w="9360">
                          <a:solidFill>
                            <a:srgbClr val="bfbfab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bfbfa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C64E7-6FFC-43E4-8CB7-604D269609B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3366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bfbf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bfbfa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bfbfa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fbfab"/>
                        </a:solidFill>
                        <a:ln w="9360">
                          <a:solidFill>
                            <a:srgbClr val="bfbfab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bfbfa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0D4B3-9AD8-4BF0-BF24-DDB51730A06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336600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COMMUNICATION SKILLS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724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eps To Successful Present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s To Successful Presen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ep 2: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ick your primary points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ick points that are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ost relevant to the audience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ost important for the audience to remember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tinent to your objective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You want them to remember at least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s To Successful Presen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ep 2: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ick your primary points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You can arrange primary points in one of these ways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hronologically, by date or in order of occurrence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patially or geographically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By priority, building form least to most important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s To Successful Presen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ep 3: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supporting material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ch as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alogies, comparisons, or contrac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otatio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ults of surveys, tests, or resear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i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udiovisual aids, including graphs, charts, models, props, photos, and illustratio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s To Successful Presen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ep 3: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lect supporting material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at is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uited to the subject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nsistent with your objective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ppropriate to the audience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nough to establish the primary points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s To Successful Presen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ep 3: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lect supporting material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four criteria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 clearly illustrates the primary point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 supports your objectiv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ou can communicate it concisely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sum of all your material is doable within the time allotted to you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s To Successful Presen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ep 4: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transition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one sentence, you restate the point you are leaving and introduce the point you are going to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y add a sense of sequence to your presentatio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 average, people listen for only three seconds out of every 10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ate your voice when you say 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s To Successful Presen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ep 5: recap and clos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is the “final” that should alway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ss upon the audience a significant poi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d on a positive no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clude the presentation decisivel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are many ways to close a presenta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rhetorical question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quot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iking statisti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humorous anecdo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oving stor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statement that echoes your obje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s To Successful Presen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ep 5: recap and clos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ement related to your objective do one 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lect. Reiterate the objective and ask the audience to reflect on what they’ve hear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. Instruct the audience to do something by way of applying what they’ve hear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cide. Ask the audience to make a decision; approve your proposal, fund your project, buy your produc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s To Successful Presen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ep 6: Open and Preview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 with one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elling quot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riking statistic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hetorical questio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umorous anecdot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gaging story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isual ai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jectiv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539640" y="765000"/>
          <a:ext cx="8075880" cy="5832720"/>
        </p:xfrm>
        <a:graphic>
          <a:graphicData uri="http://schemas.openxmlformats.org/drawingml/2006/table">
            <a:tbl>
              <a:tblPr/>
              <a:tblGrid>
                <a:gridCol w="2305080"/>
                <a:gridCol w="3672000"/>
                <a:gridCol w="209880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gin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d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en &amp; Previ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mary point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pporting mate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transitio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mary point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pporting mate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transitio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mary point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pporting mate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transitio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cap &amp; Clo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8" name=""/>
          <p:cNvSpPr/>
          <p:nvPr/>
        </p:nvSpPr>
        <p:spPr>
          <a:xfrm>
            <a:off x="2556000" y="1844640"/>
            <a:ext cx="20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572000" y="184464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643280" y="6093000"/>
            <a:ext cx="2089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s To Successful Presen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very presentation you do is a chance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o convey your credibility and competence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o inform and inspire people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o persuade others to accept and act on your ideas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o gain visibility to advance in your career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s To Successful Presen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reate enhancemen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y Visual aids according to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size of the audienc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setting and lighting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our budge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ess to equip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 much lead time for preparatio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ength and nature of the presentatio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reate enhancement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isual aids should be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ear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lorful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ictorial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n occasion, surprising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y using handouts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rganiz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ean &amp; readabl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able of content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bject &amp; page number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signpost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s To Successful Presen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repare a presentation in three stages: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onsider the audience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ompose the content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reate enhancements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s To Successful Presen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ider the audienc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your message matter – to the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do they already know about this subject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more do they need to know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their interests and concern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will speak to them and illuminate their understanding of this topic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s To Successful Presen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nsider the audienc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ake your message matter – to them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will motivate them to act on my message as I want them to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will give them an experience of value in exchange for the time and attention they’re going to give me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s To Successful Presen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answers to these questions help you determine the content of your presentation and how to communicate i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evel of language to us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terminology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eferenc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supporting materials to include or exclud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s To Successful Presen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ose the content of a presentation in six step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mary point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pporting material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i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ap and clos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and preview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s To Successful Presen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ep 1: Establish your objectiv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you intend to accomplish by the end of your presentatio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do you want the audience to do as a result of listening to you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’ve  finished this presentation, this audience will …………………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ailor the basic format to the specific situatio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s To Successful Presen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ep 2: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ick your primary points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 well-organized presentation follows a logical sequence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imary points are the main categories under which you group the material you are going to present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nk “1-2-3 P’s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3T07:50:51Z</dcterms:created>
  <dc:creator>user</dc:creator>
  <dc:description/>
  <dc:language>en-US</dc:language>
  <cp:lastModifiedBy>user</cp:lastModifiedBy>
  <dcterms:modified xsi:type="dcterms:W3CDTF">2006-09-27T07:49:36Z</dcterms:modified>
  <cp:revision>5</cp:revision>
  <dc:subject/>
  <dc:title>COMMUNICATION SKILLS</dc:title>
</cp:coreProperties>
</file>