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BE5F6-869B-435A-85BF-CE322E90B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76B62-09E7-41A4-8F44-8F413F7A0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29BFA-6C61-41FD-ABEA-A0DD66574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46E99-F810-4727-9FD9-B374CF28A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793C-79AC-454C-91B1-2663D1C6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F468-C898-42B8-93D4-3A6C9D3F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D928E-B45E-4954-ACC3-CE2510BB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C4D7A-4B0B-4B19-A89D-090B0FC82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1E351-CBE2-496D-AAB1-EA41F9F4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582D-C57A-4A22-920F-3BB12CDC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2C46-9B9D-448D-8585-508FABEE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C4EF-3946-44F5-B035-3FF65A6B8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EC9A-BDA0-4830-AB4F-A6EE8F80A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402</a:t>
            </a:r>
            <a:r>
              <a:rPr b="1" lang="ar-SA" sz="3200" spc="-1" strike="noStrike">
                <a:solidFill>
                  <a:srgbClr val="000000"/>
                </a:solidFill>
                <a:latin typeface="Arial"/>
              </a:rPr>
              <a:t> قصر </a:t>
            </a:r>
            <a:br>
              <a:rPr sz="3200"/>
            </a:br>
            <a:r>
              <a:rPr b="1" lang="ar-SA" sz="3200" spc="-1" strike="noStrike">
                <a:solidFill>
                  <a:srgbClr val="000000"/>
                </a:solidFill>
                <a:latin typeface="Arial"/>
              </a:rPr>
              <a:t>تطبيقات الحاسب الآلي في الاقتصاد الزراع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717482-6F86-4784-9F7E-9D51A508EF3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026B811-DD10-44F9-B736-49015B365F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78E39C-8627-483E-847A-4284B06990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A60F1F-0C50-4428-8E06-261BD29E67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EF949F4-EBF7-4D90-B2A9-84B9B7AFF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3B695FC-1640-4DF8-954C-C7745EDD8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417825-DC19-4F11-972F-E1C679D03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6C2BED5-7BF0-4489-862B-0B1AFC84F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D00B9E-896A-4D86-BA02-36FC4E2E8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9:04:13Z</dcterms:modified>
  <cp:revision>122</cp:revision>
  <dc:subject/>
  <dc:title>Slide 1</dc:title>
</cp:coreProperties>
</file>