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5AB-65DD-4B32-8466-5C684457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2D4-9D90-431E-894C-B442BEFF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A1E-5E2A-4E57-AF1E-ACC1A9E4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F20-E3B4-4F26-9092-64B0B322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398-9A12-428B-9629-C6AC8D37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146-7CBB-4D03-8B05-9CB48B8D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A28-88A0-4F33-932E-9E4107A9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2CF-0C8B-4EC9-A31F-25740795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D4A-3D01-4F64-8057-CFBBB09B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62E-A62D-449A-9757-2C637598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B5C-88B7-4189-A92A-095F9F04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D9C-54AF-4D9A-8160-1539FA40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A6CE-B772-49B6-943E-AA88F7368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ادة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0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صر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طبيقات الحاسب الآلي في الاقتصاد الزراعي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سبوع السادس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د سفر حسين القحط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 سليمان عبدالعزيز المعج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3162240" cy="21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16224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87640" y="2349360"/>
            <a:ext cx="4743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16000" y="907920"/>
          <a:ext cx="6984720" cy="511308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_Cod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مز المنطق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لسل عا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ساحة بال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بنية الأساسية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آلات والمعدات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مياه والأبار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LaborCost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عمالة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تشغيل العامة الأخرى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إنتاج (المستلزمات)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_Pro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كمية الإنتاج بالطن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By_Valu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قيمة الناتج الثانوي بالريا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VO1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نقل محصول الحبوب إلى مؤسسة الصوامع والغلال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لف عمل لعدد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ز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راءة بيانات المتغيرات السابقة (عدا رمز المنطقة و المسلسل العا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جري الخطوة السابقة باستخدام النسخ والص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م باستخدام التعامل مع ملف البرنام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تغيرات ذات معنى اقتصادي لتقدير دوال التكالي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اليف ك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ثابت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متغ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0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طلوب إعداد البيانات وفقاً للتا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130320"/>
            <a:ext cx="799128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new work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optional_name frequency start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provide an optional name for your workfile. If you do not, EViews will create an untitled work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specify the frequency, and the starting and ending dates of your data. For undated data, you should specify the starting and ending observation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choose one of the following options to specify the frequency of your workfi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i-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e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5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7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ated or irreg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1880 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annual workfile from 1880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m 1990:1 2010: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monthly workfile from January 1990 to December 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w 2/10/1951 3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weekly workfile from the week starting February 10, 1951 to the week starting March 17, 199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u 1 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undated workfile with 5000 observ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08:03Z</dcterms:created>
  <dc:creator>Staf</dc:creator>
  <dc:description/>
  <dc:language>en-US</dc:language>
  <cp:lastModifiedBy>Dell</cp:lastModifiedBy>
  <dcterms:modified xsi:type="dcterms:W3CDTF">2011-03-13T09:04:20Z</dcterms:modified>
  <cp:revision>39</cp:revision>
  <dc:subject/>
  <dc:title>Slide 1</dc:title>
</cp:coreProperties>
</file>