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E10-FC2C-4BEB-8B57-67B45CE3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372-23E7-41F6-B3FF-F209E9C1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287E-FCE7-4E28-A77D-173AC2AA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399-0BCD-4CC9-A48A-3E8074C6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D7E-536D-4C5F-80D7-DF7DE4A2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272-61AE-4B29-AFEC-1CD96B89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3F2-7174-464E-B0F9-9E74B90E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C35-AFF9-4B7F-A869-5A1F3739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9AF-8C12-4E8D-856F-718109CC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224-E3BA-46E6-ADCD-9E2A410E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897A-9F5A-44EE-B971-C004939C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EEF-9A4D-496D-8E30-D114679B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F73-A78A-42EB-A513-AF859844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ادة: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0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قصر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طبيقات الحاسب الآلي في الاقتصاد الزراعي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سبوع السادس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د سفر حسين القحط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. سليمان عبدالعزيز المعج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3162240" cy="2180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2349360"/>
            <a:ext cx="3162240" cy="2181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87640" y="2349360"/>
            <a:ext cx="474336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90880" y="2338560"/>
            <a:ext cx="474336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116000" y="907920"/>
          <a:ext cx="6984720" cy="511308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_Cod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مز المنطق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سلسل عا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ساحة بال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بنية الأساسية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كلفة للآلات والمعدات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Ast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مياه والأبار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LaborCost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عمالة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تشغيل العامة الأخرى ريال/ 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DOprt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إنتاج (المستلزمات)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_Pro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كمية الإنتاج بالطن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By_Valu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جمالي قيمة الناتج الثانوي بالريا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VO1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نقل محصول الحبوب إلى مؤسسة الصوامع والغلال ريال/دونم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لف عمل لعدد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زر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قراءة بيانات المتغيرات السابقة (عدا رمز المنطقة و المسلسل ال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جري الخطوة السابقة باستخدام النسخ والص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ثم باستخدام التعامل مع ملف البرنام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شاء متغيرات ذات معنى اقتصادي لتقدير دوال التكالي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اليف ك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ثابت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كلفة متغي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404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طلوب إعداد البيانات وفقاً للتا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54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130320"/>
            <a:ext cx="7991280" cy="65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new workfil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optional_name frequency start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provide an optional name for your workfile. If you do not, EViews will create an untitled workfi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specify the frequency, and the starting and ending dates of your data. For undated data, you should specify the starting and ending observation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ust choose one of the following options to specify the frequency of your workfi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i-ann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rte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th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ek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5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ily (7 day wee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ated or irreg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 1880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annual workfile from 1880 to 199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m 1990:1 2010: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monthly workfile from January 1990 to December 201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w 2/10/1951 3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 weekly workfile from the week starting February 10, 1951 to the week starting March 17, 199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u 1 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s an undated workfile with 5000 observ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21:08:03Z</dcterms:created>
  <dc:creator>Staf</dc:creator>
  <dc:description/>
  <dc:language>en-US</dc:language>
  <cp:lastModifiedBy>Dell</cp:lastModifiedBy>
  <dcterms:modified xsi:type="dcterms:W3CDTF">2011-03-13T09:04:20Z</dcterms:modified>
  <cp:revision>39</cp:revision>
  <dc:subject/>
  <dc:title>Slide 1</dc:title>
</cp:coreProperties>
</file>