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DEC-F08B-431D-A517-F82D26C6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D7D-3112-45C2-AE95-D7614D41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286-620D-476D-918E-D733AFA2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C34-FF16-4E56-8A9C-A47FED84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825-D696-4224-B356-040EBACD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FD6-9763-47D7-A029-5F860A96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8FA-AAC6-4859-8008-CF8FF32C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CEF-C3CB-4A15-B95A-AB339474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C65-7CC6-4502-B246-F4CD6600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0E7-02D5-417C-BEA9-F23A8A0B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251-B06E-4F65-A5EA-8FB0EB9D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532-6F66-4151-93AE-9640D8F5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0DE6-A7CD-46B4-B0C3-80669C976C6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3CF8-1BDF-4608-92EB-EF072B06385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p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ypes of Lip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s, and Oi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emical Properties of Triglycerid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" name="Picture 4" descr="C:\Program Files\Microsoft Office\Clipart\smbusbas\fd00346_.wmf"/>
          <p:cNvPicPr/>
          <p:nvPr/>
        </p:nvPicPr>
        <p:blipFill>
          <a:blip r:embed="rId1"/>
          <a:stretch/>
        </p:blipFill>
        <p:spPr>
          <a:xfrm>
            <a:off x="3429000" y="4114800"/>
            <a:ext cx="26002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EA78-DB55-4696-B5CD-95311E2A19D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مستطيل 4"/>
          <p:cNvSpPr/>
          <p:nvPr/>
        </p:nvSpPr>
        <p:spPr>
          <a:xfrm>
            <a:off x="228600" y="304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Reactions of alkenyl chain of  unsaturated fatty acids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80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B2B2-3C37-4213-8D8C-06628E50A29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ts and Oil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ed from glycerol and fatty aci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4" name="Object 0"/>
          <p:cNvGraphicFramePr/>
          <p:nvPr/>
        </p:nvGraphicFramePr>
        <p:xfrm>
          <a:off x="0" y="2666880"/>
          <a:ext cx="741528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7415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Line 7"/>
          <p:cNvSpPr/>
          <p:nvPr/>
        </p:nvSpPr>
        <p:spPr>
          <a:xfrm>
            <a:off x="7467480" y="403848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816D-472E-499C-BECF-43845933EC4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iglycerides (triacylglycerols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ters of glycerol and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1371600" y="2666880"/>
          <a:ext cx="586260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666880"/>
                    <a:ext cx="586260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6E44-412F-461C-A120-0607B21B8B4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ponification and Soa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lysis with a strong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glycerides split into glycerol and the salts of fatty aci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alts of fatty acids are “soaps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OH gives softer soa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5" name="Picture 5" descr="C:\Program Files\Microsoft Office\Clipart\smbusbas\bd20109_.wmf"/>
          <p:cNvPicPr/>
          <p:nvPr/>
        </p:nvPicPr>
        <p:blipFill>
          <a:blip r:embed="rId1"/>
          <a:stretch/>
        </p:blipFill>
        <p:spPr>
          <a:xfrm>
            <a:off x="5334120" y="3962520"/>
            <a:ext cx="2195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2517-FFB2-42CC-BF84-BB196E928CE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ponifi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-447840" y="1905120"/>
          <a:ext cx="95918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47840" y="1905120"/>
                    <a:ext cx="95918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276D-6138-49CF-BD00-0FA2E995DC3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ypes of Lip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ipids with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x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s and oils (trigycerid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hingolip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ipids without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ro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EB72-5335-43C2-A38B-B043794F4EB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tt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chain carboxylic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oluble in wat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ypically 12-18 carbon atoms (even number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me contain double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n oil contains 86%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saturated fatty acids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4%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urated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" name="Picture 4" descr="C:\Program Files\Microsoft Office\Clipart\standard\stddir3\fd01247_.wmf"/>
          <p:cNvPicPr/>
          <p:nvPr/>
        </p:nvPicPr>
        <p:blipFill>
          <a:blip r:embed="rId1"/>
          <a:stretch/>
        </p:blipFill>
        <p:spPr>
          <a:xfrm>
            <a:off x="1219320" y="4191120"/>
            <a:ext cx="1771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77F1-DE53-4DA9-BC06-83C8B4C4AE6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turated and Unsaturated Fatt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urated = 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–C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nsaturated = one or more C=C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6" descr="C:\Program Files\Microsoft Office\Clipart\standard\stddir3\na01439_.wmf"/>
          <p:cNvPicPr/>
          <p:nvPr/>
        </p:nvPicPr>
        <p:blipFill>
          <a:blip r:embed="rId1"/>
          <a:stretch/>
        </p:blipFill>
        <p:spPr>
          <a:xfrm>
            <a:off x="0" y="990720"/>
            <a:ext cx="2049480" cy="232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1371600" y="3259080"/>
            <a:ext cx="70866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CC03-A224-47EA-B13E-5DB6344F09D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0" y="380880"/>
            <a:ext cx="882972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0" y="3505320"/>
            <a:ext cx="883908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0BCD-B303-43B7-B211-5BF16B21456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uc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urated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t closely in regular patter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saturated fatty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 double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752480" y="3017880"/>
          <a:ext cx="46483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17880"/>
                    <a:ext cx="46483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5"/>
          <p:cNvGraphicFramePr/>
          <p:nvPr/>
        </p:nvGraphicFramePr>
        <p:xfrm>
          <a:off x="3505320" y="4361040"/>
          <a:ext cx="601956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361040"/>
                    <a:ext cx="601956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A1B1-82B9-4900-A838-4EA66EFB0C9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erties of Saturat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tt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ain only single 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–C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sely pack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ong attractions between chai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gh melting po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ids at room tempera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5" descr="C:\Program Files\Microsoft Office\Clipart\standard\stddir3\fd00997_.wmf"/>
          <p:cNvPicPr/>
          <p:nvPr/>
        </p:nvPicPr>
        <p:blipFill>
          <a:blip r:embed="rId1"/>
          <a:stretch/>
        </p:blipFill>
        <p:spPr>
          <a:xfrm>
            <a:off x="6095880" y="3886200"/>
            <a:ext cx="23320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F5A3-0801-40E9-BE7E-8B0563A27A9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erties of Unsaturat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tt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ain one or more double 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=C bo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nlinear chains do not allow molecules to pack closel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w interactions between chai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w melting po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quids at room tempera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4" descr="C:\Program Files\Microsoft Office\Clipart\standard\stddir3\fd01216_.wmf"/>
          <p:cNvPicPr/>
          <p:nvPr/>
        </p:nvPicPr>
        <p:blipFill>
          <a:blip r:embed="rId1"/>
          <a:stretch/>
        </p:blipFill>
        <p:spPr>
          <a:xfrm>
            <a:off x="6172200" y="4038480"/>
            <a:ext cx="254016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79A2-369A-45DA-96FD-B3948EDEB16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6889680" cy="3733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3840" y="45720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ctions of carboxyl group of fatty ac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9T22:52:03Z</dcterms:created>
  <dc:creator>Timberlake</dc:creator>
  <dc:description/>
  <dc:language>en-US</dc:language>
  <cp:lastModifiedBy>shalaqeel</cp:lastModifiedBy>
  <dcterms:modified xsi:type="dcterms:W3CDTF">2017-11-29T07:23:08Z</dcterms:modified>
  <cp:revision>48</cp:revision>
  <dc:subject/>
  <dc:title>Lipids</dc:title>
</cp:coreProperties>
</file>