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4B9-7471-4848-A979-2AA98094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612-B539-48E2-9B96-DC230F70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DBD-51A4-47AF-A5BF-8851452E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507-7D1D-46A4-A065-7304B043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21E-69CB-4031-9944-C392705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2F1-88EF-4480-A2C0-77C64137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4FE-1876-4160-860D-041E1E45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661-8B36-46AE-BCAF-6FEECDE3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0B5-C581-4240-A5B8-501AAD7F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F1E-3A90-4D30-AB72-2994935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AE2-BB16-480C-801B-B16D264E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AD0-428E-4BAE-AFC1-E19D6A67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BF5C-83EA-4F36-A6B3-C7CF1251760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B25B-3EE2-4E53-81BB-D58DFC783A8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p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ypes of Lip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s, and Oi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emical Properties of Triglycerid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" name="Picture 4" descr="C:\Program Files\Microsoft Office\Clipart\smbusbas\fd00346_.wmf"/>
          <p:cNvPicPr/>
          <p:nvPr/>
        </p:nvPicPr>
        <p:blipFill>
          <a:blip r:embed="rId1"/>
          <a:stretch/>
        </p:blipFill>
        <p:spPr>
          <a:xfrm>
            <a:off x="3429000" y="4114800"/>
            <a:ext cx="26002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6FC5-8BE5-4682-B8EF-4AE927A614B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مستطيل 4"/>
          <p:cNvSpPr/>
          <p:nvPr/>
        </p:nvSpPr>
        <p:spPr>
          <a:xfrm>
            <a:off x="228600" y="304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Reactions of alkenyl chain of  unsaturated fatty acid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80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A9CF-9A67-474B-B02A-AE1236B46A8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ts and Oil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ed from glycerol and fatty aci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4" name="Object 0"/>
          <p:cNvGraphicFramePr/>
          <p:nvPr/>
        </p:nvGraphicFramePr>
        <p:xfrm>
          <a:off x="0" y="2666880"/>
          <a:ext cx="741528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7415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Line 7"/>
          <p:cNvSpPr/>
          <p:nvPr/>
        </p:nvSpPr>
        <p:spPr>
          <a:xfrm>
            <a:off x="7467480" y="403848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DE64-83C2-4E92-8155-CD25DFA7CBD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iglycerides (triacylglycerols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ters of glycerol and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1371600" y="2666880"/>
          <a:ext cx="586260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666880"/>
                    <a:ext cx="586260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2CD8-4049-48F2-A356-87743AD5068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ponification and Soa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lysis with a strong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glycerides split into glycerol and the salts of fatty aci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lts of fatty acids are “soaps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OH gives softer soa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5" name="Picture 5" descr="C:\Program Files\Microsoft Office\Clipart\smbusbas\bd20109_.wmf"/>
          <p:cNvPicPr/>
          <p:nvPr/>
        </p:nvPicPr>
        <p:blipFill>
          <a:blip r:embed="rId1"/>
          <a:stretch/>
        </p:blipFill>
        <p:spPr>
          <a:xfrm>
            <a:off x="5334120" y="3962520"/>
            <a:ext cx="2195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C3F4-5356-4181-8044-F4BCFFC4B04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ponifi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-447840" y="1905120"/>
          <a:ext cx="95918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47840" y="1905120"/>
                    <a:ext cx="95918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30E2-2D36-497A-A002-9B925C5D879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ypes of Lip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ipids with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x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s and oils (trigycerid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hingolip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ipids without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ro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1160-9FC9-4DB9-8FB4-94F1B96B910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tt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chain carboxylic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oluble in wat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ypically 12-18 carbon atoms (even number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me contain double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n oil contains 86%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saturated fatty acids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4%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urated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" name="Picture 4" descr="C:\Program Files\Microsoft Office\Clipart\standard\stddir3\fd01247_.wmf"/>
          <p:cNvPicPr/>
          <p:nvPr/>
        </p:nvPicPr>
        <p:blipFill>
          <a:blip r:embed="rId1"/>
          <a:stretch/>
        </p:blipFill>
        <p:spPr>
          <a:xfrm>
            <a:off x="1219320" y="4191120"/>
            <a:ext cx="1771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577D-611C-4E03-ADF0-B94A9BA6695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turated and Unsaturated Fatt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urated = 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–C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nsaturated = one or more C=C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6" descr="C:\Program Files\Microsoft Office\Clipart\standard\stddir3\na01439_.wmf"/>
          <p:cNvPicPr/>
          <p:nvPr/>
        </p:nvPicPr>
        <p:blipFill>
          <a:blip r:embed="rId1"/>
          <a:stretch/>
        </p:blipFill>
        <p:spPr>
          <a:xfrm>
            <a:off x="0" y="990720"/>
            <a:ext cx="2049480" cy="232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1371600" y="3259080"/>
            <a:ext cx="70866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4BB1-E6CA-4F06-83F8-765912FFF29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0" y="380880"/>
            <a:ext cx="882972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0" y="3505320"/>
            <a:ext cx="883908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9031-901C-4C78-8CF5-0E25BF9748E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uc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urated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t closely in regular patter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saturated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 double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752480" y="3017880"/>
          <a:ext cx="46483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17880"/>
                    <a:ext cx="46483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5"/>
          <p:cNvGraphicFramePr/>
          <p:nvPr/>
        </p:nvGraphicFramePr>
        <p:xfrm>
          <a:off x="3505320" y="4361040"/>
          <a:ext cx="601956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361040"/>
                    <a:ext cx="601956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C6D2-E587-46E9-81E3-7CB8F171029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erties of Saturat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tt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ain only single 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–C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sely pack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ong attractions between chai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gh melting po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ids at room tempera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5" descr="C:\Program Files\Microsoft Office\Clipart\standard\stddir3\fd00997_.wmf"/>
          <p:cNvPicPr/>
          <p:nvPr/>
        </p:nvPicPr>
        <p:blipFill>
          <a:blip r:embed="rId1"/>
          <a:stretch/>
        </p:blipFill>
        <p:spPr>
          <a:xfrm>
            <a:off x="6095880" y="3886200"/>
            <a:ext cx="23320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80DC-F313-4CE7-B06A-0DE2DCF1451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erties of Unsaturat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tt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ain one or more double 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=C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nlinear chains do not allow molecules to pack closel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w interactions between chai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w melting po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quids at room tempera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4" descr="C:\Program Files\Microsoft Office\Clipart\standard\stddir3\fd01216_.wmf"/>
          <p:cNvPicPr/>
          <p:nvPr/>
        </p:nvPicPr>
        <p:blipFill>
          <a:blip r:embed="rId1"/>
          <a:stretch/>
        </p:blipFill>
        <p:spPr>
          <a:xfrm>
            <a:off x="6172200" y="4038480"/>
            <a:ext cx="254016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7B10-00ED-42F4-A0F1-7DAFDA3F61A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6889680" cy="3733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3840" y="45720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ctions of carboxyl group of fatty ac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9T22:52:03Z</dcterms:created>
  <dc:creator>Timberlake</dc:creator>
  <dc:description/>
  <dc:language>en-US</dc:language>
  <cp:lastModifiedBy>shalaqeel</cp:lastModifiedBy>
  <dcterms:modified xsi:type="dcterms:W3CDTF">2017-11-29T07:23:08Z</dcterms:modified>
  <cp:revision>48</cp:revision>
  <dc:subject/>
  <dc:title>Lipids</dc:title>
</cp:coreProperties>
</file>