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F59-2DE7-4588-89AA-B5D8F95E4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F5B-9AF7-465A-B94A-02E369CC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1DB-2E50-42F2-B389-B5EA7E40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4CD-D5C7-4B08-92F6-BC50AF5A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0671-B4D4-4250-AF3F-6A3B4713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76E0-C1AA-4293-97A6-65CA6CF9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B4F7-E4DE-4A98-B287-63488FAC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8BA4-3D71-47B3-A2F4-498A4930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29B9-6136-4092-A52F-EAE2D15E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EA2A-D46D-4C7E-9AFE-1EC1E54D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602F-0F72-49B3-9116-FBCDCAD6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F7C-3928-470B-A6A0-9FD74087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FB46-3B22-409D-8F90-9C4CE020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B247-31E2-465C-B02C-F1A14397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6DD3-8073-4CCB-9D31-7CC224A3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AB6A-4D4D-4D90-A667-24D51419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86890-329F-4EE4-9744-4B8959BB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7F4A9-57BC-4B7D-940A-EF83484F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0423D-33C5-4415-89F7-04E1E94B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88FEF-934E-42D9-9307-60DE11F8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EC4FD-C286-41C4-8665-AD24F5F9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6DB62-228C-44AE-9998-A5C47D27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13C-E1B1-4A64-AA82-1FB56888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2F5D3-08DF-4781-95BC-02235437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59FB5-DC70-4594-957F-529B6CB3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5AF71-5986-4B58-A2A4-9C2837A0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BF8B9-DA2C-4DD0-AE4E-F7F74C1D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B77AD-F64E-4D09-A41C-182276E8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2C9A0-4937-4AA8-B182-0A1A6C20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9F31B-C445-412B-A874-0461733E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AEA-24A2-49CB-BFF3-8E27C9DE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CC1-8084-4610-8D15-DEF12B01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229-8393-4963-8105-69B6A1D3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9F2-D86D-464B-A020-9BE53670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F86-667B-494F-9462-658842BD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25A-4544-49D1-84B3-3D7A50BF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CAA7-D4AC-4F92-B005-FF1445BB5028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B886-3580-4A30-9554-57F44E63CFD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52F5-3C3D-462D-8B3A-38A673D0563A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omatosensory Pathway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 No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ility to Determine Stimu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isely where on the body a specific stimulus originated depends on the projection of information from the thalamus to the primary sensory cor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ensory Homuncul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7" descr="_x0019_1505bAntSpiTraAnPat_L.jpg                                      00201B69_x0019_FAP7_JPEGS_ch12-18Labeled      BE4B5C3E:"/>
          <p:cNvPicPr/>
          <p:nvPr/>
        </p:nvPicPr>
        <p:blipFill>
          <a:blip r:embed="rId1"/>
          <a:srcRect l="42895" t="14545" r="16705" b="56101"/>
          <a:stretch/>
        </p:blipFill>
        <p:spPr>
          <a:xfrm>
            <a:off x="4454640" y="1820880"/>
            <a:ext cx="43844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 Major Somatic Sensory Pathwa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426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orsal( posterior) column path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nterolateral path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pinocerebellar path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_x0018_1504SenPathTracSpi_L.jpg                                       00201B69_x0019_FAP7_JPEGS_ch12-18Labeled      BE4B5C3E:"/>
          <p:cNvPicPr/>
          <p:nvPr/>
        </p:nvPicPr>
        <p:blipFill>
          <a:blip r:embed="rId1"/>
          <a:srcRect l="4911" t="26357" r="5999" b="18002"/>
          <a:stretch/>
        </p:blipFill>
        <p:spPr>
          <a:xfrm>
            <a:off x="990720" y="2971800"/>
            <a:ext cx="723888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sterior Column Pathw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9532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s sensations of highly localized (“fine”) touch, pressure, vibration, and proprio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7736400" y="644364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15–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_x0018_1505aPostColumPath_L.jpg                                       00052800_x0005_G4_01                          BA690D60:"/>
          <p:cNvPicPr/>
          <p:nvPr/>
        </p:nvPicPr>
        <p:blipFill>
          <a:blip r:embed="rId1"/>
          <a:srcRect l="15297" t="12455" r="12475" b="11362"/>
          <a:stretch/>
        </p:blipFill>
        <p:spPr>
          <a:xfrm>
            <a:off x="533520" y="1293840"/>
            <a:ext cx="37972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Anterolateral Pathw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560" y="990360"/>
            <a:ext cx="46479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sensations of “light” touch, pain, and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cend within the anterior or latera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pinothalamic tra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terior spinothalamic tra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ry light tou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teral spinothalamic trac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ry pain and temperature sens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8" descr="_x0019_1505bAntSpiTraAnPat_L.jpg                                      00201B69_x0019_FAP7_JPEGS_ch12-18Labeled      BE4B5C3E:"/>
          <p:cNvPicPr/>
          <p:nvPr/>
        </p:nvPicPr>
        <p:blipFill>
          <a:blip r:embed="rId1"/>
          <a:srcRect l="11178" t="14545" r="16705" b="10728"/>
          <a:stretch/>
        </p:blipFill>
        <p:spPr>
          <a:xfrm>
            <a:off x="5108400" y="1219320"/>
            <a:ext cx="38070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ong Visceral Pain aka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Referred pa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560" y="9903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dividual can feel pain in uninjured part of body when pain actually originates at another loc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ations arriving at segment of spinal cord can stimulate interneurons that are part of anterolateral path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ity in interneurons leads to stimulation of primary sensory cortex, so an individual feels pain in specific part of body surfa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_x0016_1506ReferredPain_L.jpg                                         00201B69_x0019_FAP7_JPEGS_ch12-18Labeled      BE4B5C3E:"/>
          <p:cNvPicPr/>
          <p:nvPr/>
        </p:nvPicPr>
        <p:blipFill>
          <a:blip r:embed="rId1"/>
          <a:srcRect l="12455" t="34743" r="11358" b="27771"/>
          <a:stretch/>
        </p:blipFill>
        <p:spPr>
          <a:xfrm>
            <a:off x="1447920" y="4379760"/>
            <a:ext cx="611496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Spinocerebellar Pathw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rebellum receives proprioceptive information about position of skeletal muscles, tendons, and j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15–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_x0019_1507SpioCerebelPath_L.jpg                                      00052800_x0005_G4_01                          BA690D60:"/>
          <p:cNvPicPr/>
          <p:nvPr/>
        </p:nvPicPr>
        <p:blipFill>
          <a:blip r:embed="rId1"/>
          <a:srcRect l="23646" t="15638" r="22238" b="11362"/>
          <a:stretch/>
        </p:blipFill>
        <p:spPr>
          <a:xfrm>
            <a:off x="533520" y="1371600"/>
            <a:ext cx="297180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6"/>
          <p:cNvSpPr txBox="1"/>
          <p:nvPr/>
        </p:nvSpPr>
        <p:spPr>
          <a:xfrm>
            <a:off x="1143000" y="1523880"/>
            <a:ext cx="70102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ank you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4:25:08Z</dcterms:created>
  <dc:creator>Scott Schaeffer</dc:creator>
  <dc:description/>
  <dc:language>en-US</dc:language>
  <cp:lastModifiedBy>User</cp:lastModifiedBy>
  <dcterms:modified xsi:type="dcterms:W3CDTF">2012-03-18T05:36:24Z</dcterms:modified>
  <cp:revision>13</cp:revision>
  <dc:subject/>
  <dc:title>Chapter 15:  Neural Integration I:  Sensory Pathways and the Somatic Nervous System</dc:title>
</cp:coreProperties>
</file>