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96D3-82AD-434F-912C-36033F14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E4DE-9672-4DA6-B04B-B0EDD360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6852-5D99-4D3E-881D-1DA6E690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F4E4-1FCE-48EC-8A4C-B04A1CFF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49B7-2E2B-494F-85F3-8AB8E0F6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698C-46CD-4513-9857-9E6F9D60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51D9-C57B-40EC-8519-7203691A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7B7C-65BD-48A2-AD90-D7485713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048D-04AF-4EA4-B1AB-32B3CCCE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7085-8B66-459F-BF8E-5E3DB96E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5AFF-C32B-4EEA-B757-06BF58D8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DABB-C123-45A5-B01C-55D51776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6736-6C94-4F46-B595-4D49D3F4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7441-A060-4F33-BCF4-7474E506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7C59-68F8-42C9-B6A9-1AFF5F6C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1116-C206-4C68-9080-E974314E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F839-8775-4F9B-AC66-A22526A5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99589-F1C4-48DC-AA4B-23DC77F0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F5D08-216B-48F2-A7F4-C61E0D6E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E9480-A7F5-4A29-AF36-F7B2088D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77958-C6E6-47B5-A5DE-BDAD818A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59ABC-0F25-406C-8787-049DC12E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E724-1368-43C6-8FCD-D87CF70A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69227-EFB3-424F-9805-BCE97DF8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26C99-33BE-40E1-AD72-DA9730E1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249C4-CB25-4443-801B-3672B204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E036E-5324-4C8F-98D4-E507F4EE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5967C-C7E8-4A1B-AB05-E575AF5D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72ADD-76CF-44FC-BC7E-45F56B85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E588B-EEBA-4ED0-8B69-6EBA29E9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7E21-E6F8-4F0E-A3CC-CAC3A61A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8500-20BE-4D23-9812-636A3E75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689-93A8-4997-B570-4E86B3F1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1652-0DA7-4FF4-A11F-C6976416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FAC1-D3C0-4D1E-9DE5-64A258CF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5056-4D0F-4E09-912F-936AC090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090D-319F-4F7B-9EF1-B6BB9D6FAC75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4D66-658E-4B72-BE33-2C8643CB5E8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F6BB-61FF-4D53-8228-EAE3EFBCC27B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Somatosensory Pathway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 No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ility to Determine Stimul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82844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isely where on the body a specific stimulus originated depends on the projection of information from the thalamus to the primary sensory cor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ensory Homuncul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7" descr="_x0019_1505bAntSpiTraAnPat_L.jpg                                      00201B69_x0019_FAP7_JPEGS_ch12-18Labeled      BE4B5C3E:"/>
          <p:cNvPicPr/>
          <p:nvPr/>
        </p:nvPicPr>
        <p:blipFill>
          <a:blip r:embed="rId1"/>
          <a:srcRect l="42895" t="14545" r="16705" b="56101"/>
          <a:stretch/>
        </p:blipFill>
        <p:spPr>
          <a:xfrm>
            <a:off x="4454640" y="1820880"/>
            <a:ext cx="43844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 Major Somatic Sensory Path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4264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orsal( posterior) column path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nterolateral path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pinocerebellar path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_x0018_1504SenPathTracSpi_L.jpg                                       00201B69_x0019_FAP7_JPEGS_ch12-18Labeled      BE4B5C3E:"/>
          <p:cNvPicPr/>
          <p:nvPr/>
        </p:nvPicPr>
        <p:blipFill>
          <a:blip r:embed="rId1"/>
          <a:srcRect l="4911" t="26357" r="5999" b="18002"/>
          <a:stretch/>
        </p:blipFill>
        <p:spPr>
          <a:xfrm>
            <a:off x="990720" y="2971800"/>
            <a:ext cx="723888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sterior Column Pathw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9532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ies sensations of highly localized (“fine”) touch, pressure, vibration, and proprioce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7736400" y="644364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15–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_x0018_1505aPostColumPath_L.jpg                                       00052800_x0005_G4_01                          BA690D60:"/>
          <p:cNvPicPr/>
          <p:nvPr/>
        </p:nvPicPr>
        <p:blipFill>
          <a:blip r:embed="rId1"/>
          <a:srcRect l="15297" t="12455" r="12475" b="11362"/>
          <a:stretch/>
        </p:blipFill>
        <p:spPr>
          <a:xfrm>
            <a:off x="533520" y="1293840"/>
            <a:ext cx="37972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Anterolateral Pathw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560" y="990360"/>
            <a:ext cx="46479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sensations of “light” touch, pain, and 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cend within the anterior or latera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pinothalamic trac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terior spinothalamic tra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ry light tou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teral spinothalamic trac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ry pain and temperature sens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8" descr="_x0019_1505bAntSpiTraAnPat_L.jpg                                      00201B69_x0019_FAP7_JPEGS_ch12-18Labeled      BE4B5C3E:"/>
          <p:cNvPicPr/>
          <p:nvPr/>
        </p:nvPicPr>
        <p:blipFill>
          <a:blip r:embed="rId1"/>
          <a:srcRect l="11178" t="14545" r="16705" b="10728"/>
          <a:stretch/>
        </p:blipFill>
        <p:spPr>
          <a:xfrm>
            <a:off x="5108400" y="1219320"/>
            <a:ext cx="38070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rong Visceral Pain aka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Referred pa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560" y="99036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dividual can feel pain in uninjured part of body when pain actually originates at another loc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sations arriving at segment of spinal cord can stimulate interneurons that are part of anterolateral path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vity in interneurons leads to stimulation of primary sensory cortex, so an individual feels pain in specific part of body surfa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7" descr="_x0016_1506ReferredPain_L.jpg                                         00201B69_x0019_FAP7_JPEGS_ch12-18Labeled      BE4B5C3E:"/>
          <p:cNvPicPr/>
          <p:nvPr/>
        </p:nvPicPr>
        <p:blipFill>
          <a:blip r:embed="rId1"/>
          <a:srcRect l="12455" t="34743" r="11358" b="27771"/>
          <a:stretch/>
        </p:blipFill>
        <p:spPr>
          <a:xfrm>
            <a:off x="1447920" y="4379760"/>
            <a:ext cx="611496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Spinocerebellar Pathw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rebellum receives proprioceptive information about position of skeletal muscles, tendons, and j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15–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_x0019_1507SpioCerebelPath_L.jpg                                      00052800_x0005_G4_01                          BA690D60:"/>
          <p:cNvPicPr/>
          <p:nvPr/>
        </p:nvPicPr>
        <p:blipFill>
          <a:blip r:embed="rId1"/>
          <a:srcRect l="23646" t="15638" r="22238" b="11362"/>
          <a:stretch/>
        </p:blipFill>
        <p:spPr>
          <a:xfrm>
            <a:off x="533520" y="1371600"/>
            <a:ext cx="297180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6"/>
          <p:cNvSpPr txBox="1"/>
          <p:nvPr/>
        </p:nvSpPr>
        <p:spPr>
          <a:xfrm>
            <a:off x="1143000" y="1523880"/>
            <a:ext cx="70102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ank you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4:25:08Z</dcterms:created>
  <dc:creator>Scott Schaeffer</dc:creator>
  <dc:description/>
  <dc:language>en-US</dc:language>
  <cp:lastModifiedBy>User</cp:lastModifiedBy>
  <dcterms:modified xsi:type="dcterms:W3CDTF">2012-03-18T05:36:24Z</dcterms:modified>
  <cp:revision>13</cp:revision>
  <dc:subject/>
  <dc:title>Chapter 15:  Neural Integration I:  Sensory Pathways and the Somatic Nervous System</dc:title>
</cp:coreProperties>
</file>