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353-207C-4555-98CD-0C6EA0F2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B88-CDE7-40E8-ABD0-63693775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D7D-C2B5-4663-954F-FE98678A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85E-00BD-4BAC-9DE7-90423A8A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0BDF-1B1E-4CCC-A108-B27C521A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02A9-08E9-4A64-AF03-DEA5673F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E970-CB3F-4AD7-A301-8E9C53A1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B746-D502-4EE9-ABFE-262F3D3B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195B-9050-474F-B7DB-4D5FE374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F9D4-F344-42B8-8B71-39DFF6E7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5A21-1E1D-493B-91B0-C87AE656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76C-EABC-4519-AEEA-F716D2E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A36D-057B-437D-84DF-A1F8989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22B9-6F8D-4C6E-AF00-3B9FB5E0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6403-9D90-4B03-A585-10932B0B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EC9-1FFF-4EA1-9A32-9B082AA7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B7D1-73EF-4359-ACF5-642C7AA8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5DEA-D167-45F7-9FF5-94C5479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E195-91AE-459B-827A-33D751B5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0211-902E-4E01-8E82-523B12E3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D121F-7580-42D0-8D12-F6BC422E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B6033-508E-42F6-B771-392FB3FF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241-8814-462C-8EFB-F26D783C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3107-E164-4EC4-A380-DFD750C8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DBF96-AD7A-49F9-95BF-CCC33BBE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397D-0A34-46A9-8C6C-92CE86C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D2B0-6752-406E-88CE-C0D8546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F4B1-BD36-4334-B776-C582743B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1161-7D4A-4887-983D-2D584D8C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6ED6-A99A-41AB-95AA-0D677C3B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067A-72FE-44B9-84B7-D7BD4C61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0B81-EDC9-4A01-A579-AB2AFF30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4BA1-DE0E-4740-A945-EBE70B07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47A-6221-4032-8FF1-5EF872A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87AB-DE06-4ECB-8F11-1A5EB611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A005-4557-4037-936E-D8ABAAD3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659E-15B9-4277-9E4A-CC32571E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974DA-2BC0-491B-9B99-5F9BC6C4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F442-3802-44C7-9458-696C05A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4A134-78B5-4434-ABD5-1A61F0A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E2C0-D6A1-4EEF-84FC-E86904CD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8EFB-5AAE-43C8-9136-DC55229F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28D2-D5BB-43D6-9121-AA6DA2A7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B714-503C-4ABA-BB04-1D72AFCC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790-20BB-4F87-9F6E-4409C082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157C1-0A6E-4BBD-8E77-8B8BA57A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A047A-25D9-4C20-8222-788C721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4D1D-31BE-473E-A96B-B8EFDD09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83F5-0AD9-43B8-BE8B-F1CE0693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2A9DE-763A-408B-94A9-71B12CA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25A9-D31D-4F81-9BB4-A182ACA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AEF6-1E46-43EF-93E2-C0D53BB8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58E1-8EA3-466C-953F-C2A6037C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E827-498D-4BD7-BE3F-AB496E7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5A95-47FC-49C6-970F-9AF14AC5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388-7361-4E3D-8D2D-8E1462E4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1C72-965B-47B7-B541-A4D93CF1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1883D-050C-4F6F-A61B-384E9686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5A0C-25B3-4402-8DAE-6C9F4925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98F5-E7AE-484D-8891-FBBAF254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48CE-CF64-4982-9E69-78BE2BBB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A497B-1113-4D12-90CB-5210579E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1ABA-EF5E-4D05-93F2-A95E3D2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DF42-8AF2-4B7C-8A94-654F456A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A8148-1FDE-4B7E-9B0C-5C16B89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1A94-A342-4B77-B9F9-80220E3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2C4-5DD7-4F69-86B3-4529C5B4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FAD80-93AE-455A-93B3-76A9781B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F856-AA10-4C35-89E0-A5886E54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D392-4BAB-4CBF-A8A5-72D1323E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B0C-DC5B-426D-85D6-464E547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CEE-E41C-430B-B8CC-6BAC3596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B369-593E-4F96-B4EA-3D1701B0D35E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مستطيل مستدير الزوايا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5575-4C14-44D7-A0B9-EDF495D2B5E5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مستطيل مستدير الزوايا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384D-7830-4CE6-815A-7A2CE1CA7F59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7227-5D2A-4445-AD32-4FE43D4C96EF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مستطيل ذو زاوية واحدة مستديرة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348A-CCA4-4773-B8B6-BEF7385697BE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0103-F1CF-428A-A400-CAB49114AFE3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Prepared by :    Majedah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  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pic>
        <p:nvPicPr>
          <p:cNvPr id="266" name="عنصر نائب للمحتوى 10" descr="present perfect.png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_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Present perfect tense for continuing situation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83520" cy="42670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This is a state that started in the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past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and continues in the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present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(and will probably continue into the future). This is a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(not an action). W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usually use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for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or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sinc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with this structur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XAMPLES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have worked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here </a:t>
            </a:r>
            <a:r>
              <a:rPr b="0" lang="en-US" sz="1800" spc="-1" strike="noStrike">
                <a:solidFill>
                  <a:srgbClr val="404040"/>
                </a:solidFill>
                <a:latin typeface="Comic Sans MS"/>
              </a:rPr>
              <a:t>sinc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June.</a:t>
            </a:r>
            <a:br>
              <a:rPr sz="1800"/>
            </a:b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Mary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has loved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chocolate </a:t>
            </a:r>
            <a:r>
              <a:rPr b="0" lang="en-US" sz="1800" spc="-1" strike="noStrike">
                <a:solidFill>
                  <a:srgbClr val="595959"/>
                </a:solidFill>
                <a:latin typeface="Comic Sans MS"/>
              </a:rPr>
              <a:t>sinc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she was a little gir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He 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has been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ill </a:t>
            </a:r>
            <a:r>
              <a:rPr b="0" lang="en-US" sz="1800" spc="-1" strike="noStrike">
                <a:solidFill>
                  <a:srgbClr val="404040"/>
                </a:solidFill>
                <a:latin typeface="Comic Sans MS"/>
              </a:rPr>
              <a:t>for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2 days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932280" cy="41911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 fontScale="97000"/>
          </a:bodyPr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She hasn’t ..........the dinner</a:t>
            </a:r>
            <a:r>
              <a:rPr b="1" lang="pl-PL" sz="2200" spc="-1" strike="noStrike" u="sng">
                <a:solidFill>
                  <a:srgbClr val="ff0000"/>
                </a:solidFill>
                <a:uFillTx/>
                <a:latin typeface="Cambria"/>
              </a:rPr>
              <a:t> already</a:t>
            </a: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A) cook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B) cook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C) mak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D) none of thes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52520" y="1447920"/>
            <a:ext cx="36306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She </a:t>
            </a:r>
            <a:r>
              <a:rPr b="1" lang="pl-PL" sz="2400" spc="-1" strike="noStrike" u="sng">
                <a:solidFill>
                  <a:srgbClr val="ff3300"/>
                </a:solidFill>
                <a:uFillTx/>
                <a:latin typeface="Cambria"/>
              </a:rPr>
              <a:t>hasn’t cooked</a:t>
            </a:r>
            <a:r>
              <a:rPr b="0" lang="pl-PL" sz="2400" spc="-1" strike="noStrike">
                <a:solidFill>
                  <a:srgbClr val="ff3300"/>
                </a:solidFill>
                <a:latin typeface="Cambri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the dinner already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mbria"/>
              </a:rPr>
              <a:t>Very well</a:t>
            </a:r>
            <a:r>
              <a:rPr b="0" i="1" lang="pl-PL" sz="2400" spc="-1" strike="noStrike">
                <a:solidFill>
                  <a:srgbClr val="000000"/>
                </a:solidFill>
                <a:latin typeface="Cambria"/>
              </a:rPr>
              <a:t>!</a:t>
            </a:r>
            <a:r>
              <a:rPr b="0" i="1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524240" cy="1981440"/>
          </a:xfrm>
          <a:prstGeom prst="rect">
            <a:avLst/>
          </a:prstGeom>
          <a:ln w="0">
            <a:noFill/>
          </a:ln>
        </p:spPr>
      </p:pic>
      <p:sp>
        <p:nvSpPr>
          <p:cNvPr id="299" name="نجمة ذات 5 نقاط 5"/>
          <p:cNvSpPr/>
          <p:nvPr/>
        </p:nvSpPr>
        <p:spPr>
          <a:xfrm>
            <a:off x="2286000" y="380880"/>
            <a:ext cx="3962520" cy="2286000"/>
          </a:xfrm>
          <a:prstGeom prst="pie">
            <a:avLst/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Cambria"/>
              </a:rPr>
              <a:t>Choose</a:t>
            </a:r>
            <a:r>
              <a:rPr b="1" lang="ar-SA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</a:t>
            </a:r>
            <a:r>
              <a:rPr b="1" lang="pl-PL" sz="2800" spc="-1" strike="noStrike">
                <a:solidFill>
                  <a:srgbClr val="ffffff"/>
                </a:solidFill>
                <a:latin typeface="Cambria"/>
              </a:rPr>
              <a:t> the correct answ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mbr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529920"/>
            <a:ext cx="8229600" cy="632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girls __________the museum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visit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John and Sophie ____________in the garde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help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 _______________the question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answe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he ______________the window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s opened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0" lang="ar-SA" sz="2000" spc="-1" strike="noStrike">
                <a:solidFill>
                  <a:srgbClr val="ff0000"/>
                </a:solidFill>
                <a:latin typeface="Cambr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y _______________u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call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You ________________a box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carried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t __________________a lo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s rain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شكل بيضاوي 9"/>
          <p:cNvSpPr/>
          <p:nvPr/>
        </p:nvSpPr>
        <p:spPr>
          <a:xfrm>
            <a:off x="2895480" y="609480"/>
            <a:ext cx="2971800" cy="685800"/>
          </a:xfrm>
          <a:prstGeom prst="ellipse">
            <a:avLst/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mbria"/>
              </a:rPr>
              <a:t>Exercises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رسم تخطيطي 11" descr=""/>
          <p:cNvPicPr/>
          <p:nvPr/>
        </p:nvPicPr>
        <p:blipFill>
          <a:blip r:embed="rId1"/>
          <a:stretch/>
        </p:blipFill>
        <p:spPr>
          <a:xfrm>
            <a:off x="1517760" y="907920"/>
            <a:ext cx="5645160" cy="1231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1532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Examples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20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ambria"/>
              </a:rPr>
              <a:t>wrote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my homework yesterday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20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ambria"/>
              </a:rPr>
              <a:t>have written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my homework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20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She </a:t>
            </a:r>
            <a:r>
              <a:rPr b="0" lang="en-US" sz="4000" spc="-1" strike="noStrike">
                <a:solidFill>
                  <a:srgbClr val="ff0000"/>
                </a:solidFill>
                <a:latin typeface="Cambria"/>
              </a:rPr>
              <a:t>has written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her homework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Calibri"/>
              </a:rPr>
              <a:t>FORM</a:t>
            </a:r>
            <a:br>
              <a:rPr sz="4800"/>
            </a:br>
            <a:r>
              <a:rPr b="1" lang="en-US" sz="4800" spc="-1" strike="noStrike">
                <a:solidFill>
                  <a:srgbClr val="ff4995"/>
                </a:solidFill>
                <a:latin typeface="Calibri"/>
              </a:rPr>
              <a:t>[ S+ </a:t>
            </a:r>
            <a:r>
              <a:rPr b="1" lang="en-US" sz="4000" spc="-1" strike="noStrike">
                <a:solidFill>
                  <a:srgbClr val="ff4995"/>
                </a:solidFill>
                <a:latin typeface="Calibri"/>
              </a:rPr>
              <a:t>has/have + past participle+ O</a:t>
            </a:r>
            <a:r>
              <a:rPr b="1" lang="en-US" sz="4800" spc="-1" strike="noStrike">
                <a:solidFill>
                  <a:srgbClr val="ff4995"/>
                </a:solidFill>
                <a:latin typeface="Calibri"/>
              </a:rPr>
              <a:t>]</a:t>
            </a:r>
            <a:endParaRPr b="1" lang="en-US" sz="4800" spc="-1" strike="noStrike">
              <a:solidFill>
                <a:srgbClr val="ff4995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952880" y="3657600"/>
          <a:ext cx="1828800" cy="26146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ast Partic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V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8c8c"/>
                    </a:solidFill>
                  </a:tcPr>
                </a:tc>
              </a:tr>
            </a:tbl>
          </a:graphicData>
        </a:graphic>
      </p:graphicFrame>
      <p:cxnSp>
        <p:nvCxnSpPr>
          <p:cNvPr id="271" name="Straight Arrow Connector 5"/>
          <p:cNvCxnSpPr/>
          <p:nvPr/>
        </p:nvCxnSpPr>
        <p:spPr>
          <a:xfrm>
            <a:off x="6019560" y="2514600"/>
            <a:ext cx="1080" cy="915120"/>
          </a:xfrm>
          <a:prstGeom prst="straightConnector1">
            <a:avLst/>
          </a:prstGeom>
          <a:ln w="9360">
            <a:solidFill>
              <a:srgbClr val="ff0684"/>
            </a:solidFill>
            <a:miter/>
            <a:tailEnd len="med" type="arrow" w="med"/>
          </a:ln>
        </p:spPr>
      </p:cxnSp>
      <p:cxnSp>
        <p:nvCxnSpPr>
          <p:cNvPr id="272" name="Straight Arrow Connector 7"/>
          <p:cNvCxnSpPr/>
          <p:nvPr/>
        </p:nvCxnSpPr>
        <p:spPr>
          <a:xfrm>
            <a:off x="1218960" y="2514600"/>
            <a:ext cx="1080" cy="991440"/>
          </a:xfrm>
          <a:prstGeom prst="straightConnector1">
            <a:avLst/>
          </a:prstGeom>
          <a:ln w="9360">
            <a:solidFill>
              <a:srgbClr val="ff0684"/>
            </a:solidFill>
            <a:miter/>
            <a:tailEnd len="med" type="arrow" w="med"/>
          </a:ln>
        </p:spPr>
      </p:cxnSp>
      <p:sp>
        <p:nvSpPr>
          <p:cNvPr id="273" name="Rectangle 8"/>
          <p:cNvSpPr/>
          <p:nvPr/>
        </p:nvSpPr>
        <p:spPr>
          <a:xfrm>
            <a:off x="838080" y="3657600"/>
            <a:ext cx="838440" cy="2743200"/>
          </a:xfrm>
          <a:prstGeom prst="rect">
            <a:avLst/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S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A doc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Th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Do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traight Connector 10"/>
          <p:cNvSpPr/>
          <p:nvPr/>
        </p:nvSpPr>
        <p:spPr>
          <a:xfrm>
            <a:off x="838080" y="5029200"/>
            <a:ext cx="838440" cy="0"/>
          </a:xfrm>
          <a:prstGeom prst="line">
            <a:avLst/>
          </a:prstGeom>
          <a:ln w="9360">
            <a:solidFill>
              <a:srgbClr val="ff06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eft-Up Arrow 14"/>
          <p:cNvSpPr/>
          <p:nvPr/>
        </p:nvSpPr>
        <p:spPr>
          <a:xfrm>
            <a:off x="1828800" y="2819520"/>
            <a:ext cx="457200" cy="1676160"/>
          </a:xfrm>
          <a:custGeom>
            <a:avLst/>
            <a:gdLst>
              <a:gd name="textAreaLeft" fmla="*/ 56880 w 457200"/>
              <a:gd name="textAreaRight" fmla="*/ 343080 w 457200"/>
              <a:gd name="textAreaTop" fmla="*/ 1504800 h 1676160"/>
              <a:gd name="textAreaBottom" fmla="*/ 1619280 h 1676160"/>
            </a:gdLst>
            <a:ahLst/>
            <a:rect l="textAreaLeft" t="textAreaTop" r="textAreaRight" b="textAreaBottom"/>
            <a:pathLst>
              <a:path w="457200" h="1676400">
                <a:moveTo>
                  <a:pt x="0" y="1562100"/>
                </a:moveTo>
                <a:lnTo>
                  <a:pt x="114300" y="1447800"/>
                </a:lnTo>
                <a:lnTo>
                  <a:pt x="114300" y="1504950"/>
                </a:lnTo>
                <a:lnTo>
                  <a:pt x="285750" y="1504950"/>
                </a:lnTo>
                <a:lnTo>
                  <a:pt x="285750" y="114300"/>
                </a:lnTo>
                <a:lnTo>
                  <a:pt x="228600" y="114300"/>
                </a:lnTo>
                <a:lnTo>
                  <a:pt x="342900" y="0"/>
                </a:lnTo>
                <a:lnTo>
                  <a:pt x="457200" y="114300"/>
                </a:lnTo>
                <a:lnTo>
                  <a:pt x="400050" y="114300"/>
                </a:lnTo>
                <a:lnTo>
                  <a:pt x="400050" y="1619250"/>
                </a:lnTo>
                <a:lnTo>
                  <a:pt x="114300" y="1619250"/>
                </a:lnTo>
                <a:lnTo>
                  <a:pt x="114300" y="1676400"/>
                </a:lnTo>
                <a:close/>
              </a:path>
            </a:pathLst>
          </a:custGeom>
          <a:solidFill>
            <a:srgbClr val="ff388c"/>
          </a:solidFill>
          <a:ln w="4248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eft-Up Arrow 15"/>
          <p:cNvSpPr/>
          <p:nvPr/>
        </p:nvSpPr>
        <p:spPr>
          <a:xfrm>
            <a:off x="1905120" y="2743200"/>
            <a:ext cx="1447560" cy="3200400"/>
          </a:xfrm>
          <a:custGeom>
            <a:avLst/>
            <a:gdLst>
              <a:gd name="textAreaLeft" fmla="*/ 180720 w 1447560"/>
              <a:gd name="textAreaRight" fmla="*/ 1085760 w 1447560"/>
              <a:gd name="textAreaTop" fmla="*/ 2657520 h 3200400"/>
              <a:gd name="textAreaBottom" fmla="*/ 3019680 h 3200400"/>
            </a:gdLst>
            <a:ahLst/>
            <a:rect l="textAreaLeft" t="textAreaTop" r="textAreaRight" b="textAreaBottom"/>
            <a:pathLst>
              <a:path w="1447800" h="3200400">
                <a:moveTo>
                  <a:pt x="0" y="2838450"/>
                </a:moveTo>
                <a:lnTo>
                  <a:pt x="361950" y="2476500"/>
                </a:lnTo>
                <a:lnTo>
                  <a:pt x="361950" y="2657475"/>
                </a:lnTo>
                <a:lnTo>
                  <a:pt x="904875" y="2657475"/>
                </a:lnTo>
                <a:lnTo>
                  <a:pt x="904875" y="361950"/>
                </a:lnTo>
                <a:lnTo>
                  <a:pt x="723900" y="361950"/>
                </a:lnTo>
                <a:lnTo>
                  <a:pt x="1085850" y="0"/>
                </a:lnTo>
                <a:lnTo>
                  <a:pt x="1447800" y="361950"/>
                </a:lnTo>
                <a:lnTo>
                  <a:pt x="1266825" y="361950"/>
                </a:lnTo>
                <a:lnTo>
                  <a:pt x="1266825" y="3019425"/>
                </a:lnTo>
                <a:lnTo>
                  <a:pt x="361950" y="3019425"/>
                </a:lnTo>
                <a:lnTo>
                  <a:pt x="361950" y="3200400"/>
                </a:lnTo>
                <a:close/>
              </a:path>
            </a:pathLst>
          </a:custGeom>
          <a:solidFill>
            <a:srgbClr val="ff388c"/>
          </a:solidFill>
          <a:ln w="4248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83520" cy="10573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62626"/>
                </a:solidFill>
                <a:latin typeface="Calibri"/>
              </a:rPr>
              <a:t>How can you form </a:t>
            </a:r>
            <a:br>
              <a:rPr sz="3200"/>
            </a:br>
            <a:r>
              <a:rPr b="1" lang="pl-PL" sz="3200" spc="-1" strike="noStrike">
                <a:solidFill>
                  <a:srgbClr val="262626"/>
                </a:solidFill>
                <a:latin typeface="Calibri"/>
              </a:rPr>
              <a:t>the Present Perfect</a:t>
            </a:r>
            <a:r>
              <a:rPr b="1" lang="pl-PL" sz="3200" spc="-1" strike="noStrike">
                <a:solidFill>
                  <a:srgbClr val="262626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895480"/>
          <a:ext cx="8229600" cy="3408480"/>
        </p:xfrm>
        <a:graphic>
          <a:graphicData uri="http://schemas.openxmlformats.org/drawingml/2006/table">
            <a:tbl>
              <a:tblPr/>
              <a:tblGrid>
                <a:gridCol w="2522520"/>
                <a:gridCol w="5707080"/>
              </a:tblGrid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mbria"/>
                        </a:rPr>
                        <a:t>Positive Sentence</a:t>
                      </a: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mbr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I, you, we , they</a:t>
                      </a: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   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ave 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he, she, it</a:t>
                      </a: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as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626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mbria"/>
                        </a:rPr>
                        <a:t>Negative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, you, we , they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ven’t 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e, she, it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sn’t 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Ques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ve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I, you,we, they, 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done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s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he, she, it   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worked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has/have”+ eaten    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ate /eat/eating      </a:t>
            </a:r>
            <a:r>
              <a:rPr b="1" lang="ar-SA" sz="2800" spc="-1" strike="noStrike">
                <a:solidFill>
                  <a:srgbClr val="ff4995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 has/have</a:t>
            </a: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”  </a:t>
            </a:r>
            <a:endParaRPr b="1" lang="en-US" sz="2800" spc="-1" strike="noStrike">
              <a:solidFill>
                <a:srgbClr val="ff4995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556236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1835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has/have”+ eaten     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ate /eat/eating      </a:t>
            </a:r>
            <a:r>
              <a:rPr b="1" lang="ar-SA" sz="3600" spc="-1" strike="noStrike">
                <a:solidFill>
                  <a:srgbClr val="ff4995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 has/have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”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181160" cy="952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7656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3581280" y="4267080"/>
            <a:ext cx="221940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How do we use the Present Perfect </a:t>
            </a:r>
            <a:br>
              <a:rPr sz="3200"/>
            </a:br>
            <a:r>
              <a:rPr b="1" lang="ar-SA" sz="3200" spc="-1" strike="noStrike">
                <a:solidFill>
                  <a:srgbClr val="0d0d0d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Tense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?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1f64"/>
                </a:solidFill>
                <a:latin typeface="Comic Sans MS"/>
              </a:rPr>
              <a:t>There is always a connection with the past and with the </a:t>
            </a: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c31f64"/>
                </a:solidFill>
                <a:latin typeface="Comic Sans MS"/>
              </a:rPr>
              <a:t>. There are basically three uses for the present perfect tense</a:t>
            </a:r>
            <a:r>
              <a:rPr b="0" lang="en-US" sz="2800" spc="-1" strike="noStrike">
                <a:solidFill>
                  <a:srgbClr val="c31f64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_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experienc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_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 _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continuing situ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981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_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Present perfect tense for experience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:</a:t>
            </a:r>
            <a:br>
              <a:rPr sz="2400"/>
            </a:br>
            <a:endParaRPr b="1" lang="en-US" sz="24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183520" cy="46479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We often use the present perfect tens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o talk about experience from the past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. We ar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not interested in whe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you did something. We only want to know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f you did it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xamples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H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as lived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in Londo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ave 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you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bee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there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?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4386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Present perfect tense for change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We also use the present perfect tense to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alk about a change or new informatio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XAMPLES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e has bought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a car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Sara has broke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her leg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The polic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ave arrested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the killer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971800" y="4724280"/>
            <a:ext cx="28954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7:01:42Z</dcterms:created>
  <dc:creator>JF</dc:creator>
  <dc:description/>
  <dc:language>en-US</dc:language>
  <cp:lastModifiedBy>win8</cp:lastModifiedBy>
  <dcterms:modified xsi:type="dcterms:W3CDTF">2014-12-02T12:33:43Z</dcterms:modified>
  <cp:revision>57</cp:revision>
  <dc:subject/>
  <dc:title>PRESENT PERF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