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50B-7638-4A3D-BF9C-AD8D4444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AB3-0A31-40B9-A1EF-DBD53B6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CC8-83E5-49FA-BFB8-15062F6A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6CE-62E6-4FCB-BA67-0E5E90AC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8901-4685-4626-83F3-A2620EB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EFF1-62BD-4A31-9FF2-1AB86E5D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D1B-86A1-4FFB-86E3-9FF67635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2E2-1261-40B0-935F-0714F204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588C-8D88-438F-AA66-28C2C4E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8611-1261-4DB1-B915-88AD09AD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7B8F-75E0-402B-BDD7-F0310D7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062-2C75-4F10-8183-272CFBF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4DE9-5448-4AA8-99DB-020EA66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9396-5F2B-469A-9880-9851E1E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C94-A58C-4E44-A055-7BEB0F8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661-1451-42F9-81C7-ED58C298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62E0-AE5B-4194-91D6-7BB0D91E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47574-9A1D-4DDA-9974-BF2AA662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BDF8-0D3A-49BE-BC25-F15E090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30BC-5492-4E08-B298-BF83DCB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7DE2-7292-4451-B97A-95733424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A777-0541-4A69-909B-C41F6C8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152-9795-45DC-86C9-20D22C8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75DB-2407-4DB9-B12C-C591563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E04C-00A4-401D-AC8B-498890D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735A-7B74-49FF-A05E-D5213E1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03BE-1FDC-4BCC-9305-EFE95CB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C997-4F45-431B-8106-5A77B2D7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E4C0-66E1-441E-9C19-62A07E5B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EDAFD-E1BF-45A5-B3B9-85F5C098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5663-1A3E-4443-9E2F-618BB5C8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852E-65CE-4B05-81A5-29E23EE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3398-66F6-46B5-AF35-12BCEFB2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D0A-1991-4435-9117-7592C43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816A-F342-47CE-AE21-0C04B50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D23D-D779-40FB-8948-5163F9B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5980-4D08-4BCA-8E6E-B6BEE67B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1C0A-6125-4E70-9C04-E87FCD3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51D3-92AC-42FB-9EFC-496CCD9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A1BC-3ECC-49EB-BC28-29838A78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7C0F-1B8A-4B54-804F-A5E80A94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A89F-8473-4298-9EE9-B19753EA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4CD1-1D79-4EF2-A7F2-F6CD4D5F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4529-50FA-4A6C-8049-8ECEC456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35E-FC5A-4409-B773-2824DD4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B505-701C-4308-B614-FF76E320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53F2-69A0-4D92-B2EB-9A55621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B67B-B5F3-49D7-A1CF-F5418E8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73C78-3A09-4BF0-9D89-DC082384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55476-2066-42FE-8986-7A33DEEE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F731-204F-41D3-9A27-3E6C831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0E8A-C0E0-4F15-B5BC-097DD31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2794E-A0AE-450A-A221-7E3F6DCD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104D9-4156-439F-9092-4D48AC6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61941-6B17-4C0D-8A1C-2F22BE21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F60-A865-4856-8BAC-0E4F5DC4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208F-7151-4372-A7B3-EAE09985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1AC9-BD6E-4929-9480-1A3C7516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53D4-6427-406E-84A9-CBCE147E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B2C0-9919-4896-8F05-4CC422E2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52EC-F6C5-45E8-B472-0F532512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9EBF-39F5-4FCE-93B4-AA4AE7D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441B-71B7-4421-BE31-57C4A70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33D4-2E53-4ABB-B0D6-E62BA6F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B1C1-02A9-4135-9E55-B07466B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3B5A-5883-4E2E-925B-D362595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B0B-1963-4635-81DA-ACDAC92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BF4A-1FA5-4C29-B85C-D391960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8261-530F-4784-B7DF-2173BF0E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E9F9-D492-4FC1-8539-62D148BB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20D-B53B-4525-8F91-C3BB825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7DB-6142-43D1-8D54-BF18D4A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50B8-3D4C-47E0-86B4-97170740FAB6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9A22-3EE7-4A58-920D-5535F48DD86C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183-D1B9-429A-AD6B-6626D89325BD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80D5-C205-4E83-8D1B-87FD72BA48C8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48BA-1243-4579-92FF-B0F7FEBBC441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0a0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723-FA0F-455C-988A-FD7141F8E7BD}" type="slidenum">
              <a:rPr b="0" lang="en-US" sz="1000" spc="-1" strike="noStrike">
                <a:solidFill>
                  <a:srgbClr val="9a9a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Prepared by :    Majedah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  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66" name="عنصر نائب للمحتوى 10" descr="present perfect.png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_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Present perfect tense for continuing situation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83520" cy="42670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This is a state that started in th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past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and continues in th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present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(and will probably continue into the future). This is a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(not an action). W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usually use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or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with this structur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have worked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here </a:t>
            </a:r>
            <a:r>
              <a:rPr b="0" lang="en-US" sz="1800" spc="-1" strike="noStrike">
                <a:solidFill>
                  <a:srgbClr val="404040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June.</a:t>
            </a:r>
            <a:br>
              <a:rPr sz="1800"/>
            </a:b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Mary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has loved 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chocolate </a:t>
            </a:r>
            <a:r>
              <a:rPr b="0" lang="en-US" sz="1800" spc="-1" strike="noStrike">
                <a:solidFill>
                  <a:srgbClr val="595959"/>
                </a:solidFill>
                <a:latin typeface="Comic Sans MS"/>
              </a:rPr>
              <a:t>since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she was a little gir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He 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has been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ill </a:t>
            </a:r>
            <a:r>
              <a:rPr b="0" lang="en-US" sz="1800" spc="-1" strike="noStrike">
                <a:solidFill>
                  <a:srgbClr val="404040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2 days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932280" cy="41911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 fontScale="97000"/>
          </a:bodyPr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She hasn’t ..........the dinner</a:t>
            </a:r>
            <a:r>
              <a:rPr b="1" lang="pl-PL" sz="2200" spc="-1" strike="noStrike" u="sng">
                <a:solidFill>
                  <a:srgbClr val="ff0000"/>
                </a:solidFill>
                <a:uFillTx/>
                <a:latin typeface="Cambria"/>
              </a:rPr>
              <a:t> already</a:t>
            </a: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A) cook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B) cook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C) mak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mbria"/>
              </a:rPr>
              <a:t>D) none of thes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52520" y="1447920"/>
            <a:ext cx="36306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She </a:t>
            </a:r>
            <a:r>
              <a:rPr b="1" lang="pl-PL" sz="2400" spc="-1" strike="noStrike" u="sng">
                <a:solidFill>
                  <a:srgbClr val="ff3300"/>
                </a:solidFill>
                <a:uFillTx/>
                <a:latin typeface="Cambria"/>
              </a:rPr>
              <a:t>hasn’t cooked</a:t>
            </a:r>
            <a:r>
              <a:rPr b="0" lang="pl-PL" sz="2400" spc="-1" strike="noStrike">
                <a:solidFill>
                  <a:srgbClr val="ff3300"/>
                </a:solidFill>
                <a:latin typeface="Cambri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the dinner already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mbria"/>
              </a:rPr>
              <a:t>Very well</a:t>
            </a:r>
            <a:r>
              <a:rPr b="0" i="1" lang="pl-PL" sz="2400" spc="-1" strike="noStrike">
                <a:solidFill>
                  <a:srgbClr val="000000"/>
                </a:solidFill>
                <a:latin typeface="Cambria"/>
              </a:rPr>
              <a:t>!</a:t>
            </a:r>
            <a:r>
              <a:rPr b="0" i="1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524240" cy="1981440"/>
          </a:xfrm>
          <a:prstGeom prst="rect">
            <a:avLst/>
          </a:prstGeom>
          <a:ln w="0">
            <a:noFill/>
          </a:ln>
        </p:spPr>
      </p:pic>
      <p:sp>
        <p:nvSpPr>
          <p:cNvPr id="299" name="نجمة ذات 5 نقاط 5"/>
          <p:cNvSpPr/>
          <p:nvPr/>
        </p:nvSpPr>
        <p:spPr>
          <a:xfrm>
            <a:off x="2286000" y="380880"/>
            <a:ext cx="3962520" cy="2286000"/>
          </a:xfrm>
          <a:prstGeom prst="pie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Cambria"/>
              </a:rPr>
              <a:t>Choose</a:t>
            </a:r>
            <a:r>
              <a:rPr b="1" lang="ar-SA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ffffff"/>
                </a:solidFill>
                <a:latin typeface="Cambria"/>
              </a:rPr>
              <a:t> the correct answ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mbr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529920"/>
            <a:ext cx="8229600" cy="632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girls __________the museum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visit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John and Sophie ____________in the garde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 _______________the question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answe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he ______________the window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s opened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ar-SA" sz="2000" spc="-1" strike="noStrike">
                <a:solidFill>
                  <a:srgbClr val="ff0000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y _______________u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call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You ________________a box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ve carried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t __________________a lo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has rain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شكل بيضاوي 9"/>
          <p:cNvSpPr/>
          <p:nvPr/>
        </p:nvSpPr>
        <p:spPr>
          <a:xfrm>
            <a:off x="2895480" y="609480"/>
            <a:ext cx="2971800" cy="685800"/>
          </a:xfrm>
          <a:prstGeom prst="ellipse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Exercises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رسم تخطيطي 11" descr=""/>
          <p:cNvPicPr/>
          <p:nvPr/>
        </p:nvPicPr>
        <p:blipFill>
          <a:blip r:embed="rId1"/>
          <a:stretch/>
        </p:blipFill>
        <p:spPr>
          <a:xfrm>
            <a:off x="1517760" y="907920"/>
            <a:ext cx="5645160" cy="1231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1532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Examples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wrote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my homework yesterday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have written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my homework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200000"/>
              </a:lnSpc>
              <a:spcBef>
                <a:spcPts val="249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She </a:t>
            </a:r>
            <a:r>
              <a:rPr b="0" lang="en-US" sz="4000" spc="-1" strike="noStrike">
                <a:solidFill>
                  <a:srgbClr val="ff0000"/>
                </a:solidFill>
                <a:latin typeface="Cambria"/>
              </a:rPr>
              <a:t>has written 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her homework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Calibri"/>
              </a:rPr>
              <a:t>FORM</a:t>
            </a:r>
            <a:br>
              <a:rPr sz="4800"/>
            </a:br>
            <a:r>
              <a:rPr b="1" lang="en-US" sz="4800" spc="-1" strike="noStrike">
                <a:solidFill>
                  <a:srgbClr val="ff4995"/>
                </a:solidFill>
                <a:latin typeface="Calibri"/>
              </a:rPr>
              <a:t>[ S+ </a:t>
            </a:r>
            <a:r>
              <a:rPr b="1" lang="en-US" sz="4000" spc="-1" strike="noStrike">
                <a:solidFill>
                  <a:srgbClr val="ff4995"/>
                </a:solidFill>
                <a:latin typeface="Calibri"/>
              </a:rPr>
              <a:t>has/have + past participle+ O</a:t>
            </a:r>
            <a:r>
              <a:rPr b="1" lang="en-US" sz="4800" spc="-1" strike="noStrike">
                <a:solidFill>
                  <a:srgbClr val="ff4995"/>
                </a:solidFill>
                <a:latin typeface="Calibri"/>
              </a:rPr>
              <a:t>]</a:t>
            </a:r>
            <a:endParaRPr b="1" lang="en-US" sz="4800" spc="-1" strike="noStrike">
              <a:solidFill>
                <a:srgbClr val="ff4995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952880" y="3657600"/>
          <a:ext cx="1828800" cy="26146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ast Parti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</a:rPr>
                        <a:t>V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8c8c"/>
                    </a:solidFill>
                  </a:tcPr>
                </a:tc>
              </a:tr>
            </a:tbl>
          </a:graphicData>
        </a:graphic>
      </p:graphicFrame>
      <p:cxnSp>
        <p:nvCxnSpPr>
          <p:cNvPr id="271" name="Straight Arrow Connector 5"/>
          <p:cNvCxnSpPr/>
          <p:nvPr/>
        </p:nvCxnSpPr>
        <p:spPr>
          <a:xfrm>
            <a:off x="6019560" y="2514600"/>
            <a:ext cx="1080" cy="915120"/>
          </a:xfrm>
          <a:prstGeom prst="straightConnector1">
            <a:avLst/>
          </a:prstGeom>
          <a:ln w="9360">
            <a:solidFill>
              <a:srgbClr val="ff0684"/>
            </a:solidFill>
            <a:miter/>
            <a:tailEnd len="med" type="arrow" w="med"/>
          </a:ln>
        </p:spPr>
      </p:cxnSp>
      <p:cxnSp>
        <p:nvCxnSpPr>
          <p:cNvPr id="272" name="Straight Arrow Connector 7"/>
          <p:cNvCxnSpPr/>
          <p:nvPr/>
        </p:nvCxnSpPr>
        <p:spPr>
          <a:xfrm>
            <a:off x="1218960" y="2514600"/>
            <a:ext cx="1080" cy="991440"/>
          </a:xfrm>
          <a:prstGeom prst="straightConnector1">
            <a:avLst/>
          </a:prstGeom>
          <a:ln w="9360">
            <a:solidFill>
              <a:srgbClr val="ff0684"/>
            </a:solidFill>
            <a:miter/>
            <a:tailEnd len="med" type="arrow" w="med"/>
          </a:ln>
        </p:spPr>
      </p:cxnSp>
      <p:sp>
        <p:nvSpPr>
          <p:cNvPr id="273" name="Rectangle 8"/>
          <p:cNvSpPr/>
          <p:nvPr/>
        </p:nvSpPr>
        <p:spPr>
          <a:xfrm>
            <a:off x="838080" y="3657600"/>
            <a:ext cx="838440" cy="2743200"/>
          </a:xfrm>
          <a:prstGeom prst="rect">
            <a:avLst/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S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A doc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Th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Do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traight Connector 10"/>
          <p:cNvSpPr/>
          <p:nvPr/>
        </p:nvSpPr>
        <p:spPr>
          <a:xfrm>
            <a:off x="838080" y="5029200"/>
            <a:ext cx="838440" cy="0"/>
          </a:xfrm>
          <a:prstGeom prst="line">
            <a:avLst/>
          </a:prstGeom>
          <a:ln w="9360">
            <a:solidFill>
              <a:srgbClr val="ff06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eft-Up Arrow 14"/>
          <p:cNvSpPr/>
          <p:nvPr/>
        </p:nvSpPr>
        <p:spPr>
          <a:xfrm>
            <a:off x="1828800" y="2819520"/>
            <a:ext cx="457200" cy="1676160"/>
          </a:xfrm>
          <a:custGeom>
            <a:avLst/>
            <a:gdLst>
              <a:gd name="textAreaLeft" fmla="*/ 56880 w 457200"/>
              <a:gd name="textAreaRight" fmla="*/ 343080 w 457200"/>
              <a:gd name="textAreaTop" fmla="*/ 1504800 h 1676160"/>
              <a:gd name="textAreaBottom" fmla="*/ 1619280 h 1676160"/>
            </a:gdLst>
            <a:ahLst/>
            <a:rect l="textAreaLeft" t="textAreaTop" r="textAreaRight" b="textAreaBottom"/>
            <a:pathLst>
              <a:path w="457200" h="1676400">
                <a:moveTo>
                  <a:pt x="0" y="1562100"/>
                </a:moveTo>
                <a:lnTo>
                  <a:pt x="114300" y="1447800"/>
                </a:lnTo>
                <a:lnTo>
                  <a:pt x="114300" y="1504950"/>
                </a:lnTo>
                <a:lnTo>
                  <a:pt x="285750" y="1504950"/>
                </a:lnTo>
                <a:lnTo>
                  <a:pt x="285750" y="114300"/>
                </a:lnTo>
                <a:lnTo>
                  <a:pt x="228600" y="114300"/>
                </a:lnTo>
                <a:lnTo>
                  <a:pt x="342900" y="0"/>
                </a:lnTo>
                <a:lnTo>
                  <a:pt x="457200" y="114300"/>
                </a:lnTo>
                <a:lnTo>
                  <a:pt x="400050" y="114300"/>
                </a:lnTo>
                <a:lnTo>
                  <a:pt x="400050" y="1619250"/>
                </a:lnTo>
                <a:lnTo>
                  <a:pt x="114300" y="1619250"/>
                </a:lnTo>
                <a:lnTo>
                  <a:pt x="114300" y="1676400"/>
                </a:lnTo>
                <a:close/>
              </a:path>
            </a:pathLst>
          </a:custGeom>
          <a:solidFill>
            <a:srgbClr val="ff388c"/>
          </a:solidFill>
          <a:ln w="4248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eft-Up Arrow 15"/>
          <p:cNvSpPr/>
          <p:nvPr/>
        </p:nvSpPr>
        <p:spPr>
          <a:xfrm>
            <a:off x="1905120" y="2743200"/>
            <a:ext cx="1447560" cy="3200400"/>
          </a:xfrm>
          <a:custGeom>
            <a:avLst/>
            <a:gdLst>
              <a:gd name="textAreaLeft" fmla="*/ 180720 w 1447560"/>
              <a:gd name="textAreaRight" fmla="*/ 1085760 w 1447560"/>
              <a:gd name="textAreaTop" fmla="*/ 2657520 h 3200400"/>
              <a:gd name="textAreaBottom" fmla="*/ 3019680 h 3200400"/>
            </a:gdLst>
            <a:ahLst/>
            <a:rect l="textAreaLeft" t="textAreaTop" r="textAreaRight" b="textAreaBottom"/>
            <a:pathLst>
              <a:path w="1447800" h="3200400">
                <a:moveTo>
                  <a:pt x="0" y="2838450"/>
                </a:moveTo>
                <a:lnTo>
                  <a:pt x="361950" y="2476500"/>
                </a:lnTo>
                <a:lnTo>
                  <a:pt x="361950" y="2657475"/>
                </a:lnTo>
                <a:lnTo>
                  <a:pt x="904875" y="2657475"/>
                </a:lnTo>
                <a:lnTo>
                  <a:pt x="904875" y="361950"/>
                </a:lnTo>
                <a:lnTo>
                  <a:pt x="723900" y="361950"/>
                </a:lnTo>
                <a:lnTo>
                  <a:pt x="1085850" y="0"/>
                </a:lnTo>
                <a:lnTo>
                  <a:pt x="1447800" y="361950"/>
                </a:lnTo>
                <a:lnTo>
                  <a:pt x="1266825" y="361950"/>
                </a:lnTo>
                <a:lnTo>
                  <a:pt x="1266825" y="3019425"/>
                </a:lnTo>
                <a:lnTo>
                  <a:pt x="361950" y="3019425"/>
                </a:lnTo>
                <a:lnTo>
                  <a:pt x="361950" y="3200400"/>
                </a:lnTo>
                <a:close/>
              </a:path>
            </a:pathLst>
          </a:custGeom>
          <a:solidFill>
            <a:srgbClr val="ff388c"/>
          </a:solidFill>
          <a:ln w="4248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83520" cy="10573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How can you form </a:t>
            </a:r>
            <a:br>
              <a:rPr sz="3200"/>
            </a:b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the Present Perfect</a:t>
            </a:r>
            <a:r>
              <a:rPr b="1" lang="pl-PL" sz="3200" spc="-1" strike="noStrike">
                <a:solidFill>
                  <a:srgbClr val="262626"/>
                </a:solidFill>
                <a:latin typeface="Calibri"/>
              </a:rPr>
              <a:t>?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895480"/>
          <a:ext cx="8229600" cy="3408480"/>
        </p:xfrm>
        <a:graphic>
          <a:graphicData uri="http://schemas.openxmlformats.org/drawingml/2006/table">
            <a:tbl>
              <a:tblPr/>
              <a:tblGrid>
                <a:gridCol w="2522520"/>
                <a:gridCol w="5707080"/>
              </a:tblGrid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Positive Sentence</a:t>
                      </a: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I, you, we , they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   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ave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he, she, it</a:t>
                      </a: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as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62626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62626"/>
                          </a:solidFill>
                          <a:latin typeface="Cambria"/>
                        </a:rPr>
                        <a:t>Negative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I, you, we , they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ven’t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e, she, it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sn’t 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Ques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ve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I, you,we, they,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done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179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Has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   he, she, it    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worked</a:t>
                      </a:r>
                      <a:r>
                        <a:rPr b="0" i="1" lang="pl-PL" sz="1800" spc="-1" strike="noStrike">
                          <a:solidFill>
                            <a:srgbClr val="ff0000"/>
                          </a:solidFill>
                          <a:latin typeface="Century Schoolbook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has/have”+ eaten    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ate /eat/eating      </a:t>
            </a:r>
            <a:r>
              <a:rPr b="1" lang="ar-SA" sz="2800" spc="-1" strike="noStrike">
                <a:solidFill>
                  <a:srgbClr val="ff4995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 has/have</a:t>
            </a:r>
            <a:r>
              <a:rPr b="1" lang="en-US" sz="2800" spc="-1" strike="noStrike">
                <a:solidFill>
                  <a:srgbClr val="ff4995"/>
                </a:solidFill>
                <a:latin typeface="Calibri"/>
              </a:rPr>
              <a:t>”  </a:t>
            </a:r>
            <a:endParaRPr b="1" lang="en-US" sz="28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556236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1835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has/have”+ eaten    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ate /eat/eating      </a:t>
            </a:r>
            <a:r>
              <a:rPr b="1" lang="ar-SA" sz="3600" spc="-1" strike="noStrike">
                <a:solidFill>
                  <a:srgbClr val="ff4995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 has/have</a:t>
            </a:r>
            <a:r>
              <a:rPr b="1" lang="en-US" sz="3600" spc="-1" strike="noStrike">
                <a:solidFill>
                  <a:srgbClr val="ff4995"/>
                </a:solidFill>
                <a:latin typeface="Calibri"/>
              </a:rPr>
              <a:t>”</a:t>
            </a:r>
            <a:endParaRPr b="1" lang="en-US" sz="3600" spc="-1" strike="noStrike">
              <a:solidFill>
                <a:srgbClr val="ff4995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181160" cy="952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7656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3581280" y="4267080"/>
            <a:ext cx="221940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How do we use the Present Perfect </a:t>
            </a:r>
            <a:br>
              <a:rPr sz="3200"/>
            </a:br>
            <a:r>
              <a:rPr b="1" lang="ar-SA" sz="3200" spc="-1" strike="noStrike">
                <a:solidFill>
                  <a:srgbClr val="0d0d0d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Tense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There is always a connection with the past and with the </a:t>
            </a: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. There are basically three uses for the present perfect tense</a:t>
            </a:r>
            <a:r>
              <a:rPr b="0" lang="en-US" sz="28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_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_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94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 _</a:t>
            </a: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continuing situ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981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_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Present perfect tense for experience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:</a:t>
            </a:r>
            <a:br>
              <a:rPr sz="2400"/>
            </a:br>
            <a:endParaRPr b="1" lang="en-US" sz="24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183520" cy="46479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We often use the present perfect tens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o talk about experience from the pas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We ar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not interested in wh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you did something. We only want to know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f you did i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H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s lived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in Londo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ve 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you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be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there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?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4386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d0d0d"/>
                </a:solidFill>
                <a:latin typeface="Comic Sans MS"/>
              </a:rPr>
              <a:t>Present perfect tense for change</a:t>
            </a:r>
            <a:endParaRPr b="1" lang="en-US" sz="3200" spc="-1" strike="noStrike">
              <a:solidFill>
                <a:srgbClr val="ff499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We also use the present perfect tense to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alk about a change or new informatio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XAMPLES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e has bought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a car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Sara has broken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her leg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The police </a:t>
            </a: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have arrested</a:t>
            </a:r>
            <a:r>
              <a:rPr b="0" lang="en-US" sz="2400" spc="-1" strike="noStrike">
                <a:solidFill>
                  <a:srgbClr val="c31f64"/>
                </a:solidFill>
                <a:latin typeface="Comic Sans MS"/>
              </a:rPr>
              <a:t> the killer</a:t>
            </a:r>
            <a:r>
              <a:rPr b="0" lang="en-US" sz="1800" spc="-1" strike="noStrike">
                <a:solidFill>
                  <a:srgbClr val="c31f64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28954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7:01:42Z</dcterms:created>
  <dc:creator>JF</dc:creator>
  <dc:description/>
  <dc:language>en-US</dc:language>
  <cp:lastModifiedBy>win8</cp:lastModifiedBy>
  <dcterms:modified xsi:type="dcterms:W3CDTF">2014-12-02T12:33:43Z</dcterms:modified>
  <cp:revision>57</cp:revision>
  <dc:subject/>
  <dc:title>PRESENT PERF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