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63F52-CE71-4D84-9063-7923E48A1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989E8-465F-4652-BCA6-F1118AFBC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34466-CC7D-4027-919E-BDC38FE39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49C9D-E3D0-4F07-8C73-FDCDF98C9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321A1-2212-4F21-BA56-5476511F0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1367A-D79F-473E-86E7-2C0F17BF3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D495E-BCD7-49CE-ABCC-21BD5CBC3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78A29-F255-46B3-9D59-DB49786F0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C0D97-7ED9-4C59-9A04-723CABD75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D02F9-6CD7-4FD5-9FB7-EDC382C9B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12A53-9F3E-4F9D-9D4E-3DF5A4D5C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3E922-CFE8-4B41-8E03-D331F7421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FA8A0-3D64-425B-9E5D-429BA2B9C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2DBA6-1F54-41E6-BD83-EF7886F8A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61311-2C6D-4E59-8DE7-FBBB4DE0F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B675F-49D9-40CC-BF17-BC0A18F41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2A90A-2FAA-4E09-8639-37EC654C3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B33267-D2D6-46FE-82A8-3DDD84253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4A323-2CCE-450B-88FF-3970922C1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274EB6-E238-4E1C-A256-BA2DFBBD9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8ABB6-CB75-4E4E-B963-A1430EE443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6D2DF-8E94-45F6-A969-F8BD3F9F5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A5D2F-526C-4664-BF4B-EA044B51D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DDB51-793B-45F4-8F5E-45642C2F3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85D60-4E07-427F-A66C-AD24EA593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D80D0-8F0D-4623-BB28-0FFD977C9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F4F6E-0025-45CB-829D-BA6E429F2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A6EDB3-4A84-41C4-BB28-6026F574C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AC5116-AAA8-40C0-93F8-A3FF557C9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18F2C1-37E0-430A-89E9-74F5BF5D34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0A2B-FAE0-41F9-AD95-0A8FF78CD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A57B8-52FF-4803-8DCF-50C4FD496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DBB7C-BF74-4A37-80E0-4E40270ED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2EF8-F4C9-4344-AB9F-9DB322A51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18C8-7619-4888-8167-15A9A18CC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B91B-6AF6-4713-B375-6A3862014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5B53-EA86-4C9B-AFEC-B0172323DD11}"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FA22-5F4B-444F-A9CE-EEB24F047A42}" type="slidenum">
              <a:rPr b="0" lang="ar-SA"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2C5B-45F5-40D1-8428-4D01739BADAF}"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E81A-7FA0-4FE3-97D8-66E709A5F1FD}" type="slidenum">
              <a:rPr b="0" lang="ar-SA"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7495-C3FC-4665-AD04-828918052BC1}"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22"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7F51-3054-44FC-913C-A9C54EA1DE27}" type="slidenum">
              <a:rPr b="0" lang="ar-SA"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3840" y="178560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preservatives</a:t>
            </a:r>
            <a:endParaRPr b="0" lang="en-US" sz="6000" spc="-1" strike="noStrike">
              <a:solidFill>
                <a:srgbClr val="424456"/>
              </a:solidFill>
              <a:latin typeface="Trebuchet MS"/>
            </a:endParaRPr>
          </a:p>
        </p:txBody>
      </p:sp>
      <p:sp>
        <p:nvSpPr>
          <p:cNvPr id="161" name="PlaceHolder 2"/>
          <p:cNvSpPr>
            <a:spLocks noGrp="1"/>
          </p:cNvSpPr>
          <p:nvPr>
            <p:ph type="subTitle"/>
          </p:nvPr>
        </p:nvSpPr>
        <p:spPr>
          <a:xfrm>
            <a:off x="7601040" y="4285800"/>
            <a:ext cx="1542960" cy="11718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PHT 43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4456"/>
                </a:solidFill>
                <a:latin typeface="Trebuchet MS"/>
              </a:rPr>
              <a:t>Protein pharmaceutical</a:t>
            </a:r>
            <a:r>
              <a:rPr b="0" lang="en-US" sz="4000" spc="-1" strike="noStrike">
                <a:solidFill>
                  <a:srgbClr val="424456"/>
                </a:solidFill>
                <a:latin typeface="Trebuchet MS"/>
              </a:rPr>
              <a:t> </a:t>
            </a:r>
            <a:br>
              <a:rPr sz="4000"/>
            </a:br>
            <a:endParaRPr b="0" lang="en-US" sz="4000" spc="-1" strike="noStrike">
              <a:solidFill>
                <a:srgbClr val="424456"/>
              </a:solidFill>
              <a:latin typeface="Trebuchet MS"/>
            </a:endParaRPr>
          </a:p>
        </p:txBody>
      </p:sp>
      <p:sp>
        <p:nvSpPr>
          <p:cNvPr id="180"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tein pharmaceutical  are preferred to be available as multiple dose because of: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st</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requency of use</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uman insulin, human growth hormone, vaccines</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several proteins are reactive with preservative (e.g. interleukins) and, therefore, are only available as single dosage form unit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2920" y="642600"/>
            <a:ext cx="885816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Trebuchet MS"/>
              </a:rPr>
              <a:t>Criteria may be useful in preservative selection</a:t>
            </a:r>
            <a:endParaRPr b="0" lang="en-US" sz="3000" spc="-1" strike="noStrike">
              <a:solidFill>
                <a:srgbClr val="424456"/>
              </a:solidFill>
              <a:latin typeface="Trebuchet MS"/>
            </a:endParaRPr>
          </a:p>
        </p:txBody>
      </p:sp>
      <p:sp>
        <p:nvSpPr>
          <p:cNvPr id="182" name=""/>
          <p:cNvSpPr txBox="1"/>
          <p:nvPr/>
        </p:nvSpPr>
        <p:spPr>
          <a:xfrm>
            <a:off x="142920" y="1857240"/>
            <a:ext cx="8786880" cy="47167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have a broad spectrum and be active against Gm+ve and Gm-ve organism as well as fungi. The agent should exert a rapid bactericidal activity.</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be stable over a wide range of condition including autoclaving temperatures and  pH range.</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mpatibility should be established with other component of the preparation and with package systems.</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ck of toxicity and irritation should be established with a reasonable margin of safety. </a:t>
            </a:r>
            <a:r>
              <a:rPr b="0" lang="en-US" sz="2800" spc="-1" strike="noStrike">
                <a:solidFill>
                  <a:srgbClr val="000000"/>
                </a:solidFill>
                <a:latin typeface="Georgia"/>
              </a:rPr>
              <a:t> </a:t>
            </a:r>
            <a:endParaRPr b="0" lang="en-US" sz="2800" spc="-1" strike="noStrike">
              <a:solidFill>
                <a:srgbClr val="000000"/>
              </a:solidFill>
              <a:latin typeface="Georgia"/>
            </a:endParaRPr>
          </a:p>
          <a:p>
            <a:pPr marL="585000" indent="-483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33240"/>
            <a:ext cx="8229600" cy="1085400"/>
          </a:xfrm>
          <a:prstGeom prst="rect">
            <a:avLst/>
          </a:prstGeom>
          <a:solidFill>
            <a:srgbClr val="ffffff"/>
          </a:solidFill>
          <a:ln w="19080">
            <a:solidFill>
              <a:srgbClr val="000000"/>
            </a:solidFill>
            <a:miter/>
          </a:ln>
        </p:spPr>
        <p:txBody>
          <a:bodyPr lIns="99360" rIns="99360" tIns="56160" bIns="5616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424456"/>
              </a:solidFill>
              <a:latin typeface="Trebuchet MS"/>
            </a:endParaRPr>
          </a:p>
        </p:txBody>
      </p:sp>
      <p:sp>
        <p:nvSpPr>
          <p:cNvPr id="18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 are used for topical ophthalmic products packaged in multiple dose container unless the formation itself is self-preservative, as in the case with some antimicrobial products like the ophthalmic solution Vigamox.</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reservatives</a:t>
            </a:r>
            <a:endParaRPr b="0" lang="en-US" sz="4000" spc="-1" strike="noStrike">
              <a:solidFill>
                <a:srgbClr val="424456"/>
              </a:solidFill>
              <a:latin typeface="Trebuchet MS"/>
            </a:endParaRPr>
          </a:p>
        </p:txBody>
      </p:sp>
      <p:sp>
        <p:nvSpPr>
          <p:cNvPr id="1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 a substance or mixture of substances added to aproduct formulation to  prevent the growth of, or to destroy, microorganisms introduced accidently once the container is opened for us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165"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must be added in adequate concentration at the time of use to prevent the multiplication of microorganisms inadvertently introduced into the preparation while withdrawing a portion of  the contents with hypodermic needle and syri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167" name=""/>
          <p:cNvSpPr txBox="1"/>
          <p:nvPr/>
        </p:nvSpPr>
        <p:spPr>
          <a:xfrm>
            <a:off x="457200" y="2249640"/>
            <a:ext cx="8229600" cy="43243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ossibility that microorganisms might contaminate medicines during manufacture, storage or use must be addressed to ensure the continued stability and safety of the product. </a:t>
            </a:r>
            <a:endParaRPr b="0" lang="en-US" sz="2800" spc="-1" strike="noStrike">
              <a:solidFill>
                <a:srgbClr val="000000"/>
              </a:solidFill>
              <a:latin typeface="Georgia"/>
            </a:endParaRPr>
          </a:p>
          <a:p>
            <a:pPr marL="585000" indent="-483480">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mplex chemical and physicochemical nature of many formulations is often found to be conducive to the survival and even multiplication of such contaminants, unless specific precautions are taken to prevent 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mush preservatives can be used</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16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antimicrobial agents may have inherent toxicity for patient, the USP prescribes maximum volume and concentration limited for those that are used commonly in a parental produc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s of parenteral preservatives</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graphicFrame>
        <p:nvGraphicFramePr>
          <p:cNvPr id="171" name=""/>
          <p:cNvGraphicFramePr/>
          <p:nvPr/>
        </p:nvGraphicFramePr>
        <p:xfrm>
          <a:off x="457200" y="2249640"/>
          <a:ext cx="8229600" cy="4257360"/>
        </p:xfrm>
        <a:graphic>
          <a:graphicData uri="http://schemas.openxmlformats.org/drawingml/2006/table">
            <a:tbl>
              <a:tblPr/>
              <a:tblGrid>
                <a:gridCol w="4114800"/>
                <a:gridCol w="4114800"/>
              </a:tblGrid>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ntimicrobial ag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onc</a:t>
                      </a:r>
                      <a:r>
                        <a:rPr b="1" lang="en-US" sz="1800" spc="-1" strike="noStrike">
                          <a:solidFill>
                            <a:srgbClr val="ffffff"/>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enylmercuric nitrate</a:t>
                      </a:r>
                      <a:r>
                        <a:rPr b="0" lang="ar-SA"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mer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nzeth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nzalk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Pheny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s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butan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69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ethyl </a:t>
                      </a:r>
                      <a:r>
                        <a:rPr b="0" i="1" lang="en-US" sz="1800" spc="-1" strike="noStrike">
                          <a:solidFill>
                            <a:srgbClr val="000000"/>
                          </a:solidFill>
                          <a:latin typeface="Georgia"/>
                        </a:rPr>
                        <a:t>p</a:t>
                      </a:r>
                      <a:r>
                        <a:rPr b="0" lang="en-US" sz="1800" spc="-1" strike="noStrike">
                          <a:solidFill>
                            <a:srgbClr val="000000"/>
                          </a:solidFill>
                          <a:latin typeface="Georgia"/>
                        </a:rPr>
                        <a:t>-hydroxybenzoate</a:t>
                      </a:r>
                      <a:r>
                        <a:rPr b="0" lang="en-US" sz="1800" spc="-1" strike="noStrike">
                          <a:solidFill>
                            <a:srgbClr val="000000"/>
                          </a:solidFill>
                          <a:latin typeface="Georgia"/>
                        </a:rPr>
                        <a:t> &amp;</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opyl p-hydroxybenzoate</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parabens</a:t>
                      </a:r>
                      <a:r>
                        <a:rPr b="0" lang="en-US" sz="1800" spc="-1" strike="noStrike">
                          <a:solidFill>
                            <a:srgbClr val="000000"/>
                          </a:solidFill>
                          <a:latin typeface="Georgia"/>
                        </a:rPr>
                        <a:t>)  </a:t>
                      </a:r>
                      <a:r>
                        <a:rPr b="0" lang="ar-SA"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8%</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2%</a:t>
                      </a:r>
                      <a:r>
                        <a:rPr b="0" lang="en-US" sz="1800" spc="-1" strike="noStrike">
                          <a:solidFill>
                            <a:srgbClr val="000000"/>
                          </a:solidFill>
                          <a:latin typeface="Georgia"/>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 comb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86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Benzyl 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172" name="TextBox 6"/>
          <p:cNvSpPr/>
          <p:nvPr/>
        </p:nvSpPr>
        <p:spPr>
          <a:xfrm>
            <a:off x="0" y="6488280"/>
            <a:ext cx="65008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used because mercury toxicity, * Most widely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o select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17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icular agents may be effective in one formulation and ineffective in another. so,</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patibility with all other components of formula must be evalua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ivity must be evaluated in the total formula.</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inding and inactivation of parabens by macromolecules such as polysorbate 80. </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uses</a:t>
            </a:r>
            <a:endParaRPr b="0" lang="en-US" sz="4000" spc="-1" strike="noStrike">
              <a:solidFill>
                <a:srgbClr val="424456"/>
              </a:solidFill>
              <a:latin typeface="Trebuchet MS"/>
            </a:endParaRPr>
          </a:p>
        </p:txBody>
      </p:sp>
      <p:sp>
        <p:nvSpPr>
          <p:cNvPr id="176"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s are used with:</a:t>
            </a:r>
            <a:endParaRPr b="0" lang="en-US" sz="2800" spc="-1" strike="noStrike">
              <a:solidFill>
                <a:srgbClr val="000000"/>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ultidose parenteral (insulin)</a:t>
            </a: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ngle dose, small volume parenteral for which the sterilization was not the last step of produc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not used with</a:t>
            </a:r>
            <a:endParaRPr b="0" lang="en-US" sz="4000" spc="-1" strike="noStrike">
              <a:solidFill>
                <a:srgbClr val="424456"/>
              </a:solidFill>
              <a:latin typeface="Trebuchet MS"/>
            </a:endParaRPr>
          </a:p>
        </p:txBody>
      </p:sp>
      <p:sp>
        <p:nvSpPr>
          <p:cNvPr id="17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le dose containers and pharmacy bulk packs that  do not contain antimicrobial agents are expected to be used promptly after opening or to be discard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rge-volume , single dose container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ervation is prohibited as the amount of preservative will be high.</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0:04:28Z</dcterms:created>
  <dc:creator>M.Tayel</dc:creator>
  <dc:description/>
  <dc:language>en-US</dc:language>
  <cp:lastModifiedBy>ADEL ALHOWYAN</cp:lastModifiedBy>
  <dcterms:modified xsi:type="dcterms:W3CDTF">2013-02-02T12:02:23Z</dcterms:modified>
  <cp:revision>116</cp:revision>
  <dc:subject/>
  <dc:title>Isotonicity</dc:title>
</cp:coreProperties>
</file>