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EA22C-9BA9-4AF0-8B81-60ABF1796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A012A-86B0-4754-8A9B-31CE1E3EF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9D7A0-33B9-4C9E-B371-773F3BDA7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826DF-8C76-4B82-ADC7-EA1BD2E08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4E0159-7F5C-4C0F-8E1C-6FB7DCE8EF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202F5-F5C5-41F2-947D-AC4EC68F9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677774-38FF-488F-B859-6B75638A6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E8AFC-405D-4C6A-A184-9946AF756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FA8FE-670B-49D0-BE4C-C6B772BA2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E0F70-F718-4D6D-A230-CBA071237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BC92A-86D7-43FF-A85E-9B107A5D9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6DFCE-2A0E-4997-8B50-5125FADB7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5A639-62CE-492B-A534-AD93304C3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C68E7-9939-4519-A9C6-0CFB819FC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B5B1F-06AF-48F2-BAE8-69D362CA7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2354B2-EE16-4A1D-9107-EC2036543D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B31197-C857-4632-8A3C-6255E2809F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9B7F971-2D4B-4031-BBD3-826ADAC958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F1E2988-A4E5-4029-A57B-4AE15E85DF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24D6368-C766-4E0D-9559-E9FC616AA4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5C65AF2-FB9F-4DB6-AE88-58B0E5C7CB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B9FA770-AE1B-4547-A2C7-A533AA6913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4EB5A-A61B-4BA0-862F-208BB26F8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EA362E9-A006-4966-8B91-C248AD3BCB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E569ED9-1089-4149-A120-12B33D4E16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25AF0D7-CD62-4C2D-B5C4-C23BB4F2CD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6CD9926-EFD9-4C59-B28D-91733CB2EF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D53EE3A-E5D8-403E-B781-DF56129868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47F7DCF-EB97-4F5B-926A-104037FB52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B30288A-20DF-4BC4-9025-64E63F41FC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B65CCE-E117-4299-9A60-80513EB7F1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E3DA9F-EF84-44C8-B0ED-57AC9BF37B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57B2C5-8CBD-42C2-9753-C9FEAB2B3D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CCE7D-AB10-4EBD-B576-D9EDD3795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7A18F4-ACD0-4EB4-A630-201ACC0F52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38AE0E-DAEF-4683-96F5-4F3358B3E8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FA180A-7414-4AEC-A3C8-5E2F06B807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F3E6F7-C60C-4869-B425-E22E0B207B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520275-6AB8-4861-B44F-69F49A510B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DD6619-41C8-4F6D-9044-AB00276D84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47989B-E324-4B9A-A603-74BF985AEE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6344C0-2A92-4F63-AF99-44FC1DEA46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74C06A-F2DB-4FB4-9A85-F10A404BA8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30D1F-5BED-498A-B77D-66CFE31A3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23426-0346-428D-B86E-8171C54B8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93EDB-6BC3-4C96-A144-72664F617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13B41-727D-4E1D-B634-173A5AB80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90A56-538E-48CC-8960-5607C52CC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1402-0616-4210-95A4-02CAB6152C44}" type="datetime">
              <a:rPr b="0" lang="ar-SA" sz="800" spc="-1" strike="noStrike">
                <a:solidFill>
                  <a:srgbClr val="438086"/>
                </a:solidFill>
                <a:latin typeface="Georgia"/>
              </a:rPr>
              <a:t>١٤٤٨/٠٢/١٥</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8E146-DF79-48F4-B2EE-A43E1C7EC94F}"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BB707-91A0-46E4-B08C-CA4EE135EEE8}" type="datetime">
              <a:rPr b="0" lang="ar-SA" sz="800" spc="-1" strike="noStrike">
                <a:solidFill>
                  <a:srgbClr val="438086"/>
                </a:solidFill>
                <a:latin typeface="Georgia"/>
              </a:rPr>
              <a:t>١٤٤٨/٠٢/١٥</a:t>
            </a:fld>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762E4-7DE2-434F-A48D-291D8D620244}"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AA193-A75C-43E8-A533-56F0DBD78ED5}" type="datetime">
              <a:rPr b="0" lang="ar-SA" sz="800" spc="-1" strike="noStrike">
                <a:solidFill>
                  <a:srgbClr val="438086"/>
                </a:solidFill>
                <a:latin typeface="Georgia"/>
              </a:rPr>
              <a:t>١٤٤٨/٠٢/١٥</a:t>
            </a:fld>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AB6E0-66E2-43FF-952A-9C9C6553B58B}"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D02D-D39F-4CEA-A77F-9A1A1DCE907F}" type="datetime">
              <a:rPr b="0" lang="ar-SA" sz="800" spc="-1" strike="noStrike">
                <a:solidFill>
                  <a:srgbClr val="438086"/>
                </a:solidFill>
                <a:latin typeface="Georgia"/>
              </a:rPr>
              <a:t>١٤٤٨/٠٢/١٥</a:t>
            </a:fld>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DB73-4D4E-48E8-BD77-7F360A458E69}"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13840" y="178560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rebuchet MS"/>
              </a:rPr>
              <a:t>preservatives</a:t>
            </a:r>
            <a:endParaRPr b="0" lang="en-US" sz="6000" spc="-1" strike="noStrike">
              <a:solidFill>
                <a:srgbClr val="424456"/>
              </a:solidFill>
              <a:latin typeface="Trebuchet MS"/>
            </a:endParaRPr>
          </a:p>
        </p:txBody>
      </p:sp>
      <p:sp>
        <p:nvSpPr>
          <p:cNvPr id="215" name="PlaceHolder 2"/>
          <p:cNvSpPr>
            <a:spLocks noGrp="1"/>
          </p:cNvSpPr>
          <p:nvPr>
            <p:ph type="subTitle"/>
          </p:nvPr>
        </p:nvSpPr>
        <p:spPr>
          <a:xfrm>
            <a:off x="7601040" y="4285800"/>
            <a:ext cx="1542960" cy="117180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PHT 434</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424456"/>
                </a:solidFill>
                <a:latin typeface="Trebuchet MS"/>
              </a:rPr>
              <a:t>Protein pharmaceutical</a:t>
            </a:r>
            <a:r>
              <a:rPr b="0" lang="en-US" sz="4000" spc="-1" strike="noStrike">
                <a:solidFill>
                  <a:srgbClr val="424456"/>
                </a:solidFill>
                <a:latin typeface="Trebuchet MS"/>
              </a:rPr>
              <a:t> </a:t>
            </a:r>
            <a:br>
              <a:rPr sz="4000"/>
            </a:b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tein pharmaceutical  are preferred to be available as multiple dose because of: </a:t>
            </a:r>
            <a:endParaRPr b="0" lang="en-US" sz="2800" spc="-1" strike="noStrike">
              <a:solidFill>
                <a:srgbClr val="000000"/>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st</a:t>
            </a:r>
            <a:endParaRPr b="0" lang="en-US" sz="2600" spc="-1" strike="noStrike">
              <a:solidFill>
                <a:srgbClr val="438086"/>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frequency of use</a:t>
            </a:r>
            <a:endParaRPr b="0" lang="en-US" sz="2600" spc="-1" strike="noStrike">
              <a:solidFill>
                <a:srgbClr val="438086"/>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a:t>
            </a:r>
            <a:endParaRPr b="0" lang="en-US" sz="2800" spc="-1" strike="noStrike">
              <a:solidFill>
                <a:srgbClr val="000000"/>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Human insulin, human growth hormone, vaccines</a:t>
            </a:r>
            <a:endParaRPr b="0" lang="en-US" sz="2600" spc="-1" strike="noStrike">
              <a:solidFill>
                <a:srgbClr val="438086"/>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ever, several proteins are reactive with preservative (e.g. interleukins) and, therefore, are only available as single dosage form unit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42920" y="642600"/>
            <a:ext cx="885816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Trebuchet MS"/>
              </a:rPr>
              <a:t>Criteria may be useful in preservative selection</a:t>
            </a:r>
            <a:endParaRPr b="0" lang="en-US" sz="3000" spc="-1" strike="noStrike">
              <a:solidFill>
                <a:srgbClr val="424456"/>
              </a:solidFill>
              <a:latin typeface="Trebuchet MS"/>
            </a:endParaRPr>
          </a:p>
        </p:txBody>
      </p:sp>
      <p:sp>
        <p:nvSpPr>
          <p:cNvPr id="236" name=""/>
          <p:cNvSpPr txBox="1"/>
          <p:nvPr/>
        </p:nvSpPr>
        <p:spPr>
          <a:xfrm>
            <a:off x="142920" y="1857240"/>
            <a:ext cx="8786880" cy="4716720"/>
          </a:xfrm>
          <a:prstGeom prst="rect">
            <a:avLst/>
          </a:prstGeom>
          <a:noFill/>
          <a:ln w="0">
            <a:noFill/>
          </a:ln>
        </p:spPr>
        <p:txBody>
          <a:bodyPr anchor="t">
            <a:normAutofit fontScale="94000"/>
          </a:bodyPr>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agent should have a broad spectrum and be active against Gm+ve and Gm-ve organism as well as fungi. The agent should exert a rapid bactericidal activity.</a:t>
            </a:r>
            <a:endParaRPr b="0" lang="en-US" sz="2600" spc="-1" strike="noStrike">
              <a:solidFill>
                <a:srgbClr val="000000"/>
              </a:solidFill>
              <a:latin typeface="Georgia"/>
            </a:endParaRPr>
          </a:p>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agent should be stable over a wide range of condition including autoclaving temperatures and  pH range.</a:t>
            </a:r>
            <a:endParaRPr b="0" lang="en-US" sz="2600" spc="-1" strike="noStrike">
              <a:solidFill>
                <a:srgbClr val="000000"/>
              </a:solidFill>
              <a:latin typeface="Georgia"/>
            </a:endParaRPr>
          </a:p>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ompatibility should be established with other component of the preparation and with package systems.</a:t>
            </a:r>
            <a:endParaRPr b="0" lang="en-US" sz="2600" spc="-1" strike="noStrike">
              <a:solidFill>
                <a:srgbClr val="000000"/>
              </a:solidFill>
              <a:latin typeface="Georgia"/>
            </a:endParaRPr>
          </a:p>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Lack of toxicity and irritation should be established with a reasonable margin of safety. </a:t>
            </a:r>
            <a:r>
              <a:rPr b="0" lang="en-US" sz="2800" spc="-1" strike="noStrike">
                <a:solidFill>
                  <a:srgbClr val="000000"/>
                </a:solidFill>
                <a:latin typeface="Georgia"/>
              </a:rPr>
              <a:t> </a:t>
            </a:r>
            <a:endParaRPr b="0" lang="en-US" sz="2800" spc="-1" strike="noStrike">
              <a:solidFill>
                <a:srgbClr val="000000"/>
              </a:solidFill>
              <a:latin typeface="Georgia"/>
            </a:endParaRPr>
          </a:p>
          <a:p>
            <a:pPr marL="585000" indent="-483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00040" y="633240"/>
            <a:ext cx="8229600" cy="1085400"/>
          </a:xfrm>
          <a:prstGeom prst="rect">
            <a:avLst/>
          </a:prstGeom>
          <a:solidFill>
            <a:srgbClr val="ffffff"/>
          </a:solidFill>
          <a:ln w="19080">
            <a:solidFill>
              <a:srgbClr val="000000"/>
            </a:solidFill>
            <a:miter/>
          </a:ln>
        </p:spPr>
        <p:txBody>
          <a:bodyPr lIns="99360" rIns="99360" tIns="56160" bIns="5616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424456"/>
              </a:solidFill>
              <a:latin typeface="Trebuchet MS"/>
              <a:ea typeface="Tahoma"/>
            </a:endParaRPr>
          </a:p>
        </p:txBody>
      </p:sp>
      <p:sp>
        <p:nvSpPr>
          <p:cNvPr id="23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rvative are used for topical ophthalmic products packaged in multiple dose container unless the formation itself is self-preservative, as in the case with some antimicrobial products like the ophthalmic solution Vigamox.</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reservatives</a:t>
            </a:r>
            <a:endParaRPr b="0" lang="en-US" sz="4000" spc="-1" strike="noStrike">
              <a:solidFill>
                <a:srgbClr val="424456"/>
              </a:solidFill>
              <a:latin typeface="Trebuchet MS"/>
            </a:endParaRPr>
          </a:p>
        </p:txBody>
      </p:sp>
      <p:sp>
        <p:nvSpPr>
          <p:cNvPr id="21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rvativ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s a substance or mixture of substances added to aproduct formulation to  prevent the growth of, or to destroy, microorganisms introduced accidently once the container is opened for use.</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y using preservatives</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219" name=""/>
          <p:cNvSpPr txBox="1"/>
          <p:nvPr/>
        </p:nvSpPr>
        <p:spPr>
          <a:xfrm>
            <a:off x="457200" y="2249640"/>
            <a:ext cx="8229600" cy="4324320"/>
          </a:xfrm>
          <a:prstGeom prst="rect">
            <a:avLst/>
          </a:prstGeom>
          <a:noFill/>
          <a:ln w="0">
            <a:noFill/>
          </a:ln>
        </p:spPr>
        <p:txBody>
          <a:bodyPr anchor="t">
            <a:normAutofit/>
          </a:bodyPr>
          <a:p>
            <a:pPr marL="622440" indent="-51444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y must be added in adequate concentration at the time of use to prevent the multiplication of microorganisms inadvertently introduced into the preparation while withdrawing a portion of  the contents with hypodermic needle and syring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y using preservatives</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221" name=""/>
          <p:cNvSpPr txBox="1"/>
          <p:nvPr/>
        </p:nvSpPr>
        <p:spPr>
          <a:xfrm>
            <a:off x="457200" y="2249640"/>
            <a:ext cx="8229600" cy="4324320"/>
          </a:xfrm>
          <a:prstGeom prst="rect">
            <a:avLst/>
          </a:prstGeom>
          <a:noFill/>
          <a:ln w="0">
            <a:noFill/>
          </a:ln>
        </p:spPr>
        <p:txBody>
          <a:bodyPr anchor="t">
            <a:normAutofit fontScale="94000"/>
          </a:bodyPr>
          <a:p>
            <a:pPr marL="585000" indent="-483480">
              <a:spcBef>
                <a:spcPts val="300"/>
              </a:spcBef>
              <a:buClr>
                <a:srgbClr val="a04da3"/>
              </a:buClr>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ossibility that microorganisms might contaminate medicines during manufacture, storage or use must be addressed to ensure the continued stability and safety of the product. </a:t>
            </a:r>
            <a:endParaRPr b="0" lang="en-US" sz="2800" spc="-1" strike="noStrike">
              <a:solidFill>
                <a:srgbClr val="000000"/>
              </a:solidFill>
              <a:latin typeface="Georgia"/>
            </a:endParaRPr>
          </a:p>
          <a:p>
            <a:pPr marL="585000" indent="-483480">
              <a:spcBef>
                <a:spcPts val="300"/>
              </a:spcBef>
              <a:buClr>
                <a:srgbClr val="a04da3"/>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mplex chemical and physicochemical nature of many formulations is often found to be conducive to the survival and even multiplication of such contaminants, unless specific precautions are taken to prevent i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mush preservatives can be used</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22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antimicrobial agents may have inherent toxicity for patient, the USP prescribes maximum volume and concentration limited for those that are used commonly in a parental produc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s of parenteral preservatives</a:t>
            </a:r>
            <a:r>
              <a:rPr b="0" lang="en-US" sz="4000" spc="-1" strike="noStrike">
                <a:solidFill>
                  <a:srgbClr val="424456"/>
                </a:solidFill>
                <a:latin typeface="Trebuchet MS"/>
              </a:rPr>
              <a:t> </a:t>
            </a:r>
            <a:endParaRPr b="0" lang="en-US" sz="4000" spc="-1" strike="noStrike">
              <a:solidFill>
                <a:srgbClr val="424456"/>
              </a:solidFill>
              <a:latin typeface="Trebuchet MS"/>
            </a:endParaRPr>
          </a:p>
        </p:txBody>
      </p:sp>
      <p:graphicFrame>
        <p:nvGraphicFramePr>
          <p:cNvPr id="225" name=""/>
          <p:cNvGraphicFramePr/>
          <p:nvPr/>
        </p:nvGraphicFramePr>
        <p:xfrm>
          <a:off x="457200" y="2249640"/>
          <a:ext cx="8229600" cy="4251240"/>
        </p:xfrm>
        <a:graphic>
          <a:graphicData uri="http://schemas.openxmlformats.org/drawingml/2006/table">
            <a:tbl>
              <a:tblPr/>
              <a:tblGrid>
                <a:gridCol w="4114800"/>
                <a:gridCol w="4114800"/>
              </a:tblGrid>
              <a:tr h="3708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ntimicrobial ag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Conc</a:t>
                      </a:r>
                      <a:r>
                        <a:rPr b="1" lang="en-US" sz="1800" spc="-1" strike="noStrike">
                          <a:solidFill>
                            <a:srgbClr val="ffffff"/>
                          </a:solidFill>
                          <a:latin typeface="Georg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r>
              <a:tr h="36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henylmercuric nitrate</a:t>
                      </a:r>
                      <a:r>
                        <a:rPr b="0" lang="ar-SA" sz="1800" spc="-1" strike="noStrike">
                          <a:solidFill>
                            <a:srgbClr val="000000"/>
                          </a:solidFill>
                          <a:latin typeface="Georg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3711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imeros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69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enzethonium chlor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711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enzalkonium chlor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711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r>
                      <a:r>
                        <a:rPr b="0" lang="en-US" sz="1800" spc="-1" strike="noStrike">
                          <a:solidFill>
                            <a:srgbClr val="000000"/>
                          </a:solidFill>
                          <a:latin typeface="Georgia"/>
                        </a:rPr>
                        <a:t>Pheny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69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res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711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butan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9169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ethyl </a:t>
                      </a:r>
                      <a:r>
                        <a:rPr b="0" i="1" lang="en-US" sz="1800" spc="-1" strike="noStrike">
                          <a:solidFill>
                            <a:srgbClr val="000000"/>
                          </a:solidFill>
                          <a:latin typeface="Georgia"/>
                        </a:rPr>
                        <a:t>p</a:t>
                      </a:r>
                      <a:r>
                        <a:rPr b="0" lang="en-US" sz="1800" spc="-1" strike="noStrike">
                          <a:solidFill>
                            <a:srgbClr val="000000"/>
                          </a:solidFill>
                          <a:latin typeface="Georgia"/>
                        </a:rPr>
                        <a:t>-hydroxybenzoate</a:t>
                      </a:r>
                      <a:r>
                        <a:rPr b="0" lang="en-US" sz="1800" spc="-1" strike="noStrike">
                          <a:solidFill>
                            <a:srgbClr val="000000"/>
                          </a:solidFill>
                          <a:latin typeface="Georgia"/>
                        </a:rPr>
                        <a:t> &amp;</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ropyl p-hydroxybenzoate</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r>
                      <a:r>
                        <a:rPr b="0" lang="en-US" sz="1800" spc="-1" strike="noStrike">
                          <a:solidFill>
                            <a:srgbClr val="000000"/>
                          </a:solidFill>
                          <a:latin typeface="Georgia"/>
                        </a:rPr>
                        <a:t>parabens</a:t>
                      </a:r>
                      <a:r>
                        <a:rPr b="0" lang="en-US" sz="1800" spc="-1" strike="noStrike">
                          <a:solidFill>
                            <a:srgbClr val="000000"/>
                          </a:solidFill>
                          <a:latin typeface="Georgia"/>
                        </a:rPr>
                        <a:t>)  </a:t>
                      </a:r>
                      <a:r>
                        <a:rPr b="0" lang="ar-SA" sz="1800" spc="-1" strike="noStrike">
                          <a:solidFill>
                            <a:srgbClr val="000000"/>
                          </a:solidFill>
                          <a:latin typeface="Georg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18%</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02%</a:t>
                      </a:r>
                      <a:r>
                        <a:rPr b="0" lang="en-US" sz="1800" spc="-1" strike="noStrike">
                          <a:solidFill>
                            <a:srgbClr val="000000"/>
                          </a:solidFill>
                          <a:latin typeface="Georgia"/>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 combi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r>
                      <a:r>
                        <a:rPr b="0" lang="en-US" sz="1800" spc="-1" strike="noStrike">
                          <a:solidFill>
                            <a:srgbClr val="000000"/>
                          </a:solidFill>
                          <a:latin typeface="Georgia"/>
                        </a:rPr>
                        <a:t>Benzyl alcoh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bl>
          </a:graphicData>
        </a:graphic>
      </p:graphicFrame>
      <p:sp>
        <p:nvSpPr>
          <p:cNvPr id="226" name="TextBox 6"/>
          <p:cNvSpPr/>
          <p:nvPr/>
        </p:nvSpPr>
        <p:spPr>
          <a:xfrm>
            <a:off x="0" y="6488280"/>
            <a:ext cx="650088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 used because mercury toxicity, * Most widely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o select preservatives</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ticular agents may be effective in one formulation and ineffective in another. so,</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mpatibility with all other components of formula must be evaluated.</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Activity must be evaluated in the total formula.</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inding and inactivation of parabens by macromolecules such as polysorbate 80. </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eservatives uses</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a:bodyPr>
          <a:p>
            <a:pPr marL="622440" indent="-514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rvatives are used with:</a:t>
            </a:r>
            <a:endParaRPr b="0" lang="en-US" sz="2800" spc="-1" strike="noStrike">
              <a:solidFill>
                <a:srgbClr val="000000"/>
              </a:solidFill>
              <a:latin typeface="Georgia"/>
            </a:endParaRPr>
          </a:p>
          <a:p>
            <a:pPr lvl="1" marL="914400" indent="-514440">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Multidose parenteral (insulin)</a:t>
            </a:r>
            <a:endParaRPr b="0" lang="en-US" sz="2600" spc="-1" strike="noStrike">
              <a:solidFill>
                <a:srgbClr val="438086"/>
              </a:solidFill>
              <a:latin typeface="Georgia"/>
            </a:endParaRPr>
          </a:p>
          <a:p>
            <a:pPr lvl="1" marL="914400" indent="-514440">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lvl="1" marL="914400" indent="-514440">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ingle dose, small volume parenteral for which the sterilization was not the last step of production.</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eservatives not used with</a:t>
            </a:r>
            <a:endParaRPr b="0" lang="en-US" sz="40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le dose containers and pharmacy bulk packs that  do not contain antimicrobial agents are expected to be used promptly after opening or to be discarde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arge-volume , single dose container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reservation is prohibited as the amount of preservative will be high.</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20:04:28Z</dcterms:created>
  <dc:creator>M.Tayel</dc:creator>
  <dc:description/>
  <dc:language>en-US</dc:language>
  <cp:lastModifiedBy>FeRaS</cp:lastModifiedBy>
  <dcterms:modified xsi:type="dcterms:W3CDTF">2010-03-30T08:39:17Z</dcterms:modified>
  <cp:revision>116</cp:revision>
  <dc:subject/>
  <dc:title>Isotonicity</dc:title>
</cp:coreProperties>
</file>