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FC0D8-B298-4EAD-9D30-A55FBEF22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F3C04-1661-4638-B826-068344535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C15EC-7AEE-4895-BBC0-DCF9A4656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A8415-7ED0-4E8B-82C5-E91C7C077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E5D9B-862F-4A75-9C06-AF4DBE269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21DB4-664A-425B-A16C-EE78C8267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D016A-B643-40DA-8D4E-97847374E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C74D9-D300-434C-8937-EE9903D5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A134-3649-48FB-930F-4D75D70CF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60A2-4BC1-4AEF-8A53-DDCBD334E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560C-8A8E-44FD-AAF8-5ABA0A5A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E509-F001-4092-8575-508F36D49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1406-843E-4A44-82DD-6F93AE084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755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incipal Compone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76320" y="399960"/>
            <a:ext cx="6629400" cy="834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304920" y="533520"/>
            <a:ext cx="6172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tart principal component analysis assuming  that the number of components must be equal to the number of variables. Each component is assigned an eigen value of 1.  We then run principal component analysis model and decide the relevant number of factors.  </a:t>
            </a:r>
            <a:endParaRPr b="0" lang="en-US" sz="2400" spc="-1" strike="noStrike">
              <a:solidFill>
                <a:srgbClr val="000000"/>
              </a:solidFill>
              <a:latin typeface="Times New Roman"/>
            </a:endParaRPr>
          </a:p>
        </p:txBody>
      </p:sp>
      <p:pic>
        <p:nvPicPr>
          <p:cNvPr id="56" name="Picture 2" descr=""/>
          <p:cNvPicPr/>
          <p:nvPr/>
        </p:nvPicPr>
        <p:blipFill>
          <a:blip r:embed="rId1"/>
          <a:stretch/>
        </p:blipFill>
        <p:spPr>
          <a:xfrm>
            <a:off x="914400" y="3124080"/>
            <a:ext cx="4876920" cy="463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914400" y="831960"/>
            <a:ext cx="54864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components and their associated eigenvalues, the percentage of variance explained and the cumulative percentages. In reference to eigenvalues, we would expect that five components to be extracted because they have eigenvalues greater than 1. If five factors were extracted, then 59% of the variance would be expla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compon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152280" y="609480"/>
            <a:ext cx="6705720" cy="807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433440" y="1143000"/>
            <a:ext cx="5991120" cy="701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452520" y="533520"/>
            <a:ext cx="5867280" cy="814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hould be explained that the eigenvalues are estimated variances of the principal components and are therefore subject to large sample variations. Thus, arbitrary cutoff points should not be taken too seriousl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number of principal components is selected, the investigator should examine the coefficients defining each of them in order to assign an interpretation to the components. A high coefficient of a principal component on a given variable is an indication of high correlation between that variable and the principal component. Principal components are interpreted in the context of the variables with high coeffici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onent Transformation Matrix</a:t>
            </a:r>
            <a:r>
              <a:rPr b="0" lang="en-US" sz="2400" spc="-1" strike="noStrike">
                <a:solidFill>
                  <a:srgbClr val="000000"/>
                </a:solidFill>
                <a:latin typeface="Times New Roman"/>
              </a:rPr>
              <a:t> - This is the matrix by which you multiply the unrotated component matrix to get the rotated component matrix.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380880" y="304920"/>
            <a:ext cx="5791320" cy="4419360"/>
          </a:xfrm>
          <a:prstGeom prst="rect">
            <a:avLst/>
          </a:prstGeom>
          <a:ln w="0">
            <a:noFill/>
          </a:ln>
        </p:spPr>
      </p:pic>
      <p:pic>
        <p:nvPicPr>
          <p:cNvPr id="62" name="Picture 5" descr=""/>
          <p:cNvPicPr/>
          <p:nvPr/>
        </p:nvPicPr>
        <p:blipFill>
          <a:blip r:embed="rId2"/>
          <a:stretch/>
        </p:blipFill>
        <p:spPr>
          <a:xfrm>
            <a:off x="380880" y="487692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380880" y="457200"/>
            <a:ext cx="60962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nent matrix is the matrix of loadings or correlations between the variables and components. Pure variables have loadings of 0.3 or greater on only one component. Complex variables may have high loadings on more than one component,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component axes are kept at right angles to each other, is the most frequently chosen. Ordinarily, rotation reduces the number of complex variables and improves interpretation. component 1 comprises of 7 items. Component 2 comprises of 6 items, component 3 comprises of 4 items, component 4 consists of  2 items and component 5 consists of 1 item. Some items have dual (or sometimes triple/multiple) loadings greater than 0.3 on more than one component.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689040" y="1295280"/>
            <a:ext cx="563868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pression data example illustrates a situation in which the results are not clear-cut. The conclusion may be reached from observing screen plot Figure, where we see that it is difficult to decide how many components to use. It is not possible to explain a very high proportion of the total variance with a small number of principal components. Also, the interpretation of the components is not straightforward. This is frequently the case in real-life situation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228600" y="380880"/>
            <a:ext cx="6324480" cy="94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horndale for VST"/>
              </a:rPr>
              <a:t>Principal components analysis is similar to factor analysis in that it is a technique for examining the interrelationships among a set of variables. Both of these techniques differ from regression analysis in that we do not have a dependent variable to be explained by a set of independent variables. However, principal components analysis and factor analysis also differ from each other. In principal components analysis the major objective is to select a </a:t>
            </a:r>
            <a:r>
              <a:rPr b="1" lang="en-US" sz="2000" spc="-1" strike="noStrike">
                <a:solidFill>
                  <a:srgbClr val="ff0000"/>
                </a:solidFill>
                <a:latin typeface="Thorndale for VST"/>
              </a:rPr>
              <a:t>number of components that explain as much of the total variance as possible, that is, in PCA one is simply trying to statistically derive a relatively small number of variables</a:t>
            </a:r>
            <a:r>
              <a:rPr b="1" lang="en-US" sz="2000" spc="-1" strike="noStrike">
                <a:solidFill>
                  <a:srgbClr val="000000"/>
                </a:solidFill>
                <a:latin typeface="Thorndale for VST"/>
              </a:rPr>
              <a:t>. The values of the principal components for a given individual are relatively simple to compute and interpret. On the other hand, the factors obtained in factor analysis are selected mainly to </a:t>
            </a:r>
            <a:r>
              <a:rPr b="1" lang="en-US" sz="2000" spc="-1" strike="noStrike">
                <a:solidFill>
                  <a:srgbClr val="ff0000"/>
                </a:solidFill>
                <a:latin typeface="Thorndale for VST"/>
              </a:rPr>
              <a:t>explain the interrelationships among the original variables</a:t>
            </a:r>
            <a:r>
              <a:rPr b="1" lang="en-US" sz="2000" spc="-1" strike="noStrike">
                <a:solidFill>
                  <a:srgbClr val="000000"/>
                </a:solidFill>
                <a:latin typeface="Thorndale for VST"/>
              </a:rPr>
              <a:t>. </a:t>
            </a:r>
            <a:r>
              <a:rPr b="1" lang="en-US" sz="2000" spc="-1" strike="noStrike">
                <a:solidFill>
                  <a:srgbClr val="ff0000"/>
                </a:solidFill>
                <a:latin typeface="Thorndale for VST"/>
              </a:rPr>
              <a:t>Ideally, in exploratory factor analysis the number of factors expected is known in advance</a:t>
            </a:r>
            <a:r>
              <a:rPr b="1" lang="en-US" sz="2000" spc="-1" strike="noStrike">
                <a:solidFill>
                  <a:srgbClr val="000000"/>
                </a:solidFill>
                <a:latin typeface="Thorndale for VST"/>
              </a:rPr>
              <a:t>. The major emphasis is placed on obtaining easily understandable factors that convey the essential information contained in the original set of variables.</a:t>
            </a:r>
            <a:r>
              <a:rPr b="0" lang="en-US" sz="2000" spc="-1" strike="noStrike">
                <a:solidFill>
                  <a:srgbClr val="000000"/>
                </a:solidFill>
                <a:latin typeface="Thorndale for VST"/>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dinary principal axis factor analysis should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be done if the number of Variables &gt; the number of Particip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838080"/>
            <a:ext cx="59436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en is principal components analysis u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analysis is performed in order to simplify the description of a set of interrelated vari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principal component is a linear combination of the original variables. One measure of the amount of information conveyed by each principal component is its </a:t>
            </a:r>
            <a:r>
              <a:rPr b="1" lang="en-US" sz="2400" spc="-1" strike="noStrike">
                <a:solidFill>
                  <a:srgbClr val="ff0000"/>
                </a:solidFill>
                <a:latin typeface="Times New Roman"/>
              </a:rPr>
              <a:t>variance</a:t>
            </a:r>
            <a:r>
              <a:rPr b="1" lang="en-US" sz="2400" spc="-1" strike="noStrike">
                <a:solidFill>
                  <a:srgbClr val="000000"/>
                </a:solidFill>
                <a:latin typeface="Times New Roman"/>
              </a:rPr>
              <a:t>. For this reason the principal components are arranged in order of decreasing variance. Thus the most informative principal component is the first, and the least informative is the last (a variable with zero variance does not distinguish between the members of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7200"/>
            <a:ext cx="5829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ploratory Factor Analysis vs. Principal Components Analysis</a:t>
            </a:r>
            <a:endParaRPr b="0" lang="en-US" sz="2800" spc="-1" strike="noStrike">
              <a:solidFill>
                <a:srgbClr val="000000"/>
              </a:solidFill>
              <a:latin typeface="Times New Roman"/>
            </a:endParaRPr>
          </a:p>
        </p:txBody>
      </p:sp>
      <p:graphicFrame>
        <p:nvGraphicFramePr>
          <p:cNvPr id="45" name=""/>
          <p:cNvGraphicFramePr/>
          <p:nvPr/>
        </p:nvGraphicFramePr>
        <p:xfrm>
          <a:off x="228600" y="1600200"/>
          <a:ext cx="6172200" cy="6629400"/>
        </p:xfrm>
        <a:graphic>
          <a:graphicData uri="http://schemas.openxmlformats.org/drawingml/2006/table">
            <a:tbl>
              <a:tblPr/>
              <a:tblGrid>
                <a:gridCol w="3086280"/>
                <a:gridCol w="3085920"/>
              </a:tblGrid>
              <a:tr h="1144440">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ory Factor  Analysis</a:t>
                      </a:r>
                      <a:endParaRPr b="0" lang="en-US" sz="1800" spc="-1" strike="noStrike">
                        <a:solidFill>
                          <a:srgbClr val="000000"/>
                        </a:solidFill>
                        <a:latin typeface="Times New Roman"/>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Components Analysis</a:t>
                      </a:r>
                      <a:endParaRPr b="0" lang="en-US" sz="1800" spc="-1" strike="noStrike">
                        <a:solidFill>
                          <a:srgbClr val="000000"/>
                        </a:solidFill>
                        <a:latin typeface="Times New Roman"/>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23022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assumes that there is a smaller set of unobserved constructs that underlie the measured variable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is trying to derive statistically (</a:t>
                      </a:r>
                      <a:r>
                        <a:rPr b="0" lang="en-US" sz="1800" spc="-1" strike="noStrike">
                          <a:solidFill>
                            <a:srgbClr val="ff0000"/>
                          </a:solidFill>
                          <a:latin typeface="Arial"/>
                        </a:rPr>
                        <a:t>using variances</a:t>
                      </a:r>
                      <a:r>
                        <a:rPr b="0" lang="en-US" sz="1800" spc="-1" strike="noStrike">
                          <a:solidFill>
                            <a:srgbClr val="000000"/>
                          </a:solidFill>
                          <a:latin typeface="Arial"/>
                        </a:rPr>
                        <a:t>) a relatively small number of variables to use to convey as much of the information in the measured variables as possible</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7874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d at understanding the </a:t>
                      </a:r>
                      <a:r>
                        <a:rPr b="0" lang="en-US" sz="1800" spc="-1" strike="noStrike">
                          <a:solidFill>
                            <a:srgbClr val="ff0000"/>
                          </a:solidFill>
                          <a:latin typeface="Arial"/>
                        </a:rPr>
                        <a:t>relationships among variables </a:t>
                      </a:r>
                      <a:r>
                        <a:rPr b="0" lang="en-US" sz="1800" spc="-1" strike="noStrike">
                          <a:solidFill>
                            <a:srgbClr val="000000"/>
                          </a:solidFill>
                          <a:latin typeface="Arial"/>
                        </a:rPr>
                        <a:t>by understanding underlying construct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enable researcher to use fewer variables to obtain the same information as would be gathered with more variables</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39536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there is a theory about how the variables fit together</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researcher is looking to use fewer variables to provide the same information </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47" name="PlaceHolder 2"/>
          <p:cNvSpPr>
            <a:spLocks noGrp="1"/>
          </p:cNvSpPr>
          <p:nvPr>
            <p:ph/>
          </p:nvPr>
        </p:nvSpPr>
        <p:spPr>
          <a:xfrm>
            <a:off x="342720" y="2133720"/>
            <a:ext cx="61722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it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only to the extent that skewness/outliers affect observed correl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f significance tests are performed (r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sampling requir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should be linearly related to one another (in pairs) </a:t>
            </a:r>
            <a:endParaRPr b="0" lang="en-US" sz="3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variables should be correlated at a moderate level </a:t>
            </a:r>
            <a:r>
              <a:rPr b="0" lang="en-US" sz="2000" spc="-1" strike="noStrike">
                <a:solidFill>
                  <a:srgbClr val="000000"/>
                </a:solidFill>
                <a:latin typeface="Times New Roman"/>
              </a:rPr>
              <a:t>(</a:t>
            </a:r>
            <a:r>
              <a:rPr b="0" i="1" lang="en-US" sz="2000" spc="-1" strike="noStrike">
                <a:solidFill>
                  <a:srgbClr val="000000"/>
                </a:solidFill>
                <a:latin typeface="Times New Roman"/>
              </a:rPr>
              <a:t>test with Bartlett’s test of spheri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80880" y="609480"/>
            <a:ext cx="6172200" cy="850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alysis of depression data se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sider the data set depression.sav.</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lect for this example the 20 items that make up the cumulative employees depression (cesd) scale (sum of c1 through c20; 0 = lowest and 60 = highest possible level). Each item is a statement to which the response categories are ordinal. The answer “rarely or none of the time” (less than 1 day) is coded as 0, “some or a little of the time” (1–2 days) as 1, “occasionally or a moderate amount of the time” (3–4 days) as 2, and “most or all of the time” (5–7 days) as 3.</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note that these variables do not satisfy the assumptions often made in statistics of a multivariate normal distribution. In fact, they cannot even be considered to be continuous variables. However, they are typical of what is found in real-life applic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imension Reduction : Factor – Variables: variables c1 to c20; Descriptives : Statistics box – check Initial solution; Correlation Matrix box: check coefficients, KMO &amp; Bartlett’s test of sphericity, Anti-image; Continue; Click Extraction : select Method – Principal Component,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52280" y="2057400"/>
            <a:ext cx="6477120" cy="6781680"/>
          </a:xfrm>
          <a:prstGeom prst="rect">
            <a:avLst/>
          </a:prstGeom>
          <a:ln w="0">
            <a:noFill/>
          </a:ln>
        </p:spPr>
      </p:pic>
      <p:sp>
        <p:nvSpPr>
          <p:cNvPr id="51" name="Rectangle 1"/>
          <p:cNvSpPr/>
          <p:nvPr/>
        </p:nvSpPr>
        <p:spPr>
          <a:xfrm>
            <a:off x="380880" y="380880"/>
            <a:ext cx="6172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ination of correlation matrix (see next slide) in the output indicates that a considerable number of correlations are  more than 0.3 and so the matrix is suitable for fact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457200" y="533520"/>
            <a:ext cx="5867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Its significance shows that the principal component analysis is val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principal component analysis for data reduction is effective. The measures of sampling adequacy are printed on the diagonal in the anti-image correlation matrix (see next slide). We can observe that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3" name="Picture 19" descr=""/>
          <p:cNvPicPr/>
          <p:nvPr/>
        </p:nvPicPr>
        <p:blipFill>
          <a:blip r:embed="rId1"/>
          <a:stretch/>
        </p:blipFill>
        <p:spPr>
          <a:xfrm>
            <a:off x="914400" y="5753160"/>
            <a:ext cx="533412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6-02-17T08:58:17Z</cp:lastPrinted>
  <dcterms:modified xsi:type="dcterms:W3CDTF">2017-01-08T07:54:32Z</dcterms:modified>
  <cp:revision>68</cp:revision>
  <dc:subject/>
  <dc:title>No Slide Title</dc:title>
</cp:coreProperties>
</file>