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0F88-C8FE-4857-9FE5-FDF34F21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7F93-B9CA-4096-93E0-FA5685B4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C27D-1B8A-4C03-8D8C-ED824F20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BE82-A3CE-45DC-B500-0A6CFCF3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BF2C3-C3CD-43B6-9344-E3E25A2E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09E8F-D279-4CFD-BEC8-2E85338D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F312A-79E1-44C5-B932-E96B84A3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77633-BCB1-49FB-9CE3-DD759533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6557E-C32E-4D3A-AB5C-1B3C41CD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03E7E-66A2-4634-A0BF-D03C80CD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284E2-5708-42B9-858D-2F320CD2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124A-0450-427C-8AA1-9F19B63B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FD6FE-C86D-4C87-AE71-D507902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9525F-D905-4DF0-B8E4-FC798422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668FB-278E-4153-9CB5-BCA21D84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B2A2C-D251-4907-93A4-256B4908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1AD19-3E0F-49F0-A612-EBAE706D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A096-4F92-47EB-AF3C-00EE9A38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C305-5C1D-421F-A91E-D0FF76AE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5CDC-2761-46B3-9D86-FEBE04AC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92E1-6FF5-4E3B-BDAC-C5624D7E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F32C-3CBD-41FB-BAB4-E2E08CBD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47C9-C3FE-47B5-87B2-5E140ABC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13E8-00AA-4338-BFB9-743B049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 algn="r" rtl="1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 algn="r" rtl="1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0E84-D630-41A1-AB06-3712A87CFDF4}" type="slidenum">
              <a:rPr b="0" lang="ar-SA" sz="10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  <a:cs typeface="Gulim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B7A5-1E8C-4CCF-9E3F-E069D20FAE9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 algn="r" rtl="1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 algn="r" rtl="1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02A9-A463-45BC-81B5-6FEE12428416}" type="slidenum">
              <a:rPr b="0" lang="ar-SA" sz="10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  <a:cs typeface="Gulim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5F7A-CA5A-4E90-8783-ECD2DDF99E54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C:\Documents and Settings\abgahtani\My Documents\PRESENTATION\&#1605;&#1581;&#1575;&#1590;&#1585;&#1577; &#1576;&#1585;&#1575;&#1605;&#1580; &#1605;&#1603;&#1575;&#1601;&#1581;&#1577; &#1575;&#1604;&#1578;&#1576;&#1594;\part6-2.wmv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E2C3-BAA6-4BB5-AF4B-81AE06F3507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920" y="3821040"/>
            <a:ext cx="6750000" cy="25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5c2305"/>
                </a:solidFill>
                <a:latin typeface="Verdana"/>
              </a:rPr>
              <a:t>Principles and methods of health educa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88" name="Picture 26" descr="شعار الكلية"/>
          <p:cNvPicPr/>
          <p:nvPr/>
        </p:nvPicPr>
        <p:blipFill>
          <a:blip r:embed="rId1"/>
          <a:stretch/>
        </p:blipFill>
        <p:spPr>
          <a:xfrm>
            <a:off x="3295800" y="550800"/>
            <a:ext cx="2261880" cy="2075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0" y="26589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inical Application for Community Health Nursing (NUR 417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9A61-AB64-4C95-8F87-0D7CC7201D4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Important term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26920" y="2565360"/>
            <a:ext cx="345780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aware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55640" y="3462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people with information and knowledge of health facts and their sense of responsibility towards their own health and the health of oth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5551-1481-40BA-8833-E9ECDDC3B1FF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Important term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55640" y="2565360"/>
            <a:ext cx="266400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habi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92360" y="3462480"/>
            <a:ext cx="59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played by an individual without thinking or feeling as a result of the large number of repe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030F-A0F4-4768-82BC-4FFD685C5A4A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Important term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26920" y="2467080"/>
            <a:ext cx="676944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practice (health and behavior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42920" y="346248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played by an individual intentionally stems from its adherence to certain val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DD0B-B8C1-42CA-B0BE-B3316B15A97C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Health education goal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39640" y="2205000"/>
            <a:ext cx="79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seminate concepts and sound health knowledge in the commun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able people to identify their health problems and nee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p people solve their health problems using their potenti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 a normal health tren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ablish proper health behav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EB23-148A-4C44-8457-3AB91AEC2674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720072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2305"/>
                </a:solidFill>
                <a:latin typeface="Verdana"/>
              </a:rPr>
              <a:t>The ultimate goals of health education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42920" y="2349360"/>
            <a:ext cx="6912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mprove health at the level of the individual and society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duce the incidence of disease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duce disability and mortality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mprove the quality of life for the individual and society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0398-7696-44F9-86C3-FE54CBC7341A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27416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Who need for health education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26920" y="2349360"/>
            <a:ext cx="568836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eryo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900000" y="292428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ults and childr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           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n and wom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lliterate and learn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AF2-066D-422D-88BD-8D81C9A5E17D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9280" y="1125360"/>
            <a:ext cx="518472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Health education topic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19280" y="2492280"/>
            <a:ext cx="432108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thout Bord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971640" y="350028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y topic related to health, provided that commensurate with the needs of the individual or target grou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E9CC-B922-4650-AD8D-ED746F642F5B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604836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Who is health educators</a:t>
            </a: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00000" y="2421000"/>
            <a:ext cx="655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y human being has a valid health information and received good training and is capable of delivering the information with his skill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275-DFAC-4B1A-A447-6FDADCA14D5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97672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ments of the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292720" y="2708280"/>
            <a:ext cx="345456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ealth messa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00000" y="2787480"/>
            <a:ext cx="360072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ealth educato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3860640"/>
            <a:ext cx="539928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assge reciver Targ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908000" y="4948200"/>
            <a:ext cx="547236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eans (methods)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FAA9-7CC7-406D-BCF3-545427EBE0CE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Health message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71640" y="2349360"/>
            <a:ext cx="7129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rrect information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lear and understandable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 the level of the receiver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teresting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chieve the desired goal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2775-562C-40AF-A3F0-BDFD441D00B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183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2305"/>
                </a:solidFill>
                <a:latin typeface="Verdana"/>
              </a:rPr>
              <a:t>Principles and methods of health education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900000" y="1700280"/>
            <a:ext cx="73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fter reading this lecture, the students should be able to understand the follow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health edu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three objectives of health edu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 three principles of health edu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qualities of health educat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lain difficulties with health edu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 three methods of health edu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4B53-EDA0-477D-89A8-C53B6839C070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health eductor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55640" y="2421000"/>
            <a:ext cx="7632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s the knowled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vinced believer to the let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s the ability and skill to deliv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D9F7-D5E3-4A70-9F37-1D08EC706A6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40072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Target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2538360"/>
            <a:ext cx="71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gree of understanding and cul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lth nee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evel of desire for chan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34B4-DB0C-494C-8085-E4D6F29CF43D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1125360"/>
            <a:ext cx="604872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methods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71640" y="2538360"/>
            <a:ext cx="712944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variety of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Modern and stylish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nteractive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Address more than one sense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B225-1AE9-499A-A075-CCB2DDA37DB5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alth education level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55640" y="2421000"/>
            <a:ext cx="26640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ndividu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835280" y="3789360"/>
            <a:ext cx="266364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ami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498840" y="4869000"/>
            <a:ext cx="51768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chool  and comm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A887-C4D2-4F4C-88F1-4265588C04DF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2305"/>
                </a:solidFill>
                <a:latin typeface="Verdana"/>
              </a:rPr>
              <a:t>Behavior change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71640" y="2770200"/>
            <a:ext cx="7129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final outcome of Health edu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DF78-CAF0-4F32-A8B5-79B7B2AC173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Stages of behavior change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64000" y="2421000"/>
            <a:ext cx="273708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warenes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64000" y="3724200"/>
            <a:ext cx="26640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es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4360" y="3213000"/>
            <a:ext cx="374328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sessment (evalu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476360" y="4941720"/>
            <a:ext cx="266400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ying (attempt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364000" y="4948200"/>
            <a:ext cx="26640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llow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6659640" y="3068640"/>
            <a:ext cx="0" cy="647640"/>
          </a:xfrm>
          <a:prstGeom prst="line">
            <a:avLst/>
          </a:prstGeom>
          <a:ln cap="sq" w="698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2771640" y="4365720"/>
            <a:ext cx="0" cy="576000"/>
          </a:xfrm>
          <a:prstGeom prst="line">
            <a:avLst/>
          </a:prstGeom>
          <a:ln cap="sq" w="698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"/>
          <p:cNvSpPr/>
          <p:nvPr/>
        </p:nvSpPr>
        <p:spPr>
          <a:xfrm flipH="1">
            <a:off x="4211280" y="4076640"/>
            <a:ext cx="1152360" cy="0"/>
          </a:xfrm>
          <a:prstGeom prst="line">
            <a:avLst/>
          </a:prstGeom>
          <a:ln cap="sq" w="698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4140360" y="5300640"/>
            <a:ext cx="1223640" cy="0"/>
          </a:xfrm>
          <a:prstGeom prst="line">
            <a:avLst/>
          </a:prstGeom>
          <a:ln cap="sq" w="698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3DF0-A9F1-46C0-9202-D38F97CECE4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Evaluation of health education program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55640" y="223668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objectives have been achiev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 the negatives and positiv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obstacles and how to overcome th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ify the program if need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A88A-E0DC-4FAB-BEE0-F2DEB01B3497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7280" y="2133360"/>
            <a:ext cx="6972480" cy="23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c2305"/>
                </a:solidFill>
                <a:latin typeface="Verdana"/>
                <a:ea typeface="Al-Mujahed Free"/>
              </a:rPr>
              <a:t>Ways and means of health education</a:t>
            </a:r>
            <a:endParaRPr b="0" lang="en-US" sz="5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525-4C43-4A16-ADBC-1EEE3DA8A850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547640" y="3068640"/>
            <a:ext cx="648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11280" y="2538360"/>
            <a:ext cx="7489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Diverse and asymmetr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And vary according to the time and pla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And the diversity of the target grou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5EBA-AD5C-410B-B936-5BF3DD164156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5543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116000" y="2276640"/>
            <a:ext cx="712944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Characteristics of the target grou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3205080" y="3068640"/>
            <a:ext cx="129564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Childr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7"/>
          <p:cNvSpPr/>
          <p:nvPr/>
        </p:nvSpPr>
        <p:spPr>
          <a:xfrm>
            <a:off x="4645080" y="3068640"/>
            <a:ext cx="129528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Adul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6229440" y="4581360"/>
            <a:ext cx="129528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Femal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4789440" y="4581360"/>
            <a:ext cx="129528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Mal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3132000" y="4581360"/>
            <a:ext cx="129564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liter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1692360" y="4579920"/>
            <a:ext cx="129528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Educat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D737-63FF-47C0-BC92-EA6A70B7EF39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183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2305"/>
                </a:solidFill>
                <a:latin typeface="Verdana"/>
              </a:rPr>
              <a:t>Principles and methods of health education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95" name="Rectangle 1" descr=""/>
          <p:cNvPicPr/>
          <p:nvPr/>
        </p:nvPicPr>
        <p:blipFill>
          <a:blip r:embed="rId1"/>
          <a:stretch/>
        </p:blipFill>
        <p:spPr>
          <a:xfrm>
            <a:off x="517680" y="1006560"/>
            <a:ext cx="743724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1256-7EDA-40B3-8462-A452477B2AB4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63640" y="1052640"/>
            <a:ext cx="583272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16000" y="22766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The local culture of the target grou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6589800" y="3716280"/>
            <a:ext cx="1654200" cy="144144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lliter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4284720" y="3645000"/>
            <a:ext cx="1800000" cy="1800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Educa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1692360" y="3429000"/>
            <a:ext cx="2016000" cy="208764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echni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Moder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23D1-6B9E-449C-B00B-9244CE4967C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2920" y="1052640"/>
            <a:ext cx="5761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116000" y="2852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Number of target grou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45514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00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0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763640" y="5013360"/>
            <a:ext cx="5688000" cy="863640"/>
          </a:xfrm>
          <a:prstGeom prst="rtTriangle">
            <a:avLst/>
          </a:prstGeom>
          <a:solidFill>
            <a:srgbClr val="ffc285"/>
          </a:solidFill>
          <a:ln cap="sq" w="34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0ECD-981C-459A-9E76-FF68F529C4F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5761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042920" y="2852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Resources avail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5580000" y="3860640"/>
            <a:ext cx="1441440" cy="1368720"/>
          </a:xfrm>
          <a:prstGeom prst="roundRect">
            <a:avLst>
              <a:gd name="adj" fmla="val 16667"/>
            </a:avLst>
          </a:prstGeom>
          <a:solidFill>
            <a:srgbClr val="ffc285"/>
          </a:solidFill>
          <a:ln cap="sq"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Hum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340000" y="3860640"/>
            <a:ext cx="1441440" cy="1368720"/>
          </a:xfrm>
          <a:prstGeom prst="roundRect">
            <a:avLst>
              <a:gd name="adj" fmla="val 16667"/>
            </a:avLst>
          </a:prstGeom>
          <a:solidFill>
            <a:srgbClr val="ffc285"/>
          </a:solidFill>
          <a:ln cap="sq"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Financial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17E8-A4F5-468D-8B6B-AE6E5FEBC192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5545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042920" y="2852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Appropriate Methods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5580000" y="3860640"/>
            <a:ext cx="1441440" cy="1368720"/>
          </a:xfrm>
          <a:prstGeom prst="roundRect">
            <a:avLst>
              <a:gd name="adj" fmla="val 16667"/>
            </a:avLst>
          </a:prstGeom>
          <a:solidFill>
            <a:srgbClr val="ffc285"/>
          </a:solidFill>
          <a:ln cap="sq"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Divers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2340000" y="3860640"/>
            <a:ext cx="1441440" cy="1368720"/>
          </a:xfrm>
          <a:prstGeom prst="roundRect">
            <a:avLst>
              <a:gd name="adj" fmla="val 16667"/>
            </a:avLst>
          </a:prstGeom>
          <a:solidFill>
            <a:srgbClr val="ffc285"/>
          </a:solidFill>
          <a:ln cap="sq"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Repeti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472000" y="532116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h-moharram-bold"/>
              </a:rPr>
              <a:t>التسلية  و   التشوي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144880" y="530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h-moharram-bold"/>
              </a:rPr>
              <a:t>التذك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23CE-1CB9-4239-8A73-2FEB437BE446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63640" y="1052640"/>
            <a:ext cx="53294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71640" y="2538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The willingness of people to 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619280" y="3500280"/>
            <a:ext cx="5977080" cy="1068840"/>
          </a:xfrm>
          <a:prstGeom prst="rect">
            <a:avLst/>
          </a:prstGeom>
          <a:noFill/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h-moharram-bold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h-moharram-bold"/>
              </a:rPr>
              <a:t>Are ready for change: posters and leaflets enou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258920" y="4653000"/>
            <a:ext cx="6842160" cy="1556280"/>
          </a:xfrm>
          <a:prstGeom prst="rect">
            <a:avLst/>
          </a:prstGeom>
          <a:noFill/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Ah-moharram-bold"/>
              </a:rPr>
              <a:t>They do not have to prepare for change: personal contact and home visi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69BB-9C5A-42CB-9701-4E1158C2F770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Type of health education method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971640" y="2538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According to their impact on the sen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443640" y="3357720"/>
            <a:ext cx="180036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Audib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Cassatt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Record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Radi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....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3967200" y="3357720"/>
            <a:ext cx="244800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Re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Bulleti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Broch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os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S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Exhibitions ..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468360" y="3357720"/>
            <a:ext cx="309564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Audio-visu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V and vide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Computer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terview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Semina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Bluetoo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1D78-CA4E-4CC6-8F5A-0BDCD865B6F7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c2305"/>
                </a:solidFill>
                <a:latin typeface="Verdana"/>
                <a:cs typeface="Al-Mujahed Free"/>
              </a:rPr>
              <a:t>تقسيم وسائل التثقيف الصحي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971640" y="2538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According contact with targ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6443640" y="3357720"/>
            <a:ext cx="223200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Dire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Le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Semina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Dialog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Convers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3708360" y="3357720"/>
            <a:ext cx="259236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Indire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Radi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Newspap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ub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tern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6"/>
          <p:cNvSpPr/>
          <p:nvPr/>
        </p:nvSpPr>
        <p:spPr>
          <a:xfrm>
            <a:off x="755640" y="3357720"/>
            <a:ext cx="280836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Both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Using teachi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aid from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direct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direct methods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7918-5484-43FC-A6AF-C2329418C397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4859280" y="24210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Poste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716360" y="3284640"/>
            <a:ext cx="3816360" cy="259236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aper plates and lar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Blogger Words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ictures  Carrying 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message in a langu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Simplified and concis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h-moharram-bol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2" descr="FAMILY"/>
          <p:cNvPicPr/>
          <p:nvPr/>
        </p:nvPicPr>
        <p:blipFill>
          <a:blip r:embed="rId1"/>
          <a:stretch/>
        </p:blipFill>
        <p:spPr>
          <a:xfrm>
            <a:off x="1908000" y="2565360"/>
            <a:ext cx="22482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58E5-E649-4BC3-A3A1-710D414488C9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2556000" y="21924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Brochure or newslet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995640" y="3097080"/>
            <a:ext cx="4537080" cy="213840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Means contai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form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 the form of guid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Or pictures with cap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6" descr="img06"/>
          <p:cNvPicPr/>
          <p:nvPr/>
        </p:nvPicPr>
        <p:blipFill>
          <a:blip r:embed="rId1"/>
          <a:stretch/>
        </p:blipFill>
        <p:spPr>
          <a:xfrm>
            <a:off x="550800" y="2997360"/>
            <a:ext cx="3144960" cy="22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122A-A031-402C-B0E0-0DBBC0A464A5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211640" y="2421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Brochur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356000" y="3284640"/>
            <a:ext cx="2951280" cy="259236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Small book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Contai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Guideli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Direct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A limited cla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5" descr="الدليل 1"/>
          <p:cNvPicPr/>
          <p:nvPr/>
        </p:nvPicPr>
        <p:blipFill>
          <a:blip r:embed="rId1"/>
          <a:stretch/>
        </p:blipFill>
        <p:spPr>
          <a:xfrm>
            <a:off x="1979640" y="3284640"/>
            <a:ext cx="1496880" cy="21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698508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2305"/>
                </a:solidFill>
                <a:latin typeface="Verdana"/>
              </a:rPr>
              <a:t>Definition of health education</a:t>
            </a:r>
            <a:r>
              <a:rPr b="1" lang="en-US" sz="3200" spc="-1" strike="noStrike">
                <a:solidFill>
                  <a:srgbClr val="5c2305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55640" y="2708280"/>
            <a:ext cx="792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activities aimed to providing skills by improving health knowledge and building trends and instill healthy behaviors of the individual and socie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E159-9A13-4B5B-BCE8-A2CB715B26B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211640" y="2421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Dump painting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716360" y="3284640"/>
            <a:ext cx="3024360" cy="223200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aper pag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7" descr="af196a23"/>
          <p:cNvPicPr/>
          <p:nvPr/>
        </p:nvPicPr>
        <p:blipFill>
          <a:blip r:embed="rId1"/>
          <a:stretch/>
        </p:blipFill>
        <p:spPr>
          <a:xfrm>
            <a:off x="1074600" y="2205000"/>
            <a:ext cx="26337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63D2-5CC4-4A90-B463-7D6BF8E985C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348000" y="2413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Vide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843280" y="3284640"/>
            <a:ext cx="5761080" cy="208908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cludes materi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t must be education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Followed by a discus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غلاف شريط الفيديو">
            <a:hlinkClick r:id="rId1"/>
          </p:cNvPr>
          <p:cNvPicPr/>
          <p:nvPr/>
        </p:nvPicPr>
        <p:blipFill>
          <a:blip r:embed="rId2"/>
          <a:stretch/>
        </p:blipFill>
        <p:spPr>
          <a:xfrm rot="1225800">
            <a:off x="1042560" y="3618000"/>
            <a:ext cx="1154160" cy="2016000"/>
          </a:xfrm>
          <a:prstGeom prst="rect">
            <a:avLst/>
          </a:prstGeom>
          <a:ln w="9360">
            <a:solidFill>
              <a:srgbClr val="868686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</p:pic>
      <p:pic>
        <p:nvPicPr>
          <p:cNvPr id="270" name="كشك السجائر.mpg" descr=""/>
          <p:cNvPicPr/>
          <p:nvPr/>
        </p:nvPicPr>
        <p:blipFill>
          <a:blip r:embed="rId3"/>
          <a:stretch/>
        </p:blipFill>
        <p:spPr>
          <a:xfrm>
            <a:off x="900000" y="2230560"/>
            <a:ext cx="1440000" cy="108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7C80-2BC8-4A3D-B4FD-26A83A455F60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4211640" y="2421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Mode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4211640" y="3284640"/>
            <a:ext cx="4464000" cy="259236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hree dim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Exposure concep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Actually us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o clarify the instal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And fun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5" descr="Image029"/>
          <p:cNvPicPr/>
          <p:nvPr/>
        </p:nvPicPr>
        <p:blipFill>
          <a:blip r:embed="rId1"/>
          <a:srcRect l="13483" t="21669" r="38865" b="25693"/>
          <a:stretch/>
        </p:blipFill>
        <p:spPr>
          <a:xfrm>
            <a:off x="684360" y="2746440"/>
            <a:ext cx="331128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7522-18F8-4C8C-9170-92B3926A3DCA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340000" y="2421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Projectors slides and transparenc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3708360" y="2997360"/>
            <a:ext cx="4967280" cy="287964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Moni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Over the he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he hardware and softw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(PowerPoin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9" descr="http://www.tmac.org/blog/wp-content/uploads/2011/09/blog_powerpoint11.jpg"/>
          <p:cNvPicPr/>
          <p:nvPr/>
        </p:nvPicPr>
        <p:blipFill>
          <a:blip r:embed="rId1"/>
          <a:stretch/>
        </p:blipFill>
        <p:spPr>
          <a:xfrm>
            <a:off x="546120" y="2997360"/>
            <a:ext cx="2952720" cy="29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D53A-E5BF-46BE-8451-925BA66E876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32000" y="2708280"/>
            <a:ext cx="662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Teaching method involve learners in the learning process and encourages them to think about what they are learn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114560" y="836640"/>
            <a:ext cx="7057800" cy="136836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Health education methods 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5c2305"/>
                </a:solidFill>
                <a:uFillTx/>
                <a:latin typeface="Verdana"/>
                <a:ea typeface="Al-Mujahed Free"/>
              </a:rPr>
              <a:t>Active learning Defini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96DF-03BD-49F8-9ECD-6AC5DD987917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5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CBBF-508F-4F5A-A098-9B62E857CF5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Role of the learner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32000" y="2205000"/>
            <a:ext cx="6624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Ask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Debate (Conversation)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Searc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Experiment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2051-6936-42DA-93B7-A47245CCBC53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The role of the teacher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32000" y="2205000"/>
            <a:ext cx="662472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Dir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Instru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Eas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Manages the educational situ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5CD8-B8B8-45D3-A1AB-0148E6708605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dvantage of active learn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332000" y="2133720"/>
            <a:ext cx="6624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Cataly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Helps absorp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Develop skil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Creates intera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Fosters team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4D1A-EEF5-4237-A62B-F81EBBF1A03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6920" y="2565360"/>
            <a:ext cx="396108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Problem-solving metho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476360" y="3271680"/>
            <a:ext cx="626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Take steps able to discover information that leads to solve a probl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27C3-3CB0-4589-A1FA-0CEBC15B979D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6120000" cy="100836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Concepts in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411280" y="3500280"/>
            <a:ext cx="46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nec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673920" y="2247840"/>
            <a:ext cx="688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ealth education process i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1501-1432-4232-BEC5-91428BE04306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900000" y="2219400"/>
            <a:ext cx="381636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Problem-solving metho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401840" y="2921040"/>
            <a:ext cx="6265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efining the probl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evelop theories about solu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ata col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Propose solu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Validate the solu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E9A2-5F2E-4013-838B-F8DA4A2EF70A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26920" y="2492280"/>
            <a:ext cx="316872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Brainstorm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03280" y="3213000"/>
            <a:ext cx="626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evelop the ability to discuss various alternatives to solve a problem and the selection of the most appropriate on the basis of object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7880-72C8-4462-980D-B335B8BA995A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900000" y="2492280"/>
            <a:ext cx="266400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Brainstorm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468360" y="3141720"/>
            <a:ext cx="82803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efine the problem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Registration of all students' opinion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Not express any criticism of ide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iscuss ideas and solutions exclusion is appropriat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Access to solve optimiza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982B-3C73-4150-8A59-1FE9850B98BE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971640" y="2421000"/>
            <a:ext cx="367164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Questions and Answ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95280" y="314172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Bank of configuration questions contains all the important questions included in the educational curriculum and the teacher that stimulates students to actively participate in answering questions through a collective discussion to all stud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1A45-8DD4-4A5A-8F3A-523A9A83F71A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971640" y="2421000"/>
            <a:ext cx="266364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Group discus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6920" y="3201840"/>
            <a:ext cx="749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Structured dialogue and mutual between the teacher and students on the one hand, students and each other the other hand, under the supervision of the teach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5B91-25B0-49AC-8800-5E281DD97CFC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4319280" cy="93492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539640" y="2276640"/>
            <a:ext cx="316872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The exchange of ro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539640" y="2751120"/>
            <a:ext cx="8136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Simulation of the reality of the problem by giving the roles of the parties to the problem and which dimensions are discussed and exit solu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It is funny way graduated from the Department of traditional lectur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5" descr="Picture18"/>
          <p:cNvPicPr/>
          <p:nvPr/>
        </p:nvPicPr>
        <p:blipFill>
          <a:blip r:embed="rId1"/>
          <a:stretch/>
        </p:blipFill>
        <p:spPr>
          <a:xfrm>
            <a:off x="5292720" y="620640"/>
            <a:ext cx="3267000" cy="21337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CBF7-2D0D-43DD-9044-84AC252A5135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755640" y="2492280"/>
            <a:ext cx="266400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Stories</a:t>
            </a:r>
            <a:r>
              <a:rPr b="1" lang="ar-SA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187280" y="3336840"/>
            <a:ext cx="69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Interesting anecdotal material from which to communicate information and ideas and promote the right attitudes and pract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77A2-8CB4-4E60-A96D-43D59116C3D2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042920" y="2492280"/>
            <a:ext cx="266400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Competitions</a:t>
            </a:r>
            <a:r>
              <a:rPr b="1" lang="ar-SA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755640" y="3141720"/>
            <a:ext cx="7561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Of educational methods that motivate students to make an effort and to express their potent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" descr="Picture20"/>
          <p:cNvPicPr/>
          <p:nvPr/>
        </p:nvPicPr>
        <p:blipFill>
          <a:blip r:embed="rId1"/>
          <a:stretch/>
        </p:blipFill>
        <p:spPr>
          <a:xfrm>
            <a:off x="5580000" y="981000"/>
            <a:ext cx="3032280" cy="1893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1641-3ADF-4740-ADD9-151259BDDBD2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116000" y="2492280"/>
            <a:ext cx="266400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Lecture amend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403280" y="3201840"/>
            <a:ext cx="62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They are vaccinated lecture some questions and discussions to make learning through ac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C559-D760-49F7-AE61-81CE7A588850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Obstacles active learning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116000" y="2298600"/>
            <a:ext cx="6624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81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Time constraints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81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Increase the number of learners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81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Lack some of the tools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81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Fear of not being educated respons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Fear of losing control of the learne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D88B-732F-4E34-8406-5527B881663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590400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Health Education Concept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987640" y="2637000"/>
            <a:ext cx="3168720" cy="2304720"/>
          </a:xfrm>
          <a:prstGeom prst="triangle">
            <a:avLst>
              <a:gd name="adj" fmla="val 50000"/>
            </a:avLst>
          </a:prstGeom>
          <a:noFill/>
          <a:ln cap="sq"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50872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908000" y="3213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itu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635280" y="52862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E64E-8503-43F4-9DD7-5D1B19663BAA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583092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Health Education Concept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7640" y="2492280"/>
            <a:ext cx="266400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Health educa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9640" y="322740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e of the essential elements of Primary health c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a key component of primary prevention strateg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D649-1F8C-436D-82D7-7E5B1AE57377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Important term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26920" y="2565360"/>
            <a:ext cx="266400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042920" y="34178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c2305"/>
                </a:solidFill>
                <a:latin typeface="Times New Roman"/>
                <a:ea typeface="Times New Roman"/>
              </a:rPr>
              <a:t>A state of complete physical, mental and social wellbeing and not merely absence of disease. (WHO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0BDA-8548-47B4-91FE-19AD30C23983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٧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8000" y="1052640"/>
            <a:ext cx="489600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Important term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00000" y="2492280"/>
            <a:ext cx="266400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cul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692360" y="3462480"/>
            <a:ext cx="59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 information and facts that are related to health and disease for all peo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4:57:19Z</dcterms:created>
  <dc:creator>**</dc:creator>
  <dc:description/>
  <dc:language>en-US</dc:language>
  <cp:lastModifiedBy>Yara</cp:lastModifiedBy>
  <cp:lastPrinted>2014-02-09T12:03:17Z</cp:lastPrinted>
  <dcterms:modified xsi:type="dcterms:W3CDTF">2017-02-22T17:12:30Z</dcterms:modified>
  <cp:revision>79</cp:revision>
  <dc:subject/>
  <dc:title>أسس وأساليب التثقيف الصح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25</vt:lpwstr>
  </property>
</Properties>
</file>