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10.jpeg" ContentType="image/jpeg"/>
  <Override PartName="/ppt/media/image8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9294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29D8A-C0D1-448E-AA2B-67E119003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1484C-DB4C-4C4F-B0C0-843331F61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C71C8-974B-4B1A-84F6-0C9C32C43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9576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5048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74140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59576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5048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1BE3D-CE5C-4F1F-A253-E43C41602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0404DA-23F7-4101-AB78-E64B5C280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24B08F-80BA-4827-BBFF-748EC9074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43D72B-E28F-4C5C-81E2-EE8033F2C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B3BC65-7405-43C1-830C-64B103334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5862F5-A8E4-43D2-A7F2-A8FC67EAA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05120" y="837720"/>
            <a:ext cx="632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AB7DF6-5478-468B-AA04-1D4DEA1F0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A2D580-69BB-49C2-BDC4-88BC89294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D9AA0-BD4B-409A-9836-CD343169F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3E8578-1323-4D1F-89A1-B9B70527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EB4E45-4715-4382-B441-94B37D2A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C50364-CB6A-409A-B0EF-DDFAA3CB3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9125A6-0D4A-46A7-AC26-B88AB4A85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9576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45048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74140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59576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45048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08F150-B3FD-429C-B949-628022011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7393F-938F-4D24-A0FE-A18486D76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B3282-F4DD-469C-B867-3FFEAF725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4E7D8-757F-4122-AB84-76CE45128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05120" y="837720"/>
            <a:ext cx="632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DEE77-795B-4DD5-BB12-47EA916CC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65F93-7FAA-4E48-BA1E-5A13C37F3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7923D-41DF-48F2-89AA-222AC5BC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45FA6-CA49-464E-A71B-294D2412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0"/>
          <p:cNvSpPr/>
          <p:nvPr/>
        </p:nvSpPr>
        <p:spPr>
          <a:xfrm>
            <a:off x="304920" y="533520"/>
            <a:ext cx="8458200" cy="5790960"/>
          </a:xfrm>
          <a:prstGeom prst="rect">
            <a:avLst/>
          </a:prstGeom>
          <a:solidFill>
            <a:srgbClr val="ffffff">
              <a:alpha val="80000"/>
            </a:srgbClr>
          </a:solidFill>
          <a:ln cap="sq" w="38160">
            <a:solidFill>
              <a:srgbClr val="5c2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21"/>
          <p:cNvSpPr/>
          <p:nvPr/>
        </p:nvSpPr>
        <p:spPr>
          <a:xfrm>
            <a:off x="533520" y="762120"/>
            <a:ext cx="8001000" cy="5333760"/>
          </a:xfrm>
          <a:prstGeom prst="rect">
            <a:avLst/>
          </a:prstGeom>
          <a:noFill/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1" marL="743040" indent="-285840" algn="r" rtl="1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2" marL="1085760" indent="-228600" algn="r" rtl="1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3" marL="1428840" indent="-228600" algn="r" rtl="1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4" marL="1771560" indent="-228600" algn="r" rtl="1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5" marL="1771560" indent="-228600" algn="r" rtl="1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6" marL="1771560" indent="-228600" algn="r" rtl="1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076960" y="6414840"/>
            <a:ext cx="7398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Verdana"/>
                <a:ea typeface="Gulim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4D94D-2ED5-41DF-B962-405A5300A417}" type="slidenum">
              <a:rPr b="0" lang="ar-SA" sz="1000" spc="-1" strike="noStrike">
                <a:solidFill>
                  <a:srgbClr val="000000"/>
                </a:solidFill>
                <a:latin typeface="Verdana"/>
                <a:ea typeface="Gulim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80920" y="6415200"/>
            <a:ext cx="4419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90476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Verdana"/>
                <a:cs typeface="Gulim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F741D-A4F0-4C10-A8A1-5293177861F5}" type="datetime">
              <a:rPr b="0" lang="ar-SA" sz="1000" spc="-1" strike="noStrike">
                <a:solidFill>
                  <a:srgbClr val="000000"/>
                </a:solidFill>
                <a:latin typeface="Verdana"/>
                <a:cs typeface="Gulim"/>
              </a:rPr>
              <a:t>١٤٤٨/٠٢/١٦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5"/>
          <p:cNvSpPr/>
          <p:nvPr/>
        </p:nvSpPr>
        <p:spPr>
          <a:xfrm>
            <a:off x="304920" y="533520"/>
            <a:ext cx="8458200" cy="5790960"/>
          </a:xfrm>
          <a:prstGeom prst="rect">
            <a:avLst/>
          </a:prstGeom>
          <a:solidFill>
            <a:srgbClr val="ffffff">
              <a:alpha val="80000"/>
            </a:srgbClr>
          </a:solidFill>
          <a:ln cap="sq" w="38160">
            <a:solidFill>
              <a:srgbClr val="5c2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16"/>
          <p:cNvSpPr/>
          <p:nvPr/>
        </p:nvSpPr>
        <p:spPr>
          <a:xfrm>
            <a:off x="533520" y="762120"/>
            <a:ext cx="8001000" cy="5333760"/>
          </a:xfrm>
          <a:prstGeom prst="rect">
            <a:avLst/>
          </a:prstGeom>
          <a:noFill/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1" marL="743040" indent="-285840" algn="r" rtl="1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2" marL="1085760" indent="-228600" algn="r" rtl="1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3" marL="1428840" indent="-228600" algn="r" rtl="1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4" marL="1771560" indent="-228600" algn="r" rtl="1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5" marL="1771560" indent="-228600" algn="r" rtl="1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6" marL="1771560" indent="-228600" algn="r" rtl="1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4"/>
          </p:nvPr>
        </p:nvSpPr>
        <p:spPr>
          <a:xfrm>
            <a:off x="8076960" y="6414840"/>
            <a:ext cx="7398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Verdana"/>
                <a:ea typeface="Gulim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098C6-CEBC-4839-9466-3FC83C967275}" type="slidenum">
              <a:rPr b="0" lang="ar-SA" sz="1000" spc="-1" strike="noStrike">
                <a:solidFill>
                  <a:srgbClr val="000000"/>
                </a:solidFill>
                <a:latin typeface="Verdana"/>
                <a:ea typeface="Gulim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80920" y="6415200"/>
            <a:ext cx="4419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dt" idx="6"/>
          </p:nvPr>
        </p:nvSpPr>
        <p:spPr>
          <a:xfrm>
            <a:off x="190476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Verdana"/>
                <a:cs typeface="Gulim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F2240-FC93-4BFC-AA77-1DBAEEF6DF76}" type="datetime">
              <a:rPr b="0" lang="ar-SA" sz="1000" spc="-1" strike="noStrike">
                <a:solidFill>
                  <a:srgbClr val="000000"/>
                </a:solidFill>
                <a:latin typeface="Verdana"/>
                <a:cs typeface="Gulim"/>
              </a:rPr>
              <a:t>١٤٤٨/٠٢/١٦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C:\Documents and Settings\abgahtani\My Documents\PRESENTATION\&#1605;&#1581;&#1575;&#1590;&#1585;&#1577; &#1576;&#1585;&#1575;&#1605;&#1580; &#1605;&#1603;&#1575;&#1601;&#1581;&#1577; &#1575;&#1604;&#1578;&#1576;&#1594;\part6-2.wmv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4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6BFA1-CD62-4FA4-99B6-860B6C41451E}" type="datetime">
              <a:rPr b="0" lang="ar-SA" sz="1000" spc="-1" strike="noStrike">
                <a:solidFill>
                  <a:srgbClr val="000000"/>
                </a:solidFill>
                <a:latin typeface="Verdana"/>
                <a:cs typeface="Gulim"/>
              </a:rPr>
              <a:t>١٤٤٨/٠٢/١٦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42920" y="3821040"/>
            <a:ext cx="6750000" cy="25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5c2305"/>
                </a:solidFill>
                <a:latin typeface="Verdana"/>
              </a:rPr>
              <a:t>Principles and methods of health education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5c2305"/>
              </a:solidFill>
              <a:latin typeface="Verdana"/>
            </a:endParaRPr>
          </a:p>
        </p:txBody>
      </p:sp>
      <p:pic>
        <p:nvPicPr>
          <p:cNvPr id="88" name="Picture 26" descr="شعار الكلية"/>
          <p:cNvPicPr/>
          <p:nvPr/>
        </p:nvPicPr>
        <p:blipFill>
          <a:blip r:embed="rId1"/>
          <a:stretch/>
        </p:blipFill>
        <p:spPr>
          <a:xfrm>
            <a:off x="3295800" y="550800"/>
            <a:ext cx="2261880" cy="20750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"/>
          <p:cNvSpPr/>
          <p:nvPr/>
        </p:nvSpPr>
        <p:spPr>
          <a:xfrm>
            <a:off x="0" y="265896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linical Application for Community Health Nursing (NUR 417)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عنصر نائب للتاريخ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B90BB-BBBC-4FE0-802D-E80ECCBDFF28}" type="datetime">
              <a:rPr b="0" lang="ar-SA" sz="1000" spc="-1" strike="noStrike">
                <a:solidFill>
                  <a:srgbClr val="000000"/>
                </a:solidFill>
                <a:latin typeface="Verdana"/>
                <a:cs typeface="Gulim"/>
              </a:rPr>
              <a:t>١٤٤٨/٠٢/١٦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84000" y="1052640"/>
            <a:ext cx="4319640" cy="1008000"/>
          </a:xfrm>
          <a:prstGeom prst="rect">
            <a:avLst/>
          </a:prstGeom>
          <a:solidFill>
            <a:srgbClr val="ffc285"/>
          </a:solidFill>
          <a:ln w="3492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</a:rPr>
              <a:t>Important terms</a:t>
            </a:r>
            <a:r>
              <a:rPr b="0" lang="en-US" sz="2800" spc="-1" strike="noStrike">
                <a:solidFill>
                  <a:srgbClr val="5c2305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826920" y="2565360"/>
            <a:ext cx="3457800" cy="5814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ealth awarenes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755640" y="3462480"/>
            <a:ext cx="770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s people with information and knowledge of health facts and their sense of responsibility towards their own health and the health of other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عنصر نائب للتاريخ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25349-B3BB-4416-833B-B624B2460947}" type="datetime">
              <a:rPr b="0" lang="ar-SA" sz="1000" spc="-1" strike="noStrike">
                <a:solidFill>
                  <a:srgbClr val="000000"/>
                </a:solidFill>
                <a:latin typeface="Verdana"/>
                <a:cs typeface="Gulim"/>
              </a:rPr>
              <a:t>١٤٤٨/٠٢/١٦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84000" y="1052640"/>
            <a:ext cx="4319640" cy="1008000"/>
          </a:xfrm>
          <a:prstGeom prst="rect">
            <a:avLst/>
          </a:prstGeom>
          <a:solidFill>
            <a:srgbClr val="ffc285"/>
          </a:solidFill>
          <a:ln w="3492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</a:rPr>
              <a:t>Important terms</a:t>
            </a:r>
            <a:r>
              <a:rPr b="0" lang="en-US" sz="2800" spc="-1" strike="noStrike">
                <a:solidFill>
                  <a:srgbClr val="5c2305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755640" y="2565360"/>
            <a:ext cx="2664000" cy="5814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ealth habi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1692360" y="3462480"/>
            <a:ext cx="5975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s played by an individual without thinking or feeling as a result of the large number of repe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عنصر نائب للتاريخ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2645F-6158-42EB-80BB-20FE11A5AB74}" type="datetime">
              <a:rPr b="0" lang="ar-SA" sz="1000" spc="-1" strike="noStrike">
                <a:solidFill>
                  <a:srgbClr val="000000"/>
                </a:solidFill>
                <a:latin typeface="Verdana"/>
                <a:cs typeface="Gulim"/>
              </a:rPr>
              <a:t>١٤٤٨/٠٢/١٦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84000" y="1052640"/>
            <a:ext cx="4319640" cy="1008000"/>
          </a:xfrm>
          <a:prstGeom prst="rect">
            <a:avLst/>
          </a:prstGeom>
          <a:solidFill>
            <a:srgbClr val="ffc285"/>
          </a:solidFill>
          <a:ln w="3492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</a:rPr>
              <a:t>Important terms</a:t>
            </a:r>
            <a:r>
              <a:rPr b="0" lang="en-US" sz="2800" spc="-1" strike="noStrike">
                <a:solidFill>
                  <a:srgbClr val="5c2305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826920" y="2467080"/>
            <a:ext cx="6769440" cy="5814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ealth practice (health and behavior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1042920" y="3462480"/>
            <a:ext cx="720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s played by an individual intentionally stems from its adherence to certain valu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عنصر نائب للتاريخ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D33B8-9BC7-41F3-B09A-D83000B0C18C}" type="datetime">
              <a:rPr b="0" lang="ar-SA" sz="1000" spc="-1" strike="noStrike">
                <a:solidFill>
                  <a:srgbClr val="000000"/>
                </a:solidFill>
                <a:latin typeface="Verdana"/>
                <a:cs typeface="Gulim"/>
              </a:rPr>
              <a:t>١٤٤٨/٠٢/١٦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84000" y="1125360"/>
            <a:ext cx="4319640" cy="935280"/>
          </a:xfrm>
          <a:prstGeom prst="rect">
            <a:avLst/>
          </a:prstGeom>
          <a:solidFill>
            <a:srgbClr val="ffc285"/>
          </a:solidFill>
          <a:ln w="3492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</a:rPr>
              <a:t>Health education goals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539640" y="2205000"/>
            <a:ext cx="7920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sseminate concepts and sound health knowledge in the communit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able people to identify their health problems and need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lp people solve their health problems using their potentia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uild a normal health trend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stablish proper health behavio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عنصر نائب للتاريخ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5585D-805F-4716-8896-65CB95A3D117}" type="datetime">
              <a:rPr b="0" lang="ar-SA" sz="1000" spc="-1" strike="noStrike">
                <a:solidFill>
                  <a:srgbClr val="000000"/>
                </a:solidFill>
                <a:latin typeface="Verdana"/>
                <a:cs typeface="Gulim"/>
              </a:rPr>
              <a:t>١٤٤٨/٠٢/١٦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71640" y="1125360"/>
            <a:ext cx="7200720" cy="935280"/>
          </a:xfrm>
          <a:prstGeom prst="rect">
            <a:avLst/>
          </a:prstGeom>
          <a:solidFill>
            <a:srgbClr val="ffc285"/>
          </a:solidFill>
          <a:ln w="3492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2305"/>
                </a:solidFill>
                <a:latin typeface="Verdana"/>
              </a:rPr>
              <a:t>The ultimate goals of health education</a:t>
            </a:r>
            <a:endParaRPr b="0" lang="en-US" sz="24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1042920" y="2349360"/>
            <a:ext cx="6912000" cy="35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Improve health at the level of the individual and society</a:t>
            </a:r>
            <a:endParaRPr b="1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Reduce the incidence of disease</a:t>
            </a:r>
            <a:endParaRPr b="1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Reduce disability and mortality</a:t>
            </a:r>
            <a:endParaRPr b="1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Improve the quality of life for the individual and society</a:t>
            </a:r>
            <a:endParaRPr b="1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عنصر نائب للتاريخ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A9089-8720-4A24-88AE-E8EBFEC7E37D}" type="datetime">
              <a:rPr b="0" lang="ar-SA" sz="1000" spc="-1" strike="noStrike">
                <a:solidFill>
                  <a:srgbClr val="000000"/>
                </a:solidFill>
                <a:latin typeface="Verdana"/>
                <a:cs typeface="Gulim"/>
              </a:rPr>
              <a:t>١٤٤٨/٠٢/١٦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6920" y="1125360"/>
            <a:ext cx="7274160" cy="935280"/>
          </a:xfrm>
          <a:prstGeom prst="rect">
            <a:avLst/>
          </a:prstGeom>
          <a:solidFill>
            <a:srgbClr val="ffc285"/>
          </a:solidFill>
          <a:ln w="3492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</a:rPr>
              <a:t>Who need for health education</a:t>
            </a:r>
            <a:r>
              <a:rPr b="0" lang="en-US" sz="2800" spc="-1" strike="noStrike">
                <a:solidFill>
                  <a:srgbClr val="5c2305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826920" y="2349360"/>
            <a:ext cx="5688360" cy="6426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veryon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900000" y="2924280"/>
            <a:ext cx="712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dults and childre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            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en and wome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lliterate and learne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عنصر نائب للتاريخ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205AB-D999-4249-906F-5E1F2B2A7318}" type="datetime">
              <a:rPr b="0" lang="ar-SA" sz="1000" spc="-1" strike="noStrike">
                <a:solidFill>
                  <a:srgbClr val="000000"/>
                </a:solidFill>
                <a:latin typeface="Verdana"/>
                <a:cs typeface="Gulim"/>
              </a:rPr>
              <a:t>١٤٤٨/٠٢/١٦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19280" y="1125360"/>
            <a:ext cx="5184720" cy="935280"/>
          </a:xfrm>
          <a:prstGeom prst="rect">
            <a:avLst/>
          </a:prstGeom>
          <a:solidFill>
            <a:srgbClr val="ffc285"/>
          </a:solidFill>
          <a:ln w="3492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</a:rPr>
              <a:t>Health education topics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619280" y="2492280"/>
            <a:ext cx="4321080" cy="6426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ithout Border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971640" y="3500280"/>
            <a:ext cx="7129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y topic related to health, provided that commensurate with the needs of the individual or target group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عنصر نائب للتاريخ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270A5-10A9-4B37-B256-CCDB2165C43D}" type="datetime">
              <a:rPr b="0" lang="ar-SA" sz="1000" spc="-1" strike="noStrike">
                <a:solidFill>
                  <a:srgbClr val="000000"/>
                </a:solidFill>
                <a:latin typeface="Verdana"/>
                <a:cs typeface="Gulim"/>
              </a:rPr>
              <a:t>١٤٤٨/٠٢/١٦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55280" y="1125360"/>
            <a:ext cx="6048360" cy="935280"/>
          </a:xfrm>
          <a:prstGeom prst="rect">
            <a:avLst/>
          </a:prstGeom>
          <a:solidFill>
            <a:srgbClr val="ffc285"/>
          </a:solidFill>
          <a:ln w="3492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c2305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5c2305"/>
                </a:solidFill>
                <a:latin typeface="Verdana"/>
              </a:rPr>
              <a:t>Who is health educators</a:t>
            </a:r>
            <a:r>
              <a:rPr b="1" lang="en-US" sz="2800" spc="-1" strike="noStrike">
                <a:solidFill>
                  <a:srgbClr val="5c2305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900000" y="2421000"/>
            <a:ext cx="65516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y human being has a valid health information and received good training and is capable of delivering the information with his skill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عنصر نائب للتاريخ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4979C-90C6-421D-8AC4-66D05760064A}" type="datetime">
              <a:rPr b="0" lang="ar-SA" sz="1000" spc="-1" strike="noStrike">
                <a:solidFill>
                  <a:srgbClr val="000000"/>
                </a:solidFill>
                <a:latin typeface="Verdana"/>
                <a:cs typeface="Gulim"/>
              </a:rPr>
              <a:t>١٤٤٨/٠٢/١٦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32000" y="1125360"/>
            <a:ext cx="5976720" cy="935280"/>
          </a:xfrm>
          <a:prstGeom prst="rect">
            <a:avLst/>
          </a:prstGeom>
          <a:solidFill>
            <a:srgbClr val="ffc285"/>
          </a:solidFill>
          <a:ln w="3492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lements of the health education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5292720" y="2708280"/>
            <a:ext cx="3454560" cy="6426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Health messag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900000" y="2787480"/>
            <a:ext cx="3600720" cy="6426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Health educator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1908000" y="3860640"/>
            <a:ext cx="5399280" cy="6426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eassge reciver Targe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1908000" y="4948200"/>
            <a:ext cx="5472360" cy="6426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Means (methods)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عنصر نائب للتاريخ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C0598-FAB9-4A8B-9006-05F2838DF7A8}" type="datetime">
              <a:rPr b="0" lang="ar-SA" sz="1000" spc="-1" strike="noStrike">
                <a:solidFill>
                  <a:srgbClr val="000000"/>
                </a:solidFill>
                <a:latin typeface="Verdana"/>
                <a:cs typeface="Gulim"/>
              </a:rPr>
              <a:t>١٤٤٨/٠٢/١٦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84000" y="1125360"/>
            <a:ext cx="4319640" cy="935280"/>
          </a:xfrm>
          <a:prstGeom prst="rect">
            <a:avLst/>
          </a:prstGeom>
          <a:solidFill>
            <a:srgbClr val="ffc285"/>
          </a:solidFill>
          <a:ln w="3492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</a:rPr>
              <a:t>Health message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971640" y="2349360"/>
            <a:ext cx="712944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Correct information</a:t>
            </a:r>
            <a:endParaRPr b="1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Clear and understandable</a:t>
            </a:r>
            <a:endParaRPr b="1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In the level of the receiver</a:t>
            </a:r>
            <a:endParaRPr b="1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Interesting</a:t>
            </a:r>
            <a:endParaRPr b="1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Achieve the desired goal</a:t>
            </a:r>
            <a:endParaRPr b="1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4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5F272-E89F-4E3C-A8BE-1700E6A0C2CF}" type="datetime">
              <a:rPr b="0" lang="ar-SA" sz="1000" spc="-1" strike="noStrike">
                <a:solidFill>
                  <a:srgbClr val="000000"/>
                </a:solidFill>
                <a:latin typeface="Verdana"/>
                <a:cs typeface="Gulim"/>
              </a:rPr>
              <a:t>١٤٤٨/٠٢/١٦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920" y="476280"/>
            <a:ext cx="718344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c2305"/>
                </a:solidFill>
                <a:latin typeface="Verdana"/>
              </a:rPr>
              <a:t>Principles and methods of health education</a:t>
            </a:r>
            <a:endParaRPr b="0" lang="en-US" sz="20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92" name="Rectangle 1"/>
          <p:cNvSpPr/>
          <p:nvPr/>
        </p:nvSpPr>
        <p:spPr>
          <a:xfrm>
            <a:off x="900000" y="1700280"/>
            <a:ext cx="73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bjectiv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fter reading this lecture, the students should be able to understand the following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ine health education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dentify three objectives of health education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cuss three principles of health education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dentify qualities of health educator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lain difficulties with health education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cuss three methods of health educ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عنصر نائب للتاريخ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3DDD8-82DB-456A-8A06-2FF30F3BE214}" type="datetime">
              <a:rPr b="0" lang="ar-SA" sz="1000" spc="-1" strike="noStrike">
                <a:solidFill>
                  <a:srgbClr val="000000"/>
                </a:solidFill>
                <a:latin typeface="Verdana"/>
                <a:cs typeface="Gulim"/>
              </a:rPr>
              <a:t>١٤٤٨/٠٢/١٦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84000" y="1125360"/>
            <a:ext cx="4319640" cy="935280"/>
          </a:xfrm>
          <a:prstGeom prst="rect">
            <a:avLst/>
          </a:prstGeom>
          <a:solidFill>
            <a:srgbClr val="ffc285"/>
          </a:solidFill>
          <a:ln w="3492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</a:rPr>
              <a:t>health eductor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755640" y="2421000"/>
            <a:ext cx="763272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as the knowledg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nvinced believer to the lette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as the ability and skill to delive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عنصر نائب للتاريخ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57F77-0066-4DE0-89D9-0F4A73ACAE5B}" type="datetime">
              <a:rPr b="0" lang="ar-SA" sz="1000" spc="-1" strike="noStrike">
                <a:solidFill>
                  <a:srgbClr val="000000"/>
                </a:solidFill>
                <a:latin typeface="Verdana"/>
                <a:cs typeface="Gulim"/>
              </a:rPr>
              <a:t>١٤٤٨/٠٢/١٦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03280" y="1125360"/>
            <a:ext cx="5400720" cy="935280"/>
          </a:xfrm>
          <a:prstGeom prst="rect">
            <a:avLst/>
          </a:prstGeom>
          <a:solidFill>
            <a:srgbClr val="ffc285"/>
          </a:solidFill>
          <a:ln w="3492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</a:rPr>
              <a:t>Target health education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71640" y="2538360"/>
            <a:ext cx="7129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gree of understanding and cultur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alth need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level of desire for chang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عنصر نائب للتاريخ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B77F6-A807-4A13-9813-79731BCC2A17}" type="datetime">
              <a:rPr b="0" lang="ar-SA" sz="1000" spc="-1" strike="noStrike">
                <a:solidFill>
                  <a:srgbClr val="000000"/>
                </a:solidFill>
                <a:latin typeface="Verdana"/>
                <a:cs typeface="Gulim"/>
              </a:rPr>
              <a:t>١٤٤٨/٠٢/١٦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47640" y="1125360"/>
            <a:ext cx="6048720" cy="935280"/>
          </a:xfrm>
          <a:prstGeom prst="rect">
            <a:avLst/>
          </a:prstGeom>
          <a:solidFill>
            <a:srgbClr val="ffc285"/>
          </a:solidFill>
          <a:ln w="3492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c2305"/>
                </a:solidFill>
                <a:latin typeface="Verdana"/>
              </a:rPr>
              <a:t>methods health education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971640" y="2538360"/>
            <a:ext cx="7129440" cy="41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variety of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Modern and stylish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Interactive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Address more than one sense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عنصر نائب للتاريخ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7B4E4-D5F0-4C77-803F-491A90E6DB51}" type="datetime">
              <a:rPr b="0" lang="ar-SA" sz="1000" spc="-1" strike="noStrike">
                <a:solidFill>
                  <a:srgbClr val="000000"/>
                </a:solidFill>
                <a:latin typeface="Verdana"/>
                <a:cs typeface="Gulim"/>
              </a:rPr>
              <a:t>١٤٤٨/٠٢/١٦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484000" y="1125360"/>
            <a:ext cx="4319640" cy="935280"/>
          </a:xfrm>
          <a:prstGeom prst="rect">
            <a:avLst/>
          </a:prstGeom>
          <a:solidFill>
            <a:srgbClr val="ffc285"/>
          </a:solidFill>
          <a:ln w="3492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ealth education levels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755640" y="2421000"/>
            <a:ext cx="2664000" cy="6426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individua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1835280" y="3789360"/>
            <a:ext cx="2663640" cy="6426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famil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3498840" y="4869000"/>
            <a:ext cx="5176800" cy="6426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school  and communit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عنصر نائب للتاريخ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107F8-6579-4125-A427-02D2F0EA81BC}" type="datetime">
              <a:rPr b="0" lang="ar-SA" sz="1000" spc="-1" strike="noStrike">
                <a:solidFill>
                  <a:srgbClr val="000000"/>
                </a:solidFill>
                <a:latin typeface="Verdana"/>
                <a:cs typeface="Gulim"/>
              </a:rPr>
              <a:t>١٤٤٨/٠٢/١٦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484000" y="1125360"/>
            <a:ext cx="4319640" cy="935280"/>
          </a:xfrm>
          <a:prstGeom prst="rect">
            <a:avLst/>
          </a:prstGeom>
          <a:solidFill>
            <a:srgbClr val="ffc285"/>
          </a:solidFill>
          <a:ln w="3492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c2305"/>
                </a:solidFill>
                <a:latin typeface="Verdana"/>
              </a:rPr>
              <a:t>Behavior change</a:t>
            </a:r>
            <a:endParaRPr b="0" lang="en-US" sz="36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971640" y="2770200"/>
            <a:ext cx="712944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final outcome of Health educ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عنصر نائب للتاريخ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62B56-7BCC-4F85-BE6A-0E2FE835C843}" type="datetime">
              <a:rPr b="0" lang="ar-SA" sz="1000" spc="-1" strike="noStrike">
                <a:solidFill>
                  <a:srgbClr val="000000"/>
                </a:solidFill>
                <a:latin typeface="Verdana"/>
                <a:cs typeface="Gulim"/>
              </a:rPr>
              <a:t>١٤٤٨/٠٢/١٦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484000" y="1125360"/>
            <a:ext cx="4319640" cy="935280"/>
          </a:xfrm>
          <a:prstGeom prst="rect">
            <a:avLst/>
          </a:prstGeom>
          <a:solidFill>
            <a:srgbClr val="ffc285"/>
          </a:solidFill>
          <a:ln w="3492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c2305"/>
                </a:solidFill>
                <a:latin typeface="Verdana"/>
              </a:rPr>
              <a:t>Stages of behavior change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5364000" y="2421000"/>
            <a:ext cx="2737080" cy="6426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wareness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5364000" y="3724200"/>
            <a:ext cx="2664000" cy="6426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terest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684360" y="3213000"/>
            <a:ext cx="3743280" cy="11912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ssessment (evaluat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1476360" y="4941720"/>
            <a:ext cx="2664000" cy="11912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rying (attempt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5364000" y="4948200"/>
            <a:ext cx="2664000" cy="6426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ollower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8"/>
          <p:cNvSpPr/>
          <p:nvPr/>
        </p:nvSpPr>
        <p:spPr>
          <a:xfrm>
            <a:off x="6659640" y="3068640"/>
            <a:ext cx="0" cy="647640"/>
          </a:xfrm>
          <a:prstGeom prst="line">
            <a:avLst/>
          </a:prstGeom>
          <a:ln cap="sq" w="69840">
            <a:solidFill>
              <a:srgbClr val="ff99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9"/>
          <p:cNvSpPr/>
          <p:nvPr/>
        </p:nvSpPr>
        <p:spPr>
          <a:xfrm>
            <a:off x="2771640" y="4365720"/>
            <a:ext cx="0" cy="576000"/>
          </a:xfrm>
          <a:prstGeom prst="line">
            <a:avLst/>
          </a:prstGeom>
          <a:ln cap="sq" w="69840">
            <a:solidFill>
              <a:srgbClr val="ff99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10"/>
          <p:cNvSpPr/>
          <p:nvPr/>
        </p:nvSpPr>
        <p:spPr>
          <a:xfrm flipH="1">
            <a:off x="4211280" y="4076640"/>
            <a:ext cx="1152360" cy="0"/>
          </a:xfrm>
          <a:prstGeom prst="line">
            <a:avLst/>
          </a:prstGeom>
          <a:ln cap="sq" w="69840">
            <a:solidFill>
              <a:srgbClr val="ff99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11"/>
          <p:cNvSpPr/>
          <p:nvPr/>
        </p:nvSpPr>
        <p:spPr>
          <a:xfrm>
            <a:off x="4140360" y="5300640"/>
            <a:ext cx="1223640" cy="0"/>
          </a:xfrm>
          <a:prstGeom prst="line">
            <a:avLst/>
          </a:prstGeom>
          <a:ln cap="sq" w="69840">
            <a:solidFill>
              <a:srgbClr val="ff99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عنصر نائب للتاريخ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B10BA-E62C-4963-AEAA-0AAEC91BF568}" type="datetime">
              <a:rPr b="0" lang="ar-SA" sz="1000" spc="-1" strike="noStrike">
                <a:solidFill>
                  <a:srgbClr val="000000"/>
                </a:solidFill>
                <a:latin typeface="Verdana"/>
                <a:cs typeface="Gulim"/>
              </a:rPr>
              <a:t>١٤٤٨/٠٢/١٦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84000" y="1052640"/>
            <a:ext cx="4319640" cy="1008000"/>
          </a:xfrm>
          <a:prstGeom prst="rect">
            <a:avLst/>
          </a:prstGeom>
          <a:solidFill>
            <a:srgbClr val="ffc285"/>
          </a:solidFill>
          <a:ln w="3492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</a:rPr>
              <a:t>Evaluation of health education programs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755640" y="2236680"/>
            <a:ext cx="7777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udy objectives have been achieve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now the negatives and positiv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dentify the obstacles and how to overcome them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dify the program if neede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عنصر نائب للتاريخ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EFC51-B75C-4B4C-B5E4-731EA45F688D}" type="datetime">
              <a:rPr b="0" lang="ar-SA" sz="1000" spc="-1" strike="noStrike">
                <a:solidFill>
                  <a:srgbClr val="000000"/>
                </a:solidFill>
                <a:latin typeface="Verdana"/>
                <a:cs typeface="Gulim"/>
              </a:rPr>
              <a:t>١٤٤٨/٠٢/١٦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87280" y="2133360"/>
            <a:ext cx="6972480" cy="237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c2305"/>
                </a:solidFill>
                <a:latin typeface="Verdana"/>
                <a:ea typeface="Al-Mujahed Free"/>
              </a:rPr>
              <a:t>Ways and means of health education</a:t>
            </a:r>
            <a:endParaRPr b="0" lang="en-US" sz="5400" spc="-1" strike="noStrike">
              <a:solidFill>
                <a:srgbClr val="5c2305"/>
              </a:solidFill>
              <a:latin typeface="Verdana"/>
            </a:endParaRPr>
          </a:p>
        </p:txBody>
      </p:sp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0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عنصر نائب للتاريخ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65C22-3394-45C4-B8BD-ACD4269F4CFF}" type="datetime">
              <a:rPr b="0" lang="ar-SA" sz="1000" spc="-1" strike="noStrike">
                <a:solidFill>
                  <a:srgbClr val="000000"/>
                </a:solidFill>
                <a:latin typeface="Verdana"/>
                <a:cs typeface="Gulim"/>
              </a:rPr>
              <a:t>١٤٤٨/٠٢/١٦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84000" y="1052640"/>
            <a:ext cx="4319640" cy="1008000"/>
          </a:xfrm>
          <a:prstGeom prst="rect">
            <a:avLst/>
          </a:prstGeom>
          <a:solidFill>
            <a:srgbClr val="ffc285"/>
          </a:solidFill>
          <a:ln w="3492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  <a:ea typeface="Al-Mujahed Free"/>
              </a:rPr>
              <a:t>Methods of health education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1547640" y="3068640"/>
            <a:ext cx="6480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611280" y="2538360"/>
            <a:ext cx="74898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  <a:ea typeface="Monotype Koufi"/>
              </a:rPr>
              <a:t>Diverse and asymmetric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  <a:ea typeface="Monotype Koufi"/>
              </a:rPr>
              <a:t>And vary according to the time and plac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  <a:ea typeface="Monotype Koufi"/>
              </a:rPr>
              <a:t>And the diversity of the target group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عنصر نائب للتاريخ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7F841-E975-4CEF-8257-29EEC14AF5C1}" type="datetime">
              <a:rPr b="0" lang="ar-SA" sz="1000" spc="-1" strike="noStrike">
                <a:solidFill>
                  <a:srgbClr val="000000"/>
                </a:solidFill>
                <a:latin typeface="Verdana"/>
                <a:cs typeface="Gulim"/>
              </a:rPr>
              <a:t>١٤٤٨/٠٢/١٦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23640" y="1052640"/>
            <a:ext cx="5543640" cy="1008000"/>
          </a:xfrm>
          <a:prstGeom prst="rect">
            <a:avLst/>
          </a:prstGeom>
          <a:solidFill>
            <a:srgbClr val="ffc285"/>
          </a:solidFill>
          <a:ln w="3492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  <a:ea typeface="Al-Mujahed Free"/>
              </a:rPr>
              <a:t>Factors to choose the Method of health education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1116000" y="2276640"/>
            <a:ext cx="7129440" cy="642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  <a:ea typeface="Monotype Koufi"/>
              </a:rPr>
              <a:t>Characteristics of the target group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Oval 6"/>
          <p:cNvSpPr/>
          <p:nvPr/>
        </p:nvSpPr>
        <p:spPr>
          <a:xfrm>
            <a:off x="3205080" y="3068640"/>
            <a:ext cx="1295640" cy="1224000"/>
          </a:xfrm>
          <a:prstGeom prst="ellipse">
            <a:avLst/>
          </a:prstGeom>
          <a:solidFill>
            <a:srgbClr val="ffcc99"/>
          </a:solidFill>
          <a:ln cap="sq" w="349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Bold Italic Art"/>
              </a:rPr>
              <a:t>Childre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Oval 7"/>
          <p:cNvSpPr/>
          <p:nvPr/>
        </p:nvSpPr>
        <p:spPr>
          <a:xfrm>
            <a:off x="4645080" y="3068640"/>
            <a:ext cx="1295280" cy="1224000"/>
          </a:xfrm>
          <a:prstGeom prst="ellipse">
            <a:avLst/>
          </a:prstGeom>
          <a:solidFill>
            <a:srgbClr val="ffcc99"/>
          </a:solidFill>
          <a:ln cap="sq" w="349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Bold Italic Art"/>
              </a:rPr>
              <a:t>Adult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Oval 9"/>
          <p:cNvSpPr/>
          <p:nvPr/>
        </p:nvSpPr>
        <p:spPr>
          <a:xfrm>
            <a:off x="6229440" y="4581360"/>
            <a:ext cx="1295280" cy="1224000"/>
          </a:xfrm>
          <a:prstGeom prst="ellipse">
            <a:avLst/>
          </a:prstGeom>
          <a:solidFill>
            <a:srgbClr val="ffcc99"/>
          </a:solidFill>
          <a:ln cap="sq" w="349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Bold Italic Art"/>
              </a:rPr>
              <a:t>Female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Oval 10"/>
          <p:cNvSpPr/>
          <p:nvPr/>
        </p:nvSpPr>
        <p:spPr>
          <a:xfrm>
            <a:off x="4789440" y="4581360"/>
            <a:ext cx="1295280" cy="1224000"/>
          </a:xfrm>
          <a:prstGeom prst="ellipse">
            <a:avLst/>
          </a:prstGeom>
          <a:solidFill>
            <a:srgbClr val="ffcc99"/>
          </a:solidFill>
          <a:ln cap="sq" w="349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Bold Italic Art"/>
              </a:rPr>
              <a:t>Male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Oval 11"/>
          <p:cNvSpPr/>
          <p:nvPr/>
        </p:nvSpPr>
        <p:spPr>
          <a:xfrm>
            <a:off x="3132000" y="4581360"/>
            <a:ext cx="1295640" cy="1224000"/>
          </a:xfrm>
          <a:prstGeom prst="ellipse">
            <a:avLst/>
          </a:prstGeom>
          <a:solidFill>
            <a:srgbClr val="ffcc99"/>
          </a:solidFill>
          <a:ln cap="sq" w="349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Bold Italic Art"/>
              </a:rPr>
              <a:t>literat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Oval 12"/>
          <p:cNvSpPr/>
          <p:nvPr/>
        </p:nvSpPr>
        <p:spPr>
          <a:xfrm>
            <a:off x="1692360" y="4579920"/>
            <a:ext cx="1295280" cy="1224000"/>
          </a:xfrm>
          <a:prstGeom prst="ellipse">
            <a:avLst/>
          </a:prstGeom>
          <a:solidFill>
            <a:srgbClr val="ffcc99"/>
          </a:solidFill>
          <a:ln cap="sq" w="349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Bold Italic Art"/>
              </a:rPr>
              <a:t>Educated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0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4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B1117-AF67-403C-B1D5-7C22BCDD3EFD}" type="datetime">
              <a:rPr b="0" lang="ar-SA" sz="1000" spc="-1" strike="noStrike">
                <a:solidFill>
                  <a:srgbClr val="000000"/>
                </a:solidFill>
                <a:latin typeface="Verdana"/>
                <a:cs typeface="Gulim"/>
              </a:rPr>
              <a:t>١٤٤٨/٠٢/١٦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42920" y="476280"/>
            <a:ext cx="718344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c2305"/>
                </a:solidFill>
                <a:latin typeface="Verdana"/>
              </a:rPr>
              <a:t>Principles and methods of health education</a:t>
            </a:r>
            <a:endParaRPr b="0" lang="en-US" sz="2000" spc="-1" strike="noStrike">
              <a:solidFill>
                <a:srgbClr val="5c2305"/>
              </a:solidFill>
              <a:latin typeface="Verdana"/>
            </a:endParaRPr>
          </a:p>
        </p:txBody>
      </p:sp>
      <p:pic>
        <p:nvPicPr>
          <p:cNvPr id="95" name="Rectangle 1" descr=""/>
          <p:cNvPicPr/>
          <p:nvPr/>
        </p:nvPicPr>
        <p:blipFill>
          <a:blip r:embed="rId1"/>
          <a:stretch/>
        </p:blipFill>
        <p:spPr>
          <a:xfrm>
            <a:off x="517680" y="1006560"/>
            <a:ext cx="7437240" cy="57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عنصر نائب للتاريخ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B68AE-F329-4B41-918C-0B1DAE4D0396}" type="datetime">
              <a:rPr b="0" lang="ar-SA" sz="1000" spc="-1" strike="noStrike">
                <a:solidFill>
                  <a:srgbClr val="000000"/>
                </a:solidFill>
                <a:latin typeface="Verdana"/>
                <a:cs typeface="Gulim"/>
              </a:rPr>
              <a:t>١٤٤٨/٠٢/١٦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763640" y="1052640"/>
            <a:ext cx="5832720" cy="1008000"/>
          </a:xfrm>
          <a:prstGeom prst="rect">
            <a:avLst/>
          </a:prstGeom>
          <a:solidFill>
            <a:srgbClr val="ffc285"/>
          </a:solidFill>
          <a:ln w="3492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  <a:ea typeface="Al-Mujahed Free"/>
              </a:rPr>
              <a:t>Factors to choose the Method of health education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1116000" y="227664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  <a:ea typeface="Monotype Koufi"/>
              </a:rPr>
              <a:t>The local culture of the target group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Oval 8"/>
          <p:cNvSpPr/>
          <p:nvPr/>
        </p:nvSpPr>
        <p:spPr>
          <a:xfrm>
            <a:off x="6589800" y="3716280"/>
            <a:ext cx="1654200" cy="1441440"/>
          </a:xfrm>
          <a:prstGeom prst="ellipse">
            <a:avLst/>
          </a:prstGeom>
          <a:solidFill>
            <a:srgbClr val="ffcc99"/>
          </a:solidFill>
          <a:ln cap="sq" w="349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Illiterat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Oval 9"/>
          <p:cNvSpPr/>
          <p:nvPr/>
        </p:nvSpPr>
        <p:spPr>
          <a:xfrm>
            <a:off x="4284720" y="3645000"/>
            <a:ext cx="1800000" cy="1800000"/>
          </a:xfrm>
          <a:prstGeom prst="ellipse">
            <a:avLst/>
          </a:prstGeom>
          <a:solidFill>
            <a:srgbClr val="ffcc99"/>
          </a:solidFill>
          <a:ln cap="sq" w="349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Educator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Oval 10"/>
          <p:cNvSpPr/>
          <p:nvPr/>
        </p:nvSpPr>
        <p:spPr>
          <a:xfrm>
            <a:off x="1692360" y="3429000"/>
            <a:ext cx="2016000" cy="2087640"/>
          </a:xfrm>
          <a:prstGeom prst="ellipse">
            <a:avLst/>
          </a:prstGeom>
          <a:solidFill>
            <a:srgbClr val="ffcc99"/>
          </a:solidFill>
          <a:ln cap="sq" w="349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Us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Techniqu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Moder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0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عنصر نائب للتاريخ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13994-72DC-4F56-9968-20E7E3B0E6FC}" type="datetime">
              <a:rPr b="0" lang="ar-SA" sz="1000" spc="-1" strike="noStrike">
                <a:solidFill>
                  <a:srgbClr val="000000"/>
                </a:solidFill>
                <a:latin typeface="Verdana"/>
                <a:cs typeface="Gulim"/>
              </a:rPr>
              <a:t>١٤٤٨/٠٢/١٦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02920" y="1052640"/>
            <a:ext cx="5761080" cy="1008000"/>
          </a:xfrm>
          <a:prstGeom prst="rect">
            <a:avLst/>
          </a:prstGeom>
          <a:solidFill>
            <a:srgbClr val="ffc285"/>
          </a:solidFill>
          <a:ln w="3492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  <a:ea typeface="Al-Mujahed Free"/>
              </a:rPr>
              <a:t>Factors to choose the Method of health education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1116000" y="2852640"/>
            <a:ext cx="71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  <a:ea typeface="Monotype Koufi"/>
              </a:rPr>
              <a:t>Number of target group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826920" y="455148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500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100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50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            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10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AutoShape 8"/>
          <p:cNvSpPr/>
          <p:nvPr/>
        </p:nvSpPr>
        <p:spPr>
          <a:xfrm>
            <a:off x="1763640" y="5013360"/>
            <a:ext cx="5688000" cy="863640"/>
          </a:xfrm>
          <a:prstGeom prst="rtTriangle">
            <a:avLst/>
          </a:prstGeom>
          <a:solidFill>
            <a:srgbClr val="ffc285"/>
          </a:solidFill>
          <a:ln cap="sq" w="34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0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عنصر نائب للتاريخ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D83E5-1D36-4AF7-AC00-66EA1215A6F3}" type="datetime">
              <a:rPr b="0" lang="ar-SA" sz="1000" spc="-1" strike="noStrike">
                <a:solidFill>
                  <a:srgbClr val="000000"/>
                </a:solidFill>
                <a:latin typeface="Verdana"/>
                <a:cs typeface="Gulim"/>
              </a:rPr>
              <a:t>١٤٤٨/٠٢/١٦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618920" y="1052640"/>
            <a:ext cx="5761080" cy="1008000"/>
          </a:xfrm>
          <a:prstGeom prst="rect">
            <a:avLst/>
          </a:prstGeom>
          <a:solidFill>
            <a:srgbClr val="ffc285"/>
          </a:solidFill>
          <a:ln w="3492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  <a:ea typeface="Al-Mujahed Free"/>
              </a:rPr>
              <a:t>Factors to choose the Method of health education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1042920" y="2852640"/>
            <a:ext cx="71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  <a:ea typeface="Monotype Koufi"/>
              </a:rPr>
              <a:t>Resources availabl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AutoShape 6"/>
          <p:cNvSpPr/>
          <p:nvPr/>
        </p:nvSpPr>
        <p:spPr>
          <a:xfrm>
            <a:off x="5580000" y="3860640"/>
            <a:ext cx="1441440" cy="1368720"/>
          </a:xfrm>
          <a:prstGeom prst="roundRect">
            <a:avLst>
              <a:gd name="adj" fmla="val 16667"/>
            </a:avLst>
          </a:prstGeom>
          <a:solidFill>
            <a:srgbClr val="ffc285"/>
          </a:solidFill>
          <a:ln cap="sq" w="442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  <a:ea typeface="Bold Italic Art"/>
              </a:rPr>
              <a:t>Huma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2340000" y="3860640"/>
            <a:ext cx="1441440" cy="1368720"/>
          </a:xfrm>
          <a:prstGeom prst="roundRect">
            <a:avLst>
              <a:gd name="adj" fmla="val 16667"/>
            </a:avLst>
          </a:prstGeom>
          <a:solidFill>
            <a:srgbClr val="ffc285"/>
          </a:solidFill>
          <a:ln cap="sq" w="442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Bold Italic Art"/>
              </a:rPr>
              <a:t>Financial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  <a:ea typeface="Bold Italic Art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عنصر نائب للتاريخ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80C48-A76A-4DFE-BE0B-FD9BA5C41121}" type="datetime">
              <a:rPr b="0" lang="ar-SA" sz="1000" spc="-1" strike="noStrike">
                <a:solidFill>
                  <a:srgbClr val="000000"/>
                </a:solidFill>
                <a:latin typeface="Verdana"/>
                <a:cs typeface="Gulim"/>
              </a:rPr>
              <a:t>١٤٤٨/٠٢/١٦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618920" y="1052640"/>
            <a:ext cx="5545080" cy="1008000"/>
          </a:xfrm>
          <a:prstGeom prst="rect">
            <a:avLst/>
          </a:prstGeom>
          <a:solidFill>
            <a:srgbClr val="ffc285"/>
          </a:solidFill>
          <a:ln w="3492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  <a:ea typeface="Al-Mujahed Free"/>
              </a:rPr>
              <a:t>Factors to choose the Method of health education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1042920" y="2852640"/>
            <a:ext cx="71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  <a:ea typeface="Monotype Koufi"/>
              </a:rPr>
              <a:t>Appropriate Methods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4"/>
          <p:cNvSpPr/>
          <p:nvPr/>
        </p:nvSpPr>
        <p:spPr>
          <a:xfrm>
            <a:off x="5580000" y="3860640"/>
            <a:ext cx="1441440" cy="1368720"/>
          </a:xfrm>
          <a:prstGeom prst="roundRect">
            <a:avLst>
              <a:gd name="adj" fmla="val 16667"/>
            </a:avLst>
          </a:prstGeom>
          <a:solidFill>
            <a:srgbClr val="ffc285"/>
          </a:solidFill>
          <a:ln cap="sq" w="442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  <a:ea typeface="Bold Italic Art"/>
              </a:rPr>
              <a:t>Diversit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AutoShape 5"/>
          <p:cNvSpPr/>
          <p:nvPr/>
        </p:nvSpPr>
        <p:spPr>
          <a:xfrm>
            <a:off x="2340000" y="3860640"/>
            <a:ext cx="1441440" cy="1368720"/>
          </a:xfrm>
          <a:prstGeom prst="roundRect">
            <a:avLst>
              <a:gd name="adj" fmla="val 16667"/>
            </a:avLst>
          </a:prstGeom>
          <a:solidFill>
            <a:srgbClr val="ffc285"/>
          </a:solidFill>
          <a:ln cap="sq" w="442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  <a:ea typeface="Bold Italic Art"/>
              </a:rPr>
              <a:t>Repeti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5472000" y="5321160"/>
            <a:ext cx="165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h-moharram-bold"/>
              </a:rPr>
              <a:t>التسلية  و   التشوي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2144880" y="530064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h-moharram-bold"/>
              </a:rPr>
              <a:t>التذكر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عنصر نائب للتاريخ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0F71E-476D-43B2-90B9-95BF1E3AE196}" type="datetime">
              <a:rPr b="0" lang="ar-SA" sz="1000" spc="-1" strike="noStrike">
                <a:solidFill>
                  <a:srgbClr val="000000"/>
                </a:solidFill>
                <a:latin typeface="Verdana"/>
                <a:cs typeface="Gulim"/>
              </a:rPr>
              <a:t>١٤٤٨/٠٢/١٦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763640" y="1052640"/>
            <a:ext cx="5329440" cy="1008000"/>
          </a:xfrm>
          <a:prstGeom prst="rect">
            <a:avLst/>
          </a:prstGeom>
          <a:solidFill>
            <a:srgbClr val="ffc285"/>
          </a:solidFill>
          <a:ln w="3492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  <a:ea typeface="Al-Mujahed Free"/>
              </a:rPr>
              <a:t>Factors to choose the Method of health education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971640" y="253836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  <a:ea typeface="Monotype Koufi"/>
              </a:rPr>
              <a:t>The willingness of people to chang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1619280" y="3500280"/>
            <a:ext cx="5977080" cy="1068840"/>
          </a:xfrm>
          <a:prstGeom prst="rect">
            <a:avLst/>
          </a:prstGeom>
          <a:noFill/>
          <a:ln cap="sq"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  <a:ea typeface="Ah-moharram-bold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  <a:ea typeface="Ah-moharram-bold"/>
              </a:rPr>
              <a:t>Are ready for change: posters and leaflets enough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1258920" y="4653000"/>
            <a:ext cx="6842160" cy="1556280"/>
          </a:xfrm>
          <a:prstGeom prst="rect">
            <a:avLst/>
          </a:prstGeom>
          <a:noFill/>
          <a:ln cap="sq"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  <a:ea typeface="Ah-moharram-bold"/>
              </a:rPr>
              <a:t>They do not have to prepare for change: personal contact and home visi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0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عنصر نائب للتاريخ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C8958-6970-4206-8159-7B5D84EEBCEA}" type="datetime">
              <a:rPr b="0" lang="ar-SA" sz="1000" spc="-1" strike="noStrike">
                <a:solidFill>
                  <a:srgbClr val="000000"/>
                </a:solidFill>
                <a:latin typeface="Verdana"/>
                <a:cs typeface="Gulim"/>
              </a:rPr>
              <a:t>١٤٤٨/٠٢/١٦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23640" y="1052640"/>
            <a:ext cx="4969080" cy="1008000"/>
          </a:xfrm>
          <a:prstGeom prst="rect">
            <a:avLst/>
          </a:prstGeom>
          <a:solidFill>
            <a:srgbClr val="ffc285"/>
          </a:solidFill>
          <a:ln w="3492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  <a:ea typeface="Al-Mujahed Free"/>
              </a:rPr>
              <a:t>Type of health education methods</a:t>
            </a:r>
            <a:r>
              <a:rPr b="0" lang="en-US" sz="2800" spc="-1" strike="noStrike">
                <a:solidFill>
                  <a:srgbClr val="5c2305"/>
                </a:solidFill>
                <a:latin typeface="Verdana"/>
                <a:ea typeface="Al-Mujahed Free"/>
              </a:rPr>
              <a:t> 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971640" y="253836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  <a:ea typeface="Monotype Koufi"/>
              </a:rPr>
              <a:t>According to their impact on the sens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AutoShape 6"/>
          <p:cNvSpPr/>
          <p:nvPr/>
        </p:nvSpPr>
        <p:spPr>
          <a:xfrm>
            <a:off x="6443640" y="3357720"/>
            <a:ext cx="1800360" cy="2519280"/>
          </a:xfrm>
          <a:prstGeom prst="verticalScroll">
            <a:avLst>
              <a:gd name="adj" fmla="val 12500"/>
            </a:avLst>
          </a:prstGeom>
          <a:noFill/>
          <a:ln cap="sq"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800000"/>
                </a:solidFill>
                <a:uFillTx/>
                <a:latin typeface="Times New Roman"/>
                <a:ea typeface="Ah-moharram-bold"/>
              </a:rPr>
              <a:t>Audibl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Cassatt </a:t>
            </a:r>
            <a:r>
              <a:rPr b="1" lang="ar-SA" sz="24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Recorder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Radio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......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AutoShape 7"/>
          <p:cNvSpPr/>
          <p:nvPr/>
        </p:nvSpPr>
        <p:spPr>
          <a:xfrm>
            <a:off x="3967200" y="3357720"/>
            <a:ext cx="2448000" cy="2519280"/>
          </a:xfrm>
          <a:prstGeom prst="verticalScroll">
            <a:avLst>
              <a:gd name="adj" fmla="val 12500"/>
            </a:avLst>
          </a:prstGeom>
          <a:noFill/>
          <a:ln cap="sq"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800000"/>
                </a:solidFill>
                <a:uFillTx/>
                <a:latin typeface="Times New Roman"/>
                <a:ea typeface="Ah-moharram-bold"/>
              </a:rPr>
              <a:t>Rea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Bulleti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Brochur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Post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SM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Exhibitions ..</a:t>
            </a:r>
            <a:r>
              <a:rPr b="1" lang="ar-SA" sz="24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AutoShape 8"/>
          <p:cNvSpPr/>
          <p:nvPr/>
        </p:nvSpPr>
        <p:spPr>
          <a:xfrm>
            <a:off x="468360" y="3357720"/>
            <a:ext cx="3095640" cy="2519280"/>
          </a:xfrm>
          <a:prstGeom prst="verticalScroll">
            <a:avLst>
              <a:gd name="adj" fmla="val 12500"/>
            </a:avLst>
          </a:prstGeom>
          <a:noFill/>
          <a:ln cap="sq"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800000"/>
                </a:solidFill>
                <a:uFillTx/>
                <a:latin typeface="Times New Roman"/>
                <a:ea typeface="Ah-moharram-bold"/>
              </a:rPr>
              <a:t>Audio-visua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TV and vide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Computer softwa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Interview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Semina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Bluetooth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0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عنصر نائب للتاريخ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5F92F-5A62-48ED-B740-98AD0AD153FF}" type="datetime">
              <a:rPr b="0" lang="ar-SA" sz="1000" spc="-1" strike="noStrike">
                <a:solidFill>
                  <a:srgbClr val="000000"/>
                </a:solidFill>
                <a:latin typeface="Verdana"/>
                <a:cs typeface="Gulim"/>
              </a:rPr>
              <a:t>١٤٤٨/٠٢/١٦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23640" y="1052640"/>
            <a:ext cx="4969080" cy="1008000"/>
          </a:xfrm>
          <a:prstGeom prst="rect">
            <a:avLst/>
          </a:prstGeom>
          <a:solidFill>
            <a:srgbClr val="ffc285"/>
          </a:solidFill>
          <a:ln w="3492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c2305"/>
                </a:solidFill>
                <a:latin typeface="Verdana"/>
                <a:cs typeface="Al-Mujahed Free"/>
              </a:rPr>
              <a:t>تقسيم وسائل التثقيف الصحي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971640" y="253836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  <a:ea typeface="Monotype Koufi"/>
              </a:rPr>
              <a:t>According contact with targe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AutoShape 4"/>
          <p:cNvSpPr/>
          <p:nvPr/>
        </p:nvSpPr>
        <p:spPr>
          <a:xfrm>
            <a:off x="6443640" y="3357720"/>
            <a:ext cx="2232000" cy="2519280"/>
          </a:xfrm>
          <a:prstGeom prst="verticalScroll">
            <a:avLst>
              <a:gd name="adj" fmla="val 12500"/>
            </a:avLst>
          </a:prstGeom>
          <a:noFill/>
          <a:ln cap="sq"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800000"/>
                </a:solidFill>
                <a:uFillTx/>
                <a:latin typeface="Times New Roman"/>
                <a:ea typeface="Ah-moharram-bold"/>
              </a:rPr>
              <a:t>Direc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Lectur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Semina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Dialog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Convers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AutoShape 5"/>
          <p:cNvSpPr/>
          <p:nvPr/>
        </p:nvSpPr>
        <p:spPr>
          <a:xfrm>
            <a:off x="3708360" y="3357720"/>
            <a:ext cx="2592360" cy="2519280"/>
          </a:xfrm>
          <a:prstGeom prst="verticalScroll">
            <a:avLst>
              <a:gd name="adj" fmla="val 12500"/>
            </a:avLst>
          </a:prstGeom>
          <a:noFill/>
          <a:ln cap="sq"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800000"/>
                </a:solidFill>
                <a:uFillTx/>
                <a:latin typeface="Times New Roman"/>
                <a:ea typeface="Ah-moharram-bold"/>
              </a:rPr>
              <a:t>Indirec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Radi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TV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Newspap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Publica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Interne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AutoShape 6"/>
          <p:cNvSpPr/>
          <p:nvPr/>
        </p:nvSpPr>
        <p:spPr>
          <a:xfrm>
            <a:off x="755640" y="3357720"/>
            <a:ext cx="2808360" cy="2519280"/>
          </a:xfrm>
          <a:prstGeom prst="verticalScroll">
            <a:avLst>
              <a:gd name="adj" fmla="val 12500"/>
            </a:avLst>
          </a:prstGeom>
          <a:noFill/>
          <a:ln cap="sq"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800000"/>
                </a:solidFill>
                <a:uFillTx/>
                <a:latin typeface="Times New Roman"/>
                <a:ea typeface="Ah-moharram-bold"/>
              </a:rPr>
              <a:t>Both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Using teaching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aid from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indirect i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direct methods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0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عنصر نائب للتاريخ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33491-D2D3-4722-86DB-EAE19DA8AA99}" type="datetime">
              <a:rPr b="0" lang="ar-SA" sz="1000" spc="-1" strike="noStrike">
                <a:solidFill>
                  <a:srgbClr val="000000"/>
                </a:solidFill>
                <a:latin typeface="Verdana"/>
                <a:cs typeface="Gulim"/>
              </a:rPr>
              <a:t>١٤٤٨/٠٢/١٦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23640" y="1052640"/>
            <a:ext cx="4969080" cy="1008000"/>
          </a:xfrm>
          <a:prstGeom prst="rect">
            <a:avLst/>
          </a:prstGeom>
          <a:solidFill>
            <a:srgbClr val="ffc285"/>
          </a:solidFill>
          <a:ln w="3492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  <a:ea typeface="Al-Mujahed Free"/>
              </a:rPr>
              <a:t>A Methods of health education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4859280" y="242100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  <a:ea typeface="Monotype Koufi"/>
              </a:rPr>
              <a:t>Poster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4716360" y="3284640"/>
            <a:ext cx="3816360" cy="2592360"/>
          </a:xfrm>
          <a:prstGeom prst="rect">
            <a:avLst/>
          </a:prstGeom>
          <a:solidFill>
            <a:srgbClr val="ffc285">
              <a:alpha val="80000"/>
            </a:srgbClr>
          </a:solidFill>
          <a:ln cap="sq"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Paper plates and larg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 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Blogger Words and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Pictures  Carrying a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message in a languag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Simplified and concise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h-moharram-bold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Picture 12" descr="FAMILY"/>
          <p:cNvPicPr/>
          <p:nvPr/>
        </p:nvPicPr>
        <p:blipFill>
          <a:blip r:embed="rId1"/>
          <a:stretch/>
        </p:blipFill>
        <p:spPr>
          <a:xfrm>
            <a:off x="1908000" y="2565360"/>
            <a:ext cx="224820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0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عنصر نائب للتاريخ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9AB91-7138-46B9-8310-787FB99FE5B8}" type="datetime">
              <a:rPr b="0" lang="ar-SA" sz="1000" spc="-1" strike="noStrike">
                <a:solidFill>
                  <a:srgbClr val="000000"/>
                </a:solidFill>
                <a:latin typeface="Verdana"/>
                <a:cs typeface="Gulim"/>
              </a:rPr>
              <a:t>١٤٤٨/٠٢/١٦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123640" y="1052640"/>
            <a:ext cx="4969080" cy="1008000"/>
          </a:xfrm>
          <a:prstGeom prst="rect">
            <a:avLst/>
          </a:prstGeom>
          <a:solidFill>
            <a:srgbClr val="ffc285"/>
          </a:solidFill>
          <a:ln w="3492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  <a:ea typeface="Al-Mujahed Free"/>
              </a:rPr>
              <a:t>A Methods of health education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2556000" y="219240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  <a:ea typeface="Monotype Koufi"/>
              </a:rPr>
              <a:t>Brochure or newsletter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3995640" y="3097080"/>
            <a:ext cx="4537080" cy="2138400"/>
          </a:xfrm>
          <a:prstGeom prst="rect">
            <a:avLst/>
          </a:prstGeom>
          <a:solidFill>
            <a:srgbClr val="ffc285">
              <a:alpha val="80000"/>
            </a:srgbClr>
          </a:solidFill>
          <a:ln cap="sq"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Means contain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Informa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In the form of guidanc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 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Or pictures with cap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Picture 6" descr="img06"/>
          <p:cNvPicPr/>
          <p:nvPr/>
        </p:nvPicPr>
        <p:blipFill>
          <a:blip r:embed="rId1"/>
          <a:stretch/>
        </p:blipFill>
        <p:spPr>
          <a:xfrm>
            <a:off x="550800" y="2997360"/>
            <a:ext cx="3144960" cy="22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0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5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عنصر نائب للتاريخ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CC568-C9BB-4458-8AB1-5D13D7FD7CF1}" type="datetime">
              <a:rPr b="0" lang="ar-SA" sz="1000" spc="-1" strike="noStrike">
                <a:solidFill>
                  <a:srgbClr val="000000"/>
                </a:solidFill>
                <a:latin typeface="Verdana"/>
                <a:cs typeface="Gulim"/>
              </a:rPr>
              <a:t>١٤٤٨/٠٢/١٦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123640" y="1052640"/>
            <a:ext cx="4969080" cy="1008000"/>
          </a:xfrm>
          <a:prstGeom prst="rect">
            <a:avLst/>
          </a:prstGeom>
          <a:solidFill>
            <a:srgbClr val="ffc285"/>
          </a:solidFill>
          <a:ln w="3492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  <a:ea typeface="Al-Mujahed Free"/>
              </a:rPr>
              <a:t>A Methods of health education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4211640" y="2421000"/>
            <a:ext cx="41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  <a:ea typeface="Monotype Koufi"/>
              </a:rPr>
              <a:t>Brochur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4356000" y="3284640"/>
            <a:ext cx="2951280" cy="2592360"/>
          </a:xfrm>
          <a:prstGeom prst="rect">
            <a:avLst/>
          </a:prstGeom>
          <a:solidFill>
            <a:srgbClr val="ffc285">
              <a:alpha val="80000"/>
            </a:srgbClr>
          </a:solidFill>
          <a:ln cap="sq"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Small book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Contai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 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Guidelin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Directe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 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A limited clas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Picture 5" descr="الدليل 1"/>
          <p:cNvPicPr/>
          <p:nvPr/>
        </p:nvPicPr>
        <p:blipFill>
          <a:blip r:embed="rId1"/>
          <a:stretch/>
        </p:blipFill>
        <p:spPr>
          <a:xfrm>
            <a:off x="1979640" y="3284640"/>
            <a:ext cx="1496880" cy="213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عنصر نائب للتاريخ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15640" y="1125360"/>
            <a:ext cx="6985080" cy="935280"/>
          </a:xfrm>
          <a:prstGeom prst="rect">
            <a:avLst/>
          </a:prstGeom>
          <a:solidFill>
            <a:srgbClr val="ffc285"/>
          </a:solidFill>
          <a:ln w="3492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c2305"/>
                </a:solidFill>
                <a:latin typeface="Verdana"/>
              </a:rPr>
              <a:t>Definition of health education</a:t>
            </a:r>
            <a:r>
              <a:rPr b="1" lang="en-US" sz="3200" spc="-1" strike="noStrike">
                <a:solidFill>
                  <a:srgbClr val="5c2305"/>
                </a:solidFill>
                <a:latin typeface="Verdana"/>
              </a:rPr>
              <a:t>: </a:t>
            </a:r>
            <a:endParaRPr b="0" lang="en-US" sz="3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755640" y="2708280"/>
            <a:ext cx="7921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tal activities aimed to providing skills by improving health knowledge and building trends and instill healthy behaviors of the individual and societ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عنصر نائب للتاريخ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9195F-27C2-4879-99CF-1E52145B68A4}" type="datetime">
              <a:rPr b="0" lang="ar-SA" sz="1000" spc="-1" strike="noStrike">
                <a:solidFill>
                  <a:srgbClr val="000000"/>
                </a:solidFill>
                <a:latin typeface="Verdana"/>
                <a:cs typeface="Gulim"/>
              </a:rPr>
              <a:t>١٤٤٨/٠٢/١٦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123640" y="1052640"/>
            <a:ext cx="4969080" cy="1008000"/>
          </a:xfrm>
          <a:prstGeom prst="rect">
            <a:avLst/>
          </a:prstGeom>
          <a:solidFill>
            <a:srgbClr val="ffc285"/>
          </a:solidFill>
          <a:ln w="3492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  <a:ea typeface="Al-Mujahed Free"/>
              </a:rPr>
              <a:t>A Methods of health education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4211640" y="2421000"/>
            <a:ext cx="41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  <a:ea typeface="Monotype Koufi"/>
              </a:rPr>
              <a:t>Dump painting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4"/>
          <p:cNvSpPr/>
          <p:nvPr/>
        </p:nvSpPr>
        <p:spPr>
          <a:xfrm>
            <a:off x="4716360" y="3284640"/>
            <a:ext cx="3024360" cy="2232000"/>
          </a:xfrm>
          <a:prstGeom prst="rect">
            <a:avLst/>
          </a:prstGeom>
          <a:solidFill>
            <a:srgbClr val="ffc285">
              <a:alpha val="80000"/>
            </a:srgbClr>
          </a:solidFill>
          <a:ln cap="sq"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Paper pag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Picture 7" descr="af196a23"/>
          <p:cNvPicPr/>
          <p:nvPr/>
        </p:nvPicPr>
        <p:blipFill>
          <a:blip r:embed="rId1"/>
          <a:stretch/>
        </p:blipFill>
        <p:spPr>
          <a:xfrm>
            <a:off x="1074600" y="2205000"/>
            <a:ext cx="2633760" cy="36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0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عنصر نائب للتاريخ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2CF77-C5B4-40A3-9573-0830923F540C}" type="datetime">
              <a:rPr b="0" lang="ar-SA" sz="1000" spc="-1" strike="noStrike">
                <a:solidFill>
                  <a:srgbClr val="000000"/>
                </a:solidFill>
                <a:latin typeface="Verdana"/>
                <a:cs typeface="Gulim"/>
              </a:rPr>
              <a:t>١٤٤٨/٠٢/١٦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solidFill>
            <a:srgbClr val="ffc285"/>
          </a:solidFill>
          <a:ln w="3492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  <a:ea typeface="Al-Mujahed Free"/>
              </a:rPr>
              <a:t>A Methods of health education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3348000" y="2413080"/>
            <a:ext cx="41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  <a:ea typeface="Monotype Koufi"/>
              </a:rPr>
              <a:t>Video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4"/>
          <p:cNvSpPr/>
          <p:nvPr/>
        </p:nvSpPr>
        <p:spPr>
          <a:xfrm>
            <a:off x="2843280" y="3284640"/>
            <a:ext cx="5761080" cy="2089080"/>
          </a:xfrm>
          <a:prstGeom prst="rect">
            <a:avLst/>
          </a:prstGeom>
          <a:solidFill>
            <a:srgbClr val="ffc285">
              <a:alpha val="80000"/>
            </a:srgbClr>
          </a:solidFill>
          <a:ln cap="sq"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Includes material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It must be educationa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Followed by a discuss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5" descr="غلاف شريط الفيديو">
            <a:hlinkClick r:id="rId1"/>
          </p:cNvPr>
          <p:cNvPicPr/>
          <p:nvPr/>
        </p:nvPicPr>
        <p:blipFill>
          <a:blip r:embed="rId2"/>
          <a:stretch/>
        </p:blipFill>
        <p:spPr>
          <a:xfrm rot="1225800">
            <a:off x="1042560" y="3618000"/>
            <a:ext cx="1154160" cy="2016000"/>
          </a:xfrm>
          <a:prstGeom prst="rect">
            <a:avLst/>
          </a:prstGeom>
          <a:ln w="9360">
            <a:solidFill>
              <a:srgbClr val="868686"/>
            </a:solidFill>
            <a:miter/>
          </a:ln>
          <a:effectLst>
            <a:outerShdw dist="107932" dir="8100000" blurRad="0" rotWithShape="0">
              <a:srgbClr val="868686">
                <a:alpha val="50000"/>
              </a:srgbClr>
            </a:outerShdw>
          </a:effectLst>
        </p:spPr>
      </p:pic>
      <p:pic>
        <p:nvPicPr>
          <p:cNvPr id="270" name="كشك السجائر.mpg" descr=""/>
          <p:cNvPicPr/>
          <p:nvPr/>
        </p:nvPicPr>
        <p:blipFill>
          <a:blip r:embed="rId3"/>
          <a:stretch/>
        </p:blipFill>
        <p:spPr>
          <a:xfrm>
            <a:off x="900000" y="2230560"/>
            <a:ext cx="1440000" cy="108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0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7" dur="1" fill="hold"/>
                                        <p:tgtEl>
                                          <p:spTgt spid="2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عنصر نائب للتاريخ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770FD-C4A5-4DC6-B079-3195230A2A4F}" type="datetime">
              <a:rPr b="0" lang="ar-SA" sz="1000" spc="-1" strike="noStrike">
                <a:solidFill>
                  <a:srgbClr val="000000"/>
                </a:solidFill>
                <a:latin typeface="Verdana"/>
                <a:cs typeface="Gulim"/>
              </a:rPr>
              <a:t>١٤٤٨/٠٢/١٦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123640" y="1052640"/>
            <a:ext cx="4969080" cy="1008000"/>
          </a:xfrm>
          <a:prstGeom prst="rect">
            <a:avLst/>
          </a:prstGeom>
          <a:solidFill>
            <a:srgbClr val="ffc285"/>
          </a:solidFill>
          <a:ln w="3492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  <a:ea typeface="Al-Mujahed Free"/>
              </a:rPr>
              <a:t>A Methods of health education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4211640" y="242100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  <a:ea typeface="Monotype Koufi"/>
              </a:rPr>
              <a:t>Mode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4211640" y="3284640"/>
            <a:ext cx="4464000" cy="2592360"/>
          </a:xfrm>
          <a:prstGeom prst="rect">
            <a:avLst/>
          </a:prstGeom>
          <a:solidFill>
            <a:srgbClr val="ffc285">
              <a:alpha val="80000"/>
            </a:srgbClr>
          </a:solidFill>
          <a:ln cap="sq"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Three dimens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Exposure concep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 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Actually use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To clarify the installa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And func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Picture 5" descr="Image029"/>
          <p:cNvPicPr/>
          <p:nvPr/>
        </p:nvPicPr>
        <p:blipFill>
          <a:blip r:embed="rId1"/>
          <a:srcRect l="13483" t="21669" r="38865" b="25693"/>
          <a:stretch/>
        </p:blipFill>
        <p:spPr>
          <a:xfrm>
            <a:off x="684360" y="2746440"/>
            <a:ext cx="3311280" cy="244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8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3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عنصر نائب للتاريخ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0C3A6-4A2C-4AF0-A211-EDA0BF60FF55}" type="datetime">
              <a:rPr b="0" lang="ar-SA" sz="1000" spc="-1" strike="noStrike">
                <a:solidFill>
                  <a:srgbClr val="000000"/>
                </a:solidFill>
                <a:latin typeface="Verdana"/>
                <a:cs typeface="Gulim"/>
              </a:rPr>
              <a:t>١٤٤٨/٠٢/١٦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123640" y="1052640"/>
            <a:ext cx="4969080" cy="1008000"/>
          </a:xfrm>
          <a:prstGeom prst="rect">
            <a:avLst/>
          </a:prstGeom>
          <a:solidFill>
            <a:srgbClr val="ffc285"/>
          </a:solidFill>
          <a:ln w="3492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  <a:ea typeface="Al-Mujahed Free"/>
              </a:rPr>
              <a:t>A Methods of health education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2340000" y="2421000"/>
            <a:ext cx="59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  <a:ea typeface="Monotype Koufi"/>
              </a:rPr>
              <a:t>Projectors slides and transparenci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3708360" y="2997360"/>
            <a:ext cx="4967280" cy="2879640"/>
          </a:xfrm>
          <a:prstGeom prst="rect">
            <a:avLst/>
          </a:prstGeom>
          <a:solidFill>
            <a:srgbClr val="ffc285">
              <a:alpha val="80000"/>
            </a:srgbClr>
          </a:solidFill>
          <a:ln cap="sq"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Monito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 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Over the hea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The hardware and softwar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PC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  <a:ea typeface="Ah-moharram-bold"/>
              </a:rPr>
              <a:t>(PowerPoint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Picture 9" descr="http://www.tmac.org/blog/wp-content/uploads/2011/09/blog_powerpoint11.jpg"/>
          <p:cNvPicPr/>
          <p:nvPr/>
        </p:nvPicPr>
        <p:blipFill>
          <a:blip r:embed="rId1"/>
          <a:stretch/>
        </p:blipFill>
        <p:spPr>
          <a:xfrm>
            <a:off x="546120" y="2997360"/>
            <a:ext cx="2952720" cy="291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0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عنصر نائب للتاريخ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A8B8B-A4FE-48D1-A467-1412EB753411}" type="datetime">
              <a:rPr b="0" lang="ar-SA" sz="1000" spc="-1" strike="noStrike">
                <a:solidFill>
                  <a:srgbClr val="000000"/>
                </a:solidFill>
                <a:latin typeface="Verdana"/>
                <a:cs typeface="Gulim"/>
              </a:rPr>
              <a:t>١٤٤٨/٠٢/١٦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1332000" y="2708280"/>
            <a:ext cx="6624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c2305"/>
                </a:solidFill>
                <a:latin typeface="Hacen Liner XL"/>
                <a:ea typeface="Monotype Koufi"/>
              </a:rPr>
              <a:t>Teaching method involve learners in the learning process and encourages them to think about what they are learning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1114560" y="836640"/>
            <a:ext cx="7057800" cy="1368360"/>
          </a:xfrm>
          <a:prstGeom prst="rect">
            <a:avLst/>
          </a:prstGeom>
          <a:solidFill>
            <a:srgbClr val="ffc285"/>
          </a:solidFill>
          <a:ln w="349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99000"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  <a:ea typeface="Al-Mujahed Free"/>
              </a:rPr>
              <a:t>Health education methods </a:t>
            </a:r>
            <a:br>
              <a:rPr sz="2800"/>
            </a:br>
            <a:br>
              <a:rPr sz="2800"/>
            </a:br>
            <a:r>
              <a:rPr b="0" lang="en-US" sz="2800" spc="-1" strike="noStrike" u="sng">
                <a:solidFill>
                  <a:srgbClr val="5c2305"/>
                </a:solidFill>
                <a:uFillTx/>
                <a:latin typeface="Verdana"/>
                <a:ea typeface="Al-Mujahed Free"/>
              </a:rPr>
              <a:t>Active learning Defini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عنصر نائب للتاريخ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02F31-30C4-4C05-900E-81FEC9F6C597}" type="datetime">
              <a:rPr b="0" lang="ar-SA" sz="1000" spc="-1" strike="noStrike">
                <a:solidFill>
                  <a:srgbClr val="000000"/>
                </a:solidFill>
                <a:latin typeface="Verdana"/>
                <a:cs typeface="Gulim"/>
              </a:rPr>
              <a:t>١٤٤٨/٠٢/١٦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pic>
        <p:nvPicPr>
          <p:cNvPr id="286" name="Picture 2" descr=""/>
          <p:cNvPicPr/>
          <p:nvPr/>
        </p:nvPicPr>
        <p:blipFill>
          <a:blip r:embed="rId1"/>
          <a:stretch/>
        </p:blipFill>
        <p:spPr>
          <a:xfrm>
            <a:off x="0" y="-49320"/>
            <a:ext cx="9144000" cy="695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عنصر نائب للتاريخ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6CB5C-D93E-4D1D-8234-A34476147691}" type="datetime">
              <a:rPr b="0" lang="ar-SA" sz="1000" spc="-1" strike="noStrike">
                <a:solidFill>
                  <a:srgbClr val="000000"/>
                </a:solidFill>
                <a:latin typeface="Verdana"/>
                <a:cs typeface="Gulim"/>
              </a:rPr>
              <a:t>١٤٤٨/٠٢/١٦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484000" y="1125360"/>
            <a:ext cx="4319640" cy="935280"/>
          </a:xfrm>
          <a:prstGeom prst="rect">
            <a:avLst/>
          </a:prstGeom>
          <a:solidFill>
            <a:srgbClr val="ffc285"/>
          </a:solidFill>
          <a:ln w="3492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  <a:ea typeface="Al-Mujahed Free"/>
              </a:rPr>
              <a:t>Role of the learner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1332000" y="2205000"/>
            <a:ext cx="662472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c2305"/>
                </a:solidFill>
                <a:latin typeface="Hacen Liner XL"/>
                <a:ea typeface="Monotype Koufi"/>
              </a:rPr>
              <a:t>Ask question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c2305"/>
                </a:solidFill>
                <a:latin typeface="Hacen Liner XL"/>
                <a:ea typeface="Monotype Koufi"/>
              </a:rPr>
              <a:t>Debate (Conversation)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c2305"/>
                </a:solidFill>
                <a:latin typeface="Hacen Liner XL"/>
                <a:ea typeface="Monotype Koufi"/>
              </a:rPr>
              <a:t>Search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c2305"/>
                </a:solidFill>
                <a:latin typeface="Hacen Liner XL"/>
                <a:ea typeface="Monotype Koufi"/>
              </a:rPr>
              <a:t>Experimentati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عنصر نائب للتاريخ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7D7AF-2E5B-4D2F-904C-6869A04B1B69}" type="datetime">
              <a:rPr b="0" lang="ar-SA" sz="1000" spc="-1" strike="noStrike">
                <a:solidFill>
                  <a:srgbClr val="000000"/>
                </a:solidFill>
                <a:latin typeface="Verdana"/>
                <a:cs typeface="Gulim"/>
              </a:rPr>
              <a:t>١٤٤٨/٠٢/١٦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84000" y="1125360"/>
            <a:ext cx="4319640" cy="935280"/>
          </a:xfrm>
          <a:prstGeom prst="rect">
            <a:avLst/>
          </a:prstGeom>
          <a:solidFill>
            <a:srgbClr val="ffc285"/>
          </a:solidFill>
          <a:ln w="3492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  <a:ea typeface="Al-Mujahed Free"/>
              </a:rPr>
              <a:t>The role of the teacher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1332000" y="2205000"/>
            <a:ext cx="6624720" cy="44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c2305"/>
                </a:solidFill>
                <a:latin typeface="Hacen Liner XL"/>
                <a:ea typeface="Monotype Koufi"/>
              </a:rPr>
              <a:t>Direct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c2305"/>
                </a:solidFill>
                <a:latin typeface="Hacen Liner XL"/>
                <a:ea typeface="Monotype Koufi"/>
              </a:rPr>
              <a:t>Instruct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c2305"/>
                </a:solidFill>
                <a:latin typeface="Hacen Liner XL"/>
                <a:ea typeface="Monotype Koufi"/>
              </a:rPr>
              <a:t>Easy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c2305"/>
                </a:solidFill>
                <a:latin typeface="Hacen Liner XL"/>
                <a:ea typeface="Monotype Koufi"/>
              </a:rPr>
              <a:t>Manages the educational situati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0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عنصر نائب للتاريخ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B1F2C-C44B-4A7C-B8EE-8000468C2886}" type="datetime">
              <a:rPr b="0" lang="ar-SA" sz="1000" spc="-1" strike="noStrike">
                <a:solidFill>
                  <a:srgbClr val="000000"/>
                </a:solidFill>
                <a:latin typeface="Verdana"/>
                <a:cs typeface="Gulim"/>
              </a:rPr>
              <a:t>١٤٤٨/٠٢/١٦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484000" y="1125360"/>
            <a:ext cx="4319640" cy="935280"/>
          </a:xfrm>
          <a:prstGeom prst="rect">
            <a:avLst/>
          </a:prstGeom>
          <a:solidFill>
            <a:srgbClr val="ffc285"/>
          </a:solidFill>
          <a:ln w="3492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  <a:ea typeface="Al-Mujahed Free"/>
              </a:rPr>
              <a:t>Advantage of active learning methods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95" name="Text Box 3"/>
          <p:cNvSpPr/>
          <p:nvPr/>
        </p:nvSpPr>
        <p:spPr>
          <a:xfrm>
            <a:off x="1332000" y="2133720"/>
            <a:ext cx="662472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c2305"/>
                </a:solidFill>
                <a:latin typeface="Hacen Liner XL"/>
                <a:ea typeface="Monotype Koufi"/>
              </a:rPr>
              <a:t>Catalys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c2305"/>
                </a:solidFill>
                <a:latin typeface="Hacen Liner XL"/>
                <a:ea typeface="Monotype Koufi"/>
              </a:rPr>
              <a:t>Helps absorpt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c2305"/>
                </a:solidFill>
                <a:latin typeface="Hacen Liner XL"/>
                <a:ea typeface="Monotype Koufi"/>
              </a:rPr>
              <a:t>Develop skil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c2305"/>
                </a:solidFill>
                <a:latin typeface="Hacen Liner XL"/>
                <a:ea typeface="Monotype Koufi"/>
              </a:rPr>
              <a:t>Creates interact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c2305"/>
                </a:solidFill>
                <a:latin typeface="Hacen Liner XL"/>
                <a:ea typeface="Monotype Koufi"/>
              </a:rPr>
              <a:t>Fosters teamwork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0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عنصر نائب للتاريخ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1EF8D-39A4-4966-8FFB-7C18267D87C5}" type="datetime">
              <a:rPr b="0" lang="ar-SA" sz="1000" spc="-1" strike="noStrike">
                <a:solidFill>
                  <a:srgbClr val="000000"/>
                </a:solidFill>
                <a:latin typeface="Verdana"/>
                <a:cs typeface="Gulim"/>
              </a:rPr>
              <a:t>١٤٤٨/٠٢/١٦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84000" y="1125360"/>
            <a:ext cx="4319640" cy="935280"/>
          </a:xfrm>
          <a:prstGeom prst="rect">
            <a:avLst/>
          </a:prstGeom>
          <a:solidFill>
            <a:srgbClr val="ffc285"/>
          </a:solidFill>
          <a:ln w="3492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  <a:ea typeface="Al-Mujahed Free"/>
              </a:rPr>
              <a:t>Active teaching methods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826920" y="2565360"/>
            <a:ext cx="3961080" cy="10688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Hacen Liner XL"/>
                <a:ea typeface="Monotype Koufi"/>
              </a:rPr>
              <a:t>Problem-solving metho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1476360" y="3271680"/>
            <a:ext cx="6265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Times New Roman"/>
                <a:ea typeface="Monotype Koufi"/>
              </a:rPr>
              <a:t>Take steps able to discover information that leads to solve a proble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0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عنصر نائب للتاريخ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92E81-90DE-40CC-AE8D-21BC8247C05C}" type="datetime">
              <a:rPr b="0" lang="ar-SA" sz="1000" spc="-1" strike="noStrike">
                <a:solidFill>
                  <a:srgbClr val="000000"/>
                </a:solidFill>
                <a:latin typeface="Verdana"/>
                <a:cs typeface="Gulim"/>
              </a:rPr>
              <a:t>١٤٤٨/٠٢/١٦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6120000" cy="1008360"/>
          </a:xfrm>
          <a:prstGeom prst="rect">
            <a:avLst/>
          </a:prstGeom>
          <a:solidFill>
            <a:srgbClr val="ffc285"/>
          </a:solidFill>
          <a:ln w="3492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c2305"/>
                </a:solidFill>
                <a:latin typeface="Verdana"/>
              </a:rPr>
              <a:t>Concepts in health education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2411280" y="3500280"/>
            <a:ext cx="4608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nect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ngoing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"/>
          <p:cNvSpPr/>
          <p:nvPr/>
        </p:nvSpPr>
        <p:spPr>
          <a:xfrm>
            <a:off x="673920" y="2247840"/>
            <a:ext cx="6880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Health education process is: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عنصر نائب للتاريخ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6FAE2-DE37-4A8D-83F2-485FCF2A8BC1}" type="datetime">
              <a:rPr b="0" lang="ar-SA" sz="1000" spc="-1" strike="noStrike">
                <a:solidFill>
                  <a:srgbClr val="000000"/>
                </a:solidFill>
                <a:latin typeface="Verdana"/>
                <a:cs typeface="Gulim"/>
              </a:rPr>
              <a:t>١٤٤٨/٠٢/١٦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484000" y="1125360"/>
            <a:ext cx="4319640" cy="935280"/>
          </a:xfrm>
          <a:prstGeom prst="rect">
            <a:avLst/>
          </a:prstGeom>
          <a:solidFill>
            <a:srgbClr val="ffc285"/>
          </a:solidFill>
          <a:ln w="3492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  <a:ea typeface="Al-Mujahed Free"/>
              </a:rPr>
              <a:t>Active teaching methods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900000" y="2219400"/>
            <a:ext cx="3816360" cy="10688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Hacen Liner XL"/>
                <a:ea typeface="Monotype Koufi"/>
              </a:rPr>
              <a:t>Problem-solving metho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1401840" y="2921040"/>
            <a:ext cx="62658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749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imes New Roman"/>
                <a:ea typeface="Monotype Koufi"/>
              </a:rPr>
              <a:t>Defining the problem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imes New Roman"/>
                <a:ea typeface="Monotype Koufi"/>
              </a:rPr>
              <a:t>Develop theories about solu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imes New Roman"/>
                <a:ea typeface="Monotype Koufi"/>
              </a:rPr>
              <a:t>Data collec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imes New Roman"/>
                <a:ea typeface="Monotype Koufi"/>
              </a:rPr>
              <a:t>Propose solu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imes New Roman"/>
                <a:ea typeface="Monotype Koufi"/>
              </a:rPr>
              <a:t>Validate the solu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0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3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عنصر نائب للتاريخ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DE575-9A65-413C-BD87-301D861D1C56}" type="datetime">
              <a:rPr b="0" lang="ar-SA" sz="1000" spc="-1" strike="noStrike">
                <a:solidFill>
                  <a:srgbClr val="000000"/>
                </a:solidFill>
                <a:latin typeface="Verdana"/>
                <a:cs typeface="Gulim"/>
              </a:rPr>
              <a:t>١٤٤٨/٠٢/١٦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484000" y="1125360"/>
            <a:ext cx="4319640" cy="935280"/>
          </a:xfrm>
          <a:prstGeom prst="rect">
            <a:avLst/>
          </a:prstGeom>
          <a:solidFill>
            <a:srgbClr val="ffc285"/>
          </a:solidFill>
          <a:ln w="3492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  <a:ea typeface="Al-Mujahed Free"/>
              </a:rPr>
              <a:t>Active teaching methods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826920" y="2492280"/>
            <a:ext cx="3168720" cy="5814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Hacen Liner XL"/>
                <a:ea typeface="Monotype Koufi"/>
              </a:rPr>
              <a:t>Brainstorm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1403280" y="3213000"/>
            <a:ext cx="6265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  <a:ea typeface="Monotype Koufi"/>
              </a:rPr>
              <a:t>Develop the ability to discuss various alternatives to solve a problem and the selection of the most appropriate on the basis of objectiv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0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4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عنصر نائب للتاريخ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39C78-4A9F-4C56-8A4F-FBDAF6FCA1CE}" type="datetime">
              <a:rPr b="0" lang="ar-SA" sz="1000" spc="-1" strike="noStrike">
                <a:solidFill>
                  <a:srgbClr val="000000"/>
                </a:solidFill>
                <a:latin typeface="Verdana"/>
                <a:cs typeface="Gulim"/>
              </a:rPr>
              <a:t>١٤٤٨/٠٢/١٦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84000" y="1125360"/>
            <a:ext cx="4319640" cy="935280"/>
          </a:xfrm>
          <a:prstGeom prst="rect">
            <a:avLst/>
          </a:prstGeom>
          <a:solidFill>
            <a:srgbClr val="ffc285"/>
          </a:solidFill>
          <a:ln w="3492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  <a:ea typeface="Al-Mujahed Free"/>
              </a:rPr>
              <a:t>Active teaching methods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900000" y="2492280"/>
            <a:ext cx="2664000" cy="10688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Hacen Liner XL"/>
                <a:ea typeface="Monotype Koufi"/>
              </a:rPr>
              <a:t>Brainstorm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468360" y="3141720"/>
            <a:ext cx="828036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624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3300"/>
                </a:solidFill>
                <a:latin typeface="Times New Roman"/>
                <a:ea typeface="Monotype Koufi"/>
              </a:rPr>
              <a:t>Define the problem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624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3300"/>
                </a:solidFill>
                <a:latin typeface="Times New Roman"/>
                <a:ea typeface="Monotype Koufi"/>
              </a:rPr>
              <a:t>Registration of all students' opinion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624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3300"/>
                </a:solidFill>
                <a:latin typeface="Times New Roman"/>
                <a:ea typeface="Monotype Koufi"/>
              </a:rPr>
              <a:t>Not express any criticism of idea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624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3300"/>
                </a:solidFill>
                <a:latin typeface="Times New Roman"/>
                <a:ea typeface="Monotype Koufi"/>
              </a:rPr>
              <a:t>Discuss ideas and solutions exclusion is appropriate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624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3300"/>
                </a:solidFill>
                <a:latin typeface="Times New Roman"/>
                <a:ea typeface="Monotype Koufi"/>
              </a:rPr>
              <a:t>Access to solve optimization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0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5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عنصر نائب للتاريخ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80C50-D9CD-48B1-BD46-4CB7E3BA9167}" type="datetime">
              <a:rPr b="0" lang="ar-SA" sz="1000" spc="-1" strike="noStrike">
                <a:solidFill>
                  <a:srgbClr val="000000"/>
                </a:solidFill>
                <a:latin typeface="Verdana"/>
                <a:cs typeface="Gulim"/>
              </a:rPr>
              <a:t>١٤٤٨/٠٢/١٦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84000" y="1125360"/>
            <a:ext cx="4319640" cy="935280"/>
          </a:xfrm>
          <a:prstGeom prst="rect">
            <a:avLst/>
          </a:prstGeom>
          <a:solidFill>
            <a:srgbClr val="ffc285"/>
          </a:solidFill>
          <a:ln w="3492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  <a:ea typeface="Al-Mujahed Free"/>
              </a:rPr>
              <a:t>Active teaching methods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971640" y="2421000"/>
            <a:ext cx="3671640" cy="10688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Hacen Liner XL"/>
                <a:ea typeface="Monotype Koufi"/>
              </a:rPr>
              <a:t>Questions and Answer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395280" y="3141720"/>
            <a:ext cx="842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imes New Roman"/>
                <a:ea typeface="Monotype Koufi"/>
              </a:rPr>
              <a:t>Bank of configuration questions contains all the important questions included in the educational curriculum and the teacher that stimulates students to actively participate in answering questions through a collective discussion to all studen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0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5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عنصر نائب للتاريخ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77B37-24B8-4DD3-A121-66164F2F7435}" type="datetime">
              <a:rPr b="0" lang="ar-SA" sz="1000" spc="-1" strike="noStrike">
                <a:solidFill>
                  <a:srgbClr val="000000"/>
                </a:solidFill>
                <a:latin typeface="Verdana"/>
                <a:cs typeface="Gulim"/>
              </a:rPr>
              <a:t>١٤٤٨/٠٢/١٦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84000" y="1125360"/>
            <a:ext cx="4319640" cy="935280"/>
          </a:xfrm>
          <a:prstGeom prst="rect">
            <a:avLst/>
          </a:prstGeom>
          <a:solidFill>
            <a:srgbClr val="ffc285"/>
          </a:solidFill>
          <a:ln w="3492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  <a:ea typeface="Al-Mujahed Free"/>
              </a:rPr>
              <a:t>Active teaching methods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971640" y="2421000"/>
            <a:ext cx="2663640" cy="10688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Hacen Liner XL"/>
                <a:ea typeface="Monotype Koufi"/>
              </a:rPr>
              <a:t>Group discuss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826920" y="3201840"/>
            <a:ext cx="7490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  <a:ea typeface="Monotype Koufi"/>
              </a:rPr>
              <a:t>Structured dialogue and mutual between the teacher and students on the one hand, students and each other the other hand, under the supervision of the teache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0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6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عنصر نائب للتاريخ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E627C-D1F1-41E1-A07D-051585E2B304}" type="datetime">
              <a:rPr b="0" lang="ar-SA" sz="1000" spc="-1" strike="noStrike">
                <a:solidFill>
                  <a:srgbClr val="000000"/>
                </a:solidFill>
                <a:latin typeface="Verdana"/>
                <a:cs typeface="Gulim"/>
              </a:rPr>
              <a:t>١٤٤٨/٠٢/١٦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4319280" cy="934920"/>
          </a:xfrm>
          <a:prstGeom prst="rect">
            <a:avLst/>
          </a:prstGeom>
          <a:solidFill>
            <a:srgbClr val="ffc285"/>
          </a:solidFill>
          <a:ln w="3492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  <a:ea typeface="Al-Mujahed Free"/>
              </a:rPr>
              <a:t>Active teaching methods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22" name="Text Box 3"/>
          <p:cNvSpPr/>
          <p:nvPr/>
        </p:nvSpPr>
        <p:spPr>
          <a:xfrm>
            <a:off x="539640" y="2276640"/>
            <a:ext cx="3168720" cy="10688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Hacen Liner XL"/>
                <a:ea typeface="Monotype Koufi"/>
              </a:rPr>
              <a:t>The exchange of rol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539640" y="2751120"/>
            <a:ext cx="813600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imes New Roman"/>
                <a:ea typeface="Monotype Koufi"/>
              </a:rPr>
              <a:t>Simulation of the reality of the problem by giving the roles of the parties to the problem and which dimensions are discussed and exit solu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imes New Roman"/>
                <a:ea typeface="Monotype Koufi"/>
              </a:rPr>
              <a:t>It is funny way graduated from the Department of traditional lectur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Picture 5" descr="Picture18"/>
          <p:cNvPicPr/>
          <p:nvPr/>
        </p:nvPicPr>
        <p:blipFill>
          <a:blip r:embed="rId1"/>
          <a:stretch/>
        </p:blipFill>
        <p:spPr>
          <a:xfrm>
            <a:off x="5292720" y="620640"/>
            <a:ext cx="3267000" cy="2133720"/>
          </a:xfrm>
          <a:prstGeom prst="rect">
            <a:avLst/>
          </a:prstGeom>
          <a:ln w="12600">
            <a:solidFill>
              <a:srgbClr val="ffff00"/>
            </a:solidFill>
            <a:miter/>
          </a:ln>
        </p:spPr>
      </p:pic>
    </p:spTree>
  </p:cSld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0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عنصر نائب للتاريخ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24637-9799-4C2C-A83C-960AAD74DBB0}" type="datetime">
              <a:rPr b="0" lang="ar-SA" sz="1000" spc="-1" strike="noStrike">
                <a:solidFill>
                  <a:srgbClr val="000000"/>
                </a:solidFill>
                <a:latin typeface="Verdana"/>
                <a:cs typeface="Gulim"/>
              </a:rPr>
              <a:t>١٤٤٨/٠٢/١٦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484000" y="1125360"/>
            <a:ext cx="4319640" cy="935280"/>
          </a:xfrm>
          <a:prstGeom prst="rect">
            <a:avLst/>
          </a:prstGeom>
          <a:solidFill>
            <a:srgbClr val="ffc285"/>
          </a:solidFill>
          <a:ln w="3492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  <a:ea typeface="Al-Mujahed Free"/>
              </a:rPr>
              <a:t>Active teaching methods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755640" y="2492280"/>
            <a:ext cx="2664000" cy="5814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Hacen Liner XL"/>
                <a:ea typeface="Monotype Koufi"/>
              </a:rPr>
              <a:t>Stories</a:t>
            </a:r>
            <a:r>
              <a:rPr b="1" lang="ar-SA" sz="3200" spc="-1" strike="noStrike">
                <a:solidFill>
                  <a:srgbClr val="ffffff"/>
                </a:solidFill>
                <a:latin typeface="Hacen Liner XL"/>
                <a:ea typeface="Monotype Koufi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1187280" y="3336840"/>
            <a:ext cx="691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  <a:ea typeface="Monotype Koufi"/>
              </a:rPr>
              <a:t>Interesting anecdotal material from which to communicate information and ideas and promote the right attitudes and practic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0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8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عنصر نائب للتاريخ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B9E5A-F622-4C1E-BA6D-B7FA501B3343}" type="datetime">
              <a:rPr b="0" lang="ar-SA" sz="1000" spc="-1" strike="noStrike">
                <a:solidFill>
                  <a:srgbClr val="000000"/>
                </a:solidFill>
                <a:latin typeface="Verdana"/>
                <a:cs typeface="Gulim"/>
              </a:rPr>
              <a:t>١٤٤٨/٠٢/١٦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99640" y="907920"/>
            <a:ext cx="4319640" cy="935280"/>
          </a:xfrm>
          <a:prstGeom prst="rect">
            <a:avLst/>
          </a:prstGeom>
          <a:solidFill>
            <a:srgbClr val="ffc285"/>
          </a:solidFill>
          <a:ln w="3492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  <a:ea typeface="Al-Mujahed Free"/>
              </a:rPr>
              <a:t>Active teaching methods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31" name="Text Box 3"/>
          <p:cNvSpPr/>
          <p:nvPr/>
        </p:nvSpPr>
        <p:spPr>
          <a:xfrm>
            <a:off x="1042920" y="2492280"/>
            <a:ext cx="2664000" cy="10688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Hacen Liner XL"/>
                <a:ea typeface="Monotype Koufi"/>
              </a:rPr>
              <a:t>Competitions</a:t>
            </a:r>
            <a:r>
              <a:rPr b="1" lang="ar-SA" sz="3200" spc="-1" strike="noStrike">
                <a:solidFill>
                  <a:srgbClr val="ffffff"/>
                </a:solidFill>
                <a:latin typeface="Hacen Liner XL"/>
                <a:ea typeface="Monotype Koufi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4"/>
          <p:cNvSpPr/>
          <p:nvPr/>
        </p:nvSpPr>
        <p:spPr>
          <a:xfrm>
            <a:off x="755640" y="3141720"/>
            <a:ext cx="756144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  <a:ea typeface="Monotype Koufi"/>
              </a:rPr>
              <a:t>Of educational methods that motivate students to make an effort and to express their potentia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Picture 2" descr="Picture20"/>
          <p:cNvPicPr/>
          <p:nvPr/>
        </p:nvPicPr>
        <p:blipFill>
          <a:blip r:embed="rId1"/>
          <a:stretch/>
        </p:blipFill>
        <p:spPr>
          <a:xfrm>
            <a:off x="5580000" y="981000"/>
            <a:ext cx="3032280" cy="18939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0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8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عنصر نائب للتاريخ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DCCB6-AD91-4E1A-B1A6-F58027EFCB7D}" type="datetime">
              <a:rPr b="0" lang="ar-SA" sz="1000" spc="-1" strike="noStrike">
                <a:solidFill>
                  <a:srgbClr val="000000"/>
                </a:solidFill>
                <a:latin typeface="Verdana"/>
                <a:cs typeface="Gulim"/>
              </a:rPr>
              <a:t>١٤٤٨/٠٢/١٦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484000" y="1125360"/>
            <a:ext cx="4319640" cy="935280"/>
          </a:xfrm>
          <a:prstGeom prst="rect">
            <a:avLst/>
          </a:prstGeom>
          <a:solidFill>
            <a:srgbClr val="ffc285"/>
          </a:solidFill>
          <a:ln w="3492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  <a:ea typeface="Al-Mujahed Free"/>
              </a:rPr>
              <a:t>Active teaching methods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36" name="Text Box 3"/>
          <p:cNvSpPr/>
          <p:nvPr/>
        </p:nvSpPr>
        <p:spPr>
          <a:xfrm>
            <a:off x="1116000" y="2492280"/>
            <a:ext cx="2664000" cy="10688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Hacen Liner XL"/>
                <a:ea typeface="Monotype Koufi"/>
              </a:rPr>
              <a:t>Lecture amende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1403280" y="3201840"/>
            <a:ext cx="6265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  <a:ea typeface="Monotype Koufi"/>
              </a:rPr>
              <a:t>They are vaccinated lecture some questions and discussions to make learning through activ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0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9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عنصر نائب للتاريخ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6ABBD-7BAC-4A73-A5B0-0253DBBA2930}" type="datetime">
              <a:rPr b="0" lang="ar-SA" sz="1000" spc="-1" strike="noStrike">
                <a:solidFill>
                  <a:srgbClr val="000000"/>
                </a:solidFill>
                <a:latin typeface="Verdana"/>
                <a:cs typeface="Gulim"/>
              </a:rPr>
              <a:t>١٤٤٨/٠٢/١٦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84000" y="1125360"/>
            <a:ext cx="4319640" cy="935280"/>
          </a:xfrm>
          <a:prstGeom prst="rect">
            <a:avLst/>
          </a:prstGeom>
          <a:solidFill>
            <a:srgbClr val="ffc285"/>
          </a:solidFill>
          <a:ln w="3492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  <a:ea typeface="Al-Mujahed Free"/>
              </a:rPr>
              <a:t>Obstacles active learning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1116000" y="2298600"/>
            <a:ext cx="662472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811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63300"/>
                </a:solidFill>
                <a:latin typeface="Times New Roman"/>
                <a:ea typeface="Monotype Koufi"/>
              </a:rPr>
              <a:t>Time constraints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811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63300"/>
                </a:solidFill>
                <a:latin typeface="Times New Roman"/>
                <a:ea typeface="Monotype Koufi"/>
              </a:rPr>
              <a:t>Increase the number of learners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811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63300"/>
                </a:solidFill>
                <a:latin typeface="Times New Roman"/>
                <a:ea typeface="Monotype Koufi"/>
              </a:rPr>
              <a:t>Lack some of the tools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811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63300"/>
                </a:solidFill>
                <a:latin typeface="Times New Roman"/>
                <a:ea typeface="Monotype Koufi"/>
              </a:rPr>
              <a:t>Fear of not being educated response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63300"/>
                </a:solidFill>
                <a:latin typeface="Times New Roman"/>
                <a:ea typeface="Monotype Koufi"/>
              </a:rPr>
              <a:t>Fear of losing control of the learne</a:t>
            </a:r>
            <a:r>
              <a:rPr b="1" lang="en-US" sz="3200" spc="-1" strike="noStrike">
                <a:solidFill>
                  <a:srgbClr val="663300"/>
                </a:solidFill>
                <a:latin typeface="Times New Roman"/>
                <a:ea typeface="Monotype Koufi"/>
              </a:rPr>
              <a:t>r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0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0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عنصر نائب للتاريخ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E0B98-E0F7-4CE4-BB7E-7CB744967439}" type="datetime">
              <a:rPr b="0" lang="ar-SA" sz="1000" spc="-1" strike="noStrike">
                <a:solidFill>
                  <a:srgbClr val="000000"/>
                </a:solidFill>
                <a:latin typeface="Verdana"/>
                <a:cs typeface="Gulim"/>
              </a:rPr>
              <a:t>١٤٤٨/٠٢/١٦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00000" y="1052640"/>
            <a:ext cx="5904000" cy="1008000"/>
          </a:xfrm>
          <a:prstGeom prst="rect">
            <a:avLst/>
          </a:prstGeom>
          <a:solidFill>
            <a:srgbClr val="ffc285"/>
          </a:solidFill>
          <a:ln w="3492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c2305"/>
                </a:solidFill>
                <a:latin typeface="Verdana"/>
              </a:rPr>
              <a:t>Health Education Concepts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05" name="AutoShape 5"/>
          <p:cNvSpPr/>
          <p:nvPr/>
        </p:nvSpPr>
        <p:spPr>
          <a:xfrm>
            <a:off x="2987640" y="2637000"/>
            <a:ext cx="3168720" cy="2304720"/>
          </a:xfrm>
          <a:prstGeom prst="triangle">
            <a:avLst>
              <a:gd name="adj" fmla="val 50000"/>
            </a:avLst>
          </a:prstGeom>
          <a:noFill/>
          <a:ln cap="sq" w="414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5508720" y="321300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nowledg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1908000" y="3213000"/>
            <a:ext cx="18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ttitu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3635280" y="5286240"/>
            <a:ext cx="18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actic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عنصر نائب للتاريخ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6F995-7CAB-484A-91AD-8AB0BBEB5F34}" type="datetime">
              <a:rPr b="0" lang="ar-SA" sz="1000" spc="-1" strike="noStrike">
                <a:solidFill>
                  <a:srgbClr val="000000"/>
                </a:solidFill>
                <a:latin typeface="Verdana"/>
                <a:cs typeface="Gulim"/>
              </a:rPr>
              <a:t>١٤٤٨/٠٢/١٦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55280" y="1052640"/>
            <a:ext cx="5830920" cy="1008000"/>
          </a:xfrm>
          <a:prstGeom prst="rect">
            <a:avLst/>
          </a:prstGeom>
          <a:solidFill>
            <a:srgbClr val="ffc285"/>
          </a:solidFill>
          <a:ln w="3492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c2305"/>
                </a:solidFill>
                <a:latin typeface="Verdana"/>
              </a:rPr>
              <a:t>Health Education Concepts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547640" y="2492280"/>
            <a:ext cx="2664000" cy="10688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Hacen Liner XL"/>
                <a:ea typeface="Monotype Koufi"/>
              </a:rPr>
              <a:t>Health education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539640" y="3227400"/>
            <a:ext cx="806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ne of the essential elements of Primary health car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t’s a key component of primary prevention strategi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عنصر نائب للتاريخ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53F46-731B-4303-BDE9-E44C79C9C354}" type="datetime">
              <a:rPr b="0" lang="ar-SA" sz="1000" spc="-1" strike="noStrike">
                <a:solidFill>
                  <a:srgbClr val="000000"/>
                </a:solidFill>
                <a:latin typeface="Verdana"/>
                <a:cs typeface="Gulim"/>
              </a:rPr>
              <a:t>١٤٤٨/٠٢/١٦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84000" y="1052640"/>
            <a:ext cx="4319640" cy="1008000"/>
          </a:xfrm>
          <a:prstGeom prst="rect">
            <a:avLst/>
          </a:prstGeom>
          <a:solidFill>
            <a:srgbClr val="ffc285"/>
          </a:solidFill>
          <a:ln w="3492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</a:rPr>
              <a:t>Important terms</a:t>
            </a:r>
            <a:r>
              <a:rPr b="0" lang="en-US" sz="2800" spc="-1" strike="noStrike">
                <a:solidFill>
                  <a:srgbClr val="5c2305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826920" y="2565360"/>
            <a:ext cx="2664000" cy="5814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ealth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1042920" y="3417840"/>
            <a:ext cx="741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c2305"/>
                </a:solidFill>
                <a:latin typeface="Times New Roman"/>
                <a:ea typeface="Times New Roman"/>
              </a:rPr>
              <a:t>A state of complete physical, mental and social wellbeing and not merely absence of disease. (WHO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عنصر نائب للتاريخ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6E396-B59C-4C77-86D5-8197C62BB199}" type="datetime">
              <a:rPr b="0" lang="ar-SA" sz="1000" spc="-1" strike="noStrike">
                <a:solidFill>
                  <a:srgbClr val="000000"/>
                </a:solidFill>
                <a:latin typeface="Verdana"/>
                <a:cs typeface="Gulim"/>
              </a:rPr>
              <a:t>١٤٤٨/٠٢/١٦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08000" y="1052640"/>
            <a:ext cx="4896000" cy="1008000"/>
          </a:xfrm>
          <a:prstGeom prst="rect">
            <a:avLst/>
          </a:prstGeom>
          <a:solidFill>
            <a:srgbClr val="ffc285"/>
          </a:solidFill>
          <a:ln w="3492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</a:rPr>
              <a:t>Important terms</a:t>
            </a:r>
            <a:r>
              <a:rPr b="0" lang="en-US" sz="2800" spc="-1" strike="noStrike">
                <a:solidFill>
                  <a:srgbClr val="5c2305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900000" y="2492280"/>
            <a:ext cx="2664000" cy="5814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ealth cultur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1692360" y="3462480"/>
            <a:ext cx="5975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s the information and facts that are related to health and disease for all peopl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04:57:19Z</dcterms:created>
  <dc:creator>**</dc:creator>
  <dc:description/>
  <dc:language>en-US</dc:language>
  <cp:lastModifiedBy>Yara</cp:lastModifiedBy>
  <cp:lastPrinted>2014-02-09T12:03:17Z</cp:lastPrinted>
  <dcterms:modified xsi:type="dcterms:W3CDTF">2017-02-22T17:12:30Z</dcterms:modified>
  <cp:revision>79</cp:revision>
  <dc:subject/>
  <dc:title>أسس وأساليب التثقيف الصحي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83871025</vt:lpwstr>
  </property>
</Properties>
</file>