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0.jpeg" ContentType="image/jpeg"/>
  <Override PartName="/ppt/media/image12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1.wmf" ContentType="image/x-wmf"/>
  <Override PartName="/ppt/media/image17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E730-BF17-40C5-B8CF-D84214C01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5A2B-9DD8-4372-89E2-7E15DB16E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40BC-1310-4FB6-9024-ADD4D31EA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D32E-9A33-4608-9FB3-5625BA155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AB3A-4090-4CC7-BA9A-AE89BF68C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3D3D-66D4-4EF2-9898-93305A82E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EB59-35FD-4816-AD13-F73DEF120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E83D-4D5E-4D82-8301-74381321F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74E8-B727-433A-A5CD-2A08E4BC9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1736-B336-41EA-BB85-1F3101AA9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83B3-BA3C-47CA-9A9F-E1DA62E77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7D09-657C-4E37-8CA1-DCB929EEE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396BF-4590-4CFF-9BE7-DC23B517804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nciples of cardiovascular measurement I and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ow do you mea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ressures in the CV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olumes in the hear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locity &amp; flow in the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y would you want to know the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oron &amp; Boulpaep - Chap 1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olumes in the he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g atrial and ventricular volumes through out the cardiac cy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ated radionucleotide ima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ngiograp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MR ima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chocardiograp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ated radionucleotide imag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echnetium-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alf-life is ~6 h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nject into blood supp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Record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-emissions from region of the ventri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ate period of counts from the E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mpare end-diastolic &amp; systolic 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s relative ESV:EDV, ie ejection f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ot quantit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olumes in the he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giograp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dio-opaque materi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ject into blood supp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ake multiple X-r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ives 2-dimensional image of he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d to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estima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volume of cha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olumes in the he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8001000" cy="51325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olumes in the he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5639040" cy="44528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544760" y="5829480"/>
            <a:ext cx="441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ye injected into left ventricle showing diastole and syst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olumes in the he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MR-ima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ives image of protons in water of heart &amp; cardiac mus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w resolution therefore very 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d to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estima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volumes of cha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olumes in the he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chocardiograp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wo-dimensional echocardiograph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one from outside, or trans-oesophag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Ultrasound passes through some structures, but bounces off others, eg walls of he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Used to estimate volu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-mode echocardiogra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6224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562720" y="4343400"/>
            <a:ext cx="2971800" cy="22194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olumes in the he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6224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27200" y="2209680"/>
            <a:ext cx="2790720" cy="34070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622680" y="2211480"/>
            <a:ext cx="4835520" cy="34052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olumes in the he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59840" y="5757840"/>
            <a:ext cx="197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-dimenens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20280" y="573408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-m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 wha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270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y would you want to know this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bsolute size of heart varies with body mass, however …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arly heart failure results in smaller ejection f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hronic heart failure results in enormously dilated he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tc etc et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rank’s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716360" y="5157720"/>
            <a:ext cx="3186360" cy="1143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494320" y="4948200"/>
            <a:ext cx="1886040" cy="568440"/>
          </a:xfrm>
          <a:custGeom>
            <a:avLst/>
            <a:gdLst/>
            <a:ahLst/>
            <a:rect l="l" t="t" r="r" b="b"/>
            <a:pathLst>
              <a:path w="1188" h="358">
                <a:moveTo>
                  <a:pt x="0" y="358"/>
                </a:moveTo>
                <a:cubicBezTo>
                  <a:pt x="140" y="270"/>
                  <a:pt x="346" y="174"/>
                  <a:pt x="480" y="118"/>
                </a:cubicBezTo>
                <a:cubicBezTo>
                  <a:pt x="614" y="62"/>
                  <a:pt x="718" y="40"/>
                  <a:pt x="804" y="22"/>
                </a:cubicBezTo>
                <a:cubicBezTo>
                  <a:pt x="890" y="4"/>
                  <a:pt x="932" y="0"/>
                  <a:pt x="996" y="10"/>
                </a:cubicBezTo>
                <a:cubicBezTo>
                  <a:pt x="1060" y="20"/>
                  <a:pt x="1148" y="67"/>
                  <a:pt x="1188" y="8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55640" y="34092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easurement of blood flow and cardiac outp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16224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3070080" y="366840"/>
            <a:ext cx="5129280" cy="360"/>
            <a:chOff x="3070080" y="366840"/>
            <a:chExt cx="5129280" cy="360"/>
          </a:xfrm>
        </p:grpSpPr>
        <p:sp>
          <p:nvSpPr>
            <p:cNvPr id="92" name=""/>
            <p:cNvSpPr/>
            <p:nvPr/>
          </p:nvSpPr>
          <p:spPr>
            <a:xfrm>
              <a:off x="3070080" y="366840"/>
              <a:ext cx="51292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70080" y="366840"/>
              <a:ext cx="51292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19280" y="1631880"/>
            <a:ext cx="3987720" cy="5181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essure in the CV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90920" y="1600200"/>
            <a:ext cx="3606840" cy="4724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590920" y="6172200"/>
            <a:ext cx="39621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ull out, Betty! Pull out!  . . . You’ve hit an arter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ectromagnetic flow me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ccurate, but invas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ltrasonic flow me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nous occlusion plethysmograp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ck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dicator-dilution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oppler echocardiograp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6224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070080" y="366840"/>
            <a:ext cx="5129280" cy="360"/>
            <a:chOff x="3070080" y="366840"/>
            <a:chExt cx="5129280" cy="360"/>
          </a:xfrm>
        </p:grpSpPr>
        <p:sp>
          <p:nvSpPr>
            <p:cNvPr id="98" name=""/>
            <p:cNvSpPr/>
            <p:nvPr/>
          </p:nvSpPr>
          <p:spPr>
            <a:xfrm>
              <a:off x="3070080" y="366840"/>
              <a:ext cx="51292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070080" y="366840"/>
              <a:ext cx="51292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755640" y="341280"/>
            <a:ext cx="741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easurement of blood flow and cardiac outp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ck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224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3070080" y="366840"/>
            <a:ext cx="5129280" cy="360"/>
            <a:chOff x="3070080" y="366840"/>
            <a:chExt cx="5129280" cy="360"/>
          </a:xfrm>
        </p:grpSpPr>
        <p:sp>
          <p:nvSpPr>
            <p:cNvPr id="104" name=""/>
            <p:cNvSpPr/>
            <p:nvPr/>
          </p:nvSpPr>
          <p:spPr>
            <a:xfrm>
              <a:off x="3070080" y="366840"/>
              <a:ext cx="51292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070080" y="366840"/>
              <a:ext cx="51292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1909800" y="358128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09800" y="403848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7720" y="3429000"/>
            <a:ext cx="12189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510000" y="2590920"/>
            <a:ext cx="304920" cy="838080"/>
          </a:xfrm>
          <a:custGeom>
            <a:avLst/>
            <a:gdLst/>
            <a:ahLst/>
            <a:rect l="l" t="t" r="r" b="b"/>
            <a:pathLst>
              <a:path w="192" h="528">
                <a:moveTo>
                  <a:pt x="0" y="0"/>
                </a:moveTo>
                <a:lnTo>
                  <a:pt x="0" y="240"/>
                </a:lnTo>
                <a:lnTo>
                  <a:pt x="192" y="336"/>
                </a:lnTo>
                <a:lnTo>
                  <a:pt x="192" y="52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4118760" y="2590920"/>
            <a:ext cx="304920" cy="838080"/>
          </a:xfrm>
          <a:custGeom>
            <a:avLst/>
            <a:gdLst/>
            <a:ahLst/>
            <a:rect l="l" t="t" r="r" b="b"/>
            <a:pathLst>
              <a:path w="192" h="528">
                <a:moveTo>
                  <a:pt x="0" y="0"/>
                </a:moveTo>
                <a:lnTo>
                  <a:pt x="0" y="240"/>
                </a:lnTo>
                <a:lnTo>
                  <a:pt x="192" y="336"/>
                </a:lnTo>
                <a:lnTo>
                  <a:pt x="192" y="52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662280" y="25909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967200" y="27432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90880" y="28954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119480" y="28195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272120" y="27432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90880" y="31240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29320" y="38098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90880" y="32767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38800" y="37339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033880" y="37339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567400" y="38862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662280" y="28195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14920" y="27432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043520" y="29718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19480" y="25909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372200" y="2209680"/>
            <a:ext cx="253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ding 10 beads per min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96000" y="37339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100920" y="38098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405480" y="37339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57520" y="3733920"/>
            <a:ext cx="304560" cy="152280"/>
          </a:xfrm>
          <a:prstGeom prst="rightArrow">
            <a:avLst>
              <a:gd name="adj1" fmla="val 50000"/>
              <a:gd name="adj2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228600" y="759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easurement of cardiac outp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ck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16224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070080" y="366840"/>
            <a:ext cx="5129280" cy="360"/>
            <a:chOff x="3070080" y="366840"/>
            <a:chExt cx="5129280" cy="360"/>
          </a:xfrm>
        </p:grpSpPr>
        <p:sp>
          <p:nvSpPr>
            <p:cNvPr id="135" name=""/>
            <p:cNvSpPr/>
            <p:nvPr/>
          </p:nvSpPr>
          <p:spPr>
            <a:xfrm>
              <a:off x="3070080" y="366840"/>
              <a:ext cx="51292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070080" y="366840"/>
              <a:ext cx="51292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1909800" y="358128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9800" y="403848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357720" y="3429000"/>
            <a:ext cx="12189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10000" y="2590920"/>
            <a:ext cx="304920" cy="838080"/>
          </a:xfrm>
          <a:custGeom>
            <a:avLst/>
            <a:gdLst/>
            <a:ahLst/>
            <a:rect l="l" t="t" r="r" b="b"/>
            <a:pathLst>
              <a:path w="192" h="528">
                <a:moveTo>
                  <a:pt x="0" y="0"/>
                </a:moveTo>
                <a:lnTo>
                  <a:pt x="0" y="240"/>
                </a:lnTo>
                <a:lnTo>
                  <a:pt x="192" y="336"/>
                </a:lnTo>
                <a:lnTo>
                  <a:pt x="192" y="52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4118760" y="2590920"/>
            <a:ext cx="304920" cy="838080"/>
          </a:xfrm>
          <a:custGeom>
            <a:avLst/>
            <a:gdLst/>
            <a:ahLst/>
            <a:rect l="l" t="t" r="r" b="b"/>
            <a:pathLst>
              <a:path w="192" h="528">
                <a:moveTo>
                  <a:pt x="0" y="0"/>
                </a:moveTo>
                <a:lnTo>
                  <a:pt x="0" y="240"/>
                </a:lnTo>
                <a:lnTo>
                  <a:pt x="192" y="336"/>
                </a:lnTo>
                <a:lnTo>
                  <a:pt x="192" y="52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662280" y="25909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67200" y="27432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90880" y="28954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119480" y="28195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272120" y="27432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90880" y="31240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729320" y="38098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90880" y="32767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7400" y="38862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662280" y="28195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14920" y="27432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043520" y="29718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119480" y="25909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372200" y="2209680"/>
            <a:ext cx="253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ding 10 beads per min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405480" y="37339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757520" y="3657600"/>
            <a:ext cx="452160" cy="304920"/>
          </a:xfrm>
          <a:prstGeom prst="rightArrow">
            <a:avLst>
              <a:gd name="adj1" fmla="val 50000"/>
              <a:gd name="adj2" fmla="val 370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228600" y="759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easurement of cardiac outp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ck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16224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070080" y="366840"/>
            <a:ext cx="5129280" cy="360"/>
            <a:chOff x="3070080" y="366840"/>
            <a:chExt cx="5129280" cy="360"/>
          </a:xfrm>
        </p:grpSpPr>
        <p:sp>
          <p:nvSpPr>
            <p:cNvPr id="162" name=""/>
            <p:cNvSpPr/>
            <p:nvPr/>
          </p:nvSpPr>
          <p:spPr>
            <a:xfrm>
              <a:off x="3070080" y="366840"/>
              <a:ext cx="51292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070080" y="366840"/>
              <a:ext cx="51292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1909800" y="358128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09800" y="403848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357720" y="3429000"/>
            <a:ext cx="12189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510000" y="2590920"/>
            <a:ext cx="304920" cy="838080"/>
          </a:xfrm>
          <a:custGeom>
            <a:avLst/>
            <a:gdLst/>
            <a:ahLst/>
            <a:rect l="l" t="t" r="r" b="b"/>
            <a:pathLst>
              <a:path w="192" h="528">
                <a:moveTo>
                  <a:pt x="0" y="0"/>
                </a:moveTo>
                <a:lnTo>
                  <a:pt x="0" y="240"/>
                </a:lnTo>
                <a:lnTo>
                  <a:pt x="192" y="336"/>
                </a:lnTo>
                <a:lnTo>
                  <a:pt x="192" y="52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4118760" y="2590920"/>
            <a:ext cx="304920" cy="838080"/>
          </a:xfrm>
          <a:custGeom>
            <a:avLst/>
            <a:gdLst/>
            <a:ahLst/>
            <a:rect l="l" t="t" r="r" b="b"/>
            <a:pathLst>
              <a:path w="192" h="528">
                <a:moveTo>
                  <a:pt x="0" y="0"/>
                </a:moveTo>
                <a:lnTo>
                  <a:pt x="0" y="240"/>
                </a:lnTo>
                <a:lnTo>
                  <a:pt x="192" y="336"/>
                </a:lnTo>
                <a:lnTo>
                  <a:pt x="192" y="52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662280" y="25909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67200" y="27432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90880" y="28954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119480" y="28195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272120" y="27432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90880" y="31240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729320" y="38098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90880" y="32767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567400" y="38862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662280" y="28195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14920" y="27432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043520" y="29718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119480" y="25909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372200" y="2209680"/>
            <a:ext cx="253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ding 10 beads per min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405480" y="37339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757520" y="3657600"/>
            <a:ext cx="452160" cy="304920"/>
          </a:xfrm>
          <a:prstGeom prst="rightArrow">
            <a:avLst>
              <a:gd name="adj1" fmla="val 50000"/>
              <a:gd name="adj2" fmla="val 370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058000" y="3200400"/>
            <a:ext cx="292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oncentration is 2 beads per lit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38080" y="51055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low 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981080" y="48769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ate add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828800" y="533412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centra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905120" y="53341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86200" y="51055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267080" y="48769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 beads/mi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267080" y="53341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 beads/litr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343400" y="53341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248520" y="516564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 5 litres/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228600" y="759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easurement of cardiac outp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ck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16224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3070080" y="366840"/>
            <a:ext cx="5129280" cy="360"/>
            <a:chOff x="3070080" y="366840"/>
            <a:chExt cx="5129280" cy="360"/>
          </a:xfrm>
        </p:grpSpPr>
        <p:sp>
          <p:nvSpPr>
            <p:cNvPr id="199" name=""/>
            <p:cNvSpPr/>
            <p:nvPr/>
          </p:nvSpPr>
          <p:spPr>
            <a:xfrm>
              <a:off x="3070080" y="366840"/>
              <a:ext cx="51292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070080" y="366840"/>
              <a:ext cx="51292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1909800" y="358128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909800" y="403848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357720" y="3429000"/>
            <a:ext cx="12189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510000" y="2590920"/>
            <a:ext cx="304920" cy="838080"/>
          </a:xfrm>
          <a:custGeom>
            <a:avLst/>
            <a:gdLst/>
            <a:ahLst/>
            <a:rect l="l" t="t" r="r" b="b"/>
            <a:pathLst>
              <a:path w="192" h="528">
                <a:moveTo>
                  <a:pt x="0" y="0"/>
                </a:moveTo>
                <a:lnTo>
                  <a:pt x="0" y="240"/>
                </a:lnTo>
                <a:lnTo>
                  <a:pt x="192" y="336"/>
                </a:lnTo>
                <a:lnTo>
                  <a:pt x="192" y="52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4118760" y="2590920"/>
            <a:ext cx="304920" cy="838080"/>
          </a:xfrm>
          <a:custGeom>
            <a:avLst/>
            <a:gdLst/>
            <a:ahLst/>
            <a:rect l="l" t="t" r="r" b="b"/>
            <a:pathLst>
              <a:path w="192" h="528">
                <a:moveTo>
                  <a:pt x="0" y="0"/>
                </a:moveTo>
                <a:lnTo>
                  <a:pt x="0" y="240"/>
                </a:lnTo>
                <a:lnTo>
                  <a:pt x="192" y="336"/>
                </a:lnTo>
                <a:lnTo>
                  <a:pt x="192" y="52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662280" y="25909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967200" y="27432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90880" y="28954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119480" y="28195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272120" y="27432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90880" y="31240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729320" y="38098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90880" y="32767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567400" y="38862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662280" y="28195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814920" y="27432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043520" y="29718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119480" y="25909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24400" y="2209680"/>
            <a:ext cx="2131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ate of O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consump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405480" y="37339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757520" y="3657600"/>
            <a:ext cx="452160" cy="304920"/>
          </a:xfrm>
          <a:prstGeom prst="rightArrow">
            <a:avLst>
              <a:gd name="adj1" fmla="val 50000"/>
              <a:gd name="adj2" fmla="val 370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152280" y="4876920"/>
            <a:ext cx="8991720" cy="948600"/>
            <a:chOff x="152280" y="4876920"/>
            <a:chExt cx="8991720" cy="948600"/>
          </a:xfrm>
        </p:grpSpPr>
        <p:sp>
          <p:nvSpPr>
            <p:cNvPr id="223" name=""/>
            <p:cNvSpPr/>
            <p:nvPr/>
          </p:nvSpPr>
          <p:spPr>
            <a:xfrm>
              <a:off x="152280" y="5105520"/>
              <a:ext cx="129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Flow =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295280" y="4876920"/>
              <a:ext cx="3276720" cy="49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rate of 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consumption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066680" y="5334120"/>
              <a:ext cx="3810240" cy="49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[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] leaving – [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] entering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143000" y="5334120"/>
              <a:ext cx="327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495680" y="5105520"/>
              <a:ext cx="129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181480" y="487692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250 ml/min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724280" y="5334120"/>
              <a:ext cx="243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90 – 140 ml/litre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876920" y="5334120"/>
              <a:ext cx="20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086600" y="5165640"/>
              <a:ext cx="205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=  5 litres/m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38098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106960" y="3063960"/>
            <a:ext cx="21319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concentration of blood leaving l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219320" y="3048120"/>
            <a:ext cx="21319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concentration of blood entering l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228600" y="759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easurement of cardiac outp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ck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Devised in 1870, not use practically until 1950’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asy to get representative arterial blood s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eg femoral artery, brachial art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Difficult to get representative venous blood s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enal venous blood contains ~ 170 ml O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/ litre of blo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f coronary venous blood ~ 70 ml O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/ lit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erefore need </a:t>
            </a:r>
            <a:r>
              <a:rPr b="0" i="1" lang="en-GB" sz="1800" spc="-1" strike="noStrike">
                <a:solidFill>
                  <a:srgbClr val="000000"/>
                </a:solidFill>
                <a:latin typeface="Comic Sans MS"/>
              </a:rPr>
              <a:t>mixed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venous blo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e from right ventricle or pulmonary tru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Very accurate – the “gold standard” for measuring 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But is invasive, and discontin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16224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3070080" y="366840"/>
            <a:ext cx="5129280" cy="360"/>
            <a:chOff x="3070080" y="366840"/>
            <a:chExt cx="5129280" cy="360"/>
          </a:xfrm>
        </p:grpSpPr>
        <p:sp>
          <p:nvSpPr>
            <p:cNvPr id="239" name=""/>
            <p:cNvSpPr/>
            <p:nvPr/>
          </p:nvSpPr>
          <p:spPr>
            <a:xfrm>
              <a:off x="3070080" y="366840"/>
              <a:ext cx="51292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70080" y="366840"/>
              <a:ext cx="51292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PlaceHolder 2"/>
          <p:cNvSpPr>
            <a:spLocks noGrp="1"/>
          </p:cNvSpPr>
          <p:nvPr>
            <p:ph type="title"/>
          </p:nvPr>
        </p:nvSpPr>
        <p:spPr>
          <a:xfrm>
            <a:off x="228600" y="759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easurement of cardiac outp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dicator dilution meth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16224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3070080" y="366840"/>
            <a:ext cx="5129280" cy="360"/>
            <a:chOff x="3070080" y="366840"/>
            <a:chExt cx="5129280" cy="360"/>
          </a:xfrm>
        </p:grpSpPr>
        <p:sp>
          <p:nvSpPr>
            <p:cNvPr id="245" name=""/>
            <p:cNvSpPr/>
            <p:nvPr/>
          </p:nvSpPr>
          <p:spPr>
            <a:xfrm>
              <a:off x="3070080" y="366840"/>
              <a:ext cx="51292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070080" y="366840"/>
              <a:ext cx="51292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1066680" y="3200400"/>
            <a:ext cx="6477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3886200"/>
            <a:ext cx="6477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85800" y="3429000"/>
            <a:ext cx="228600" cy="228600"/>
          </a:xfrm>
          <a:prstGeom prst="right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704200" y="2590920"/>
            <a:ext cx="1179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ample d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ncen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934320" y="2514600"/>
            <a:ext cx="1522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934320" y="297180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057400" y="43434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057400" y="632448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16200000">
            <a:off x="1063080" y="521964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ncentration (g/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623760" y="6431040"/>
            <a:ext cx="94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ime (m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600200" y="2362320"/>
            <a:ext cx="304920" cy="838080"/>
          </a:xfrm>
          <a:custGeom>
            <a:avLst/>
            <a:gdLst/>
            <a:ahLst/>
            <a:rect l="l" t="t" r="r" b="b"/>
            <a:pathLst>
              <a:path w="192" h="528">
                <a:moveTo>
                  <a:pt x="0" y="0"/>
                </a:moveTo>
                <a:lnTo>
                  <a:pt x="0" y="240"/>
                </a:lnTo>
                <a:lnTo>
                  <a:pt x="192" y="336"/>
                </a:lnTo>
                <a:lnTo>
                  <a:pt x="192" y="52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2208960" y="2362320"/>
            <a:ext cx="304920" cy="838080"/>
          </a:xfrm>
          <a:custGeom>
            <a:avLst/>
            <a:gdLst/>
            <a:ahLst/>
            <a:rect l="l" t="t" r="r" b="b"/>
            <a:pathLst>
              <a:path w="192" h="528">
                <a:moveTo>
                  <a:pt x="0" y="0"/>
                </a:moveTo>
                <a:lnTo>
                  <a:pt x="0" y="240"/>
                </a:lnTo>
                <a:lnTo>
                  <a:pt x="192" y="336"/>
                </a:lnTo>
                <a:lnTo>
                  <a:pt x="192" y="52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752480" y="23623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57400" y="25146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981080" y="26668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09680" y="25909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362320" y="25146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981080" y="28954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981080" y="30481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752480" y="25909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905120" y="25146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133720" y="27432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23623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124080" y="34290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733920" y="34290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657600" y="35812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962520" y="33526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038480" y="34290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429000" y="35053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581280" y="34290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32767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733920" y="34290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038480" y="35812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962520" y="3733920"/>
            <a:ext cx="759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191120" y="36576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343400" y="35812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809880" y="35812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86200" y="35812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191120" y="34290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733920" y="33526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038480" y="34290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36576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191120" y="3505320"/>
            <a:ext cx="759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343400" y="34290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809880" y="35053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886200" y="34290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276720"/>
            <a:ext cx="759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657600" y="33526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114800" y="35053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962520" y="36576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267080" y="35812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343400" y="35053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733920" y="35812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86200" y="35053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114800" y="33526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95480" y="35053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962520" y="34290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038480" y="33526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267080" y="36576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267080" y="33526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276720" y="35812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114800" y="37339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114800" y="36576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809880" y="36576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276720" y="34290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505320" y="35812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114800" y="32767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590920" y="3505320"/>
            <a:ext cx="759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505320" y="33526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886200" y="33526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590920" y="2590920"/>
            <a:ext cx="1066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ject bolus of d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743200" y="5334120"/>
            <a:ext cx="4495680" cy="990360"/>
          </a:xfrm>
          <a:custGeom>
            <a:avLst/>
            <a:gdLst/>
            <a:ahLst/>
            <a:rect l="l" t="t" r="r" b="b"/>
            <a:pathLst>
              <a:path w="2832" h="920">
                <a:moveTo>
                  <a:pt x="0" y="920"/>
                </a:moveTo>
                <a:cubicBezTo>
                  <a:pt x="16" y="884"/>
                  <a:pt x="32" y="848"/>
                  <a:pt x="48" y="776"/>
                </a:cubicBezTo>
                <a:cubicBezTo>
                  <a:pt x="64" y="704"/>
                  <a:pt x="80" y="592"/>
                  <a:pt x="96" y="488"/>
                </a:cubicBezTo>
                <a:cubicBezTo>
                  <a:pt x="112" y="384"/>
                  <a:pt x="120" y="232"/>
                  <a:pt x="144" y="152"/>
                </a:cubicBezTo>
                <a:cubicBezTo>
                  <a:pt x="168" y="72"/>
                  <a:pt x="192" y="16"/>
                  <a:pt x="240" y="8"/>
                </a:cubicBezTo>
                <a:cubicBezTo>
                  <a:pt x="288" y="0"/>
                  <a:pt x="320" y="32"/>
                  <a:pt x="432" y="104"/>
                </a:cubicBezTo>
                <a:cubicBezTo>
                  <a:pt x="544" y="176"/>
                  <a:pt x="720" y="336"/>
                  <a:pt x="912" y="440"/>
                </a:cubicBezTo>
                <a:cubicBezTo>
                  <a:pt x="1104" y="544"/>
                  <a:pt x="1360" y="656"/>
                  <a:pt x="1584" y="728"/>
                </a:cubicBezTo>
                <a:cubicBezTo>
                  <a:pt x="1808" y="800"/>
                  <a:pt x="2048" y="840"/>
                  <a:pt x="2256" y="872"/>
                </a:cubicBezTo>
                <a:cubicBezTo>
                  <a:pt x="2464" y="904"/>
                  <a:pt x="2648" y="912"/>
                  <a:pt x="2832" y="9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743200" y="63244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086600" y="63244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622960" y="64008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891840" y="6431040"/>
            <a:ext cx="3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title"/>
          </p:nvPr>
        </p:nvSpPr>
        <p:spPr>
          <a:xfrm>
            <a:off x="228600" y="759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easurement of cardiac outp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dicator dilution meth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16224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3070080" y="366840"/>
            <a:ext cx="5129280" cy="360"/>
            <a:chOff x="3070080" y="366840"/>
            <a:chExt cx="5129280" cy="360"/>
          </a:xfrm>
        </p:grpSpPr>
        <p:sp>
          <p:nvSpPr>
            <p:cNvPr id="327" name=""/>
            <p:cNvSpPr/>
            <p:nvPr/>
          </p:nvSpPr>
          <p:spPr>
            <a:xfrm>
              <a:off x="3070080" y="366840"/>
              <a:ext cx="51292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070080" y="366840"/>
              <a:ext cx="51292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1066680" y="3200400"/>
            <a:ext cx="6477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066680" y="3886200"/>
            <a:ext cx="6477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85800" y="3352680"/>
            <a:ext cx="380880" cy="381240"/>
          </a:xfrm>
          <a:prstGeom prst="right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704200" y="2590920"/>
            <a:ext cx="1179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ample d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ncen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934320" y="2514600"/>
            <a:ext cx="1522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934320" y="297180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057400" y="43434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057400" y="632448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600200" y="2362320"/>
            <a:ext cx="304920" cy="838080"/>
          </a:xfrm>
          <a:custGeom>
            <a:avLst/>
            <a:gdLst/>
            <a:ahLst/>
            <a:rect l="l" t="t" r="r" b="b"/>
            <a:pathLst>
              <a:path w="192" h="528">
                <a:moveTo>
                  <a:pt x="0" y="0"/>
                </a:moveTo>
                <a:lnTo>
                  <a:pt x="0" y="240"/>
                </a:lnTo>
                <a:lnTo>
                  <a:pt x="192" y="336"/>
                </a:lnTo>
                <a:lnTo>
                  <a:pt x="192" y="52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2208960" y="2362320"/>
            <a:ext cx="304920" cy="838080"/>
          </a:xfrm>
          <a:custGeom>
            <a:avLst/>
            <a:gdLst/>
            <a:ahLst/>
            <a:rect l="l" t="t" r="r" b="b"/>
            <a:pathLst>
              <a:path w="192" h="528">
                <a:moveTo>
                  <a:pt x="0" y="0"/>
                </a:moveTo>
                <a:lnTo>
                  <a:pt x="0" y="240"/>
                </a:lnTo>
                <a:lnTo>
                  <a:pt x="192" y="336"/>
                </a:lnTo>
                <a:lnTo>
                  <a:pt x="192" y="52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752480" y="23623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057400" y="25146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981080" y="26668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209680" y="25909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362320" y="25146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981080" y="28954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981080" y="30481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752480" y="25909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905120" y="25146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133720" y="27432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209680" y="23623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581280" y="34290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733920" y="34290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657600" y="35812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962520" y="33526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038480" y="34290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886200" y="36576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733920" y="3505320"/>
            <a:ext cx="759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733920" y="33526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09880" y="34290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962520" y="3505320"/>
            <a:ext cx="759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962520" y="3733920"/>
            <a:ext cx="759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62520" y="35812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114800" y="35812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809880" y="35812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886200" y="35812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191120" y="34290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809880" y="33526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038480" y="34290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962520" y="36576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191120" y="3505320"/>
            <a:ext cx="759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114800" y="34290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09880" y="35053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886200" y="34290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962520" y="3276720"/>
            <a:ext cx="759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657600" y="33526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038480" y="35053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962520" y="36576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038480" y="35812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114800" y="35053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733920" y="35812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886200" y="35053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14800" y="33526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505320" y="3505320"/>
            <a:ext cx="759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962520" y="34290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038480" y="33526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038480" y="36576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038480" y="32767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581280" y="35053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038480" y="37339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114800" y="36576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809880" y="36576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657600" y="34290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733920" y="36576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114800" y="32767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429000" y="35053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657600" y="35053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886200" y="33526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590920" y="2590920"/>
            <a:ext cx="1066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ject bolus of dy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743200" y="4343400"/>
            <a:ext cx="1295280" cy="1981080"/>
          </a:xfrm>
          <a:custGeom>
            <a:avLst/>
            <a:gdLst/>
            <a:ahLst/>
            <a:rect l="l" t="t" r="r" b="b"/>
            <a:pathLst>
              <a:path w="2832" h="920">
                <a:moveTo>
                  <a:pt x="0" y="920"/>
                </a:moveTo>
                <a:cubicBezTo>
                  <a:pt x="16" y="884"/>
                  <a:pt x="32" y="848"/>
                  <a:pt x="48" y="776"/>
                </a:cubicBezTo>
                <a:cubicBezTo>
                  <a:pt x="64" y="704"/>
                  <a:pt x="80" y="592"/>
                  <a:pt x="96" y="488"/>
                </a:cubicBezTo>
                <a:cubicBezTo>
                  <a:pt x="112" y="384"/>
                  <a:pt x="120" y="232"/>
                  <a:pt x="144" y="152"/>
                </a:cubicBezTo>
                <a:cubicBezTo>
                  <a:pt x="168" y="72"/>
                  <a:pt x="192" y="16"/>
                  <a:pt x="240" y="8"/>
                </a:cubicBezTo>
                <a:cubicBezTo>
                  <a:pt x="288" y="0"/>
                  <a:pt x="320" y="32"/>
                  <a:pt x="432" y="104"/>
                </a:cubicBezTo>
                <a:cubicBezTo>
                  <a:pt x="544" y="176"/>
                  <a:pt x="720" y="336"/>
                  <a:pt x="912" y="440"/>
                </a:cubicBezTo>
                <a:cubicBezTo>
                  <a:pt x="1104" y="544"/>
                  <a:pt x="1360" y="656"/>
                  <a:pt x="1584" y="728"/>
                </a:cubicBezTo>
                <a:cubicBezTo>
                  <a:pt x="1808" y="800"/>
                  <a:pt x="2048" y="840"/>
                  <a:pt x="2256" y="872"/>
                </a:cubicBezTo>
                <a:cubicBezTo>
                  <a:pt x="2464" y="904"/>
                  <a:pt x="2648" y="912"/>
                  <a:pt x="2832" y="9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623760" y="6431040"/>
            <a:ext cx="94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ime (m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743200" y="63244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086600" y="63244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622960" y="64008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891840" y="6431040"/>
            <a:ext cx="3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rot="16200000">
            <a:off x="1063080" y="521964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ncentration (g/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title"/>
          </p:nvPr>
        </p:nvSpPr>
        <p:spPr>
          <a:xfrm>
            <a:off x="228600" y="759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easurement of cardiac outp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837720" y="3124080"/>
            <a:ext cx="678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Amount of dye added = 5 m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Average dye concentration =  2 mg/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Therefore the volume that diluted the dye =      5mg        = 2.5 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Time it took to go past = 0.5 m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ie flow rate =   2.5 L     = 5 L/m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General equ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3070080" y="366840"/>
            <a:ext cx="5129280" cy="360"/>
            <a:chOff x="3070080" y="366840"/>
            <a:chExt cx="5129280" cy="360"/>
          </a:xfrm>
        </p:grpSpPr>
        <p:sp>
          <p:nvSpPr>
            <p:cNvPr id="408" name=""/>
            <p:cNvSpPr/>
            <p:nvPr/>
          </p:nvSpPr>
          <p:spPr>
            <a:xfrm>
              <a:off x="3070080" y="366840"/>
              <a:ext cx="51292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070080" y="366840"/>
              <a:ext cx="51292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0" name=""/>
          <p:cNvSpPr/>
          <p:nvPr/>
        </p:nvSpPr>
        <p:spPr>
          <a:xfrm>
            <a:off x="4500000" y="59292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~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035960" y="563868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ss of dye (Q 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666880" y="6005520"/>
            <a:ext cx="541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553120" y="6081840"/>
            <a:ext cx="568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verage dye conc (X g/L)  x time of passage (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 mi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603760" y="40384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628960" y="4038480"/>
            <a:ext cx="84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 mg/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616120" y="48769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503440" y="4876920"/>
            <a:ext cx="88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.5 m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209680" y="243828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149480" y="5853240"/>
            <a:ext cx="136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low rate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1905120" y="1042920"/>
            <a:ext cx="4986360" cy="208116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6851160" y="2247840"/>
            <a:ext cx="201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average conc (X) = 2 mg/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819520" y="1828800"/>
            <a:ext cx="3733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586680" y="1523880"/>
            <a:ext cx="229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ime of passage (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) = 0.5 m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819520" y="1828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553080" y="1828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882200" y="2133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~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title"/>
          </p:nvPr>
        </p:nvSpPr>
        <p:spPr>
          <a:xfrm>
            <a:off x="228600" y="759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easurement of cardiac outp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actical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id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3070080" y="366840"/>
            <a:ext cx="5129280" cy="360"/>
            <a:chOff x="3070080" y="366840"/>
            <a:chExt cx="5129280" cy="360"/>
          </a:xfrm>
        </p:grpSpPr>
        <p:sp>
          <p:nvSpPr>
            <p:cNvPr id="430" name=""/>
            <p:cNvSpPr/>
            <p:nvPr/>
          </p:nvSpPr>
          <p:spPr>
            <a:xfrm>
              <a:off x="3070080" y="366840"/>
              <a:ext cx="51292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70080" y="366840"/>
              <a:ext cx="51292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2057400" y="20574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rot="16200000">
            <a:off x="1063080" y="293364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ncentration (g/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623760" y="4145040"/>
            <a:ext cx="94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ime (m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743200" y="3048120"/>
            <a:ext cx="4495680" cy="990360"/>
          </a:xfrm>
          <a:custGeom>
            <a:avLst/>
            <a:gdLst/>
            <a:ahLst/>
            <a:rect l="l" t="t" r="r" b="b"/>
            <a:pathLst>
              <a:path w="2832" h="920">
                <a:moveTo>
                  <a:pt x="0" y="920"/>
                </a:moveTo>
                <a:cubicBezTo>
                  <a:pt x="16" y="884"/>
                  <a:pt x="32" y="848"/>
                  <a:pt x="48" y="776"/>
                </a:cubicBezTo>
                <a:cubicBezTo>
                  <a:pt x="64" y="704"/>
                  <a:pt x="80" y="592"/>
                  <a:pt x="96" y="488"/>
                </a:cubicBezTo>
                <a:cubicBezTo>
                  <a:pt x="112" y="384"/>
                  <a:pt x="120" y="232"/>
                  <a:pt x="144" y="152"/>
                </a:cubicBezTo>
                <a:cubicBezTo>
                  <a:pt x="168" y="72"/>
                  <a:pt x="192" y="16"/>
                  <a:pt x="240" y="8"/>
                </a:cubicBezTo>
                <a:cubicBezTo>
                  <a:pt x="288" y="0"/>
                  <a:pt x="320" y="32"/>
                  <a:pt x="432" y="104"/>
                </a:cubicBezTo>
                <a:cubicBezTo>
                  <a:pt x="544" y="176"/>
                  <a:pt x="720" y="336"/>
                  <a:pt x="912" y="440"/>
                </a:cubicBezTo>
                <a:cubicBezTo>
                  <a:pt x="1104" y="544"/>
                  <a:pt x="1360" y="656"/>
                  <a:pt x="1584" y="728"/>
                </a:cubicBezTo>
                <a:cubicBezTo>
                  <a:pt x="1808" y="800"/>
                  <a:pt x="2048" y="840"/>
                  <a:pt x="2256" y="872"/>
                </a:cubicBezTo>
                <a:cubicBezTo>
                  <a:pt x="2464" y="904"/>
                  <a:pt x="2648" y="912"/>
                  <a:pt x="2832" y="92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743200" y="40384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086600" y="40384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22960" y="41148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891840" y="4145040"/>
            <a:ext cx="3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962520" y="3200400"/>
            <a:ext cx="4495680" cy="762120"/>
          </a:xfrm>
          <a:custGeom>
            <a:avLst/>
            <a:gdLst/>
            <a:ahLst/>
            <a:rect l="l" t="t" r="r" b="b"/>
            <a:pathLst>
              <a:path w="2832" h="920">
                <a:moveTo>
                  <a:pt x="0" y="920"/>
                </a:moveTo>
                <a:cubicBezTo>
                  <a:pt x="16" y="884"/>
                  <a:pt x="32" y="848"/>
                  <a:pt x="48" y="776"/>
                </a:cubicBezTo>
                <a:cubicBezTo>
                  <a:pt x="64" y="704"/>
                  <a:pt x="80" y="592"/>
                  <a:pt x="96" y="488"/>
                </a:cubicBezTo>
                <a:cubicBezTo>
                  <a:pt x="112" y="384"/>
                  <a:pt x="120" y="232"/>
                  <a:pt x="144" y="152"/>
                </a:cubicBezTo>
                <a:cubicBezTo>
                  <a:pt x="168" y="72"/>
                  <a:pt x="192" y="16"/>
                  <a:pt x="240" y="8"/>
                </a:cubicBezTo>
                <a:cubicBezTo>
                  <a:pt x="288" y="0"/>
                  <a:pt x="320" y="32"/>
                  <a:pt x="432" y="104"/>
                </a:cubicBezTo>
                <a:cubicBezTo>
                  <a:pt x="544" y="176"/>
                  <a:pt x="720" y="336"/>
                  <a:pt x="912" y="440"/>
                </a:cubicBezTo>
                <a:cubicBezTo>
                  <a:pt x="1104" y="544"/>
                  <a:pt x="1360" y="656"/>
                  <a:pt x="1584" y="728"/>
                </a:cubicBezTo>
                <a:cubicBezTo>
                  <a:pt x="1808" y="800"/>
                  <a:pt x="2048" y="840"/>
                  <a:pt x="2256" y="872"/>
                </a:cubicBezTo>
                <a:cubicBezTo>
                  <a:pt x="2464" y="904"/>
                  <a:pt x="2648" y="912"/>
                  <a:pt x="2832" y="92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952880" y="3429000"/>
            <a:ext cx="4496040" cy="609480"/>
          </a:xfrm>
          <a:custGeom>
            <a:avLst/>
            <a:gdLst/>
            <a:ahLst/>
            <a:rect l="l" t="t" r="r" b="b"/>
            <a:pathLst>
              <a:path w="2832" h="920">
                <a:moveTo>
                  <a:pt x="0" y="920"/>
                </a:moveTo>
                <a:cubicBezTo>
                  <a:pt x="16" y="884"/>
                  <a:pt x="32" y="848"/>
                  <a:pt x="48" y="776"/>
                </a:cubicBezTo>
                <a:cubicBezTo>
                  <a:pt x="64" y="704"/>
                  <a:pt x="80" y="592"/>
                  <a:pt x="96" y="488"/>
                </a:cubicBezTo>
                <a:cubicBezTo>
                  <a:pt x="112" y="384"/>
                  <a:pt x="120" y="232"/>
                  <a:pt x="144" y="152"/>
                </a:cubicBezTo>
                <a:cubicBezTo>
                  <a:pt x="168" y="72"/>
                  <a:pt x="192" y="16"/>
                  <a:pt x="240" y="8"/>
                </a:cubicBezTo>
                <a:cubicBezTo>
                  <a:pt x="288" y="0"/>
                  <a:pt x="320" y="32"/>
                  <a:pt x="432" y="104"/>
                </a:cubicBezTo>
                <a:cubicBezTo>
                  <a:pt x="544" y="176"/>
                  <a:pt x="720" y="336"/>
                  <a:pt x="912" y="440"/>
                </a:cubicBezTo>
                <a:cubicBezTo>
                  <a:pt x="1104" y="544"/>
                  <a:pt x="1360" y="656"/>
                  <a:pt x="1584" y="728"/>
                </a:cubicBezTo>
                <a:cubicBezTo>
                  <a:pt x="1808" y="800"/>
                  <a:pt x="2048" y="840"/>
                  <a:pt x="2256" y="872"/>
                </a:cubicBezTo>
                <a:cubicBezTo>
                  <a:pt x="2464" y="904"/>
                  <a:pt x="2648" y="912"/>
                  <a:pt x="2832" y="92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429000" y="3505320"/>
            <a:ext cx="16002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581280" y="3505320"/>
            <a:ext cx="198144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114800" y="3657600"/>
            <a:ext cx="1981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486400" y="3581280"/>
            <a:ext cx="30492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019920" y="3733920"/>
            <a:ext cx="31240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057400" y="403848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057400" y="43434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rot="16200000">
            <a:off x="921240" y="5261760"/>
            <a:ext cx="184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og concentration (g/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623760" y="6431040"/>
            <a:ext cx="94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ime (m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743200" y="63244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086600" y="63244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622960" y="64008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891840" y="6431040"/>
            <a:ext cx="3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057400" y="632448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2743200" y="5333760"/>
            <a:ext cx="304920" cy="99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191120" y="5562720"/>
            <a:ext cx="2895480" cy="7617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flipV="1">
            <a:off x="3124080" y="5257440"/>
            <a:ext cx="106704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8120" y="5257800"/>
            <a:ext cx="7596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0" y="48"/>
                </a:moveTo>
                <a:cubicBezTo>
                  <a:pt x="20" y="28"/>
                  <a:pt x="40" y="8"/>
                  <a:pt x="48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title"/>
          </p:nvPr>
        </p:nvSpPr>
        <p:spPr>
          <a:xfrm>
            <a:off x="228600" y="759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easurement of cardiac outp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essure in the CV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981080" y="1676520"/>
            <a:ext cx="5038920" cy="49784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236000" y="5805360"/>
            <a:ext cx="1099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ephen H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73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/>
          </p:nvPr>
        </p:nvSpPr>
        <p:spPr>
          <a:xfrm>
            <a:off x="685440" y="1371240"/>
            <a:ext cx="683892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ractical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nsid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dye recirculates in the CV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stimate of first transit time is facilitated by plotting log concent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Dye must be non-toxic and not immediately absorbed eg indocyanine gre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njected into pulmonary art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easured in brachial art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Like the Fick method, is invasive, &amp; discontin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ame princi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easure thermodilution of cold sa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3070080" y="366840"/>
            <a:ext cx="5129280" cy="360"/>
            <a:chOff x="3070080" y="366840"/>
            <a:chExt cx="5129280" cy="360"/>
          </a:xfrm>
        </p:grpSpPr>
        <p:sp>
          <p:nvSpPr>
            <p:cNvPr id="463" name=""/>
            <p:cNvSpPr/>
            <p:nvPr/>
          </p:nvSpPr>
          <p:spPr>
            <a:xfrm>
              <a:off x="3070080" y="366840"/>
              <a:ext cx="51292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070080" y="366840"/>
              <a:ext cx="51292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5" name="PlaceHolder 2"/>
          <p:cNvSpPr>
            <a:spLocks noGrp="1"/>
          </p:cNvSpPr>
          <p:nvPr>
            <p:ph type="title"/>
          </p:nvPr>
        </p:nvSpPr>
        <p:spPr>
          <a:xfrm>
            <a:off x="228600" y="759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easurement of cardiac outp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ppler echocardiograp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ulsed ultrasound waves emit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irected parallel to flow of blood eg down supra-sternal notch into ascending ao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avelength of sound is altered as it is reflects off moving red blood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16224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9" name="" descr="Doppler-effect"/>
          <p:cNvPicPr/>
          <p:nvPr/>
        </p:nvPicPr>
        <p:blipFill>
          <a:blip r:embed="rId1"/>
          <a:stretch/>
        </p:blipFill>
        <p:spPr>
          <a:xfrm>
            <a:off x="990720" y="4114800"/>
            <a:ext cx="2819160" cy="233208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2"/>
          <a:stretch/>
        </p:blipFill>
        <p:spPr>
          <a:xfrm>
            <a:off x="5257800" y="3886200"/>
            <a:ext cx="1863720" cy="2610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ppler echocardiograp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384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ulsed ultrasound waves emit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irected parallel to flow of blood eg down supra-sternal notch into ascending ao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avelength of sound is altered as it is reflects off moving red blood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hange in pitch indicates velocity of red blood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stimate of aortic cross-section gives blood flow ie cardiac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seudo-colouring used to indicate turbul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16224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ppler echocardiograp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16224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676520" y="1828800"/>
            <a:ext cx="5790960" cy="4341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ppler echocardiograp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16224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1"/>
          <a:stretch/>
        </p:blipFill>
        <p:spPr>
          <a:xfrm>
            <a:off x="4648320" y="2590920"/>
            <a:ext cx="3733560" cy="2800080"/>
          </a:xfrm>
          <a:prstGeom prst="rect">
            <a:avLst/>
          </a:prstGeom>
          <a:ln w="0">
            <a:noFill/>
          </a:ln>
        </p:spPr>
      </p:pic>
      <p:pic>
        <p:nvPicPr>
          <p:cNvPr id="480" name="" descr=""/>
          <p:cNvPicPr/>
          <p:nvPr/>
        </p:nvPicPr>
        <p:blipFill>
          <a:blip r:embed="rId2"/>
          <a:stretch/>
        </p:blipFill>
        <p:spPr>
          <a:xfrm>
            <a:off x="685800" y="2590920"/>
            <a:ext cx="3733920" cy="2800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48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y would you want to know th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ardiac output varies with body m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 failing heart works higher up the Starling curve (hence lower ejection fra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refore cannot increase cardiac output when requ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xercise-stress testing will show this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tc etc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(Franks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 wha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essure in the CV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8675640" cy="8572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essure in the CV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14680" y="1523880"/>
            <a:ext cx="5295600" cy="5004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essure in the CV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rachial arterial pressure is measured indirectly using Korotkof sou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art of tapping = systolic pres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oss of all sounds = diastolic pres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isadvantages = needs care, inaccurate, discontinu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dvantages = non-invasive, che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nly gives systemic arterial pres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essure in the CV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105520" y="4267080"/>
            <a:ext cx="3311280" cy="2395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irectly through pressure transduc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sert cather/transducer i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ntecubital vein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vena cava, right atrium, right ventricle, pulmonary art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rachial/femoral artery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aorta, left, ventricle, left atriu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ccurate, but invas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90520" y="404640"/>
            <a:ext cx="6759720" cy="7272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 wha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y would you want to know thi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iagnose hyperten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ight ventricular failure causes an increase in right atrial pressu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ricuspid regurgitation causes large v-w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etc etc e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Frank’s b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381560" y="1628640"/>
            <a:ext cx="4419720" cy="4753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9T09:46:50Z</dcterms:created>
  <dc:creator>phy056</dc:creator>
  <dc:description/>
  <dc:language>en-US</dc:language>
  <cp:lastModifiedBy>ZonaNet</cp:lastModifiedBy>
  <dcterms:modified xsi:type="dcterms:W3CDTF">2008-05-02T22:25:53Z</dcterms:modified>
  <cp:revision>10</cp:revision>
  <dc:subject/>
  <dc:title>Principles of cardiovascular measurement I and II</dc:title>
</cp:coreProperties>
</file>