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1.wmf" ContentType="image/x-wmf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7D6-CEDB-49F7-80E9-9A72E62E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DBA-F4A3-440B-A374-15080611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896-F6D3-4617-A5B4-3E5E3229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567-BDAC-49A2-B1AC-5E48E09D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92B-1E5A-4806-92CE-B1A969A5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C37-6895-4468-8D4E-B35FA0B9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B04-30BC-4022-BD8A-8D1F4E73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DF8-9B2A-4B9D-96E2-8B63EC85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9B8-CBBB-4C9F-8AE5-C421C1E1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7F1-18C0-446D-933D-1B74D20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6E1-39DA-46E6-A045-F574247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646-8B9D-4BDA-AFD9-CE7F5AAC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3256-D9A4-4FD8-898F-88A32BFD7D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 of cardiovascular measurement I and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ssures in the CV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lumes in the hea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locity &amp; flow in the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would you want to know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ron &amp; Boulpaep - Chap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 atrial and ventricular volumes through out the cardiac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ted radionucleotide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g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MR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ted radionucleotide im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chnetium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lf-life is ~6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ject into blood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cor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emissions from region of the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te period of counts from th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end-diastolic &amp; systolic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s relative ESV:EDV, ie ejection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g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o-opaque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ject into blood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multiple X-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2-dimensional image of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olume of 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5132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9040" cy="4452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44760" y="5829480"/>
            <a:ext cx="44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ye injected into left ventricle showing diastole and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MR-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image of protons in water of heart &amp; cardiac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resolution therefore very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olumes of 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wo-dimensional echocardi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ne from outside, or trans-oesophag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ltrasound passes through some structures, but bounces off others, eg walls of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ed to estimate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-mode echocardi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2971800" cy="221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7200" y="2209680"/>
            <a:ext cx="2790720" cy="3407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22680" y="2211480"/>
            <a:ext cx="4835520" cy="3405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59840" y="57578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-dimen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20280" y="57340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-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would you want to know th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olute size of heart varies with body mass, however 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rly heart failure results in smaller ejection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onic heart failure results in enormously dilated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c etc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ank’s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16360" y="5157720"/>
            <a:ext cx="318636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94320" y="4948200"/>
            <a:ext cx="1886040" cy="568440"/>
          </a:xfrm>
          <a:custGeom>
            <a:avLst/>
            <a:gdLst/>
            <a:ahLst/>
            <a:rect l="l" t="t" r="r" b="b"/>
            <a:pathLst>
              <a:path w="1188" h="358">
                <a:moveTo>
                  <a:pt x="0" y="358"/>
                </a:moveTo>
                <a:cubicBezTo>
                  <a:pt x="140" y="270"/>
                  <a:pt x="346" y="174"/>
                  <a:pt x="480" y="118"/>
                </a:cubicBezTo>
                <a:cubicBezTo>
                  <a:pt x="614" y="62"/>
                  <a:pt x="718" y="40"/>
                  <a:pt x="804" y="22"/>
                </a:cubicBezTo>
                <a:cubicBezTo>
                  <a:pt x="890" y="4"/>
                  <a:pt x="932" y="0"/>
                  <a:pt x="996" y="10"/>
                </a:cubicBezTo>
                <a:cubicBezTo>
                  <a:pt x="1060" y="20"/>
                  <a:pt x="1148" y="67"/>
                  <a:pt x="1188" y="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340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asurement of blood flow and cardiac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92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9280" y="1631880"/>
            <a:ext cx="3987720" cy="518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60684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6172200"/>
            <a:ext cx="3962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ll out, Betty! Pull out!  . . . You’ve hit an arte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magnetic flow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ccurate, but inva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ltrasonic flow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nous occlusion plethysm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cator-dilu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98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55640" y="341280"/>
            <a:ext cx="74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asurement of blood flow and cardiac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04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38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2200" y="22096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ing 10 beads per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009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7520" y="37339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35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72200" y="22096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ing 10 beads per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7520" y="3657600"/>
            <a:ext cx="452160" cy="304920"/>
          </a:xfrm>
          <a:prstGeom prst="rightArrow">
            <a:avLst>
              <a:gd name="adj1" fmla="val 50000"/>
              <a:gd name="adj2" fmla="val 370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62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2200" y="22096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ing 10 beads per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7520" y="3657600"/>
            <a:ext cx="452160" cy="304920"/>
          </a:xfrm>
          <a:prstGeom prst="rightArrow">
            <a:avLst>
              <a:gd name="adj1" fmla="val 50000"/>
              <a:gd name="adj2" fmla="val 370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58000" y="3200400"/>
            <a:ext cx="292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ntration is 2 beads per li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105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ow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e ad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ntr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beads/m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beads/li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656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5 litres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9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4400" y="2209680"/>
            <a:ext cx="21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te of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onsum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7520" y="3657600"/>
            <a:ext cx="452160" cy="304920"/>
          </a:xfrm>
          <a:prstGeom prst="rightArrow">
            <a:avLst>
              <a:gd name="adj1" fmla="val 50000"/>
              <a:gd name="adj2" fmla="val 370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52280" y="4876920"/>
            <a:ext cx="8991720" cy="948600"/>
            <a:chOff x="152280" y="4876920"/>
            <a:chExt cx="8991720" cy="948600"/>
          </a:xfrm>
        </p:grpSpPr>
        <p:sp>
          <p:nvSpPr>
            <p:cNvPr id="223" name=""/>
            <p:cNvSpPr/>
            <p:nvPr/>
          </p:nvSpPr>
          <p:spPr>
            <a:xfrm>
              <a:off x="152280" y="51055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low =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95280" y="4876920"/>
              <a:ext cx="3276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te of 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onsump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6680" y="5334120"/>
              <a:ext cx="3810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[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] leaving – [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] entering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3341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51055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1480" y="48769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50 ml/mi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24280" y="53341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90 – 140 ml/litre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920" y="5334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51656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  5 litres/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63960"/>
            <a:ext cx="2131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oncentration of blood leaving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048120"/>
            <a:ext cx="2131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oncentration of blood entering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vised in 1870, not use practically until 1950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sy to get representative arterial blood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g femoral artery, brachi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fficult to get representative venous blood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nal venous blood contains ~ 170 ml 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/ litre of bl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f coronary venous blood ~ 70 ml 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/ lit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fore need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mixe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venous bl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e from right ventricle or pulmonary 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y accurate – the “gold standard” for measuring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is invasive, and 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23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cator dilution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245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066680" y="3200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8862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4290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420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mple d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2514600"/>
            <a:ext cx="152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2971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4343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6324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1063080" y="521964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23760" y="6431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20896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54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259092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ject bolus of d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5334120"/>
            <a:ext cx="4495680" cy="99036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22960" y="64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91840" y="6431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cator dilution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327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066680" y="3200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8862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0420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mple d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2514600"/>
            <a:ext cx="152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2971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4343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6324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20896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625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148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384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0920" y="259092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ject bolus of dy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4343400"/>
            <a:ext cx="1295280" cy="198108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23760" y="6431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432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66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22960" y="64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91840" y="6431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1063080" y="521964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7720" y="3124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mount of dye added = 5 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verage dye concentration =  2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fore the volume that diluted the dye =      5mg        = 2.5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ime it took to go past = 0.5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e flow rate =   2.5 L     = 5 L/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ral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408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500000" y="59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35960" y="56386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s of dye (Q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60055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53120" y="6081840"/>
            <a:ext cx="56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verage dye conc (X g/L)  x time of passage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3760" y="4038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8960" y="4038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1612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03440" y="48769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5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2438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9480" y="58532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w rat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905120" y="1042920"/>
            <a:ext cx="4986360" cy="2081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851160" y="224784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verage conc (X) = 2 mg/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1828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6680" y="1523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of passag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) = 0.5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530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82200" y="213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430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057400" y="2057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1063080" y="293364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23760" y="4145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3048120"/>
            <a:ext cx="4495680" cy="99036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4320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22960" y="4114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91840" y="4145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3200400"/>
            <a:ext cx="4495680" cy="76212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52880" y="3429000"/>
            <a:ext cx="4496040" cy="60948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5053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35053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6576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5812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19920" y="3733920"/>
            <a:ext cx="3124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4038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4343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921240" y="5261760"/>
            <a:ext cx="184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g 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23760" y="6431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22960" y="64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91840" y="6431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6324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743200" y="5333760"/>
            <a:ext cx="30492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5562720"/>
            <a:ext cx="2895480" cy="761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3124080" y="5257440"/>
            <a:ext cx="10670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8120" y="5257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cubicBezTo>
                  <a:pt x="20" y="28"/>
                  <a:pt x="40" y="8"/>
                  <a:pt x="4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38920" cy="497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6000" y="5805360"/>
            <a:ext cx="109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phen H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7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68389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a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ye recirculates in the C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timate of first transit time is facilitated by plotting log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ye must be non-toxic and not immediately absorbed eg indocyanine g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jected into pulmonary 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asured in brachial 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ke the Fick method, is invasive, &amp; 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me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asure thermodilution of cold s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463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lsed ultrasound waves e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rected parallel to flow of blood eg down supra-sternal notch into ascending a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velength of sound is altered as it is reflects off moving 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Doppler-effect"/>
          <p:cNvPicPr/>
          <p:nvPr/>
        </p:nvPicPr>
        <p:blipFill>
          <a:blip r:embed="rId1"/>
          <a:stretch/>
        </p:blipFill>
        <p:spPr>
          <a:xfrm>
            <a:off x="990720" y="4114800"/>
            <a:ext cx="2819160" cy="2332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1863720" cy="261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lsed ultrasound waves e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rected parallel to flow of blood eg down supra-sternal notch into ascending a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velength of sound is altered as it is reflects off moving 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nge in pitch indicates velocity of 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timate of aortic cross-section gives blood flow ie cardiac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seudo-colouring used to indicate turbu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34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would you want to know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diac output varies with body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failing heart works higher up the Starling curve (hence lower ejection fr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fore cannot increase cardiac output whe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ercise-stress testing will show thi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c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Franks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75640" cy="857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295600" cy="500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rachial arterial pressure is measured indirectly using Korotkof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t of tapping = systolic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all sounds = diastolic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sadvantages = needs care, inaccurate, dis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vantages = non-invasive, c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ly gives systemic arteri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4267080"/>
            <a:ext cx="3311280" cy="2395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rectly through pressure transdu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sert cather/transducer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tecubital ve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vena cava, right atrium, right ventricle, pulmonary 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achial/femoral arter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orta, left, ventricle, left atr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curate, bu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90520" y="404640"/>
            <a:ext cx="6759720" cy="727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 would you want to know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agnose hyper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ight ventricular failure causes an increase in right atrial press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icuspid regurgitation causes large v-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tc etc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k’s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81560" y="1628640"/>
            <a:ext cx="4419720" cy="47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46:50Z</dcterms:created>
  <dc:creator>phy056</dc:creator>
  <dc:description/>
  <dc:language>en-US</dc:language>
  <cp:lastModifiedBy>ZonaNet</cp:lastModifiedBy>
  <dcterms:modified xsi:type="dcterms:W3CDTF">2008-05-02T22:25:53Z</dcterms:modified>
  <cp:revision>10</cp:revision>
  <dc:subject/>
  <dc:title>Principles of cardiovascular measurement I and II</dc:title>
</cp:coreProperties>
</file>