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8.jpeg" ContentType="image/jpeg"/>
  <Override PartName="/ppt/media/image5.png" ContentType="image/png"/>
  <Override PartName="/ppt/media/image30.png" ContentType="image/png"/>
  <Override PartName="/ppt/media/image25.jpeg" ContentType="image/jpeg"/>
  <Override PartName="/ppt/media/image31.jpeg" ContentType="image/jpeg"/>
  <Override PartName="/ppt/media/image10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12.jpeg" ContentType="image/jpeg"/>
  <Override PartName="/ppt/media/image32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0.jpeg" ContentType="image/jpeg"/>
  <Override PartName="/ppt/media/image22.wmf" ContentType="image/x-wmf"/>
  <Override PartName="/ppt/media/image24.jpeg" ContentType="image/jpeg"/>
  <Override PartName="/ppt/media/image27.png" ContentType="image/png"/>
  <Override PartName="/ppt/media/image3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3A66-84BF-4B44-9A9B-A0482136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1736-D1F1-4275-AEE7-5E2C1F03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2B53-5148-4B71-BB16-6D120D12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00EC-5D63-4A2D-A010-4A5FBEA3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E83F-BEAB-42B0-B447-E9047B14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C7A9-9E1A-4CEC-90EA-F1C5321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4A0D-FC8B-4953-8C88-2221D82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64B2-B179-4316-BA98-FA97AD4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970D-BAD1-4D5D-AA98-C670D35C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1DCB-613A-4929-A606-E4CC74A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8D8C-FBAE-4B2E-AE77-B0FA73C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3904-7123-4F35-8224-4D9A2778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2A6D-BD4B-4FBA-A5D7-6B61F31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1AB-F7D7-4938-A5DE-4FCEB9C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6E4-C8D6-40FA-A687-AF9A19FD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49F-29C7-4F24-9CB9-A809CABE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A485-CC4D-42EE-918C-1ECB2710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1620-3BA4-43A7-B771-98ACAF0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764C-D33C-4483-8119-62E1BCD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62FD-370A-4F4F-BD93-3B87A2B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8BD0-4664-42D0-9000-C9F46FB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691C-CF39-47A8-B109-1218651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F22D-4588-495A-96B5-ECDF790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E8DA-3F42-4820-B92B-019817A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97FF-23CA-456B-9AF7-DE9A01D2D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E8AB-AE2D-47CA-AC48-104B62A74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iserv.org/isef/students/wizard/index.as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39920" y="1628280"/>
            <a:ext cx="6580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Arial"/>
              </a:rPr>
              <a:t>The Principles of Laboratory Safe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292640"/>
            <a:ext cx="748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SU Fellowship in Clinical 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nical Biochemistr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6 –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-1149480" y="42814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83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your workplace t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up waste, deal with washing up and put things away as you finish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everything is safe before you leave things unat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idy laboratory avoids accidents to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untidy1650"/>
          <p:cNvPicPr/>
          <p:nvPr/>
        </p:nvPicPr>
        <p:blipFill>
          <a:blip r:embed="rId1"/>
          <a:stretch/>
        </p:blipFill>
        <p:spPr>
          <a:xfrm>
            <a:off x="5400720" y="2886120"/>
            <a:ext cx="3419280" cy="2016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5633640" y="31338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use appropriate clothes and personal protective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 c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gog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pen sh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 le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loc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 and fire blan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wer and eyewash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r the clothing and protective wear identified in your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oats must be kept fast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wear sandals or open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hair must be ti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PonyTailGeeding"/>
          <p:cNvPicPr/>
          <p:nvPr/>
        </p:nvPicPr>
        <p:blipFill>
          <a:blip r:embed="rId1"/>
          <a:stretch/>
        </p:blipFill>
        <p:spPr>
          <a:xfrm>
            <a:off x="826920" y="2492280"/>
            <a:ext cx="3251520" cy="25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self - gl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4100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different types of protective g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correct ones for the job you will b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at you need to select chemical protection gloves according to the materials and/or substances with which you will b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e your gloves before using instruments, telephone or leaving th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IN00402_"/>
          <p:cNvPicPr/>
          <p:nvPr/>
        </p:nvPicPr>
        <p:blipFill>
          <a:blip r:embed="rId1"/>
          <a:stretch/>
        </p:blipFill>
        <p:spPr>
          <a:xfrm>
            <a:off x="6153120" y="2852640"/>
            <a:ext cx="266688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"/>
          <p:cNvSpPr/>
          <p:nvPr/>
        </p:nvSpPr>
        <p:spPr>
          <a:xfrm>
            <a:off x="-1192320" y="4884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re the general hazards in a labora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eakage of glass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pill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sure equipment &amp; gas cylind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tremes of heat &amp; co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emical haz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99ff"/>
                </a:solidFill>
                <a:latin typeface="Arial"/>
              </a:rPr>
              <a:t>And many mo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warning-general-2"/>
          <p:cNvPicPr/>
          <p:nvPr/>
        </p:nvPicPr>
        <p:blipFill>
          <a:blip r:embed="rId1"/>
          <a:stretch/>
        </p:blipFill>
        <p:spPr>
          <a:xfrm>
            <a:off x="4857840" y="2305080"/>
            <a:ext cx="36194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voiding F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ammable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minimum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e in special storage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emperature-controlled heati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 water-bath rather than hot-plate or Bunsen bur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lamLiqSafeCupbdAPg112"/>
          <p:cNvPicPr/>
          <p:nvPr/>
        </p:nvPicPr>
        <p:blipFill>
          <a:blip r:embed="rId1"/>
          <a:stretch/>
        </p:blipFill>
        <p:spPr>
          <a:xfrm>
            <a:off x="5219640" y="242100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nimise fire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corridor fire doors and laboratory doors are kept shut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ire-door-sign"/>
          <p:cNvPicPr/>
          <p:nvPr/>
        </p:nvPicPr>
        <p:blipFill>
          <a:blip r:embed="rId1"/>
          <a:stretch/>
        </p:blipFill>
        <p:spPr>
          <a:xfrm>
            <a:off x="5508720" y="27813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fire_safety"/>
          <p:cNvPicPr/>
          <p:nvPr/>
        </p:nvPicPr>
        <p:blipFill>
          <a:blip r:embed="rId1"/>
          <a:stretch/>
        </p:blipFill>
        <p:spPr>
          <a:xfrm>
            <a:off x="826920" y="2565360"/>
            <a:ext cx="3178440" cy="2220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that you know what to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 a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ear a fire al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are a member of staff you must attend fire training annually. Post graduates should also seriously consider doing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e Safety- R.A.C.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cedures to follow in the event of a fire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emove or secure individuals in immediate d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ctivate the alarm by pulling a fire pull station lo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orridors and calling </a:t>
            </a:r>
            <a:r>
              <a:rPr b="1" lang="en-GB" sz="2400" spc="-1" strike="noStrike" u="sng">
                <a:solidFill>
                  <a:srgbClr val="3366ff"/>
                </a:solidFill>
                <a:uFillTx/>
                <a:latin typeface="Arial"/>
              </a:rPr>
              <a:t>95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onfine the fire by closing windows, vents, and do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Evacuate to a saf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www.fireonline.com.au/resources/products/howtooperateanextinguisher.jpg"/>
          <p:cNvPicPr/>
          <p:nvPr/>
        </p:nvPicPr>
        <p:blipFill>
          <a:blip r:embed="rId1"/>
          <a:stretch/>
        </p:blipFill>
        <p:spPr>
          <a:xfrm>
            <a:off x="1042920" y="1628640"/>
            <a:ext cx="73328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Laboratory hyg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laboratory haz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proper precautions to protect your self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 effectively in an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ass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2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orrect techniques for the insertion of tubing onto glass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glassware under pressure or vacuum unless it is designed for the job and suitably shiel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ose of chopped or broken glassware – it is a risk to you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dispose of broken glass in a glass bin or sharps bin and not in a general waste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glass_disposal2"/>
          <p:cNvPicPr/>
          <p:nvPr/>
        </p:nvPicPr>
        <p:blipFill>
          <a:blip r:embed="rId1"/>
          <a:srcRect l="0" t="22300" r="48849" b="18785"/>
          <a:stretch/>
        </p:blipFill>
        <p:spPr>
          <a:xfrm>
            <a:off x="7020000" y="2276640"/>
            <a:ext cx="172872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up spillage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already have determined how to do this  as part of your risk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ose of any hazardous material as toxic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Messy workers are usually poor worker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MCDD00016_0000[1]"/>
          <p:cNvPicPr/>
          <p:nvPr/>
        </p:nvPicPr>
        <p:blipFill>
          <a:blip r:embed="rId1"/>
          <a:stretch/>
        </p:blipFill>
        <p:spPr>
          <a:xfrm>
            <a:off x="5219640" y="2565360"/>
            <a:ext cx="303552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as cyl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994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without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se the number in a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e externally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ers are heavy and can do serious damage to you if they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that they are chained when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 only with a cylinder tro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regulators &amp; control equipment suitable for the gas conc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he consequences if your cylinder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cylinder"/>
          <p:cNvPicPr/>
          <p:nvPr/>
        </p:nvPicPr>
        <p:blipFill>
          <a:blip r:embed="rId1"/>
          <a:stretch/>
        </p:blipFill>
        <p:spPr>
          <a:xfrm>
            <a:off x="7680240" y="1989000"/>
            <a:ext cx="9241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yoge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gases are extremely cold and can cause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gases evaporate and many can cause asphyx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need to take cryogens in a lift, there are special procedures to follow – speak to your supervisor or a senior member 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have special training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Nitrogen1"/>
          <p:cNvPicPr/>
          <p:nvPr/>
        </p:nvPicPr>
        <p:blipFill>
          <a:blip r:embed="rId1"/>
          <a:srcRect l="15959" t="368" r="18082" b="-203"/>
          <a:stretch/>
        </p:blipFill>
        <p:spPr>
          <a:xfrm>
            <a:off x="6156360" y="2133720"/>
            <a:ext cx="266364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al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do a visual check on electrical equipment before use, looking for obvious wear or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portable electrical equipment must have a current “PAT test” st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defectiv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 electrical cords where no one can trip o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ure your hands and your lab area are dry before using electrical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plug cords by pulling the plug, not the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eating-Mantle"/>
          <p:cNvPicPr/>
          <p:nvPr/>
        </p:nvPicPr>
        <p:blipFill>
          <a:blip r:embed="rId1"/>
          <a:stretch/>
        </p:blipFill>
        <p:spPr>
          <a:xfrm>
            <a:off x="7451640" y="1700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LECTRIC"/>
          <p:cNvPicPr/>
          <p:nvPr/>
        </p:nvPicPr>
        <p:blipFill>
          <a:blip r:embed="rId2"/>
          <a:stretch/>
        </p:blipFill>
        <p:spPr>
          <a:xfrm>
            <a:off x="8028000" y="403200"/>
            <a:ext cx="1082520" cy="79380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28" descr=""/>
          <p:cNvPicPr/>
          <p:nvPr/>
        </p:nvPicPr>
        <p:blipFill>
          <a:blip r:embed="rId3"/>
          <a:stretch/>
        </p:blipFill>
        <p:spPr>
          <a:xfrm>
            <a:off x="7451640" y="3573360"/>
            <a:ext cx="1233720" cy="12589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29" descr=""/>
          <p:cNvPicPr/>
          <p:nvPr/>
        </p:nvPicPr>
        <p:blipFill>
          <a:blip r:embed="rId4"/>
          <a:stretch/>
        </p:blipFill>
        <p:spPr>
          <a:xfrm>
            <a:off x="7451640" y="5445000"/>
            <a:ext cx="1258920" cy="12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51228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 any laboratory equipment unless you are trained &amp; have been authorised to do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well as injuring yourself you may cause very costly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lab-potpury-1"/>
          <p:cNvPicPr/>
          <p:nvPr/>
        </p:nvPicPr>
        <p:blipFill>
          <a:blip r:embed="rId1"/>
          <a:stretch/>
        </p:blipFill>
        <p:spPr>
          <a:xfrm>
            <a:off x="5954760" y="1981080"/>
            <a:ext cx="26496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st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laboratory workers should undergo simple first ai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A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mical splashes, wash with plenty of water for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leeding with direct pressure, avoiding any foreign bodies such as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all accidents to your supervisor or departmental safety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First Aid: Burns and Scalds image"/>
          <p:cNvPicPr/>
          <p:nvPr/>
        </p:nvPicPr>
        <p:blipFill>
          <a:blip r:embed="rId1"/>
          <a:stretch/>
        </p:blipFill>
        <p:spPr>
          <a:xfrm>
            <a:off x="6875640" y="2766960"/>
            <a:ext cx="1904760" cy="23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cting your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MCj02327300000[1]"/>
          <p:cNvPicPr/>
          <p:nvPr/>
        </p:nvPicPr>
        <p:blipFill>
          <a:blip r:embed="rId1"/>
          <a:stretch/>
        </p:blipFill>
        <p:spPr>
          <a:xfrm>
            <a:off x="1332000" y="2492280"/>
            <a:ext cx="2181240" cy="271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27280" y="2412720"/>
            <a:ext cx="425916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an allergy to lab materials or suffer from a medical condition which may affect you in the laboratory (eg diabetes or epilepsy), ensure that your supervisor kn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logical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486160"/>
            <a:ext cx="461952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biological samples are considered potentially infect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be handled and processed using strict preca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4514760" y="2349360"/>
            <a:ext cx="4305240" cy="3095640"/>
            <a:chOff x="4514760" y="2349360"/>
            <a:chExt cx="4305240" cy="3095640"/>
          </a:xfrm>
        </p:grpSpPr>
        <p:pic>
          <p:nvPicPr>
            <p:cNvPr id="193" name="Picture 2" descr=""/>
            <p:cNvPicPr/>
            <p:nvPr/>
          </p:nvPicPr>
          <p:blipFill>
            <a:blip r:embed="rId1"/>
            <a:stretch/>
          </p:blipFill>
          <p:spPr>
            <a:xfrm>
              <a:off x="4514760" y="2349360"/>
              <a:ext cx="21636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" descr=""/>
            <p:cNvPicPr/>
            <p:nvPr/>
          </p:nvPicPr>
          <p:blipFill>
            <a:blip r:embed="rId2"/>
            <a:stretch/>
          </p:blipFill>
          <p:spPr>
            <a:xfrm>
              <a:off x="6530760" y="4005360"/>
              <a:ext cx="22892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4" descr=""/>
            <p:cNvPicPr/>
            <p:nvPr/>
          </p:nvPicPr>
          <p:blipFill>
            <a:blip r:embed="rId3"/>
            <a:stretch/>
          </p:blipFill>
          <p:spPr>
            <a:xfrm>
              <a:off x="4514760" y="4005360"/>
              <a:ext cx="142056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"/>
            <p:cNvPicPr/>
            <p:nvPr/>
          </p:nvPicPr>
          <p:blipFill>
            <a:blip r:embed="rId4"/>
            <a:stretch/>
          </p:blipFill>
          <p:spPr>
            <a:xfrm>
              <a:off x="6818760" y="2421360"/>
              <a:ext cx="1958760" cy="1442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t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your risk assessment will be to determine how to dispose of waste lab materials saf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nts and oils must be segregated into the correct waste bottle o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department will help you determine what to do with chemical or biologic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put materials down the drain or in with normal waste unless authorised to do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en_chemicals1"/>
          <p:cNvPicPr/>
          <p:nvPr/>
        </p:nvPicPr>
        <p:blipFill>
          <a:blip r:embed="rId1"/>
          <a:stretch/>
        </p:blipFill>
        <p:spPr>
          <a:xfrm>
            <a:off x="6516720" y="285264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you need to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hyg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d 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work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ing outside normal hours and at week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need to attend training courses and have permission from the head of the department before working outside normal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experimental work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supervisor will explain the requiremen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MPj04330760000[1]"/>
          <p:cNvPicPr/>
          <p:nvPr/>
        </p:nvPicPr>
        <p:blipFill>
          <a:blip r:embed="rId1"/>
          <a:stretch/>
        </p:blipFill>
        <p:spPr>
          <a:xfrm>
            <a:off x="1042920" y="2421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in doubt – ASK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4038480" cy="33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carry out a new or unfamiliar procedure until you have been fully trained &amp; understand the precautions necessary for safe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</a:rPr>
              <a:t>DO NOT GUES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War_in_iraq_explosion"/>
          <p:cNvPicPr/>
          <p:nvPr/>
        </p:nvPicPr>
        <p:blipFill>
          <a:blip r:embed="rId1"/>
          <a:stretch/>
        </p:blipFill>
        <p:spPr>
          <a:xfrm>
            <a:off x="5219640" y="2565360"/>
            <a:ext cx="30686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ember these four basic principle of laboratory saf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 a risk assessment for each protocol you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ppropriate safety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 a safe laboratory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for emer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it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MCj02875010000[1]"/>
          <p:cNvPicPr/>
          <p:nvPr/>
        </p:nvPicPr>
        <p:blipFill>
          <a:blip r:embed="rId1"/>
          <a:stretch/>
        </p:blipFill>
        <p:spPr>
          <a:xfrm>
            <a:off x="1619280" y="2205000"/>
            <a:ext cx="2160720" cy="3247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 working prot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lab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MCPE02668_0000[1]"/>
          <p:cNvPicPr/>
          <p:nvPr/>
        </p:nvPicPr>
        <p:blipFill>
          <a:blip r:embed="rId1"/>
          <a:stretch/>
        </p:blipFill>
        <p:spPr>
          <a:xfrm>
            <a:off x="826920" y="2712960"/>
            <a:ext cx="3240360" cy="2379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08000" y="2486160"/>
            <a:ext cx="5040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 safety is everyone’s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safety policy and procedur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strictly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form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do a Risk Assess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hazar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evaluat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e all relevant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avail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</a:t>
            </a: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contro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ed to minimise those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Docu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Ag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with your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Arial"/>
                <a:ea typeface="Arial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os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41240" y="575136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receive specific training on how to do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Scientst"/>
          <p:cNvPicPr/>
          <p:nvPr/>
        </p:nvPicPr>
        <p:blipFill>
          <a:blip r:embed="rId1"/>
          <a:stretch/>
        </p:blipFill>
        <p:spPr>
          <a:xfrm>
            <a:off x="6372360" y="2924280"/>
            <a:ext cx="156996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erials Safety Data Sheets (MS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90440"/>
            <a:ext cx="548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o be provided by Supplier’s with all deliv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ccessible to EVERYONE in th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made available to attending physician in the event of exp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6072120" y="2421000"/>
          <a:ext cx="28209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2120" y="2421000"/>
                    <a:ext cx="28209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SDS tells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gre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zards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e figh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al Release Measures/Spill Clean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and storage - Exposure controls and Personal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oratory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483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eat, drink or smoke in a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apply cos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touch your face, mouth o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suck pens or chew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wash your hands before you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up loose sle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No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376280"/>
            <a:ext cx="1260360" cy="126072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29" descr=""/>
          <p:cNvPicPr/>
          <p:nvPr/>
        </p:nvPicPr>
        <p:blipFill>
          <a:blip r:embed="rId3"/>
          <a:stretch/>
        </p:blipFill>
        <p:spPr>
          <a:xfrm>
            <a:off x="7020000" y="5411880"/>
            <a:ext cx="126036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42" descr=""/>
          <p:cNvPicPr/>
          <p:nvPr/>
        </p:nvPicPr>
        <p:blipFill>
          <a:blip r:embed="rId4"/>
          <a:stretch/>
        </p:blipFill>
        <p:spPr>
          <a:xfrm>
            <a:off x="7020000" y="3706920"/>
            <a:ext cx="126036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9:15:23Z</dcterms:created>
  <dc:creator>sv1aw</dc:creator>
  <dc:description/>
  <dc:language>en-US</dc:language>
  <cp:lastModifiedBy>Khalid Akkour</cp:lastModifiedBy>
  <cp:lastPrinted>2016-02-28T07:45:13Z</cp:lastPrinted>
  <dcterms:modified xsi:type="dcterms:W3CDTF">2016-12-10T15:21:59Z</dcterms:modified>
  <cp:revision>98</cp:revision>
  <dc:subject/>
  <dc:title>General Laboratory Safety</dc:title>
</cp:coreProperties>
</file>