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8.jpeg" ContentType="image/jpeg"/>
  <Override PartName="/ppt/media/image5.png" ContentType="image/png"/>
  <Override PartName="/ppt/media/image30.png" ContentType="image/png"/>
  <Override PartName="/ppt/media/image25.jpeg" ContentType="image/jpeg"/>
  <Override PartName="/ppt/media/image31.jpeg" ContentType="image/jpeg"/>
  <Override PartName="/ppt/media/image10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12.jpeg" ContentType="image/jpeg"/>
  <Override PartName="/ppt/media/image32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28.png" ContentType="image/png"/>
  <Override PartName="/ppt/media/image1.wmf" ContentType="image/x-wmf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20.jpeg" ContentType="image/jpeg"/>
  <Override PartName="/ppt/media/image22.wmf" ContentType="image/x-wmf"/>
  <Override PartName="/ppt/media/image24.jpeg" ContentType="image/jpeg"/>
  <Override PartName="/ppt/media/image27.png" ContentType="image/png"/>
  <Override PartName="/ppt/media/image3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09B4-9305-40D1-9EF0-B64B485F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E017-59EC-4D68-8130-6F18592D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46B7-DB69-4E93-AA4B-A6593483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9B03-5D2E-4B73-817B-0D723EC3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7CA1-3EF0-46FA-881B-431FB4C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F45F-399F-4EB8-88DE-7CC312F6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DA59-0974-4088-AC9E-56A5FD5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16B2-3507-4C5A-A0A6-E941058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BC98-02FA-46CF-A497-3E4F0B8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613-F414-452F-80EF-861E72B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C962-2C7E-4474-8A66-A7EA790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2F8D-933C-43C9-B9F0-82BC0D9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B4C6-6381-4D75-9D80-AE43517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A94-398C-4989-85FC-E121C33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73A2-DEF4-44F3-A0D0-3C9EAB04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A2FE-5E75-4461-BB27-89CBA9CA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952-52A5-4D6C-BB7B-0C859110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74B7-6912-482F-B90E-E14AAB2A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EBBE-BCA4-4269-9AB8-48925886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4C44-26F8-4D27-BE73-EFDE129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F79A-B380-494F-B650-334E6697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85DC-9DAD-4D54-B245-E005A62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0BE5-4479-4AE9-A08F-5D89165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5B69-F55E-4097-97B3-5174900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AF67-75A2-4AF3-B3C3-830A8B312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3B60-C67D-4845-AF26-1930DE6AC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iserv.org/isef/students/wizard/index.as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39920" y="1628280"/>
            <a:ext cx="6580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Arial"/>
              </a:rPr>
              <a:t>The Principles of Laboratory Safe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292640"/>
            <a:ext cx="748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SU Fellowship in Clinical 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nical Biochemistr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6 –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-1149480" y="42814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oratory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83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your workplace t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up waste, deal with washing up and put things away as you finish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everything is safe before you leave things unat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dy laboratory avoids accidents to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untidy1650"/>
          <p:cNvPicPr/>
          <p:nvPr/>
        </p:nvPicPr>
        <p:blipFill>
          <a:blip r:embed="rId1"/>
          <a:stretch/>
        </p:blipFill>
        <p:spPr>
          <a:xfrm>
            <a:off x="5400720" y="2886120"/>
            <a:ext cx="3419280" cy="2016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5633640" y="31338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use appropriate clothes and personal protective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 c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gog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pen sh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ye le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loc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extinguisher and fire blan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wer and eyewash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id k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r the clothing and protective wear identified in your 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oats must be kept fast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wear sandals or open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hair must be ti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PonyTailGeeding"/>
          <p:cNvPicPr/>
          <p:nvPr/>
        </p:nvPicPr>
        <p:blipFill>
          <a:blip r:embed="rId1"/>
          <a:stretch/>
        </p:blipFill>
        <p:spPr>
          <a:xfrm>
            <a:off x="826920" y="2492280"/>
            <a:ext cx="3251520" cy="25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self - gl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4100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different types of protective g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correct ones for the job you will b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hat you need to select chemical protection gloves according to the materials and/or substances with which you will b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e your gloves before using instruments, telephone or leaving the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IN00402_"/>
          <p:cNvPicPr/>
          <p:nvPr/>
        </p:nvPicPr>
        <p:blipFill>
          <a:blip r:embed="rId1"/>
          <a:stretch/>
        </p:blipFill>
        <p:spPr>
          <a:xfrm>
            <a:off x="6153120" y="2852640"/>
            <a:ext cx="266688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"/>
          <p:cNvSpPr/>
          <p:nvPr/>
        </p:nvSpPr>
        <p:spPr>
          <a:xfrm>
            <a:off x="-1192320" y="4884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re the general hazards in a labora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eakage of glass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pill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sure equipment &amp; gas cylind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tremes of heat &amp; co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emical haz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iological haz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99ff"/>
                </a:solidFill>
                <a:latin typeface="Arial"/>
              </a:rPr>
              <a:t>And many mo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warning-general-2"/>
          <p:cNvPicPr/>
          <p:nvPr/>
        </p:nvPicPr>
        <p:blipFill>
          <a:blip r:embed="rId1"/>
          <a:stretch/>
        </p:blipFill>
        <p:spPr>
          <a:xfrm>
            <a:off x="4857840" y="2305080"/>
            <a:ext cx="36194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voiding F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mmable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minimum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e in special storage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emperature-controlled heating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 water-bath rather than hot-plate or Bunsen bur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lamLiqSafeCupbdAPg112"/>
          <p:cNvPicPr/>
          <p:nvPr/>
        </p:nvPicPr>
        <p:blipFill>
          <a:blip r:embed="rId1"/>
          <a:stretch/>
        </p:blipFill>
        <p:spPr>
          <a:xfrm>
            <a:off x="5219640" y="242100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nimise fire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corridor fire doors and laboratory doors are kept shut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ire-door-sign"/>
          <p:cNvPicPr/>
          <p:nvPr/>
        </p:nvPicPr>
        <p:blipFill>
          <a:blip r:embed="rId1"/>
          <a:stretch/>
        </p:blipFill>
        <p:spPr>
          <a:xfrm>
            <a:off x="5508720" y="278136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fire_safety"/>
          <p:cNvPicPr/>
          <p:nvPr/>
        </p:nvPicPr>
        <p:blipFill>
          <a:blip r:embed="rId1"/>
          <a:stretch/>
        </p:blipFill>
        <p:spPr>
          <a:xfrm>
            <a:off x="826920" y="2565360"/>
            <a:ext cx="3178440" cy="2220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at you know what to 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 a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ear a fire 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a member of staff you must attend fire training annually. Post graduates should also seriously consider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 Safety- R.A.C.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cedures to follow in the event of a fire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Remove or secure individuals in immediate d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tivate the alarm by pulling a fire pull station lo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orridors and calling </a:t>
            </a:r>
            <a:r>
              <a:rPr b="1" lang="en-GB" sz="2400" spc="-1" strike="noStrike" u="sng">
                <a:solidFill>
                  <a:srgbClr val="3366ff"/>
                </a:solidFill>
                <a:uFillTx/>
                <a:latin typeface="Arial"/>
              </a:rPr>
              <a:t>95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onfine the fire by closing windows, vents, and d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Evacuate to a saf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www.fireonline.com.au/resources/products/howtooperateanextinguisher.jpg"/>
          <p:cNvPicPr/>
          <p:nvPr/>
        </p:nvPicPr>
        <p:blipFill>
          <a:blip r:embed="rId1"/>
          <a:stretch/>
        </p:blipFill>
        <p:spPr>
          <a:xfrm>
            <a:off x="1042920" y="1628640"/>
            <a:ext cx="73328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Laboratory hyg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laboratory haz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proper precautions to protect your self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 effectively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ass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2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orrect techniques for the insertion of tubing onto glass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 glassware under pressure or vacuum unless it is designed for the job and suitably shiel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ose of chopped or broken glassware – it is a risk to you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dispose of broken glass in a glass bin or sharps bin and not in a general waste 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glass_disposal2"/>
          <p:cNvPicPr/>
          <p:nvPr/>
        </p:nvPicPr>
        <p:blipFill>
          <a:blip r:embed="rId1"/>
          <a:srcRect l="0" t="22300" r="48849" b="18785"/>
          <a:stretch/>
        </p:blipFill>
        <p:spPr>
          <a:xfrm>
            <a:off x="7020000" y="2276640"/>
            <a:ext cx="172872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up spillage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already have determined how to do this  as part of your 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ose of any hazardous material as toxic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Messy workers are usually poor worker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MCDD00016_0000[1]"/>
          <p:cNvPicPr/>
          <p:nvPr/>
        </p:nvPicPr>
        <p:blipFill>
          <a:blip r:embed="rId1"/>
          <a:stretch/>
        </p:blipFill>
        <p:spPr>
          <a:xfrm>
            <a:off x="5219640" y="2565360"/>
            <a:ext cx="303552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as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994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 without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se the number in a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e externally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linders are heavy and can do serious damage to you if they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that they are chained when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e only with a cylinder tro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regulators &amp; control equipment suitable for the gas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he consequences if your cylinder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ylinder"/>
          <p:cNvPicPr/>
          <p:nvPr/>
        </p:nvPicPr>
        <p:blipFill>
          <a:blip r:embed="rId1"/>
          <a:stretch/>
        </p:blipFill>
        <p:spPr>
          <a:xfrm>
            <a:off x="7680240" y="1989000"/>
            <a:ext cx="9241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yoge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gases are extremely cold and can cause b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gases evaporate and many can cause asphyx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need to take cryogens in a lift, there are special procedures to follow – speak to your supervisor or a senior member 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ust have special training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Nitrogen1"/>
          <p:cNvPicPr/>
          <p:nvPr/>
        </p:nvPicPr>
        <p:blipFill>
          <a:blip r:embed="rId1"/>
          <a:srcRect l="15959" t="368" r="18082" b="-203"/>
          <a:stretch/>
        </p:blipFill>
        <p:spPr>
          <a:xfrm>
            <a:off x="6156360" y="2133720"/>
            <a:ext cx="266364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al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do a visual check on electrical equipment before use, looking for obvious wear or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portable electrical equipment must have a current “PAT test” st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defectiv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 electrical cords where no one can trip o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ure your hands and your lab area are dry before using electrical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plug cords by pulling the plug, not the 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eating-Mantle"/>
          <p:cNvPicPr/>
          <p:nvPr/>
        </p:nvPicPr>
        <p:blipFill>
          <a:blip r:embed="rId1"/>
          <a:stretch/>
        </p:blipFill>
        <p:spPr>
          <a:xfrm>
            <a:off x="7451640" y="170028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LECTRIC"/>
          <p:cNvPicPr/>
          <p:nvPr/>
        </p:nvPicPr>
        <p:blipFill>
          <a:blip r:embed="rId2"/>
          <a:stretch/>
        </p:blipFill>
        <p:spPr>
          <a:xfrm>
            <a:off x="8028000" y="403200"/>
            <a:ext cx="1082520" cy="79380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28" descr=""/>
          <p:cNvPicPr/>
          <p:nvPr/>
        </p:nvPicPr>
        <p:blipFill>
          <a:blip r:embed="rId3"/>
          <a:stretch/>
        </p:blipFill>
        <p:spPr>
          <a:xfrm>
            <a:off x="7451640" y="3573360"/>
            <a:ext cx="1233720" cy="125892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29" descr=""/>
          <p:cNvPicPr/>
          <p:nvPr/>
        </p:nvPicPr>
        <p:blipFill>
          <a:blip r:embed="rId4"/>
          <a:stretch/>
        </p:blipFill>
        <p:spPr>
          <a:xfrm>
            <a:off x="7451640" y="5445000"/>
            <a:ext cx="1258920" cy="12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oratory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51228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 any laboratory equipment unless you are trained &amp; have been authorised to do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well as injuring yourself you may cause very costly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lab-potpury-1"/>
          <p:cNvPicPr/>
          <p:nvPr/>
        </p:nvPicPr>
        <p:blipFill>
          <a:blip r:embed="rId1"/>
          <a:stretch/>
        </p:blipFill>
        <p:spPr>
          <a:xfrm>
            <a:off x="5954760" y="1981080"/>
            <a:ext cx="264960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st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laboratory workers should undergo simple first ai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A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mical splashes, wash with plenty of water for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leeding with direct pressure, avoiding any foreign bodies such as 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all accidents to your supervisor or departmental safety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First Aid: Burns and Scalds image"/>
          <p:cNvPicPr/>
          <p:nvPr/>
        </p:nvPicPr>
        <p:blipFill>
          <a:blip r:embed="rId1"/>
          <a:stretch/>
        </p:blipFill>
        <p:spPr>
          <a:xfrm>
            <a:off x="6875640" y="2766960"/>
            <a:ext cx="1904760" cy="23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MCj02327300000[1]"/>
          <p:cNvPicPr/>
          <p:nvPr/>
        </p:nvPicPr>
        <p:blipFill>
          <a:blip r:embed="rId1"/>
          <a:stretch/>
        </p:blipFill>
        <p:spPr>
          <a:xfrm>
            <a:off x="1332000" y="2492280"/>
            <a:ext cx="2181240" cy="271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27280" y="2412720"/>
            <a:ext cx="425916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an allergy to lab materials or suffer from a medical condition which may affect you in the laboratory (eg diabetes or epilepsy), ensure that your supervisor kn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logical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486160"/>
            <a:ext cx="461952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biological samples are considered potentially infect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be handled and processed using strict preca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4514760" y="2349360"/>
            <a:ext cx="4305240" cy="3095640"/>
            <a:chOff x="4514760" y="2349360"/>
            <a:chExt cx="4305240" cy="3095640"/>
          </a:xfrm>
        </p:grpSpPr>
        <p:pic>
          <p:nvPicPr>
            <p:cNvPr id="193" name="Picture 2" descr=""/>
            <p:cNvPicPr/>
            <p:nvPr/>
          </p:nvPicPr>
          <p:blipFill>
            <a:blip r:embed="rId1"/>
            <a:stretch/>
          </p:blipFill>
          <p:spPr>
            <a:xfrm>
              <a:off x="4514760" y="2349360"/>
              <a:ext cx="21636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" descr=""/>
            <p:cNvPicPr/>
            <p:nvPr/>
          </p:nvPicPr>
          <p:blipFill>
            <a:blip r:embed="rId2"/>
            <a:stretch/>
          </p:blipFill>
          <p:spPr>
            <a:xfrm>
              <a:off x="6530760" y="4005360"/>
              <a:ext cx="22892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4" descr=""/>
            <p:cNvPicPr/>
            <p:nvPr/>
          </p:nvPicPr>
          <p:blipFill>
            <a:blip r:embed="rId3"/>
            <a:stretch/>
          </p:blipFill>
          <p:spPr>
            <a:xfrm>
              <a:off x="4514760" y="4005360"/>
              <a:ext cx="142056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"/>
            <p:cNvPicPr/>
            <p:nvPr/>
          </p:nvPicPr>
          <p:blipFill>
            <a:blip r:embed="rId4"/>
            <a:stretch/>
          </p:blipFill>
          <p:spPr>
            <a:xfrm>
              <a:off x="6818760" y="2421360"/>
              <a:ext cx="1958760" cy="1442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st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your risk assessment will be to determine how to dispose of waste lab materials saf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nts and oils must be segregated into the correct waste bottle o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department will help you determine what to do with chemical or biologic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put materials down the drain or in with normal waste unless authorised to do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en_chemicals1"/>
          <p:cNvPicPr/>
          <p:nvPr/>
        </p:nvPicPr>
        <p:blipFill>
          <a:blip r:embed="rId1"/>
          <a:stretch/>
        </p:blipFill>
        <p:spPr>
          <a:xfrm>
            <a:off x="6516720" y="285264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you need to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hyg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d P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working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ing outside normal hours and at week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need to attend training courses and have permission from the head of the department before working outside normal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experimental work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supervisor will explain the requirement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MPj04330760000[1]"/>
          <p:cNvPicPr/>
          <p:nvPr/>
        </p:nvPicPr>
        <p:blipFill>
          <a:blip r:embed="rId1"/>
          <a:stretch/>
        </p:blipFill>
        <p:spPr>
          <a:xfrm>
            <a:off x="1042920" y="2421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in doubt – ASK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4038480" cy="33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carry out a new or unfamiliar procedure until you have been fully trained &amp; understand the precautions necessary for safe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DO NOT GUES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War_in_iraq_explosion"/>
          <p:cNvPicPr/>
          <p:nvPr/>
        </p:nvPicPr>
        <p:blipFill>
          <a:blip r:embed="rId1"/>
          <a:stretch/>
        </p:blipFill>
        <p:spPr>
          <a:xfrm>
            <a:off x="5219640" y="2565360"/>
            <a:ext cx="30686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ember these four basic principle of laboratory saf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 a risk assessment for each protocol you per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ppropriate safety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tain a safe laboratory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it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MCj02875010000[1]"/>
          <p:cNvPicPr/>
          <p:nvPr/>
        </p:nvPicPr>
        <p:blipFill>
          <a:blip r:embed="rId1"/>
          <a:stretch/>
        </p:blipFill>
        <p:spPr>
          <a:xfrm>
            <a:off x="1619280" y="2205000"/>
            <a:ext cx="2160720" cy="3247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 working prot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lab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MCPE02668_0000[1]"/>
          <p:cNvPicPr/>
          <p:nvPr/>
        </p:nvPicPr>
        <p:blipFill>
          <a:blip r:embed="rId1"/>
          <a:stretch/>
        </p:blipFill>
        <p:spPr>
          <a:xfrm>
            <a:off x="826920" y="2712960"/>
            <a:ext cx="3240360" cy="2379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08000" y="2486160"/>
            <a:ext cx="5040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 safety is everyone’s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safety policy and procedur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strictly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form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do a Risk Assess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hazar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d evaluate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e all relevant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avail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contro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ed to minimise thos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Docu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h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Ag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t with your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hos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741240" y="5751360"/>
            <a:ext cx="69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receive specific training on how to do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Scientst"/>
          <p:cNvPicPr/>
          <p:nvPr/>
        </p:nvPicPr>
        <p:blipFill>
          <a:blip r:embed="rId1"/>
          <a:stretch/>
        </p:blipFill>
        <p:spPr>
          <a:xfrm>
            <a:off x="6372360" y="2924280"/>
            <a:ext cx="1569960" cy="19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erials Safety Data Sheets (MS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90440"/>
            <a:ext cx="548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o be provided by Supplier’s with all deliv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ccessible to EVERYONE in th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made available to attending physician in the event of exp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6072120" y="2421000"/>
          <a:ext cx="28209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2120" y="2421000"/>
                    <a:ext cx="28209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SDS tells yo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zards id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e figh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al Release Measures/Spill Clean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and storage - Exposure controls and Personal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oratory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483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eat, drink or smoke in a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apply cos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touch your face, mouth o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suck pens or chew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wash your hands before you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up loose sle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NoF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376280"/>
            <a:ext cx="1260360" cy="126072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9" descr=""/>
          <p:cNvPicPr/>
          <p:nvPr/>
        </p:nvPicPr>
        <p:blipFill>
          <a:blip r:embed="rId3"/>
          <a:stretch/>
        </p:blipFill>
        <p:spPr>
          <a:xfrm>
            <a:off x="7020000" y="5411880"/>
            <a:ext cx="126036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42" descr=""/>
          <p:cNvPicPr/>
          <p:nvPr/>
        </p:nvPicPr>
        <p:blipFill>
          <a:blip r:embed="rId4"/>
          <a:stretch/>
        </p:blipFill>
        <p:spPr>
          <a:xfrm>
            <a:off x="7020000" y="3706920"/>
            <a:ext cx="1260360" cy="12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9:15:23Z</dcterms:created>
  <dc:creator>sv1aw</dc:creator>
  <dc:description/>
  <dc:language>en-US</dc:language>
  <cp:lastModifiedBy>Khalid Akkour</cp:lastModifiedBy>
  <cp:lastPrinted>2016-02-28T07:45:13Z</cp:lastPrinted>
  <dcterms:modified xsi:type="dcterms:W3CDTF">2016-12-10T15:21:59Z</dcterms:modified>
  <cp:revision>98</cp:revision>
  <dc:subject/>
  <dc:title>General Laboratory Safety</dc:title>
</cp:coreProperties>
</file>